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E7D-3DA8-47FD-8177-7B9D816F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F39-8721-462B-B67F-2D2FB6CA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A34-2698-4FFD-B630-B4A912CB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A2D-E7C9-4936-B0EC-735393C6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97A-FB30-452E-91FE-FA6101D4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8FA-B811-419A-987A-F5E01901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DD2-3BE1-416C-A872-15DD80C7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7B3-3F0F-43F6-B824-FBE391C2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AE6-0BF1-4C74-8833-5FFEF90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5E7-E214-49B8-8C75-79B8EDA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416-9FD5-4AA9-AEE5-6137E35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6FF-0C99-46A9-AB63-40F0B761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BC7D-053E-44D4-A178-08117F1521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B916-DCAD-4D8F-A426-62F0DF2F63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-14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1664280" y="1628640"/>
            <a:ext cx="57675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浪漫爱情</a:t>
            </a:r>
            <a:r>
              <a:rPr b="0" lang="en-US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模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556000" y="27241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2857320" y="1917720"/>
            <a:ext cx="33814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20:44:00Z</dcterms:created>
  <dc:creator>lenovo</dc:creator>
  <dc:description/>
  <dc:language>en-US</dc:language>
  <cp:lastModifiedBy>lenovo</cp:lastModifiedBy>
  <dcterms:modified xsi:type="dcterms:W3CDTF">2015-11-02T03:15:0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