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%E4%BA%A1%E7%81%B5%E5%BA%8F%E6%9B%B2.wav" ContentType="audio/x-wav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4E6-BE80-49A9-9001-1D0DD887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E87-7683-4278-9A14-2FA8F215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5E86B-3ACA-4B24-B525-537B87C6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95F76-37FC-4214-ADA1-1E2EC698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CBF37-FF8E-42BA-9896-D29465E0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5DC47-8C9F-43B9-9911-55D6EB18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58EB7-4AF6-4933-9957-6716400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B2072-8AC0-4215-9AB7-04C4C49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A210D-5431-4B05-9A70-1DC7994B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DD32C-145A-4044-A65A-B6D61B47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4A2CC-9E11-4046-A54B-BCF171EB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CC225-0674-419B-8626-1D6379CE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3C5-87D9-4915-85DD-C0A505E2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B590B-514B-4C88-A242-AB3DBC28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6E6C6-1F56-4B6A-B26A-4D0D7526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8DF55-39A4-40AE-BCA0-325C456D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81F4A-7CFF-42EC-B1BE-261A7AD7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8EE4D-084F-4C9A-AAAB-85FABD17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733B6-BBAC-4D23-82F6-AFBA441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CC9B8-6B0D-4577-8A66-8BC87D22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29FA1-E533-4FC2-813A-4885E041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C6F44-D157-42DF-AA83-7D137085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FD64A-96A9-4423-8FE3-DDA97C5A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84F-9008-4F77-9FBD-CAF81060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8B605-9D5F-4BCA-8B35-8B5AA3C7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BB328-4722-483F-ADE7-CE11951D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8F22-4BAD-40AA-A6D6-B47BD0CB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AAC04-FFC7-4B56-B1D1-8DD46D59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4B86D-CC53-46F9-A85C-50BE6F78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D9F65-3CDA-4139-B1AD-0E0A2B8D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942CF-56ED-4E86-9A04-63CFC415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AF8FB-B350-4AC3-9C4F-B651DD7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95836-AB9C-4A19-92F9-61C54176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B7C6C-797D-4EED-AFA1-A5D3973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D1BD-178F-4B49-93A3-10FC9214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E8A48-DE5A-42F6-93A0-11AA053D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08394-0CFF-4443-B60A-3098A6D0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9D78B-4894-413F-AD74-4951FD29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7B292-5167-4F42-9C22-B0057CFF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E32C2-4222-4627-8509-DCC852EE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4F519-0593-4AC6-B9D1-0F28D534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3ED1E-9F5D-4C8F-9DF9-3E31142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C602A-D424-483C-B777-7B0463A5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10665-CEFB-4AD6-9FB2-134E352A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DBD89-8055-4A6D-92E2-2F31D6D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8DB6-FB96-43D6-8657-5D33E644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D2850-F3A1-4E4A-B914-EBA3C98E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54636-2F60-4278-9070-04593CD5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7CA98-05BF-41C1-B14E-5DDB5B89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BD728-93B9-4077-815B-AABAE1E5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4F66C-700A-48B3-91C7-6F5D17A1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30B61-CCA0-45A1-9474-FF0449B8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B01EE-155D-4816-A43D-665C8BBB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6E5A5-B3F4-4080-84AC-8A184553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9B197-4238-4D63-8358-16C24A4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79417-5D4E-4C26-A04E-105F8CB7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071C-D8BA-4D4A-9602-2AACDB79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48ACA-27EF-4CE1-9F4C-E527E5D3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EFB18-18EC-4CCE-A0ED-D722386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0362D-CB8A-4DF4-9940-DB1AD42D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12BDC-F087-4C19-920D-18A5C1D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5953F-06E1-429E-B305-08865F2B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650E2-852A-4FBC-9B6E-1DCD44A7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1C7B4-CE2D-4AE5-89AF-C2654138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64BC-D17F-46B9-92F5-7F2DC7A0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25CC-516A-4554-B585-BD3C1A2C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A104-70B3-4536-AF27-DAA465EB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700E-1740-4158-B53E-D97AE63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D09-0C1C-4D37-8ECD-D09C248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80BC-ED7F-4D5A-A7A7-C6DC3208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4579-6D9D-472B-83BE-5FE032AE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0D56-3F6A-4E54-9F6E-D551C85F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D4C2-E1EB-4710-BA23-89BC27A6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6696-8617-45E7-9E77-95C06E92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C1E6A-EB07-41C0-B91D-10FB1DC2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68E2-1649-4A79-936C-462ED01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59C4-CD04-4F21-AA5D-376FD0C9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872F-E63B-4605-B467-AAAC0CEC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D7E5-C910-4775-A6A2-40FD36B8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34C-55DE-4A88-A5F9-4689EB8B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87FA-F583-4959-9051-8DBBDB69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13B8-8283-4439-A128-D7BA3FB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83F6-B1CF-46B5-8C3B-7F8BDF8A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393B-36E3-44AA-AC13-A773E98D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CEA9-BE3E-464C-BB30-41867326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E09B-BD97-42B7-B741-9F3F9BB9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96FD-9924-412E-9AF4-781D0F8C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2C33-72EE-4BE0-9249-EA87ECE0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BA0F-AC7A-4320-9E47-99547639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92C6-9179-4283-89CE-67B8A4C2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DB0-4EF2-4EB1-871E-7B5CA3E7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255C-E20C-4191-A53D-07E64037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C271-4A0F-413B-B5FE-3F4291ED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8A6F8-B187-4534-B3B7-E5DBFB80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26B5-BE88-452D-9CF7-CB972B9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A035F-CCE9-4975-9FFF-0D431AB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3E64-9772-4D2B-9008-C363921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DCDD-B288-40F1-8C29-27AC7CF9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DDC7-98EF-43B0-BEA4-72CBE0E3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F4C8-2000-4298-AFC2-F3D71FEA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FA9D0-FBE3-497D-9D09-E18F829A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C15-E6E4-481C-9FEB-A519E527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15840-3496-43BA-8AE9-FAD5D3BA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A960-3295-4AC2-8EA5-4E027C59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61EFC-BF54-4C6E-B1FA-BC59AD9A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02AED-E353-4D02-BF54-7F6AD174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33E48-3940-4A63-B411-19B7275B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760C-0070-4E15-9457-96767A7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44EF-AA7A-4F21-A2F6-7DD085F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0D098-888B-452A-8D3B-4013263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FFE28-38FE-470F-B064-8934A27B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B0D0-B583-4DA3-B7A7-6F54FED5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C22-A5AD-4659-A8B7-C118234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0B41-5DD2-4024-8A32-1683F503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AB4A2-96F9-4084-9B49-D17A0237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7FC3-D15A-42EA-9353-575BAB2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772D8-3F78-4B8C-977C-CB15DEF2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4F1E5-7AED-406E-864B-E412D3F1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70E39-DE5B-4B67-96EB-81FC4F58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17F57-65D9-459F-AD85-15193610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183CC-CB32-47FA-803B-88DEE19D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2E637-AF9E-4A83-B8B1-0295E39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EE6D8-5B87-4EC5-802D-714B2761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5E5-556E-4E40-A1AD-A26F3894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D5AC4-322C-4B9F-BE4B-8AD53365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B544D-E4CD-4375-88E1-33186ABE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842D2-8542-41AF-98E5-735E1C7D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25962-66E5-418F-9147-3496163A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C507F-FF70-4626-9E6F-807C0245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C8AF4-D1D5-4A03-A4C9-BC7C1C2F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7A571-8F2C-4E0B-B838-92080039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93B0-13D6-41D6-8A5D-587ECCE9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A8A75-2C37-44FD-9D34-805F470F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58EEA-6467-41B6-9CCC-65BE50A8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632-5292-4902-A4D2-9AEDB70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99E93-397C-4CAB-B40E-EC88C3FB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5D792-1310-4E73-B7D2-9A1DA484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1499-68B8-4445-B1F1-749E195C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12C2F-82AE-45D5-BB55-957CC519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1CB1-4661-487A-9588-9ABE1009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D7C8-D76B-4439-BF45-33FF7568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701E-A91A-4059-B484-F4E999BF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3DF9E-A0CE-45BF-8D21-5010AD90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0394A-4E07-4931-A1B1-BB89AD6D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70DE9-3F86-46D9-9944-9CA75DE1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72A-5AA8-4D3E-8F2C-82BF0B0B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2A2F-E25B-4A13-9B96-8F97CC28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422E2-D1FF-42E0-90FD-E15A217C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263AB-3835-4907-931F-F29EF20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6517B-6C68-4594-BCE7-DBB4363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1DF93-8A57-41A9-8749-20084EC8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BB63C-DC6D-4756-96B7-145B9460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30D72-B681-4C58-850E-703C5179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82498-FC7E-4FD1-8C6F-314876DF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18D98-19DB-4331-87CE-5764DDAB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2E0D1-33CC-4404-BFBB-B4F33FD2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86E9-7806-426B-AC5E-1AF04F7322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8737-D983-47E3-8AF5-8FDCB18FB04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96EB-342C-4B8B-AB12-5904FCF2A4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1022-1BF2-49BA-B9BD-74B25F01A04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54E6-2436-43F8-B85C-0AB3C74036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1231-9268-4681-819D-628068D7EB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C22C-E7FE-4F49-8359-90B3C12080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FF18-7AB8-4DFF-B453-6C4F40B2668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745A-7DF0-475B-9F04-880B25FF7B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C76B-787A-4F10-BFBC-06F7B1E7DEB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8AD9-4CF7-40DC-A8B0-921805F07A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B938-1718-4F09-9266-0F6C27B675F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905A-35A0-4102-9C83-9C53F77A10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88B8-5011-45D6-A856-BC2185718A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E45B-8E65-479D-96D7-14D367105F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33D3-9E72-49C9-813F-951FE07ED7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7414-195A-41CB-A28D-F5B4692EC2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FD10-36EC-42A1-B434-D9CC991998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12A3-68FE-49AB-BAA4-3CBAFCF406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5078-A46E-4E32-B9CC-7F6B66B349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06D4-A398-491B-84CB-A4A05E2FCC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9A34-EE3E-44EC-B4E3-B85DDA1E5FE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8010-EA00-4A99-83D8-3CCB696B3C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F087-CD07-4BD7-99DF-C78C3781C54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CEE1-D43B-4A5B-BB0B-51A23D2400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hyperlink" Target="http://www.pptbz.com/" TargetMode="External"/><Relationship Id="rId10" Type="http://schemas.openxmlformats.org/officeDocument/2006/relationships/hyperlink" Target="http://www.pptbz.com/" TargetMode="External"/><Relationship Id="rId11" Type="http://schemas.openxmlformats.org/officeDocument/2006/relationships/hyperlink" Target="http://www.pptbz.com/" TargetMode="External"/><Relationship Id="rId12" Type="http://schemas.openxmlformats.org/officeDocument/2006/relationships/hyperlink" Target="http://www.pptbz.com/pptshucai/" TargetMode="External"/><Relationship Id="rId13" Type="http://schemas.openxmlformats.org/officeDocument/2006/relationships/hyperlink" Target="http://www.pptbz.com/pptshucai/" TargetMode="External"/><Relationship Id="rId14" Type="http://schemas.openxmlformats.org/officeDocument/2006/relationships/hyperlink" Target="http://www.pptbz.com/pptshucai/" TargetMode="External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image" Target="../media/image31.png"/><Relationship Id="rId18" Type="http://schemas.openxmlformats.org/officeDocument/2006/relationships/image" Target="../media/image31.png"/><Relationship Id="rId19" Type="http://schemas.openxmlformats.org/officeDocument/2006/relationships/audio" Target="../media/&#20129;&#28789;&#24207;&#26354;.wav"/><Relationship Id="rId2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Administrator\桌面\利世机构-幸福来敲门中秋营销策略执行方案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C:\Documents and Settings\Administrator\桌面\利世机构-幸福来敲门中秋营销策略执行方案\幻灯片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Documents and Settings\Administrator\桌面\利世机构-幸福来敲门中秋营销策略执行方案\幻灯片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C:\Documents and Settings\Administrator\桌面\利世机构-幸福来敲门中秋营销策略执行方案\幻灯片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C:\Documents and Settings\Administrator\桌面\利世机构-幸福来敲门中秋营销策略执行方案\幻灯片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C:\Documents and Settings\Administrator\桌面\利世机构-幸福来敲门中秋营销策略执行方案\幻灯片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C:\Documents and Settings\Administrator\桌面\利世机构-幸福来敲门中秋营销策略执行方案\幻灯片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C:\Documents and Settings\Administrator\桌面\利世机构-幸福来敲门中秋营销策略执行方案\幻灯片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C:\Documents and Settings\Administrator\桌面\利世机构-幸福来敲门中秋营销策略执行方案\幻灯片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C:\Documents and Settings\Administrator\桌面\利世机构-幸福来敲门中秋营销策略执行方案\幻灯片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C:\Documents and Settings\Administrator\桌面\利世机构-幸福来敲门中秋营销策略执行方案\幻灯片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C:\Documents and Settings\Administrator\桌面\利世机构-幸福来敲门中秋营销策略执行方案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C:\Documents and Settings\Administrator\桌面\利世机构-幸福来敲门中秋营销策略执行方案\幻灯片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C:\Documents and Settings\Administrator\桌面\利世机构-幸福来敲门中秋营销策略执行方案\幻灯片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C:\Documents and Settings\Administrator\桌面\利世机构-幸福来敲门中秋营销策略执行方案\幻灯片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G:\jacky\我的PPT\当幸福来敲门\利世机构-幸福来敲门中秋营销策略执行方案JPG\当幸福来敲门设计完成稿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6446520" y="3286080"/>
            <a:ext cx="190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免费顾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话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755-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真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755-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邮箱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@XXXX.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灯片编号占位符 5"/>
          <p:cNvSpPr/>
          <p:nvPr/>
        </p:nvSpPr>
        <p:spPr>
          <a:xfrm>
            <a:off x="6553080" y="4767120"/>
            <a:ext cx="2133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534F-D1F0-4AB5-B4AF-B679200500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3475080"/>
          </a:xfrm>
          <a:prstGeom prst="rect">
            <a:avLst/>
          </a:prstGeom>
          <a:ln w="0">
            <a:noFill/>
          </a:ln>
        </p:spPr>
      </p:pic>
      <p:sp>
        <p:nvSpPr>
          <p:cNvPr id="559" name="Line 7"/>
          <p:cNvSpPr/>
          <p:nvPr/>
        </p:nvSpPr>
        <p:spPr>
          <a:xfrm>
            <a:off x="0" y="445788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33"/>
          <p:cNvSpPr/>
          <p:nvPr/>
        </p:nvSpPr>
        <p:spPr>
          <a:xfrm>
            <a:off x="-20520" y="942840"/>
            <a:ext cx="913896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36"/>
          <p:cNvSpPr/>
          <p:nvPr/>
        </p:nvSpPr>
        <p:spPr>
          <a:xfrm>
            <a:off x="0" y="446724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43"/>
          <p:cNvSpPr/>
          <p:nvPr/>
        </p:nvSpPr>
        <p:spPr>
          <a:xfrm>
            <a:off x="0" y="0"/>
            <a:ext cx="9144000" cy="8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35" descr="热气球"/>
          <p:cNvPicPr/>
          <p:nvPr/>
        </p:nvPicPr>
        <p:blipFill>
          <a:blip r:embed="rId2"/>
          <a:stretch/>
        </p:blipFill>
        <p:spPr>
          <a:xfrm>
            <a:off x="7164360" y="271440"/>
            <a:ext cx="1428840" cy="1490760"/>
          </a:xfrm>
          <a:prstGeom prst="rect">
            <a:avLst/>
          </a:prstGeom>
          <a:ln w="0">
            <a:noFill/>
          </a:ln>
        </p:spPr>
      </p:pic>
      <p:sp>
        <p:nvSpPr>
          <p:cNvPr id="564" name="TextBox 8"/>
          <p:cNvSpPr/>
          <p:nvPr/>
        </p:nvSpPr>
        <p:spPr>
          <a:xfrm>
            <a:off x="2987640" y="4111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宝藏致力于优秀的</a:t>
            </a: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分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图片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96840"/>
            <a:ext cx="2982960" cy="74772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8" descr="07.png"/>
          <p:cNvPicPr/>
          <p:nvPr/>
        </p:nvPicPr>
        <p:blipFill>
          <a:blip r:embed="rId5"/>
          <a:stretch/>
        </p:blipFill>
        <p:spPr>
          <a:xfrm>
            <a:off x="2604960" y="0"/>
            <a:ext cx="984240" cy="7333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美女跳舞2"/>
          <p:cNvPicPr/>
          <p:nvPr/>
        </p:nvPicPr>
        <p:blipFill>
          <a:blip r:embed="rId6"/>
          <a:stretch/>
        </p:blipFill>
        <p:spPr>
          <a:xfrm>
            <a:off x="179280" y="1006560"/>
            <a:ext cx="2297160" cy="39351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0" descr="绿风车棍子"/>
          <p:cNvPicPr/>
          <p:nvPr/>
        </p:nvPicPr>
        <p:blipFill>
          <a:blip r:embed="rId7"/>
          <a:stretch/>
        </p:blipFill>
        <p:spPr>
          <a:xfrm>
            <a:off x="8461440" y="3164040"/>
            <a:ext cx="71280" cy="12427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9" descr="绿风车"/>
          <p:cNvPicPr/>
          <p:nvPr/>
        </p:nvPicPr>
        <p:blipFill>
          <a:blip r:embed="rId8"/>
          <a:stretch/>
        </p:blipFill>
        <p:spPr>
          <a:xfrm>
            <a:off x="7850160" y="2792520"/>
            <a:ext cx="1217520" cy="914400"/>
          </a:xfrm>
          <a:prstGeom prst="rect">
            <a:avLst/>
          </a:prstGeom>
          <a:ln w="0">
            <a:noFill/>
          </a:ln>
        </p:spPr>
      </p:pic>
      <p:sp>
        <p:nvSpPr>
          <p:cNvPr id="570" name="TextBox 4"/>
          <p:cNvSpPr/>
          <p:nvPr/>
        </p:nvSpPr>
        <p:spPr>
          <a:xfrm>
            <a:off x="2627280" y="1857240"/>
            <a:ext cx="53294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模板下载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pptbz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素材下载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pptbz.com/pptsh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背景图片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pptpic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课件下载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keji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图片 55" descr=""/>
          <p:cNvPicPr/>
          <p:nvPr/>
        </p:nvPicPr>
        <p:blipFill>
          <a:blip r:embed="rId15"/>
          <a:stretch/>
        </p:blipFill>
        <p:spPr>
          <a:xfrm rot="2305200">
            <a:off x="2293560" y="1777680"/>
            <a:ext cx="457200" cy="34272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56" descr=""/>
          <p:cNvPicPr/>
          <p:nvPr/>
        </p:nvPicPr>
        <p:blipFill>
          <a:blip r:embed="rId16"/>
          <a:stretch/>
        </p:blipFill>
        <p:spPr>
          <a:xfrm rot="2305200">
            <a:off x="2293920" y="2212560"/>
            <a:ext cx="457200" cy="34452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57" descr=""/>
          <p:cNvPicPr/>
          <p:nvPr/>
        </p:nvPicPr>
        <p:blipFill>
          <a:blip r:embed="rId17"/>
          <a:stretch/>
        </p:blipFill>
        <p:spPr>
          <a:xfrm rot="2305200">
            <a:off x="2293560" y="2644560"/>
            <a:ext cx="457200" cy="34272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58" descr=""/>
          <p:cNvPicPr/>
          <p:nvPr/>
        </p:nvPicPr>
        <p:blipFill>
          <a:blip r:embed="rId18"/>
          <a:stretch/>
        </p:blipFill>
        <p:spPr>
          <a:xfrm rot="2305200">
            <a:off x="2293560" y="3077640"/>
            <a:ext cx="457200" cy="343080"/>
          </a:xfrm>
          <a:prstGeom prst="rect">
            <a:avLst/>
          </a:prstGeom>
          <a:ln w="0">
            <a:noFill/>
          </a:ln>
        </p:spPr>
      </p:pic>
      <p:sp>
        <p:nvSpPr>
          <p:cNvPr id="575" name="TextBox 22"/>
          <p:cNvSpPr/>
          <p:nvPr/>
        </p:nvSpPr>
        <p:spPr>
          <a:xfrm>
            <a:off x="2471760" y="462456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宝藏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_www.pptbz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9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C:\Documents and Settings\Administrator\桌面\利世机构-幸福来敲门中秋营销策略执行方案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C:\Documents and Settings\Administrator\桌面\利世机构-幸福来敲门中秋营销策略执行方案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C:\Documents and Settings\Administrator\桌面\利世机构-幸福来敲门中秋营销策略执行方案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:\Documents and Settings\Administrator\桌面\利世机构-幸福来敲门中秋营销策略执行方案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C:\Documents and Settings\Administrator\桌面\利世机构-幸福来敲门中秋营销策略执行方案\幻灯片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:\Documents and Settings\Administrator\桌面\利世机构-幸福来敲门中秋营销策略执行方案\幻灯片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C:\Documents and Settings\Administrator\桌面\利世机构-幸福来敲门中秋营销策略执行方案\幻灯片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clf2015</cp:lastModifiedBy>
  <dcterms:modified xsi:type="dcterms:W3CDTF">2015-08-30T02:42:20Z</dcterms:modified>
  <cp:revision>5</cp:revision>
  <dc:subject/>
  <dc:title>www.pptbz.com</dc:title>
</cp:coreProperties>
</file>