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D4C-ED38-4785-8DF7-C9ECE7AC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7BC-986C-43B4-8EE3-CF4DEA9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F99-FD31-43BA-A856-A99643CE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786-2FF3-471E-AD0E-3DB0CEA1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7CE-9024-4322-9F74-A8B7FE1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5CD-F15B-4471-A6C8-B7BD78AD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3DA-6030-4EDB-98FE-DA75879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921-09D4-4A4E-96AF-434804D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3A6-4A6A-4A4F-AE1E-B6684E0A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BCC-CD0E-4619-AB9E-B4B066E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19B-74DE-41D5-A9CD-634457D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F80-D6CF-4D06-8B50-7A0FE7C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2F59-7527-43B8-8A30-91D4BBA1EA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hyperlink" Target="http://www.youweila.com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6095880" y="6095880"/>
            <a:ext cx="1600200" cy="749520"/>
          </a:xfrm>
          <a:custGeom>
            <a:avLst/>
            <a:gdLst/>
            <a:ahLst/>
            <a:rect l="l" t="t" r="r" b="b"/>
            <a:pathLst>
              <a:path w="1600200" h="749300">
                <a:moveTo>
                  <a:pt x="0" y="0"/>
                </a:moveTo>
                <a:lnTo>
                  <a:pt x="1600200" y="0"/>
                </a:lnTo>
                <a:lnTo>
                  <a:pt x="1600200" y="749300"/>
                </a:lnTo>
                <a:lnTo>
                  <a:pt x="0" y="7493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8458200" y="6248520"/>
            <a:ext cx="685800" cy="361800"/>
          </a:xfrm>
          <a:custGeom>
            <a:avLst/>
            <a:gdLst/>
            <a:ahLst/>
            <a:rect l="l" t="t" r="r" b="b"/>
            <a:pathLst>
              <a:path w="685800" h="361950">
                <a:moveTo>
                  <a:pt x="180467" y="0"/>
                </a:moveTo>
                <a:lnTo>
                  <a:pt x="0" y="180975"/>
                </a:lnTo>
                <a:lnTo>
                  <a:pt x="198501" y="361950"/>
                </a:lnTo>
                <a:lnTo>
                  <a:pt x="685800" y="180975"/>
                </a:lnTo>
                <a:lnTo>
                  <a:pt x="180467" y="0"/>
                </a:lnTo>
              </a:path>
            </a:pathLst>
          </a:custGeom>
          <a:solidFill>
            <a:srgbClr val="ddddd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7086600" y="6248520"/>
            <a:ext cx="685800" cy="361800"/>
          </a:xfrm>
          <a:custGeom>
            <a:avLst/>
            <a:gdLst/>
            <a:ahLst/>
            <a:rect l="l" t="t" r="r" b="b"/>
            <a:pathLst>
              <a:path w="685800" h="361950">
                <a:moveTo>
                  <a:pt x="180467" y="0"/>
                </a:moveTo>
                <a:lnTo>
                  <a:pt x="0" y="180975"/>
                </a:lnTo>
                <a:lnTo>
                  <a:pt x="198501" y="361950"/>
                </a:lnTo>
                <a:lnTo>
                  <a:pt x="685800" y="180975"/>
                </a:lnTo>
                <a:lnTo>
                  <a:pt x="180467" y="0"/>
                </a:lnTo>
              </a:path>
            </a:pathLst>
          </a:custGeom>
          <a:solidFill>
            <a:srgbClr val="ddddd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5d0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685800" y="0"/>
            <a:ext cx="8458200" cy="3048120"/>
          </a:xfrm>
          <a:custGeom>
            <a:avLst/>
            <a:gdLst/>
            <a:ahLst/>
            <a:rect l="l" t="t" r="r" b="b"/>
            <a:pathLst>
              <a:path w="8458200" h="3048000">
                <a:moveTo>
                  <a:pt x="8458200" y="0"/>
                </a:moveTo>
                <a:lnTo>
                  <a:pt x="8458200" y="3048000"/>
                </a:lnTo>
                <a:lnTo>
                  <a:pt x="0" y="0"/>
                </a:lnTo>
                <a:lnTo>
                  <a:pt x="8458200" y="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0" y="2971800"/>
            <a:ext cx="4191120" cy="3886200"/>
          </a:xfrm>
          <a:custGeom>
            <a:avLst/>
            <a:gdLst/>
            <a:ahLst/>
            <a:rect l="l" t="t" r="r" b="b"/>
            <a:pathLst>
              <a:path w="4191000" h="3886200">
                <a:moveTo>
                  <a:pt x="0" y="3886200"/>
                </a:moveTo>
                <a:lnTo>
                  <a:pt x="0" y="0"/>
                </a:lnTo>
                <a:lnTo>
                  <a:pt x="4191000" y="3886200"/>
                </a:lnTo>
                <a:lnTo>
                  <a:pt x="0" y="3886200"/>
                </a:lnTo>
              </a:path>
            </a:pathLst>
          </a:custGeom>
          <a:solidFill>
            <a:srgbClr val="ff33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0" y="609480"/>
            <a:ext cx="9144000" cy="4822920"/>
          </a:xfrm>
          <a:custGeom>
            <a:avLst/>
            <a:gdLst/>
            <a:ahLst/>
            <a:rect l="l" t="t" r="r" b="b"/>
            <a:pathLst>
              <a:path w="9144000" h="4822825">
                <a:moveTo>
                  <a:pt x="2406269" y="0"/>
                </a:moveTo>
                <a:lnTo>
                  <a:pt x="0" y="2411348"/>
                </a:lnTo>
                <a:lnTo>
                  <a:pt x="2646933" y="4822825"/>
                </a:lnTo>
                <a:lnTo>
                  <a:pt x="9144000" y="2411348"/>
                </a:lnTo>
                <a:lnTo>
                  <a:pt x="2406269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0" y="0"/>
            <a:ext cx="3048120" cy="3048120"/>
          </a:xfrm>
          <a:custGeom>
            <a:avLst/>
            <a:gdLst/>
            <a:ahLst/>
            <a:rect l="l" t="t" r="r" b="b"/>
            <a:pathLst>
              <a:path w="3048000" h="3048000">
                <a:moveTo>
                  <a:pt x="0" y="0"/>
                </a:moveTo>
                <a:lnTo>
                  <a:pt x="0" y="3048000"/>
                </a:lnTo>
                <a:lnTo>
                  <a:pt x="3048000" y="0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8692560" y="6350040"/>
            <a:ext cx="1152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64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335760" y="2948040"/>
            <a:ext cx="28533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秋节策划专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位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5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36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"/>
          <p:cNvSpPr/>
          <p:nvPr/>
        </p:nvSpPr>
        <p:spPr>
          <a:xfrm>
            <a:off x="2813040" y="2438280"/>
            <a:ext cx="3251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MingLiU"/>
                <a:ea typeface="MingLiU"/>
              </a:rPr>
              <a:t>广场周边</a:t>
            </a:r>
            <a:r>
              <a:rPr b="0" lang="en-US" sz="2700" spc="-1" strike="noStrike">
                <a:solidFill>
                  <a:srgbClr val="a50021"/>
                </a:solidFill>
                <a:latin typeface="MingLiU"/>
                <a:ea typeface="MingLiU"/>
              </a:rPr>
              <a:t>8</a:t>
            </a:r>
            <a:r>
              <a:rPr b="0" lang="en-US" sz="2700" spc="-1" strike="noStrike">
                <a:solidFill>
                  <a:srgbClr val="a50021"/>
                </a:solidFill>
                <a:latin typeface="MingLiU"/>
                <a:ea typeface="MingLiU"/>
              </a:rPr>
              <a:t>条空中汽球书法条幅：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庆国庆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迎中秋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秋高气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天开清域旷，人在大明宫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两仪皆皎洁，四海倍澄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4571280" y="4114800"/>
            <a:ext cx="4456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碧空月圆逐花影，龙灯笑舞闹中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海上生明月，天崖共此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4571280" y="4978440"/>
            <a:ext cx="4456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国庆又逢仲秋月，盛世中华夜名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国强民富显龙威，彩旗飘扬迎国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月异日新，国庆中秋同欢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966400" y="1587600"/>
            <a:ext cx="4074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项目恭贺各位来宾国庆中秋双节快乐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45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46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4986720" y="2044800"/>
            <a:ext cx="256104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ngLiU"/>
                <a:ea typeface="MingLiU"/>
              </a:rPr>
              <a:t>楼面包装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将销售中心外立面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满小号的红色灯笼，让来宾远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的就能感受到节日的氛围，同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红红的灯笼与销售中心欧式的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立面相结合产生一种冲突的美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实现中西文化的完美交融。红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寓意红红火火，满满一面墙的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灯笼寓意香槟小镇的销售红红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火，所有的业主在入住后生活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和美美、红红火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2" descr=""/>
          <p:cNvPicPr/>
          <p:nvPr/>
        </p:nvPicPr>
        <p:blipFill>
          <a:blip r:embed="rId4"/>
          <a:stretch/>
        </p:blipFill>
        <p:spPr>
          <a:xfrm>
            <a:off x="698400" y="1560600"/>
            <a:ext cx="28940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3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54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2293200" y="1625760"/>
            <a:ext cx="4938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ngLiU"/>
                <a:ea typeface="MingLiU"/>
              </a:rPr>
              <a:t>树木包装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销售中心广场及项目广场上的树木上不规则的挂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大红灯笼，使整个活动现场变成一片红色的海洋，统一的红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让来宾记忆深刻，同时也较容易提起来宾的情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图片 2" descr=""/>
          <p:cNvPicPr/>
          <p:nvPr/>
        </p:nvPicPr>
        <p:blipFill>
          <a:blip r:embed="rId4"/>
          <a:stretch/>
        </p:blipFill>
        <p:spPr>
          <a:xfrm>
            <a:off x="882720" y="3290760"/>
            <a:ext cx="3289320" cy="21542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" descr=""/>
          <p:cNvPicPr/>
          <p:nvPr/>
        </p:nvPicPr>
        <p:blipFill>
          <a:blip r:embed="rId5"/>
          <a:stretch/>
        </p:blipFill>
        <p:spPr>
          <a:xfrm>
            <a:off x="4869000" y="3290760"/>
            <a:ext cx="3449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63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Box 1"/>
          <p:cNvSpPr/>
          <p:nvPr/>
        </p:nvSpPr>
        <p:spPr>
          <a:xfrm>
            <a:off x="2295720" y="1523880"/>
            <a:ext cx="475560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ngLiU"/>
                <a:ea typeface="MingLiU"/>
              </a:rPr>
              <a:t>内场布置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销售中心室内用中式工艺花灯做点缀，使室内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室外调性统一，又不失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2" descr=""/>
          <p:cNvPicPr/>
          <p:nvPr/>
        </p:nvPicPr>
        <p:blipFill>
          <a:blip r:embed="rId4"/>
          <a:stretch/>
        </p:blipFill>
        <p:spPr>
          <a:xfrm>
            <a:off x="1117440" y="2854440"/>
            <a:ext cx="1870200" cy="29494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5"/>
          <a:stretch/>
        </p:blipFill>
        <p:spPr>
          <a:xfrm>
            <a:off x="3841920" y="2854440"/>
            <a:ext cx="4581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7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7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Box 1"/>
          <p:cNvSpPr/>
          <p:nvPr/>
        </p:nvSpPr>
        <p:spPr>
          <a:xfrm>
            <a:off x="2401200" y="1612800"/>
            <a:ext cx="4938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ngLiU"/>
                <a:ea typeface="MingLiU"/>
              </a:rPr>
              <a:t>汉服礼宾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礼仪小姐及所有售楼人员身着汉服为来宾服务，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签名、猜灯谜、现场古筝、二胡表演，细节处体现品位，让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宾犹如置身于汉唐，有种穿梭时空的错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2" descr=""/>
          <p:cNvPicPr/>
          <p:nvPr/>
        </p:nvPicPr>
        <p:blipFill>
          <a:blip r:embed="rId4"/>
          <a:stretch/>
        </p:blipFill>
        <p:spPr>
          <a:xfrm>
            <a:off x="1049400" y="2957400"/>
            <a:ext cx="1609560" cy="24577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5"/>
          <a:stretch/>
        </p:blipFill>
        <p:spPr>
          <a:xfrm>
            <a:off x="3522600" y="3024360"/>
            <a:ext cx="2104920" cy="24955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"/>
          <p:cNvPicPr/>
          <p:nvPr/>
        </p:nvPicPr>
        <p:blipFill>
          <a:blip r:embed="rId6"/>
          <a:stretch/>
        </p:blipFill>
        <p:spPr>
          <a:xfrm>
            <a:off x="6883560" y="3024360"/>
            <a:ext cx="12855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8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六、前期预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1998000" y="1689120"/>
            <a:ext cx="38271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MingLiU"/>
                <a:ea typeface="MingLiU"/>
              </a:rPr>
              <a:t>预热时间：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日起开始活动预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MingLiU"/>
                <a:ea typeface="MingLiU"/>
              </a:rPr>
              <a:t>预热内容：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媒体发布活动消息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5027040" y="3035160"/>
            <a:ext cx="613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客户到售楼部签名活动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邀请月饼专卖店联合活动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现场及售楼部布置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各种道具准备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6</a:t>
            </a: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、活动内容培训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9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90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七、促销政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2433960" y="2260440"/>
            <a:ext cx="4732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促销目的就是为了成交，目前项目销售处在停滞期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MingLiU"/>
                <a:ea typeface="MingLiU"/>
              </a:rPr>
              <a:t>不下重手很难解决困境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2359440" y="3962520"/>
            <a:ext cx="4527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MingLiU"/>
                <a:ea typeface="MingLiU"/>
              </a:rPr>
              <a:t>问鼎建议：与其停滞不前，不如狠心放血，刺激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MingLiU"/>
                <a:ea typeface="MingLiU"/>
              </a:rPr>
              <a:t>场，以期改变被动局面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97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98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七、促销政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3940560" y="1486080"/>
            <a:ext cx="1783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MingLiU"/>
                <a:ea typeface="MingLiU"/>
              </a:rPr>
              <a:t>日进千金计划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367280" y="2298600"/>
            <a:ext cx="4174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优惠时间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开始—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918080" y="2908440"/>
            <a:ext cx="490176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促销策略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每日增值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元，成功选房后抵作购房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促销范围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住宅及商铺均可享受该活动优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计算方式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优惠天数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×100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总优惠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优惠天数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从定房之日起至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3048840" y="5067360"/>
            <a:ext cx="37069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购房流程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元定金，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天之内签定买卖合同并到齐首期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购房折扣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一次性付款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7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折，银行按揭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07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208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TextBox 1"/>
          <p:cNvSpPr/>
          <p:nvPr/>
        </p:nvSpPr>
        <p:spPr>
          <a:xfrm>
            <a:off x="1046160" y="2552760"/>
            <a:ext cx="549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内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1708200" y="3162240"/>
            <a:ext cx="307296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拟邀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著名的月饼商家乔家栅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滕王阁、一品香等著名连锁品牌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场售卖月饼。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公司企业不但免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向月饼商家提供场地，更向月饼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家购置一定量的月饼送赠来宾，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举不但加强了月饼商家在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县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区的宣传，更进一步促进了月饼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销售。同时营造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浓厚的社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文化气氛，实现三赢的局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886680" y="1308240"/>
            <a:ext cx="315396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日期：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2009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日—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时间：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9:00~17: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地点：售楼部前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491120" y="749160"/>
            <a:ext cx="116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八、月饼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图片 2" descr=""/>
          <p:cNvPicPr/>
          <p:nvPr/>
        </p:nvPicPr>
        <p:blipFill>
          <a:blip r:embed="rId4"/>
          <a:stretch/>
        </p:blipFill>
        <p:spPr>
          <a:xfrm>
            <a:off x="5918040" y="1247760"/>
            <a:ext cx="2448000" cy="160992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" descr=""/>
          <p:cNvPicPr/>
          <p:nvPr/>
        </p:nvPicPr>
        <p:blipFill>
          <a:blip r:embed="rId5"/>
          <a:stretch/>
        </p:blipFill>
        <p:spPr>
          <a:xfrm>
            <a:off x="5918040" y="3840120"/>
            <a:ext cx="2448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18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219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TextBox 1"/>
          <p:cNvSpPr/>
          <p:nvPr/>
        </p:nvSpPr>
        <p:spPr>
          <a:xfrm>
            <a:off x="2005560" y="812880"/>
            <a:ext cx="281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九、古筝、二胡表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813240" y="1460520"/>
            <a:ext cx="42062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日期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2013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—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:00~17: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1511640" y="2540160"/>
            <a:ext cx="307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地点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富豪宾馆旁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售楼部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527360" y="3086280"/>
            <a:ext cx="698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MingLiU"/>
                <a:ea typeface="MingLiU"/>
              </a:rPr>
              <a:t>内容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中国传统的节日，需要精彩的节目表演。活动期间，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3139200" y="3670200"/>
            <a:ext cx="43898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请具有中国传统艺术的古筝、二胡演出，演出人员必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要是美女（眼球经济），精彩的节目必定让所有来宾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不暇及，乐而忘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6" descr=""/>
          <p:cNvPicPr/>
          <p:nvPr/>
        </p:nvPicPr>
        <p:blipFill>
          <a:blip r:embed="rId4"/>
          <a:stretch/>
        </p:blipFill>
        <p:spPr>
          <a:xfrm>
            <a:off x="6242040" y="863640"/>
            <a:ext cx="25462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" descr=""/>
          <p:cNvPicPr/>
          <p:nvPr/>
        </p:nvPicPr>
        <p:blipFill>
          <a:blip r:embed="rId2"/>
          <a:stretch/>
        </p:blipFill>
        <p:spPr>
          <a:xfrm>
            <a:off x="352440" y="6037200"/>
            <a:ext cx="1647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54" name="矩形 1"/>
          <p:cNvGrpSpPr/>
          <p:nvPr/>
        </p:nvGrpSpPr>
        <p:grpSpPr>
          <a:xfrm>
            <a:off x="1994040" y="390600"/>
            <a:ext cx="7156440" cy="195120"/>
            <a:chOff x="1994040" y="390600"/>
            <a:chExt cx="7156440" cy="195120"/>
          </a:xfrm>
        </p:grpSpPr>
        <p:pic>
          <p:nvPicPr>
            <p:cNvPr id="55" name="矩形 1" descr=""/>
            <p:cNvPicPr/>
            <p:nvPr/>
          </p:nvPicPr>
          <p:blipFill>
            <a:blip r:embed="rId3"/>
            <a:stretch/>
          </p:blipFill>
          <p:spPr>
            <a:xfrm>
              <a:off x="1994040" y="390600"/>
              <a:ext cx="715644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00160" y="395280"/>
              <a:ext cx="71438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1"/>
          <p:cNvSpPr/>
          <p:nvPr/>
        </p:nvSpPr>
        <p:spPr>
          <a:xfrm>
            <a:off x="2985840" y="2082960"/>
            <a:ext cx="38836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MingLiU"/>
                <a:ea typeface="MingLiU"/>
              </a:rPr>
              <a:t>月</a:t>
            </a:r>
            <a:r>
              <a:rPr b="0" lang="en-US" sz="5400" spc="-1" strike="noStrike">
                <a:solidFill>
                  <a:srgbClr val="a50021"/>
                </a:solidFill>
                <a:latin typeface="MingLiU"/>
                <a:ea typeface="MingLiU"/>
              </a:rPr>
              <a:t>·</a:t>
            </a:r>
            <a:r>
              <a:rPr b="0" lang="en-US" sz="5400" spc="-1" strike="noStrike">
                <a:solidFill>
                  <a:srgbClr val="a50021"/>
                </a:solidFill>
                <a:latin typeface="MingLiU"/>
                <a:ea typeface="MingLiU"/>
              </a:rPr>
              <a:t>宴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a50021"/>
                </a:solidFill>
                <a:latin typeface="MingLiU"/>
                <a:ea typeface="MingLiU"/>
              </a:rPr>
              <a:t>XX</a:t>
            </a:r>
            <a:r>
              <a:rPr b="0" lang="en-US" sz="5400" spc="-1" strike="noStrike">
                <a:solidFill>
                  <a:srgbClr val="a50021"/>
                </a:solidFill>
                <a:latin typeface="MingLiU"/>
                <a:ea typeface="MingLiU"/>
              </a:rPr>
              <a:t>项目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025080" y="3187800"/>
            <a:ext cx="38048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a50021"/>
                </a:solidFill>
                <a:latin typeface="MingLiU"/>
                <a:ea typeface="MingLiU"/>
              </a:rPr>
              <a:t>国庆</a:t>
            </a:r>
            <a:r>
              <a:rPr b="0" lang="en-US" sz="3900" spc="-1" strike="noStrike">
                <a:solidFill>
                  <a:srgbClr val="a50021"/>
                </a:solidFill>
                <a:latin typeface="MingLiU"/>
                <a:ea typeface="MingLiU"/>
              </a:rPr>
              <a:t>\</a:t>
            </a:r>
            <a:r>
              <a:rPr b="0" lang="en-US" sz="3900" spc="-1" strike="noStrike">
                <a:solidFill>
                  <a:srgbClr val="a50021"/>
                </a:solidFill>
                <a:latin typeface="MingLiU"/>
                <a:ea typeface="MingLiU"/>
              </a:rPr>
              <a:t>中秋节活动策划方案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29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230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309600" y="992160"/>
          <a:ext cx="8512200" cy="5092560"/>
        </p:xfrm>
        <a:graphic>
          <a:graphicData uri="http://schemas.openxmlformats.org/drawingml/2006/table">
            <a:tbl>
              <a:tblPr/>
              <a:tblGrid>
                <a:gridCol w="1127160"/>
                <a:gridCol w="1477800"/>
                <a:gridCol w="984240"/>
                <a:gridCol w="1125720"/>
                <a:gridCol w="1125360"/>
                <a:gridCol w="2671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明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单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数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总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负责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扇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上门发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月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购房户、老客户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猜谜中奖客户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宣传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活动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问鼎设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制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演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古典名曲演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红灯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装饰氛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问鼎布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购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竹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签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米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购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气球条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装饰氛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购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汉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租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件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购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易拉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超市门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问鼎设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X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公司制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合计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ngLiU"/>
                          <a:ea typeface="MingLiU"/>
                        </a:rPr>
                        <a:t>元（此价格表为预计价格，以实际价格为准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1"/>
          <p:cNvSpPr/>
          <p:nvPr/>
        </p:nvSpPr>
        <p:spPr>
          <a:xfrm>
            <a:off x="1999440" y="723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十、物料清单及预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36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237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TextBox 1"/>
          <p:cNvSpPr/>
          <p:nvPr/>
        </p:nvSpPr>
        <p:spPr>
          <a:xfrm>
            <a:off x="2797920" y="2349360"/>
            <a:ext cx="3306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8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a50021"/>
                </a:solidFill>
                <a:latin typeface="Arial Black"/>
                <a:ea typeface="Arial Black"/>
              </a:rPr>
              <a:t>THANKS!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2"/>
          <p:cNvSpPr/>
          <p:nvPr/>
        </p:nvSpPr>
        <p:spPr>
          <a:xfrm>
            <a:off x="2301840" y="3719520"/>
            <a:ext cx="51944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新宋体"/>
              </a:rPr>
              <a:t>以上所述信息来自：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新宋体"/>
                <a:ea typeface="宋体"/>
                <a:hlinkClick r:id="rId4"/>
              </a:rPr>
              <a:t>有位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新宋体"/>
              </a:rPr>
              <a:t>信息科技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新宋体"/>
              </a:rPr>
              <a:t>有位网专业的会议宴会预订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新宋体"/>
              </a:rPr>
              <a:t>网址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宋体"/>
              </a:rPr>
              <a:t>www.youweila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6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6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TextBox 1"/>
          <p:cNvSpPr/>
          <p:nvPr/>
        </p:nvSpPr>
        <p:spPr>
          <a:xfrm>
            <a:off x="1305360" y="939960"/>
            <a:ext cx="1098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一、活动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847600" y="1714680"/>
            <a:ext cx="38678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通过本次活动加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县市民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环境、规模的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解，进一步吸引更多客户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990880" y="2616120"/>
            <a:ext cx="36669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丰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县的文化活动，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县的市民以另一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ngLiU"/>
                <a:ea typeface="MingLiU"/>
              </a:rPr>
              <a:t>赏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286720" y="3543480"/>
            <a:ext cx="515448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营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浓厚的社区文化气氛，欧式风格与中式文化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完美结合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今后的销售打下坚实的基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094840" y="4457880"/>
            <a:ext cx="53737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强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公司品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县县市民心中的形象，加深市民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公司品牌忠诚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7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7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1"/>
          <p:cNvSpPr/>
          <p:nvPr/>
        </p:nvSpPr>
        <p:spPr>
          <a:xfrm>
            <a:off x="110412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二、策划思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1841760" y="1650960"/>
            <a:ext cx="55234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国庆、中秋佳节临近，月饼成了家家户户送礼的必备礼品，举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饼展不但能营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浓厚的社区文化氛围，更能带出浓厚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节日气氛，为人月两团圆的佳节添上完美的一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940400" y="3454560"/>
            <a:ext cx="5301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对于普罗大众来讲，大多数都没有亲手制作月饼的经验，相信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979280" y="3860640"/>
            <a:ext cx="51213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自制月饼为活动的亮点，必定能吸引更多的目标买家参加并直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产生成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901880" y="5283360"/>
            <a:ext cx="4425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突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浓厚的社区文化氛围，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的销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8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8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三、活动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192480" y="1701720"/>
            <a:ext cx="339336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MingLiU"/>
                <a:ea typeface="MingLiU"/>
              </a:rPr>
              <a:t>主题：日进千金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900" spc="-1" strike="noStrike">
                <a:solidFill>
                  <a:srgbClr val="ff3300"/>
                </a:solidFill>
                <a:latin typeface="MingLiU"/>
                <a:ea typeface="MingLiU"/>
              </a:rPr>
              <a:t>迷情月宴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288800" y="2870280"/>
            <a:ext cx="45216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期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—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00—19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946880" y="3949560"/>
            <a:ext cx="3205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地点：富豪宾馆旁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项目售楼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599200" y="4521240"/>
            <a:ext cx="41864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内容：猜谜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古筝、二胡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万年竹简大签名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月饼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对象：目标买家、业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91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92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Box 1"/>
          <p:cNvSpPr/>
          <p:nvPr/>
        </p:nvSpPr>
        <p:spPr>
          <a:xfrm>
            <a:off x="145188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四、活动构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843120" y="1498680"/>
            <a:ext cx="825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★</a:t>
            </a: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现场布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4749480" y="1816200"/>
            <a:ext cx="1242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现场布置以中国传统的红灯笼为主调，配以中式的小装饰，凸显中国节、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国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843120" y="2717640"/>
            <a:ext cx="825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★</a:t>
            </a: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活动安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683960" y="3035160"/>
            <a:ext cx="2552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活动安排围绕中国传统中秋文化为主线，加入一些互动环节，让整个活动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满传统味道的同时，充满趣味性及参与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43120" y="3936960"/>
            <a:ext cx="825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★</a:t>
            </a: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文艺演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4559760" y="4267080"/>
            <a:ext cx="5036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为使整个活动调性统一，无论从礼仪小姐还是活动服务人员都身著汉服为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宾服务。文艺演出以中国传统乐器演奏及一些新兴的中式表演形式为主，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整个活动协调统一又不沉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843120" y="5460840"/>
            <a:ext cx="825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★</a:t>
            </a:r>
            <a:r>
              <a:rPr b="0" lang="en-US" sz="2000" spc="-1" strike="noStrike">
                <a:solidFill>
                  <a:srgbClr val="ff3300"/>
                </a:solidFill>
                <a:latin typeface="MingLiU"/>
                <a:ea typeface="MingLiU"/>
              </a:rPr>
              <a:t>活动清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586520" y="5765760"/>
            <a:ext cx="276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猜谜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古筝、二胡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万年竹简大签名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MingLiU"/>
                <a:ea typeface="MingLiU"/>
              </a:rPr>
              <a:t>月饼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05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06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293200" y="1536840"/>
            <a:ext cx="4938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ngLiU"/>
                <a:ea typeface="MingLiU"/>
              </a:rPr>
              <a:t>灯笼（灯谜）墙：</a:t>
            </a: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在售楼部现场搭建一面灯笼墙，红红的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将整个活动现场布置出浓浓的中国味道，并在每个灯笼上面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上一个灯谜，装饰性与参与性兼具。猜中者奖励月饼一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2" descr=""/>
          <p:cNvPicPr/>
          <p:nvPr/>
        </p:nvPicPr>
        <p:blipFill>
          <a:blip r:embed="rId4"/>
          <a:stretch/>
        </p:blipFill>
        <p:spPr>
          <a:xfrm>
            <a:off x="736560" y="3059280"/>
            <a:ext cx="1790640" cy="23907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" descr=""/>
          <p:cNvPicPr/>
          <p:nvPr/>
        </p:nvPicPr>
        <p:blipFill>
          <a:blip r:embed="rId5"/>
          <a:stretch/>
        </p:blipFill>
        <p:spPr>
          <a:xfrm>
            <a:off x="3948120" y="3033720"/>
            <a:ext cx="1628640" cy="23526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"/>
          <p:cNvPicPr/>
          <p:nvPr/>
        </p:nvPicPr>
        <p:blipFill>
          <a:blip r:embed="rId6"/>
          <a:stretch/>
        </p:blipFill>
        <p:spPr>
          <a:xfrm>
            <a:off x="6616800" y="3033720"/>
            <a:ext cx="1628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15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16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Box 1"/>
          <p:cNvSpPr/>
          <p:nvPr/>
        </p:nvSpPr>
        <p:spPr>
          <a:xfrm>
            <a:off x="720360" y="3073320"/>
            <a:ext cx="6865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MingLiU"/>
                <a:ea typeface="MingLiU"/>
              </a:rPr>
              <a:t>灯谜内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2575800" y="3581280"/>
            <a:ext cx="42904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归来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词牌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嫦娥下凡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花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菊开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成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月照我还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明代人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举杯邀明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礼貌用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寂寞嫦娥舒广袖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舞蹈术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华夏共赏中秋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旅游用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度蜜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成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清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拂面中秋夜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四字常用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一轮明月挂中天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四字股市术语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举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望明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中药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月饼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电脑名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别后重团圆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影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望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《红楼梦》诗名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中秋过后又重阳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打一郑板桥诗句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答案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八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月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花好月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归有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赏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水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观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花好月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明月清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日涨盈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当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软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第二次握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语村的，《对月寓怀》：时逢三五便团圆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满把晴光护玉栏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天上一轮才捧出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人间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姓仰头看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、一节复一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132336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527840" y="1409760"/>
            <a:ext cx="31096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各式各样精美的灯笼配上迷题悬挂在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楼部，知道答案的来宾可以撕下迷题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并到灯谜兑奖区说出答案，回答正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来宾更可以获得精美礼品一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4"/>
          <a:stretch/>
        </p:blipFill>
        <p:spPr>
          <a:xfrm>
            <a:off x="5834160" y="1244520"/>
            <a:ext cx="273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" descr=""/>
          <p:cNvPicPr/>
          <p:nvPr/>
        </p:nvPicPr>
        <p:blipFill>
          <a:blip r:embed="rId1"/>
          <a:stretch/>
        </p:blipFill>
        <p:spPr>
          <a:xfrm>
            <a:off x="76320" y="6397560"/>
            <a:ext cx="8999280" cy="88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" descr=""/>
          <p:cNvPicPr/>
          <p:nvPr/>
        </p:nvPicPr>
        <p:blipFill>
          <a:blip r:embed="rId2"/>
          <a:stretch/>
        </p:blipFill>
        <p:spPr>
          <a:xfrm>
            <a:off x="7142040" y="6081840"/>
            <a:ext cx="1646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5" name="矩形 1"/>
          <p:cNvGrpSpPr/>
          <p:nvPr/>
        </p:nvGrpSpPr>
        <p:grpSpPr>
          <a:xfrm>
            <a:off x="66600" y="420840"/>
            <a:ext cx="7077240" cy="207720"/>
            <a:chOff x="66600" y="420840"/>
            <a:chExt cx="7077240" cy="207720"/>
          </a:xfrm>
        </p:grpSpPr>
        <p:pic>
          <p:nvPicPr>
            <p:cNvPr id="126" name="矩形 1" descr=""/>
            <p:cNvPicPr/>
            <p:nvPr/>
          </p:nvPicPr>
          <p:blipFill>
            <a:blip r:embed="rId3"/>
            <a:stretch/>
          </p:blipFill>
          <p:spPr>
            <a:xfrm>
              <a:off x="66600" y="420840"/>
              <a:ext cx="70772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6320" y="423720"/>
              <a:ext cx="706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1"/>
          <p:cNvSpPr/>
          <p:nvPr/>
        </p:nvSpPr>
        <p:spPr>
          <a:xfrm>
            <a:off x="875880" y="2006640"/>
            <a:ext cx="6865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MingLiU"/>
                <a:ea typeface="MingLiU"/>
              </a:rPr>
              <a:t>灯谜内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917720" y="2502000"/>
            <a:ext cx="60325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同心改革为祖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一弯月照枝头亮，两颗星悬天下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心已决断不宜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休把旁人抬太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十五的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成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正大光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一轮明月挂中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股票术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高位盘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举头望明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电影演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电影演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敢上九天揽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汽车名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凌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得月楼前先得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云破眉月倚西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明月松间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摄影名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黑白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月落日出雁阵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九月初三月似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饮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珍珠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节日晚会露一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双泪落君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）重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猜一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ingLiU"/>
                <a:ea typeface="MingLiU"/>
              </a:rPr>
              <a:t>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42240" y="939960"/>
            <a:ext cx="140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gLiU"/>
                <a:ea typeface="MingLiU"/>
              </a:rPr>
              <a:t>五、现场布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93240" y="5473800"/>
            <a:ext cx="3254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黑体"/>
                <a:ea typeface="黑体"/>
              </a:rPr>
              <a:t>灯谜内容随时可以补换、增加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4"/>
          <a:stretch/>
        </p:blipFill>
        <p:spPr>
          <a:xfrm>
            <a:off x="7199280" y="412920"/>
            <a:ext cx="19414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51:09Z</dcterms:created>
  <dc:creator>yuan zhang</dc:creator>
  <dc:description/>
  <dc:language>en-US</dc:language>
  <cp:lastModifiedBy>yuan zhang</cp:lastModifiedBy>
  <dcterms:modified xsi:type="dcterms:W3CDTF">2013-08-19T09:24:03Z</dcterms:modified>
  <cp:revision>4</cp:revision>
  <dc:subject/>
  <dc:title>PowerPoint 演示文稿</dc:title>
</cp:coreProperties>
</file>