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9D02-6776-4FEC-AF80-AEFC811CF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4AB1-8B00-4507-B357-1007FA6E9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FB35-7C7D-4B8E-8B63-E9B5B0A3B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CBE31-7191-4592-B00B-8B22B62814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E345-1E0A-4F1F-8858-CB9897EB32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7CC5-9945-4DA5-B504-8170078AC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A04E-67FB-42F0-A4C3-5B7B0BFB4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663A-8E2E-4C28-B0C0-8EFA719CA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47F2-456F-44B1-BC97-FF989DF77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4A7E-C792-4099-8A37-D2A393B00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31D56-5BA3-43EF-9994-5635AA55A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0696-A5B4-4E6A-801F-0F5100053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9410760" y="6552720"/>
            <a:ext cx="495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17B8-3CD8-4E4D-9164-26F1296A9D53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914400" y="1905120"/>
            <a:ext cx="81154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0000"/>
                </a:solidFill>
                <a:latin typeface="Times New Roman"/>
                <a:ea typeface="方正粗倩简体"/>
              </a:rPr>
              <a:t>万科城市</a:t>
            </a:r>
            <a:r>
              <a:rPr b="0" i="1" lang="zh-CN" sz="4800" spc="-1" strike="noStrike">
                <a:solidFill>
                  <a:srgbClr val="000000"/>
                </a:solidFill>
                <a:latin typeface="Times New Roman"/>
                <a:ea typeface="方正粗倩简体"/>
              </a:rPr>
              <a:t>1</a:t>
            </a:r>
            <a:r>
              <a:rPr b="0" i="1" lang="zh-CN" sz="4800" spc="-1" strike="noStrike">
                <a:solidFill>
                  <a:srgbClr val="000000"/>
                </a:solidFill>
                <a:latin typeface="Times New Roman"/>
                <a:ea typeface="方正粗倩简体"/>
              </a:rPr>
              <a:t>道星月迷情邀月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活动策划方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48A6-2197-41DA-BAF7-F813F740A8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4267080"/>
            <a:ext cx="4800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巧手妙制私家月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来宾在老师傅的指导下自造美味月饼，       过后工作人员将半成品月饼送往月饼加工      厂，烘烤并包装成精美礼盒回赠参加活动      的来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67280" y="914400"/>
            <a:ext cx="3124440" cy="2222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943600" y="33526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120" y="762120"/>
            <a:ext cx="49086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自制月饼速成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邀请造饼师傅给大家示范了月饼的做法，先在桌子上撒点面粉，然后将饼皮擀成圆块，再将馅料放入饼皮中，边转边往上拢，直到包住馅料，把面团弄成一个圆柱形，然后往雕花模具里撒点面粉，接着把做好的面团放入模具中，两手使劲压面团，让其整个填充在模具里，再拿着木质把手向左右轻磕一下，再向下一磕，印上字的月饼就诞生了，前后不过几分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B730-1EB5-4F18-AAA8-E1411CF864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05640" y="4572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三）赏月醉迷美食大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371600"/>
            <a:ext cx="4419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参加办法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所有来宾凭入场券均可免费品尝赏月美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日期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供应时间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9:30~21: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内容：在普天同庆的佳节，所有来宾聚集在万科城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道赏月观星，现场更设置了一系列精美的赏月美食供现场所有的来宾免费品尝，如：晶莹剔透的水晶葡萄、香甜美味的香蕉、可口的花生等等，务求让所有来宾感受最真、享受最好的迎月夜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3429000" cy="337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B138-48F5-43E9-AAB2-8E309D91AD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10960" y="6858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四）歌舞升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1523880"/>
            <a:ext cx="8458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日期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表演时间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9:00~21: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内容：中国传统的节日，有美食又怎么可以缺少精彩的表演呢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活动当天，邀请具有中国传统艺术的演出如星月凤伶、中国民间舞蹈及时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世纪风暴二人组合，精彩的节目必定让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所有来宾目不暇及，乐而忘返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586B-3020-48DC-BAB9-6107A047FE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723960"/>
            <a:ext cx="47242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星月凤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善于利用中国传统乐器演奏优美音乐的女子组合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中国民间舞蹈（女子群舞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两脚踏地出声做为节奏，边歌边舞，是中国古代很流行的一种舞蹈形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风暴二人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时尚的劲舞将活动推向高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086600" y="533520"/>
            <a:ext cx="2406600" cy="3047760"/>
          </a:xfrm>
          <a:prstGeom prst="rect">
            <a:avLst/>
          </a:prstGeom>
          <a:ln w="0">
            <a:noFill/>
          </a:ln>
        </p:spPr>
      </p:pic>
      <p:pic>
        <p:nvPicPr>
          <p:cNvPr id="71" name="Dsc00205" descr=""/>
          <p:cNvPicPr/>
          <p:nvPr/>
        </p:nvPicPr>
        <p:blipFill>
          <a:blip r:embed="rId2"/>
          <a:stretch/>
        </p:blipFill>
        <p:spPr>
          <a:xfrm>
            <a:off x="4892760" y="2627280"/>
            <a:ext cx="2117520" cy="3240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43000" y="380988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EA92-AEA4-4C6D-A99C-84ABD1AC48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20760" y="685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五）星月迷情齐竞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1523880"/>
            <a:ext cx="70866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追星赏月夜又怎么能没有灯谜呢？各式各样精美的灯笼配上迷题悬挂在二楼露台，知道答案的来宾可以撕下迷题，并到灯谜兑奖区说出答案，回答正确的来宾更可以获得精美礼品一份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181480" y="3054240"/>
            <a:ext cx="3886200" cy="2584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3657600" cy="265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7C4E-A5D3-4396-A56C-6F2B600EEC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38280" y="243828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a50021"/>
                </a:solidFill>
                <a:latin typeface="Arial Black"/>
                <a:ea typeface="华文细黑"/>
              </a:rPr>
              <a:t>THANK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10080" y="4038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细黑"/>
              </a:rPr>
              <a:t>我们期待为您策划一场完美的活动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44FB-6BB7-4055-9434-B24B167068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09480" y="762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活动目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066680" y="1752480"/>
            <a:ext cx="7848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通过本次活动加深黄埔区市民对万科城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道环境、规模的了解，进一步吸引更多投资者选择万科城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道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丰富黄埔区的文化活动，让黄埔区的市民以另一种方式赏月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营造万科城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道浓厚的商业气氛，为万科城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道今后的销售打下坚实的基础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强化万科品牌在黄埔市民心中的形象，加深市民对万科集团品牌忠诚度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5F2E-5EF4-4DCB-B30B-18D9F319D7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838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策划思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523880"/>
            <a:ext cx="7772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中秋佳节临近，月饼成了家家户户送礼的必备礼品，举办月饼展不但能营造万科城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道浓厚的商业氛围，更能带出浓厚的节日气氛，为人月两团圆的佳节添上完美的一笔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于普罗大众来讲，大多数都没有亲手制作月饼的经验，相信以自制月饼为活动的亮点必定能吸引更多的目标买家参加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突显万科城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道浓厚的商业氛围，促进万科城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道的销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3FFE-B752-4D85-94E7-F3469B3013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838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、活动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16002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57480" y="19810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题：万科城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道星月迷情邀月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3124080"/>
            <a:ext cx="7467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日期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时间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6:00~21: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地点：万科城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道二楼露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象：目标买家、业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101A-7E63-400E-B943-226FFE7B09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838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、活动构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1752480"/>
            <a:ext cx="66294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一）众星捧月——月饼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二）自制月饼多乐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三）赏月醉迷美食大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四）歌舞升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五）星月迷情齐竞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F3D3-DFD4-494B-B04F-E95BC698C2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0920" y="887400"/>
            <a:ext cx="14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众星捧月——月饼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81160" y="182880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古往今来，人们把月饼当作吉祥、团圆的象征。每逢中秋，皓月当空，阖家团聚，品饼赏月，谈天说地，尽享天伦之乐。月饼，又称胡饼、宫饼、小饼、月团、团圆饼等，是古代中秋祭拜月神的供品，沿传下来，便形成了中秋吃月饼的习俗。月饼，在我国有着悠久的历史。到了明代，中秋吃月饼才在民间逐渐流传。当时心灵手巧的饼师，把嫦娥奔月的神话故事作为食品艺术图案印在月饼上，使月饼成为更受人民青睐的中秋佳节的必备食品。 明代田汝成《西湖游览记》曰：“八月十五日谓中秋，民间以月饼相送，取团圆之意。”清代，月饼的制作工艺有了较大提高，品种也不断增加，供月月饼到处皆有。清代诗人袁景澜有一首颇长的《咏月饼诗》，其中有“入厨光夺霜，蒸釜气流液。揉搓细面尘，点缀胭脂迹。戚里相馈遗，节物无容忽……儿女坐团圆，杯盘散狼藉”等句，从月饼的制作、亲友间互赠月饼到设家宴及赏月，叙述无遗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3716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月饼的由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3E7D-70A4-4CBB-942A-1716C75372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8080" y="1828800"/>
            <a:ext cx="4953240" cy="15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中秋，离不开月饼，寓意人月两团圆。这次活动将万科城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道活动现场布置得充满中秋节日气氛，随处可见传统的灯笼闪烁着灯光、充满节日气氛的彩带随风飘扬。琳琅满目的月饼展示在来宾的眼前，充分将每逢中秋，皓月当空，阖家团聚，品饼赏月，谈天说地，尽享天伦之乐的情怀表露无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备注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拟邀广州著名的月饼商家东海堂、雪贝尔、圣安娜等著名连锁品牌现场售卖月饼。万科企业不但免费向月饼商家提供场地，更向月饼商家购置一定量的月饼送赠来宾，此举不但加强了月饼商家在黄埔地区的宣传，更进一步促进了月饼的销售，，同时营造万科城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道浓厚的商业气氛，实现三赢的局面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33520"/>
            <a:ext cx="31244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活动内容——月饼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日期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时间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6:00~21: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5880" y="1104840"/>
            <a:ext cx="3505320" cy="2324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95880" y="3809880"/>
            <a:ext cx="3429000" cy="234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37A7-44C9-4D9F-9E65-42FE90FDA2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990720"/>
            <a:ext cx="7543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意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突显万科集团重视传统文化，在中秋佳节为黄埔区的居民带来丰富精彩的活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丰富黄埔区市民的娱乐生活，让万科城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道成为黄埔区居民假日旅游的好去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渲染万科城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道浓厚的商业氛围，展现万科城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道潜在的无限商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7D6B-3F03-4E48-852D-8D2B2BD0EF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19240" y="6620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自制月饼多乐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828800"/>
            <a:ext cx="5105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活动日期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活动时间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9:00~21: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参加办法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所有来宾凭入场券均可免费体验自制月饼的无限乐趣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248520" y="1609560"/>
            <a:ext cx="3247920" cy="363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1C6C-54DD-4565-8502-7B181366B3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2:14:24Z</dcterms:created>
  <dc:creator/>
  <dc:description/>
  <dc:language>en-US</dc:language>
  <cp:lastModifiedBy>gs</cp:lastModifiedBy>
  <dcterms:modified xsi:type="dcterms:W3CDTF">2006-05-15T03:44:40Z</dcterms:modified>
  <cp:revision>0</cp:revision>
  <dc:subject/>
  <dc:title/>
</cp:coreProperties>
</file>