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7.png" ContentType="image/png"/>
  <Override PartName="/ppt/media/image34.jpeg" ContentType="image/jpeg"/>
  <Override PartName="/ppt/media/image11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94D0-9DC5-4850-9CAE-A045CD73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D3B-6085-4433-AA9B-510E0DF4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5CB7-6468-4D5E-82FC-BB60593C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A782-126B-4BB8-A093-8C0E1CA9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FEA4-8300-4A6E-BE53-0C6302F6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F7EF-CDD4-49F3-8AC4-0338CC49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413E-9FCA-488E-A1A8-DEBA0B13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8A06-FD11-4E32-A245-45E1E9DD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D89A-9DF2-4B30-9785-ACB134F9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0303-87EC-409D-B440-0D8D1860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8E2E-EEE3-4817-A619-F0F8B4BC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F54A-1771-4F63-970C-32C59253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2677-FD89-4EDF-A9EF-1C719067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CC8E-3D93-4C3C-88DB-9D8FBDCF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45A5-04BF-4C8C-9D90-5C657A60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53B2-F1E4-4AD7-8C8B-D0E15D90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63A2-9356-4DF9-BA72-616032D4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4535A-B763-4047-9827-33CBC011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E615A-B560-455E-863D-F9739493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1E073-85AC-416C-96BC-AFD54968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37D50-F67D-4CDA-B846-308D3DBC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94F5-9F87-4AF9-A1A9-98B37B44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6369-5214-4C01-A06F-85E903B9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6D14A-6EA5-424E-8EB2-35EC3E01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94E65-DB78-4B5D-94D7-1F3181CA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39718-2444-47EF-B50D-BDD96FF3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38950-1813-4BCB-A980-F3CD213B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B0B9F-6E2F-46F9-BF96-80165E3D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A2ACE-35F0-4E10-A096-30759243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0B52F-7794-49DB-8C49-357BDDF2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3DBD-EA2E-45C1-BD31-D69E665D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90F-887F-47B8-9E92-0BA0B154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28A-1E27-4325-B685-5CC6E4BB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82C-1EE0-4D68-8EBA-4F1230C5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C5D-F3D2-44B6-8DDF-6A2DDE9E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DAD-96EF-4F9F-842D-DA5D7D3B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2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5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pic>
        <p:nvPicPr>
          <p:cNvPr id="7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F255-3BC4-4B10-8350-341AEAFC2D3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369F-432B-4152-B22E-8C37DD8E0E6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20B6-C332-49F6-8B9F-9A7B694EB27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1b36"/>
                </a:solidFill>
                <a:latin typeface="Maiandra GD"/>
              </a:rPr>
              <a:t>未 成 年 人</a:t>
            </a:r>
            <a:br>
              <a:rPr sz="8000"/>
            </a:br>
            <a:r>
              <a:rPr b="0" lang="zh-CN" sz="8000" spc="-1" strike="noStrike">
                <a:solidFill>
                  <a:srgbClr val="001b36"/>
                </a:solidFill>
                <a:latin typeface="Maiandra GD"/>
              </a:rPr>
              <a:t>法 制 宣 传 讲 座</a:t>
            </a:r>
            <a:endParaRPr b="0" lang="en-US" sz="80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286000" y="5105520"/>
            <a:ext cx="667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江干区人民法院刑事审判庭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未成年人拥有以下权利：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Cambria"/>
              </a:rPr>
              <a:t>生存权。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Cambria"/>
              </a:rPr>
              <a:t>发展权。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Cambria"/>
              </a:rPr>
              <a:t>受保护权。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Cambria"/>
              </a:rPr>
              <a:t>参与权。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Cambria"/>
              </a:rPr>
              <a:t>受教育权。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158" name="内容占位符 7" descr="xin_50208032513014211194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未成年人受到以下保护：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家庭保护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案例：小明的爸爸突击检查他的作业，发现小明有一次语文作业没有完成，就打了他。小明用手去挡，小明爸爸更加生气而将小明暴打一顿，边打边说：“叫你不做作业。你是我生的，我想怎么打就怎么打。”当天，小明爸爸为了惩罚还不让小明吃晚饭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问：小明爸爸的做法对吗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Cambria"/>
              </a:rPr>
              <a:t>答：小明爸爸的做法是错误的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根据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中华人民共和国未成年人保护法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的规定，家长不能再随便打骂孩子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未成年人受到以下保护：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禁止对未成年人实施家庭暴力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禁止虐待、遗弃未成年人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禁止溺婴和残害婴儿的行为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不得歧视女性未成年人和有残疾的未成年人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应当尊重未成年人受教育的权利，必须使适龄未成年人依法入学接受并完成义务教育，不得使接受义务教育的未成年人辍学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166" name="内容占位符 5" descr="04.jpg"/>
          <p:cNvPicPr/>
          <p:nvPr/>
        </p:nvPicPr>
        <p:blipFill>
          <a:blip r:embed="rId1"/>
          <a:stretch/>
        </p:blipFill>
        <p:spPr>
          <a:xfrm>
            <a:off x="2000160" y="142920"/>
            <a:ext cx="457200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168" name="内容占位符 3" descr="11.jpg"/>
          <p:cNvPicPr/>
          <p:nvPr/>
        </p:nvPicPr>
        <p:blipFill>
          <a:blip r:embed="rId1"/>
          <a:stretch/>
        </p:blipFill>
        <p:spPr>
          <a:xfrm>
            <a:off x="1428840" y="428760"/>
            <a:ext cx="5429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未成年人受到以下保护：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华文楷体"/>
              </a:rPr>
              <a:t>2.</a:t>
            </a:r>
            <a:r>
              <a:rPr b="0" lang="zh-CN" sz="3500" spc="-1" strike="noStrike">
                <a:solidFill>
                  <a:srgbClr val="000000"/>
                </a:solidFill>
                <a:latin typeface="华文楷体"/>
              </a:rPr>
              <a:t>学校保护：</a:t>
            </a:r>
            <a:endParaRPr b="0" lang="en-US" sz="35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案例二：小红是独生子女，从小娇惯任性。有一次她在语文课王老师上课期间与同桌大声说话，无理取闹，王老师制止时，又与老师蛮缠。下课后王老师将小红叫到宿舍内批评，小红不服争辩，王老师便打了小红两个耳光，并说小红是猪脑子，读什么都读不好，将小红关在宿舍直到晚上六点才她回家，使小红下一节英语课没上着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</a:rPr>
              <a:t>问：小红的做法有没有错误？王老师的做法又对吗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答：小红上课不专心听讲，又与老师胡搅蛮缠，不尊师重教，有错在先，应该向王老师承认错误，赔礼道歉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但是王老师打学生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耳光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并侮辱小红，是侵犯学生人身权利行为，致使小红一节课没上，是侵犯了学生受教育权的行为。她的做法也是错误的，应承担相应的法律责任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学校不得违反国家和法律规定开除未成年学生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老师要尊重未成年人的人格尊严，不得对未成年人实施体罚、变相体罚或其他侮辱人格尊严的行为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要保证未成年学生的睡眠、娱乐和体育锻炼时间，不得加重其学习负担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mbria"/>
              </a:rPr>
              <a:t>一、法的概念和含义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34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mbria"/>
              </a:rPr>
              <a:t>二、未成年人保护法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34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mbria"/>
              </a:rPr>
              <a:t>三、预防未成年人犯罪法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176" name="内容占位符 3" descr="20100415150543112.jpg"/>
          <p:cNvPicPr/>
          <p:nvPr/>
        </p:nvPicPr>
        <p:blipFill>
          <a:blip r:embed="rId1"/>
          <a:stretch/>
        </p:blipFill>
        <p:spPr>
          <a:xfrm>
            <a:off x="714240" y="285840"/>
            <a:ext cx="6000840" cy="61992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4"/>
          <p:cNvSpPr/>
          <p:nvPr/>
        </p:nvSpPr>
        <p:spPr>
          <a:xfrm>
            <a:off x="7581240" y="571680"/>
            <a:ext cx="606960" cy="58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</a:rPr>
              <a:t>老师辱骂学生将受到惩处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179" name="内容占位符 3" descr="14.jpg"/>
          <p:cNvPicPr/>
          <p:nvPr/>
        </p:nvPicPr>
        <p:blipFill>
          <a:blip r:embed="rId1"/>
          <a:stretch/>
        </p:blipFill>
        <p:spPr>
          <a:xfrm>
            <a:off x="1785960" y="0"/>
            <a:ext cx="514332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181" name="内容占位符 3" descr="201006110958461492.jpg"/>
          <p:cNvPicPr/>
          <p:nvPr/>
        </p:nvPicPr>
        <p:blipFill>
          <a:blip r:embed="rId1"/>
          <a:stretch/>
        </p:blipFill>
        <p:spPr>
          <a:xfrm>
            <a:off x="1285920" y="0"/>
            <a:ext cx="628632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未成年人受到以下保护：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Cambria"/>
              </a:rPr>
              <a:t>社会保护。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mbria"/>
              </a:rPr>
              <a:t>博物馆、纪念馆、科技馆、文化馆、影剧院、体育场（馆）、动物园、公园等场所，对中小学生优惠开放。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mbria"/>
              </a:rPr>
              <a:t>营业性舞厅、网吧等不适宜未成年人活动的场所，不得允许未成年人进入。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mbria"/>
              </a:rPr>
              <a:t>不得向未成年人出售烟酒以及传播淫秽、暴力、凶杀、恐怖、赌博等毒害未成年人的图书、报刊、音像制品等。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mbria"/>
              </a:rPr>
              <a:t>任何组织或者个人不得披露未成年人的个人隐私。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185" name="内容占位符 3" descr="xinsrc_12208032322290622878394.jpg"/>
          <p:cNvPicPr/>
          <p:nvPr/>
        </p:nvPicPr>
        <p:blipFill>
          <a:blip r:embed="rId1"/>
          <a:stretch/>
        </p:blipFill>
        <p:spPr>
          <a:xfrm>
            <a:off x="1000080" y="243000"/>
            <a:ext cx="635796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187" name="内容占位符 3" descr="23.jpg"/>
          <p:cNvPicPr/>
          <p:nvPr/>
        </p:nvPicPr>
        <p:blipFill>
          <a:blip r:embed="rId1"/>
          <a:stretch/>
        </p:blipFill>
        <p:spPr>
          <a:xfrm>
            <a:off x="1785960" y="214200"/>
            <a:ext cx="5643720" cy="633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189" name="内容占位符 3" descr="29.jpg"/>
          <p:cNvPicPr/>
          <p:nvPr/>
        </p:nvPicPr>
        <p:blipFill>
          <a:blip r:embed="rId1"/>
          <a:stretch/>
        </p:blipFill>
        <p:spPr>
          <a:xfrm>
            <a:off x="1785960" y="285840"/>
            <a:ext cx="450072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191" name="内容占位符 3" descr="bf4875630a275d060c33facf.jpg"/>
          <p:cNvPicPr/>
          <p:nvPr/>
        </p:nvPicPr>
        <p:blipFill>
          <a:blip r:embed="rId1"/>
          <a:stretch/>
        </p:blipFill>
        <p:spPr>
          <a:xfrm>
            <a:off x="1143000" y="285840"/>
            <a:ext cx="6357960" cy="52927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5"/>
          <p:cNvSpPr/>
          <p:nvPr/>
        </p:nvSpPr>
        <p:spPr>
          <a:xfrm>
            <a:off x="857160" y="557208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不得侵犯和披露未成年人的个人隐私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未成年人受到以下保护：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Cambria"/>
              </a:rPr>
              <a:t>司法保护。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c00000"/>
                </a:solidFill>
                <a:latin typeface="Cambria"/>
              </a:rPr>
              <a:t>十四周岁以上不满十六周岁</a:t>
            </a:r>
            <a:r>
              <a:rPr b="0" lang="zh-CN" sz="3000" spc="-1" strike="noStrike">
                <a:solidFill>
                  <a:srgbClr val="000000"/>
                </a:solidFill>
                <a:latin typeface="Cambria"/>
              </a:rPr>
              <a:t>的未成年人犯罪的案件，一律不公开审理。</a:t>
            </a:r>
            <a:r>
              <a:rPr b="0" lang="zh-CN" sz="3000" spc="-1" strike="noStrike">
                <a:solidFill>
                  <a:srgbClr val="c00000"/>
                </a:solidFill>
                <a:latin typeface="Cambria"/>
              </a:rPr>
              <a:t>十六周岁以上不满十八周岁</a:t>
            </a:r>
            <a:r>
              <a:rPr b="0" lang="zh-CN" sz="3000" spc="-1" strike="noStrike">
                <a:solidFill>
                  <a:srgbClr val="000000"/>
                </a:solidFill>
                <a:latin typeface="Cambria"/>
              </a:rPr>
              <a:t>的未成年人犯罪的案件，一般也不公开审理。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mbria"/>
              </a:rPr>
              <a:t>在司法活动中对未成年人，法律援助机构或者人民法院应当给予帮助，依法为其提供法律援助或者司法救助。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mbria"/>
              </a:rPr>
              <a:t>对违法犯罪的未成年人，实行教育、感化、挽救的方针，坚持教育为主、惩罚为辅的原则。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三、预防未成年人犯罪法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196" name="内容占位符 3" descr="2964332.jpg"/>
          <p:cNvPicPr/>
          <p:nvPr/>
        </p:nvPicPr>
        <p:blipFill>
          <a:blip r:embed="rId1"/>
          <a:stretch/>
        </p:blipFill>
        <p:spPr>
          <a:xfrm>
            <a:off x="642960" y="1428840"/>
            <a:ext cx="3571920" cy="46195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4714920" y="1357200"/>
            <a:ext cx="4143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1999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日第九届全国人民代表大会常务委员会第十次会议通过，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1999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日中华人民共和国主席令第十七号公布，自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1999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日起施行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这是世界上第一部预防犯罪的专门法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一、法的概念和含义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3250800" y="1571760"/>
            <a:ext cx="2367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000000"/>
                </a:solidFill>
                <a:latin typeface="Cambria"/>
              </a:rPr>
              <a:t>灋</a:t>
            </a:r>
            <a:endParaRPr b="0" lang="en-US" sz="287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7" name="矩形 5" descr=""/>
          <p:cNvPicPr/>
          <p:nvPr/>
        </p:nvPicPr>
        <p:blipFill>
          <a:blip r:embed="rId1"/>
          <a:stretch/>
        </p:blipFill>
        <p:spPr>
          <a:xfrm>
            <a:off x="-23760" y="2706840"/>
            <a:ext cx="2303280" cy="1590480"/>
          </a:xfrm>
          <a:prstGeom prst="rect">
            <a:avLst/>
          </a:prstGeom>
          <a:ln w="0">
            <a:noFill/>
          </a:ln>
        </p:spPr>
      </p:pic>
      <p:pic>
        <p:nvPicPr>
          <p:cNvPr id="138" name="矩形 6" descr=""/>
          <p:cNvPicPr/>
          <p:nvPr/>
        </p:nvPicPr>
        <p:blipFill>
          <a:blip r:embed="rId2"/>
          <a:stretch/>
        </p:blipFill>
        <p:spPr>
          <a:xfrm>
            <a:off x="6838920" y="2637000"/>
            <a:ext cx="2305080" cy="1590480"/>
          </a:xfrm>
          <a:prstGeom prst="rect">
            <a:avLst/>
          </a:prstGeom>
          <a:ln w="0">
            <a:noFill/>
          </a:ln>
        </p:spPr>
      </p:pic>
      <p:sp>
        <p:nvSpPr>
          <p:cNvPr id="139" name="右箭头 7"/>
          <p:cNvSpPr/>
          <p:nvPr/>
        </p:nvSpPr>
        <p:spPr>
          <a:xfrm>
            <a:off x="6072120" y="335772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477ab1"/>
          </a:solidFill>
          <a:ln w="255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左箭头 9"/>
          <p:cNvSpPr/>
          <p:nvPr/>
        </p:nvSpPr>
        <p:spPr>
          <a:xfrm>
            <a:off x="1857240" y="3429000"/>
            <a:ext cx="978120" cy="48420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477ab1"/>
          </a:solidFill>
          <a:ln w="255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未成年人应杜绝以下不良行为：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旷课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00" name="图片 3" descr="100713041916.jpg"/>
          <p:cNvPicPr/>
          <p:nvPr/>
        </p:nvPicPr>
        <p:blipFill>
          <a:blip r:embed="rId1"/>
          <a:stretch/>
        </p:blipFill>
        <p:spPr>
          <a:xfrm>
            <a:off x="3286080" y="1928880"/>
            <a:ext cx="5667480" cy="437976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357120" y="23572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mbria"/>
              </a:rPr>
              <a:t>未成年人不得旷课。旷课是一种不良的行为，不利于未成年人正常受教育和健康成长，未成年人经常旷课，容易与社会不良少年厮混在一起，走上违法犯罪的道路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夜不归宿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04" name="图片 3" descr="2009061010570486152.jpg"/>
          <p:cNvPicPr/>
          <p:nvPr/>
        </p:nvPicPr>
        <p:blipFill>
          <a:blip r:embed="rId1"/>
          <a:stretch/>
        </p:blipFill>
        <p:spPr>
          <a:xfrm>
            <a:off x="3214800" y="1143000"/>
            <a:ext cx="5638680" cy="43578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714240" y="185724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夜不归宿不仅容易使未成年人受坏人引诱而走上犯罪道路，而且往往由于孤立无援成为犯罪者的攻击对象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携带管制刀具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08" name="图片 3" descr="001aa0c635e90f466d4802.jpg"/>
          <p:cNvPicPr/>
          <p:nvPr/>
        </p:nvPicPr>
        <p:blipFill>
          <a:blip r:embed="rId1"/>
          <a:stretch/>
        </p:blipFill>
        <p:spPr>
          <a:xfrm>
            <a:off x="3076560" y="1500120"/>
            <a:ext cx="6067440" cy="40575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357120" y="185724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mbria"/>
              </a:rPr>
              <a:t>携带管制刀具是未成年人的不良行为，危害很大。未成年人容易在嬉戏时或者一时冲动而伤害到身边的人，若被其他人抢去也容易伤害到自己。所以必须严格禁止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案例：学生陈某，出于好奇，在地摊上买了一把弹簧刀。一天，他与同学小于一起去学校，途中二人因口角而扭打，身单力薄的陈某争不过身高马大的小于，情急之下，抽出弹簧刀向小于扎去。小于顿时血流如注，躺倒在地，后经抢救无效死亡。陈某被依法追究刑事责任，被送入少年犯管教所服刑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打架斗殴、辱骂他人。　　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14" name="图片 3" descr="2009061010571942569.jpg"/>
          <p:cNvPicPr/>
          <p:nvPr/>
        </p:nvPicPr>
        <p:blipFill>
          <a:blip r:embed="rId1"/>
          <a:stretch/>
        </p:blipFill>
        <p:spPr>
          <a:xfrm>
            <a:off x="3411360" y="1428840"/>
            <a:ext cx="5732640" cy="44290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714240" y="17146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mbria"/>
              </a:rPr>
              <a:t>未成年人由于身心发育还不够完善，容易情绪激动，做事不计后果。平常的打架斗殴、辱骂他人很容易演变成恶性刑事案件。所以严格禁止大家斗殴、辱骂他人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强行向他人索要财物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18" name="图片 3" descr="20070915094642578.jpg"/>
          <p:cNvPicPr/>
          <p:nvPr/>
        </p:nvPicPr>
        <p:blipFill>
          <a:blip r:embed="rId1"/>
          <a:stretch/>
        </p:blipFill>
        <p:spPr>
          <a:xfrm>
            <a:off x="3143160" y="1428840"/>
            <a:ext cx="5824800" cy="45003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428760" y="200016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强行向他人索要财物的行为，情节严重的，会构成敲诈勒索罪或者抢劫罪，要追究相应的法律责任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偷窃、故意毁坏财物。　　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22" name="图片 3" descr="00219b80c6790baa5b8101.jpg"/>
          <p:cNvPicPr/>
          <p:nvPr/>
        </p:nvPicPr>
        <p:blipFill>
          <a:blip r:embed="rId1"/>
          <a:stretch/>
        </p:blipFill>
        <p:spPr>
          <a:xfrm>
            <a:off x="2928960" y="1500120"/>
            <a:ext cx="6060960" cy="40006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428760" y="17146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mbria"/>
              </a:rPr>
              <a:t>偷窃容易使未成年人养成不劳而获的恶性，从而诱导其他违法犯罪活动。故意毁坏财物即违反社会公德，又触犯了法律，不利于未成年人的成长。所以必须杜绝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2876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参与赌博或者变相赌博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26" name="图片 3" descr="20090309093058816.jpg"/>
          <p:cNvPicPr/>
          <p:nvPr/>
        </p:nvPicPr>
        <p:blipFill>
          <a:blip r:embed="rId1"/>
          <a:stretch/>
        </p:blipFill>
        <p:spPr>
          <a:xfrm>
            <a:off x="3429000" y="1571760"/>
            <a:ext cx="5497560" cy="42145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571680" y="185724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未成年人参与赌博会影响学业，加重个人和家庭的经济负担，容易诱发其他如盗窃、抢夺、抢劫等犯罪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案例：</a:t>
            </a: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岁的赵佳在假期结识了一些社会上的不良分子，并在他们的诱惑下多次参与赌博，还欠下</a:t>
            </a: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500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多元赌债。为了偿还赌债，赵佳多次手持三棱刮刀，强行劫取</a:t>
            </a: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名小学生的财物，得赃款人民币</a:t>
            </a: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400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余元。人民法院认定赵佳犯了抢劫罪，依法判处有期徒刑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5712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8.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观看、收听色情、淫秽、暴力、迷信等音像制品、读物等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2" name="图片 3" descr="10616991_814840.jpg"/>
          <p:cNvPicPr/>
          <p:nvPr/>
        </p:nvPicPr>
        <p:blipFill>
          <a:blip r:embed="rId1"/>
          <a:stretch/>
        </p:blipFill>
        <p:spPr>
          <a:xfrm>
            <a:off x="3643200" y="2000160"/>
            <a:ext cx="5000760" cy="44449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4"/>
          <p:cNvSpPr/>
          <p:nvPr/>
        </p:nvSpPr>
        <p:spPr>
          <a:xfrm>
            <a:off x="785880" y="235728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未成年人经常接触色情、暴力、迷信等不良信息，容易影响身心的健康发展。引诱其他违法犯罪活动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7" descr="0723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31f2f"/>
                </a:solidFill>
                <a:latin typeface="Maiandra GD"/>
              </a:rPr>
              <a:t>水：平之如水，从水</a:t>
            </a:r>
            <a:r>
              <a:rPr b="0" lang="zh-CN" sz="6000" spc="-1" strike="noStrike">
                <a:solidFill>
                  <a:srgbClr val="001b36"/>
                </a:solidFill>
                <a:latin typeface="Maiandra GD"/>
              </a:rPr>
              <a:t>。</a:t>
            </a:r>
            <a:endParaRPr b="0" lang="en-US" sz="60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5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mbria"/>
              </a:rPr>
              <a:t>水代表法的“公平”。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2876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进入法律、法规规定未成年人不适宜进入的场所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6" name="图片 3" descr="ccm2006-2-15_12.jpg"/>
          <p:cNvPicPr/>
          <p:nvPr/>
        </p:nvPicPr>
        <p:blipFill>
          <a:blip r:embed="rId1"/>
          <a:stretch/>
        </p:blipFill>
        <p:spPr>
          <a:xfrm>
            <a:off x="3500280" y="1928880"/>
            <a:ext cx="5239080" cy="39290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4"/>
          <p:cNvSpPr/>
          <p:nvPr/>
        </p:nvSpPr>
        <p:spPr>
          <a:xfrm>
            <a:off x="571680" y="200016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mbria"/>
              </a:rPr>
              <a:t>这些场所有营业性舞厅、酒吧、夜总会、游戏厅、台球室、网吧等等。尤其是在假期，空余时间多，同学们更要警惕进入这些场所，以免受这些场所内的不良社会人士的影响，走上违法犯罪的道路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案例：李某上初一时阳光、健康、学习好，还担任了班长，学会上网后逐渐成瘾，并且有了早恋的女友，再没有心思安心学习。当过兵的父亲气极而怒，屡次打骂也没能把孩子从“网瘾”中拉出来，相反严管之下的李键产生了严重的逆反心理，在一次和父亲发生激烈的冲突后，用榔头锤杀了生养他的爸爸妈妈。当刑警到抓捕李某时，他依旧安然地坐在网吧里上网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10.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吸烟酗酒、吸食毒品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2" name="图片 3" descr="0043417.jpg"/>
          <p:cNvPicPr/>
          <p:nvPr/>
        </p:nvPicPr>
        <p:blipFill>
          <a:blip r:embed="rId1"/>
          <a:stretch/>
        </p:blipFill>
        <p:spPr>
          <a:xfrm>
            <a:off x="3000240" y="1714680"/>
            <a:ext cx="5905800" cy="44877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642960" y="20718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mbria"/>
              </a:rPr>
              <a:t>吸烟酗酒以及吸毒严重摧残青少年的身心健康。尤其是吸食毒品，青少年更容易形成生理和精神上的依赖性，欲罢不能，使家庭陷入经济危机，甚至导致家破人亡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mbria"/>
              </a:rPr>
              <a:t>案例：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6</a:t>
            </a:r>
            <a:r>
              <a:rPr b="0" lang="zh-CN" sz="3000" spc="-1" strike="noStrike">
                <a:solidFill>
                  <a:srgbClr val="000000"/>
                </a:solidFill>
                <a:latin typeface="Cambria"/>
              </a:rPr>
              <a:t>岁的男孩小华虽然从小爱玩好动，但学习成绩还算不错。这个年纪的孩子，爱打游戏机的挺多，小华也不例外。一次，在游戏机房里，小华认识了一群“哥们”。他们掏出一种白色粉末，围坐在那里吸，一副“飘飘欲仙”的样子，一下子就引起了小华的好奇。当“哥们”怂恿他尝一口时，小华毫不犹豫地伸出了手。有了第一次，就有了第二次、第三次。后来，为了弄钱吸毒，小华开始学会说谎，学也没心思上了，甚至骗起低年级同学的钱。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未成年人吸毒主要有以下诱因：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之一：无知好奇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之二：上当受骗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之三：误将吸毒视为“时髦”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之四：来自周围的不良影响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之五：受挫后逃避现实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之六：不正常的逆反心理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249" name="内容占位符 3" descr="201082144494681.jpg"/>
          <p:cNvPicPr/>
          <p:nvPr/>
        </p:nvPicPr>
        <p:blipFill>
          <a:blip r:embed="rId1"/>
          <a:stretch/>
        </p:blipFill>
        <p:spPr>
          <a:xfrm>
            <a:off x="428760" y="357120"/>
            <a:ext cx="842940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d0721c"/>
                </a:solidFill>
                <a:latin typeface="华文琥珀"/>
                <a:ea typeface="华文琥珀"/>
              </a:rPr>
              <a:t>放映结束！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d0721c"/>
                </a:solidFill>
                <a:latin typeface="华文琥珀"/>
                <a:ea typeface="华文琥珀"/>
              </a:rPr>
              <a:t>谢谢大家！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d0721c"/>
                </a:solidFill>
                <a:latin typeface="华文琥珀"/>
                <a:ea typeface="华文琥珀"/>
              </a:rPr>
              <a:t>同学们寒假愉快！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廌：也称“獬豸”，古代传说中的异兽，能辩是非曲直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145" name="矩形 5" descr=""/>
          <p:cNvPicPr/>
          <p:nvPr/>
        </p:nvPicPr>
        <p:blipFill>
          <a:blip r:embed="rId1"/>
          <a:stretch/>
        </p:blipFill>
        <p:spPr>
          <a:xfrm>
            <a:off x="365040" y="2798640"/>
            <a:ext cx="84074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mbria"/>
              </a:rPr>
              <a:t>獬豸，是古代传说中的异兽，体形大的像牛，小的像羊，有点像麒麟，全身长着浓密黝黑的毛，双目明亮有神，额上通常长一角，俗称“独角兽”。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mbria"/>
              </a:rPr>
              <a:t>它拥有很高的智慧，能听懂人话，识别善恶忠奸。当它发现奸邪的官员，就用角把他触倒，然后吃下肚子。当人们发生冲突或纠纷的时候，独角兽能用角指向无理的一方，甚至会将罪该万死的人用角抵死，令犯法者不寒而栗。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mbria"/>
              </a:rPr>
              <a:t>所以在古代，獬豸就成了执法公正的化身。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149" name="内容占位符 7" descr="獬豸2.jpg"/>
          <p:cNvPicPr/>
          <p:nvPr/>
        </p:nvPicPr>
        <p:blipFill>
          <a:blip r:embed="rId1"/>
          <a:stretch/>
        </p:blipFill>
        <p:spPr>
          <a:xfrm>
            <a:off x="714240" y="357120"/>
            <a:ext cx="772488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二、未成年人保护法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151" name="内容占位符 3" descr="31104828.jpg"/>
          <p:cNvPicPr/>
          <p:nvPr/>
        </p:nvPicPr>
        <p:blipFill>
          <a:blip r:embed="rId1"/>
          <a:stretch/>
        </p:blipFill>
        <p:spPr>
          <a:xfrm>
            <a:off x="500040" y="1714680"/>
            <a:ext cx="4357800" cy="4357440"/>
          </a:xfrm>
          <a:prstGeom prst="rect">
            <a:avLst/>
          </a:prstGeom>
          <a:ln w="0">
            <a:noFill/>
          </a:ln>
        </p:spPr>
      </p:pic>
      <p:pic>
        <p:nvPicPr>
          <p:cNvPr id="152" name="矩形 4" descr=""/>
          <p:cNvPicPr/>
          <p:nvPr/>
        </p:nvPicPr>
        <p:blipFill>
          <a:blip r:embed="rId2"/>
          <a:stretch/>
        </p:blipFill>
        <p:spPr>
          <a:xfrm>
            <a:off x="4243320" y="1547640"/>
            <a:ext cx="44197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未成年人的概念：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我国，未成年人是指未满</a:t>
            </a:r>
            <a:r>
              <a:rPr b="0" lang="zh-CN" sz="6000" spc="-1" strike="noStrike">
                <a:solidFill>
                  <a:srgbClr val="c00000"/>
                </a:solidFill>
                <a:latin typeface="华文中宋"/>
                <a:ea typeface="华文中宋"/>
              </a:rPr>
              <a:t>十八周岁</a:t>
            </a:r>
            <a:r>
              <a:rPr b="0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公民。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未知用户</cp:lastModifiedBy>
  <dcterms:modified xsi:type="dcterms:W3CDTF">2015-12-03T07:41:15Z</dcterms:modified>
  <cp:revision>36</cp:revision>
  <dc:subject/>
  <dc:title>青 少 年 儿 童 法 制 宣 传 讲 座</dc:title>
</cp:coreProperties>
</file>