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sldIdLst>
    <p:sldId id="256" r:id="rId14"/>
    <p:sldId id="257" r:id="rId15"/>
    <p:sldId id="25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" Target="slides/slide1.xml"/><Relationship Id="rId15" Type="http://schemas.openxmlformats.org/officeDocument/2006/relationships/slide" Target="slides/slide2.xml"/><Relationship Id="rId16" Type="http://schemas.openxmlformats.org/officeDocument/2006/relationships/slide" Target="slides/slide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3CD6D-98F0-495B-B089-5FA2614B63B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3E843A-1CBA-4CAB-9DC0-BE51AC2182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20A43EE-CC97-414C-8F45-05A6EE80B3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1D88547-0D71-447E-950A-0F1941E1EE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7869EEE-DF33-48F6-B11D-99BF060CB0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8F4D71CA-2713-46B9-8F72-73DF409A6B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692F632-7C6C-4ADF-B7C3-CA8114F97E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47CFF51-A890-4097-8FA0-17BE0DB810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C1F5629-2CEB-44E8-866C-E197695C8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5406EC7-FBEC-44F6-9CE4-442F159E5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FC4A7BE-73CB-41B8-AF70-837C114564C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0576FD-BC58-4158-9690-E5DB7CBF02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0F76AC-7793-48CA-93CD-4446D7B79C6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1DE1E95-5BF1-4510-8D3F-14B711E8F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3318F36-94AD-47F7-B09D-EF356AB165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84F512D-86EA-4A62-B3FF-E076FB918C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44648CE-A031-42E6-9C9D-35A51F0E6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A3D8739-81B5-496C-BF70-C0487B0621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FE2DD12A-C5FF-4400-96DF-DF5B1141CF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FF5A5B8-F651-4590-B40A-31266F3212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3222D82-EF86-48BC-B889-6792002ED7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9AF318C-08F7-4D23-8113-0EC32E5951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C7A888-5B83-4892-8D1A-06B89802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EE1992-37F6-4E2E-AFE9-1A71538DB3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75BC96F-6FF2-44B6-8EF7-9CAAFBFF02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C11D805-5A1B-45F2-B6CF-8106FCEE2F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C0CAFB2-93C4-41FE-874F-5F71CD0A6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56CB780-32DB-4A52-B52C-9246D85BAE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F954C-0357-456D-9EE8-E99A08DF73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D5876DC-FC3A-4E48-BDEB-1783119524E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93E4326-2567-4DC0-B1D5-C1E64CA780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D99FC22-4306-4DF4-85B2-58EF500480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D5D7D09-CDD9-4C77-AD23-9F9687A612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BD8E4127-1D42-433C-9494-C21B2410FA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E5CA4F-0BD9-4597-819A-11AD6C803F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62A694B-500C-4AB6-9F07-C7E77D1BB0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70571E6-57A6-4943-89EB-80C0CC2BE0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459508E-C747-4FED-B162-C686BD66EE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1D22662-994A-48DA-BA94-214A1797A4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D62647AC-B1FC-4C59-A754-2911B2BF4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01DBB2-0F26-4693-8AA2-C727CB9C2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9FF1D56-BC94-4E8B-A1D7-55DC48265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A2385D3-6400-41BB-B226-CF36D7720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330C863-27DF-4894-9ECB-FD6F689FBC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D6AF6-E8DF-4FE9-96E7-A2185499B3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BE9E42-E7BA-4678-80F0-07C41F2745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3A9B858-677B-4185-8ABC-9A51D8F4BF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4B9903A7-6268-404D-9DCE-D08055215F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6A9189E-624B-4E39-8E50-5BC6FB053B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F5DB4BA-CAFA-45CA-B5E8-6D5AC594B8C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15B1B6D2-5235-4980-B26C-C9E93BD36C8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CC048A7-CBCB-49DD-B9CB-3F39E9B0BA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F52A95-7475-46A0-BC31-4953EB3E13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E754FB-A1A7-40EF-85CB-8D5F094DB5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3C4CA8-D4F3-4A1A-8FD2-424FC15765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5C7499-E96E-4E75-AA2D-0990596074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4462E-2968-4D33-B631-F28B0D914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64FD5DF-9386-48D3-B047-549D4453608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74B3DC-68BD-4247-81C9-B0D32EF013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871CC-2C10-4BD5-A839-2792F721E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5AA6FB-F480-415A-A61B-378674C7FD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D019A7-46B0-411A-97AB-EA3CCC08C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B631919-78AC-4828-A8BA-2A59C3750B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491D75D-897A-4BCB-BED7-3346DEB5873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2C380-B2C1-472E-BFAE-BF4E1D1184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055299A-B611-4D2A-AC27-4F9DECBDF2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412A94B-9D34-4728-8535-8B29E81FC2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9495C3-CFF5-468E-86B5-F2B2592712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158CDF6-9931-4878-8D0F-F437408872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1BF509-E356-41F6-BB65-1283A12ABC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336B36-AEE9-47AB-8CCE-BA20B0C6B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038B199-2901-499B-92F6-2AA4C084F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84FB10E-FC44-4993-BB4E-BB461168F2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627D29-B7DC-47C7-BF95-3A5178738E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59E5F06-9F40-4489-A3EE-0B2A206EABC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0346F85-9E53-4AB0-8799-F38D553DA6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851E1CB-AFA9-4ABA-BF8A-285C369A88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7D1916-236E-4AA0-BD63-CF9DC7E33B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2858B-C065-4275-9764-C264C8B805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E74FD2A-1D01-4E4F-82CA-980F0CF0D0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C86E0D-7A12-42F4-94DF-9EBEE5932C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FF6BC4-640D-4FD6-998C-2B4AEC0610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28CA5C9-4C8B-4745-8246-47B9267D67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3D91FED-A55A-4869-B0C6-BBDDAD68BA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1E10715-EAA4-40C7-B684-26DFFF00A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2A2157-6FC8-4764-9507-AF07BC97E7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51BF3F6-71D7-4F1B-A560-DB2534D29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E1467F6-E4F0-4EF5-9B9E-E167ECAE75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7435D3-933A-4DF4-8D42-FAE21EE3DB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19788-3892-47E2-BBAF-B55A90148D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F3915BC-EA1C-45A1-ACBC-72E1FDB603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BAC3412-F7A3-4A85-9A23-BE201823C8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837F197-364B-4FE7-A23D-8126BD6D4D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44326DF-95FC-4118-957F-3DFF2B9FAC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C52C360-5AC2-4D1B-81E8-030A5782F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C22ADDD-8D28-43D9-B14D-1893818C4D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E9397C9-BD74-44E7-A969-B12348A1A8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2EC10FD-BACF-40E6-BC26-F15DCDD4E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347FA66-CD12-4FC6-8A15-EB9C402B7D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A11B3E5-004C-4463-AA51-782297BDF6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09C58F-2C85-4237-AE51-EE4CD5BE4B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299E3A-7BEB-4C2D-B2AC-9171DFC64F1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6293974D-8174-4ED6-81D9-134354C09A7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472E417-9CCA-4D06-8E78-DCE92466C6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ABDA326-1E57-49AE-B6DA-25E764D98D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FFF4CC1-F19A-4DA8-930A-89F48208B3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9C0846D-FE01-41D7-A820-EF27AC2E83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EFD2BC3-94DE-4D88-9198-A17D86B61DE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3FE7527-DCBB-4744-9304-46F4B273B4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0F3D2E7-5B7A-43E4-B1CB-37E9F21CA1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DAF8254-BC4B-4DEA-A91B-2C5DF865E9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7DE2AD-0D42-48F2-A364-85B2C5B1F23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80234E31-E50A-4AE6-B250-D207FF7DE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7A833C3-1078-4DF4-8335-BEF79FC5A2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88C2C8B-4EF3-4E68-BA18-63D779A099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C336AE2-8C69-40DF-8C6B-0BF91C0673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7FE45EB-8EF9-484D-851E-9AD21EB49D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8A2F2DC-52D1-4EAC-91A1-2763A604EF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F7B386C-0369-4D04-B726-3478FDC69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BA52983-0D7F-43D6-AA49-B36DB5B8B8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2668D2C5-A72E-42E9-A482-6A65BA76D9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7F9C4A8-C054-42FE-ADD0-39D4BCA152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19D76B-0480-466E-A896-6B66FF7FC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96631F3-5E04-4025-81A5-E77BE453AA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49D72EF-120E-4B89-9C05-DB7CDD6957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4BAAB21-CB8A-4089-B335-DED0D5B1D7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A634156-5863-4FE5-B8DC-CBADB18058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24420-B328-4820-8444-511090E862C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4B7185A-2A22-475A-8A35-9C6AD4D945E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D001A2-A322-462B-B4D0-54C75EC7BF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A8E05DE-404F-4466-AAB1-0ED7B4BE21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F75D5AB-588F-4088-A023-DDDA730814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6D90B1C-20E9-4B69-9939-55CC81FFDC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59932-B4B2-4F85-B4FD-E93D25D05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6B6806E-E973-4EBD-8A74-783679C811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71F66AC-B63C-4EB3-9468-E86CA1E7A6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712D5EF-B156-4CDA-81AC-36D6B85A31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1CBDF8F-8E4E-41A3-868A-805CB11D2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9FD1CAF-ED1C-4F82-9579-7BC109EB8B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413B70-A19A-4A9E-8330-E62A3F81A4B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E2F3A8F3-0A24-467E-91FA-5E16D5B684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55B501D-AAE4-4EB1-AE87-8698B8404F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06E437E8-2E19-4333-A576-6CA1916633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F43B39D-FC6C-47F1-91E0-6E9AA4138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A2DC21-4F71-4C89-A77F-3F56ABDE78C6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7B58AE-BD34-4E5A-88D7-1738D4D6C6F8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194D2F-C6D5-40E5-9B5F-3D84AA14BFB1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B2F57B-A5C9-47FB-B08D-C636BEAC21CC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BADF3-FE76-4F7C-8F8E-2A548EA9F78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C1CF23-DC11-43F0-85D3-6688E350265D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EEA03F7-4DC0-41FD-B838-7A5404D1EF63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555529-3496-4DE5-9C57-D69763B7FD4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AC7FE7-6BD6-4C87-A0FA-5E1B7D51B891}" type="datetime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Calibri"/>
                <a:ea typeface="宋体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4F9680-9AD5-4C6D-9A6A-A4780FB90843}" type="slidenum">
              <a:rPr b="0" lang="zh-CN" sz="1200" spc="-1" strike="noStrike">
                <a:solidFill>
                  <a:srgbClr val="898989"/>
                </a:solidFill>
                <a:latin typeface="Calibri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EB3DA-EE77-4FA0-8851-416666B0490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63AB64-7E7B-4735-88A2-CFE8D574E5F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37C02-B710-4CFA-929E-78BF1A22EDAD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CF44C9-E54C-4366-A416-5A79E9B9A0E3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3AC7E8-B27F-43A0-B8D4-5BBC13EDD7CF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64276AB-86D7-40E0-BA63-0C6DA8576E7E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5E4E92-BDF7-463C-856E-0770363E6EE6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17516-AA64-47D8-A894-E7A66B6A189F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77EE1E-4D7F-4770-97B5-4BC8347A4B48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036232-9586-4E88-A46E-F2FB824E1A82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74E221-3232-4FBF-9055-48EE0F4B1FEA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F31A1F2-67AB-435A-90D4-4E7B2F725B55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D494CD-465A-4766-B89E-BF11A9ADDA6B}" type="datetime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  <a:ea typeface="宋体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9E6E59-C1CD-4C02-B6CB-E2EE589250A1}" type="slidenum">
              <a:rPr b="0" lang="zh-CN" sz="1200" spc="-1" strike="noStrike">
                <a:solidFill>
                  <a:srgbClr val="898989"/>
                </a:solidFill>
                <a:latin typeface="Arial"/>
                <a:ea typeface="宋体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3.png"/><Relationship Id="rId4" Type="http://schemas.openxmlformats.org/officeDocument/2006/relationships/image" Target="../media/image3.png"/><Relationship Id="rId5" Type="http://schemas.openxmlformats.org/officeDocument/2006/relationships/image" Target="../media/image3.png"/><Relationship Id="rId6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矩形 2"/>
          <p:cNvSpPr/>
          <p:nvPr/>
        </p:nvSpPr>
        <p:spPr>
          <a:xfrm>
            <a:off x="2908080" y="3259080"/>
            <a:ext cx="2492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PPT</a:t>
            </a:r>
            <a:r>
              <a:rPr b="0" lang="zh-CN" sz="1200" spc="-1" strike="noStrike">
                <a:solidFill>
                  <a:srgbClr val="4a452a"/>
                </a:solidFill>
                <a:latin typeface="Calibri"/>
                <a:ea typeface="宋体"/>
              </a:rPr>
              <a:t>模板下载：</a:t>
            </a:r>
            <a:r>
              <a:rPr b="0" lang="en-US" sz="1200" spc="-1" strike="noStrike" u="sng">
                <a:solidFill>
                  <a:srgbClr val="0000ff"/>
                </a:solidFill>
                <a:uFillTx/>
                <a:latin typeface="Calibri"/>
                <a:ea typeface="宋体"/>
                <a:hlinkClick r:id="rId1"/>
              </a:rPr>
              <a:t>www.1ppt.com/moban/</a:t>
            </a:r>
            <a:r>
              <a:rPr b="0" lang="en-US" sz="1200" spc="-1" strike="noStrike">
                <a:solidFill>
                  <a:srgbClr val="4a452a"/>
                </a:solidFill>
                <a:latin typeface="Calibri"/>
                <a:ea typeface="宋体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矩形 6"/>
          <p:cNvSpPr/>
          <p:nvPr/>
        </p:nvSpPr>
        <p:spPr>
          <a:xfrm>
            <a:off x="0" y="0"/>
            <a:ext cx="9144000" cy="227664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矩形 8"/>
          <p:cNvSpPr/>
          <p:nvPr/>
        </p:nvSpPr>
        <p:spPr>
          <a:xfrm>
            <a:off x="0" y="4351320"/>
            <a:ext cx="9144000" cy="250668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5" name="Picture 3" descr=""/>
          <p:cNvPicPr/>
          <p:nvPr/>
        </p:nvPicPr>
        <p:blipFill>
          <a:blip r:embed="rId2"/>
          <a:srcRect l="3999" t="0" r="0" b="0"/>
          <a:stretch/>
        </p:blipFill>
        <p:spPr>
          <a:xfrm>
            <a:off x="0" y="1297080"/>
            <a:ext cx="9144000" cy="3085920"/>
          </a:xfrm>
          <a:prstGeom prst="rect">
            <a:avLst/>
          </a:prstGeom>
          <a:ln w="0">
            <a:noFill/>
          </a:ln>
        </p:spPr>
      </p:pic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900000" y="4615920"/>
            <a:ext cx="7772400" cy="100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企业文化宣传</a:t>
            </a:r>
            <a:r>
              <a:rPr b="0" lang="en-US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PPT</a:t>
            </a:r>
            <a:r>
              <a:rPr b="0" lang="zh-CN" sz="4400" spc="-1" strike="noStrike">
                <a:solidFill>
                  <a:srgbClr val="ffffff"/>
                </a:solidFill>
                <a:latin typeface="微软雅黑"/>
                <a:ea typeface="微软雅黑"/>
              </a:rPr>
              <a:t>模板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98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4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914400" indent="0" algn="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ffffff"/>
                </a:solidFill>
                <a:latin typeface="Calibri"/>
              </a:rPr>
              <a:t>目 录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grpSp>
        <p:nvGrpSpPr>
          <p:cNvPr id="500" name="Group 5"/>
          <p:cNvGrpSpPr/>
          <p:nvPr/>
        </p:nvGrpSpPr>
        <p:grpSpPr>
          <a:xfrm>
            <a:off x="2998800" y="2651040"/>
            <a:ext cx="3517920" cy="400680"/>
            <a:chOff x="2998800" y="2651040"/>
            <a:chExt cx="3517920" cy="400680"/>
          </a:xfrm>
        </p:grpSpPr>
        <p:sp>
          <p:nvSpPr>
            <p:cNvPr id="501" name="矩形 7"/>
            <p:cNvSpPr/>
            <p:nvPr/>
          </p:nvSpPr>
          <p:spPr>
            <a:xfrm>
              <a:off x="2998800" y="26510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2" name="Picture 6" descr=""/>
            <p:cNvPicPr/>
            <p:nvPr/>
          </p:nvPicPr>
          <p:blipFill>
            <a:blip r:embed="rId2"/>
            <a:stretch/>
          </p:blipFill>
          <p:spPr>
            <a:xfrm>
              <a:off x="5833800" y="26510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3" name="TextBox 21"/>
            <p:cNvSpPr/>
            <p:nvPr/>
          </p:nvSpPr>
          <p:spPr>
            <a:xfrm>
              <a:off x="3933720" y="26661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4" name="TextBox 4"/>
            <p:cNvSpPr/>
            <p:nvPr/>
          </p:nvSpPr>
          <p:spPr>
            <a:xfrm>
              <a:off x="2998800" y="26510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1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5" name="Group 10"/>
          <p:cNvGrpSpPr/>
          <p:nvPr/>
        </p:nvGrpSpPr>
        <p:grpSpPr>
          <a:xfrm>
            <a:off x="2998800" y="3533760"/>
            <a:ext cx="3517920" cy="400680"/>
            <a:chOff x="2998800" y="3533760"/>
            <a:chExt cx="3517920" cy="400680"/>
          </a:xfrm>
        </p:grpSpPr>
        <p:sp>
          <p:nvSpPr>
            <p:cNvPr id="506" name="矩形 27"/>
            <p:cNvSpPr/>
            <p:nvPr/>
          </p:nvSpPr>
          <p:spPr>
            <a:xfrm>
              <a:off x="2998800" y="353376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07" name="Picture 6" descr=""/>
            <p:cNvPicPr/>
            <p:nvPr/>
          </p:nvPicPr>
          <p:blipFill>
            <a:blip r:embed="rId3"/>
            <a:stretch/>
          </p:blipFill>
          <p:spPr>
            <a:xfrm>
              <a:off x="5833800" y="353376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08" name="TextBox 29"/>
            <p:cNvSpPr/>
            <p:nvPr/>
          </p:nvSpPr>
          <p:spPr>
            <a:xfrm>
              <a:off x="3933720" y="354888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9" name="TextBox 30"/>
            <p:cNvSpPr/>
            <p:nvPr/>
          </p:nvSpPr>
          <p:spPr>
            <a:xfrm>
              <a:off x="2998800" y="353376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2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0" name="Group 15"/>
          <p:cNvGrpSpPr/>
          <p:nvPr/>
        </p:nvGrpSpPr>
        <p:grpSpPr>
          <a:xfrm>
            <a:off x="2998800" y="4417920"/>
            <a:ext cx="3517920" cy="400680"/>
            <a:chOff x="2998800" y="4417920"/>
            <a:chExt cx="3517920" cy="400680"/>
          </a:xfrm>
        </p:grpSpPr>
        <p:sp>
          <p:nvSpPr>
            <p:cNvPr id="511" name="矩形 32"/>
            <p:cNvSpPr/>
            <p:nvPr/>
          </p:nvSpPr>
          <p:spPr>
            <a:xfrm>
              <a:off x="2998800" y="441792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2" name="Picture 6" descr=""/>
            <p:cNvPicPr/>
            <p:nvPr/>
          </p:nvPicPr>
          <p:blipFill>
            <a:blip r:embed="rId4"/>
            <a:stretch/>
          </p:blipFill>
          <p:spPr>
            <a:xfrm>
              <a:off x="5833800" y="441792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3" name="TextBox 34"/>
            <p:cNvSpPr/>
            <p:nvPr/>
          </p:nvSpPr>
          <p:spPr>
            <a:xfrm>
              <a:off x="3933720" y="443304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4" name="TextBox 35"/>
            <p:cNvSpPr/>
            <p:nvPr/>
          </p:nvSpPr>
          <p:spPr>
            <a:xfrm>
              <a:off x="2998800" y="441792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3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15" name="Group 20"/>
          <p:cNvGrpSpPr/>
          <p:nvPr/>
        </p:nvGrpSpPr>
        <p:grpSpPr>
          <a:xfrm>
            <a:off x="2998800" y="5300640"/>
            <a:ext cx="3517920" cy="400680"/>
            <a:chOff x="2998800" y="5300640"/>
            <a:chExt cx="3517920" cy="400680"/>
          </a:xfrm>
        </p:grpSpPr>
        <p:sp>
          <p:nvSpPr>
            <p:cNvPr id="516" name="矩形 37"/>
            <p:cNvSpPr/>
            <p:nvPr/>
          </p:nvSpPr>
          <p:spPr>
            <a:xfrm>
              <a:off x="2998800" y="5300640"/>
              <a:ext cx="3510360" cy="400680"/>
            </a:xfrm>
            <a:prstGeom prst="rect">
              <a:avLst/>
            </a:prstGeom>
            <a:noFill/>
            <a:ln w="6480">
              <a:solidFill>
                <a:srgbClr val="b61a4b"/>
              </a:solidFill>
              <a:prstDash val="sys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517" name="Picture 6" descr=""/>
            <p:cNvPicPr/>
            <p:nvPr/>
          </p:nvPicPr>
          <p:blipFill>
            <a:blip r:embed="rId5"/>
            <a:stretch/>
          </p:blipFill>
          <p:spPr>
            <a:xfrm>
              <a:off x="5833800" y="5300640"/>
              <a:ext cx="682920" cy="400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18" name="TextBox 39"/>
            <p:cNvSpPr/>
            <p:nvPr/>
          </p:nvSpPr>
          <p:spPr>
            <a:xfrm>
              <a:off x="3933720" y="5315760"/>
              <a:ext cx="23043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000000"/>
                  </a:solidFill>
                  <a:latin typeface="Calibri"/>
                </a:rPr>
                <a:t>单击此处添加标题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9" name="TextBox 40"/>
            <p:cNvSpPr/>
            <p:nvPr/>
          </p:nvSpPr>
          <p:spPr>
            <a:xfrm>
              <a:off x="2998800" y="5300640"/>
              <a:ext cx="682920" cy="398880"/>
            </a:xfrm>
            <a:prstGeom prst="rect">
              <a:avLst/>
            </a:prstGeom>
            <a:solidFill>
              <a:srgbClr val="b61a4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2000" spc="-1" strike="noStrike">
                  <a:solidFill>
                    <a:srgbClr val="ffffff"/>
                  </a:solidFill>
                  <a:latin typeface="Calibri"/>
                </a:rPr>
                <a:t>4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矩形 7"/>
          <p:cNvSpPr/>
          <p:nvPr/>
        </p:nvSpPr>
        <p:spPr>
          <a:xfrm>
            <a:off x="0" y="0"/>
            <a:ext cx="9144000" cy="1339920"/>
          </a:xfrm>
          <a:prstGeom prst="rect">
            <a:avLst/>
          </a:prstGeom>
          <a:solidFill>
            <a:srgbClr val="b61a4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1" name="Picture 3" descr=""/>
          <p:cNvPicPr/>
          <p:nvPr/>
        </p:nvPicPr>
        <p:blipFill>
          <a:blip r:embed="rId1"/>
          <a:stretch/>
        </p:blipFill>
        <p:spPr>
          <a:xfrm>
            <a:off x="179280" y="404640"/>
            <a:ext cx="1546200" cy="1333800"/>
          </a:xfrm>
          <a:prstGeom prst="rect">
            <a:avLst/>
          </a:prstGeom>
          <a:ln w="0">
            <a:noFill/>
          </a:ln>
        </p:spPr>
      </p:pic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marL="914400" indent="0" algn="ctr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ffffff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7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3-07T06:39:00Z</dcterms:created>
  <dc:creator>王琳</dc:creator>
  <dc:description/>
  <cp:keywords/>
  <dc:language>en-US</dc:language>
  <cp:lastModifiedBy>Administrator</cp:lastModifiedBy>
  <cp:lastPrinted>1899-12-30T00:00:00Z</cp:lastPrinted>
  <dcterms:modified xsi:type="dcterms:W3CDTF">2015-06-10T10:16:19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6.6.0.2877</vt:lpwstr>
  </property>
</Properties>
</file>