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E22B4-250E-4172-A57C-04348FFE2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EB873-D418-4C86-9D66-4BD351BDB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A74F5-2BA7-4798-A040-22C4BBCE8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FC34E-DB19-49DF-B28D-17E0EE441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A976A-B89C-4C1B-B3D4-56B7D6C40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C521F-C6B3-421C-A54F-106740988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B1165-06E2-487D-8CFC-25D6E8682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3DB22-F000-4C22-840C-CC7B9E34F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24273-1226-4A13-978C-9735D08AC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83755-9A50-45C6-9C72-1C99BD0C2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8E5E5-2335-4A9F-951A-77DA5BF09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37D51-97E1-437D-9031-0030D1C25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790A6-38BA-462A-9714-042C710D2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13ECC-3FB1-43A2-BADB-2579E84D7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EB33E-A050-4439-A1BA-36143ED35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79087-57E2-4C22-8F0C-BE0A9B1C3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A4801-DDDE-447C-9630-8AC0FFA28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7C124-135A-4192-8A53-EE3FEE5FD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4D313-A593-4DBE-AEBC-C9492588D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CD7C8-87A6-4877-850F-1458BA5BA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739C4-99E4-4153-9C2E-180CAA6D8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377C1-6A1A-43D9-A509-FB7F722EF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0ED3B-5AC3-42E4-9667-18B080822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3F2D8-4E1C-4184-87AA-1FFFA7EA8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A892F-90DB-4B22-A743-3E0EBD9E3D9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33520" y="6324480"/>
            <a:ext cx="21333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352680" y="6324480"/>
            <a:ext cx="28958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467480" y="6324480"/>
            <a:ext cx="1447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B660A-D4F1-4059-88A9-022EE2B73F8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2133720"/>
            <a:ext cx="7848720" cy="14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8000"/>
                </a:solidFill>
                <a:latin typeface="Arial"/>
                <a:ea typeface="华文琥珀"/>
              </a:rPr>
              <a:t>粽 情</a:t>
            </a:r>
            <a:r>
              <a:rPr b="0" lang="zh-CN" sz="6600" spc="-1" strike="noStrike">
                <a:solidFill>
                  <a:srgbClr val="000000"/>
                </a:solidFill>
                <a:latin typeface="Arial"/>
                <a:ea typeface="华文琥珀"/>
              </a:rPr>
              <a:t>                 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3300"/>
                </a:solidFill>
                <a:latin typeface="Arial"/>
              </a:rPr>
              <a:t>                        </a:t>
            </a:r>
            <a:r>
              <a:rPr b="0" lang="zh-CN" sz="6600" spc="-1" strike="noStrike">
                <a:solidFill>
                  <a:srgbClr val="cc3300"/>
                </a:solidFill>
                <a:latin typeface="Arial"/>
                <a:ea typeface="华文琥珀"/>
              </a:rPr>
              <a:t>端 午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split dir="in" orient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  <a:ea typeface="微软雅黑"/>
              </a:rPr>
              <a:t>端午采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端午节是中国的传统节日，在我国已流传几千年。随着社会的发展，虽然人们庆祝端午的方式在不断变化，但是人们对传统节日的喜爱之情有增无减。大家都选择在端午这一天和亲人朋友一起分享幸福与快乐！！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 rot="19619400">
            <a:off x="533160" y="2285640"/>
            <a:ext cx="4762440" cy="316224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 rot="2244000">
            <a:off x="4038120" y="2362320"/>
            <a:ext cx="4343400" cy="2898720"/>
          </a:xfrm>
          <a:prstGeom prst="rect">
            <a:avLst/>
          </a:prstGeom>
          <a:ln w="0">
            <a:noFill/>
          </a:ln>
        </p:spPr>
      </p:pic>
      <p:sp>
        <p:nvSpPr>
          <p:cNvPr id="140" name="">
            <a:hlinkClick r:id="" action="ppaction://hlinkshowjump?jump=previousslide"/>
          </p:cNvPr>
          <p:cNvSpPr/>
          <p:nvPr/>
        </p:nvSpPr>
        <p:spPr>
          <a:xfrm>
            <a:off x="7543800" y="6324480"/>
            <a:ext cx="533520" cy="38124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30220" h="21600">
                <a:moveTo>
                  <a:pt x="0" y="0"/>
                </a:moveTo>
                <a:lnTo>
                  <a:pt x="30220" y="0"/>
                </a:lnTo>
                <a:lnTo>
                  <a:pt x="30220" y="21600"/>
                </a:lnTo>
                <a:lnTo>
                  <a:pt x="0" y="21600"/>
                </a:lnTo>
                <a:close/>
              </a:path>
              <a:path fill="lightenLess" w="30220" h="21600">
                <a:moveTo>
                  <a:pt x="0" y="0"/>
                </a:moveTo>
                <a:lnTo>
                  <a:pt x="30220" y="0"/>
                </a:lnTo>
                <a:lnTo>
                  <a:pt x="28820" y="1400"/>
                </a:lnTo>
                <a:lnTo>
                  <a:pt x="1400" y="1400"/>
                </a:lnTo>
                <a:close/>
              </a:path>
              <a:path fill="darken" w="30220" h="21600">
                <a:moveTo>
                  <a:pt x="30220" y="0"/>
                </a:moveTo>
                <a:lnTo>
                  <a:pt x="30220" y="21600"/>
                </a:lnTo>
                <a:lnTo>
                  <a:pt x="28820" y="20200"/>
                </a:lnTo>
                <a:lnTo>
                  <a:pt x="28820" y="1400"/>
                </a:lnTo>
                <a:close/>
              </a:path>
              <a:path fill="darkenLess" w="30220" h="21600">
                <a:moveTo>
                  <a:pt x="302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20" y="20200"/>
                </a:lnTo>
                <a:close/>
              </a:path>
              <a:path fill="lighten" w="302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20" h="21600">
                <a:moveTo>
                  <a:pt x="8103" y="10800"/>
                </a:moveTo>
                <a:lnTo>
                  <a:pt x="22116" y="3794"/>
                </a:lnTo>
                <a:lnTo>
                  <a:pt x="2211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>
            <a:hlinkClick r:id="" action="ppaction://hlinkshowjump?jump=nextslide"/>
          </p:cNvPr>
          <p:cNvSpPr/>
          <p:nvPr/>
        </p:nvSpPr>
        <p:spPr>
          <a:xfrm>
            <a:off x="8153280" y="6324480"/>
            <a:ext cx="533520" cy="38124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30220" h="21600">
                <a:moveTo>
                  <a:pt x="0" y="0"/>
                </a:moveTo>
                <a:lnTo>
                  <a:pt x="30220" y="0"/>
                </a:lnTo>
                <a:lnTo>
                  <a:pt x="30220" y="21600"/>
                </a:lnTo>
                <a:lnTo>
                  <a:pt x="0" y="21600"/>
                </a:lnTo>
                <a:close/>
              </a:path>
              <a:path fill="lightenLess" w="30220" h="21600">
                <a:moveTo>
                  <a:pt x="0" y="0"/>
                </a:moveTo>
                <a:lnTo>
                  <a:pt x="30220" y="0"/>
                </a:lnTo>
                <a:lnTo>
                  <a:pt x="28820" y="1400"/>
                </a:lnTo>
                <a:lnTo>
                  <a:pt x="1400" y="1400"/>
                </a:lnTo>
                <a:close/>
              </a:path>
              <a:path fill="darken" w="30220" h="21600">
                <a:moveTo>
                  <a:pt x="30220" y="0"/>
                </a:moveTo>
                <a:lnTo>
                  <a:pt x="30220" y="21600"/>
                </a:lnTo>
                <a:lnTo>
                  <a:pt x="28820" y="20200"/>
                </a:lnTo>
                <a:lnTo>
                  <a:pt x="28820" y="1400"/>
                </a:lnTo>
                <a:close/>
              </a:path>
              <a:path fill="darkenLess" w="30220" h="21600">
                <a:moveTo>
                  <a:pt x="302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20" y="20200"/>
                </a:lnTo>
                <a:close/>
              </a:path>
              <a:path fill="lighten" w="302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20" h="21600">
                <a:moveTo>
                  <a:pt x="8103" y="3794"/>
                </a:moveTo>
                <a:lnTo>
                  <a:pt x="22116" y="10800"/>
                </a:lnTo>
                <a:lnTo>
                  <a:pt x="810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4"/>
          <a:stretch/>
        </p:blipFill>
        <p:spPr>
          <a:xfrm rot="747600">
            <a:off x="3276360" y="2438280"/>
            <a:ext cx="4647960" cy="279396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5"/>
          <a:stretch/>
        </p:blipFill>
        <p:spPr>
          <a:xfrm rot="20980800">
            <a:off x="1066680" y="2209320"/>
            <a:ext cx="4800600" cy="327672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6"/>
          <a:stretch/>
        </p:blipFill>
        <p:spPr>
          <a:xfrm>
            <a:off x="2133720" y="2438280"/>
            <a:ext cx="4543200" cy="3114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3B4B9-A31F-47F5-BF31-9D6B2A01E7A4}" type="slidenum">
              <a:t>10</a:t>
            </a:fld>
          </a:p>
        </p:txBody>
      </p:sp>
    </p:spTree>
  </p:cSld>
  <p:transition advTm="10000">
    <p:blinds dir="horz"/>
  </p:transition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0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15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5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15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5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21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1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35" dur="3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8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8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8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8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0" dur="200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200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2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9" dur="20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20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20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2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85" dur="2000" fill="hold"/>
                                        <p:tgtEl>
                                          <p:spTgt spid="14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2362320" y="2286000"/>
            <a:ext cx="5029200" cy="1832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谢谢观赏！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46" name="">
            <a:hlinkClick r:id="" action="ppaction://hlinkshowjump?jump=firstslide"/>
          </p:cNvPr>
          <p:cNvSpPr/>
          <p:nvPr/>
        </p:nvSpPr>
        <p:spPr>
          <a:xfrm>
            <a:off x="1600200" y="6248520"/>
            <a:ext cx="685800" cy="433440"/>
          </a:xfrm>
          <a:custGeom>
            <a:avLst/>
            <a:gdLst>
              <a:gd name="textAreaLeft" fmla="*/ 28080 w 685800"/>
              <a:gd name="textAreaRight" fmla="*/ 657720 w 68580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34166" h="21600">
                <a:moveTo>
                  <a:pt x="0" y="0"/>
                </a:moveTo>
                <a:lnTo>
                  <a:pt x="34166" y="0"/>
                </a:lnTo>
                <a:lnTo>
                  <a:pt x="34166" y="21600"/>
                </a:lnTo>
                <a:lnTo>
                  <a:pt x="0" y="21600"/>
                </a:lnTo>
                <a:close/>
              </a:path>
              <a:path fill="lightenLess" w="34166" h="21600">
                <a:moveTo>
                  <a:pt x="0" y="0"/>
                </a:moveTo>
                <a:lnTo>
                  <a:pt x="34166" y="0"/>
                </a:lnTo>
                <a:lnTo>
                  <a:pt x="32766" y="1400"/>
                </a:lnTo>
                <a:lnTo>
                  <a:pt x="1400" y="1400"/>
                </a:lnTo>
                <a:close/>
              </a:path>
              <a:path fill="darken" w="34166" h="21600">
                <a:moveTo>
                  <a:pt x="34166" y="0"/>
                </a:moveTo>
                <a:lnTo>
                  <a:pt x="34166" y="21600"/>
                </a:lnTo>
                <a:lnTo>
                  <a:pt x="32766" y="20200"/>
                </a:lnTo>
                <a:lnTo>
                  <a:pt x="32766" y="1400"/>
                </a:lnTo>
                <a:close/>
              </a:path>
              <a:path fill="darkenLess" w="34166" h="21600">
                <a:moveTo>
                  <a:pt x="341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766" y="20200"/>
                </a:lnTo>
                <a:close/>
              </a:path>
              <a:path fill="lighten" w="341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166" h="21600">
                <a:moveTo>
                  <a:pt x="13584" y="10800"/>
                </a:moveTo>
                <a:lnTo>
                  <a:pt x="24089" y="3794"/>
                </a:lnTo>
                <a:lnTo>
                  <a:pt x="24089" y="17806"/>
                </a:lnTo>
                <a:close/>
              </a:path>
              <a:path fill="darken" w="34166" h="21600">
                <a:moveTo>
                  <a:pt x="10076" y="3794"/>
                </a:moveTo>
                <a:lnTo>
                  <a:pt x="11739" y="3794"/>
                </a:lnTo>
                <a:lnTo>
                  <a:pt x="11739" y="17806"/>
                </a:lnTo>
                <a:lnTo>
                  <a:pt x="1007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3BD18-A8AE-435E-8126-2FCBD46809A9}" type="slidenum">
              <a:t>11</a:t>
            </a:fld>
          </a:p>
        </p:txBody>
      </p:sp>
    </p:spTree>
  </p:cSld>
  <p:transition advTm="5000">
    <p:pull dir="d"/>
  </p:transition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8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3" dur="8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8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8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439560" y="990720"/>
            <a:ext cx="8245800" cy="5135040"/>
            <a:chOff x="439560" y="990720"/>
            <a:chExt cx="8245800" cy="5135040"/>
          </a:xfrm>
        </p:grpSpPr>
        <p:cxnSp>
          <p:nvCxnSpPr>
            <p:cNvPr id="85" name="_s35858"/>
            <p:cNvCxnSpPr>
              <a:stCxn id="86" idx="1"/>
              <a:endCxn id="87" idx="2"/>
            </p:cNvCxnSpPr>
            <p:nvPr/>
          </p:nvCxnSpPr>
          <p:spPr>
            <a:xfrm rot="10800000">
              <a:off x="2912400" y="1608840"/>
              <a:ext cx="813600" cy="4214880"/>
            </a:xfrm>
            <a:prstGeom prst="bentConnector2">
              <a:avLst/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88" name="_s35856"/>
            <p:cNvCxnSpPr>
              <a:stCxn id="89" idx="1"/>
              <a:endCxn id="87" idx="2"/>
            </p:cNvCxnSpPr>
            <p:nvPr/>
          </p:nvCxnSpPr>
          <p:spPr>
            <a:xfrm rot="10800000">
              <a:off x="2912400" y="1608840"/>
              <a:ext cx="813600" cy="3308760"/>
            </a:xfrm>
            <a:prstGeom prst="bentConnector2">
              <a:avLst/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90" name="_s35852"/>
            <p:cNvCxnSpPr>
              <a:stCxn id="91" idx="1"/>
              <a:endCxn id="87" idx="2"/>
            </p:cNvCxnSpPr>
            <p:nvPr/>
          </p:nvCxnSpPr>
          <p:spPr>
            <a:xfrm rot="10800000">
              <a:off x="2912400" y="1608840"/>
              <a:ext cx="813600" cy="2402280"/>
            </a:xfrm>
            <a:prstGeom prst="bentConnector2">
              <a:avLst/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92" name="_s35851"/>
            <p:cNvCxnSpPr>
              <a:stCxn id="93" idx="1"/>
              <a:endCxn id="87" idx="2"/>
            </p:cNvCxnSpPr>
            <p:nvPr/>
          </p:nvCxnSpPr>
          <p:spPr>
            <a:xfrm rot="10800000">
              <a:off x="2912400" y="1608840"/>
              <a:ext cx="813600" cy="1496160"/>
            </a:xfrm>
            <a:prstGeom prst="bentConnector2">
              <a:avLst/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94" name="_s35850"/>
            <p:cNvCxnSpPr>
              <a:stCxn id="95" idx="1"/>
              <a:endCxn id="87" idx="2"/>
            </p:cNvCxnSpPr>
            <p:nvPr/>
          </p:nvCxnSpPr>
          <p:spPr>
            <a:xfrm rot="10800000">
              <a:off x="2912400" y="1608840"/>
              <a:ext cx="813600" cy="590040"/>
            </a:xfrm>
            <a:prstGeom prst="bentConnector2">
              <a:avLst/>
            </a:prstGeom>
            <a:ln w="38160">
              <a:solidFill>
                <a:srgbClr val="000000"/>
              </a:solidFill>
              <a:miter/>
            </a:ln>
          </p:spPr>
        </p:cxnSp>
        <p:sp>
          <p:nvSpPr>
            <p:cNvPr id="87" name="_s35846"/>
            <p:cNvSpPr/>
            <p:nvPr/>
          </p:nvSpPr>
          <p:spPr>
            <a:xfrm>
              <a:off x="439560" y="990720"/>
              <a:ext cx="4947480" cy="604080"/>
            </a:xfrm>
            <a:prstGeom prst="roundRect">
              <a:avLst>
                <a:gd name="adj" fmla="val 16667"/>
              </a:avLst>
            </a:prstGeom>
            <a:solidFill>
              <a:srgbClr val="ff0000">
                <a:alpha val="50000"/>
              </a:srgbClr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5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提纲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35847"/>
            <p:cNvSpPr/>
            <p:nvPr/>
          </p:nvSpPr>
          <p:spPr>
            <a:xfrm>
              <a:off x="3737880" y="1896840"/>
              <a:ext cx="4947480" cy="604080"/>
            </a:xfrm>
            <a:prstGeom prst="roundRect">
              <a:avLst>
                <a:gd name="adj" fmla="val 16667"/>
              </a:avLst>
            </a:prstGeom>
            <a:solidFill>
              <a:srgbClr val="ff00ff">
                <a:alpha val="50000"/>
              </a:srgbClr>
            </a:solidFill>
            <a:ln w="28440">
              <a:solidFill>
                <a:srgbClr val="ff00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端午的起源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35848"/>
            <p:cNvSpPr/>
            <p:nvPr/>
          </p:nvSpPr>
          <p:spPr>
            <a:xfrm>
              <a:off x="3737880" y="2802960"/>
              <a:ext cx="4947480" cy="604080"/>
            </a:xfrm>
            <a:prstGeom prst="roundRect">
              <a:avLst>
                <a:gd name="adj" fmla="val 16667"/>
              </a:avLst>
            </a:prstGeom>
            <a:solidFill>
              <a:srgbClr val="ff00ff">
                <a:alpha val="50000"/>
              </a:srgbClr>
            </a:solidFill>
            <a:ln w="28440">
              <a:solidFill>
                <a:srgbClr val="ff00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端午的别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_s35849"/>
            <p:cNvSpPr/>
            <p:nvPr/>
          </p:nvSpPr>
          <p:spPr>
            <a:xfrm>
              <a:off x="3737880" y="3709080"/>
              <a:ext cx="4947480" cy="604080"/>
            </a:xfrm>
            <a:prstGeom prst="roundRect">
              <a:avLst>
                <a:gd name="adj" fmla="val 16667"/>
              </a:avLst>
            </a:prstGeom>
            <a:solidFill>
              <a:srgbClr val="ff00ff">
                <a:alpha val="50000"/>
              </a:srgbClr>
            </a:solidFill>
            <a:ln w="28440">
              <a:solidFill>
                <a:srgbClr val="ff00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端午的习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_s35855"/>
            <p:cNvSpPr/>
            <p:nvPr/>
          </p:nvSpPr>
          <p:spPr>
            <a:xfrm>
              <a:off x="3737880" y="4615560"/>
              <a:ext cx="4947480" cy="604080"/>
            </a:xfrm>
            <a:prstGeom prst="roundRect">
              <a:avLst>
                <a:gd name="adj" fmla="val 16667"/>
              </a:avLst>
            </a:prstGeom>
            <a:solidFill>
              <a:srgbClr val="ff00ff">
                <a:alpha val="50000"/>
              </a:srgbClr>
            </a:solidFill>
            <a:ln w="28440">
              <a:solidFill>
                <a:srgbClr val="ff00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端午的谚语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_s35857"/>
            <p:cNvSpPr/>
            <p:nvPr/>
          </p:nvSpPr>
          <p:spPr>
            <a:xfrm>
              <a:off x="3737880" y="5521680"/>
              <a:ext cx="4947480" cy="604080"/>
            </a:xfrm>
            <a:prstGeom prst="roundRect">
              <a:avLst>
                <a:gd name="adj" fmla="val 16667"/>
              </a:avLst>
            </a:prstGeom>
            <a:solidFill>
              <a:srgbClr val="ff00ff">
                <a:alpha val="50000"/>
              </a:srgbClr>
            </a:solidFill>
            <a:ln w="28440">
              <a:solidFill>
                <a:srgbClr val="ff00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端午采景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">
            <a:hlinkClick r:id="" action="ppaction://hlinkshowjump?jump=previousslide"/>
          </p:cNvPr>
          <p:cNvSpPr/>
          <p:nvPr/>
        </p:nvSpPr>
        <p:spPr>
          <a:xfrm>
            <a:off x="7315200" y="6248520"/>
            <a:ext cx="662040" cy="380880"/>
          </a:xfrm>
          <a:custGeom>
            <a:avLst/>
            <a:gdLst>
              <a:gd name="textAreaLeft" fmla="*/ 24480 w 662040"/>
              <a:gd name="textAreaRight" fmla="*/ 637560 w 6620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7530" h="21600">
                <a:moveTo>
                  <a:pt x="0" y="0"/>
                </a:moveTo>
                <a:lnTo>
                  <a:pt x="37530" y="0"/>
                </a:lnTo>
                <a:lnTo>
                  <a:pt x="37530" y="21600"/>
                </a:lnTo>
                <a:lnTo>
                  <a:pt x="0" y="21600"/>
                </a:lnTo>
                <a:close/>
              </a:path>
              <a:path fill="lightenLess" w="37530" h="21600">
                <a:moveTo>
                  <a:pt x="0" y="0"/>
                </a:moveTo>
                <a:lnTo>
                  <a:pt x="37530" y="0"/>
                </a:lnTo>
                <a:lnTo>
                  <a:pt x="36130" y="1400"/>
                </a:lnTo>
                <a:lnTo>
                  <a:pt x="1400" y="1400"/>
                </a:lnTo>
                <a:close/>
              </a:path>
              <a:path fill="darken" w="37530" h="21600">
                <a:moveTo>
                  <a:pt x="37530" y="0"/>
                </a:moveTo>
                <a:lnTo>
                  <a:pt x="37530" y="21600"/>
                </a:lnTo>
                <a:lnTo>
                  <a:pt x="36130" y="20200"/>
                </a:lnTo>
                <a:lnTo>
                  <a:pt x="36130" y="1400"/>
                </a:lnTo>
                <a:close/>
              </a:path>
              <a:path fill="darkenLess" w="37530" h="21600">
                <a:moveTo>
                  <a:pt x="375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130" y="20200"/>
                </a:lnTo>
                <a:close/>
              </a:path>
              <a:path fill="lighten" w="375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530" h="21600">
                <a:moveTo>
                  <a:pt x="11758" y="10800"/>
                </a:moveTo>
                <a:lnTo>
                  <a:pt x="25771" y="3794"/>
                </a:lnTo>
                <a:lnTo>
                  <a:pt x="2577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>
            <a:hlinkClick r:id="" action="ppaction://hlinkshowjump?jump=nextslide"/>
          </p:cNvPr>
          <p:cNvSpPr/>
          <p:nvPr/>
        </p:nvSpPr>
        <p:spPr>
          <a:xfrm>
            <a:off x="8077320" y="6248520"/>
            <a:ext cx="609480" cy="380880"/>
          </a:xfrm>
          <a:custGeom>
            <a:avLst/>
            <a:gdLst>
              <a:gd name="textAreaLeft" fmla="*/ 24480 w 609480"/>
              <a:gd name="textAreaRight" fmla="*/ 585000 w 6094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4552" h="21600">
                <a:moveTo>
                  <a:pt x="0" y="0"/>
                </a:moveTo>
                <a:lnTo>
                  <a:pt x="34552" y="0"/>
                </a:lnTo>
                <a:lnTo>
                  <a:pt x="34552" y="21600"/>
                </a:lnTo>
                <a:lnTo>
                  <a:pt x="0" y="21600"/>
                </a:lnTo>
                <a:close/>
              </a:path>
              <a:path fill="lightenLess" w="34552" h="21600">
                <a:moveTo>
                  <a:pt x="0" y="0"/>
                </a:moveTo>
                <a:lnTo>
                  <a:pt x="34552" y="0"/>
                </a:lnTo>
                <a:lnTo>
                  <a:pt x="33152" y="1400"/>
                </a:lnTo>
                <a:lnTo>
                  <a:pt x="1400" y="1400"/>
                </a:lnTo>
                <a:close/>
              </a:path>
              <a:path fill="darken" w="34552" h="21600">
                <a:moveTo>
                  <a:pt x="34552" y="0"/>
                </a:moveTo>
                <a:lnTo>
                  <a:pt x="34552" y="21600"/>
                </a:lnTo>
                <a:lnTo>
                  <a:pt x="33152" y="20200"/>
                </a:lnTo>
                <a:lnTo>
                  <a:pt x="33152" y="1400"/>
                </a:lnTo>
                <a:close/>
              </a:path>
              <a:path fill="darkenLess" w="34552" h="21600">
                <a:moveTo>
                  <a:pt x="34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2" y="20200"/>
                </a:lnTo>
                <a:close/>
              </a:path>
              <a:path fill="lighten" w="34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2" h="21600">
                <a:moveTo>
                  <a:pt x="10269" y="3794"/>
                </a:moveTo>
                <a:lnTo>
                  <a:pt x="24282" y="10800"/>
                </a:lnTo>
                <a:lnTo>
                  <a:pt x="10269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BBBE9-1BDE-4350-B6D2-6CAE83976BB6}" type="slidenum">
              <a:t>2</a:t>
            </a:fld>
          </a:p>
        </p:txBody>
      </p:sp>
    </p:spTree>
  </p:cSld>
  <p:transition advTm="8000">
    <p:blinds dir="vert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3300"/>
                </a:solidFill>
                <a:latin typeface="Arial"/>
                <a:ea typeface="微软雅黑"/>
              </a:rPr>
              <a:t>端午的起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2296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 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"/>
              </a:rPr>
              <a:t>端午节又名端阳节、重午节，据传是中国古代伟大诗人、世界四大文化名人之一的屈原投汩罗江殉国的日子。两千多年来，每年的农历五月初五就成为了纪念屈原的传统节日。史料记载，公元前２７８年农历五月初五，楚国大夫、爱国诗人屈原听到秦军攻破楚国都城的消息后，悲愤交加，心如刀割，毅然写下绝笔作《怀沙》，抱石投入汨罗江，以身殉国。沿江百姓纷纷引舟竞渡前去打捞，沿水招魂，并将粽子投入江中，以免鱼虾蚕食他的身体。这一习俗绵延至今，已有两千多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>
            <a:hlinkClick r:id="" action="ppaction://hlinkshowjump?jump=previousslide"/>
          </p:cNvPr>
          <p:cNvSpPr/>
          <p:nvPr/>
        </p:nvSpPr>
        <p:spPr>
          <a:xfrm>
            <a:off x="7391520" y="6324480"/>
            <a:ext cx="609480" cy="381240"/>
          </a:xfrm>
          <a:custGeom>
            <a:avLst/>
            <a:gdLst>
              <a:gd name="textAreaLeft" fmla="*/ 24480 w 609480"/>
              <a:gd name="textAreaRight" fmla="*/ 585000 w 6094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34519" h="21600">
                <a:moveTo>
                  <a:pt x="0" y="0"/>
                </a:moveTo>
                <a:lnTo>
                  <a:pt x="34519" y="0"/>
                </a:lnTo>
                <a:lnTo>
                  <a:pt x="34519" y="21600"/>
                </a:lnTo>
                <a:lnTo>
                  <a:pt x="0" y="21600"/>
                </a:lnTo>
                <a:close/>
              </a:path>
              <a:path fill="lightenLess" w="34519" h="21600">
                <a:moveTo>
                  <a:pt x="0" y="0"/>
                </a:moveTo>
                <a:lnTo>
                  <a:pt x="34519" y="0"/>
                </a:lnTo>
                <a:lnTo>
                  <a:pt x="33119" y="1400"/>
                </a:lnTo>
                <a:lnTo>
                  <a:pt x="1400" y="1400"/>
                </a:lnTo>
                <a:close/>
              </a:path>
              <a:path fill="darken" w="34519" h="21600">
                <a:moveTo>
                  <a:pt x="34519" y="0"/>
                </a:moveTo>
                <a:lnTo>
                  <a:pt x="34519" y="21600"/>
                </a:lnTo>
                <a:lnTo>
                  <a:pt x="33119" y="20200"/>
                </a:lnTo>
                <a:lnTo>
                  <a:pt x="33119" y="1400"/>
                </a:lnTo>
                <a:close/>
              </a:path>
              <a:path fill="darkenLess" w="34519" h="21600">
                <a:moveTo>
                  <a:pt x="345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19" y="20200"/>
                </a:lnTo>
                <a:close/>
              </a:path>
              <a:path fill="lighten" w="345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19" h="21600">
                <a:moveTo>
                  <a:pt x="10253" y="10800"/>
                </a:moveTo>
                <a:lnTo>
                  <a:pt x="24266" y="3794"/>
                </a:lnTo>
                <a:lnTo>
                  <a:pt x="2426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>
            <a:hlinkClick r:id="" action="ppaction://hlinkshowjump?jump=nextslide"/>
          </p:cNvPr>
          <p:cNvSpPr/>
          <p:nvPr/>
        </p:nvSpPr>
        <p:spPr>
          <a:xfrm>
            <a:off x="8077320" y="6324480"/>
            <a:ext cx="609480" cy="381240"/>
          </a:xfrm>
          <a:custGeom>
            <a:avLst/>
            <a:gdLst>
              <a:gd name="textAreaLeft" fmla="*/ 24480 w 609480"/>
              <a:gd name="textAreaRight" fmla="*/ 585000 w 6094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34519" h="21600">
                <a:moveTo>
                  <a:pt x="0" y="0"/>
                </a:moveTo>
                <a:lnTo>
                  <a:pt x="34519" y="0"/>
                </a:lnTo>
                <a:lnTo>
                  <a:pt x="34519" y="21600"/>
                </a:lnTo>
                <a:lnTo>
                  <a:pt x="0" y="21600"/>
                </a:lnTo>
                <a:close/>
              </a:path>
              <a:path fill="lightenLess" w="34519" h="21600">
                <a:moveTo>
                  <a:pt x="0" y="0"/>
                </a:moveTo>
                <a:lnTo>
                  <a:pt x="34519" y="0"/>
                </a:lnTo>
                <a:lnTo>
                  <a:pt x="33119" y="1400"/>
                </a:lnTo>
                <a:lnTo>
                  <a:pt x="1400" y="1400"/>
                </a:lnTo>
                <a:close/>
              </a:path>
              <a:path fill="darken" w="34519" h="21600">
                <a:moveTo>
                  <a:pt x="34519" y="0"/>
                </a:moveTo>
                <a:lnTo>
                  <a:pt x="34519" y="21600"/>
                </a:lnTo>
                <a:lnTo>
                  <a:pt x="33119" y="20200"/>
                </a:lnTo>
                <a:lnTo>
                  <a:pt x="33119" y="1400"/>
                </a:lnTo>
                <a:close/>
              </a:path>
              <a:path fill="darkenLess" w="34519" h="21600">
                <a:moveTo>
                  <a:pt x="345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19" y="20200"/>
                </a:lnTo>
                <a:close/>
              </a:path>
              <a:path fill="lighten" w="345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19" h="21600">
                <a:moveTo>
                  <a:pt x="10253" y="3794"/>
                </a:moveTo>
                <a:lnTo>
                  <a:pt x="24266" y="10800"/>
                </a:lnTo>
                <a:lnTo>
                  <a:pt x="1025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CCCC5-FF56-4196-A434-C00A73F4C940}" type="slidenum">
              <a:t>3</a:t>
            </a:fld>
          </a:p>
        </p:txBody>
      </p:sp>
    </p:spTree>
  </p:cSld>
  <p:transition advTm="10000">
    <p:cover dir="l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29800">
                                          <p:val>
                                            <p:strVal val="#ppt_h/2"/>
                                          </p:val>
                                        </p:tav>
                                        <p:tav tm="398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59700">
                                          <p:val>
                                            <p:strVal val="#ppt_h"/>
                                          </p:val>
                                        </p:tav>
                                        <p:tav tm="69800">
                                          <p:val>
                                            <p:strVal val="#ppt_h/2"/>
                                          </p:val>
                                        </p:tav>
                                        <p:tav tm="799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19900">
                                          <p:val>
                                            <p:strVal val="#ppt_y-.2"/>
                                          </p:val>
                                        </p:tav>
                                        <p:tav tm="29800">
                                          <p:val>
                                            <p:strVal val="#ppt_y"/>
                                          </p:val>
                                        </p:tav>
                                        <p:tav tm="398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597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800">
                                          <p:val>
                                            <p:strVal val="#ppt_y"/>
                                          </p:val>
                                        </p:tav>
                                        <p:tav tm="799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380880" y="838080"/>
            <a:ext cx="4038840" cy="518184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6629400" y="1371600"/>
            <a:ext cx="458640" cy="14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495320" y="837720"/>
            <a:ext cx="40388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楷体"/>
                <a:ea typeface="楷体"/>
              </a:rPr>
              <a:t> 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千百年来，屈原的爱国精神和感人诗辞，深入人心。人们“惜而哀之，世论其辞，以相传焉”。在民俗文化领域，中国民众从此把端午节的龙舟竞渡和吃粽子等，与纪念屈原紧密联系在一起。随着屈原影响的不断增大，始于春秋战国的端午节也逐步传播开来，成为中华民族的节日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>
            <a:hlinkClick r:id="" action="ppaction://hlinkshowjump?jump=previousslide"/>
          </p:cNvPr>
          <p:cNvSpPr/>
          <p:nvPr/>
        </p:nvSpPr>
        <p:spPr>
          <a:xfrm>
            <a:off x="7391520" y="6324480"/>
            <a:ext cx="609480" cy="381240"/>
          </a:xfrm>
          <a:custGeom>
            <a:avLst/>
            <a:gdLst>
              <a:gd name="textAreaLeft" fmla="*/ 24480 w 609480"/>
              <a:gd name="textAreaRight" fmla="*/ 585000 w 6094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34519" h="21600">
                <a:moveTo>
                  <a:pt x="0" y="0"/>
                </a:moveTo>
                <a:lnTo>
                  <a:pt x="34519" y="0"/>
                </a:lnTo>
                <a:lnTo>
                  <a:pt x="34519" y="21600"/>
                </a:lnTo>
                <a:lnTo>
                  <a:pt x="0" y="21600"/>
                </a:lnTo>
                <a:close/>
              </a:path>
              <a:path fill="lightenLess" w="34519" h="21600">
                <a:moveTo>
                  <a:pt x="0" y="0"/>
                </a:moveTo>
                <a:lnTo>
                  <a:pt x="34519" y="0"/>
                </a:lnTo>
                <a:lnTo>
                  <a:pt x="33119" y="1400"/>
                </a:lnTo>
                <a:lnTo>
                  <a:pt x="1400" y="1400"/>
                </a:lnTo>
                <a:close/>
              </a:path>
              <a:path fill="darken" w="34519" h="21600">
                <a:moveTo>
                  <a:pt x="34519" y="0"/>
                </a:moveTo>
                <a:lnTo>
                  <a:pt x="34519" y="21600"/>
                </a:lnTo>
                <a:lnTo>
                  <a:pt x="33119" y="20200"/>
                </a:lnTo>
                <a:lnTo>
                  <a:pt x="33119" y="1400"/>
                </a:lnTo>
                <a:close/>
              </a:path>
              <a:path fill="darkenLess" w="34519" h="21600">
                <a:moveTo>
                  <a:pt x="345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19" y="20200"/>
                </a:lnTo>
                <a:close/>
              </a:path>
              <a:path fill="lighten" w="345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19" h="21600">
                <a:moveTo>
                  <a:pt x="10253" y="10800"/>
                </a:moveTo>
                <a:lnTo>
                  <a:pt x="24266" y="3794"/>
                </a:lnTo>
                <a:lnTo>
                  <a:pt x="2426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>
            <a:hlinkClick r:id="" action="ppaction://hlinkshowjump?jump=nextslide"/>
          </p:cNvPr>
          <p:cNvSpPr/>
          <p:nvPr/>
        </p:nvSpPr>
        <p:spPr>
          <a:xfrm>
            <a:off x="8077320" y="6324480"/>
            <a:ext cx="609480" cy="381240"/>
          </a:xfrm>
          <a:custGeom>
            <a:avLst/>
            <a:gdLst>
              <a:gd name="textAreaLeft" fmla="*/ 24480 w 609480"/>
              <a:gd name="textAreaRight" fmla="*/ 585000 w 6094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34519" h="21600">
                <a:moveTo>
                  <a:pt x="0" y="0"/>
                </a:moveTo>
                <a:lnTo>
                  <a:pt x="34519" y="0"/>
                </a:lnTo>
                <a:lnTo>
                  <a:pt x="34519" y="21600"/>
                </a:lnTo>
                <a:lnTo>
                  <a:pt x="0" y="21600"/>
                </a:lnTo>
                <a:close/>
              </a:path>
              <a:path fill="lightenLess" w="34519" h="21600">
                <a:moveTo>
                  <a:pt x="0" y="0"/>
                </a:moveTo>
                <a:lnTo>
                  <a:pt x="34519" y="0"/>
                </a:lnTo>
                <a:lnTo>
                  <a:pt x="33119" y="1400"/>
                </a:lnTo>
                <a:lnTo>
                  <a:pt x="1400" y="1400"/>
                </a:lnTo>
                <a:close/>
              </a:path>
              <a:path fill="darken" w="34519" h="21600">
                <a:moveTo>
                  <a:pt x="34519" y="0"/>
                </a:moveTo>
                <a:lnTo>
                  <a:pt x="34519" y="21600"/>
                </a:lnTo>
                <a:lnTo>
                  <a:pt x="33119" y="20200"/>
                </a:lnTo>
                <a:lnTo>
                  <a:pt x="33119" y="1400"/>
                </a:lnTo>
                <a:close/>
              </a:path>
              <a:path fill="darkenLess" w="34519" h="21600">
                <a:moveTo>
                  <a:pt x="345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19" y="20200"/>
                </a:lnTo>
                <a:close/>
              </a:path>
              <a:path fill="lighten" w="345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19" h="21600">
                <a:moveTo>
                  <a:pt x="10253" y="3794"/>
                </a:moveTo>
                <a:lnTo>
                  <a:pt x="24266" y="10800"/>
                </a:lnTo>
                <a:lnTo>
                  <a:pt x="1025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A4D09-720E-48CA-8DF5-E6D57C590BF8}" type="slidenum">
              <a:t>4</a:t>
            </a:fld>
          </a:p>
        </p:txBody>
      </p:sp>
    </p:spTree>
  </p:cSld>
  <p:transition advTm="10000">
    <p:comb dir="horz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8" dur="1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19760" y="228600"/>
            <a:ext cx="99036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  <a:ea typeface="楷体"/>
              </a:rPr>
              <a:t>端午的别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609480"/>
            <a:ext cx="70866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Arial"/>
              </a:rPr>
              <a:t>﹡</a:t>
            </a: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端阳节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据《荆楚岁时记》载，因仲夏登高，顺阳在上，五月正是仲夏，它的第一个午日正是登高顺阳天气好的日子，故称五月初五为端阳节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Arial"/>
              </a:rPr>
              <a:t>﹡</a:t>
            </a: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重午节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午，属十二支，农历五月为午月，五、午同音，五、五相重，故端午节又名重午节或重五节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Arial"/>
              </a:rPr>
              <a:t>﹡</a:t>
            </a: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天中节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古人认为，五月五日时，太阳居人中天，故称这一天为天中节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Arial"/>
              </a:rPr>
              <a:t>﹡</a:t>
            </a: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浴兰节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端午时值仲夏，是皮肤病多发季节，古人以兰草汤沐浴去污为俗。汉代《大戴礼》云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:“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午日以兰汤沐浴”。</a:t>
            </a:r>
            <a:r>
              <a:rPr b="0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>
            <a:hlinkClick r:id="" action="ppaction://hlinkshowjump?jump=previousslide"/>
          </p:cNvPr>
          <p:cNvSpPr/>
          <p:nvPr/>
        </p:nvSpPr>
        <p:spPr>
          <a:xfrm>
            <a:off x="7391520" y="6324480"/>
            <a:ext cx="609480" cy="381240"/>
          </a:xfrm>
          <a:custGeom>
            <a:avLst/>
            <a:gdLst>
              <a:gd name="textAreaLeft" fmla="*/ 24480 w 609480"/>
              <a:gd name="textAreaRight" fmla="*/ 585000 w 6094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34519" h="21600">
                <a:moveTo>
                  <a:pt x="0" y="0"/>
                </a:moveTo>
                <a:lnTo>
                  <a:pt x="34519" y="0"/>
                </a:lnTo>
                <a:lnTo>
                  <a:pt x="34519" y="21600"/>
                </a:lnTo>
                <a:lnTo>
                  <a:pt x="0" y="21600"/>
                </a:lnTo>
                <a:close/>
              </a:path>
              <a:path fill="lightenLess" w="34519" h="21600">
                <a:moveTo>
                  <a:pt x="0" y="0"/>
                </a:moveTo>
                <a:lnTo>
                  <a:pt x="34519" y="0"/>
                </a:lnTo>
                <a:lnTo>
                  <a:pt x="33119" y="1400"/>
                </a:lnTo>
                <a:lnTo>
                  <a:pt x="1400" y="1400"/>
                </a:lnTo>
                <a:close/>
              </a:path>
              <a:path fill="darken" w="34519" h="21600">
                <a:moveTo>
                  <a:pt x="34519" y="0"/>
                </a:moveTo>
                <a:lnTo>
                  <a:pt x="34519" y="21600"/>
                </a:lnTo>
                <a:lnTo>
                  <a:pt x="33119" y="20200"/>
                </a:lnTo>
                <a:lnTo>
                  <a:pt x="33119" y="1400"/>
                </a:lnTo>
                <a:close/>
              </a:path>
              <a:path fill="darkenLess" w="34519" h="21600">
                <a:moveTo>
                  <a:pt x="345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19" y="20200"/>
                </a:lnTo>
                <a:close/>
              </a:path>
              <a:path fill="lighten" w="345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19" h="21600">
                <a:moveTo>
                  <a:pt x="10253" y="10800"/>
                </a:moveTo>
                <a:lnTo>
                  <a:pt x="24266" y="3794"/>
                </a:lnTo>
                <a:lnTo>
                  <a:pt x="2426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>
            <a:hlinkClick r:id="" action="ppaction://hlinkshowjump?jump=nextslide"/>
          </p:cNvPr>
          <p:cNvSpPr/>
          <p:nvPr/>
        </p:nvSpPr>
        <p:spPr>
          <a:xfrm>
            <a:off x="8077320" y="6324480"/>
            <a:ext cx="609480" cy="381240"/>
          </a:xfrm>
          <a:custGeom>
            <a:avLst/>
            <a:gdLst>
              <a:gd name="textAreaLeft" fmla="*/ 24480 w 609480"/>
              <a:gd name="textAreaRight" fmla="*/ 585000 w 6094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34519" h="21600">
                <a:moveTo>
                  <a:pt x="0" y="0"/>
                </a:moveTo>
                <a:lnTo>
                  <a:pt x="34519" y="0"/>
                </a:lnTo>
                <a:lnTo>
                  <a:pt x="34519" y="21600"/>
                </a:lnTo>
                <a:lnTo>
                  <a:pt x="0" y="21600"/>
                </a:lnTo>
                <a:close/>
              </a:path>
              <a:path fill="lightenLess" w="34519" h="21600">
                <a:moveTo>
                  <a:pt x="0" y="0"/>
                </a:moveTo>
                <a:lnTo>
                  <a:pt x="34519" y="0"/>
                </a:lnTo>
                <a:lnTo>
                  <a:pt x="33119" y="1400"/>
                </a:lnTo>
                <a:lnTo>
                  <a:pt x="1400" y="1400"/>
                </a:lnTo>
                <a:close/>
              </a:path>
              <a:path fill="darken" w="34519" h="21600">
                <a:moveTo>
                  <a:pt x="34519" y="0"/>
                </a:moveTo>
                <a:lnTo>
                  <a:pt x="34519" y="21600"/>
                </a:lnTo>
                <a:lnTo>
                  <a:pt x="33119" y="20200"/>
                </a:lnTo>
                <a:lnTo>
                  <a:pt x="33119" y="1400"/>
                </a:lnTo>
                <a:close/>
              </a:path>
              <a:path fill="darkenLess" w="34519" h="21600">
                <a:moveTo>
                  <a:pt x="345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19" y="20200"/>
                </a:lnTo>
                <a:close/>
              </a:path>
              <a:path fill="lighten" w="345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19" h="21600">
                <a:moveTo>
                  <a:pt x="10253" y="3794"/>
                </a:moveTo>
                <a:lnTo>
                  <a:pt x="24266" y="10800"/>
                </a:lnTo>
                <a:lnTo>
                  <a:pt x="1025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A90FA-81CF-4B4C-924D-1E67FD11F5B4}" type="slidenum">
              <a:t>5</a:t>
            </a:fld>
          </a:p>
        </p:txBody>
      </p:sp>
    </p:spTree>
  </p:cSld>
  <p:transition advTm="10000">
    <p:strips dir="ru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华文琥珀"/>
              </a:rPr>
              <a:t>端午节习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 rot="1472400">
            <a:off x="533160" y="1600200"/>
            <a:ext cx="4419360" cy="31971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 rot="19911600">
            <a:off x="4267080" y="1523520"/>
            <a:ext cx="4038840" cy="320364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4"/>
          <a:srcRect l="8698" t="2139" r="0" b="5800"/>
          <a:stretch/>
        </p:blipFill>
        <p:spPr>
          <a:xfrm>
            <a:off x="2209680" y="2286000"/>
            <a:ext cx="4800600" cy="327672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3733920" y="5715000"/>
            <a:ext cx="184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3300"/>
                </a:solidFill>
                <a:latin typeface="Arial"/>
                <a:ea typeface="华文琥珀"/>
              </a:rPr>
              <a:t>吃粽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>
            <a:hlinkClick r:id="" action="ppaction://hlinkshowjump?jump=previousslide"/>
          </p:cNvPr>
          <p:cNvSpPr/>
          <p:nvPr/>
        </p:nvSpPr>
        <p:spPr>
          <a:xfrm>
            <a:off x="7391520" y="6324480"/>
            <a:ext cx="609480" cy="381240"/>
          </a:xfrm>
          <a:custGeom>
            <a:avLst/>
            <a:gdLst>
              <a:gd name="textAreaLeft" fmla="*/ 24480 w 609480"/>
              <a:gd name="textAreaRight" fmla="*/ 585000 w 6094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34519" h="21600">
                <a:moveTo>
                  <a:pt x="0" y="0"/>
                </a:moveTo>
                <a:lnTo>
                  <a:pt x="34519" y="0"/>
                </a:lnTo>
                <a:lnTo>
                  <a:pt x="34519" y="21600"/>
                </a:lnTo>
                <a:lnTo>
                  <a:pt x="0" y="21600"/>
                </a:lnTo>
                <a:close/>
              </a:path>
              <a:path fill="lightenLess" w="34519" h="21600">
                <a:moveTo>
                  <a:pt x="0" y="0"/>
                </a:moveTo>
                <a:lnTo>
                  <a:pt x="34519" y="0"/>
                </a:lnTo>
                <a:lnTo>
                  <a:pt x="33119" y="1400"/>
                </a:lnTo>
                <a:lnTo>
                  <a:pt x="1400" y="1400"/>
                </a:lnTo>
                <a:close/>
              </a:path>
              <a:path fill="darken" w="34519" h="21600">
                <a:moveTo>
                  <a:pt x="34519" y="0"/>
                </a:moveTo>
                <a:lnTo>
                  <a:pt x="34519" y="21600"/>
                </a:lnTo>
                <a:lnTo>
                  <a:pt x="33119" y="20200"/>
                </a:lnTo>
                <a:lnTo>
                  <a:pt x="33119" y="1400"/>
                </a:lnTo>
                <a:close/>
              </a:path>
              <a:path fill="darkenLess" w="34519" h="21600">
                <a:moveTo>
                  <a:pt x="345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19" y="20200"/>
                </a:lnTo>
                <a:close/>
              </a:path>
              <a:path fill="lighten" w="345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19" h="21600">
                <a:moveTo>
                  <a:pt x="10253" y="10800"/>
                </a:moveTo>
                <a:lnTo>
                  <a:pt x="24266" y="3794"/>
                </a:lnTo>
                <a:lnTo>
                  <a:pt x="2426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>
            <a:hlinkClick r:id="" action="ppaction://hlinkshowjump?jump=nextslide"/>
          </p:cNvPr>
          <p:cNvSpPr/>
          <p:nvPr/>
        </p:nvSpPr>
        <p:spPr>
          <a:xfrm>
            <a:off x="8077320" y="6324480"/>
            <a:ext cx="609480" cy="381240"/>
          </a:xfrm>
          <a:custGeom>
            <a:avLst/>
            <a:gdLst>
              <a:gd name="textAreaLeft" fmla="*/ 24480 w 609480"/>
              <a:gd name="textAreaRight" fmla="*/ 585000 w 6094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34519" h="21600">
                <a:moveTo>
                  <a:pt x="0" y="0"/>
                </a:moveTo>
                <a:lnTo>
                  <a:pt x="34519" y="0"/>
                </a:lnTo>
                <a:lnTo>
                  <a:pt x="34519" y="21600"/>
                </a:lnTo>
                <a:lnTo>
                  <a:pt x="0" y="21600"/>
                </a:lnTo>
                <a:close/>
              </a:path>
              <a:path fill="lightenLess" w="34519" h="21600">
                <a:moveTo>
                  <a:pt x="0" y="0"/>
                </a:moveTo>
                <a:lnTo>
                  <a:pt x="34519" y="0"/>
                </a:lnTo>
                <a:lnTo>
                  <a:pt x="33119" y="1400"/>
                </a:lnTo>
                <a:lnTo>
                  <a:pt x="1400" y="1400"/>
                </a:lnTo>
                <a:close/>
              </a:path>
              <a:path fill="darken" w="34519" h="21600">
                <a:moveTo>
                  <a:pt x="34519" y="0"/>
                </a:moveTo>
                <a:lnTo>
                  <a:pt x="34519" y="21600"/>
                </a:lnTo>
                <a:lnTo>
                  <a:pt x="33119" y="20200"/>
                </a:lnTo>
                <a:lnTo>
                  <a:pt x="33119" y="1400"/>
                </a:lnTo>
                <a:close/>
              </a:path>
              <a:path fill="darkenLess" w="34519" h="21600">
                <a:moveTo>
                  <a:pt x="345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19" y="20200"/>
                </a:lnTo>
                <a:close/>
              </a:path>
              <a:path fill="lighten" w="345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19" h="21600">
                <a:moveTo>
                  <a:pt x="10253" y="3794"/>
                </a:moveTo>
                <a:lnTo>
                  <a:pt x="24266" y="10800"/>
                </a:lnTo>
                <a:lnTo>
                  <a:pt x="1025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56A4C-ECC5-47EC-A954-FF5BFA6CDE06}" type="slidenum">
              <a:t>6</a:t>
            </a:fld>
          </a:p>
        </p:txBody>
      </p:sp>
    </p:spTree>
  </p:cSld>
  <p:transition advTm="10000">
    <p:newsflash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0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5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0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34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华文琥珀"/>
              </a:rPr>
              <a:t>端午节习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rcRect l="0" t="0" r="0" b="22450"/>
          <a:stretch/>
        </p:blipFill>
        <p:spPr>
          <a:xfrm>
            <a:off x="228600" y="2057400"/>
            <a:ext cx="4000680" cy="289548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523880" y="5181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3300"/>
                </a:solidFill>
                <a:latin typeface="Arial"/>
                <a:ea typeface="华文琥珀"/>
              </a:rPr>
              <a:t>佩香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4572000" y="2057400"/>
            <a:ext cx="3819600" cy="289548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5715000" y="5181480"/>
            <a:ext cx="161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3300"/>
                </a:solidFill>
                <a:latin typeface="Arial"/>
                <a:ea typeface="华文琥珀"/>
              </a:rPr>
              <a:t>划龙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>
            <a:hlinkClick r:id="" action="ppaction://hlinkshowjump?jump=previousslide"/>
          </p:cNvPr>
          <p:cNvSpPr/>
          <p:nvPr/>
        </p:nvSpPr>
        <p:spPr>
          <a:xfrm>
            <a:off x="7391520" y="6324480"/>
            <a:ext cx="609480" cy="381240"/>
          </a:xfrm>
          <a:custGeom>
            <a:avLst/>
            <a:gdLst>
              <a:gd name="textAreaLeft" fmla="*/ 24480 w 609480"/>
              <a:gd name="textAreaRight" fmla="*/ 585000 w 6094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34519" h="21600">
                <a:moveTo>
                  <a:pt x="0" y="0"/>
                </a:moveTo>
                <a:lnTo>
                  <a:pt x="34519" y="0"/>
                </a:lnTo>
                <a:lnTo>
                  <a:pt x="34519" y="21600"/>
                </a:lnTo>
                <a:lnTo>
                  <a:pt x="0" y="21600"/>
                </a:lnTo>
                <a:close/>
              </a:path>
              <a:path fill="lightenLess" w="34519" h="21600">
                <a:moveTo>
                  <a:pt x="0" y="0"/>
                </a:moveTo>
                <a:lnTo>
                  <a:pt x="34519" y="0"/>
                </a:lnTo>
                <a:lnTo>
                  <a:pt x="33119" y="1400"/>
                </a:lnTo>
                <a:lnTo>
                  <a:pt x="1400" y="1400"/>
                </a:lnTo>
                <a:close/>
              </a:path>
              <a:path fill="darken" w="34519" h="21600">
                <a:moveTo>
                  <a:pt x="34519" y="0"/>
                </a:moveTo>
                <a:lnTo>
                  <a:pt x="34519" y="21600"/>
                </a:lnTo>
                <a:lnTo>
                  <a:pt x="33119" y="20200"/>
                </a:lnTo>
                <a:lnTo>
                  <a:pt x="33119" y="1400"/>
                </a:lnTo>
                <a:close/>
              </a:path>
              <a:path fill="darkenLess" w="34519" h="21600">
                <a:moveTo>
                  <a:pt x="345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19" y="20200"/>
                </a:lnTo>
                <a:close/>
              </a:path>
              <a:path fill="lighten" w="345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19" h="21600">
                <a:moveTo>
                  <a:pt x="10253" y="10800"/>
                </a:moveTo>
                <a:lnTo>
                  <a:pt x="24266" y="3794"/>
                </a:lnTo>
                <a:lnTo>
                  <a:pt x="2426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>
            <a:hlinkClick r:id="" action="ppaction://hlinkshowjump?jump=nextslide"/>
          </p:cNvPr>
          <p:cNvSpPr/>
          <p:nvPr/>
        </p:nvSpPr>
        <p:spPr>
          <a:xfrm>
            <a:off x="8077320" y="6324480"/>
            <a:ext cx="609480" cy="381240"/>
          </a:xfrm>
          <a:custGeom>
            <a:avLst/>
            <a:gdLst>
              <a:gd name="textAreaLeft" fmla="*/ 24480 w 609480"/>
              <a:gd name="textAreaRight" fmla="*/ 585000 w 6094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34519" h="21600">
                <a:moveTo>
                  <a:pt x="0" y="0"/>
                </a:moveTo>
                <a:lnTo>
                  <a:pt x="34519" y="0"/>
                </a:lnTo>
                <a:lnTo>
                  <a:pt x="34519" y="21600"/>
                </a:lnTo>
                <a:lnTo>
                  <a:pt x="0" y="21600"/>
                </a:lnTo>
                <a:close/>
              </a:path>
              <a:path fill="lightenLess" w="34519" h="21600">
                <a:moveTo>
                  <a:pt x="0" y="0"/>
                </a:moveTo>
                <a:lnTo>
                  <a:pt x="34519" y="0"/>
                </a:lnTo>
                <a:lnTo>
                  <a:pt x="33119" y="1400"/>
                </a:lnTo>
                <a:lnTo>
                  <a:pt x="1400" y="1400"/>
                </a:lnTo>
                <a:close/>
              </a:path>
              <a:path fill="darken" w="34519" h="21600">
                <a:moveTo>
                  <a:pt x="34519" y="0"/>
                </a:moveTo>
                <a:lnTo>
                  <a:pt x="34519" y="21600"/>
                </a:lnTo>
                <a:lnTo>
                  <a:pt x="33119" y="20200"/>
                </a:lnTo>
                <a:lnTo>
                  <a:pt x="33119" y="1400"/>
                </a:lnTo>
                <a:close/>
              </a:path>
              <a:path fill="darkenLess" w="34519" h="21600">
                <a:moveTo>
                  <a:pt x="345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19" y="20200"/>
                </a:lnTo>
                <a:close/>
              </a:path>
              <a:path fill="lighten" w="345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19" h="21600">
                <a:moveTo>
                  <a:pt x="10253" y="3794"/>
                </a:moveTo>
                <a:lnTo>
                  <a:pt x="24266" y="10800"/>
                </a:lnTo>
                <a:lnTo>
                  <a:pt x="1025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8AB39-EA90-43C9-8DA6-98CACA786FA8}" type="slidenum">
              <a:t>7</a:t>
            </a:fld>
          </a:p>
        </p:txBody>
      </p:sp>
    </p:spTree>
  </p:cSld>
  <p:transition advTm="6000">
    <p:pull dir="ru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9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华文琥珀"/>
              </a:rPr>
              <a:t>端午节习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 rot="19224000">
            <a:off x="990720" y="1981080"/>
            <a:ext cx="3136680" cy="395316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 rot="20589000">
            <a:off x="1600200" y="1904760"/>
            <a:ext cx="3124080" cy="41148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4"/>
          <a:srcRect l="11445" t="0" r="0" b="0"/>
          <a:stretch/>
        </p:blipFill>
        <p:spPr>
          <a:xfrm rot="376200">
            <a:off x="2437920" y="1981080"/>
            <a:ext cx="3221280" cy="412452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6477120" y="2438280"/>
            <a:ext cx="1752480" cy="13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3300"/>
                </a:solidFill>
                <a:latin typeface="Arial"/>
                <a:ea typeface="华文琥珀"/>
              </a:rPr>
              <a:t>饮雄黄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3300"/>
                </a:solidFill>
                <a:latin typeface="Arial"/>
                <a:ea typeface="华文琥珀"/>
              </a:rPr>
              <a:t>挂艾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>
            <a:hlinkClick r:id="" action="ppaction://hlinkshowjump?jump=previousslide"/>
          </p:cNvPr>
          <p:cNvSpPr/>
          <p:nvPr/>
        </p:nvSpPr>
        <p:spPr>
          <a:xfrm>
            <a:off x="7238880" y="6324480"/>
            <a:ext cx="685800" cy="38124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38839" h="21600">
                <a:moveTo>
                  <a:pt x="0" y="0"/>
                </a:moveTo>
                <a:lnTo>
                  <a:pt x="38839" y="0"/>
                </a:lnTo>
                <a:lnTo>
                  <a:pt x="38839" y="21600"/>
                </a:lnTo>
                <a:lnTo>
                  <a:pt x="0" y="21600"/>
                </a:lnTo>
                <a:close/>
              </a:path>
              <a:path fill="lightenLess" w="38839" h="21600">
                <a:moveTo>
                  <a:pt x="0" y="0"/>
                </a:moveTo>
                <a:lnTo>
                  <a:pt x="38839" y="0"/>
                </a:lnTo>
                <a:lnTo>
                  <a:pt x="37439" y="1400"/>
                </a:lnTo>
                <a:lnTo>
                  <a:pt x="1400" y="1400"/>
                </a:lnTo>
                <a:close/>
              </a:path>
              <a:path fill="darken" w="38839" h="21600">
                <a:moveTo>
                  <a:pt x="38839" y="0"/>
                </a:moveTo>
                <a:lnTo>
                  <a:pt x="38839" y="21600"/>
                </a:lnTo>
                <a:lnTo>
                  <a:pt x="37439" y="20200"/>
                </a:lnTo>
                <a:lnTo>
                  <a:pt x="37439" y="1400"/>
                </a:lnTo>
                <a:close/>
              </a:path>
              <a:path fill="darkenLess" w="38839" h="21600">
                <a:moveTo>
                  <a:pt x="388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39" y="20200"/>
                </a:lnTo>
                <a:close/>
              </a:path>
              <a:path fill="lighten" w="388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39" h="21600">
                <a:moveTo>
                  <a:pt x="12413" y="10800"/>
                </a:moveTo>
                <a:lnTo>
                  <a:pt x="26426" y="3794"/>
                </a:lnTo>
                <a:lnTo>
                  <a:pt x="2642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>
            <a:hlinkClick r:id="" action="ppaction://hlinkshowjump?jump=nextslide"/>
          </p:cNvPr>
          <p:cNvSpPr/>
          <p:nvPr/>
        </p:nvSpPr>
        <p:spPr>
          <a:xfrm>
            <a:off x="8001000" y="6324480"/>
            <a:ext cx="685800" cy="38124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38839" h="21600">
                <a:moveTo>
                  <a:pt x="0" y="0"/>
                </a:moveTo>
                <a:lnTo>
                  <a:pt x="38839" y="0"/>
                </a:lnTo>
                <a:lnTo>
                  <a:pt x="38839" y="21600"/>
                </a:lnTo>
                <a:lnTo>
                  <a:pt x="0" y="21600"/>
                </a:lnTo>
                <a:close/>
              </a:path>
              <a:path fill="lightenLess" w="38839" h="21600">
                <a:moveTo>
                  <a:pt x="0" y="0"/>
                </a:moveTo>
                <a:lnTo>
                  <a:pt x="38839" y="0"/>
                </a:lnTo>
                <a:lnTo>
                  <a:pt x="37439" y="1400"/>
                </a:lnTo>
                <a:lnTo>
                  <a:pt x="1400" y="1400"/>
                </a:lnTo>
                <a:close/>
              </a:path>
              <a:path fill="darken" w="38839" h="21600">
                <a:moveTo>
                  <a:pt x="38839" y="0"/>
                </a:moveTo>
                <a:lnTo>
                  <a:pt x="38839" y="21600"/>
                </a:lnTo>
                <a:lnTo>
                  <a:pt x="37439" y="20200"/>
                </a:lnTo>
                <a:lnTo>
                  <a:pt x="37439" y="1400"/>
                </a:lnTo>
                <a:close/>
              </a:path>
              <a:path fill="darkenLess" w="38839" h="21600">
                <a:moveTo>
                  <a:pt x="388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39" y="20200"/>
                </a:lnTo>
                <a:close/>
              </a:path>
              <a:path fill="lighten" w="388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39" h="21600">
                <a:moveTo>
                  <a:pt x="12413" y="3794"/>
                </a:moveTo>
                <a:lnTo>
                  <a:pt x="26426" y="10800"/>
                </a:lnTo>
                <a:lnTo>
                  <a:pt x="1241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6D2D2-91E1-4026-8DBD-DA1F66C150FF}" type="slidenum">
              <a:t>8</a:t>
            </a:fld>
          </a:p>
        </p:txBody>
      </p:sp>
    </p:spTree>
  </p:cSld>
  <p:transition advTm="8000">
    <p:checker dir="horz"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91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03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04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05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206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08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09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10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211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00"/>
                </a:solidFill>
                <a:latin typeface="Arial"/>
                <a:ea typeface="楷体"/>
              </a:rPr>
              <a:t>端午谚语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清明插柳，端午插艾。（北方）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癞蛤蟆躲不过五月五。（北京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蛤蟆蝌蚪躲端午。（北方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端午不戴艾，死去变妖怪 。（西北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午时水饮一嘴</a:t>
            </a:r>
            <a:r>
              <a:rPr b="0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较好补药吃三年 。（山东）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喝了雄黄酒，百病远远丢。（山西）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有钱难买五月五日旱 （山西）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未吃端午粽，寒衣不可送；吃了端午粽，还要冻三冻。 （宝山）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>
            <a:hlinkClick r:id="" action="ppaction://hlinkshowjump?jump=previousslide"/>
          </p:cNvPr>
          <p:cNvSpPr/>
          <p:nvPr/>
        </p:nvSpPr>
        <p:spPr>
          <a:xfrm>
            <a:off x="7315200" y="6324480"/>
            <a:ext cx="685800" cy="38124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38839" h="21600">
                <a:moveTo>
                  <a:pt x="0" y="0"/>
                </a:moveTo>
                <a:lnTo>
                  <a:pt x="38839" y="0"/>
                </a:lnTo>
                <a:lnTo>
                  <a:pt x="38839" y="21600"/>
                </a:lnTo>
                <a:lnTo>
                  <a:pt x="0" y="21600"/>
                </a:lnTo>
                <a:close/>
              </a:path>
              <a:path fill="lightenLess" w="38839" h="21600">
                <a:moveTo>
                  <a:pt x="0" y="0"/>
                </a:moveTo>
                <a:lnTo>
                  <a:pt x="38839" y="0"/>
                </a:lnTo>
                <a:lnTo>
                  <a:pt x="37439" y="1400"/>
                </a:lnTo>
                <a:lnTo>
                  <a:pt x="1400" y="1400"/>
                </a:lnTo>
                <a:close/>
              </a:path>
              <a:path fill="darken" w="38839" h="21600">
                <a:moveTo>
                  <a:pt x="38839" y="0"/>
                </a:moveTo>
                <a:lnTo>
                  <a:pt x="38839" y="21600"/>
                </a:lnTo>
                <a:lnTo>
                  <a:pt x="37439" y="20200"/>
                </a:lnTo>
                <a:lnTo>
                  <a:pt x="37439" y="1400"/>
                </a:lnTo>
                <a:close/>
              </a:path>
              <a:path fill="darkenLess" w="38839" h="21600">
                <a:moveTo>
                  <a:pt x="388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39" y="20200"/>
                </a:lnTo>
                <a:close/>
              </a:path>
              <a:path fill="lighten" w="388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39" h="21600">
                <a:moveTo>
                  <a:pt x="12413" y="10800"/>
                </a:moveTo>
                <a:lnTo>
                  <a:pt x="26426" y="3794"/>
                </a:lnTo>
                <a:lnTo>
                  <a:pt x="2642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>
            <a:hlinkClick r:id="" action="ppaction://hlinkshowjump?jump=nextslide"/>
          </p:cNvPr>
          <p:cNvSpPr/>
          <p:nvPr/>
        </p:nvSpPr>
        <p:spPr>
          <a:xfrm>
            <a:off x="8077320" y="6324480"/>
            <a:ext cx="609480" cy="381240"/>
          </a:xfrm>
          <a:custGeom>
            <a:avLst/>
            <a:gdLst>
              <a:gd name="textAreaLeft" fmla="*/ 24480 w 609480"/>
              <a:gd name="textAreaRight" fmla="*/ 585000 w 6094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34519" h="21600">
                <a:moveTo>
                  <a:pt x="0" y="0"/>
                </a:moveTo>
                <a:lnTo>
                  <a:pt x="34519" y="0"/>
                </a:lnTo>
                <a:lnTo>
                  <a:pt x="34519" y="21600"/>
                </a:lnTo>
                <a:lnTo>
                  <a:pt x="0" y="21600"/>
                </a:lnTo>
                <a:close/>
              </a:path>
              <a:path fill="lightenLess" w="34519" h="21600">
                <a:moveTo>
                  <a:pt x="0" y="0"/>
                </a:moveTo>
                <a:lnTo>
                  <a:pt x="34519" y="0"/>
                </a:lnTo>
                <a:lnTo>
                  <a:pt x="33119" y="1400"/>
                </a:lnTo>
                <a:lnTo>
                  <a:pt x="1400" y="1400"/>
                </a:lnTo>
                <a:close/>
              </a:path>
              <a:path fill="darken" w="34519" h="21600">
                <a:moveTo>
                  <a:pt x="34519" y="0"/>
                </a:moveTo>
                <a:lnTo>
                  <a:pt x="34519" y="21600"/>
                </a:lnTo>
                <a:lnTo>
                  <a:pt x="33119" y="20200"/>
                </a:lnTo>
                <a:lnTo>
                  <a:pt x="33119" y="1400"/>
                </a:lnTo>
                <a:close/>
              </a:path>
              <a:path fill="darkenLess" w="34519" h="21600">
                <a:moveTo>
                  <a:pt x="345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19" y="20200"/>
                </a:lnTo>
                <a:close/>
              </a:path>
              <a:path fill="lighten" w="345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19" h="21600">
                <a:moveTo>
                  <a:pt x="10253" y="3794"/>
                </a:moveTo>
                <a:lnTo>
                  <a:pt x="24266" y="10800"/>
                </a:lnTo>
                <a:lnTo>
                  <a:pt x="1025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5B890-BD95-46E9-A3BA-9C137240B323}" type="slidenum">
              <a:t>9</a:t>
            </a:fld>
          </a:p>
        </p:txBody>
      </p:sp>
    </p:spTree>
  </p:cSld>
  <p:transition advTm="10000">
    <p:zoom dir="out"/>
  </p:transition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8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8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8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8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8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8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8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8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8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8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8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8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8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8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8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8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80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8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8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8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800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8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8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8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800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800" fill="hold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800" fill="hold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800" fill="hold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800"/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800" fill="hold"/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800" fill="hold"/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800" fill="hold"/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ao</cp:lastModifiedBy>
  <dcterms:modified xsi:type="dcterms:W3CDTF">2012-03-11T16:13:29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