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70AE8-7D76-4266-8CB5-C7D5FE4D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7E9F0-6D34-42F6-A109-6C2DE573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070A6-9872-4A72-A6DA-1866AAD3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721BA-0942-47C4-8207-74BB310F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D41D-500C-4340-8C65-B6F33BC2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6006-B1F1-453C-A511-E7B5E444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4CBA-8753-4208-9AD6-46D28C24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3CCC-F5E8-410E-B6D4-27A4D615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2CC2-88B5-48CC-819C-F7702876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66C2-8B1F-4076-957A-F1DE6C80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6C4A-275C-4BF7-9003-D0806A57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5180F-438E-4A1D-BAE5-7C537F1B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8E0A-1D33-4AE6-B2EC-A26746FB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2991-7545-4A21-BBC0-55837CA5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1968-FAD1-43B8-96D9-F232CC6B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7685-671A-4284-B396-B5525101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8832-27C4-49E9-8DEA-74A4FC8C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54190-465A-445A-B4AD-11AEDE10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6A81D-8C67-406F-892A-40C20F8A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D2697-818A-44BE-BC63-A992A72E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F3949-6129-46D4-B82B-EBF706A4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6713D-9647-4544-9C74-E90A96C6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D4C57-91B0-474A-ACC9-3C2BA209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EAB13-9E47-4906-86EC-2B2B4F4A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0DA88-4195-4FDB-A470-04718B60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1E62F-394A-4E22-A400-ABB5221E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ADB52-FF32-4D46-9C21-A950FC66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70C1D-BD0C-4943-81C7-E0DC8E56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16E74-A80E-421E-9DD0-710B6320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24D9A-D843-4F99-9DC5-B7418A83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B0661-C979-4BC6-8E6E-750B32C0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02067-4DEC-4E13-B10B-2306B85F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11AC1-36C4-4FB4-9A51-CF270B52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F74B0-013D-445B-A60D-61503B57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B5B85-A9E5-4550-BADF-92A0B784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6E246-0030-432F-9EAA-2D4A45E8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E6EF2-3903-4236-A8BF-BD9751D8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C29C9-BB09-4D59-9713-5DAE8A17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DB083-8264-4D6A-A55B-46350689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C47C2-47DD-4253-BC30-924A5941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9BA03-FD61-45CD-A73E-3A3A8257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77B04-B88D-4100-A91A-3D45349B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8FDEF-3979-4C72-8E8D-9FBB0707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254B8-97B5-47D4-BC3F-E4DD1442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2A45C-8935-4458-A8B9-7857BDE3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8CBF1-79F3-487D-8F92-2403DCC2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5EB3A-5B57-4379-9E8D-CF4F70DB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2F20C-E2E3-4A67-9016-CC845241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C797A-1533-4FC6-B26F-03C34AB7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4D738-FDD6-48AC-BCB1-2F613F31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349E6-6D07-49EA-9779-C55E834D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E633E-665B-444F-A59A-201C5AB9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F3A83-24CF-4DAA-8A42-E742DAFB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88C0B-A27A-47B8-81B4-D0E772B4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8413B-EBA3-4349-8146-9BDC9F4C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77E8A-A7EF-4883-9AF9-1F5D200C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EE0A6-1BA4-4307-95D1-358EB592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2BD4D-A5C7-40BF-9B47-71103D1A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189C2-2C32-426A-A765-530EA956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1A0EF-ED7F-44C4-BA6D-8B6A6749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A145D-5176-45DF-A7EE-14FD3C77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AADEE-EAED-4B46-821E-FCD6BFD5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0B67C-14D5-4EB5-A551-ECE54520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4CB73-8584-464D-9B48-EFD5DC17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61635-4DFE-4BE5-9FD1-125E4F7C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4D14C-FBCE-42C7-84A7-326082F5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CB26A-4208-46FE-B9E6-47723ED0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933AC-FDB2-433F-A205-005E98D6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2715D-B548-419F-B553-664BEC53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B7130-C7FF-4A71-85AB-9EB7F7F1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09634-DFB4-45D2-A7E4-84586580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3A982-7EA8-4472-89D5-84D5F271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1E6D-38B8-41E1-8D3A-01C37F344B1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未知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未知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未知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未知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未知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未知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未知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未知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未知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未知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未知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78B9-40B4-49A4-947A-DDCDD6C7A2B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0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dt" idx="7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ftr" idx="8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9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9157-E287-4DCE-A209-9636AF287355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61920" y="1628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11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2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44ED-BB54-417B-884E-0122CC2D1A33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C132-B351-41DE-ADEF-24F1798038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47F3-7E17-4AA2-92E4-CFF3764472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hyperlink" Target="http://www.21food.cn/trade/search-%CF&#16299;-p1.html" TargetMode="External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25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25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116000" y="51577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b2500"/>
                </a:solidFill>
                <a:latin typeface="华文行楷"/>
                <a:ea typeface="华文行楷"/>
              </a:rPr>
              <a:t>九（</a:t>
            </a:r>
            <a:r>
              <a:rPr b="0" lang="en-US" sz="3200" spc="-1" strike="noStrike">
                <a:solidFill>
                  <a:srgbClr val="4b2500"/>
                </a:solidFill>
                <a:latin typeface="华文行楷"/>
                <a:ea typeface="华文行楷"/>
              </a:rPr>
              <a:t>7</a:t>
            </a:r>
            <a:r>
              <a:rPr b="0" lang="zh-CN" sz="3200" spc="-1" strike="noStrike">
                <a:solidFill>
                  <a:srgbClr val="4b2500"/>
                </a:solidFill>
                <a:latin typeface="华文行楷"/>
                <a:ea typeface="华文行楷"/>
              </a:rPr>
              <a:t>）班班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403280" y="2924280"/>
            <a:ext cx="4915080" cy="1276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健康生活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514"/>
                </a:solidFill>
                <a:latin typeface="Garamond"/>
              </a:rPr>
              <a:t>吃泡面的危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方便面营养单一，长期食用有害健康。方便面的主要成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分是碳水化合物以及少量的味精、食盐和其他调味品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人体所必需的七种营养物质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———</a:t>
            </a: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蛋白质、脂肪、碳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化合物、矿物质、维生素、水和纤维素所含较少。方便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面的营养绝大部分为淀粉，蛋白质和脂肪分别仅为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8</a:t>
            </a: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％、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5</a:t>
            </a: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％。据有关营养学家调查证实，在长期食用方便面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人当中，有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60</a:t>
            </a: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％的人营养不良，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54</a:t>
            </a: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％的人患有缺铁性贫血，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23</a:t>
            </a: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％的人患核黄素缺乏症，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16</a:t>
            </a: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％的人缺锌，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2</a:t>
            </a: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％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人因缺乏维生素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</a:t>
            </a: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而患各种眼病。 长期食用方便面会使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体内营养缺乏，造成口角生疮、大便干结、视力模糊、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皮肤干燥等等。因为少吃新鲜蔬菜，造成体内碱酸度失调，肠胃功能紊乱，消化能力下降而使肠胃病侵害身体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514"/>
                </a:solidFill>
                <a:latin typeface="Garamond"/>
              </a:rPr>
              <a:t>食盐一包方便面含盐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6</a:t>
            </a:r>
            <a:r>
              <a:rPr b="0" lang="zh-CN" sz="2800" spc="-1" strike="noStrike">
                <a:solidFill>
                  <a:srgbClr val="000514"/>
                </a:solidFill>
                <a:latin typeface="Garamond"/>
              </a:rPr>
              <a:t>克，而我们每天食盐的摄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514"/>
                </a:solidFill>
                <a:latin typeface="Garamond"/>
              </a:rPr>
              <a:t>取量是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8</a:t>
            </a:r>
            <a:r>
              <a:rPr b="0" lang="zh-CN" sz="2800" spc="-1" strike="noStrike">
                <a:solidFill>
                  <a:srgbClr val="000514"/>
                </a:solidFill>
                <a:latin typeface="Garamond"/>
              </a:rPr>
              <a:t>克左右，所以，方便面含盐量明显偏高，吃盐过多易患高血压，且损害肾脏。 磷酸盐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514"/>
                </a:solidFill>
                <a:latin typeface="Garamond"/>
              </a:rPr>
              <a:t>以改善方便面的味道。但是，人体摄磷过多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514"/>
                </a:solidFill>
                <a:latin typeface="Garamond"/>
              </a:rPr>
              <a:t>会使体内的钙无法充分利用，容易引起骨折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514"/>
                </a:solidFill>
                <a:latin typeface="Garamond"/>
              </a:rPr>
              <a:t>牙齿脱落和骨骼变形。 油脂</a:t>
            </a:r>
            <a:r>
              <a:rPr b="0" lang="en-US" sz="2800" spc="-1" strike="noStrike">
                <a:solidFill>
                  <a:srgbClr val="000514"/>
                </a:solidFill>
                <a:latin typeface="Garamond"/>
              </a:rPr>
              <a:t>.</a:t>
            </a:r>
            <a:r>
              <a:rPr b="0" lang="zh-CN" sz="2800" spc="-1" strike="noStrike">
                <a:solidFill>
                  <a:srgbClr val="000514"/>
                </a:solidFill>
                <a:latin typeface="Garamond"/>
              </a:rPr>
              <a:t>方便面都用油炸过，油炸后可减去面中水分，能延长保存期。但这些油脂经过氧化后变为“氧化脂质”，它积存于血管或其他器官中，加速人的老化速度，并引起动脉硬功夫化，易导致脑溢血、心脏病、肾病等。 </a:t>
            </a:r>
            <a:br>
              <a:rPr sz="2800"/>
            </a:br>
            <a:r>
              <a:rPr b="0" lang="zh-CN" sz="28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31640" y="367920"/>
            <a:ext cx="62751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514"/>
                </a:solidFill>
                <a:latin typeface="Garamond"/>
              </a:rPr>
              <a:t>康师傅</a:t>
            </a:r>
            <a:r>
              <a:rPr b="1" lang="en-US" sz="4000" spc="-1" strike="noStrike">
                <a:solidFill>
                  <a:srgbClr val="000514"/>
                </a:solidFill>
                <a:latin typeface="Garamond"/>
              </a:rPr>
              <a:t>"</a:t>
            </a:r>
            <a:r>
              <a:rPr b="1" lang="zh-CN" sz="4000" spc="-1" strike="noStrike">
                <a:solidFill>
                  <a:srgbClr val="000514"/>
                </a:solidFill>
                <a:latin typeface="Garamond"/>
              </a:rPr>
              <a:t>方便面爆惊人内幕 卫生状况令人恶心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提起“顶新”国际集团，也许还有许多人不太知道，如果说起“康师傅”方便面，几乎家喻户晓了。那“好吃看得见”的广告词，令多少人难忘，也使“康师傅”方便面的销量，在大陆占据了绝对的市场。然而，还有许多“好吃看不见”的东西，现公之于众，结果会使您瞠目结舌，也会令许多吃过“康师傅”方便面的人们如鲠在喉。 </a:t>
            </a:r>
            <a:br>
              <a:rPr sz="2400"/>
            </a:b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    生产一线需要胡萝卜粒，仓库已没有合格的了，只有一些因受潮而结块的，科长令工人用铁棍和脚粉碎进行使用。当时有位工人提出异议，这样做对吃方便面的顾客太不负责任了。而那位唐科长却厉声道：“让你们怎么干就怎么干，否则回家。”然后工人们用铁棍和脚大干特干 </a:t>
            </a:r>
            <a:br>
              <a:rPr sz="2400"/>
            </a:b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    “康师傅”的广告一再声称，不掺人工色素和不掺防腐剂实际情况呢？一九九七年九月，“康师傅”从广东珠海一厂家，进了大约一万四千公斤虾仁（脱水），这些脱水虾仁几乎全部喷上了红色的人工色素。而检验一路过关，直至全部使用。后来仍然不断地进过这类货物。 </a:t>
            </a:r>
            <a:br>
              <a:rPr sz="2400"/>
            </a:br>
            <a:r>
              <a:rPr b="1" lang="zh-CN" sz="2400" spc="-1" strike="noStrike">
                <a:solidFill>
                  <a:srgbClr val="000514"/>
                </a:solidFill>
                <a:latin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179280" y="765000"/>
            <a:ext cx="8856720" cy="59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在所有“康师傅”的配料中，有一种所谓的“营养剂”，它是所有大陆籍员工不知道其真正用途的。而就是这样的“营养剂”，多少人想揭开它的谜，却始终没有成功过。这些虽然不能证明什么，但是，稍有常识的人们都知道，很多食品如果没有防腐剂，那产品的质量很快就会变质。 </a:t>
            </a:r>
            <a:br>
              <a:rPr sz="2400"/>
            </a:b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    走进“康师傅”的生产厂区，你就发现墙上贴有鲜明的标语：“生产厂区，禁止拍照、摄影。”问其有关人员为什么，答曰：商业生产秘密。 真是如此吗？ </a:t>
            </a:r>
            <a:br>
              <a:rPr sz="2400"/>
            </a:b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    调理厂，前处理车间，是酱包生产的第一道关。葱、姜、蒜、牛肉等等，均在这里粉碎。笔者看到，牛肉从冷库提出后，直接上了切肉机，连用水冲一下都没有。而牛肉上的污物同其它东西一起被切片，马上就到下道搅肉程序。当问到为什么不冲洗一下时，当班组长竟说一班搅那么多肉，冲洗得过来吗？葱、姜、蒜倒是冲一下，可是小烂蒜并不拾出去，姜的根部还连着泥巴。甚至后面几筐发黑的蒜，也被送入搅刀中。当问道一工人时，他笑答：“这还是好的呢，如果上夜班就更脏。烂葱烂蒜是经常的事。” 这里看到的只是一个环节，肮脏的一切，使人难以想象得到，它就是那名声响亮的“康师傅”酱包调料生产的地方。</a:t>
            </a: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一位制面厂的工人秦某讲，在面厂工作时，有一天上夜班，由于劳累过度，他就暂时躺在面上休息一下，没想到竟被疯狂的老鼠撕裂了耳朵，至现在伤口还在。可见面厂的老鼠有多少。也是老鼠的“天堂”，上夜班的时候，成群结队的老鼠在仓库里来回飞跑游戏，它们不断穿梭于各种精料、粉料之间，被这些肥肥大大的耗子们嚼过的精料、粉料、葱片、胡萝卜粒、牛肉粒、猪肉粒、糖盐等，又被加工好，装入方便面中，出售给广大顾客。 </a:t>
            </a:r>
            <a:br>
              <a:rPr sz="2400"/>
            </a:b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    “</a:t>
            </a: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AZO”</a:t>
            </a: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车间在一次投胡萝卜粒的时候，工人及时发现了一只大的和几只小的死老鼠，才未被投入，否则后果不堪设想。但是，据当班工人们讲，这种情况未被发现投入料中的多的是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514"/>
                </a:solidFill>
                <a:latin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69336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混大料、混精料车间常人走到这里，你就会因那呛人的精料味而受不了。透过乌烟瘴气的尘埃，你就会看到那些捂得严严实实却脏兮兮看不出衣服本色的工人们，正在挥汗如雨地干活。他们的脚下到处是垃圾，一些撒在地上的精料被工人收起，再次投入锅中混料？身上各种尘物及汗水，在工人的工作中，不断地撒向和流向混料锅中。这脏兮兮的一切，怎么能让人想起那袋装的粉料包就是“康师傅”粉料包呢？这是千真万确的。一位班长反映，我们的工作环境太差，身上衣服脏是没有办法的事，至于精料的质量，虽然也有检验，那不过是走马观花，一切都得依附于科长的意愿，把产量搞上去。再说，吃到顾客嘴里，他们也不会感觉有多脏，多少年就这样下来了，还没有发生吃死人的事。如果认真了，可能我们早就回家了。那位班长说一句话：有时活忙，这混料锅几个月也不刷一次。方便面吃起来挺方便，没有想到做起来也够方便的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69336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小料含菌量超标 </a:t>
            </a: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.“</a:t>
            </a: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顶益”公司内部，有一个不成文的规定，来料不合格的，如果因急使用，可以办理“特采”，“特采”以后可以使用。而这“特采”的含义，只是某位台籍管理人员的一句话，不合格的马上就可以合格了。“顶新”集团下属有个“顶芳”公司，专门给“顶益”送蒜粉，每次四至五吨。化验结果不合格的就办理成“特采”，没有什么退货。如果谁有什么异议，那就是自讨没趣。轻者处分，重者回家。在“顶益”，这种违反《食品卫生法》的行为，是得到有关领导的批准和认可的。许多异常评审单都是经过领导的签字后确认的。所以一些不合格和待验品投入使用，一些基层领导亦理直气壮。 </a:t>
            </a:r>
            <a:br>
              <a:rPr sz="2400"/>
            </a:b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    九七年年底，白糖断了料，有关部门主管却命令工人，把以前禁止使用已经结块的绵白糖，用黑脏的铁锤打碎后继续使用。 </a:t>
            </a:r>
            <a:br>
              <a:rPr sz="2400"/>
            </a:br>
            <a:r>
              <a:rPr b="1" lang="zh-CN" sz="2400" spc="-1" strike="noStrike">
                <a:solidFill>
                  <a:srgbClr val="000514"/>
                </a:solidFill>
                <a:latin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0920" y="477720"/>
            <a:ext cx="8508960" cy="63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一九九七年四月八日，“顶益”公司为了应付</a:t>
            </a: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ISO9000</a:t>
            </a: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认证检查，对调理厂进行了一次规模较大的扫除。在生鲜冷藏库中，工人们从各种冷冻肉上，扫出鼠粪足有一斤之多。一位科长建议，被耗子啃过的牛肉不要再用了，却被品保部孙岩处长勒令禁止。那位科长及另一位处长据理力争，却被告之再争下去对你们没有什么好，立刻发货继续使用，在检查前必须将这批货发完，否则后果自负。最后，这批被耗子啃过的牛肉，全部被发给前处理车间，制成“味美香甜”的酱包料包。 </a:t>
            </a:r>
            <a:br>
              <a:rPr sz="2400"/>
            </a:b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RP</a:t>
            </a: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车间 “康师傅”中华美食方便面，也许许多人都食用过，看那华丽的外包装和不菲的价格，绝对的是精品。可就是那大包的牛肉块，在</a:t>
            </a: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RP</a:t>
            </a: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车间夜晚存放时，大群耗子都在上面啃食过，然后再加温装袋，制成成品。有的中华美食酱包根本经不起存放，经常性不明原因地爆炸。据</a:t>
            </a: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RP</a:t>
            </a: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的库管讲，</a:t>
            </a: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RP</a:t>
            </a: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车间的所有工人均不吃</a:t>
            </a: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RP</a:t>
            </a: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袋装的牛肉。后来因质量问题，大批产品积压，不得不把积压产品分发给调理厂员工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一九九七年十一月上旬，制面一厂一处长在巡视车间时，发现了大片尿迹在混面机旁，后仔细查看竟有尿混面现象。这位处长下令严查，没有想到后来厂里对此事不了了之。 </a:t>
            </a:r>
            <a:br>
              <a:rPr sz="2400"/>
            </a:b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    调理厂物管科精料库</a:t>
            </a: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. </a:t>
            </a:r>
            <a:r>
              <a:rPr b="1" lang="zh-CN" sz="24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走进精料库，人们会发现在它码放的四十五个品种中，除酱油粉，辣椒红等七个品种是桶装的以外，其它三十多种几乎全是纸箱包装的。这些纸箱包装的精料又分进口和国产的。进口的纸箱稍整齐一点，一些国产的纸箱早已破旧不堪。特别是“顶芳”公司送来的蒜粉，脏破得不堪入目。当问到如此卫生环境怎么应付检查时，一位主管很爽快地答道：“这有什幺，上面一给通知有检查的，一天时间就打扫干净了。</a:t>
            </a: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514"/>
                </a:solidFill>
                <a:latin typeface="楷体_GB2312"/>
                <a:ea typeface="楷体_GB2312"/>
              </a:rPr>
              <a:t>说到这里卫生太令人恶心时，一位工人竞笑了，说如果到原物料仓库去看看，保证你后半辈子不吃“康师傅”方便面。原物料仓库主要存放葱片、胡萝卜粒及椰菜等等。由于这些东西比较轻，包装箱就比较大，里面还有大的塑料袋包装。而就是这些大的塑料袋，很多地方都人为地被撕开口，用鼻子闻一闻，立即臭味熏人。这里面，人为的破坏程度比精料库有过之而无不及。这些肮脏的精料、粉料及脱水蔬菜，正在源源不断地加工成成品，也在源源不断地投放市场。还真如那位姓刘的工人讲，这后半辈子不想再吃“康师傅”方便面了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Rounded MT Bold"/>
              </a:rPr>
              <a:t>不吃早餐的危害性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一、对大脑的危害。虽说脑组织的重量只占人体重的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3%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，但脑的血流量每分钟约为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800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毫升，耗氧量每分钟约为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45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毫升，耗糖量每小时约为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克。青少年的脑组织正处于发育期，血、氧、葡萄糖的需求量比成人还高。如血糖过低，脑意识活动就会出现障碍，长期如此，势必影响脑的重量和形态发育。 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温馨留言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773080" y="1988640"/>
            <a:ext cx="5040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</a:rPr>
              <a:t>聪明人投资健康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</a:rPr>
              <a:t>普通人忽视健康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Times New Roman"/>
              </a:rPr>
              <a:t>糊涂人透支健康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二、对消化系统的危害。正常情况下，头天晚上吃的食物经过六小左右就从胃里排空进入肠道。第二天若不好吃早餐，胃酸及胃内的各种消化酶就会去“消化”胃粘膜层。长此以往，细胞分泌粘液的正常功能就会遭到破坏，很容易造成胃溃疡及十二指溃疡等消化系统疾病。 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三、造成动脉硬化且更易导致肥胖。有不少青少年学生是怕长胖而不吃早餐的。这种做法毫无科学道理。人体对热量的需求是有标准的，不吃早餐，势必加大中、晚餐的进食量。而晚餐后一般运动量较小，更容易造成脂肪积累而导致肥胖。另外，长期不吃早餐还会使胆固醇、脂蛋白沉积于血管内壁，导致血管硬化。 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8436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四： 让你反应迟钝：早饭是大脑活动的能量之源，如果没有进食早餐，体内无法供应足够血糖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以供消耗，便会感到倦怠、疲劳、脑力无法集中、精神不振、反应迟钝。 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五： 慢性病可能“上”身：不吃早餐，饥肠辘辘地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开始一天的工作，身体为了取得动力，会动用甲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状腺、副甲状腺、脑下垂体之类的腺体，去燃烧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组织，除了造成腺体亢进之外，更会使得体质变酸，患上慢性病。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六： 肠胃可能要“造反”：不吃早餐，直到中午才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进食，胃长时间处于饥饿状态，会造成胃酸分泌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过多，于是容易造成胃炎、胃溃疡。 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69336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七： 便秘“出笼”：在三餐定时情况下，人体内会自然产生胃结肠反射现象，简单说就是促进排便；若不吃早餐成习惯，长期可能造成胃结肠反射作用失调，于是产生便秘。 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八： 会让你更靠近肥胖族：人体一旦意识到营养匮乏，首先消耗的是碳水化合物和蛋白质，最后消耗的才是脂肪，所以不要以为不吃早饭会有助于脂肪的消耗。相反，不吃早饭，还会使午饭和晚饭吃得更多，瘦身不成反而更胖。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营养学家们的证实，早餐是每个人一天中最不容易转变成脂肪的一餐。如果每天不吃早餐只会让午餐吃得更多。 所以早餐很重要，早餐、午餐和晚餐的比例最好是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3∶2∶1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，这样子就能让你在一天内所吃的精华在体力最旺盛的时间内消耗掉。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喝冷饮的危害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2000"/>
                </a:solidFill>
                <a:latin typeface="Times New Roman"/>
              </a:rPr>
              <a:t>冷饮中主要成分是水，此外，如冰激凌、雪糕等含有一些糖分及牛奶。这些营养成分较低，不能作为主食来提供营养。如大量冷饮进入消化道，过冷可严重影响消化液的分泌及胃肠功能。正常消化液中含有胃酸及消化酶类，有助于杀死进入消化道的细菌及促进食物消化吸收。如一旦消化液减少，食物的消化吸收就会受到影响，并易造成肠道感染，出现食欲下降，腹痛腹泻及发热等症状。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755640" y="620640"/>
            <a:ext cx="8640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83d"/>
                </a:solidFill>
                <a:latin typeface="Times New Roman"/>
              </a:rPr>
              <a:t>张嘉芷教授介绍说，现在的很多冷饮都是靠食品添加剂加工而成的，尤其是各种食用胶和色素、</a:t>
            </a:r>
            <a:r>
              <a:rPr b="0" lang="zh-CN" sz="2800" spc="-1" strike="noStrike" u="sng">
                <a:solidFill>
                  <a:srgbClr val="9a7f32"/>
                </a:solidFill>
                <a:uFillTx/>
                <a:latin typeface="Times New Roman"/>
                <a:hlinkClick r:id="rId3"/>
              </a:rPr>
              <a:t>香精</a:t>
            </a:r>
            <a:r>
              <a:rPr b="1" lang="zh-CN" sz="2800" spc="-1" strike="noStrike">
                <a:solidFill>
                  <a:srgbClr val="03083d"/>
                </a:solidFill>
                <a:latin typeface="Times New Roman"/>
              </a:rPr>
              <a:t>，吃下去以后不仅不能为人体提供营养，还会干扰体内正常的物质代谢其实冷饮真的对身体很不好，对肠胃的危害很大，会造成肠胃的突然收缩，引起急性肠胃炎，如果是女性伤害就会更加大，对子宫产生刺激，即使不是经期也会影响正常的月经时间（尤其是大量的冷饮），长期下去身体各方面的功能更容易衰老。碳酸饮料确实对身体没好处，听说国外都拿它刷马桶，因为酸能去除碱性的污垢，还有一点就是它还能使人骨质疏松。所以，年轻人应该少喝碳酸一类的饮料，尽管它很解渴 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1116000" y="9806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在中医中，乳腺增生又叫乳癖，这一点大家都已经知晓，但大家不知道的是，乳腺增生的原因与喝冷饮有关早已经被清朝邹岳在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外科真诠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中就指出来了。该书对于乳癖的原因写道：“乳癖总由形寒饮冷，加以气郁痰饮流入胃络，积聚不散所致”，也就是说，喝冷饮时不但对脾胃不好，因脾运失健导致生湿聚痰，痰湿之邪性粘滞，易阻气机，痰气互结，经络阻塞则为乳癖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402000"/>
                </a:solidFill>
                <a:latin typeface="Times New Roman"/>
              </a:rPr>
              <a:t>　　因此，喝冷饮易得乳腺增生可不是一句耸人听闻的话，喝冷饮也是乳腺增生的原因，了解这一乳腺增生的原因，对于有乳腺增生的人来说，避免喝冷饮而导致病情加重，而对于没有乳腺增生的人来说，由于现下天气的变暖，请尽可能的避免喝冷饮，以免乳腺增生的发生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23:23:37Z</dcterms:created>
  <dc:creator>Lenovo User</dc:creator>
  <dc:description/>
  <cp:keywords/>
  <dc:language>en-US</dc:language>
  <cp:lastModifiedBy>微软用户</cp:lastModifiedBy>
  <cp:lastPrinted>1899-12-30T00:00:00Z</cp:lastPrinted>
  <dcterms:modified xsi:type="dcterms:W3CDTF">2011-11-18T02:32:22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