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4DD-A142-410B-B533-8C92D00D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CA8-FD7E-43BE-A2EB-7927A09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255-8F65-47FC-9800-CF1B86D3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850-8CB2-48E8-A7D0-BE521E99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D74-D480-470B-8C39-96B4122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988-6C88-43B3-94CF-720D1FB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82E7-C47F-4BBC-811A-74AB0D9A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BBB8-0AE6-4938-8DBD-018E6EC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4FA2-3A61-44BD-AB1F-FA7A381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C6B-B329-43D2-B38A-9E20C57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1D8-9F99-46E9-8FBA-8C7453BA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C0B-6FD5-4D79-8B3A-F92C9E47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748-4F8E-434E-96D7-A967498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8D90-1B05-482B-902F-3921043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53F-5C62-45BD-A374-E9325DD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B4C-3307-4874-B770-E3E0575D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E9C-FAA7-4930-8E43-FB2C4D99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126B-9C98-4238-BE0F-CCDF9B75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A1D2-79B0-406C-B672-078051E2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7DB6-6C23-47F1-8ABB-1F916780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127F-8B00-41C3-B7B8-D7AE28F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43E-BDA1-4B04-B72F-91D4D6A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1462-E45D-42C5-B5D6-F68922C2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53B5-80AC-4AF6-9F04-51D3EB28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7D87-370B-4D05-BE3C-BAA14380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68A8-5081-4046-AE2D-CF60EF9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4BDF-2184-4876-AD0E-69928885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DCA6-DF16-4226-A6B8-07D8365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8AF5-F221-4FCB-A455-E04B876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AE1C-3FC7-4762-8217-384FF528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2B6F-55CB-45EB-B823-F2DCFC6A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88C-6920-4B2B-96C5-88B2024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698-8187-41F1-8F59-BFA86010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5D7-C4F5-4011-B22F-0C5BF72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C95-9FA5-45CB-A0EA-AAEE4CC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A5E-B7B6-4894-8BAB-58FE655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ighthouse 2 or 5"/>
          <p:cNvPicPr/>
          <p:nvPr/>
        </p:nvPicPr>
        <p:blipFill>
          <a:blip r:embed="rId3"/>
          <a:stretch/>
        </p:blipFill>
        <p:spPr>
          <a:xfrm>
            <a:off x="1981080" y="228600"/>
            <a:ext cx="6934320" cy="394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D84-0451-4BE5-9B11-7C2589BBC6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981080" y="4191120"/>
            <a:ext cx="6934320" cy="1523880"/>
          </a:xfrm>
          <a:prstGeom prst="rect">
            <a:avLst/>
          </a:prstGeom>
          <a:solidFill>
            <a:srgbClr val="003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Picture 7" descr="Left Standard Gradient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5473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Three Frame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5"/>
          <p:cNvSpPr/>
          <p:nvPr/>
        </p:nvSpPr>
        <p:spPr>
          <a:xfrm>
            <a:off x="1981080" y="4191120"/>
            <a:ext cx="6934320" cy="1523880"/>
          </a:xfrm>
          <a:prstGeom prst="rect">
            <a:avLst/>
          </a:prstGeom>
          <a:solidFill>
            <a:srgbClr val="003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34" descr="GSS Puzzle Piece photo rectangle"/>
          <p:cNvPicPr/>
          <p:nvPr/>
        </p:nvPicPr>
        <p:blipFill>
          <a:blip r:embed="rId3"/>
          <a:stretch/>
        </p:blipFill>
        <p:spPr>
          <a:xfrm>
            <a:off x="1449360" y="193680"/>
            <a:ext cx="7542360" cy="399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Left Standard Gradient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547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Clarify_Commit_Connect_Shadow_Text"/>
          <p:cNvPicPr/>
          <p:nvPr/>
        </p:nvPicPr>
        <p:blipFill>
          <a:blip r:embed="rId5"/>
          <a:stretch/>
        </p:blipFill>
        <p:spPr>
          <a:xfrm>
            <a:off x="304920" y="838080"/>
            <a:ext cx="15984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Three Frame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8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d78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99"/>
              </a:spcBef>
              <a:buClr>
                <a:srgbClr val="b8ab9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1" marL="581040" indent="-20952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2" marL="838080" indent="-16164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3" marL="1095480" indent="-15264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4" marL="1371600" indent="-16200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5" marL="1371600" indent="-1620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6" marL="1371600" indent="-1620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E256-51E0-4247-81FB-796DD23B6723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13D2-5023-4741-BB72-534D58634DBF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24382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微软雅黑"/>
              </a:rPr>
              <a:t>YC-WM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微软雅黑"/>
              </a:rPr>
              <a:t>用户操作手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172200" y="51055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 Narrow"/>
              </a:rPr>
              <a:t>云创科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754600" y="601992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http://www.runtran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6226920" y="5638680"/>
            <a:ext cx="25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QQ:134208343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657600" y="2133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微软雅黑"/>
              </a:rPr>
              <a:t>仓库管理系统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库存总帐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190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1726560" y="5334120"/>
            <a:ext cx="42742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库存总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系统各个货品的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库存总帐报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库存总帐报表包括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货品的小件汇总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内包装数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、重量汇总、默认件数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库存量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单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200320" y="5334120"/>
            <a:ext cx="45846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单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查看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指定某一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某一时间段的送货入库单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查找到入库单据后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可双击某一单据进入查看详情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包含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导出、打印等功能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3.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单据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单据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267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明细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524800" y="171360"/>
            <a:ext cx="466920" cy="4381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848960" y="5334120"/>
            <a:ext cx="43088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明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任一货品信息的入库状态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点击货品类别选择指定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查看此类别下的货品信息入库明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明细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明细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8534520" cy="426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汇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013120" y="5257800"/>
            <a:ext cx="46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汇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货品物料的入库汇总状况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选择的查询条件包括：供应商、货品类别、入库类别、日期段、关键字查询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汇总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汇总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3434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数据字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236320" y="5486400"/>
            <a:ext cx="48679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数据字典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进入设置系统各项基础参数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基础参数包括：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货品类别、部门信息、入库类别、出库类别、帐目标识、往来单位分类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空白处点鼠标右键可快速增加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右边可输入名称、父节点</a:t>
            </a:r>
            <a:r>
              <a:rPr b="0" lang="en-US" sz="1200" spc="-1" strike="noStrike">
                <a:solidFill>
                  <a:srgbClr val="cc0066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cc0066"/>
                </a:solidFill>
                <a:latin typeface="宋体"/>
                <a:ea typeface="宋体"/>
              </a:rPr>
              <a:t>无限级别分类</a:t>
            </a:r>
            <a:r>
              <a:rPr b="0" lang="en-US" sz="1200" spc="-1" strike="noStrike">
                <a:solidFill>
                  <a:srgbClr val="cc0066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89720" y="51814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419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权限设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040840" y="5611680"/>
            <a:ext cx="5081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权限设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设置各部门人员进入系统查看各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模块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功能的权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权限设置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功能操作权限、库位选择权限、帐目管理权限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直接在功能前打勾选择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用户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668680" y="57150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用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进入新增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删除登陆系统的用户姓名、所属部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权限设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2040840" y="5611680"/>
            <a:ext cx="5081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权限设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设置各部门人员进入系统查看各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模块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功能的权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权限设置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功能操作权限、库位选择权限、帐目管理权限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直接在功能前打勾选择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896480" y="5486400"/>
            <a:ext cx="5103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选项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包含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系统初始化、数据管理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系统初始化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执行初始化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则系统会恢复出厂默认值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系统数据将会清零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(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慎用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数据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后可勾选列表中的信息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行备份勾选的数据或清空数据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9720" y="51958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419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505320" y="114300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600200" y="213372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 Narrow"/>
              </a:rPr>
              <a:t>感谢阅读</a:t>
            </a:r>
            <a:r>
              <a:rPr b="1" lang="en-US" sz="3200" spc="-1" strike="noStrike">
                <a:solidFill>
                  <a:srgbClr val="007572"/>
                </a:solidFill>
                <a:latin typeface="Arial Narrow"/>
              </a:rPr>
              <a:t>YC-W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6095880" y="541008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 Narrow"/>
              </a:rPr>
              <a:t>云创科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5622480" y="5867280"/>
            <a:ext cx="33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http://www.szsofttel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竖卷形 33"/>
          <p:cNvSpPr/>
          <p:nvPr/>
        </p:nvSpPr>
        <p:spPr>
          <a:xfrm rot="16200000">
            <a:off x="2628360" y="1132560"/>
            <a:ext cx="3698280" cy="369396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往来单位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仓库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报表分析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日程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5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基础档案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系统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帮助中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退出系统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14400" y="1143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导航菜单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90720" y="5181480"/>
            <a:ext cx="7619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建立公司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及存放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库位名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Arial Narrow"/>
              </a:rPr>
              <a:t>往来单位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建立公司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供应商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信息及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客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信息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开始进行货品</a:t>
            </a:r>
            <a:r>
              <a:rPr b="0" lang="zh-CN" sz="1400" spc="-1" strike="noStrike">
                <a:solidFill>
                  <a:srgbClr val="3b7497"/>
                </a:solidFill>
                <a:latin typeface="Arial Narrow"/>
                <a:ea typeface="宋体"/>
              </a:rPr>
              <a:t>入库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存放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0" lang="zh-CN" sz="1400" spc="-1" strike="noStrike">
                <a:solidFill>
                  <a:srgbClr val="3b7497"/>
                </a:solidFill>
                <a:latin typeface="Arial Narrow"/>
                <a:ea typeface="宋体"/>
              </a:rPr>
              <a:t>出库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作业了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7200" y="4724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快速使用云创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YC-WMS)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514600" y="2286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基础档案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货品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90720" y="5432400"/>
            <a:ext cx="7956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1200" spc="-1" strike="noStrike">
                <a:solidFill>
                  <a:srgbClr val="0033cc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在左空白处点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鼠标右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类别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类管理或添加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办公用品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;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图纸档案类等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父子节点划分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上角新增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添加新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输入货品名称、编号、</a:t>
            </a:r>
            <a:r>
              <a:rPr b="1" lang="zh-CN" sz="1400" spc="-1" strike="noStrike" u="sng">
                <a:solidFill>
                  <a:srgbClr val="f8062e"/>
                </a:solidFill>
                <a:uFillTx/>
                <a:latin typeface="Arial Narrow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内装数、价格等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右边处</a:t>
            </a:r>
            <a:r>
              <a:rPr b="0" lang="zh-CN" sz="1400" spc="-1" strike="noStrike">
                <a:solidFill>
                  <a:srgbClr val="cc0066"/>
                </a:solidFill>
                <a:latin typeface="宋体"/>
                <a:ea typeface="宋体"/>
              </a:rPr>
              <a:t>包装单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：可在此物料新增加不同条码信息及内装数、重量、进价、销售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53880" y="510552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209680" y="4419720"/>
          <a:ext cx="990720" cy="2268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11"/>
          <p:cNvSpPr/>
          <p:nvPr/>
        </p:nvSpPr>
        <p:spPr>
          <a:xfrm>
            <a:off x="3886200" y="4267080"/>
            <a:ext cx="2286000" cy="459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  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输入条码与物料绑定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,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在出入库时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,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条码枪扫描操作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00400" y="4495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Line 12"/>
          <p:cNvSpPr/>
          <p:nvPr/>
        </p:nvSpPr>
        <p:spPr>
          <a:xfrm flipH="1">
            <a:off x="1904760" y="9907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914040" y="1828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2590560" y="37339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4114440" y="35053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2397240" y="5176800"/>
            <a:ext cx="5117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图示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左空白处点鼠标右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新增或分类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父节点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以指定某一库位信息对应上级库位的父子关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图纸仓库下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室内、景观库位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在右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Arial Narrow"/>
              </a:rPr>
              <a:t>库位图示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中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可点击其中任一库位查看此处存放的货品名称、数量等信息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89720" y="48909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基础档案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库位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Line 12"/>
          <p:cNvSpPr/>
          <p:nvPr/>
        </p:nvSpPr>
        <p:spPr>
          <a:xfrm flipH="1">
            <a:off x="1904760" y="1066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914040" y="2057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3276360" y="24382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4190760" y="2209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2057400" y="1522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往来单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996920" y="5356080"/>
            <a:ext cx="5384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往来单位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类别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客户</a:t>
            </a:r>
            <a:r>
              <a:rPr b="0" lang="en-US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/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供应商信息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左边</a:t>
            </a:r>
            <a:r>
              <a:rPr b="0" lang="zh-CN" sz="1400" spc="-1" strike="noStrike" u="sng">
                <a:solidFill>
                  <a:srgbClr val="296dc0"/>
                </a:solidFill>
                <a:uFillTx/>
                <a:latin typeface="宋体"/>
                <a:ea typeface="宋体"/>
              </a:rPr>
              <a:t>固定类别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到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;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自定义分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自设定分类管理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右边显示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详情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上角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新增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可建立新公司名称、姓名、电话、地址等信息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990360" cy="1714680"/>
          </a:xfrm>
          <a:prstGeom prst="rect">
            <a:avLst/>
          </a:prstGeom>
          <a:ln w="0">
            <a:noFill/>
          </a:ln>
        </p:spPr>
      </p:pic>
      <p:sp>
        <p:nvSpPr>
          <p:cNvPr id="205" name="Line 12"/>
          <p:cNvSpPr/>
          <p:nvPr/>
        </p:nvSpPr>
        <p:spPr>
          <a:xfrm flipH="1">
            <a:off x="380880" y="99072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990720" y="1600200"/>
            <a:ext cx="75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Line 12"/>
          <p:cNvSpPr/>
          <p:nvPr/>
        </p:nvSpPr>
        <p:spPr>
          <a:xfrm flipH="1">
            <a:off x="3124080" y="35812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014200" y="5334120"/>
            <a:ext cx="4874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业务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供应商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存放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库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单号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公司分办处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(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帐目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)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下货品信息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选择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选择货品或模糊搜索货品名称录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在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处直接扫描货品物料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入库操作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(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条码在货品信息中录入绑定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操作员把货品入库完毕后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可打印入库清单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及直接审核或交由上级部门审核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89720" y="510552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业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280" y="766800"/>
            <a:ext cx="8534520" cy="4262400"/>
          </a:xfrm>
          <a:prstGeom prst="rect">
            <a:avLst/>
          </a:prstGeom>
          <a:ln w="0">
            <a:noFill/>
          </a:ln>
        </p:spPr>
      </p:pic>
      <p:sp>
        <p:nvSpPr>
          <p:cNvPr id="213" name="Line 12"/>
          <p:cNvSpPr/>
          <p:nvPr/>
        </p:nvSpPr>
        <p:spPr>
          <a:xfrm flipH="1">
            <a:off x="1981080" y="15238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1828800" y="44197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914400" y="4800600"/>
            <a:ext cx="38088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248520" y="1828800"/>
            <a:ext cx="1981080" cy="246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 Narrow"/>
              </a:rPr>
              <a:t>可修改进价、数量、存放位置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Line 12"/>
          <p:cNvSpPr/>
          <p:nvPr/>
        </p:nvSpPr>
        <p:spPr>
          <a:xfrm flipV="1">
            <a:off x="5105520" y="1905120"/>
            <a:ext cx="114300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6324480" y="2057400"/>
            <a:ext cx="30492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761760" y="914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1"/>
          <p:cNvSpPr/>
          <p:nvPr/>
        </p:nvSpPr>
        <p:spPr>
          <a:xfrm>
            <a:off x="1295280" y="4952880"/>
            <a:ext cx="2286000" cy="2764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扫描枪扫描货品条码入库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89720" y="48909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出库业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114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976760" y="5257800"/>
            <a:ext cx="4974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出库业务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客户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存放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库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单号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公司分办处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(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帐目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)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下货品信息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选择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选择货品或模糊搜索货品名称录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在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处直接扫描货品物料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出库操作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9900cc"/>
                </a:solidFill>
                <a:latin typeface="宋体"/>
                <a:ea typeface="宋体"/>
              </a:rPr>
              <a:t>出库的操作和入库流程一样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完毕后可打印出库清单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可直接审核或交上级部门审核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248520" y="1828800"/>
            <a:ext cx="1981080" cy="246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 Narrow"/>
              </a:rPr>
              <a:t>可修改售价、数量、存放位置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Line 12"/>
          <p:cNvSpPr/>
          <p:nvPr/>
        </p:nvSpPr>
        <p:spPr>
          <a:xfrm flipV="1">
            <a:off x="5105520" y="1905120"/>
            <a:ext cx="114300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6324480" y="2057400"/>
            <a:ext cx="30492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761760" y="914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1143000" y="4648320"/>
            <a:ext cx="38088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523880" y="4800600"/>
            <a:ext cx="2286000" cy="2764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扫描枪扫描货品条码出库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打印清单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534520" cy="3733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16720" y="54100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676160" y="5791320"/>
            <a:ext cx="63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</a:t>
            </a:r>
            <a:r>
              <a:rPr b="0" lang="zh-CN" sz="1400" spc="-1" strike="noStrike">
                <a:solidFill>
                  <a:srgbClr val="0033cc"/>
                </a:solidFill>
                <a:latin typeface="宋体"/>
                <a:ea typeface="宋体"/>
              </a:rPr>
              <a:t>入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0033cc"/>
                </a:solidFill>
                <a:latin typeface="宋体"/>
                <a:ea typeface="宋体"/>
              </a:rPr>
              <a:t>出库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界面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菜单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打印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即导出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EXCEL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格式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007572"/>
                </a:solidFill>
                <a:latin typeface="宋体"/>
                <a:ea typeface="宋体"/>
              </a:rPr>
              <a:t>可自行设定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)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打印货品入库清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出库送货清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343160" y="762120"/>
            <a:ext cx="307656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00600" y="762120"/>
            <a:ext cx="304812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6324480" y="121932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Line 12"/>
          <p:cNvSpPr/>
          <p:nvPr/>
        </p:nvSpPr>
        <p:spPr>
          <a:xfrm flipV="1">
            <a:off x="5029200" y="11426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Line 12"/>
          <p:cNvSpPr/>
          <p:nvPr/>
        </p:nvSpPr>
        <p:spPr>
          <a:xfrm flipV="1">
            <a:off x="5562720" y="11426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2895480" y="91404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日程管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89720" y="51195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626840" y="5572080"/>
            <a:ext cx="4309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日程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会弹出日历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击日期进行编辑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增加备忘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上图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2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3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选择日期所填写的备忘事件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267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3810240" cy="2133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3810240" cy="1752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66880" y="1676520"/>
            <a:ext cx="3970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1066680"/>
            <a:ext cx="39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276720"/>
            <a:ext cx="3808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1447920" y="1295280"/>
            <a:ext cx="114300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2133360" y="342900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5:01:12Z</dcterms:created>
  <dc:creator>南昌希创旺思公司</dc:creator>
  <dc:description/>
  <dc:language>en-US</dc:language>
  <cp:lastModifiedBy>henry</cp:lastModifiedBy>
  <dcterms:modified xsi:type="dcterms:W3CDTF">2012-09-12T07:05:53Z</dcterms:modified>
  <cp:revision>582</cp:revision>
  <dc:subject/>
  <dc:title>幻灯片 1</dc:title>
</cp:coreProperties>
</file>