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39.png" ContentType="image/png"/>
  <Override PartName="/ppt/media/image22.jpeg" ContentType="image/jpe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40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159D-D460-457E-ADD3-AA20796C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31ED-A68B-4B28-983F-FB4107D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F17C-095A-43AD-A337-3BC08F09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0FA0-286B-4DAE-BAA9-1744BB0D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978E-6259-4F2E-B345-A2EA06ED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00D8-009E-4BB0-A13B-20F0260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F810-2B44-4AC6-A7CC-2C64AC3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559D-635E-4CA2-9832-FC042A7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B044-620B-4566-BFDB-04112C6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FB7-DE0F-4FEB-9ADB-BC0967E5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B5FB-4653-491A-8240-4EA72A9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D6B9-3958-496A-848F-3E9F31E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EC2F-B5B7-4D62-A10C-554707F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EB64-2D90-414C-A787-FA29FA8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593-3203-416C-AFE5-0E08D25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C809-557D-4A73-9B5E-67C4510A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6331-1AAB-40F5-AE4F-19382193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29A2-E4E0-4A3A-94E9-2A2DEB6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4739-A40F-4AF6-83C5-C9C21AC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96CF-252B-4F7C-BF53-283E8A7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C5BB-14FB-432A-A92F-4C7D43F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19C3-A053-4FEC-815C-18EBAEC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D4CE-86F0-4BD1-9018-219BEC6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CCC7-DA20-4F76-A212-60534A6E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1EB5-F4BB-48F0-BD83-B7DFAA3B2D2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325-ED44-4176-91F6-28878D9773B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11.xml"/><Relationship Id="rId5" Type="http://schemas.openxmlformats.org/officeDocument/2006/relationships/slide" Target="slide33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622.htm" TargetMode="External"/><Relationship Id="rId2" Type="http://schemas.openxmlformats.org/officeDocument/2006/relationships/hyperlink" Target="http://baike.baidu.com/view/25126.ht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五子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71280" y="393336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建工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1-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黄斌，王文权，汪驰奡，许磊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庞剑威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俞意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213372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历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198900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规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234936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人生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如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84464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兵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172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阵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924280"/>
            <a:ext cx="35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开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284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好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342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棋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特殊规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职业连珠五子棋虽然对黑棋采取了种限制，但是黑棋先行的优势依然很大。因此，在高段位的职比赛中，又出现了三种特殊的规定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①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指定打法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比赛双方按照约定好的开局进行奔，由白棋先行。例如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明星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花月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等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参看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连珠五子棋的开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)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②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三手可交换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黑棋下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手棋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盘面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着棋之后，白方在应白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之前，如感觉黑方棋形不利于己方，可出交换，即执白棋一方变为执黑棋一方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此方法不适用指定局打法，而用于随意开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③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五手两打法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黑棋在下盘面上关键的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5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手时，必须下两步棋，让白方在这两步棋中任选一步，然后再续下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兵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先手要攻，后手要守， 以攻为守，以守待攻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攻守转换，慎思变化， 先行争夺，地破天惊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守取外势，攻聚内力， 八卦易守，成角易攻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阻断分隔，稳如泰山， 不思争先，胜如登天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初盘争二，终局抢三， 留三不冲，变化万千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多个先手，细算次先， 五子要点，次序在前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斜线为阴，直线为阳， 阴阳结合，防不胜防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连三连四，易见为明， 跳三跳四，暗剑深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己落一子，敌增一兵， 攻其要点，守其必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势已形成，败即降临， 五子精华，一子输赢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先手要攻，后手要守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的表面意思应该很容易理解，先手当然应该进攻，不要贻误时机。但有些时候局面并不是一边倒的形势，这就需要认真判断自己到底是不是真正的先手，如果前途暗淡，而对方也有些手段，就要小心了，冒然进攻，用完了自己的力量，再去防守对手，就成了彻底的后手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以攻为守，以守待 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攻不忘守，守不忘攻。有句话叫“最强的防守就是进攻”，防守别人棋的时候仔细看清局势，是不是有既能防守住对方又可以进攻的点。以守待攻，在对方狂攻一阵却无胜棋后，你防守的棋是否形成了外围的攻势？在安全的前提下，防守对方的棋最好不要太消极，等他攻完，就可以利用防守时形成的攻势轻松收拾对方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攻守转换，慎思变化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发现进攻没有胜棋，而对方防守的子力形成了一定的威胁，一般就会转攻为守了。或者守住了对方的进攻，得到先手而转守为攻。攻守转换的时候，要分析局面，有些冲四、活三是不是该先下了再去防守更好？还是冲后以后再防守会变得更困难？以守转攻的时候，要看清是不是真的已经完全守住了对方？他还有哪些力量，能不能够成威胁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先行争夺，地破天惊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守取外势，攻聚内力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用妙手强行夺得先手，这样的气势连天地都会惊动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防守的时候，尽可能防在外围，限制对方的空间，让他的棋没有发展前途。进攻则不能太分散子力，下得太靠外，被对方占据要点，阻断子力联系，不能形成有效的进攻。但攻聚内力并不等于放弃外围，使自己没有足够的空间进攻，守取外势也不能一味地在外围防守，而放弃内部必须占据的要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八卦易守，成角易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八卦就是由象棋四个马步形成的一种棋形，如果摆满全盘，则对方没有取胜的可能。还有一种说法叫“马步是强防”，即使不能摆满全盘，很多时候自己的棋子形成马步的点就是强防点。成角易攻，角就是三个紧紧连在一起的棋子构成的直角三角形，成角的形状后子力可互相多次利用，进攻源源不断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阻断分隔，稳如泰山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不思争先，胜如登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说的就是防守时的一种思想，阻断对方子力的联系，逐个击破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仅仅用消极的防御是赢不了棋的，防御的时候时刻要考虑夺回先手。两个棋力相当的棋手，一盘五子棋比赛过程，就是互相争先手的过程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初盘争二，终局抢三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开局的时候双方都没有连续进攻取胜的手段，就需要在限制对方形成活二的基础上自己形成更多的活二，时机成熟，一举攻胜。到了局终双方各有些活二、眠三，这时有些三就要先活，有些眠三就要先冲，占据空间要点，切断对方子力联系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留三不冲，变化万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很多初学五子棋的朋友是有三必冲的，殊不知在鞘中的剑才是最强的剑，冲四犹如宝剑出鞘，如果不能一击致命，出鞘之后的剑就没有威力了。留三不冲，你的这个冲就有两个点（一个连冲，一个跳冲）可以利用，相应对方防守的子也会少一个。有时把冲了以后活三改为直接叫四三，可以收到更好的效果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称谓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五子棋，日文亦有“连五子、五子连、串珠、五目、五目碰、五格、五石、五法、五联、京棋”等多种称谓，英文则称之为“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FIR (Five In A Row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的缩写）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Gomoku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日语“五目”的罗马拼音）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Gobang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connect 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mo-rphion”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捷克语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piskvorky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，韩语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omok……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许多国家的人对五子棋都有不同的爱称，例如，韩国人把五子棋称为“情侣棋”，暗示情人之间下五子棋有利于增加情感的交流；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欧洲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人称其为“绅士棋”，代表下五子棋的君子风度胜似绅士；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日本人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则称其为“中老年棋”，说明五子棋适合中老年人的生理特点和思维方式；美国人喜欢将五子棋称为“商业棋”，也就是说，商人谈生意时可边下棋边谈生意，棋下完了生意也谈成了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多个先手，细算次先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五子要点，次序在前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五子要点，次序在前。这里说的是顺序问题。同样的棋，顺序对了可以取胜，顺序错了没有胜棋，在实战中可以遇到这类情况。不要被自己很多可以活三冲四的棋看花了眼，认真计算正确的进攻顺序以及对方防守后会不会形成反三、反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斜线为阴，直线为阳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阴阳结合，防不胜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新手的朋友很容易忽视斜线的子力，斜线成五子同样取胜，可不能大意。善于进攻的棋手，能够做到直线和斜线相互配合，多角度的攻击能够大大增加进攻的杀伤力。之所以说斜线是阴因为不同颜色的两条斜线可以交错互不影响，相反的不用颜色的两条直线就不可能交错，因为无法穿越对方。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连三连四，易见为明 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跳三跳四，暗剑深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连三连四很容易看出，很多朋友却老是忽视跳活三、跳冲四的下法，不晓得跳出去又是另一片天空，跳出去进攻更具有隐蔽性。这两句放在一起是告诉棋手，连和跳并没有一定之规，关键看临场的形势，但是千万不能忽略可任何一种可能性，否则就会错失良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己落一子，敌增一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主要是说在进攻的时候不要忘记对方防守的子力，五子棋是你下一子，对方下一子，不比你少。你进攻一手棋，敌人防守一子，防守的棋子是不是会给你造成反三、反四？会不会阻碍了你的后续进攻？所以下棋的时候一定要惜子如金，每一子都要发挥出最大的效力，千万不可随便将变化走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攻其要点，守其必争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势已形成，败即降临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进攻的时候占据重要位置，下在可持续进攻的点。防守就要守在对方进攻过程中非常想占据的连接点，你想下的点，我来下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高手对弈很多时候是我们看不懂的，因为他们所追求的是“势”，一种压制住对方而取得压倒性优势的情况，这个时候可能不能简单的杀，但是通过精准的计算可以立即将这种“势”转化为杀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精华，一子输赢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些朋友输了以后说“你成五子了，我也活四了，我只比你差一颗子嘛”。其实五子棋争的就是这一步棋，谁争得了先手下成五子，谁就获胜，这也是五子棋的魅力所在。不要以一子之差原谅自己，一子就已经可以使你输棋了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寒星溪月疏星首，花残二月并白莲，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雨月金星追黑玉，松丘新宵瑞山腥。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星月长峡恒水流，白莲垂俏云浦岚，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黑玉银月倚明星，斜月名月堪称朋。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十六局先弃二，直指游星斜慧星。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4119480"/>
            <a:ext cx="583236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10909440" cy="6791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开局图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227640" y="19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372360" y="4508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635280" y="44370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5440" cy="6981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940360" y="90792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492360" y="3573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300720" y="35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549440" y="-603360"/>
            <a:ext cx="12192120" cy="8124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348000" y="90792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867280" y="981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39640" y="3645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5940360" y="3645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下五子棋的好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逻辑思维能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图像思考能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图像记忆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使快性子变慢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提高忍耐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提高心理素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77440" cy="6848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7672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724360" y="907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276720" y="393372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5867280" y="393372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斜指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81880" cy="590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直指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阵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4040280" cy="4608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921360" y="1773360"/>
            <a:ext cx="459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5600" y="1341360"/>
            <a:ext cx="1399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八卦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14440" y="1628640"/>
            <a:ext cx="2618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（强防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3821040" cy="446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99960" y="1844640"/>
            <a:ext cx="1399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长勾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816360" cy="3736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16720" y="198900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4320" y="206064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剑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776760" cy="3816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81000" y="2060640"/>
            <a:ext cx="2618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梅花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98800" y="1916280"/>
            <a:ext cx="26182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（强攻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248360" cy="40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97000" y="2205000"/>
            <a:ext cx="2618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双四角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645000" cy="3672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90440" y="2060640"/>
            <a:ext cx="2618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四角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3416400" cy="360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17720" y="2133720"/>
            <a:ext cx="2618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斜三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的历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五子棋是我国古代的、传统的黑白棋种之一，大约在南北朝时期随围棋一起传入朝鲜、日本等地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五子棋在日本叫“连珠棋”。据日本史料记载，五子棋先由中国传到朝鲜，再由朝鲜传到日本。当时主要在皇宫和贵族大家庭中流行。到元禄末年，在日本京都，这一当时被称做“五目碰”、“五格”的棋戏在民间开始盛行起来，无论武士、僧侣、农夫都能参加这一活动。到日本明治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3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（公元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），经过公开征名，“连珠”这一名称才被正式确定下来。从这之后，连珠这一活动以过了不断的改良，主要是规则的变化，例如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禁止黑白双方走“双三”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0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只禁止先行的黑方走“双三”，到了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1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被迫走“双三”亦算输；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1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也不许走“四、三、三”；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3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不许走“双四”，并规定将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X1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道线的围棋棋盘改为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5X1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道线的五子棋专用棋盘。通过一系列的规则变化使连珠五子棋这一简单的游戏复杂化、规范化，而最终成为今天的职业连珠五子棋，同时也成为一种国际比赛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887640" cy="3412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31960" y="2205000"/>
            <a:ext cx="1399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燕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916440" cy="4535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512680" y="1341360"/>
            <a:ext cx="13993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一字长蛇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人生如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假设黑子是你，白子是你要与之斗争的命运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我先从五子棋的术语入手开始解释吧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181320"/>
            <a:ext cx="727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天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黑子首步先落天元，即体现了法律最根本的精神：人生来是平等的或者可解释为：每个人都应该要正直，才能正确把握自己的人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白子首步须紧贴在黑子周围落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即表示：每个人从出生那一刻起，就注定着要与命运抗争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你不能逃避，否则就只能被命运击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黑必胜开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在二十四种开局中，只占两种，即说明：含着金勺子出生的天生好命的人，毕竟是少数 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必胜开局一旦被白方三手要求交换，原黑方的处境就很不妙了 。这说明：天有不测风云，娇生惯养的孩子生存能力低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一旦失去先天的优越条件，就很难继续生存了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8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黑必败开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光明大道你不走，偏要偏离正道走歪路，法网恢恢，疏而不漏呀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平衡开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此类开局占有二十种，且若走对，还是对黑子有利，说明：多数人还是会，而且能公平地与命运抗争的……所以，不遇苦而自苦的人，想开些，少自怨自艾，赶快努力奋斗吧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黑子应争取主动，多争先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做人也应该有积极向上、乐观的心态呀，对吗？而且每一个机会都是稍纵即逝的，应该尽量争取把握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白方摆八卦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有时命运会和你开玩笑…… 这时，你能做的惟有：努力冲破命运给你的束缚！而不是怨天尤人，坐以待毙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活二、活三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做人就应该要懂得制造机会，把握机会，眼光要放开，多打通门路，并要不断提高自己的素质、条件，才有可能成为优秀的人才，达到成功的目的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跳三、跳四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人都会有陷入迷惘陷入黑暗的时候，看不见前方的出路……何不看得更远些？或是换条路走，或许会吃力、费劲，但也许走了之后，就会发觉：曙光就在前方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冲四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有时你觉得自己条件很好了，就急着要表现自己，锋芒毕露。但因时机尚未成熟，你因此碰壁频频…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没关系！只要你有奋斗过，至少会有奋斗的足迹留下！它们也会为你的成功提供机会的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连续冲四取胜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你的努力终究不会是白费的！用心规划你的人生棋路，用心走好每一步，等待时机的成熟，你再经过一番奋斗之后，必然可争取到你所希冀的成功，实现你为之奋斗的理想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反四取胜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机遇永远只会垂青有准备的人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一子双杀或多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要想在竞争如此激烈的社会中生存，当然需要多几个文凭、多几样本事的啦！有了它们，你当然就会成竹在心，胜券在握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双三、双四禁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唉……谁叫你八面玲珑，两头讨好，但没有不透风的墙，结果还是被发觉，人家当然不爽。自然要被飞”啦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长连禁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凡事过犹不及！知道了吧？吃力不讨好就是这个样子了…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一着走错，满盘皆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按理，黑若没走错步，最后应可获胜或是和棋的…… 但是…… 谁能保证在错综复杂的棋势中，没有判断失误的时候呢？吃一堑，长一智。输赢不是靠运气，靠的是实力！吸取教训，下次不要再被同一块石头绊倒哦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~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棋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118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谢谢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世纪初五子棋传入欧洲并迅速风靡全欧。目前，职业连珠已迅速在国际上发展起来。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8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日，国际连珠联盟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(RIF)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由日本、俄罗斯、瑞典、亚美尼亚、阿塞拜疆、爱沙尼亚、拉脱维亚、白俄罗斯等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个成员国在瑞典宣告创立，中国于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正式加入国际连珠联盟，现在全世界已有近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个国家和地区成为国际连珠联盟的正式会员。职业连珠的世界锦标赛从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8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起每两年举办一次，现已举办了十届。就水平而言，目前以爱沙尼亚、俄罗斯、中国最强。我国选手参加最高级别比赛的成绩是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北京第六届世锦赛张进宇获得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组第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名，白涛获得的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组冠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六、七届世界团体锦标赛第三名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秋明第十届世锦赛吴镝问鼎世界冠军。我国于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成功地举办了第二届世界青少年锦标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在北京举办了第六届世界锦标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一届连珠亚洲杯赛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六届世界青少年锦标赛。取得此成绩反映了我国五子棋水平在世界上所处的位置，同时也显示了我国在此项运动中的发展潜力。职业连珠在中国经过十多年的发展，我国选手总体水平有了很大提高，尖子选手已跻身世界优秀选手行列，世界排名进入前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位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五子棋规则在日本的完善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中国古代的五子棋双方虽然经过较量也可以分出胜负，但先走方在子力上占很大的优势，这样作为竞技体育还条件不够（规则公平是竞技的基础）。因此在漫长岁月里，五子棋只能做为休闲娱乐的游戏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后来，到了公元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68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至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70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，日本元禄时代，五子棋经由朝鲜传入日本。在日本，五子棋的地位明显提升。下五子棋的人逐渐增多，传说还出现了号称天下无敌的高手。日本于明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公元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取意中国史书中“日月如合璧，五星如连珠”一句，经过征名，把五子棋正式定名为“连珠”。并在向竞技体育的方向上进行了一系列的规则上的改良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规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首先于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黑白双方均禁止走“双三”。堵住了双方通往胜利可能性的一条重要渠道。这样增加了难度，提高了技术性。还规定了多局制决定胜负，来使对弈双方获得比较均等的获胜机会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众所周知，用这种方法不能解决多大问题，先走方的优势无法铲除。五子棋连五为胜，先走一方优势很大。五子棋没有吃子，也不比占地大小，无法从这两方面给后走方一些补偿。日本人从双方禁手受到启发，试着给先走的黑方设立禁手。先后于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0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双三”为黑方禁手；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16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长连”为黑方禁手；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3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双四”为黑方禁手。堵住几条黑方获胜的可能性渠道还不够，又给白方开辟了一条新的获胜渠道，就是规定黑方被迫走禁手也判负，意味着白方可用强迫黑方走出禁手而获胜，这就是“追下取胜”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从规则上设立禁手的规定，在平衡先后手双方获胜比率上迈出了一大步，同时还丰富了双方的攻防手段和变化，使五子棋的技巧性得以加强。但是比赛实战统计表明，黑方胜率仍高于白方，显然要达到竞技体育的基本条件还不够理想。首先从一局棋对弈的双方来讲，好像两名赛跑的运动员开始没有站在同一起跑线上，谁使用黑棋，获胜的概率就大些。再者，从比赛的整体结果看，参赛者的成绩名次的排序，应基本符合参赛者的技术水平，而使用黑棋还是白棋，干扰了成绩名次的排序，是不能允许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之后，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7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的三好丈夫提出了三手可交换的方法，直到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9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正式采用三手交换的规则，同时还规定了前三手棋均由对局开始时的黑方布局的指定开局法。三手可交换规则的执行，使开局后的使用黑白棋的决定权交给对局开始的白方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后手方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，所以迫使开始时的黑方多不走出过强或必胜的开局，使开局阶段子力相对平衡。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8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又进一步采用五手两打法规则，来限制黑棋开局走不了最强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至此，日本对五子棋规则上进行了一系列改良，使简单的五子棋游戏复杂化，规范化。取胜的技术性远远超出使用黑白棋的机遇性，先走方，后走方获胜的机会趋于均等。基本达到对抗性竞技的要求，最终才有可能使五子棋发展成现行规则，成为被国际上广泛接受的棋类竞技项目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14:56Z</dcterms:created>
  <dc:creator>DELL</dc:creator>
  <dc:description/>
  <dc:language>en-US</dc:language>
  <cp:lastModifiedBy>DELL</cp:lastModifiedBy>
  <dcterms:modified xsi:type="dcterms:W3CDTF">2012-05-11T05:01:53Z</dcterms:modified>
  <cp:revision>5</cp:revision>
  <dc:subject/>
  <dc:title>五子棋</dc:title>
</cp:coreProperties>
</file>