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A9D-B5DC-4869-9417-8BCEB2FC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D9D-514C-4A3D-BAC0-C38115B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63A-F780-47EE-B8AA-C5AC64CA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D24-196A-49D7-BD6B-C0A7B936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9EB-4158-4C8C-A988-5DC67BC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167E-2BD2-43FA-AC57-A0FD13A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680-4A72-42F6-B5CF-B1730E39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6A2C-133D-4F31-AFA0-4F1BB7DC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A7B8-75A5-4260-AD0F-70110B1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C9BC-8CD2-4BD1-978C-C6288B91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2FF-83E1-4E5C-96CD-F8DDB46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B30-966D-4D23-AB84-96C5785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D2EC-D4F9-476E-8840-91366D8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532B-2E75-4ECF-A3C2-6D88EC6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2055-9D16-445A-A9B3-E0F7298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5FC-C39B-4D45-BA32-4AF5681D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081-AC40-42A0-AE87-714233B8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1F5-8243-4912-9AE7-940CB10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4C4-A320-43CD-970A-458A0DA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EF6-4B39-4F3F-9FA5-B0999DC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91E-B8A4-4831-BE3B-95C4ABA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4B0-A020-4647-A759-ABA0ABD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90B-9539-417F-9F25-B41C2D4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47F-8057-480D-BAAC-6750269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1765-CD77-4438-A820-0EB6009E8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B16-2F0B-4A14-AC1F-E2D75366FF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40000"/>
                </a:solidFill>
                <a:latin typeface="Arial"/>
              </a:rPr>
              <a:t>高考作文指导之一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典人文底蕴作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人皆醉我独醒”，“路漫漫其修远兮，吾将上下而求索”的爱国志士屈原，“亦余心之所善兮，虽九死其犹未悔”，面对支离破碎的祖国，面对饥寒受苦的老百姓，作为士大夫却束手无策，纵身跃入滔滔江水中，为后世可歌可泣之人。他找准了自己的位置，他是一名为黎民百姓谋幸福生活的士大夫，面对朝廷的腐败束手无策，只好投身于江，为祖国献出了自己宝贵的生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披发行吟河畔的是屈子。楚国的落日染红眼前的汨罗江，子兰谗言，郑袖内惑，人民如涸辙之鲋，喘息挣扎。屈子的坚持有用吗？恐怕他自己也不得不摇头叹息。楚国灭亡之时，也是他命尽之刻。他把政治家的身份远置于诗人之上。“人谁能以身之察察，受物之汶汶者乎？”生不为诗人，死的方式却是诗人的。执著如屈子，你怎听不进“圣人不凝滞于物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司马迁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韧与顽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你一个人孤独地坐在那阴湿的牢狱里，等着最后的决断。你，一个小小史官，没有多少家产，面对这样的牢狱之灾，你只能做出屈辱的选择……有谁知道那一刻你的内心所滚动的痛苦和无奈，有谁能体会到你内心所翻腾的屈辱和泪水？假如时光能倒流，我想握住你的手，我想告诉你一句话：在亿万中国人的心中，你，司马迁，就是一个大大的英雄！你以你瘦弱的躯体，铸就了中国人心中永远的魂魄——屈辱非但没有消灭一个人的人格，反而成就了他的非凡的伟大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司马迁刚直与坚韧。面对残酷的刑罚，面对众人的嘲笑，他没有屈服，他依旧屹立在历史的巅峰上。“究天人之际，通古今之变，成一家之言”，刚正不阿，留作正气满乾坤；幽怨忧愤，著成信史照尘寰。正是太史公的凛然正气，才能使得他站在人生的高峰上呼啸：“人固有一死，或重于泰山，或轻于鸿毛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微笑的脸，自信而刚强，柔和而不屈，以不变应万变的从容潇洒。怪不得，一部“史家之绝唱，无韵之离骚”终于成就了你，那位以一张永葆微笑的脸化屈辱为力量、化鄙薄为斗志，“通古今之变，成一家之言”的伟人。极刑之下见勇夫，因为《史记》，你留给了世人一笔最大的财富；因为微笑的脸，你留给了我们永远的崇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曾经身处那样险恶的环境，忍受着世人的嘲讽和内心的痛苦，太史公却凭着自己的奇崛神笔，以刚毅之心正直之气来书写历史，书写两千年的沧海桑田。于是，他的名字便与他的不朽著作一起载入史册，那张悬着两滴清泪的脸也与他的精神一起沉淀在历史的长河中，留下了后人对他的光辉评价：刚直不阿，留将正气冲霄汉，幽愁发愤，著成信史照尘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杜      甫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忧国忧民的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多想握住你的手啊！让我感受一下这神奇的手。这手写下了多少千古诗篇！写下多少真实记录现实的“史诗”！“笔底波澜，民间疾苦；世上疮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中圣哲。”这不正是你的写照吗？有些话我已烂熟于胸：“安得广厦千万间，大庇天下寒士具倶欢颜。呜呼，何时眼前突兀见此屋，吾庐独破受冻死亦足！”无数人为之感动、折服。这是一个怎样宽广的胸怀啊？这是一颗怎样仁厚的赤子之心啊？就让我握住你的手吧，让我摸摸你那为民间疾苦奋笔疾书的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辛弃疾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豪情万丈的悲情人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日楼头，断鸿声里，犹见你这个江南游子，“把吴钩看了，栏杆拍遍，无人会，登临意。”南宋小朝廷的苟安让你有如共工怒触不周之山，在一次次地奋力抗争中遍体鳞伤。你悲愤，你无奈，你拍胸，你哭号，你的震天长啸只换来同僚的白眼和朝廷的鄙弃。你累了，醉了，俯在酒案上高吟“不恨古人吾不见，恨古人不见吾狂耳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而，稼轩，你是否看见，千百年来，有一位书生同样意气方遒，要与你同饮杜康，销汝块垒。稼轩，你不是孤独的，你的金石之容，豪气贯虹，将永载青史，千秋万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陶渊明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洁人格的代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晋代田园诗人陶渊明也曾热衷于官场，想在仕途上一展自己的抱负。但当他做了彭泽县令，了解到官场的黑暗以后，便毅然辞官归隐，“羁鸟倦旧林，池鱼思故渊”，他还是喜欢“采菊东篱下，悠然见南山”的生活，从此躬耕农田，不问世事。他找到了自己的位置，实现了他的人生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陶潜伴着“庄生晓梦迷蝴蝶”中的翩翩起舞的蝴蝶在东篱之下悠然采菊。面对南山，渊明选择忘记，忘记那些官场的丑恶，忘记自己遇到的所有不快，这是心灵的选择，这是过河人在“河”的两岸所做出的明智的选择，这更是明智的“摆渡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那个“采菊东篱下，悠然见南山”的隐士，是那个“但识琴中趣，何劳弦上声”的雅人，是那个“带月荷锄归”的农夫，对！是他，是这享誉文坛百千年的陶渊明。他不愿“为五斗米折腰”，“守拙归园田”。他忘却了官场的失意，忘却了仕途的不达，却记住了世人的愿望，写出了心中的圣地——桃花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离尘世，隐归田园，看花开花落。陶渊明生活很清逸，很自由，像蓝天中的白云，像高坡上散着幽香的菊花。那颗渴望自由的心被官场的牢笼束缚太久了，难道没有什么寄托？选菊吧！清新淡雅，与世无争，不正像他不羁的性格吗？是陶诗将心寄托于菊，寻回了一方心灵的净土，也是陶诗让菊带上了品质高洁，与世无争的高姿态帽子流传至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簇簇幽幽香菊在院子里静放，娇美的蝴蝶在花丛中翩翩起舞，山涧清泉一直流过家院门口。早上，雾色渐渐散去。透过微薄的阳光，一位老人拿着锄头，提着竹篮，向院中走去。“山气日夕佳，飞鸟相与还……”他吟唱诗句，步履悠闲地跨进了院子……他便是陶渊明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幽幽香菊与他为伴，下地耕耘自给自足。闲暇时，便以清泉沏上菊花茶，细细品味；农忙时，便与菊花相枕相依，乐在其中。陶渊明的确生活得自在，他的身上处处洋溢着与众不同清闲与旷达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菊东篱下，悠然见南山”，中国的文人里，又有谁能将心澄净到如此境界，以至于只剩下南山之菊？陶渊明选择了归隐之路。这一路走得潇洒，走得清明。然而，陶潜除了饮酒采菊之外，还做了些什么？这或许连他自己都无法回答。归隐之路为中国无数文人选择，但正如余秋雨先生所言：“自我完善式的道德导致了整体上的不道德。”或许是历史的机缘，促成了一座文学的丰碑。但历史的路若要向前延伸，凭千万个陶渊明能够走出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勾      践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志者事竟成——隐忍的成功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站在田里，举起锄头，奋力耕耘着，豆大的汗珠顺着他的额头流过他俊美的脸庞，滴落在田地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不是一个普通的农夫，他是勾践。他卑事夫差，宦士三百人于吴，还要亲自做夫差的马前卒。回到会稽他就亲自耕种，做到非其亲种则不食，非其妻所织则不穿。吃着粗陋的饭食，还要舔尝苦胆；躺在柴草铺上休息时，还在思考着招揽八方的人才。他一刻也不懈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为什么要这样辛苦呢？国亡了，他可以逃走，可以隐居，可以平静地终老一生，然而他没有！因为他没有忘记国君的责任，没有忘记亡国的耻辱！在他的心底，铭记着他向夫差俯首称臣那一刻的心痛，铭记着他的子民迎他回到会稽时满眼的泪水！这铭记，使他可以忍受苦胆之苦，柴薪之硬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庄      子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洒脱的智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有所息是一种超脱，一种自然，这不仅仅是休息，更是灵魂的自由与憩息，正如那平原上的大河，是遍历风尘的安详地徜徉。那槁首黄馘的庄周，汉水垂钓的庄周，在夕阳西下中隐去了的他的身影。我看见他的心有如秋日的湖水一般的清澈，在那悠悠的岁月深处，远方的大哲用一生换取山林川泽中灵性的解脱。于是我开始懂得，生有所息，不是简单的休整上路，而是一种无上的境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击三千里，抟扶摇而上者九万里，去以六月息者也。”——持竿垂钓的庄子，有人劝他涉世为官，他漠然视之；他孤傲的心灵走不进浑浊的仕途。他出乎其外，超然尘世，视楚国相位而不顾，跳出浑浊秽气的世俗；他又入乎其内，独善其身，甘做一棵在清风中独立看守月亮的大树，把持着那洁白的美德，“享受”着逍遥的人生。庄子知入知出，一生朝气蓬勃，光霁月明。他面对一池澄清秋水，背对功名利禄，他的心就如同身边流淌的溪水一样清澈，洁净。他超然的心态注定他与仕途无缘，但正是他“出入”和谐的心态，才成就了他逍遥的一生，才使他留下了“水击三千里，扶摇而上者九万里”这样汪洋恣肆的篇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李      白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人生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道“行路难”，却一直在走。走着笑看红尘，走着辞别故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壶浊酒，“歌遍山河八万里”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叶轻舟，“惟见长江天际流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而李白同样是位被上苍嫉妒的文人啊！嫉妒他的人——年少英才；嫉妒他的诗——出水芙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道“行路难”，却一直在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翰林遭贬，他“儿戏不足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噫出西京”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放夜郎，他“凤歌笑孔丘，一生好入名山游”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所走的路更让我佩服。李白人生路上的磨难哪里比陶潜、屈子少呢？但他却一直在走，因为他坚信“长风破浪会有时”！一块宝玉，在僵硬的政治舞台上磨来折去，却无半点玷污与磨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孔      子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拓的布道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愤忘食，乐以忘忧： “发愤忘食，乐以忘忧，不知老之将至。”当时孔子已带领弟子周游列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年头，历尽艰辛，不仅未得到诸侯的信任，还险些丧命，但孔子并不灰心，仍然乐观向上，坚持白己的理想，甚至是明知其不可为而为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贫乐道： 孔子说：“不义而富且贵，于我如浮云。”在孔子心目中，行义是人生的最高价值，在贫富与道义发生矛盾时，他宁可受穷也不会放弃道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善尽美： 孔子对音乐的内容与形式非常重视，《论语•述而》：“子在齐闻《韶》，三月不知肉味。”孔子评价《韶》乐尽善尽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固穷 ：孔子说：“君子固穷，小人穷斯滥矣（君子能固守穷困而不动摇，小人穷困就胡作非为了）。”告诫君子任何艰难的时候，不管发生什么事情，也应该维护自己的操守和道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逝者如斯夫： 孔子望着滚滚而去的河水，触景生情，禁不住喟叹：“逝者如斯夫，不舍昼夜！”孔子于司空见惯的流水绿波之中发现了深奥的道理，懊丧的情绪也如水般流去了。后来庄子在《庄子•知北游》中也有类似感叹：“人生天地间，如白驹之过隙，忽忽而过。”形容时间流逝得非常快，这也是“白驹过隙”的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苛政猛于虎： 孔子路过泰山，见有一位妇女在坟茔旁痛哭哀号，于是询问。妇女回答说：“我的公爹被老虎吃了！”孔子让子路问道：“为什么不离开这个地方呢？”妇人回答道：“因为这里没有苛捐杂税的暴政。”孔子对随从的弟子们说：“苛政对人的危害，有甚于猛虎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价而沽： 孔子游说诸侯，想得到重用，却四处碰壁，十分感伤，常暗中自怨自艾。某日，子贡得一美玉，来问孔子，是要收藏，还是找个识货的卖掉。孔子大声叹道：“沽之哉，沽之哉！我待贾者也！”意为：卖掉吧，卖掉吧，我正等着识货的人哩。比喻等待有了赏识自己的人才会出来效劳出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行必有我师：孔子一向被尊称为“圣人”。这位饱学之士，却发出了“三人行，则必有我师焉”的感慨。孔子曾师郯子、苌弘、师襄、老聃，虽然郯子之徒，其学问不及孔子，但孔子虚心求学的态度却令人钦佩。在孔子看来，众人的才识和智慧，其中一定有值得学习和借鉴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诸葛亮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-76320" y="685440"/>
            <a:ext cx="9220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忠臣的代表，智慧的化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丈原的军帐内，一盏油灯映照着他——诸葛孔明憔悴的面庞。蜡黄的脸上显露着他的不甘，口中喃喃道出的是对后世的无尽牵挂。帐内四周站立的官员早已热泪盈眶。终于，一阵秋风袭过，那盏油灯即刻熄灭。五丈原内哭声响彻一片。又何止是五丈原，千百年来，中华民族的多少后人为这位旷世英才潸然泪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尽管蜀汉依然只能偏居一方，遥望中原；尽管，人们对汉业的光复仍然只能去期望；尽管，孔明还留下了太多太多的未完成。但是这些早已被人们忘却。人们只记得他的忠心为主；人们只记得他为了三分天下而鞠躬尽瘁；人们只记得他为无处容身的汉业打下了基石。人们早已将孔明奉为神明，而孔明，也成了中华民族智慧的化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柏树茂盛繁密，在清明的空气中，闻到了英雄的气息。他是卧龙，身居山林之间，也很清高。但是后来他离开了，去了战场，他运筹帷幄之中，决胜千里之外。他很快乐，因为他帮助了朋友，帮助了那个三顾茅庐以真情把他请出了山的人。他在战争之中，感到自己活得很充实，终于留下了“出师一表真名世，千载谁堪伯仲间”的美名。位置的正确与他的坚守位置，让他在阳光中感受到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苏      武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望一生的气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武，比大漠还要古老的汉使，守望着他的高原，大漠的风雕刻出手掌的龟裂，大漠的霜雪染白了他的双鬓，草原上的树孤独地守望着自由，鹰群年复一年地画出亘古的弧线，我听不见他的哀叹，只看见光滑而秃的汉节，是的，它在诉说着尊严、自由与气节，于是我懂得，生无所息不仅是生活态度，更是生命流淌的血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刘      禅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不思蜀的懦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坐在那里开心地笑着。耳边响着美妙的音乐，嘴里品着美味佳肴，怀里抱着美女佳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丝竹琴韵里，听不到大臣们讨论争执的吵闹；酒香芬芳里，嗅不到战火烧过城池的刺鼻的呛味；美女的流波眼光里，感受不到剑阁栈道凄凉的冷月。他已经忘却了他是刘备的儿子，蜀汉的国君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真的觉得这样很好，没有政务缠身，却有荣华享乐。父辈暴霜露，斩荆棘，才有尺寸之地。子龙在乱军中拼死冲杀的目的，父皇在追兵前不弃百姓的良苦用心，孔明在《出师表》中的耿耿忠心，他全忘却了！如此富庶的天府之地，他举以予人，如弃草芥，实在令人寒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岳     飞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296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忠报国，还我河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志饥餐胡虏肉，笑谈渴饮匈奴血”。如此凌云壮志却被昏庸皇上的十二道金牌召回临安，英雄难以再倾力保家卫国。纵然是白了少年头空悲切的惆怅哀痛令人心酸，也敌不过朝野中奸佞小人的流言蜚语，最终只能背负着“莫须有”的罪名饮恨长辞。但那句“待从头，收拾旧山河，朝天阙”的豪言壮语激情四射，永远震荡着人们的心灵，回响在大地河山之间——纪念岳飞，让我懂得了何谓“精忠报国”的铁骨铮铮，澎湃着我爱国的血液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风波亭上的月华失去了光泽，当你用含泪的眼看着一旁的儿子，也看着即将离别的山河，你，一个失去了士兵的将军，面对一杯毒酒，你选择了吞咽！有谁知道那一刻你的内心所涌动的情感，有谁知道你壮志未酬英年早逝的悲痛心情？假如时光能够倒流，我想握住你的手，我想对你说：你，岳飞将军，虽然你死于一场政治斗争，可是你早已成了民族魂！为了收复失地，你写下了“壮志饥餐胡虏肉，笑谈渴饮匈奴血”的誓言，谁能忘记你背上刻着“精忠报国”的字样啊！你的死，对忠奸二字做了最淋漓尽致地注解，在忠与奸之间筑起了一道分明的墙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王      维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禅意中微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到王维从深林中缓缓走来，带着微笑，带着禅意，轻轻吟诵：“明月松间照，清泉石上流。”顿时，一轮明月由心中升起，照亮了人生幽暗的道路，一股清泉由心底涌出，洗去了我尘世中的烦躁。走在这条禅意的道路上，我用深情的宁静俯视它，用恬淡去亲吻它，用真诚去抚摸它，因为，我足下的路——平淡，幽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张      继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失谁能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这样一首诗：“月落乌啼霜满天，江枫渔火对愁眠。姑苏城外寒山寺，夜半钟声到客船。”此诗是中唐诗人张继所作。当时的张继也是一个胸怀大志的学子，他受到家里的支持和朋友帮助，学有所成进京赶考，想以此成功实现心申的理想和报答家人朋友。可天公就是不做美，张继的第三次科考又一次落榜。在回家的途中，张继路过苏州，夜宿江边。看着窗外婆娑的枫叶，听着远处悠悠的钟声，张继伤感得失眠了。他想到自己苫读多年的艰辛，想到自己朋友、家人的期望，可自己又一次的失败了。于情于理他真想放弃，可如果就这样放弃又怎么对得起家人、朋友呢 经过漫长的思考他最终理性地选择了放弃科考，去发展自己的另一片天地。于是他提起笔写下了这千古绝唱。一千九百多年过去了，当时的状元呢？当时的状元街谈巷议，穿红戴绿，可如今人们却把他忘了。人们记住的是这不朽的诗篇。正是张继理性地对待了自己的现状，而没有受到感情的拖累，才造就了张继最后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540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嵇      康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弹琴打铁，孤傲绝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博才嵇康 嵇康少时聪明好学，但是骄纵任性，远迈不群，这种性格深深地影响了他的为人处世，史书上称他少有奇才，博览群书，无师自通，学识渊博。他爱好音乐，演奏古琴的技巧非常高明，在当时是首屈一指的高手。稽康的书法也很有名。造诣很高，“如抱琴半醉，酣歌高眠。又若众鸟翱翔，群乌乍散。”他的诗也可以称得上大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嵇康打铁 嵇康爱好打铁，铁铺子在后园一棵枝叶茂密的柳树下，他引来山泉，绕着柳树筑了一个小小的游泳池，打铁累了，就跳进池子里泡一会儿。见到的人不是赞叹他“萧萧肃肃，爽朗清举”，就是夸他“肃肃如松下风，高而徐引”。从中可见其对生活的潇洒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陵散绝 嵇康被司马氏集团所杀，临刑这天，嵇康要来一架古琴，调好后，开始弹《广陵散》，霎时间，刑场上一片安静，琴曲昂扬激越，如怨如慕，如泣如诉，余音悠长，萦回低啭。弹毕，嵇康长叹一声：“过去袁孝尼要跟我学《广陵散》，我总是不肯教他，《广陵散》今绝矣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才情、人生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洒脱，不寄托于高堂的庄严，不艳羡那官场的利禄，站在大唐的江山上，站在诗人的位置上，任清风涤荡心胸，随月辉起舞弄影，“天生我材必有用，千金散尽还复来”，他吟出了好大的斗志；“俱怀逸兴壮思飞，欲上青天揽明月”，他吟出了好大的气魄；“大鹏一日同风起，抟摇直上九万里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吟出了好大的理想，于是，大唐的江山史册上又多了几分厚重、灵动的神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道能说无仕途作为的李白没有体现自己的价值吗？不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哐当、哐当……”听见那清脆的打铁声了吗？清风拂面，强健的肌肉散发出生命的气息，熊熊的烈火陶冶着高尚的情操。嵇康，这个时代的英雄，一代才子，就在这儿过着铁匠的生活。和其他人一样，你也对他期望很高吧，可是你敢劝他人仕吗？是否忘了《与山巨源绝交书》？那铿锵的言辞己经向所有人宣告了他对仕途的不屑，就让他做他自己吧，让“竹林七贤”永远过着“邺下放歌”、“竹林饮酒”、“曲水流觞”、“南山采菊”的生活，不要让世俗的秽气覆盖了菊花淡淡的幽香。或许这就是生命的真谛，不管他人如何期望，自己认为是对的就不懈追求，追求自由、追求崇高、追求生命的尊严、追求英雄本色，抛开他人的期望，抛开他人的劝阻，向着自己的认识迈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嵇康也许天生一副傲骨，不屈于俗，不慕于官，过着白己田园隐士的生活。一代名将钟会，慕名往谒，嵇康只是打铁而不顾。钟会在临走时，没忘记恨恨地瞪两眼。于是嵇康便上了刑台，理由是谋乱。行刑前，执刑官问他还有何话说，他抬起头，看着台下三千太学生稽首向着一个高高在上的人，司马昭也看着嵇康。嵇康知道，以他的名望，只要向司马昭说一句恳求的话，往后则皆大欢喜。他的心在动，心在痛，屈服吗？不，他知道自己并没有错。于是他说了句：“把琴拿来。”……他勇于赴死的从容给了历史一个隽永的背景，那已成绝响的《广陵散》余音绕耳，嵇康是在尊严与生命之间做出了令人回味的抉择。若干年后，我们会说：这是最令人回肠荡气的选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韩       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也萧何，败也萧何？成败由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胯下之辱     淮阴有个屠户侮辱韩信，说：“虽长大，好带刀剑，怯耳”。并当众侮辱他说：“能死，刺我；不能，出胯下。”韩信注视了对方良久，慢慢低下身来，从他的胯档下爬了出去。街上的人都耻笑韩信，认为他是个怯懦之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运多舛      秦末，项梁起兵反秦，渡过淮河北上，韩信此时带着宝剑投奔了项梁，留在部队，默默无闻。项梁败死后，又归属项羽，项羽让他做郎中。韩信多次给项羽献计，项羽不予采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萧何月下追韩信      韩信多次同萧何交谈，得到萧何的赏识，却始终不被刘邦所重用，于是乘月而走。萧何听说韩信走了，来不及向刘邦报告便骑上马去追韩信。追上韩信后，萧何问韩信为什么要走，韩信说：“汉王不信任我，不用我，我留在这儿也没什么意思，想去投奔别人。”萧何说：“你先别走，和我一块回去。如果这次汉王再不封你为大将，你再走也不迟呀。”在萧何的再三恳求下，韩信勉强跟萧何回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信将兵，多多益善     有一回，汉高祖刘邦在和韩信的闲谈中，议论朝中将领的军事才能。到后来，刘邦问韩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看我能指挥多少军队呢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信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陛下您最多能指挥十万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邦又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你能带多少兵呢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信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带兵越多越好（多多益善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映出韩信的自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信一生相当精彩，在天下大乱之时尚能逆势而为，能忍辱负重，能坚持理想，最后终于成就大业：但当天下已定，却不能调整自己惕励勤勉，洞悉时势变化，更不能始终珍惜艰辛创业所带来的可贵友谊，一时的寡断与自私，将白己的前途当场断送。对于有能力的英雄好汉来说，再恶劣的环境都不足以击垮他，反而是时势造英雄，英雄创时势的绝佳机会。但必须谨记：太平之日才是英雄最危险的时局，太平盛世是“政治人物”活跃的舞台，英雄们该审时度势，找回自己的价值，谨守进退之道，明白“马上得天下，却不能马上治天下”的道理，如果当时韩信洞悉事情己经发生转折，坚持“英雄有所为，有所不为”的情操，就不会身死人手，至少可与刘邦分庭抗礼，历史恐怕己经改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史公用如椽大笔活现了淮阴侯韩信一生沉雄悲壮的历史。在楚汉相争的历史大决战中，能够叱咤风云，纵横捭阖，决定鹿死谁手者，非淮阴侯韩信莫属。然而正是这位赫赫大将军，曾几何时命运多舛，历经坎坷，险些为历史大潮淹没、吞噬。且不说“始为布衣时，贫，无行，不得推择为吏：又不能治生商贾”，遭受“胯下之辱，人多厌之”，即使亡楚归汉之初，也未能一展身手，名位低浅，碌碌无为乃至再次失望而逃，萧何月下追韩信就此上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荆      柯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死知己，提剑出燕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水萧萧   太子以及知道荆轲要去刺杀秦王这件事的宾客，穿一身素装来送别荆轲。至易水上。高渐离击筑，荆轲和而歌，为变徵之声，士皆垂泪涕泣。又前而为歌曰：“风萧萧分易水寒，壮士一去兮不复还！”复为羽声慷慨，士皆瞋目，发尽上指冠。于是荆轲就车而去，终已不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穷匕见    在秦殿上，荆轲取出燕国地图捧着它献给秦王，地图展完了，刺杀秦王的匕首忽然露了出来。荆轲乘势用左手抓住秦王的衣袖，用右手迅速拿起匕首向秦王胸口刺去。匕首没有刺到秦王，秦王大惊，吓得连连后退，绕着朝堂上的大铜柱子跑。荆轲紧紧地逼着。旁边虽然有许多官员，但是都手无寸铁；台阶下的武士，按秦国的规矩，没有秦王命令是不准上殿的，秦王拨出了剑，砍断了荆轲的左腿。荆轲站立不住，倒在地上。他拿匕首直向秦王扔过去，却没有击中。武士们这时冲上来，把荆轲杀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常常怀念远古，那是一个充满人格魅力的时代。那些君子翩翩风度的背后，是一个用诚实、信用、执著的信念支撑的人的结构。那别萧萧易水而去的壮士，难道他不留恋自己的家园故国？难道他不知道深入虎穴的险恶与危难？他义无反顾地去了，去得那样坚定，带着一腔对国君的忠诚和满怀对誓言的忠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子的身影已在远方消逝成一个小白点，易水的澎湃涛声还依稀可辨，毫无暖意的寒风吹着车上的旗子，车辕因为车子的起伏而吱吱作响，我看了一眼秦舞阳，他也在望着易水的方向。高渐离的筑声又在心头响起，我的豪气复在胸间奔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武则天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非功过任评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字碑的智慧     树碑立传，自古以来已成惯例，然而，唐代女皇武则天却为自己立了一块不书文字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字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此碑至今还在乾陵武则天墓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字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非无字，如果仔细观察，上面密密麻麻刻了许多文字，这全是宋、金以来人们因“无字”之憾而添补的题识。女皇武则天对唐高宗树碑立传，为何对自己树碑而不立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非成败转头空，古今多少事，都付笑谈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感情亲疏和对事物的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惟一的女皇武则天的当政，在中国两千年的封建长河中，被一些卫道士们认为违反天理，违反人理纲常，然而，这些评价公正吗？显然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则天当政期间，知人善任，提倡有识之士自荐，并广开言路，重视发展经济。在她统治下，唐朝经济继续朝前发展，之后便出现了“开元盛世”，难道这些违反天理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而，面对古人，封建卫道士在感情上亲近封建伦理，尊崇封建道德，所以否定她；而我们站在历史长河上，用理性的思维去认识这件事，所以能给予正确评价。这便是根据感情亲疏判断事物的片面性，不准确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相信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为，武则天是聪明坦荡的，她由一个宫女成为一代女皇，干了那么多石破天惊的大事，主宰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的江山，却在自我评价上留下了一张白纸，也拒绝了别人在她的墓碑上对她歌功颂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担当生前事，何计身后评”。“生前事”是最重要的，它意味着使命感和责任感；至于“身后评”，那是后人的事，褒贬“于我何有哉”？武则天和曹操都是这样的历史人物。如果他们在“担当生前事”的时候就想到后人会对自己如何评价，思前想后，诸多顾忌，就可能会束缚他们的手脚，使其不敢大刀阔斧地行事。而这也正是他们最大的悲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宽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唐语林》记载：骆宾王写了著名的《讨武曌檄》，臭骂武则天，武则天看到“蛾眉不肯让人，狐媚偏能惑主”（意指武则天用花言巧语诱惑了皇上），一笑了之，及至读到“一抔之土末干，六尺之孤何托？” 时，她深为骆宾王的才气所动，对左右埋怨说：“宰相安得失此人！”（宰相怎么没注意到这样的人才！）   骆宾王死后，武则天找人寻访他的作品，找到了十卷，“盛传于世”。   骆宾王任侍御史时入狱，写了《在狱咏蝉》，说：“无人信高洁，谁为表予心？”他死后，决没想到“表”他“心”的竟是他的头号敌人！武则天的肚量，由此可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正确评价历史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则天是一个有自知之明的人，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字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聪明之举，功过是非让后人去评论，这是最好的办法。武则天当政期间，贞观以来经济发展的趋势，仍在继续：在处理唐高宗去世前后的复杂局面中，她表现了不平凡的个人才干：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纳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两点，连许多具有封建正统思想的人士，都为之赞叹不已。但是，武则天的消极面也十分突出。她为了巩固个人的地位，任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酷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也曾滥杀无辜，崇信佛教，奢侈浪费。特别是统治后期，朝廷政治日趋腐败，形成一批为武则天所纵容支持的新的特权贵族。最终导致武则天被迫交出权力，还政于唐中宗。她知道对自己的一生，人们会有各种各样的评价，碑文写好写坏都是难事，因此决定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字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由后人去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曹      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煮酒论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废除寒食节     “寒食节”相传起源于春秋时晋文公悼念介之推之事。因介之推抱木焚死，人们就定于是日禁火寒食一百余天。曹操有一年视察并了解当地百姓的生活民情时，发现民间百姓每年度过“寒食节”的方式，己经非常严重地影响和危害了老百姓的身体健康，于是下令废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倡薄葬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曹操颁布了一道《终令》，提出死后不要厚葬，要将自己埋葬在瘠薄的土地上，依照地面原有的高度作为圹基，陵上不堆土，不植树。一年后，他为自己准备了送终的四季衣服，并留下遗嘱说：我如果死了，请按当时季节所穿衣服入殓，金玉珠宝铜器等物，一概不要随葬。曹操是中国历史上第一位提出“薄葬”的帝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割发代首     有一次，曹操大军经过农田，看见田里庄稼丰收在望，于是下令凡践踏麦田的，就斩首示众。不料自己的马受惊而一下子蹿入麦田中，践踏坏了一块麦田。为了实践自己的命令，取信于民，于是就割了自己的头发来代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裸足迎才     许攸来投曹操，曹操正在睡觉，一听旧友许攸来投，连忙从床上跳下来，鞋袜不穿，跑出恭迎。遥见许攸，抚掌欢笑，携手共入，操先拜于地。许攸一见，感慨万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疑杀华佗     晚年的曹操患了头脑痛风症，僚臣华歆向他推荐了神医华佗。遗憾的是，当华佗指出其症因风而起，病根入脑，风涎不能出，枉服汤药，须利斧开脑取风涎方可根除时，曹操竟疑心华佗是想乘机害他性命，遂将华佗杀了，一代神医命绝于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滥杀无辜     董卓败乱朝纲，曹操带领几个人逃回乡里，经过友人成皋吕伯奢的家。伯奢出去了，只有他的五个儿子。夜晚听到他们食器碰撞的声音，误以为是想谋害自己，于是在夜里杀了他们。而且还凄怆地说：“宁教我负天下人，休教天下人负我！”由此可见曹操阴险冷酷的权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个性、人格、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有意气，才能有豁达的胸襟。“安能摧眉折腰事权贵，使我不得开心颜”，遭人诽谤的李白，被玄宗赐金放还，虽有昭昭若明星之德，日月齐辉之才，终化为泡影，但他仍意气风发，“举杯邀明月，对影成三人”，“酒放豪肠，七分酿成了月光，余下的三分啸成剑气，口一吐就半个盛唐。”若无意气，他怎会有如此豁达的胸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勾弯月在冷凝处低悬，片片浮萍碎成摇曳的翡翠。诗人一声长叹，涌起层层墨香。李白的一生因为没有模仿世俗的不堪之流而名垂青史，因为舍弃了“钟鼓馔玉”，而做了一回真正的自我。他的人生是成功的。如果他像当时的士大夫之徒一样追求金钱和名利，而违背自己的灵魂，那么祖国的山河里便不再有他的飘逸的长衣，历史里也便不再有他的名篇佳作为世人吟咏。历史的雨没有下进太白的灵魂，他把一个真实的自己写进了历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人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青子衿，悠悠我心：但为君故，沉吟至今。”《短歌行》中的这句诗可以说是曹操人才观最重要的体现。曹操身为一个领导者，对人才更是极端的渴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，曹操是爱才的，因为他自己就是一个成大事的人才。惟才是举，是曹操既出于他爱才的天性，更出于三分天下形势所逼，三分天下，得人才者居之。因为爱才，才会不顾众人反对，舍得放关羽回去。因为爱才，才会真诚录用曾经发檄文骂曹操祖宗的陈琳。因为爱才，才会在郭嘉病重时期百般照顾，怜惜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，曹操尊重人才，不苟求，不求全责备，这是他吸引人才、使用人才的一种气度和自信。如果没有这种思想、胸襟和气度，曹操怎能讨董卓，诛吕布，败袁绍，打马超，白手起家，扫灭群雄，拥有北方天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进取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汉末年的战乱，给生产力带来极大破坏，经济萧条，白骨累累，给人带来一种感伤颓废的情绪。曹操的这首诗如一阵春风，吹散了这种伤感的情绪。他的乐观主义精神是难能可贵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骥伏枥，志在千里：烈士暮年，壮心不已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为流传千古的名句，激励人生进取。在闲难时期，曹操能激流勇进，积极向上，敢于向命运挑战，这是一种十分高尚的人生情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雄还是奸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招贤纳杰，知人善用。聚荀彧、郭嘉于帐下，收许褚、张辽于阵前，座下文有能臣，武有良将，“山不厌高，水不厌深”，你呼唤着海内之士都越陌度阡来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军帐前，盈樽独饮，举剑问天，汉邦才俊，何不尽归我耶？你行于“蒿里”，但见“白骨露于野，千里无鸡鸣”，于是悲从中来，“念断人肠”；你东临碣石观沧海，沉吟“日月之行，若出其中，星汉灿烂，若出其里”，敞开胸怀想把天地包容；你江心横槊， “对酒当歌，人生几何” ，指点江山，激扬文字，风骚独领，挥毫泼墨，笑傲文坛。你是那般才华横溢、那般风流满洒！马背上，勒缰援须，豪情满腔，又在酝酿新的诗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以道、义、治、度、谋、备、仁、明、文、武十胜于天下，但仍有人称你为奸雄。是因为你生性多疑，屠吕伯奢全家，还是因为败你诗兴而槊死刘馥，忌恨才学而故杀杨修？抑或是你功高震主，无视汉天子存在？奸雄，时人作下的预言，史学家对你的评判，小说家给你的名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德啊！只有你自己明白，“是非成败转头空，浪花淘尽英雄”，功与过留与后人评说，我只管把酒临风，歌以咏志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策一匹骏马，在昏黄的古道上奔驰。然而，官场的尔虞我诈，世俗的道貌岸然绊住他奔跑的脚步，无情的现实冷却了他一腔热血。是啊，想当年力士为他脱靴，贵妃为他磨墨，那该是他仕途上奔跑得最顺畅的时期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，无意间他看到了力士谄媚的丑态和贵妃不可告人的笑，他觉得他应该永远让他奔跑的双脚停滞不前，离开这黑暗的金马门。他清醒地知道，他宁愿散尽千金，只求一醉，也不愿摧眉折腰，做大唐的“御用文人”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他带上一把佩剑，把一杯酒去寻访他暂且放在名山的白鹿，永远跨出黑暗的仕途之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昔日他骑御赐骠马奉诏奔驰，今日他骑白鹿奔向他梦寐以求的远方。浊酒深酌，重返喜地，寻幽豪饮，同销万古情愁，南下吴越，梦游天姥，齐叙难酬鸿志。奔跑让他屡跌屡撞，奔跑又让他获得心灵的超越——思想，永远在徘徊和失意中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事权贵”的青莲居士，曾放荡不羁地笑骂孔夫子，曾让“一骑红尘妃子笑”的杨玉环为其研墨，让高力士为其脱靴。这是多么“异端”之举，多么荒谬之行。然而太白见不容于世之滋垢时，便愤然离去了。没有易安居士那“这次第，一个愁字了得？”的忧伤，也没有柳三变“执手相看泪眼，竟无语凝噎”的悲哀。一句“吟诗作赋北窗里，万言不值一杯水”的笑叹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风破浪会有时，直挂云帆济沧海”，意气风发的李白，对前途充满着无限的憧憬。他想通过官场仕途一展才华，报效国家，挥洒人生。然而，多年的官场生活，多年的仗剑游历，让李白反思起来。有过得意，也有过失意，他终于看清了从仕之路的艰辛与黑暗，高力士为其穿靴实则铐住了他的双脚，朝廷赏赐实际上是主子施舍的乞食。于是“钟鼓馔玉不足贵，但愿长醉不复醒”，以美酒清洗心中的抑郁，以山泉清洗世间的污秽，每一次醉后醒来，他又重新开始放眼世界自然，跋涉大江南北。他始终有一种信念，始终有一种火热的诗情冲动，始终有超俗的“出入”的洒脱！因此，他虽不被朝廷重用，但却不被世事摒弃，也不被百姓遗忘。于是他不断地重拾希望，不断地将自己“大隐于市”，也许他的人生哲学便是“宇宙人生，既入乎其内，又出乎其外”吧！李白啊！不愧为“诗仙”，却是个依市而居的仙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苏      轼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人生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轼这个曾经辉煌的文人，因乌台诗案而开始落魄，流落四方，辗转难安。在赤壁的月夜，他心灰意懒，看“江上之清风，山间之明月”，做他那个神鹤翩跹而舞的梦。面对如江水般深沉的失意，他看见风在山顶呼啸，盘旋，然后带着撕身裂骨的阵痛穿越漆黑的荆棘林。刹那间，他心中郁结的块垒，缠绕的苦痛随风而散。挫折，痛苦，唯有忘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东坡乌台诗案后被贬黄州，物质匮乏，精神萧索，可苦难终使他振作、使他成熟。尖啸的山风于谷口处收住，化为温柔的和煦；湍急的河流于河口处放缓，化为宽广的浩瀚；绚烂的人生于苦难处收束，化为成熟与淡泊。于是苏东坡从黄州突围，终成赤壁二赋，大江一词，名传千古，恩泽了后世无数书生骚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-152640" y="-360"/>
            <a:ext cx="9296280" cy="76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才情、个性与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有意气，才能有豁达的胸襟。“惟江上之清风，与山间之明月，耳得之而为声，目遇之而成色”，苏子有意气，虽遭官场与文场一齐泼来的污水，但他仍意气风发，“侣鱼虾而友麋鹿”，心胸豁达可见一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坡披发仰天大呼“大江东去”，他面临的那些烦心琐事顷刻之间沉入滚滚波涛之中，消失得无影无踪。壮阔的滔滔江水让东坡选择忘记，忘记那些失意、悲伤，忘记那些仕途的不得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德在赤壁低吟悲歌，周瑜在赤壁谈笑风生，而真正带给赤壁完美壮烈的是苏轼。官场上的险恶风波并没有消沉他高昂的意志，生活上的清贫并没有销蚀掉他那乐观向上的心。伴着涓涓细泉，聆听习习古风，故园神游中，苍银白发与皎洁月光交相辉映。一尊还酹江月，多么豪迈的举杯，淡逝了多少哀伤及生活磨难——纪念苏轼，让我懂得了在困难逆境中应保持有奋勇向前的心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那个“拣尽寒枝不肯栖”的寒鸦么？是那个“一蓑烟雨任平生，何妨吟啸且徐行”的行者么？是那个高唱“大江东去”的诗人么？苏轼，一个被宋神宗称赞为“才与李白同，识比李白厚”的千古大家，在遭受小人泼来的污水，遭受贬谪后，忘却了所有的失意。他在黄州种地酿酒，“夜饮东坡醒复醉”，在黄州“倚杖听江声”，在黄州写下“大江东去”。他总是那样的淡泊从容。他总是将所有的痛苦失意抛诸脑后，铭记着世间之美丽。不然，何来“亲煮东坡肉”，何来“日啖荔枝三百颗，不辞长作岭南人”的旷达与豪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屈      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洁的情操与远大的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曼曼其修远兮，吾将上下而求索。”屈子从长长的历史甬道中走出，带着一身正气凛然，带着满腹诗书才华，然而个性的棱角在世故的社会中又何以保全？于是，为了皓皓之白，为了独醒于世，屈子选择了“悲壮”之路。在滔滔的汨罗江水中，他将自己洗刷地如此透彻清澄。但当他忘记了混浊的天下之时，他又何曾记得还有千万的百姓与自己远大的理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，这一人类与生俱来的元素在一代仁人贤士的一生中抒写得淋漓尽致。他们将真情吐露，活得满满洒洒，坦坦荡荡，屈原便是这样一位真性情的人。他高唱“长太息以掩涕兮，哀民生之多艰”。他高呼“亦余心之所善兮，虽九死其犹末悔”，他将一个臣子的心掏出来呈现在众人面前，不矫饰，不造作，终于，他的性情铸就了他的英名，他从此不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袁志洁</dc:creator>
  <dc:description/>
  <dc:language>en-US</dc:language>
  <cp:lastModifiedBy>袁志洁</cp:lastModifiedBy>
  <dcterms:modified xsi:type="dcterms:W3CDTF">2008-01-20T13:19:38Z</dcterms:modified>
  <cp:revision>33</cp:revision>
  <dc:subject/>
  <dc:title>经典人文底蕴作文素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