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948-A1FA-4E02-BE3F-859095DD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83D-4A25-4062-B3E3-1D5264A5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C02-717D-41FE-B01F-1D6E8C11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BC2-DD1C-47B2-8BF3-9AEA7F54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3FB7-2680-4728-8EA0-5916CE4C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F70D-A1E2-40BF-8E1D-AD7D7BA8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EA6D-BE5F-4F37-948D-0C334779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64A6-93DA-48C8-B8EA-2AE7B251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E999-4BE0-48A4-8883-83104FA8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B1B8-3F3F-4C31-AB48-CC429643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087A-6903-496E-9D68-B0354FD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05D-F409-42B8-9883-9BD41DB5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0C65-59D3-48A0-B283-ABDBC2A8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36B4-01AF-418D-926B-8ECFA6D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FDA6-97B7-4662-BDF3-AB86F341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7119-1251-41E0-BA39-D76798BB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91DC-436F-4115-9DB4-EFE8F217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87D-9952-45D1-B60B-ED422107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04F-96AC-4C92-8F83-BCC97A76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F2D-5778-4D16-8788-175DED60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42B-C483-4F56-80CB-4F4504BB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5E9-8082-4192-9BF6-341B2D0E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2C3-3CAD-41BC-BD9E-43F90498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878-B1C3-48D7-999D-F9C0D106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18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4FE-1A5B-4BEE-8003-71BCBF4123B3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2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21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20"/>
            <p:cNvSpPr/>
            <p:nvPr/>
          </p:nvSpPr>
          <p:spPr>
            <a:xfrm>
              <a:off x="1066680" y="6480"/>
              <a:ext cx="734724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17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87280" y="358920"/>
            <a:ext cx="36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扬州大学本科生毕业设计（论文）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ACC6-9C3D-4A40-A417-A15A0ED051C9}" type="slidenum">
              <a:rPr b="0" lang="zh-CN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图形算量软件应用对比研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12000" y="6092640"/>
            <a:ext cx="28080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建筑科学与工程学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757840" y="25178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指导老师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SJM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57840" y="341784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1d1d1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答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辩：</a:t>
            </a: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GKJ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181080" y="1238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手工计算各分项工程的工程量计算步骤及对应消耗时间比例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79280" y="1700280"/>
          <a:ext cx="8785440" cy="4176720"/>
        </p:xfrm>
        <a:graphic>
          <a:graphicData uri="http://schemas.openxmlformats.org/drawingml/2006/table">
            <a:tbl>
              <a:tblPr/>
              <a:tblGrid>
                <a:gridCol w="744480"/>
                <a:gridCol w="2927520"/>
                <a:gridCol w="1512720"/>
                <a:gridCol w="1729080"/>
                <a:gridCol w="187164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的具体步骤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消耗总时间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对应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外所占比例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标识工程构件的基本信息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程量计算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3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套定额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整理、复核，手工誊写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4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e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输入电脑、制成电子表格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3.5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9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汇总整理并进行打印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6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据的修改、机动时间</a:t>
                      </a: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.00%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endParaRPr b="0" lang="en-US" sz="20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软件计算各步骤时间耗费所占比例饼状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719280" y="1557360"/>
          <a:ext cx="7740360" cy="490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1557360"/>
                    <a:ext cx="774036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667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2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分项工程的工程量计算数据对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1258920" y="1258920"/>
            <a:ext cx="1724040" cy="482040"/>
            <a:chOff x="1258920" y="1258920"/>
            <a:chExt cx="1724040" cy="482040"/>
          </a:xfrm>
        </p:grpSpPr>
        <p:sp>
          <p:nvSpPr>
            <p:cNvPr id="297" name="Freeform 4"/>
            <p:cNvSpPr/>
            <p:nvPr/>
          </p:nvSpPr>
          <p:spPr>
            <a:xfrm>
              <a:off x="1360440" y="15364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8" name="Rectangle 5"/>
            <p:cNvSpPr/>
            <p:nvPr/>
          </p:nvSpPr>
          <p:spPr>
            <a:xfrm>
              <a:off x="1258920" y="1258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柱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299" name="Group 6"/>
          <p:cNvGrpSpPr/>
          <p:nvPr/>
        </p:nvGrpSpPr>
        <p:grpSpPr>
          <a:xfrm>
            <a:off x="1258920" y="2338560"/>
            <a:ext cx="1724040" cy="482040"/>
            <a:chOff x="1258920" y="2338560"/>
            <a:chExt cx="1724040" cy="482040"/>
          </a:xfrm>
        </p:grpSpPr>
        <p:sp>
          <p:nvSpPr>
            <p:cNvPr id="300" name="Freeform 7"/>
            <p:cNvSpPr/>
            <p:nvPr/>
          </p:nvSpPr>
          <p:spPr>
            <a:xfrm>
              <a:off x="1360440" y="261612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1258920" y="233856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d69e"/>
                </a:gs>
                <a:gs pos="50000">
                  <a:srgbClr val="6ce7c7"/>
                </a:gs>
                <a:gs pos="100000">
                  <a:srgbClr val="00d6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梁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2" name="Group 9"/>
          <p:cNvGrpSpPr/>
          <p:nvPr/>
        </p:nvGrpSpPr>
        <p:grpSpPr>
          <a:xfrm>
            <a:off x="1258920" y="3417840"/>
            <a:ext cx="1724040" cy="482400"/>
            <a:chOff x="1258920" y="3417840"/>
            <a:chExt cx="1724040" cy="482400"/>
          </a:xfrm>
        </p:grpSpPr>
        <p:sp>
          <p:nvSpPr>
            <p:cNvPr id="303" name="Freeform 10"/>
            <p:cNvSpPr/>
            <p:nvPr/>
          </p:nvSpPr>
          <p:spPr>
            <a:xfrm>
              <a:off x="1360440" y="369576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4" name="Rectangle 11"/>
            <p:cNvSpPr/>
            <p:nvPr/>
          </p:nvSpPr>
          <p:spPr>
            <a:xfrm>
              <a:off x="1258920" y="341784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墙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5" name="Group 12"/>
          <p:cNvGrpSpPr/>
          <p:nvPr/>
        </p:nvGrpSpPr>
        <p:grpSpPr>
          <a:xfrm>
            <a:off x="1258920" y="4497480"/>
            <a:ext cx="1724040" cy="482040"/>
            <a:chOff x="1258920" y="4497480"/>
            <a:chExt cx="1724040" cy="482040"/>
          </a:xfrm>
        </p:grpSpPr>
        <p:sp>
          <p:nvSpPr>
            <p:cNvPr id="306" name="Freeform 13"/>
            <p:cNvSpPr/>
            <p:nvPr/>
          </p:nvSpPr>
          <p:spPr>
            <a:xfrm>
              <a:off x="1360440" y="477504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7" name="Rectangle 14"/>
            <p:cNvSpPr/>
            <p:nvPr/>
          </p:nvSpPr>
          <p:spPr>
            <a:xfrm>
              <a:off x="1258920" y="44974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d46ae8"/>
                </a:gs>
                <a:gs pos="50000">
                  <a:srgbClr val="e6a9f2"/>
                </a:gs>
                <a:gs pos="100000">
                  <a:srgbClr val="d46a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门窗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cxnSp>
        <p:nvCxnSpPr>
          <p:cNvPr id="308" name="AutoShape 15"/>
          <p:cNvCxnSpPr>
            <a:stCxn id="297" idx="11"/>
            <a:endCxn id="301" idx="0"/>
          </p:cNvCxnSpPr>
          <p:nvPr/>
        </p:nvCxnSpPr>
        <p:spPr>
          <a:xfrm>
            <a:off x="2115720" y="168552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09" name="AutoShape 16"/>
          <p:cNvCxnSpPr>
            <a:stCxn id="300" idx="11"/>
            <a:endCxn id="304" idx="0"/>
          </p:cNvCxnSpPr>
          <p:nvPr/>
        </p:nvCxnSpPr>
        <p:spPr>
          <a:xfrm>
            <a:off x="2115720" y="2765520"/>
            <a:ext cx="5400" cy="65304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cxnSp>
        <p:nvCxnSpPr>
          <p:cNvPr id="310" name="AutoShape 17"/>
          <p:cNvCxnSpPr>
            <a:stCxn id="303" idx="11"/>
            <a:endCxn id="307" idx="0"/>
          </p:cNvCxnSpPr>
          <p:nvPr/>
        </p:nvCxnSpPr>
        <p:spPr>
          <a:xfrm>
            <a:off x="2115720" y="384444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11" name="Line 18"/>
          <p:cNvSpPr/>
          <p:nvPr/>
        </p:nvSpPr>
        <p:spPr>
          <a:xfrm>
            <a:off x="2158920" y="198900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2158920" y="306864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3" name="Line 20"/>
          <p:cNvSpPr/>
          <p:nvPr/>
        </p:nvSpPr>
        <p:spPr>
          <a:xfrm>
            <a:off x="2158920" y="414972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467240" y="97992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柱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4467240" y="2089800"/>
            <a:ext cx="170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梁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4467240" y="32929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墙的脚手架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4365360" y="428508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门窗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18" name="Group 26"/>
          <p:cNvGrpSpPr/>
          <p:nvPr/>
        </p:nvGrpSpPr>
        <p:grpSpPr>
          <a:xfrm>
            <a:off x="1258920" y="5576760"/>
            <a:ext cx="1724040" cy="482400"/>
            <a:chOff x="1258920" y="5576760"/>
            <a:chExt cx="1724040" cy="482400"/>
          </a:xfrm>
        </p:grpSpPr>
        <p:sp>
          <p:nvSpPr>
            <p:cNvPr id="319" name="Freeform 27"/>
            <p:cNvSpPr/>
            <p:nvPr/>
          </p:nvSpPr>
          <p:spPr>
            <a:xfrm>
              <a:off x="1360440" y="5854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20" name="Rectangle 28"/>
            <p:cNvSpPr/>
            <p:nvPr/>
          </p:nvSpPr>
          <p:spPr>
            <a:xfrm>
              <a:off x="1258920" y="5576760"/>
              <a:ext cx="1724040" cy="423360"/>
            </a:xfrm>
            <a:prstGeom prst="rect">
              <a:avLst/>
            </a:prstGeom>
            <a:gradFill rotWithShape="0">
              <a:gsLst>
                <a:gs pos="0">
                  <a:srgbClr val="003bb2"/>
                </a:gs>
                <a:gs pos="50000">
                  <a:srgbClr val="6c8ed3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板工程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21" name="Line 29"/>
          <p:cNvSpPr/>
          <p:nvPr/>
        </p:nvSpPr>
        <p:spPr>
          <a:xfrm>
            <a:off x="2158920" y="5229360"/>
            <a:ext cx="5943600" cy="0"/>
          </a:xfrm>
          <a:prstGeom prst="line">
            <a:avLst/>
          </a:prstGeom>
          <a:ln cap="rnd" w="38160">
            <a:solidFill>
              <a:srgbClr val="d1d1d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322" name="AutoShape 30"/>
          <p:cNvCxnSpPr/>
          <p:nvPr/>
        </p:nvCxnSpPr>
        <p:spPr>
          <a:xfrm>
            <a:off x="2123640" y="4941360"/>
            <a:ext cx="5400" cy="653400"/>
          </a:xfrm>
          <a:prstGeom prst="straightConnector1">
            <a:avLst/>
          </a:prstGeom>
          <a:ln w="9360">
            <a:solidFill>
              <a:srgbClr val="d1d1d1"/>
            </a:solidFill>
            <a:miter/>
          </a:ln>
        </p:spPr>
      </p:cxnSp>
      <p:sp>
        <p:nvSpPr>
          <p:cNvPr id="323" name="Text Box 33"/>
          <p:cNvSpPr/>
          <p:nvPr/>
        </p:nvSpPr>
        <p:spPr>
          <a:xfrm>
            <a:off x="4416480" y="54439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板的模板工程量计算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4" name="Freeform 34"/>
          <p:cNvSpPr/>
          <p:nvPr/>
        </p:nvSpPr>
        <p:spPr>
          <a:xfrm rot="8971200">
            <a:off x="6658920" y="907560"/>
            <a:ext cx="973080" cy="646200"/>
          </a:xfrm>
          <a:custGeom>
            <a:avLst/>
            <a:gdLst>
              <a:gd name="textAreaLeft" fmla="*/ 0 w 973080"/>
              <a:gd name="textAreaRight" fmla="*/ 973440 w 97308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5" name="Freeform 35"/>
          <p:cNvSpPr/>
          <p:nvPr/>
        </p:nvSpPr>
        <p:spPr>
          <a:xfrm rot="8971200">
            <a:off x="6658920" y="1988640"/>
            <a:ext cx="973080" cy="646200"/>
          </a:xfrm>
          <a:custGeom>
            <a:avLst/>
            <a:gdLst>
              <a:gd name="textAreaLeft" fmla="*/ 0 w 973080"/>
              <a:gd name="textAreaRight" fmla="*/ 973440 w 97308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17daa7">
                  <a:alpha val="32156"/>
                </a:srgbClr>
              </a:gs>
              <a:gs pos="100000">
                <a:srgbClr val="00d69e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2.2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层梁体模板工程量的数据对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457200" y="23526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526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4"/>
          <p:cNvGraphicFramePr/>
          <p:nvPr/>
        </p:nvGraphicFramePr>
        <p:xfrm>
          <a:off x="250920" y="1628640"/>
          <a:ext cx="8642160" cy="460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62864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5"/>
          <p:cNvSpPr/>
          <p:nvPr/>
        </p:nvSpPr>
        <p:spPr>
          <a:xfrm>
            <a:off x="358920" y="1113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其它梁模板工程量的手工、软件计算数据对比偏差率分布图 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.3.1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软件的优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685800" y="1293840"/>
            <a:ext cx="7848360" cy="4406400"/>
            <a:chOff x="685800" y="1293840"/>
            <a:chExt cx="7848360" cy="4406400"/>
          </a:xfrm>
        </p:grpSpPr>
        <p:sp>
          <p:nvSpPr>
            <p:cNvPr id="334" name="Oval 4"/>
            <p:cNvSpPr/>
            <p:nvPr/>
          </p:nvSpPr>
          <p:spPr>
            <a:xfrm>
              <a:off x="2682000" y="1995840"/>
              <a:ext cx="3783240" cy="3704400"/>
            </a:xfrm>
            <a:prstGeom prst="ellipse">
              <a:avLst/>
            </a:prstGeom>
            <a:gradFill rotWithShape="0">
              <a:gsLst>
                <a:gs pos="0">
                  <a:srgbClr val="00d69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b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35" name="Group 5"/>
            <p:cNvGrpSpPr/>
            <p:nvPr/>
          </p:nvGrpSpPr>
          <p:grpSpPr>
            <a:xfrm>
              <a:off x="3611160" y="2920680"/>
              <a:ext cx="1926360" cy="1995480"/>
              <a:chOff x="3611160" y="2920680"/>
              <a:chExt cx="1926360" cy="1995480"/>
            </a:xfrm>
          </p:grpSpPr>
          <p:sp>
            <p:nvSpPr>
              <p:cNvPr id="336" name="Oval 6"/>
              <p:cNvSpPr/>
              <p:nvPr/>
            </p:nvSpPr>
            <p:spPr>
              <a:xfrm>
                <a:off x="3611160" y="2920680"/>
                <a:ext cx="19263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d1d1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37" name="Freeform 7"/>
              <p:cNvSpPr/>
              <p:nvPr/>
            </p:nvSpPr>
            <p:spPr>
              <a:xfrm>
                <a:off x="3831120" y="2953800"/>
                <a:ext cx="1486080" cy="753120"/>
              </a:xfrm>
              <a:custGeom>
                <a:avLst/>
                <a:gdLst>
                  <a:gd name="textAreaLeft" fmla="*/ 0 w 1486080"/>
                  <a:gd name="textAreaRight" fmla="*/ 1486440 w 148608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38" name="Text Box 8"/>
            <p:cNvSpPr/>
            <p:nvPr/>
          </p:nvSpPr>
          <p:spPr>
            <a:xfrm>
              <a:off x="3973680" y="3684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该软件的优点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39" name="Group 9"/>
            <p:cNvGrpSpPr/>
            <p:nvPr/>
          </p:nvGrpSpPr>
          <p:grpSpPr>
            <a:xfrm>
              <a:off x="4182120" y="1638000"/>
              <a:ext cx="641880" cy="615960"/>
              <a:chOff x="4182120" y="1638000"/>
              <a:chExt cx="641880" cy="615960"/>
            </a:xfrm>
          </p:grpSpPr>
          <p:grpSp>
            <p:nvGrpSpPr>
              <p:cNvPr id="340" name="Group 10"/>
              <p:cNvGrpSpPr/>
              <p:nvPr/>
            </p:nvGrpSpPr>
            <p:grpSpPr>
              <a:xfrm>
                <a:off x="4182120" y="1638000"/>
                <a:ext cx="641880" cy="615960"/>
                <a:chOff x="4182120" y="1638000"/>
                <a:chExt cx="641880" cy="615960"/>
              </a:xfrm>
            </p:grpSpPr>
            <p:sp>
              <p:nvSpPr>
                <p:cNvPr id="341" name="Oval 11"/>
                <p:cNvSpPr/>
                <p:nvPr/>
              </p:nvSpPr>
              <p:spPr>
                <a:xfrm>
                  <a:off x="4182120" y="163800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a6ff"/>
                    </a:gs>
                    <a:gs pos="100000">
                      <a:srgbClr val="21466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12"/>
                <p:cNvSpPr/>
                <p:nvPr/>
              </p:nvSpPr>
              <p:spPr>
                <a:xfrm>
                  <a:off x="4255560" y="1648080"/>
                  <a:ext cx="494640" cy="23256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32560"/>
                    <a:gd name="textAreaBottom" fmla="*/ 232920 h 2325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da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13"/>
              <p:cNvSpPr/>
              <p:nvPr/>
            </p:nvSpPr>
            <p:spPr>
              <a:xfrm>
                <a:off x="4340520" y="172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14"/>
            <p:cNvGrpSpPr/>
            <p:nvPr/>
          </p:nvGrpSpPr>
          <p:grpSpPr>
            <a:xfrm>
              <a:off x="3558600" y="4711320"/>
              <a:ext cx="343440" cy="313560"/>
              <a:chOff x="3558600" y="4711320"/>
              <a:chExt cx="343440" cy="313560"/>
            </a:xfrm>
          </p:grpSpPr>
          <p:sp>
            <p:nvSpPr>
              <p:cNvPr id="345" name="Oval 15"/>
              <p:cNvSpPr/>
              <p:nvPr/>
            </p:nvSpPr>
            <p:spPr>
              <a:xfrm rot="18226800">
                <a:off x="3587040" y="4870440"/>
                <a:ext cx="121680" cy="13356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46" name="Oval 16"/>
              <p:cNvSpPr/>
              <p:nvPr/>
            </p:nvSpPr>
            <p:spPr>
              <a:xfrm rot="18226800">
                <a:off x="3753720" y="4733280"/>
                <a:ext cx="121680" cy="128880"/>
              </a:xfrm>
              <a:prstGeom prst="ellipse">
                <a:avLst/>
              </a:prstGeom>
              <a:gradFill rotWithShape="0">
                <a:gsLst>
                  <a:gs pos="0">
                    <a:srgbClr val="d46ae8"/>
                  </a:gs>
                  <a:gs pos="100000">
                    <a:srgbClr val="8d479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7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348" name="Group 18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349" name="Oval 19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6ae8"/>
                    </a:gs>
                    <a:gs pos="100000">
                      <a:srgbClr val="341a3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0"/>
                <p:cNvSpPr/>
                <p:nvPr/>
              </p:nvSpPr>
              <p:spPr>
                <a:xfrm>
                  <a:off x="3042360" y="4993920"/>
                  <a:ext cx="494640" cy="241920"/>
                </a:xfrm>
                <a:custGeom>
                  <a:avLst/>
                  <a:gdLst>
                    <a:gd name="textAreaLeft" fmla="*/ 0 w 494640"/>
                    <a:gd name="textAreaRight" fmla="*/ 495000 w 49464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46a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1"/>
              <p:cNvSpPr/>
              <p:nvPr/>
            </p:nvSpPr>
            <p:spPr>
              <a:xfrm>
                <a:off x="3105720" y="5110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2"/>
            <p:cNvGrpSpPr/>
            <p:nvPr/>
          </p:nvGrpSpPr>
          <p:grpSpPr>
            <a:xfrm>
              <a:off x="6111360" y="2920680"/>
              <a:ext cx="639360" cy="648720"/>
              <a:chOff x="6111360" y="2920680"/>
              <a:chExt cx="639360" cy="648720"/>
            </a:xfrm>
          </p:grpSpPr>
          <p:grpSp>
            <p:nvGrpSpPr>
              <p:cNvPr id="353" name="Group 23"/>
              <p:cNvGrpSpPr/>
              <p:nvPr/>
            </p:nvGrpSpPr>
            <p:grpSpPr>
              <a:xfrm>
                <a:off x="6111360" y="2920680"/>
                <a:ext cx="639360" cy="648720"/>
                <a:chOff x="6111360" y="2920680"/>
                <a:chExt cx="639360" cy="648720"/>
              </a:xfrm>
            </p:grpSpPr>
            <p:sp>
              <p:nvSpPr>
                <p:cNvPr id="354" name="Oval 24"/>
                <p:cNvSpPr/>
                <p:nvPr/>
              </p:nvSpPr>
              <p:spPr>
                <a:xfrm>
                  <a:off x="6111360" y="292068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6ce7c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5"/>
                <p:cNvSpPr/>
                <p:nvPr/>
              </p:nvSpPr>
              <p:spPr>
                <a:xfrm>
                  <a:off x="6184080" y="2931840"/>
                  <a:ext cx="493920" cy="244440"/>
                </a:xfrm>
                <a:custGeom>
                  <a:avLst/>
                  <a:gdLst>
                    <a:gd name="textAreaLeft" fmla="*/ 0 w 493920"/>
                    <a:gd name="textAreaRight" fmla="*/ 494280 w 493920"/>
                    <a:gd name="textAreaTop" fmla="*/ 0 h 244440"/>
                    <a:gd name="textAreaBottom" fmla="*/ 244800 h 2444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d6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6"/>
              <p:cNvSpPr/>
              <p:nvPr/>
            </p:nvSpPr>
            <p:spPr>
              <a:xfrm>
                <a:off x="6248520" y="301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7"/>
            <p:cNvGrpSpPr/>
            <p:nvPr/>
          </p:nvGrpSpPr>
          <p:grpSpPr>
            <a:xfrm>
              <a:off x="5537520" y="4987800"/>
              <a:ext cx="612360" cy="581760"/>
              <a:chOff x="5537520" y="4987800"/>
              <a:chExt cx="612360" cy="581760"/>
            </a:xfrm>
          </p:grpSpPr>
          <p:grpSp>
            <p:nvGrpSpPr>
              <p:cNvPr id="358" name="Group 28"/>
              <p:cNvGrpSpPr/>
              <p:nvPr/>
            </p:nvGrpSpPr>
            <p:grpSpPr>
              <a:xfrm>
                <a:off x="5537520" y="4987800"/>
                <a:ext cx="612360" cy="581760"/>
                <a:chOff x="5537520" y="4987800"/>
                <a:chExt cx="612360" cy="581760"/>
              </a:xfrm>
            </p:grpSpPr>
            <p:sp>
              <p:nvSpPr>
                <p:cNvPr id="359" name="Oval 29"/>
                <p:cNvSpPr/>
                <p:nvPr/>
              </p:nvSpPr>
              <p:spPr>
                <a:xfrm>
                  <a:off x="5537520" y="4987800"/>
                  <a:ext cx="61236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b398b"/>
                    </a:gs>
                    <a:gs pos="100000">
                      <a:srgbClr val="051a3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0"/>
                <p:cNvSpPr/>
                <p:nvPr/>
              </p:nvSpPr>
              <p:spPr>
                <a:xfrm>
                  <a:off x="5607720" y="4997160"/>
                  <a:ext cx="472320" cy="219240"/>
                </a:xfrm>
                <a:custGeom>
                  <a:avLst/>
                  <a:gdLst>
                    <a:gd name="textAreaLeft" fmla="*/ 0 w 472320"/>
                    <a:gd name="textAreaRight" fmla="*/ 472680 w 4723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b39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1"/>
              <p:cNvSpPr/>
              <p:nvPr/>
            </p:nvSpPr>
            <p:spPr>
              <a:xfrm>
                <a:off x="5699880" y="501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32"/>
            <p:cNvGrpSpPr/>
            <p:nvPr/>
          </p:nvGrpSpPr>
          <p:grpSpPr>
            <a:xfrm>
              <a:off x="2469600" y="2920680"/>
              <a:ext cx="641880" cy="641160"/>
              <a:chOff x="2469600" y="2920680"/>
              <a:chExt cx="641880" cy="641160"/>
            </a:xfrm>
          </p:grpSpPr>
          <p:grpSp>
            <p:nvGrpSpPr>
              <p:cNvPr id="363" name="Group 33"/>
              <p:cNvGrpSpPr/>
              <p:nvPr/>
            </p:nvGrpSpPr>
            <p:grpSpPr>
              <a:xfrm>
                <a:off x="2469600" y="2920680"/>
                <a:ext cx="641880" cy="641160"/>
                <a:chOff x="2469600" y="2920680"/>
                <a:chExt cx="641880" cy="641160"/>
              </a:xfrm>
            </p:grpSpPr>
            <p:sp>
              <p:nvSpPr>
                <p:cNvPr id="364" name="Oval 34"/>
                <p:cNvSpPr/>
                <p:nvPr/>
              </p:nvSpPr>
              <p:spPr>
                <a:xfrm>
                  <a:off x="2469600" y="292068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b2"/>
                    </a:gs>
                    <a:gs pos="100000">
                      <a:srgbClr val="001b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5"/>
                <p:cNvSpPr/>
                <p:nvPr/>
              </p:nvSpPr>
              <p:spPr>
                <a:xfrm>
                  <a:off x="2542320" y="2931480"/>
                  <a:ext cx="495720" cy="241920"/>
                </a:xfrm>
                <a:custGeom>
                  <a:avLst/>
                  <a:gdLst>
                    <a:gd name="textAreaLeft" fmla="*/ 0 w 495720"/>
                    <a:gd name="textAreaRight" fmla="*/ 495720 w 49572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b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6"/>
              <p:cNvSpPr/>
              <p:nvPr/>
            </p:nvSpPr>
            <p:spPr>
              <a:xfrm>
                <a:off x="2628720" y="299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67" name="Oval 37"/>
            <p:cNvSpPr/>
            <p:nvPr/>
          </p:nvSpPr>
          <p:spPr>
            <a:xfrm rot="18226800">
              <a:off x="5467680" y="4840200"/>
              <a:ext cx="121320" cy="13356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8" name="Oval 38"/>
            <p:cNvSpPr/>
            <p:nvPr/>
          </p:nvSpPr>
          <p:spPr>
            <a:xfrm rot="18226800">
              <a:off x="5326560" y="469800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0b398b"/>
                </a:gs>
                <a:gs pos="100000">
                  <a:srgbClr val="072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369" name="Group 39"/>
            <p:cNvGrpSpPr/>
            <p:nvPr/>
          </p:nvGrpSpPr>
          <p:grpSpPr>
            <a:xfrm>
              <a:off x="3161520" y="3321720"/>
              <a:ext cx="387000" cy="245160"/>
              <a:chOff x="3161520" y="3321720"/>
              <a:chExt cx="387000" cy="245160"/>
            </a:xfrm>
          </p:grpSpPr>
          <p:sp>
            <p:nvSpPr>
              <p:cNvPr id="370" name="Oval 40"/>
              <p:cNvSpPr/>
              <p:nvPr/>
            </p:nvSpPr>
            <p:spPr>
              <a:xfrm rot="18226800">
                <a:off x="3189600" y="3340800"/>
                <a:ext cx="115920" cy="13032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226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1" name="Oval 41"/>
              <p:cNvSpPr/>
              <p:nvPr/>
            </p:nvSpPr>
            <p:spPr>
              <a:xfrm rot="18226800">
                <a:off x="3400560" y="3415320"/>
                <a:ext cx="120240" cy="130320"/>
              </a:xfrm>
              <a:prstGeom prst="ellipse">
                <a:avLst/>
              </a:prstGeom>
              <a:gradFill rotWithShape="0">
                <a:gsLst>
                  <a:gs pos="0">
                    <a:srgbClr val="003bb2"/>
                  </a:gs>
                  <a:gs pos="100000">
                    <a:srgbClr val="001d5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42"/>
            <p:cNvGrpSpPr/>
            <p:nvPr/>
          </p:nvGrpSpPr>
          <p:grpSpPr>
            <a:xfrm>
              <a:off x="4444200" y="2366640"/>
              <a:ext cx="175680" cy="437040"/>
              <a:chOff x="4444200" y="2366640"/>
              <a:chExt cx="175680" cy="437040"/>
            </a:xfrm>
          </p:grpSpPr>
          <p:sp>
            <p:nvSpPr>
              <p:cNvPr id="373" name="Oval 43"/>
              <p:cNvSpPr/>
              <p:nvPr/>
            </p:nvSpPr>
            <p:spPr>
              <a:xfrm rot="18226800">
                <a:off x="4470480" y="2388600"/>
                <a:ext cx="12276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34c7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374" name="Oval 44"/>
              <p:cNvSpPr/>
              <p:nvPr/>
            </p:nvSpPr>
            <p:spPr>
              <a:xfrm rot="18226800">
                <a:off x="4470480" y="2651760"/>
                <a:ext cx="122760" cy="129240"/>
              </a:xfrm>
              <a:prstGeom prst="ellipse">
                <a:avLst/>
              </a:prstGeom>
              <a:gradFill rotWithShape="0">
                <a:gsLst>
                  <a:gs pos="0">
                    <a:srgbClr val="4da6ff"/>
                  </a:gs>
                  <a:gs pos="100000">
                    <a:srgbClr val="25517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375" name="Oval 45"/>
            <p:cNvSpPr/>
            <p:nvPr/>
          </p:nvSpPr>
          <p:spPr>
            <a:xfrm rot="18226800">
              <a:off x="5842800" y="3368880"/>
              <a:ext cx="121320" cy="13356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6" name="Oval 46"/>
            <p:cNvSpPr/>
            <p:nvPr/>
          </p:nvSpPr>
          <p:spPr>
            <a:xfrm rot="18226800">
              <a:off x="5608800" y="3486240"/>
              <a:ext cx="121680" cy="136800"/>
            </a:xfrm>
            <a:prstGeom prst="ellipse">
              <a:avLst/>
            </a:prstGeom>
            <a:gradFill rotWithShape="0">
              <a:gsLst>
                <a:gs pos="0">
                  <a:srgbClr val="3ee0b6"/>
                </a:gs>
                <a:gs pos="100000">
                  <a:srgbClr val="00d69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7" name="Text Box 47"/>
            <p:cNvSpPr/>
            <p:nvPr/>
          </p:nvSpPr>
          <p:spPr>
            <a:xfrm>
              <a:off x="685800" y="306216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维护升级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Text Box 48"/>
            <p:cNvSpPr/>
            <p:nvPr/>
          </p:nvSpPr>
          <p:spPr>
            <a:xfrm>
              <a:off x="3611160" y="129384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结构严谨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Text Box 49"/>
            <p:cNvSpPr/>
            <p:nvPr/>
          </p:nvSpPr>
          <p:spPr>
            <a:xfrm>
              <a:off x="6750720" y="3075480"/>
              <a:ext cx="17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使用便利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Text Box 50"/>
            <p:cNvSpPr/>
            <p:nvPr/>
          </p:nvSpPr>
          <p:spPr>
            <a:xfrm>
              <a:off x="104220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计算精确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Text Box 51"/>
            <p:cNvSpPr/>
            <p:nvPr/>
          </p:nvSpPr>
          <p:spPr>
            <a:xfrm>
              <a:off x="6179760" y="52009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软件功能强大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4.3 </a:t>
            </a:r>
            <a:r>
              <a:rPr b="0" lang="zh-CN" sz="3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及造价软件的未来需求分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4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5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0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1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6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9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满足需求  易学易用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详略得当  急缓有章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源于用户  超越用户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端正理念  重视需求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1341000" y="199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黑体"/>
              </a:rPr>
              <a:t>最终目标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1300320" y="2999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三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1300320" y="400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二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8" name="Text Box 28"/>
          <p:cNvSpPr/>
          <p:nvPr/>
        </p:nvSpPr>
        <p:spPr>
          <a:xfrm>
            <a:off x="1477800" y="49370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步骤一：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5651280" y="6093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建筑科学与工程学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WordArt 3" descr=""/>
          <p:cNvPicPr/>
          <p:nvPr/>
        </p:nvPicPr>
        <p:blipFill>
          <a:blip r:embed="rId1"/>
          <a:stretch/>
        </p:blipFill>
        <p:spPr>
          <a:xfrm>
            <a:off x="2030400" y="3486240"/>
            <a:ext cx="7027920" cy="1542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1523880" y="914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放映结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论文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9280" y="1798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随着计算机的普及运用，工程造价软件在工程中的运用已得到迅猛发展，并对工程造价管理产生了巨大的影响。本论文从现行工程量计算软件的功能分析入手，通过采用“ 神机妙算 ”系列软件中的“ 图形算量 ”软件对具体工程进行个案分析，阐述现行工程量计算软件的利弊及前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论文主体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619280" y="2771640"/>
            <a:ext cx="5905080" cy="609480"/>
            <a:chOff x="1619280" y="2771640"/>
            <a:chExt cx="5905080" cy="609480"/>
          </a:xfrm>
        </p:grpSpPr>
        <p:grpSp>
          <p:nvGrpSpPr>
            <p:cNvPr id="101" name="Group 4"/>
            <p:cNvGrpSpPr/>
            <p:nvPr/>
          </p:nvGrpSpPr>
          <p:grpSpPr>
            <a:xfrm>
              <a:off x="1619280" y="2771640"/>
              <a:ext cx="677520" cy="609480"/>
              <a:chOff x="1619280" y="2771640"/>
              <a:chExt cx="677520" cy="609480"/>
            </a:xfrm>
          </p:grpSpPr>
          <p:sp>
            <p:nvSpPr>
              <p:cNvPr id="102" name="Oval 5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3" name="Oval 6"/>
              <p:cNvSpPr/>
              <p:nvPr/>
            </p:nvSpPr>
            <p:spPr>
              <a:xfrm>
                <a:off x="1619280" y="2771640"/>
                <a:ext cx="67752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7"/>
              <p:cNvSpPr/>
              <p:nvPr/>
            </p:nvSpPr>
            <p:spPr>
              <a:xfrm>
                <a:off x="1663560" y="2811240"/>
                <a:ext cx="58896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8"/>
              <p:cNvSpPr/>
              <p:nvPr/>
            </p:nvSpPr>
            <p:spPr>
              <a:xfrm>
                <a:off x="1707480" y="2850840"/>
                <a:ext cx="58932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9"/>
              <p:cNvSpPr/>
              <p:nvPr/>
            </p:nvSpPr>
            <p:spPr>
              <a:xfrm>
                <a:off x="1695240" y="2838240"/>
                <a:ext cx="5292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10"/>
              <p:cNvSpPr/>
              <p:nvPr/>
            </p:nvSpPr>
            <p:spPr>
              <a:xfrm>
                <a:off x="1703880" y="2846160"/>
                <a:ext cx="5133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8" name="Oval 11"/>
              <p:cNvSpPr/>
              <p:nvPr/>
            </p:nvSpPr>
            <p:spPr>
              <a:xfrm>
                <a:off x="1711080" y="2849400"/>
                <a:ext cx="4993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9" name="Oval 12"/>
              <p:cNvSpPr/>
              <p:nvPr/>
            </p:nvSpPr>
            <p:spPr>
              <a:xfrm>
                <a:off x="1716480" y="2852640"/>
                <a:ext cx="4759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0" name="Oval 13"/>
              <p:cNvSpPr/>
              <p:nvPr/>
            </p:nvSpPr>
            <p:spPr>
              <a:xfrm>
                <a:off x="1742760" y="2865240"/>
                <a:ext cx="4230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11" name="Line 14"/>
            <p:cNvSpPr/>
            <p:nvPr/>
          </p:nvSpPr>
          <p:spPr>
            <a:xfrm>
              <a:off x="2185920" y="3333600"/>
              <a:ext cx="53384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2440080" y="2799000"/>
              <a:ext cx="48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性能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1781640" y="2855520"/>
              <a:ext cx="35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1619280" y="4572000"/>
            <a:ext cx="5905080" cy="609480"/>
            <a:chOff x="1619280" y="4572000"/>
            <a:chExt cx="5905080" cy="609480"/>
          </a:xfrm>
        </p:grpSpPr>
        <p:grpSp>
          <p:nvGrpSpPr>
            <p:cNvPr id="115" name="Group 18"/>
            <p:cNvGrpSpPr/>
            <p:nvPr/>
          </p:nvGrpSpPr>
          <p:grpSpPr>
            <a:xfrm>
              <a:off x="1619280" y="4572000"/>
              <a:ext cx="680040" cy="609480"/>
              <a:chOff x="1619280" y="4572000"/>
              <a:chExt cx="680040" cy="609480"/>
            </a:xfrm>
          </p:grpSpPr>
          <p:sp>
            <p:nvSpPr>
              <p:cNvPr id="116" name="Oval 19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7" name="Oval 20"/>
              <p:cNvSpPr/>
              <p:nvPr/>
            </p:nvSpPr>
            <p:spPr>
              <a:xfrm>
                <a:off x="1619280" y="4572000"/>
                <a:ext cx="6800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1"/>
              <p:cNvSpPr/>
              <p:nvPr/>
            </p:nvSpPr>
            <p:spPr>
              <a:xfrm>
                <a:off x="1663560" y="4611600"/>
                <a:ext cx="5911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2"/>
              <p:cNvSpPr/>
              <p:nvPr/>
            </p:nvSpPr>
            <p:spPr>
              <a:xfrm>
                <a:off x="1707840" y="4651200"/>
                <a:ext cx="5914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3"/>
              <p:cNvSpPr/>
              <p:nvPr/>
            </p:nvSpPr>
            <p:spPr>
              <a:xfrm>
                <a:off x="1695240" y="4638600"/>
                <a:ext cx="53100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4"/>
              <p:cNvSpPr/>
              <p:nvPr/>
            </p:nvSpPr>
            <p:spPr>
              <a:xfrm>
                <a:off x="1704240" y="4646520"/>
                <a:ext cx="51516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2" name="Oval 25"/>
              <p:cNvSpPr/>
              <p:nvPr/>
            </p:nvSpPr>
            <p:spPr>
              <a:xfrm>
                <a:off x="1711440" y="4649760"/>
                <a:ext cx="5011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3" name="Oval 26"/>
              <p:cNvSpPr/>
              <p:nvPr/>
            </p:nvSpPr>
            <p:spPr>
              <a:xfrm>
                <a:off x="1716840" y="4653000"/>
                <a:ext cx="47772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4" name="Oval 27"/>
              <p:cNvSpPr/>
              <p:nvPr/>
            </p:nvSpPr>
            <p:spPr>
              <a:xfrm>
                <a:off x="1743120" y="4665600"/>
                <a:ext cx="42480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5" name="Line 28"/>
            <p:cNvSpPr/>
            <p:nvPr/>
          </p:nvSpPr>
          <p:spPr>
            <a:xfrm>
              <a:off x="2166840" y="5140080"/>
              <a:ext cx="535752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6" name="Text Box 29"/>
            <p:cNvSpPr/>
            <p:nvPr/>
          </p:nvSpPr>
          <p:spPr>
            <a:xfrm>
              <a:off x="2421720" y="4605120"/>
              <a:ext cx="48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的发展前景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7" name="Text Box 30"/>
            <p:cNvSpPr/>
            <p:nvPr/>
          </p:nvSpPr>
          <p:spPr>
            <a:xfrm>
              <a:off x="1794240" y="46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8" name="Group 76"/>
          <p:cNvGrpSpPr/>
          <p:nvPr/>
        </p:nvGrpSpPr>
        <p:grpSpPr>
          <a:xfrm>
            <a:off x="1619280" y="1884960"/>
            <a:ext cx="5903640" cy="629640"/>
            <a:chOff x="1619280" y="1884960"/>
            <a:chExt cx="5903640" cy="629640"/>
          </a:xfrm>
        </p:grpSpPr>
        <p:sp>
          <p:nvSpPr>
            <p:cNvPr id="129" name="Line 47"/>
            <p:cNvSpPr/>
            <p:nvPr/>
          </p:nvSpPr>
          <p:spPr>
            <a:xfrm>
              <a:off x="2209680" y="2419200"/>
              <a:ext cx="5313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30" name="Text Box 48"/>
            <p:cNvSpPr/>
            <p:nvPr/>
          </p:nvSpPr>
          <p:spPr>
            <a:xfrm>
              <a:off x="2462760" y="188496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程量计算及造价软件概述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31" name="Group 62"/>
            <p:cNvGrpSpPr/>
            <p:nvPr/>
          </p:nvGrpSpPr>
          <p:grpSpPr>
            <a:xfrm>
              <a:off x="1619280" y="1905120"/>
              <a:ext cx="673920" cy="609480"/>
              <a:chOff x="1619280" y="1905120"/>
              <a:chExt cx="673920" cy="609480"/>
            </a:xfrm>
          </p:grpSpPr>
          <p:grpSp>
            <p:nvGrpSpPr>
              <p:cNvPr id="132" name="Group 61"/>
              <p:cNvGrpSpPr/>
              <p:nvPr/>
            </p:nvGrpSpPr>
            <p:grpSpPr>
              <a:xfrm>
                <a:off x="1619280" y="1905120"/>
                <a:ext cx="673920" cy="609480"/>
                <a:chOff x="1619280" y="1905120"/>
                <a:chExt cx="673920" cy="609480"/>
              </a:xfrm>
            </p:grpSpPr>
            <p:sp>
              <p:nvSpPr>
                <p:cNvPr id="133" name="Text Box 50"/>
                <p:cNvSpPr/>
                <p:nvPr/>
              </p:nvSpPr>
              <p:spPr>
                <a:xfrm>
                  <a:off x="1777320" y="1981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4" name="Oval 51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2"/>
                <p:cNvSpPr/>
                <p:nvPr/>
              </p:nvSpPr>
              <p:spPr>
                <a:xfrm>
                  <a:off x="1619280" y="190512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3"/>
                <p:cNvSpPr/>
                <p:nvPr/>
              </p:nvSpPr>
              <p:spPr>
                <a:xfrm>
                  <a:off x="1650600" y="191448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4"/>
                <p:cNvSpPr/>
                <p:nvPr/>
              </p:nvSpPr>
              <p:spPr>
                <a:xfrm>
                  <a:off x="1661400" y="1943280"/>
                  <a:ext cx="58284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5"/>
                <p:cNvSpPr/>
                <p:nvPr/>
              </p:nvSpPr>
              <p:spPr>
                <a:xfrm>
                  <a:off x="1682280" y="196200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6"/>
                <p:cNvSpPr/>
                <p:nvPr/>
              </p:nvSpPr>
              <p:spPr>
                <a:xfrm>
                  <a:off x="1703520" y="197964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0" name="Oval 57"/>
                <p:cNvSpPr/>
                <p:nvPr/>
              </p:nvSpPr>
              <p:spPr>
                <a:xfrm>
                  <a:off x="1710360" y="198288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1" name="Oval 58"/>
                <p:cNvSpPr/>
                <p:nvPr/>
              </p:nvSpPr>
              <p:spPr>
                <a:xfrm>
                  <a:off x="1715760" y="198612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2" name="Oval 59"/>
                <p:cNvSpPr/>
                <p:nvPr/>
              </p:nvSpPr>
              <p:spPr>
                <a:xfrm>
                  <a:off x="1742040" y="199872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 Box 60"/>
              <p:cNvSpPr/>
              <p:nvPr/>
            </p:nvSpPr>
            <p:spPr>
              <a:xfrm>
                <a:off x="1777680" y="198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77"/>
          <p:cNvGrpSpPr/>
          <p:nvPr/>
        </p:nvGrpSpPr>
        <p:grpSpPr>
          <a:xfrm>
            <a:off x="1619280" y="3691440"/>
            <a:ext cx="5903640" cy="632880"/>
            <a:chOff x="1619280" y="3691440"/>
            <a:chExt cx="5903640" cy="632880"/>
          </a:xfrm>
        </p:grpSpPr>
        <p:sp>
          <p:nvSpPr>
            <p:cNvPr id="145" name="Line 32"/>
            <p:cNvSpPr/>
            <p:nvPr/>
          </p:nvSpPr>
          <p:spPr>
            <a:xfrm>
              <a:off x="2209680" y="4226040"/>
              <a:ext cx="5313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6" name="Text Box 33"/>
            <p:cNvSpPr/>
            <p:nvPr/>
          </p:nvSpPr>
          <p:spPr>
            <a:xfrm>
              <a:off x="2462760" y="3691440"/>
              <a:ext cx="48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案具体分析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7" name="Group 63"/>
            <p:cNvGrpSpPr/>
            <p:nvPr/>
          </p:nvGrpSpPr>
          <p:grpSpPr>
            <a:xfrm>
              <a:off x="1619280" y="3714840"/>
              <a:ext cx="673920" cy="609480"/>
              <a:chOff x="1619280" y="3714840"/>
              <a:chExt cx="673920" cy="609480"/>
            </a:xfrm>
          </p:grpSpPr>
          <p:grpSp>
            <p:nvGrpSpPr>
              <p:cNvPr id="148" name="Group 64"/>
              <p:cNvGrpSpPr/>
              <p:nvPr/>
            </p:nvGrpSpPr>
            <p:grpSpPr>
              <a:xfrm>
                <a:off x="1619280" y="3714840"/>
                <a:ext cx="673920" cy="609480"/>
                <a:chOff x="1619280" y="3714840"/>
                <a:chExt cx="673920" cy="609480"/>
              </a:xfrm>
            </p:grpSpPr>
            <p:sp>
              <p:nvSpPr>
                <p:cNvPr id="149" name="Text Box 65"/>
                <p:cNvSpPr/>
                <p:nvPr/>
              </p:nvSpPr>
              <p:spPr>
                <a:xfrm>
                  <a:off x="1776600" y="3790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0" name="Oval 66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67"/>
                <p:cNvSpPr/>
                <p:nvPr/>
              </p:nvSpPr>
              <p:spPr>
                <a:xfrm>
                  <a:off x="1619280" y="3714840"/>
                  <a:ext cx="6739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68"/>
                <p:cNvSpPr/>
                <p:nvPr/>
              </p:nvSpPr>
              <p:spPr>
                <a:xfrm>
                  <a:off x="1650600" y="3724200"/>
                  <a:ext cx="58644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69"/>
                <p:cNvSpPr/>
                <p:nvPr/>
              </p:nvSpPr>
              <p:spPr>
                <a:xfrm>
                  <a:off x="1661400" y="3753000"/>
                  <a:ext cx="58284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70"/>
                <p:cNvSpPr/>
                <p:nvPr/>
              </p:nvSpPr>
              <p:spPr>
                <a:xfrm>
                  <a:off x="1682280" y="3771720"/>
                  <a:ext cx="5266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1"/>
                <p:cNvSpPr/>
                <p:nvPr/>
              </p:nvSpPr>
              <p:spPr>
                <a:xfrm>
                  <a:off x="1703520" y="3789360"/>
                  <a:ext cx="51084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6" name="Oval 72"/>
                <p:cNvSpPr/>
                <p:nvPr/>
              </p:nvSpPr>
              <p:spPr>
                <a:xfrm>
                  <a:off x="1710360" y="3792600"/>
                  <a:ext cx="49680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7" name="Oval 73"/>
                <p:cNvSpPr/>
                <p:nvPr/>
              </p:nvSpPr>
              <p:spPr>
                <a:xfrm>
                  <a:off x="1715760" y="3795840"/>
                  <a:ext cx="47376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8" name="Oval 74"/>
                <p:cNvSpPr/>
                <p:nvPr/>
              </p:nvSpPr>
              <p:spPr>
                <a:xfrm>
                  <a:off x="1742040" y="3808440"/>
                  <a:ext cx="42120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5"/>
              <p:cNvSpPr/>
              <p:nvPr/>
            </p:nvSpPr>
            <p:spPr>
              <a:xfrm>
                <a:off x="1776960" y="379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1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工程量计算方法的发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397480" y="2878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具体发展历程</a:t>
            </a:r>
            <a:endParaRPr b="0" lang="en-US" sz="32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Oval 18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Oval 19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1373040" y="2022480"/>
            <a:ext cx="9003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1472400" y="2205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手工表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格算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2" name="Oval 25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2627280" y="1628640"/>
            <a:ext cx="7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手工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算量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7" name="Oval 31"/>
          <p:cNvSpPr/>
          <p:nvPr/>
        </p:nvSpPr>
        <p:spPr>
          <a:xfrm>
            <a:off x="1692360" y="3500280"/>
            <a:ext cx="1258920" cy="125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8" name="Oval 32"/>
          <p:cNvSpPr/>
          <p:nvPr/>
        </p:nvSpPr>
        <p:spPr>
          <a:xfrm>
            <a:off x="3492360" y="3860640"/>
            <a:ext cx="161928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1763640" y="3789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电脑表格算量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0" name="Text Box 36"/>
          <p:cNvSpPr/>
          <p:nvPr/>
        </p:nvSpPr>
        <p:spPr>
          <a:xfrm>
            <a:off x="3708360" y="4292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脑图形算量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1.2  </a:t>
            </a:r>
            <a:r>
              <a:rPr b="0" lang="zh-CN" sz="4000" spc="-1" strike="noStrike">
                <a:solidFill>
                  <a:srgbClr val="ffffff"/>
                </a:solidFill>
                <a:latin typeface="新宋体"/>
                <a:ea typeface="新宋体"/>
              </a:rPr>
              <a:t>建筑业应用软件的构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062765"/>
              </a:gs>
              <a:gs pos="100000">
                <a:srgbClr val="6c8e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预算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造价</a:t>
            </a:r>
            <a:r>
              <a:rPr b="0" lang="en-US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管理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新宋体"/>
              </a:rPr>
              <a:t>施工技术系列软件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建筑业应用软件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12384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1.4  </a:t>
            </a:r>
            <a:r>
              <a:rPr b="0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现有工程量计算及造价软件的种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97200" y="1226520"/>
            <a:ext cx="6667920" cy="4675680"/>
            <a:chOff x="997200" y="1226520"/>
            <a:chExt cx="6667920" cy="4675680"/>
          </a:xfrm>
        </p:grpSpPr>
        <p:sp>
          <p:nvSpPr>
            <p:cNvPr id="189" name="Oval 4"/>
            <p:cNvSpPr/>
            <p:nvPr/>
          </p:nvSpPr>
          <p:spPr>
            <a:xfrm>
              <a:off x="2033640" y="42372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11e54"/>
                </a:gs>
                <a:gs pos="100000">
                  <a:srgbClr val="0000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 rot="20601600">
              <a:off x="1308240" y="2123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1" name="Oval 6"/>
            <p:cNvSpPr/>
            <p:nvPr/>
          </p:nvSpPr>
          <p:spPr>
            <a:xfrm rot="20601600">
              <a:off x="1364760" y="19616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Arc 7"/>
            <p:cNvSpPr/>
            <p:nvPr/>
          </p:nvSpPr>
          <p:spPr>
            <a:xfrm rot="20601600">
              <a:off x="4013280" y="2039400"/>
              <a:ext cx="2851200" cy="15386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640"/>
                <a:gd name="textAreaBottom" fmla="*/ 1539000 h 153864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Arc 8"/>
            <p:cNvSpPr/>
            <p:nvPr/>
          </p:nvSpPr>
          <p:spPr>
            <a:xfrm flipH="1" rot="20602200">
              <a:off x="1418040" y="335232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4" name="Arc 9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5" name="Arc 10"/>
            <p:cNvSpPr/>
            <p:nvPr/>
          </p:nvSpPr>
          <p:spPr>
            <a:xfrm flipH="1" rot="20602200">
              <a:off x="1218960" y="24206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6" name="Oval 11"/>
            <p:cNvSpPr/>
            <p:nvPr/>
          </p:nvSpPr>
          <p:spPr>
            <a:xfrm rot="20601600">
              <a:off x="2825640" y="2676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2161080" y="2889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理正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4065840" y="1974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鲁班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5742360" y="2432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智慧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6148440" y="29750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Arc 16"/>
            <p:cNvSpPr/>
            <p:nvPr/>
          </p:nvSpPr>
          <p:spPr>
            <a:xfrm rot="20539200">
              <a:off x="4546440" y="2980800"/>
              <a:ext cx="2984760" cy="134640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5605200" y="342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神机妙算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3921120" y="4184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广联达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2084760" y="403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他系列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6" name="Oval 21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图形法软件的操作流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eed6"/>
              </a:gs>
              <a:gs pos="100000">
                <a:srgbClr val="00d6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864"/>
              </a:gs>
              <a:gs pos="100000">
                <a:srgbClr val="00d69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6ae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3397e"/>
              </a:gs>
              <a:gs pos="50000">
                <a:srgbClr val="d46ae8"/>
              </a:gs>
              <a:gs pos="100000">
                <a:srgbClr val="7339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74393"/>
              </a:gs>
              <a:gs pos="100000">
                <a:srgbClr val="d46ae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1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22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3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26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3b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7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>
                  <a:alpha val="32156"/>
                </a:srgbClr>
              </a:gs>
              <a:gs pos="100000">
                <a:srgbClr val="001b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060"/>
              </a:gs>
              <a:gs pos="50000">
                <a:srgbClr val="003bb2"/>
              </a:gs>
              <a:gs pos="100000">
                <a:srgbClr val="00206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571"/>
              </a:gs>
              <a:gs pos="100000">
                <a:srgbClr val="003bb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31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32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3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236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37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41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工程参数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2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楼层 定义主轴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3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输入主体构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Text Box 38"/>
          <p:cNvSpPr/>
          <p:nvPr/>
        </p:nvSpPr>
        <p:spPr>
          <a:xfrm>
            <a:off x="131904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熟悉施工图纸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标识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405576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按照画图方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输入构件信息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40"/>
          <p:cNvSpPr/>
          <p:nvPr/>
        </p:nvSpPr>
        <p:spPr>
          <a:xfrm>
            <a:off x="6792480" y="306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软件自动计算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汇总打印输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7" name="AutoShape 41"/>
          <p:cNvSpPr/>
          <p:nvPr/>
        </p:nvSpPr>
        <p:spPr>
          <a:xfrm rot="5400000">
            <a:off x="4372920" y="4348080"/>
            <a:ext cx="395280" cy="430200"/>
          </a:xfrm>
          <a:custGeom>
            <a:avLst/>
            <a:gdLst>
              <a:gd name="textAreaLeft" fmla="*/ 0 w 395280"/>
              <a:gd name="textAreaRight" fmla="*/ 395640 w 3952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8" name="AutoShape 42"/>
          <p:cNvSpPr/>
          <p:nvPr/>
        </p:nvSpPr>
        <p:spPr>
          <a:xfrm>
            <a:off x="8269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计算当前层工程量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AutoShape 43"/>
          <p:cNvSpPr/>
          <p:nvPr/>
        </p:nvSpPr>
        <p:spPr>
          <a:xfrm>
            <a:off x="356400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层复制计算其他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AutoShape 44"/>
          <p:cNvSpPr/>
          <p:nvPr/>
        </p:nvSpPr>
        <p:spPr>
          <a:xfrm>
            <a:off x="6300720" y="5661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黑体"/>
              </a:rPr>
              <a:t>定义构件计算规则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AutoShape 45"/>
          <p:cNvSpPr/>
          <p:nvPr/>
        </p:nvSpPr>
        <p:spPr>
          <a:xfrm>
            <a:off x="291636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AutoShape 46"/>
          <p:cNvSpPr/>
          <p:nvPr/>
        </p:nvSpPr>
        <p:spPr>
          <a:xfrm>
            <a:off x="5651640" y="4797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291636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5651640" y="5589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格法软件的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6488d0">
                  <a:alpha val="12156"/>
                </a:srgbClr>
              </a:gs>
              <a:gs pos="50000">
                <a:srgbClr val="003bb2"/>
              </a:gs>
              <a:gs pos="100000">
                <a:srgbClr val="6488d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9acdff"/>
              </a:gs>
              <a:gs pos="100000">
                <a:srgbClr val="4da6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确性、准确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中间结果的应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清晰明了、结构严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较强的专业性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b2"/>
              </a:gs>
              <a:gs pos="100000">
                <a:srgbClr val="f0f3fa"/>
              </a:gs>
            </a:gsLst>
            <a:lin ang="0"/>
          </a:gradFill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重复计算较多、数据很难复用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421720" y="328464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表格法软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件的特点</a:t>
            </a:r>
            <a:endParaRPr b="0" lang="en-US" sz="3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.3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图形法与表格法的对比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3564000" y="458136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564000" y="400536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3564000" y="3429000"/>
            <a:ext cx="1871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955320" y="3630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对使用者的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955320" y="478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时间消耗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859920" y="42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手工习惯的比较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2916360" y="2708280"/>
            <a:ext cx="539640" cy="21589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179280" y="2349360"/>
            <a:ext cx="2698920" cy="3238560"/>
          </a:xfrm>
          <a:custGeom>
            <a:avLst/>
            <a:gdLst>
              <a:gd name="textAreaLeft" fmla="*/ 131760 w 2698920"/>
              <a:gd name="textAreaRight" fmla="*/ 2567160 w 2698920"/>
              <a:gd name="textAreaTop" fmla="*/ 131760 h 3238560"/>
              <a:gd name="textAreaBottom" fmla="*/ 3106800 h 3238560"/>
            </a:gdLst>
            <a:ahLst/>
            <a:rect l="textAreaLeft" t="textAreaTop" r="textAreaRight" b="textAreaBottom"/>
            <a:pathLst>
              <a:path w="21600" h="25918">
                <a:moveTo>
                  <a:pt x="3600" y="0"/>
                </a:moveTo>
                <a:arcTo wR="3600" hR="3600" stAng="16200000" swAng="-5400000"/>
                <a:lnTo>
                  <a:pt x="0" y="22318"/>
                </a:lnTo>
                <a:arcTo wR="3600" hR="3600" stAng="10800000" swAng="-5400000"/>
                <a:lnTo>
                  <a:pt x="18000" y="25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AutoShape 12"/>
          <p:cNvSpPr/>
          <p:nvPr/>
        </p:nvSpPr>
        <p:spPr>
          <a:xfrm>
            <a:off x="6172200" y="2338560"/>
            <a:ext cx="2792520" cy="3238200"/>
          </a:xfrm>
          <a:custGeom>
            <a:avLst/>
            <a:gdLst>
              <a:gd name="textAreaLeft" fmla="*/ 136080 w 2792520"/>
              <a:gd name="textAreaRight" fmla="*/ 2656440 w 2792520"/>
              <a:gd name="textAreaTop" fmla="*/ 136080 h 3238200"/>
              <a:gd name="textAreaBottom" fmla="*/ 3102120 h 3238200"/>
            </a:gdLst>
            <a:ahLst/>
            <a:rect l="textAreaLeft" t="textAreaTop" r="textAreaRight" b="textAreaBottom"/>
            <a:pathLst>
              <a:path w="21600" h="25047">
                <a:moveTo>
                  <a:pt x="3600" y="0"/>
                </a:moveTo>
                <a:arcTo wR="3600" hR="3600" stAng="16200000" swAng="-5400000"/>
                <a:lnTo>
                  <a:pt x="0" y="21447"/>
                </a:lnTo>
                <a:arcTo wR="3600" hR="3600" stAng="10800000" swAng="-5400000"/>
                <a:lnTo>
                  <a:pt x="18000" y="250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4" name="AutoShape 14"/>
          <p:cNvSpPr/>
          <p:nvPr/>
        </p:nvSpPr>
        <p:spPr>
          <a:xfrm>
            <a:off x="5508720" y="2708280"/>
            <a:ext cx="539640" cy="21589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2316b"/>
              </a:gs>
              <a:gs pos="50000">
                <a:srgbClr val="d46ae8"/>
              </a:gs>
              <a:gs pos="100000">
                <a:srgbClr val="6231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 rot="10800000">
            <a:off x="3634920" y="227628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711600" y="1793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两者的对比分析内容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21"/>
          <p:cNvSpPr/>
          <p:nvPr/>
        </p:nvSpPr>
        <p:spPr>
          <a:xfrm>
            <a:off x="3564000" y="2852640"/>
            <a:ext cx="1871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3957120" y="2997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数据的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358920" y="24458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身就是根据提高输入速度的思路制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6297480" y="244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通过采用层拷贝的方式加快整体输入速度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358920" y="323784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对软件用户的预算专业素质有较高要求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6297480" y="403020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计算机方式解决问题，是人适应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Text Box 29"/>
          <p:cNvSpPr/>
          <p:nvPr/>
        </p:nvSpPr>
        <p:spPr>
          <a:xfrm>
            <a:off x="6297480" y="323784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要求熟练掌握类似于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CAD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方式的图形软件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Text Box 30"/>
          <p:cNvSpPr/>
          <p:nvPr/>
        </p:nvSpPr>
        <p:spPr>
          <a:xfrm>
            <a:off x="358920" y="403020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根据手工习惯解决问题，是软件适应人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358920" y="482076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程量计算各阶段时间消耗量均较大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Text Box 32"/>
          <p:cNvSpPr/>
          <p:nvPr/>
        </p:nvSpPr>
        <p:spPr>
          <a:xfrm>
            <a:off x="6297480" y="482076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除了计算汇总生成报表，其他阶段耗时较多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4:03:04Z</dcterms:created>
  <dc:creator>gkj</dc:creator>
  <dc:description/>
  <dc:language>en-US</dc:language>
  <cp:lastModifiedBy>Administrator</cp:lastModifiedBy>
  <dcterms:modified xsi:type="dcterms:W3CDTF">2015-06-14T03:41:57Z</dcterms:modified>
  <cp:revision>499</cp:revision>
  <dc:subject/>
  <dc:title>图形算量软件应用对比研究</dc:title>
</cp:coreProperties>
</file>