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.gif" ContentType="image/gif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3C6D-5335-480F-8321-12758E47A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62A1-CA0B-401A-AD08-BD58AF34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EB4-204C-432B-9A9E-8F498F33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3847-1DA7-4F10-BAD3-DF1ECF30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8B96-6A81-47E4-9111-2FE6034A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C9EE-2170-4878-B9C6-B0A09F40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513F5-E53F-4D43-ACB9-1F51B0268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5647-E3FE-44E9-9A41-D5B42A3B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B1D98-2B8D-4C2F-93C4-1595A716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0CE8-F58B-4B35-9E0F-B2E558B35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F2D65-39FE-4F84-B1BC-D4A08BED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01E3-6A7D-4F74-B62A-703C16430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5B9D-4D1A-4AD5-96CF-F6A31426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DAAB5-DBBD-4742-864D-C5E2C25DD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7064F-A3CF-4BD3-870E-5371775F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D925-5A60-4CDF-AB4F-7D28673A5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53ECC-FAA5-41D9-8504-D68195CB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BE73-B957-4A21-9C12-55A5D16E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6707-3D2E-4676-91EC-C9A50B720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CD3-A25A-45D2-B07A-DA8C453C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D3CC-F027-403F-B66C-0B715716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C3C-BCEC-45A5-8DDA-4D80CE7C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8740-A46B-423D-9B96-B3643104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FA5B-5F14-4310-AF07-0E73EA6B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E438-2047-4607-958C-79F30202AEE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304920"/>
            <a:ext cx="792000" cy="1294920"/>
            <a:chOff x="8153280" y="304920"/>
            <a:chExt cx="792000" cy="1294920"/>
          </a:xfrm>
        </p:grpSpPr>
        <p:sp>
          <p:nvSpPr>
            <p:cNvPr id="7" name=""/>
            <p:cNvSpPr/>
            <p:nvPr/>
          </p:nvSpPr>
          <p:spPr>
            <a:xfrm>
              <a:off x="8153280" y="304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304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304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4726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4726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4726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47268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64080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64080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640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64080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64080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8085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8085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8085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8085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97668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97668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97668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97668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97668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11444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11444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11444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11444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31256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31256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31256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31256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4803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4803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"/>
          <p:cNvSpPr/>
          <p:nvPr/>
        </p:nvSpPr>
        <p:spPr>
          <a:xfrm>
            <a:off x="318960" y="1295280"/>
            <a:ext cx="8444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BC18-D706-4AAB-8DC0-0D583301672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3373560"/>
            <a:ext cx="1337760" cy="2189160"/>
            <a:chOff x="7493040" y="337356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33735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3735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3735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6579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6579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6579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6579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94200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94200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9420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9420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9420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422460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422460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422460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422460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50864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50864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50864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50864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50864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79304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7930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7930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7930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50770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507708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50770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50770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536112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536112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335268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image.baidu.com/i?ct=503316480&amp;z=&amp;tn=baiduimagedetail&amp;word=%BF%C8%CB%D4&amp;in=23256&amp;cl=2&amp;lm=-1&amp;pn=75&amp;rn=1&amp;di=26245730820&amp;ln=2000&amp;fr=&amp;fmq=&amp;ic=0&amp;s=0&amp;se=1&amp;sme=0&amp;tab=&amp;width=&amp;height=&amp;face=0&amp;is=&amp;istype=2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&#691;%CE%EF&#892;&#428;&amp;in=25522&amp;cl=2&amp;lm=-1&amp;pn=87&amp;rn=1&amp;di=26830685430&amp;ln=2000&amp;fr=&amp;fmq=&amp;ic=0&amp;s=0&amp;se=1&amp;sme=0&amp;tab=&amp;width=&amp;height=&amp;face=0&amp;is=&amp;istype=2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&amp;tn=baiduimagedetail&amp;word=&#691;%CE%EF&#892;&#428;&amp;in=1498&amp;cl=2&amp;lm=-1&amp;pn=1&amp;rn=1&amp;di=2427785595&amp;ln=2000&amp;fr=&amp;fmq=&amp;ic=0&amp;s=0&amp;se=1&amp;sme=0&amp;tab=&amp;width=&amp;height=&amp;face=0&amp;is=&amp;istype=2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.baidu.com/i?ct=503316480&amp;z=&amp;tn=baiduimagedetail&amp;word=&#691;%CE%EF&#892;&#428;&amp;in=8560&amp;cl=2&amp;lm=-1&amp;pn=113&amp;rn=1&amp;di=29340510765&amp;ln=2000&amp;fr=&amp;fmq=&amp;ic=0&amp;s=0&amp;se=1&amp;sme=0&amp;tab=&amp;width=&amp;height=&amp;face=0&amp;is=&amp;istype=2" TargetMode="External"/><Relationship Id="rId6" Type="http://schemas.openxmlformats.org/officeDocument/2006/relationships/image" Target="../media/image7.jpeg"/><Relationship Id="rId7" Type="http://schemas.openxmlformats.org/officeDocument/2006/relationships/hyperlink" Target="http://image.baidu.com/i?ct=503316480&amp;z=&amp;tn=baiduimagedetail&amp;word=&#691;%CE%EF&#892;&#428;&amp;in=7196&amp;cl=2&amp;lm=-1&amp;pn=91&amp;rn=1&amp;di=7964833950&amp;ln=2000&amp;fr=&amp;fmq=&amp;ic=0&amp;s=0&amp;se=1&amp;sme=0&amp;tab=&amp;width=&amp;height=&amp;face=0&amp;is=&amp;istype=2" TargetMode="External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&amp;tn=baiduimagedetail&amp;word=%BB%F0&#892;&#428;&amp;in=30469&amp;cl=2&amp;lm=-1&amp;pn=45&amp;rn=1&amp;di=32000617815&amp;ln=2000&amp;fr=&amp;fmq=&amp;ic=0&amp;s=0&amp;se=1&amp;sme=0&amp;tab=&amp;width=&amp;height=&amp;face=0&amp;is=&amp;istype=2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380880"/>
            <a:ext cx="792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健康教育主题班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3733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华文行楷"/>
              </a:rPr>
              <a:t>东坡下载站编辑整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343560" y="3124080"/>
            <a:ext cx="2800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 rot="1421400">
            <a:off x="5800320" y="366840"/>
            <a:ext cx="2514600" cy="10252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 rot="397200">
            <a:off x="533160" y="304560"/>
            <a:ext cx="2666880" cy="120960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 rot="21042000">
            <a:off x="5502240" y="4016160"/>
            <a:ext cx="3048120" cy="2535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990720" y="4114800"/>
            <a:ext cx="3220920" cy="250524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7724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七）培养良好的用眼习惯，预防近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读书写字姿势正确，连续读书、写字时间不超过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钟，看电视或操作电脑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小时后，要休息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分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坚持做眼保健操，定期检查视力，合理营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rot="7798200">
            <a:off x="6264720" y="2345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2438280"/>
            <a:ext cx="426744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3352680"/>
            <a:ext cx="4038480" cy="609840"/>
          </a:xfrm>
          <a:prstGeom prst="wedgeRoundRectCallout">
            <a:avLst>
              <a:gd name="adj1" fmla="val -28379"/>
              <a:gd name="adj2" fmla="val 129689"/>
              <a:gd name="adj3" fmla="val 16667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228600"/>
            <a:ext cx="7391520" cy="1143000"/>
          </a:xfrm>
          <a:prstGeom prst="horizontalScrol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0" lang="zh-CN" sz="3500" spc="-1" strike="noStrike">
                <a:solidFill>
                  <a:srgbClr val="ff0000"/>
                </a:solidFill>
                <a:latin typeface="Arial"/>
              </a:rPr>
              <a:t>六、抗击传染病，维护公众健康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一）日常生活中怎样预防传染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咳嗽、打喷嚏时遮掩口鼻，不随地吐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杀灭蚊子、苍蝇、老鼠、蟑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生活中尽量减少与动物接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1600200" cy="20574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rot="20538000">
            <a:off x="7698960" y="1599840"/>
            <a:ext cx="1444680" cy="1600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 rot="19843200">
            <a:off x="6095520" y="3200400"/>
            <a:ext cx="2176560" cy="24703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5"/>
          <a:stretch/>
        </p:blipFill>
        <p:spPr>
          <a:xfrm rot="21307800">
            <a:off x="911160" y="4416480"/>
            <a:ext cx="266724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610480" cy="605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250080" y="1981080"/>
            <a:ext cx="237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谢谢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行楷"/>
              </a:rPr>
              <a:t>把健康掌握在自己手中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仿宋_GB2312"/>
                <a:ea typeface="仿宋_GB2312"/>
              </a:rPr>
              <a:t>健康对任何人来说都是宝贵的，健康是人生的第一财富，正如胡锦涛总书记在党的十七大报告中指出：“健康是人全面发展的基础，关系千家万户幸福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467480" cy="33530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9480" y="1600200"/>
            <a:ext cx="1600200" cy="1600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80880" y="457200"/>
            <a:ext cx="7391520" cy="1143000"/>
          </a:xfrm>
          <a:prstGeom prst="horizontalScrol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00"/>
                </a:solidFill>
                <a:latin typeface="Arial"/>
              </a:rPr>
              <a:t>一、完整理解健康的概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520" y="1599840"/>
            <a:ext cx="670572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什么是健康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健康是指不仅仅是没有疾病或虚弱，而是身体、心理和社会适应的完好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3900" spc="-1" strike="noStrike">
                <a:solidFill>
                  <a:srgbClr val="ff0000"/>
                </a:solidFill>
                <a:latin typeface="Arial"/>
              </a:rPr>
              <a:t>二、营造健康环境，才能拥有健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873080"/>
            <a:ext cx="8763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（一）环境与健康息息相关，保护环境促进健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、要保持学习场所空气清新洁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、避免电磁辐射污染，做到以下几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）看电视时应保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4-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米，大功率日光灯的安全距离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2-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米。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）多参加户外活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 rot="626400">
            <a:off x="6022440" y="1447920"/>
            <a:ext cx="3121200" cy="5410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04920" y="228600"/>
            <a:ext cx="7619760" cy="1143000"/>
          </a:xfrm>
          <a:prstGeom prst="horizontalScrol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ff0000"/>
                </a:solidFill>
                <a:latin typeface="Arial"/>
              </a:rPr>
              <a:t>三、民以食为天，食以安为先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54864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多吃蔬菜水果和薯类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每天吃奶类、大豆或其制品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常吃适量的鱼、禽、蛋和瘦肉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吃清淡少盐膳食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食不过量，天天运动，保持健康体重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三餐分配要合理，零食要适当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每天足量饮水，合理选择材料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吃新鲜卫生的食物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5297400"/>
            <a:ext cx="1866960" cy="156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04920"/>
            <a:ext cx="1981440" cy="175248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29400" y="5029200"/>
            <a:ext cx="2333520" cy="1600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591240" y="304920"/>
            <a:ext cx="2552760" cy="16779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提高食品安全意识，做好自我防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三） 饭菜要做熟，生吃水果要洗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四）  生、熟食物要分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五）  不吃变质、超过保质期的食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六）  不食用病死禽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（七） 讲究饮水卫生，注意饮水安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57200" y="228600"/>
            <a:ext cx="7238880" cy="1143000"/>
          </a:xfrm>
          <a:prstGeom prst="horizontalScrol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00"/>
                </a:solidFill>
                <a:latin typeface="Arial"/>
              </a:rPr>
              <a:t>四、安全，是生命的保证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77240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一）</a:t>
            </a:r>
            <a:r>
              <a:rPr b="1" lang="zh-CN" sz="3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会识别常见的危险标识，远离危险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762120" y="2209680"/>
            <a:ext cx="716256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5029200"/>
            <a:ext cx="2108160" cy="15238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4495680" y="4648320"/>
            <a:ext cx="3886200" cy="1828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4"/>
          <a:stretch/>
        </p:blipFill>
        <p:spPr>
          <a:xfrm>
            <a:off x="5257800" y="228600"/>
            <a:ext cx="2743200" cy="190512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7772400" cy="47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（四）火场逃生技巧与报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突遇火灾逃生时药注意以下几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紧急逃生，不贪财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简易防护，低姿前进。简单方法是用湿的毛巾、口罩用水浇身，贴近地面逃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当机立断，快速撤离。身上着火，切勿奔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若所有逃生路线都被大火封锁，要立即退回室内，等到救援人员到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发现险情及时拨打“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19”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</a:t>
            </a:r>
            <a:r>
              <a:rPr b="1" lang="zh-CN" sz="24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 rot="21242400">
            <a:off x="990720" y="4495680"/>
            <a:ext cx="3124080" cy="21272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 rot="1458600">
            <a:off x="5302080" y="4485960"/>
            <a:ext cx="2895840" cy="22176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 rot="21051000">
            <a:off x="6084360" y="1511280"/>
            <a:ext cx="2689560" cy="1908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380880" y="228600"/>
            <a:ext cx="7239240" cy="1143000"/>
          </a:xfrm>
          <a:prstGeom prst="horizontalScroll">
            <a:avLst>
              <a:gd name="adj" fmla="val 125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3900" spc="-1" strike="noStrike">
                <a:solidFill>
                  <a:srgbClr val="ff0000"/>
                </a:solidFill>
                <a:latin typeface="Arial"/>
              </a:rPr>
              <a:t>五、良好行为习惯，享有健康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7772400" cy="38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一）劳逸结合，向睡眠要健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二）保持阳光心态，维护心理健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（三）注意个人卫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勤洗手，常洗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共用毛巾和洗漱用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每天刷牙，饭后漱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123.Org</cp:lastModifiedBy>
  <dcterms:modified xsi:type="dcterms:W3CDTF">2015-05-25T06:36:11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