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08F-2D4C-4640-8087-2EF96C47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69E-370F-4C5B-9C29-347E07B2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E55-24C0-41F4-A0F6-241A20FF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E7C-A1C8-4C2A-9CD9-EF2F7AD6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404-3E9A-427E-A17B-0BFB945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410-CC4B-4E8A-93A8-73FD768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7E9-5670-44CB-91C8-D760A560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A87-7142-492C-9FB7-816F7197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295-D644-4DAB-BEAF-279075E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4A7-2779-4067-95C0-EB80B09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72C-9523-408D-9A5E-ED08986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4E2-9598-42DC-A5C6-719B820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gradFill rotWithShape="0">
            <a:gsLst>
              <a:gs pos="0">
                <a:srgbClr val="85adbc">
                  <a:alpha val="0"/>
                </a:srgbClr>
              </a:gs>
              <a:gs pos="100000">
                <a:srgbClr val="85adbc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书体坊米芾体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书体坊米芾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书体坊米芾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书体坊米芾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书体坊米芾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书体坊米芾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书体坊米芾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书体坊米芾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9D1-EC0D-4ECA-B669-1CFF42957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6" descr="200811213124507_2.jpg"/>
          <p:cNvPicPr/>
          <p:nvPr/>
        </p:nvPicPr>
        <p:blipFill>
          <a:blip r:embed="rId1"/>
          <a:stretch/>
        </p:blipFill>
        <p:spPr>
          <a:xfrm>
            <a:off x="0" y="0"/>
            <a:ext cx="95965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标题 3" descr=""/>
          <p:cNvPicPr/>
          <p:nvPr/>
        </p:nvPicPr>
        <p:blipFill>
          <a:blip r:embed="rId2"/>
          <a:stretch/>
        </p:blipFill>
        <p:spPr>
          <a:xfrm>
            <a:off x="669960" y="1828800"/>
            <a:ext cx="7808760" cy="397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1_27125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7"/>
          <p:cNvSpPr/>
          <p:nvPr/>
        </p:nvSpPr>
        <p:spPr>
          <a:xfrm>
            <a:off x="-1440" y="-144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净慈寺前有座夕照山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著名的雷峰塔就筑在夕照山的雷峰上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每当夕阳西下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彩云缭绕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古朴的雷峰塔在霞光辉映中别有一番情调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民间故事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白蛇传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中的白娘娘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就曾被法海禁锢在雷峰塔下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可惜雷峰塔于嘉靖年间遭焚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只剩塔心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民国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13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年终于倒塌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DSC008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矩形 7"/>
          <p:cNvSpPr/>
          <p:nvPr/>
        </p:nvSpPr>
        <p:spPr>
          <a:xfrm>
            <a:off x="-1440" y="-144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西湖南高峰和北高峰两峰遥遥相对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其间群山起伏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绵延数十里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从洪春桥畔透过九里云松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远望南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北高峰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晴雨晨昏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景色各异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;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尤其是春秋佳日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宿雨初收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双峰隐现于轻岚薄雾中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时露双尖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JIANGNANQINGYU17143418734.jpg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-1440" y="-144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三潭印月是明万历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35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公元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1607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由湖中淤泥堆成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占地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105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公亩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其中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60%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是水面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中心是湖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四周围以环形堤坝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南北以九曲桥相连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东西有土堤相接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把岛中的湖划成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田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字形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三潭印月的庭园布局迂回多变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园中有园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岛上有先贤祠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闲放台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开网亭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亭亭亭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我心相印亭和曲桥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迭石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九狮石等景致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三潭印月南面有三座石塔立于湖中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三塔建于明天启元年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塔内中空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球面体上有五个小洞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书体坊米芾体"/>
              </a:rPr>
              <a:t>每逢皓月当空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就可以看到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月光映潭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影分为三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",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故名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000" spc="-1" strike="noStrike">
                <a:solidFill>
                  <a:srgbClr val="000000"/>
                </a:solidFill>
                <a:latin typeface="书体坊米芾体"/>
              </a:rPr>
              <a:t>三潭印月</a:t>
            </a:r>
            <a:r>
              <a:rPr b="0" lang="en-US" sz="2000" spc="-1" strike="noStrike">
                <a:solidFill>
                  <a:srgbClr val="000000"/>
                </a:solidFill>
                <a:latin typeface="书体坊米芾体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内容占位符 6" descr="200811213124507_2.jpg"/>
          <p:cNvPicPr/>
          <p:nvPr/>
        </p:nvPicPr>
        <p:blipFill>
          <a:blip r:embed="rId1"/>
          <a:stretch/>
        </p:blipFill>
        <p:spPr>
          <a:xfrm>
            <a:off x="0" y="0"/>
            <a:ext cx="9596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6012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21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426960" y="201600"/>
            <a:ext cx="8326440" cy="981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281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柳浪闻莺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苏堤春晓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曲院风荷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平湖秋月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断桥残雪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花港观鱼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南屏晚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雷峰夕照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双峰插云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三潭印月</a:t>
            </a:r>
            <a:endParaRPr b="0" lang="en-US" sz="36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6" descr="240511762171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柳浪闻莺位于西湖东南岸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占地三百亩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南宋时这里是御花园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园内遍植柳树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每当烟花三月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只见柳丝迎风款摆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宛若翠浪翻空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不时还传来春日悦耳的莺啼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故名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柳浪闻莺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9" descr="img_89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苏堤景色四时不同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晨昏各异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春日之晨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六桥烟柳笼纱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几声莺啼报早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是为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苏堤春晓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";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盛夏则绿树交柯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蝉呜鼓噪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;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秋月之夜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波光粼粼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桂花飘香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寒冬则瑞雪纷飞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远眺玉树琼林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6" descr="20071227211617880_2.jpg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曲院风荷在西湖苏堤跨虹桥西北角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占地半亩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主景荷花区辟有五个大荷池及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61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个品种隔离池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以各式的石桥相连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池内栽种红莲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白莲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并蒂莲及重瓣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微型等荷花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每当风起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清香四溢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_2_096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平湖秋月在白堤西端终点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有八角亭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四面厅和湖天一碧楼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楼前并造一座突出水面平台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以方便游客驻足赏月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在此眺望西湖夜色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无论晴天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雨天都很适宜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尤其是皓月当空的秋夜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景色更为优美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6" descr="_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5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断桥是白堤的起点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正当外湖和里湖的分水点上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断桥是一座独孔洞桥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造型优美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登临桥上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可浏览环湖诸山和湖水风光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;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尤其冬日雪后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远山近水披上银装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别富诗意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民间故事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TW" sz="2400" spc="-1" strike="noStrike">
                <a:solidFill>
                  <a:srgbClr val="000000"/>
                </a:solidFill>
                <a:latin typeface="书体坊米芾体"/>
              </a:rPr>
              <a:t>白蛇传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中的白娘娘与许仙曾在此地相会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展开一段人蛇恋情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书体坊米芾体"/>
              </a:rPr>
              <a:t>使断桥更添浪漫色彩</a:t>
            </a:r>
            <a:r>
              <a:rPr b="0" lang="en-US" sz="24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" descr="2007625142713548.jpg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花港公园主要由鱼乐园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牡丹园和花港三部分组成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鱼乐园的红鱼池中蓄养数百条金鳞红鲤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是著名的观鱼胜地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游人爱在池畔投饵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见群鱼争食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8" descr="南屏晚钟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2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1384560" cy="3975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南屏山麓慧日峰下的白净慈寺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是五代后周显德元年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公元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954</a:t>
            </a:r>
            <a:r>
              <a:rPr b="0" lang="zh-TW" sz="2800" spc="-1" strike="noStrike">
                <a:solidFill>
                  <a:srgbClr val="000000"/>
                </a:solidFill>
                <a:latin typeface="书体坊米芾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吴越国王钱叔为供奉当时有名的永明禅师而建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寺中旧有一口大钟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钟声在苍烟暮霭中回荡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书体坊米芾体"/>
              </a:rPr>
              <a:t>格外悠扬动听</a:t>
            </a:r>
            <a:r>
              <a:rPr b="0" lang="en-US" sz="2800" spc="-1" strike="noStrike">
                <a:solidFill>
                  <a:srgbClr val="000000"/>
                </a:solidFill>
                <a:latin typeface="书体坊米芾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书体坊米芾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5-27T08:28:3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