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42.jpeg" ContentType="image/jpeg"/>
  <Override PartName="/ppt/media/image48.jpeg" ContentType="image/jpeg"/>
  <Override PartName="/ppt/media/image32.jpeg" ContentType="image/jpeg"/>
  <Override PartName="/ppt/media/image24.gif" ContentType="image/gif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25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9.gif" ContentType="image/gif"/>
  <Override PartName="/ppt/media/image16.jpeg" ContentType="image/jpeg"/>
  <Override PartName="/ppt/media/image57.jpeg" ContentType="image/jpeg"/>
  <Override PartName="/ppt/media/image19.jpeg" ContentType="image/jpeg"/>
  <Override PartName="/ppt/media/image56.jpeg" ContentType="image/jpeg"/>
  <Override PartName="/ppt/media/image18.jpeg" ContentType="image/jpeg"/>
  <Override PartName="/ppt/media/image55.jpeg" ContentType="image/jpeg"/>
  <Override PartName="/ppt/media/image49.gif" ContentType="image/gif"/>
  <Override PartName="/ppt/media/image26.gif" ContentType="image/gif"/>
  <Override PartName="/ppt/media/image20.jpeg" ContentType="image/jpeg"/>
  <Override PartName="/ppt/media/image21.jpeg" ContentType="image/jpeg"/>
  <Override PartName="/ppt/media/image6.gif" ContentType="image/gif"/>
  <Override PartName="/ppt/media/image17.jpeg" ContentType="image/jpeg"/>
  <Override PartName="/ppt/media/chimes.wav" ContentType="audio/x-wav"/>
  <Override PartName="/ppt/media/applause.wav" ContentType="audio/x-wav"/>
  <Override PartName="/ppt/media/image8.jpeg" ContentType="image/jpeg"/>
  <Override PartName="/ppt/media/image5.png" ContentType="image/png"/>
  <Override PartName="/ppt/media/image39.jpeg" ContentType="image/jpeg"/>
  <Override PartName="/ppt/media/image45.gif" ContentType="image/gif"/>
  <Override PartName="/ppt/media/image4.png" ContentType="image/png"/>
  <Override PartName="/ppt/media/image7.jpeg" ContentType="image/jpeg"/>
  <Override PartName="/ppt/media/image38.jpeg" ContentType="image/jpeg"/>
  <Override PartName="/ppt/media/image27.jpeg" ContentType="image/jpeg"/>
  <Override PartName="/ppt/media/image50.jpeg" ContentType="image/jpeg"/>
  <Override PartName="/ppt/media/image54.jpeg" ContentType="image/jpeg"/>
  <Override PartName="/ppt/media/image47.gif" ContentType="image/gif"/>
  <Override PartName="/ppt/media/image53.jpeg" ContentType="image/jpeg"/>
  <Override PartName="/ppt/media/image11.jpeg" ContentType="image/jpeg"/>
  <Override PartName="/ppt/media/image28.jpeg" ContentType="image/jpeg"/>
  <Override PartName="/ppt/media/image29.jpeg" ContentType="image/jpeg"/>
  <Override PartName="/ppt/media/image13.png" ContentType="image/png"/>
  <Override PartName="/ppt/media/image10.gif" ContentType="image/gif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voltage.wav" ContentType="audio/x-wav"/>
  <Override PartName="/ppt/media/image34.jpeg" ContentType="image/jpeg"/>
  <Override PartName="/ppt/media/image40.jpeg" ContentType="image/jpeg"/>
  <Override PartName="/ppt/media/image51.gif" ContentType="image/gif"/>
  <Override PartName="/ppt/media/image43.gif" ContentType="image/gif"/>
  <Override PartName="/ppt/media/explode.wav" ContentType="audio/x-wav"/>
  <Override PartName="/ppt/media/image44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63C-D89E-45BD-A044-5334FCE3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4F5-0116-4308-9681-677E2B3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1AF-11C1-4A41-8867-1B950069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376-C3B6-46E0-8076-F0C6ABEC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7B8-9591-46DB-9A88-117551A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EE2-A64D-4FA0-BFFD-B8282294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830-0520-44EF-98AC-4535A72D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60E-D253-45EF-8FD4-0A2611EB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8D6-ED46-4EE7-A536-BB14F1C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DDC-1C40-4C7E-9400-C1B529D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6D1-86F2-4701-961E-CDFE87F0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966-1E89-4062-AFEF-0F865432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066-F0C1-46BA-9A88-AF07D33DB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49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让我们记住，这个夏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</a:rPr>
              <a:t>爱过的，请勿忘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357200" y="2357280"/>
            <a:ext cx="6408720" cy="2286000"/>
          </a:xfrm>
          <a:prstGeom prst="rect">
            <a:avLst/>
          </a:prstGeom>
          <a:solidFill>
            <a:srgbClr val="faa4a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女外表很淑女，讲话很温柔，相处下来竟发现其最善用“温柔柳叶刀”为人有小小正经，经常性用死缠烂打方式将人逼到无路，让人欲哭无泪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~~~~~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2655257971469"/>
          <p:cNvPicPr/>
          <p:nvPr/>
        </p:nvPicPr>
        <p:blipFill>
          <a:blip r:embed="rId2"/>
          <a:stretch/>
        </p:blipFill>
        <p:spPr>
          <a:xfrm rot="21225600">
            <a:off x="1258560" y="692280"/>
            <a:ext cx="2663640" cy="177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2622491343867"/>
          <p:cNvPicPr/>
          <p:nvPr/>
        </p:nvPicPr>
        <p:blipFill>
          <a:blip r:embed="rId3"/>
          <a:stretch/>
        </p:blipFill>
        <p:spPr>
          <a:xfrm rot="952200">
            <a:off x="5363640" y="1125000"/>
            <a:ext cx="2376720" cy="1586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12749266089372"/>
          <p:cNvPicPr/>
          <p:nvPr/>
        </p:nvPicPr>
        <p:blipFill>
          <a:blip r:embed="rId4"/>
          <a:stretch/>
        </p:blipFill>
        <p:spPr>
          <a:xfrm rot="652200">
            <a:off x="755280" y="4724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7"/>
          <p:cNvSpPr/>
          <p:nvPr/>
        </p:nvSpPr>
        <p:spPr>
          <a:xfrm>
            <a:off x="3571920" y="3643200"/>
            <a:ext cx="2592360" cy="863640"/>
          </a:xfrm>
          <a:prstGeom prst="wedgeEllipseCallout">
            <a:avLst>
              <a:gd name="adj1" fmla="val -69291"/>
              <a:gd name="adj2" fmla="val 10845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猜到了没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王壹壹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71880" y="285840"/>
            <a:ext cx="5759280" cy="39290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此女可谓“潮人”，性格忠贞不屈。至死对某书中某名名字很欠扁的某人，坚贞不渝。脾气温和，但如果在你无意中提及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此数字时，请注意退避三舍，因为，她要发飙了。从前对柯南有奇癖爱好，据知名人士举报说，在家不喜穿裤，与越前龙马很熟，但后来有望投奔辛村精市的怀抱。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（限男生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3357720" y="4986360"/>
            <a:ext cx="2376360" cy="1871640"/>
          </a:xfrm>
          <a:prstGeom prst="wedgeEllipseCallout">
            <a:avLst>
              <a:gd name="adj1" fmla="val -75115"/>
              <a:gd name="adj2" fmla="val -3049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呵呵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鱼头”来了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2" descr="u=2387717885,3426457622&amp;fm=23&amp;gp=0.jpg"/>
          <p:cNvPicPr/>
          <p:nvPr/>
        </p:nvPicPr>
        <p:blipFill>
          <a:blip r:embed="rId2"/>
          <a:stretch/>
        </p:blipFill>
        <p:spPr>
          <a:xfrm>
            <a:off x="285840" y="500040"/>
            <a:ext cx="192096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" descr="u=3992816621,1925382067&amp;fm=9&amp;gp=0.jpg"/>
          <p:cNvPicPr/>
          <p:nvPr/>
        </p:nvPicPr>
        <p:blipFill>
          <a:blip r:embed="rId3"/>
          <a:stretch/>
        </p:blipFill>
        <p:spPr>
          <a:xfrm>
            <a:off x="214200" y="714240"/>
            <a:ext cx="2386080" cy="2973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u=2139795377,1738318957&amp;fm=23&amp;gp=0.jpg"/>
          <p:cNvPicPr/>
          <p:nvPr/>
        </p:nvPicPr>
        <p:blipFill>
          <a:blip r:embed="rId4"/>
          <a:stretch/>
        </p:blipFill>
        <p:spPr>
          <a:xfrm>
            <a:off x="142920" y="4000680"/>
            <a:ext cx="2523960" cy="2295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5" descr="u=4189930838,3684240598&amp;fm=23&amp;gp=0.jpg"/>
          <p:cNvPicPr/>
          <p:nvPr/>
        </p:nvPicPr>
        <p:blipFill>
          <a:blip r:embed="rId5"/>
          <a:stretch/>
        </p:blipFill>
        <p:spPr>
          <a:xfrm>
            <a:off x="7800840" y="4952880"/>
            <a:ext cx="1343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5480" y="1142640"/>
            <a:ext cx="5329080" cy="187308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女说话有点惊人，偶尔伴随一两声笑声，喜欢唱歌，可翻来覆去就这几句。曾有一段时间厌恶人世，见男生恨男生，自己喜欢做些变态的动作却毫不在意，夜里却自述“常常流泪到天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2562242456555"/>
          <p:cNvPicPr/>
          <p:nvPr/>
        </p:nvPicPr>
        <p:blipFill>
          <a:blip r:embed="rId2"/>
          <a:stretch/>
        </p:blipFill>
        <p:spPr>
          <a:xfrm>
            <a:off x="971640" y="4149720"/>
            <a:ext cx="2808360" cy="210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628d8234afb80a1c0b55a94c"/>
          <p:cNvPicPr/>
          <p:nvPr/>
        </p:nvPicPr>
        <p:blipFill>
          <a:blip r:embed="rId3"/>
          <a:stretch/>
        </p:blipFill>
        <p:spPr>
          <a:xfrm>
            <a:off x="6012000" y="981000"/>
            <a:ext cx="2101680" cy="314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7c23ced4a3ebf213a08bb73e"/>
          <p:cNvPicPr/>
          <p:nvPr/>
        </p:nvPicPr>
        <p:blipFill>
          <a:blip r:embed="rId4"/>
          <a:stretch/>
        </p:blipFill>
        <p:spPr>
          <a:xfrm>
            <a:off x="5219640" y="4437000"/>
            <a:ext cx="1970280" cy="15620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4929120" y="2857680"/>
            <a:ext cx="3095640" cy="2089080"/>
          </a:xfrm>
          <a:prstGeom prst="cloudCallout">
            <a:avLst>
              <a:gd name="adj1" fmla="val 119486"/>
              <a:gd name="adj2" fmla="val 5166"/>
            </a:avLst>
          </a:prstGeom>
          <a:solidFill>
            <a:srgbClr val="faa4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嘻嘻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..</a:t>
            </a: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不就是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任程烁</a:t>
            </a: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咯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12744940707495"/>
          <p:cNvPicPr/>
          <p:nvPr/>
        </p:nvPicPr>
        <p:blipFill>
          <a:blip r:embed="rId2"/>
          <a:stretch/>
        </p:blipFill>
        <p:spPr>
          <a:xfrm>
            <a:off x="1476360" y="4151160"/>
            <a:ext cx="4753080" cy="270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5194440" cy="305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风靡大陆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老鼠爱大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唱到“我听见你的声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有种特别的感觉，让我不断想，不敢再忘记你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恰恰是你在我们心中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也许你的声音不是最有磁性的，却是最妩媚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也许你的样子不是最帅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确实最难以忘怀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拥有让女性倾倒的白皙润滑的皮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听说你洗澡快到可以打破吉尼斯纪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因为身上没有摩擦力的原因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12750395022719"/>
          <p:cNvPicPr/>
          <p:nvPr/>
        </p:nvPicPr>
        <p:blipFill>
          <a:blip r:embed="rId3"/>
          <a:stretch/>
        </p:blipFill>
        <p:spPr>
          <a:xfrm rot="20733600">
            <a:off x="6300360" y="836640"/>
            <a:ext cx="2113200" cy="3168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627280" y="1125360"/>
            <a:ext cx="3527280" cy="1656000"/>
          </a:xfrm>
          <a:prstGeom prst="wedgeEllipseCallout">
            <a:avLst>
              <a:gd name="adj1" fmla="val 74930"/>
              <a:gd name="adj2" fmla="val 58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此人为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蒋俊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也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~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3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716356_1246708896C86R"/>
          <p:cNvPicPr/>
          <p:nvPr/>
        </p:nvPicPr>
        <p:blipFill>
          <a:blip r:embed="rId2"/>
          <a:stretch/>
        </p:blipFill>
        <p:spPr>
          <a:xfrm>
            <a:off x="4643280" y="907920"/>
            <a:ext cx="4131000" cy="4896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2484360" y="2565360"/>
            <a:ext cx="518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未解之谜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  <p:sndAc>
      <p:stSnd>
        <p:snd r:embed="rId3" name="explode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7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227640" y="5589720"/>
            <a:ext cx="1224000" cy="718920"/>
          </a:xfrm>
          <a:prstGeom prst="rightArrow">
            <a:avLst>
              <a:gd name="adj1" fmla="val 50000"/>
              <a:gd name="adj2" fmla="val 4256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2700360" y="4149720"/>
            <a:ext cx="48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广告回来更加精彩哦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6" descr="163A95A7-1"/>
          <p:cNvPicPr/>
          <p:nvPr/>
        </p:nvPicPr>
        <p:blipFill>
          <a:blip r:embed="rId2"/>
          <a:stretch/>
        </p:blipFill>
        <p:spPr>
          <a:xfrm>
            <a:off x="324000" y="242100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1476360" y="0"/>
            <a:ext cx="3095640" cy="1844640"/>
          </a:xfrm>
          <a:prstGeom prst="cloudCallout">
            <a:avLst>
              <a:gd name="adj1" fmla="val 82870"/>
              <a:gd name="adj2" fmla="val 45953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怎么又是你！别嘈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187280" y="321300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1116000" y="3213000"/>
            <a:ext cx="0" cy="7192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971640" y="3213000"/>
            <a:ext cx="0" cy="863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2746702196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435680" y="1265400"/>
            <a:ext cx="24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猫也很需要爱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迪士尼音乐盒 can you feel the lov.mp3" descr=""/>
          <p:cNvPicPr/>
          <p:nvPr/>
        </p:nvPicPr>
        <p:blipFill>
          <a:blip r:embed="rId2"/>
          <a:stretch/>
        </p:blipFill>
        <p:spPr>
          <a:xfrm>
            <a:off x="61128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25e3c7df6e4c884895ee37f7"/>
          <p:cNvPicPr/>
          <p:nvPr/>
        </p:nvPicPr>
        <p:blipFill>
          <a:blip r:embed="rId2"/>
          <a:stretch/>
        </p:blipFill>
        <p:spPr>
          <a:xfrm>
            <a:off x="1042920" y="2205000"/>
            <a:ext cx="2754360" cy="36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12562242451889gdt"/>
          <p:cNvPicPr/>
          <p:nvPr/>
        </p:nvPicPr>
        <p:blipFill>
          <a:blip r:embed="rId3"/>
          <a:stretch/>
        </p:blipFill>
        <p:spPr>
          <a:xfrm>
            <a:off x="5796000" y="3716280"/>
            <a:ext cx="177948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BQ200949220517"/>
          <p:cNvPicPr/>
          <p:nvPr/>
        </p:nvPicPr>
        <p:blipFill>
          <a:blip r:embed="rId4"/>
          <a:stretch/>
        </p:blipFill>
        <p:spPr>
          <a:xfrm>
            <a:off x="6659640" y="1268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2"/>
          <p:cNvSpPr txBox="1"/>
          <p:nvPr/>
        </p:nvSpPr>
        <p:spPr>
          <a:xfrm rot="849000">
            <a:off x="3995280" y="907920"/>
            <a:ext cx="23749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配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WordArt 14"/>
          <p:cNvSpPr txBox="1"/>
          <p:nvPr/>
        </p:nvSpPr>
        <p:spPr>
          <a:xfrm rot="20383200">
            <a:off x="971640" y="980640"/>
            <a:ext cx="14652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solidFill>
                  <a:srgbClr val="99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男生</a:t>
            </a:r>
            <a:endParaRPr b="0" lang="en-US" sz="1200" spc="1" strike="noStrike">
              <a:ln w="0">
                <a:noFill/>
              </a:ln>
              <a:solidFill>
                <a:srgbClr val="99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WordArt 15"/>
          <p:cNvSpPr txBox="1"/>
          <p:nvPr/>
        </p:nvSpPr>
        <p:spPr>
          <a:xfrm rot="762600">
            <a:off x="2626920" y="907560"/>
            <a:ext cx="961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385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女生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385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path" presetID="56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0.11815 L 0.54254 0.09965 E">
                                      <p:cBhvr>
                                        <p:cTn id="50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49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5872 L -0.45938 -0.13086 E">
                                      <p:cBhvr>
                                        <p:cTn id="5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5087E-006 C -0.03021 0.07908 -0.06042 0.15815 -0.1191 0.17757 C -0.17778 0.19699 -0.31059 0.16416 -0.35243 0.1163 C -0.39427 0.06844 -0.38507 -0.05618 -0.36979 -0.10983 C -0.35451 -0.16347 -0.29201 -0.1963 -0.26024 -0.20509 C -0.22864 -0.21387 -0.22587 -0.19699 -0.17934 -0.16277 C -0.13281 -0.12855 0.03715 -0.06983 0.0191 -4.45087E-006 C 0.00104 0.06983 -0.23385 0.17988 -0.2875 0.25572 C -0.3408 0.33156 -0.35868 0.40694 -0.30156 0.45457 C -0.24462 0.5022 -0.0118 0.55145 0.05556 0.54127 C 0.12292 0.5311 0.15261 0.42751 0.10313 0.39329 C 0.05365 0.35908 -0.16198 0.37873 -0.24132 0.33619 C -0.32066 0.29364 -0.32812 0.18983 -0.37309 0.13734 C -0.41805 0.08486 -0.45746 0.0215 -0.51128 0.02127 C -0.56476 0.02104 -0.65729 0.07861 -0.69531 0.13526 C -0.73333 0.19191 -0.75 0.31699 -0.73976 0.36162 C -0.72951 0.40624 -0.64601 0.41665 -0.63333 0.4037 C -0.62066 0.39075 -0.64948 0.28046 -0.66354 0.28324 C -0.6776 0.28601 -0.7316 0.37827 -0.71753 0.42081 C -0.70347 0.46335 -0.63142 0.53249 -0.57934 0.53919 C -0.52726 0.5459 -0.45173 0.50104 -0.40469 0.46081 C -0.35764 0.42058 -0.31406 0.32555 -0.29705 0.29803 E">
                                      <p:cBhvr>
                                        <p:cTn id="514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5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51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080421010391523"/>
          <p:cNvPicPr/>
          <p:nvPr/>
        </p:nvPicPr>
        <p:blipFill>
          <a:blip r:embed="rId1"/>
          <a:stretch/>
        </p:blipFill>
        <p:spPr>
          <a:xfrm>
            <a:off x="179280" y="35002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扑克牌决定你的命运，扑克牌亮出你的真心话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这是一个魔幻的世界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嘿嘿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411280" y="189000"/>
            <a:ext cx="2376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真心话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468360" y="981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亮出你的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" name="Picture 10" descr="4553396278a05d69eaf8f85f"/>
          <p:cNvPicPr/>
          <p:nvPr/>
        </p:nvPicPr>
        <p:blipFill>
          <a:blip r:embed="rId2"/>
          <a:stretch/>
        </p:blipFill>
        <p:spPr>
          <a:xfrm>
            <a:off x="5796000" y="549360"/>
            <a:ext cx="1604880" cy="133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1_20090611045651_9008"/>
          <p:cNvPicPr/>
          <p:nvPr/>
        </p:nvPicPr>
        <p:blipFill>
          <a:blip r:embed="rId3"/>
          <a:stretch/>
        </p:blipFill>
        <p:spPr>
          <a:xfrm>
            <a:off x="7020000" y="4581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mph" presetID="2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12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1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235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2393"/>
          <p:cNvPicPr/>
          <p:nvPr/>
        </p:nvPicPr>
        <p:blipFill>
          <a:blip r:embed="rId1"/>
          <a:stretch/>
        </p:blipFill>
        <p:spPr>
          <a:xfrm>
            <a:off x="4716360" y="4508640"/>
            <a:ext cx="4048200" cy="3028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游戏规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6920" y="2276280"/>
            <a:ext cx="6804360" cy="287964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随即发给每个人一张牌，红桃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先说，然后由红桃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决定下一个发言的人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如此类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被抽到的人要站到讲台上来，可以对老师，同学，班里要好的朋友，亮出你的</a:t>
            </a:r>
            <a:r>
              <a:rPr b="0" lang="zh-CN" sz="2800" spc="-1" strike="noStrike">
                <a:solidFill>
                  <a:srgbClr val="fbdf53"/>
                </a:solidFill>
                <a:latin typeface="Arial"/>
              </a:rPr>
              <a:t>真心话</a:t>
            </a: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要求大家合作，真情实感，杜绝敷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Arial"/>
              </a:rPr>
              <a:t>抽到的人请速度上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2008043014241849"/>
          <p:cNvPicPr/>
          <p:nvPr/>
        </p:nvPicPr>
        <p:blipFill>
          <a:blip r:embed="rId2"/>
          <a:stretch/>
        </p:blipFill>
        <p:spPr>
          <a:xfrm>
            <a:off x="1258920" y="404640"/>
            <a:ext cx="2152440" cy="15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yuleduju2_0442"/>
          <p:cNvPicPr/>
          <p:nvPr/>
        </p:nvPicPr>
        <p:blipFill>
          <a:blip r:embed="rId3"/>
          <a:stretch/>
        </p:blipFill>
        <p:spPr>
          <a:xfrm>
            <a:off x="971640" y="4941720"/>
            <a:ext cx="99360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1_20090611045651_9008"/>
          <p:cNvPicPr/>
          <p:nvPr/>
        </p:nvPicPr>
        <p:blipFill>
          <a:blip r:embed="rId4"/>
          <a:stretch/>
        </p:blipFill>
        <p:spPr>
          <a:xfrm>
            <a:off x="6659640" y="69228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5" name="camera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3200"/>
                            </p:stCondLst>
                            <p:childTnLst>
                              <p:par>
                                <p:cTn id="6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4" descr="u=1565591649,4262658098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5"/>
          <p:cNvSpPr/>
          <p:nvPr/>
        </p:nvSpPr>
        <p:spPr>
          <a:xfrm>
            <a:off x="4214880" y="285840"/>
            <a:ext cx="4572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似乎仅在弹指一挥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我们从初见跃到了怀愐的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两年的光景留给我们太多太多的回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每一张照片都有一个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每一个笑脸都谱写着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毕业了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让我们把快乐  留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Arial"/>
              </a:rPr>
              <a:t>把回忆  留在心里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8"/>
          <p:cNvSpPr/>
          <p:nvPr/>
        </p:nvSpPr>
        <p:spPr>
          <a:xfrm>
            <a:off x="2771640" y="13413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中生活，一晃就三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活虽枯燥，但有一班朋友陪着，我们不寂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习虽苦，但有一群孜孜不倦的老师带着，我们不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859280" y="3141720"/>
            <a:ext cx="3888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班主任的谆谆教导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会忘记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因我们的一时懈怠而心痛不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您的无微不至的关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像个严厉的母亲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却一直爱护着我们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的孩子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95280" y="404640"/>
            <a:ext cx="2592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语文老师的阔达开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说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们去放羊吧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是您自己心里最清楚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不会让我们任何一个人去“放羊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直到最后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一直陪伴着我们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不曾放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932360" y="549360"/>
            <a:ext cx="27352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数学老师的金句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教会了我们数学逻辑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更教会了我们人的逻辑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总说您是个不负责任的老师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但我们心里都知道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你是最负责任的老师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835280" y="333360"/>
            <a:ext cx="26272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亲爱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via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虽然相处的时间并不很长，但您赢得了我们全部人的喜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枯燥的英语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您的演绎下变得生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感谢你的激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的耐心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的激情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5580000" y="3716280"/>
            <a:ext cx="27370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可爱的化学老师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总是那么不厌其烦地解决我们的问题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您很帅气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也很亲和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永远记得您纯真的笑脸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曾在我们的学习生涯中绽放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111640" y="836640"/>
            <a:ext cx="40323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有趣的生物老师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您在说“同学们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时候那认真的样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忘不了你对我们讲的故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您看来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教育，不仅仅是工作，更是使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谢谢您一直坚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492360" y="2924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cc"/>
                </a:solidFill>
                <a:latin typeface="Arial"/>
              </a:rPr>
              <a:t>在成长的路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427640" y="4508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6969"/>
                </a:solidFill>
                <a:latin typeface="Arial"/>
              </a:rPr>
              <a:t>感谢你们的陪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195640" y="2060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cc"/>
                </a:solidFill>
                <a:latin typeface="Arial"/>
              </a:rPr>
              <a:t>带着感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643280" y="14130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6969"/>
                </a:solidFill>
                <a:latin typeface="Arial"/>
              </a:rPr>
              <a:t>我们会勇敢地走下去</a:t>
            </a:r>
            <a:r>
              <a:rPr b="0" lang="en-US" sz="1800" spc="-1" strike="noStrike">
                <a:solidFill>
                  <a:srgbClr val="f7696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76969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9"/>
          <p:cNvSpPr txBox="1"/>
          <p:nvPr/>
        </p:nvSpPr>
        <p:spPr>
          <a:xfrm>
            <a:off x="2411280" y="2133720"/>
            <a:ext cx="410400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老师，谢谢您！</a:t>
            </a:r>
            <a:endParaRPr b="0" lang="en-US" sz="1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2" name="感恩的心 原唱.mp3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700"/>
                            </p:stCondLst>
                            <p:childTnLst>
                              <p:par>
                                <p:cTn id="64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4260"/>
                            </p:stCondLst>
                            <p:childTnLst>
                              <p:par>
                                <p:cTn id="65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aa4a4"/>
                                </p:to>
                              </p:animCl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5960"/>
                            </p:stCondLst>
                            <p:childTnLst>
                              <p:par>
                                <p:cTn id="66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7835"/>
                            </p:stCondLst>
                            <p:childTnLst>
                              <p:par>
                                <p:cTn id="671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2835"/>
                            </p:stCondLst>
                            <p:childTnLst>
                              <p:par>
                                <p:cTn id="68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8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3705"/>
                            </p:stCondLst>
                            <p:childTnLst>
                              <p:par>
                                <p:cTn id="69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87165"/>
                            </p:stCondLst>
                            <p:childTnLst>
                              <p:par>
                                <p:cTn id="70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89165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91165"/>
                            </p:stCondLst>
                            <p:childTnLst>
                              <p:par>
                                <p:cTn id="7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4165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96165"/>
                            </p:stCondLst>
                            <p:childTnLst>
                              <p:par>
                                <p:cTn id="7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9165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1165"/>
                            </p:stCondLst>
                            <p:childTnLst>
                              <p:par>
                                <p:cTn id="7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4165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6165"/>
                            </p:stCondLst>
                            <p:childTnLst>
                              <p:par>
                                <p:cTn id="7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598560" y="3357360"/>
            <a:ext cx="554508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请我们敬爱的班主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给我们说两句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643280" y="620640"/>
            <a:ext cx="403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6969"/>
                </a:solidFill>
                <a:latin typeface="Arial"/>
              </a:rPr>
              <a:t>春蚕到死丝方尽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6969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f76969"/>
                </a:solidFill>
                <a:latin typeface="Arial"/>
              </a:rPr>
              <a:t>蜡炬成灰泪始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858920" y="333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青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席慕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有的结局都已写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有的泪水也都已启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却忽然忘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怎么样的一个开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那个古老的不再回来的夏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无论我如何的去追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轻的你 只如云影掠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而你微笑的面容 极浅极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逐渐隐没在日落后的群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翻开那发黄的扉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命运将它装订的极为拙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含着泪 我一读再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却不得不承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青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是一本太仓促的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0" descr="126448471050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3363840" y="1773360"/>
            <a:ext cx="235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毕业了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679640" y="364500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继续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尹诗涵 今年夏天.mp3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4"/>
          <p:cNvSpPr/>
          <p:nvPr/>
        </p:nvSpPr>
        <p:spPr>
          <a:xfrm>
            <a:off x="1763640" y="76500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论走到哪里，我们永远都是一个集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250920" y="1557360"/>
            <a:ext cx="46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曾经爱过的 请勿忘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你曾笑着哭着，和我唱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那熟悉的旋律，可不可以永不停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同学录上的赠言，记录着的点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多年以后，你是否还会记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那是我的字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曾经爱过的  请勿忘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你曾笑着哭着，和我唱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这真挚的友谊，可不可以一直下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班里谁最淘气，谁谁很有人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毕业之后，你是否还会惦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你我曾经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356000" y="4199040"/>
            <a:ext cx="39610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这是毕业的前奏，我们仍然笑着说努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因为一起奋斗的日子已所剩无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这是离别的时候，我们仍要笑着在一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因为不知道什么时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还可以这样地团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把欢笑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把回忆藏在心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无论走到哪里   我们都是一个集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7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875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2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175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75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6875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7575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5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43280" y="103320"/>
            <a:ext cx="5976720" cy="141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许海英  赵丽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导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许海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制作：赵丽芬  黄振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持：赵丽芬   许海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演唱：邝艺华  蔡欣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梁俊伟   李键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梁楚晶   林霭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狗仔队：邝艺华  黄振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柏强    赵丽芬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许海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投稿：若干“网友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音乐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ver say Good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Heart Will Go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feel the l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感恩的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年夏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三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全体师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3780000" y="3429000"/>
            <a:ext cx="158400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会。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50920" y="1628640"/>
            <a:ext cx="374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年夏天是个充满希望的季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就要说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何时会相见 曾相处的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停重复上映在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年夏天有种令人不舍的感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徘徊在你我之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抹去彼此流下的泪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新展开笑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自踏上锦绣的明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年夏天是个离情依依的季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友情到永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你说一声再会 轻轻画上句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美的句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5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5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5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5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5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5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5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50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50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5000" fill="hold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5000" fill="hold"/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5000" fill="hold"/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5000" fill="hold"/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5000" fill="hold"/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5000" fill="hold"/>
                                        <p:tgtEl>
                                          <p:spTgt spid="16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000" fill="hold"/>
                                        <p:tgtEl>
                                          <p:spTgt spid="16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5000" fill="hold"/>
                                        <p:tgtEl>
                                          <p:spTgt spid="16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5000" fill="hold"/>
                                        <p:tgtEl>
                                          <p:spTgt spid="16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5000" fill="hold"/>
                                        <p:tgtEl>
                                          <p:spTgt spid="16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000" fill="hold"/>
                                        <p:tgtEl>
                                          <p:spTgt spid="16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5000" fill="hold"/>
                                        <p:tgtEl>
                                          <p:spTgt spid="16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000" fill="hold"/>
                                        <p:tgtEl>
                                          <p:spTgt spid="16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5000" fill="hold"/>
                                        <p:tgtEl>
                                          <p:spTgt spid="16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5000" fill="hold"/>
                                        <p:tgtEl>
                                          <p:spTgt spid="16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5000" fill="hold"/>
                                        <p:tgtEl>
                                          <p:spTgt spid="16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5000" fill="hold"/>
                                        <p:tgtEl>
                                          <p:spTgt spid="16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5000" fill="hold"/>
                                        <p:tgtEl>
                                          <p:spTgt spid="16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5000" fill="hold"/>
                                        <p:tgtEl>
                                          <p:spTgt spid="16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5000" fill="hold"/>
                                        <p:tgtEl>
                                          <p:spTgt spid="164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5000" fill="hold"/>
                                        <p:tgtEl>
                                          <p:spTgt spid="164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5000" fill="hold"/>
                                        <p:tgtEl>
                                          <p:spTgt spid="164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5000" fill="hold"/>
                                        <p:tgtEl>
                                          <p:spTgt spid="164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5000" fill="hold"/>
                                        <p:tgtEl>
                                          <p:spTgt spid="164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000" fill="hold"/>
                                        <p:tgtEl>
                                          <p:spTgt spid="164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2000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2000"/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7" dur="2000"/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2000"/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6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16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16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16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16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16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6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164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164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164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7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3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7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3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3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3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3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3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3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1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3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3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90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3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43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3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3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u=4103260848,2247900596&amp;fm=23&amp;gp=0.jpg"/>
          <p:cNvPicPr/>
          <p:nvPr/>
        </p:nvPicPr>
        <p:blipFill>
          <a:blip r:embed="rId1"/>
          <a:stretch/>
        </p:blipFill>
        <p:spPr>
          <a:xfrm>
            <a:off x="714240" y="785880"/>
            <a:ext cx="7786800" cy="5286240"/>
          </a:xfrm>
          <a:prstGeom prst="rect">
            <a:avLst/>
          </a:prstGeom>
          <a:ln w="0">
            <a:noFill/>
          </a:ln>
        </p:spPr>
      </p:pic>
      <p:pic>
        <p:nvPicPr>
          <p:cNvPr id="47" name="矩形 2" descr=""/>
          <p:cNvPicPr/>
          <p:nvPr/>
        </p:nvPicPr>
        <p:blipFill>
          <a:blip r:embed="rId2"/>
          <a:stretch/>
        </p:blipFill>
        <p:spPr>
          <a:xfrm>
            <a:off x="1133640" y="1908000"/>
            <a:ext cx="6943680" cy="16164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3" descr=""/>
          <p:cNvPicPr/>
          <p:nvPr/>
        </p:nvPicPr>
        <p:blipFill>
          <a:blip r:embed="rId3"/>
          <a:stretch/>
        </p:blipFill>
        <p:spPr>
          <a:xfrm>
            <a:off x="-73080" y="109440"/>
            <a:ext cx="438948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5e3c7df6e4c884895ee37f7"/>
          <p:cNvPicPr/>
          <p:nvPr/>
        </p:nvPicPr>
        <p:blipFill>
          <a:blip r:embed="rId2"/>
          <a:stretch/>
        </p:blipFill>
        <p:spPr>
          <a:xfrm>
            <a:off x="1042920" y="2205000"/>
            <a:ext cx="2754360" cy="367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12562242451889gdt"/>
          <p:cNvPicPr/>
          <p:nvPr/>
        </p:nvPicPr>
        <p:blipFill>
          <a:blip r:embed="rId3"/>
          <a:stretch/>
        </p:blipFill>
        <p:spPr>
          <a:xfrm>
            <a:off x="5796000" y="3716280"/>
            <a:ext cx="177948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Q200949220517"/>
          <p:cNvPicPr/>
          <p:nvPr/>
        </p:nvPicPr>
        <p:blipFill>
          <a:blip r:embed="rId4"/>
          <a:stretch/>
        </p:blipFill>
        <p:spPr>
          <a:xfrm>
            <a:off x="6659640" y="1268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 rot="626400">
            <a:off x="1547280" y="836280"/>
            <a:ext cx="4321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et's sing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  <p:sndAc>
      <p:stSnd>
        <p:snd r:embed="rId5" name="applause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5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73 0.11815 L 0.54254 0.09965 E">
                                      <p:cBhvr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41 -0.05872 L -0.45938 -0.13086 E">
                                      <p:cBhvr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5087E-006 C -0.03021 0.07908 -0.06042 0.15815 -0.1191 0.17757 C -0.17778 0.19699 -0.31059 0.16416 -0.35243 0.1163 C -0.39427 0.06844 -0.38507 -0.05618 -0.36979 -0.10983 C -0.35451 -0.16347 -0.29201 -0.1963 -0.26024 -0.20509 C -0.22864 -0.21387 -0.22587 -0.19699 -0.17934 -0.16277 C -0.13281 -0.12855 0.03715 -0.06983 0.0191 -4.45087E-006 C 0.00104 0.06983 -0.23385 0.17988 -0.2875 0.25572 C -0.3408 0.33156 -0.35868 0.40694 -0.30156 0.45457 C -0.24462 0.5022 -0.0118 0.55145 0.05556 0.54127 C 0.12292 0.5311 0.15261 0.42751 0.10313 0.39329 C 0.05365 0.35908 -0.16198 0.37873 -0.24132 0.33619 C -0.32066 0.29364 -0.32812 0.18983 -0.37309 0.13734 C -0.41805 0.08486 -0.45746 0.0215 -0.51128 0.02127 C -0.56476 0.02104 -0.65729 0.07861 -0.69531 0.13526 C -0.73333 0.19191 -0.75 0.31699 -0.73976 0.36162 C -0.72951 0.40624 -0.64601 0.41665 -0.63333 0.4037 C -0.62066 0.39075 -0.64948 0.28046 -0.66354 0.28324 C -0.6776 0.28601 -0.7316 0.37827 -0.71753 0.42081 C -0.70347 0.46335 -0.63142 0.53249 -0.57934 0.53919 C -0.52726 0.5459 -0.45173 0.50104 -0.40469 0.46081 C -0.35764 0.42058 -0.31406 0.32555 -0.29705 0.29803 E">
                                      <p:cBhvr>
                                        <p:cTn id="24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2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8" descr="u=2975156065,2385729409&amp;fm=11&amp;gp=0.jpg"/>
          <p:cNvPicPr/>
          <p:nvPr/>
        </p:nvPicPr>
        <p:blipFill>
          <a:blip r:embed="rId1"/>
          <a:stretch/>
        </p:blipFill>
        <p:spPr>
          <a:xfrm>
            <a:off x="5332320" y="3929040"/>
            <a:ext cx="381168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" descr="u=3578708127,2201028181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3333600" cy="2824200"/>
          </a:xfrm>
          <a:prstGeom prst="rect">
            <a:avLst/>
          </a:prstGeom>
          <a:ln w="0">
            <a:noFill/>
          </a:ln>
        </p:spPr>
      </p:pic>
      <p:pic>
        <p:nvPicPr>
          <p:cNvPr id="55" name="矩形 2" descr=""/>
          <p:cNvPicPr/>
          <p:nvPr/>
        </p:nvPicPr>
        <p:blipFill>
          <a:blip r:embed="rId3"/>
          <a:stretch/>
        </p:blipFill>
        <p:spPr>
          <a:xfrm>
            <a:off x="7620120" y="-231840"/>
            <a:ext cx="2054160" cy="5840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214800" y="1143000"/>
            <a:ext cx="5000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栀子花开，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So beautiful so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这是个季节                              我们将离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难舍的你                                 害羞的女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就像一阵清香                          萦绕在我的心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栀子花开                                 如此可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挥挥手告别                              欢乐和无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光阴好像                                  流水飞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85840" y="3071880"/>
            <a:ext cx="86439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日日夜夜                         将我们的青春灌溉                             栀子花  开啊开              栀子花  开啊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像晶莹的浪花                  盛开在我的心海                                 栀子花开呀 开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淡淡的青春                  纯纯的爱                                            栀子花开                       如此可爱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挥挥手告别                    欢乐和无奈                                         光阴好像                        流水飞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日日夜夜将                     我们的青春灌溉                                  栀子花开呀 开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像晶莹的浪花                 盛开在我的心海                                  栀子花开呀开  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淡淡的青春                 纯纯的爱                                             栀子花开呀开  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像晶莹的浪花                 盛开在我的心海                                   栀子花开呀开                 栀子花开呀开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淡淡的青春                 纯纯的爱                                              栀子花开呀开  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像晶莹的浪花                 盛开在我的心海                                   栀子花开呀开  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淡淡的青春                纯纯的爱                                               栀子花开呀开  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像晶莹的浪花                 盛开在我的心海                                    栀子花开呀开               栀子花开呀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淡淡的青春                 纯纯的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何炅 - 栀子花开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4815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12714141059404"/>
          <p:cNvPicPr/>
          <p:nvPr/>
        </p:nvPicPr>
        <p:blipFill>
          <a:blip r:embed="rId2"/>
          <a:stretch/>
        </p:blipFill>
        <p:spPr>
          <a:xfrm>
            <a:off x="431640" y="0"/>
            <a:ext cx="8712360" cy="666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u=3873308967,2092745424&amp;fm=0&amp;gp=0"/>
          <p:cNvPicPr/>
          <p:nvPr/>
        </p:nvPicPr>
        <p:blipFill>
          <a:blip r:embed="rId3"/>
          <a:stretch/>
        </p:blipFill>
        <p:spPr>
          <a:xfrm>
            <a:off x="900000" y="3068640"/>
            <a:ext cx="2052720" cy="273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3714840" y="28584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Arial"/>
              </a:rPr>
              <a:t>究竟你对我们班的同学了解有多少！！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4500720" y="2565360"/>
            <a:ext cx="1307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WordArt 11"/>
          <p:cNvSpPr txBox="1"/>
          <p:nvPr/>
        </p:nvSpPr>
        <p:spPr>
          <a:xfrm>
            <a:off x="6012000" y="2060640"/>
            <a:ext cx="1307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WordArt 12"/>
          <p:cNvSpPr txBox="1"/>
          <p:nvPr/>
        </p:nvSpPr>
        <p:spPr>
          <a:xfrm>
            <a:off x="7308720" y="1484280"/>
            <a:ext cx="13082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</a:t>
            </a:r>
            <a:endParaRPr b="0" lang="en-US" sz="12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WordArt 13"/>
          <p:cNvSpPr txBox="1"/>
          <p:nvPr/>
        </p:nvSpPr>
        <p:spPr>
          <a:xfrm>
            <a:off x="2987640" y="2997360"/>
            <a:ext cx="152388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ff66cc"/>
                  </a:solidFill>
                  <a:miter/>
                </a:ln>
                <a:solidFill>
                  <a:srgbClr val="cc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</a:t>
            </a:r>
            <a:endParaRPr b="0" lang="en-US" sz="1200" spc="1" strike="noStrike">
              <a:ln w="12600">
                <a:solidFill>
                  <a:srgbClr val="ff66cc"/>
                </a:solidFill>
                <a:miter/>
              </a:ln>
              <a:solidFill>
                <a:srgbClr val="cc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WordArt 14"/>
          <p:cNvSpPr txBox="1"/>
          <p:nvPr/>
        </p:nvSpPr>
        <p:spPr>
          <a:xfrm>
            <a:off x="1619280" y="1628640"/>
            <a:ext cx="165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99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猜</a:t>
            </a:r>
            <a:endParaRPr b="0" lang="en-US" sz="1200" spc="1" strike="noStrike">
              <a:ln w="12600">
                <a:solidFill>
                  <a:srgbClr val="006600"/>
                </a:solidFill>
                <a:miter/>
              </a:ln>
              <a:solidFill>
                <a:srgbClr val="99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419640" y="1557360"/>
            <a:ext cx="165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aa4a4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我猜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faa4a4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3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1680" y="1071360"/>
            <a:ext cx="24285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独特的背影，透露出丝丝的沉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拥有这个年纪没有的沉稳与内敛，个子虽小，却不影响他飒爽的风姿。他不调皮，不好动，“两耳不闻窗外事，一心只读圣贤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156360" y="3645000"/>
            <a:ext cx="2016000" cy="1584360"/>
          </a:xfrm>
          <a:prstGeom prst="rect">
            <a:avLst/>
          </a:prstGeom>
          <a:solidFill>
            <a:srgbClr val="a999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猜到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胡曾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6934d79ae4420f9cc9eaf4c1"/>
          <p:cNvPicPr/>
          <p:nvPr/>
        </p:nvPicPr>
        <p:blipFill>
          <a:blip r:embed="rId2"/>
          <a:stretch/>
        </p:blipFill>
        <p:spPr>
          <a:xfrm>
            <a:off x="3780000" y="3357720"/>
            <a:ext cx="2087280" cy="102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voltage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75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00760" y="500040"/>
            <a:ext cx="3240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，身材较矮，脸部较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，对我班某女较为殷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，有点“变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，很忙，因为他有一帮“狐朋狗友”，下课就没安分的时候（譬如前座这位不老实的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6572160" y="4500720"/>
            <a:ext cx="1944720" cy="1800000"/>
          </a:xfrm>
          <a:prstGeom prst="wedgeRoundRectCallout">
            <a:avLst>
              <a:gd name="adj1" fmla="val -41185"/>
              <a:gd name="adj2" fmla="val 65962"/>
              <a:gd name="adj3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还用猜？当然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楷楠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9" descr="u=1312115556,93276411&amp;fm=11&amp;gp=0.jpg"/>
          <p:cNvPicPr/>
          <p:nvPr/>
        </p:nvPicPr>
        <p:blipFill>
          <a:blip r:embed="rId2"/>
          <a:stretch/>
        </p:blipFill>
        <p:spPr>
          <a:xfrm>
            <a:off x="357120" y="3143160"/>
            <a:ext cx="1390680" cy="33339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0" descr="u=2157975158,1589176728&amp;fm=11&amp;gp=0.jpg"/>
          <p:cNvPicPr/>
          <p:nvPr/>
        </p:nvPicPr>
        <p:blipFill>
          <a:blip r:embed="rId3"/>
          <a:stretch/>
        </p:blipFill>
        <p:spPr>
          <a:xfrm>
            <a:off x="2643120" y="1285920"/>
            <a:ext cx="2667240" cy="33336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1" descr="u=3203352022,894119994&amp;fm=11&amp;gp=0.jpg"/>
          <p:cNvPicPr/>
          <p:nvPr/>
        </p:nvPicPr>
        <p:blipFill>
          <a:blip r:embed="rId4"/>
          <a:stretch/>
        </p:blipFill>
        <p:spPr>
          <a:xfrm>
            <a:off x="1357200" y="2286000"/>
            <a:ext cx="1681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71720" y="785520"/>
            <a:ext cx="655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一个女生，平时看起来很斯文安静，好像每时每刻都很认真努力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是，她一发起疯来，肾上腺急升，用打死人不偿命的力气打完人后，自己还笑得天花乱坠，还会跟你说：“我下次用左手打你吧，你就没那么疼了。”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她可不可以不打人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03344153Y"/>
          <p:cNvPicPr/>
          <p:nvPr/>
        </p:nvPicPr>
        <p:blipFill>
          <a:blip r:embed="rId2"/>
          <a:stretch/>
        </p:blipFill>
        <p:spPr>
          <a:xfrm>
            <a:off x="1187280" y="39337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811144687666456"/>
          <p:cNvPicPr/>
          <p:nvPr/>
        </p:nvPicPr>
        <p:blipFill>
          <a:blip r:embed="rId3"/>
          <a:stretch/>
        </p:blipFill>
        <p:spPr>
          <a:xfrm>
            <a:off x="5435640" y="350028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0081107100551747"/>
          <p:cNvPicPr/>
          <p:nvPr/>
        </p:nvPicPr>
        <p:blipFill>
          <a:blip r:embed="rId4"/>
          <a:stretch/>
        </p:blipFill>
        <p:spPr>
          <a:xfrm>
            <a:off x="3492360" y="3573360"/>
            <a:ext cx="1571760" cy="1728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7"/>
          <p:cNvSpPr/>
          <p:nvPr/>
        </p:nvSpPr>
        <p:spPr>
          <a:xfrm>
            <a:off x="1071720" y="1000080"/>
            <a:ext cx="6119640" cy="2808360"/>
          </a:xfrm>
          <a:prstGeom prst="cloudCallout">
            <a:avLst>
              <a:gd name="adj1" fmla="val 30958"/>
              <a:gd name="adj2" fmla="val 7261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哈哈，这就是白嫩嫩粉嘟嘟的任静仪啦！！！绝对惹不起哦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5:45:43Z</dcterms:created>
  <dc:creator>User</dc:creator>
  <dc:description/>
  <dc:language>en-US</dc:language>
  <cp:lastModifiedBy>微软用户</cp:lastModifiedBy>
  <dcterms:modified xsi:type="dcterms:W3CDTF">2013-05-19T07:51:34Z</dcterms:modified>
  <cp:revision>26</cp:revision>
  <dc:subject/>
  <dc:title>毕业了..</dc:title>
</cp:coreProperties>
</file>