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gif" ContentType="image/gif"/>
  <Override PartName="/ppt/media/image4.jpeg" ContentType="image/jpeg"/>
  <Override PartName="/ppt/media/image5.jpeg" ContentType="image/jpeg"/>
  <Override PartName="/ppt/media/image6.gif" ContentType="image/gif"/>
  <Override PartName="/ppt/media/image7.jpeg" ContentType="image/jpeg"/>
  <Override PartName="/ppt/media/image8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0A73-F922-4ED3-9485-47E1A9CA1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A52E-72A0-440B-A705-58294C251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5BAD-70A3-48F4-9FAE-BC8A8418B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EE84-834D-434A-B3F6-F24AF1EE1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5F2F-35A6-45D2-8991-D43A7D5EA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ECFB-5CB2-4C45-8D28-B1BF66772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05E4-06B8-4B72-B047-7DFE73BB6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676E-1340-4EEE-8417-FB6CB7531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A158-64E7-46BA-8087-9866DFC11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EE6D-F01E-4384-BC0D-3AF040DC2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E216-5E8E-4C4C-A48E-990104E28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6C84-25FC-46BB-819B-E1DA40C71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1B904-C09A-447E-B148-894C6FD881F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95640" y="1557360"/>
            <a:ext cx="62640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cc00ff"/>
                </a:solidFill>
                <a:latin typeface="Arial"/>
                <a:ea typeface="华文新魏"/>
              </a:rPr>
              <a:t>  </a:t>
            </a:r>
            <a:r>
              <a:rPr b="0" lang="zh-CN" sz="6600" spc="-1" strike="noStrike">
                <a:solidFill>
                  <a:srgbClr val="9900ff"/>
                </a:solidFill>
                <a:latin typeface="Arial"/>
                <a:ea typeface="华文新魏"/>
              </a:rPr>
              <a:t>树立信心，</a:t>
            </a:r>
            <a:br>
              <a:rPr sz="6600"/>
            </a:br>
            <a:br>
              <a:rPr sz="2400"/>
            </a:br>
            <a:r>
              <a:rPr b="0" lang="zh-CN" sz="6600" spc="-1" strike="noStrike">
                <a:solidFill>
                  <a:srgbClr val="9900ff"/>
                </a:solidFill>
                <a:latin typeface="Arial"/>
                <a:ea typeface="华文新魏"/>
              </a:rPr>
              <a:t>我的未来不是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52640" y="4856040"/>
            <a:ext cx="4033800" cy="12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主题班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2819520" y="380880"/>
            <a:ext cx="3047760" cy="101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畅谈理想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74" name=""/>
          <p:cNvSpPr/>
          <p:nvPr/>
        </p:nvSpPr>
        <p:spPr>
          <a:xfrm>
            <a:off x="971640" y="1828800"/>
            <a:ext cx="77770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</a:t>
            </a: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理想是人奋斗的目标，是人生活的希望，没有理想的青春，就像没有太阳的早晨。没有理想的人，就像一台没安马达的机器。对我们青年人来说，理想就更重要了，因为我们是祖国的未来，如果我们胸无大志，那我们的国家未来就没有希望了 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2195640" y="1341360"/>
            <a:ext cx="61722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仿宋_GB2312"/>
              </a:rPr>
              <a:t>讨论：</a:t>
            </a:r>
            <a:endParaRPr b="1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仿宋_GB2312"/>
              <a:ea typeface="仿宋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仿宋_GB2312"/>
              </a:rPr>
              <a:t>《二十年后的我们》</a:t>
            </a:r>
            <a:endParaRPr b="1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仿宋_GB2312"/>
              <a:ea typeface="仿宋_GB2312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523880" y="4038480"/>
            <a:ext cx="4419720" cy="25401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6019920" y="2971800"/>
            <a:ext cx="3124080" cy="10666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99"/>
                </a:solidFill>
                <a:latin typeface="Arial"/>
                <a:ea typeface="华文新魏"/>
              </a:rPr>
              <a:t>我相信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99"/>
                </a:solidFill>
                <a:latin typeface="Arial"/>
                <a:ea typeface="华文新魏"/>
              </a:rPr>
              <a:t>我能行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471080" y="2276640"/>
            <a:ext cx="127764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醒醒醒，行行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5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762120" y="1905120"/>
            <a:ext cx="4032000" cy="46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你是不是像我在太阳下低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流着汗水默默辛苦的工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你是不是像我就算受了冷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也不放弃自己想要的生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你是不是像我整天忙着追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追求一种意想不到的温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你是不是像我曾经茫然失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一次一次徘徊在十字街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因为我不在乎别人怎么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我从来没有忘记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对自己的承诺对爱的执著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我知道我的未来不是梦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我认真的过每一分钟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我的未来不是梦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我的心跟着希望在动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我的未来不是梦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我认真的过每一分钟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我的未来不是梦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我的心跟着希望在动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跟着希望在动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1332000" y="692280"/>
            <a:ext cx="3933720" cy="97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中宋"/>
              </a:rPr>
              <a:t>我的未来不是梦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中宋"/>
              <a:ea typeface="华文中宋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6084720" y="549360"/>
            <a:ext cx="876600" cy="13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仿宋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请全体同学那一张洁白的纸，写上自己的心愿、理想，飞向折好放在自己的心里，成为自己永远的秘密……</a:t>
            </a:r>
            <a:r>
              <a:rPr b="0" lang="zh-CN" sz="4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3429000" y="685800"/>
            <a:ext cx="2743200" cy="114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隶书"/>
              </a:rPr>
              <a:t>放飞梦想</a:t>
            </a:r>
            <a:endParaRPr b="1" lang="en-US" sz="66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867280" y="4869000"/>
            <a:ext cx="1676520" cy="163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班主任寄予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ff00"/>
                </a:solidFill>
                <a:latin typeface="Arial"/>
              </a:rPr>
              <a:t>带上你的梦想，带上你的志向，迈开你的脚步，捎上我为你的祝福，走得更加坚实，走得更远、更远。。。。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619280" y="4653000"/>
            <a:ext cx="66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相信你能行，一定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7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1981080" y="2362320"/>
            <a:ext cx="6553440" cy="129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华文中宋"/>
              </a:rPr>
              <a:t>班会到此结束！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华文中宋"/>
              <a:ea typeface="华文中宋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畅谈你的梦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理想有多大，舞台就有多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有理想的人才能飞得更高、更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插上理想的翅膀，有实际行动作为动力，用智慧作为牵引力，用一生的执著作为幸福的源泉，飞翔、飞翔。。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华文行楷"/>
              </a:rPr>
              <a:t>名人的故事和警句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仿宋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志当存高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372360" y="105264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219320" y="2666880"/>
            <a:ext cx="8001000" cy="12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最困难之时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就是离成功不远之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219320" y="3352680"/>
            <a:ext cx="7772400" cy="14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buClr>
                <a:srgbClr val="333399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世界上最快乐的事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莫过于为理想而奋斗。</a:t>
            </a:r>
            <a:r>
              <a:rPr b="0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4495680"/>
            <a:ext cx="77724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过去属于死神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未来属于自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5181480"/>
            <a:ext cx="78483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没有志向的青年，就像断了线的风筝，只会在空中东摇西晃，最后必然丧失前程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仿宋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71600" y="1196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仿宋_GB2312"/>
              </a:rPr>
              <a:t>你们为什么读书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292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让自己更加坚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让我更有素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让世界更加美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43000" y="285264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908000" y="836640"/>
            <a:ext cx="44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想一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8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3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8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想一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为谁而读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3068640"/>
            <a:ext cx="6913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也许，你说，为了中华崛起而读书，太不现实；也许，你说，为了父母的期盼而读书，太博大；也许，你说，为了自己的的前途命运而读书，太自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0" lang="zh-CN" sz="2400" spc="-1" strike="noStrike">
                <a:solidFill>
                  <a:srgbClr val="9900ff"/>
                </a:solidFill>
                <a:latin typeface="Arial"/>
              </a:rPr>
              <a:t>我说，为了明天的太阳比今天更加灿烂，为了今天的我们比明天更加成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我们怎样学习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6000" y="112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第一：目的：我要学习，知道我来学校是干什么？从每一个成绩较好的同学身上，你能看到哪些共同特点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第二：态度：认真对待每一件事，每一节课，每一次作业、每一次导案、每一次考试，特别是每一次考试题做到百分百全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第三：坚持：学习是积累的过程，厚积薄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第四：信心：信心来源于我们不断的深入探索，善于探索的人才是成功的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立志摘取明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4072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歌德巴赫猜想一直被看作数学王冠上的明珠。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00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多年前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有不少科学家试图征服它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并因此耗费了巨大的精力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却都没有成功。有位中国少年上中学时就暗暗立志摘取这颗明珠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他把它当作自己的事业和理想。他拼命积累知识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奋力演算难题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草稿纸装了一麻袋又一麻袋。最后他终于用自己的智慧和理想的合力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移动了数学群山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摘取了数学王冠上这一璀璨的明珠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发明了以他的姓氏的定理。请问这位少年是谁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5000" y="274320"/>
            <a:ext cx="526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仿宋_GB2312"/>
              </a:rPr>
              <a:t>自信——成功的选择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仿宋_GB2312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仿宋_GB2312"/>
              </a:rPr>
              <a:t>我们在学习和事业的攀登中，总要越过险峻的高山，度过茫茫的阔水。而自信心就是登山的云梯，渡水的飞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仿宋_GB2312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仿宋_GB2312"/>
              </a:rPr>
              <a:t>人，只有自信，才能自强不息，才能使人为自己的愿望或理想而努力奋斗。只有自信，才可能使人在艰难的事业中保持必胜的信念，才能使人有勇气攀登科学的高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7308720" y="549360"/>
            <a:ext cx="83052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1257120" y="160020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仿宋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hey!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我不愿意活的像一个问号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,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东张西望找不到自己的跑道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仿宋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现在我为梦想超速在奔跑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心在燃烧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,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来吧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!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唱出感觉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high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出味道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,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yeah——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hey!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你再叹气就快变一个句号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,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难道不想看大家都为你尖叫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03640" y="1600200"/>
            <a:ext cx="4026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仿宋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其实你也会像明星一样酷让人心跳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,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来吧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!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手舞足蹈别怕人笑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,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yeah——</a:t>
            </a:r>
            <a:br>
              <a:rPr sz="2400"/>
            </a:b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我的舞台我自己建造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</a:t>
            </a:r>
            <a:br>
              <a:rPr sz="2400"/>
            </a:b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要让全世界看到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</a:t>
            </a:r>
            <a:br>
              <a:rPr sz="2400"/>
            </a:b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我的剧本我自己写好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</a:t>
            </a:r>
            <a:br>
              <a:rPr sz="2400"/>
            </a:b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相信自己永远是个主角。</a:t>
            </a:r>
            <a:br>
              <a:rPr sz="2400"/>
            </a:b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我的魅力我自己创造，</a:t>
            </a:r>
            <a:br>
              <a:rPr sz="2400"/>
            </a:b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出乎每个人意料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</a:t>
            </a:r>
            <a:br>
              <a:rPr sz="2400"/>
            </a:b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我的未来我自己照耀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</a:t>
            </a:r>
            <a:br>
              <a:rPr sz="2400"/>
            </a:b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每个明天把我拥抱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.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a    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066680" y="1197000"/>
            <a:ext cx="8077320" cy="3808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1835280" y="620640"/>
            <a:ext cx="201924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我的舞台</a:t>
            </a:r>
            <a:endParaRPr b="0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70" name=""/>
          <p:cNvSpPr/>
          <p:nvPr/>
        </p:nvSpPr>
        <p:spPr>
          <a:xfrm>
            <a:off x="7885080" y="5950080"/>
            <a:ext cx="574560" cy="574560"/>
          </a:xfrm>
          <a:custGeom>
            <a:avLst/>
            <a:gdLst>
              <a:gd name="textAreaLeft" fmla="*/ 37080 w 574560"/>
              <a:gd name="textAreaRight" fmla="*/ 537480 w 574560"/>
              <a:gd name="textAreaTop" fmla="*/ 37080 h 574560"/>
              <a:gd name="textAreaBottom" fmla="*/ 537480 h 57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8406"/>
                </a:moveTo>
                <a:lnTo>
                  <a:pt x="8224" y="8406"/>
                </a:lnTo>
                <a:lnTo>
                  <a:pt x="12645" y="3794"/>
                </a:lnTo>
                <a:lnTo>
                  <a:pt x="12645" y="17806"/>
                </a:lnTo>
                <a:lnTo>
                  <a:pt x="8224" y="13194"/>
                </a:lnTo>
                <a:lnTo>
                  <a:pt x="3794" y="13194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17806" y="10800"/>
                </a:lnTo>
              </a:path>
              <a:path fill="darken" w="21600" h="21600">
                <a:moveTo>
                  <a:pt x="14299" y="8406"/>
                </a:moveTo>
                <a:lnTo>
                  <a:pt x="17806" y="5639"/>
                </a:lnTo>
              </a:path>
              <a:path fill="darken" w="21600" h="21600">
                <a:moveTo>
                  <a:pt x="14299" y="13194"/>
                </a:moveTo>
                <a:lnTo>
                  <a:pt x="178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988760" y="2205000"/>
            <a:ext cx="115524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自己的舞台靠自己搭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s5u</dc:creator>
  <dc:description>高考资源网，中国最大的高考网站，您身边的高考专家。</dc:description>
  <cp:keywords>高考 考试无忧 高考资源网</cp:keywords>
  <dc:language>en-US</dc:language>
  <cp:lastModifiedBy>微软系统</cp:lastModifiedBy>
  <dcterms:modified xsi:type="dcterms:W3CDTF">2010-04-09T11:03:20Z</dcterms:modified>
  <cp:revision>52</cp:revision>
  <dc:subject>您身边的高考专家</dc:subject>
  <dc:title>高考资源网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a01000000000001024120</vt:lpwstr>
  </property>
  <property fmtid="{D5CDD505-2E9C-101B-9397-08002B2CF9AE}" pid="3" name="Version">
    <vt:r8>1</vt:r8>
  </property>
</Properties>
</file>