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4EA-8DE6-4722-BC12-B99A6EDA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D90-6CF7-45D8-88F7-5715FF2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41C-0563-4474-887E-8E9E8A71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97B-46F4-4062-A01E-A2F180A1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64E9-C84C-4FD0-A31A-D1645519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A7C9-7DB1-4421-A69A-9779E436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D80E-50DC-4189-B9D9-2E5D6459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C55C-185A-46D6-9CD9-A884577C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B2F4-FC64-4E63-8AC5-3E5E790E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81F5-92C2-4260-8B45-ACD7F3D3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D08A-0626-43D0-AD6F-4E6F0225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C6E-8B09-43A3-B526-34CA02D7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795A-FC8F-4274-998C-DBEFA6BB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EECA-74B4-430C-AE75-9DD3DA57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73B7-AA60-4CDE-B323-D9E65045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007E-2F77-4EE8-A1DF-58AAFF74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4080-B66A-4A67-913F-C85B3829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69F-161B-4239-BFA7-EAEF82DF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E1C-67AB-4702-BBE9-A6E1A77D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357-E8B5-4F49-A392-EAB0D959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B88-B6E3-4DDF-A7F5-26BAF627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510-ACFC-4814-BBE7-DF62E9A5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2DA-6C58-414E-BDB8-9AED2925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5D9-B25A-4B4D-B35A-517FE261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2C0C-72F4-4C89-8664-372C11EA08C6}" type="slidenum">
              <a:rPr b="0" lang="en-US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C044-461B-40F0-9F93-DEE793F9C8CD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44360" y="3789360"/>
            <a:ext cx="4319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学生：严志翔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日期：</a:t>
            </a:r>
            <a:fld id="{6CB79FBB-EAC9-4E08-A1B7-71C19A566FC0}" type="datetime2">
              <a:rPr b="0" lang="zh-CN" sz="2800" spc="-1" strike="noStrike">
                <a:solidFill>
                  <a:srgbClr val="000000"/>
                </a:solidFill>
                <a:latin typeface="黑体"/>
              </a:rPr>
              <a:t>2026年7月29日 星期三</a:t>
            </a:fld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908000" y="1413000"/>
            <a:ext cx="525636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黑体"/>
                <a:ea typeface="微软雅黑"/>
              </a:rPr>
              <a:t>中国传统节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黑体"/>
                <a:ea typeface="微软雅黑"/>
              </a:rPr>
              <a:t>-</a:t>
            </a:r>
            <a:r>
              <a:rPr b="1" lang="zh-CN" sz="6000" spc="-1" strike="noStrike">
                <a:solidFill>
                  <a:srgbClr val="ff6600"/>
                </a:solidFill>
                <a:latin typeface="黑体"/>
                <a:ea typeface="微软雅黑"/>
              </a:rPr>
              <a:t>端午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19280" y="1989000"/>
            <a:ext cx="6624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cc00"/>
                </a:solidFill>
                <a:latin typeface="微软雅黑"/>
                <a:ea typeface="微软雅黑"/>
              </a:rPr>
              <a:t>农历五月初五为端午节，又称端阳节、五月节。端是“开端”的意思，初五可以称为端五。端午节是我国汉族人民的传统节日，</a:t>
            </a:r>
            <a:r>
              <a:rPr b="1" lang="zh-CN" sz="2800" spc="-1" strike="noStrike">
                <a:solidFill>
                  <a:srgbClr val="00cc00"/>
                </a:solidFill>
                <a:latin typeface="微软雅黑"/>
                <a:ea typeface="微软雅黑"/>
              </a:rPr>
              <a:t>端午这一天必不可少的活动逐渐演变为吃粽子，赛龙舟，挂菖蒲、艾叶，薰苍术、白芷，喝雄黄酒。</a:t>
            </a:r>
            <a:r>
              <a:rPr b="0" lang="zh-CN" sz="2800" spc="-1" strike="noStrike">
                <a:solidFill>
                  <a:srgbClr val="00cc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端午节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端午节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1981080"/>
            <a:ext cx="3600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微软雅黑"/>
                <a:ea typeface="微软雅黑"/>
              </a:rPr>
              <a:t>纪念屈原，屈原投汨罗江后，当地百姓为了寄托哀思，人们荡舟江河之上，此后才逐渐发展成为龙舟竞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2484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端午节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1981080"/>
            <a:ext cx="3600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微软雅黑"/>
                <a:ea typeface="微软雅黑"/>
              </a:rPr>
              <a:t>迎涛神，春秋时吴国忠臣伍子胥含冤而死之后，化为涛神，世人哀而祭之，故有端午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266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907920"/>
            <a:ext cx="7775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端午节习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920" y="1773360"/>
            <a:ext cx="5689080" cy="4235400"/>
            <a:chOff x="34920" y="1773360"/>
            <a:chExt cx="5689080" cy="4235400"/>
          </a:xfrm>
        </p:grpSpPr>
        <p:sp>
          <p:nvSpPr>
            <p:cNvPr id="94" name=""/>
            <p:cNvSpPr/>
            <p:nvPr/>
          </p:nvSpPr>
          <p:spPr>
            <a:xfrm>
              <a:off x="34920" y="1844640"/>
              <a:ext cx="150948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cc00"/>
                  </a:solidFill>
                  <a:latin typeface="微软雅黑"/>
                  <a:ea typeface="微软雅黑"/>
                </a:rPr>
                <a:t>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cc00"/>
                  </a:solidFill>
                  <a:latin typeface="微软雅黑"/>
                  <a:ea typeface="微软雅黑"/>
                </a:rPr>
                <a:t>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cc00"/>
                  </a:solidFill>
                  <a:latin typeface="微软雅黑"/>
                  <a:ea typeface="微软雅黑"/>
                </a:rPr>
                <a:t>子</a:t>
              </a:r>
              <a:r>
                <a:rPr b="1" i="1" lang="zh-CN" sz="2800" spc="-1" strike="noStrike">
                  <a:solidFill>
                    <a:srgbClr val="00cc00"/>
                  </a:solidFill>
                  <a:latin typeface="微软雅黑"/>
                  <a:ea typeface="微软雅黑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331640" y="1773360"/>
              <a:ext cx="4392360" cy="423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5796000" y="1773360"/>
            <a:ext cx="309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粽子香，香厨房。艾叶香，香满堂。桃枝插在大门上，出门一望麦儿黄。这儿端阳，那儿端阳，处处都端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981000"/>
            <a:ext cx="777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端午节习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8000" y="1982880"/>
            <a:ext cx="6480000" cy="4038480"/>
            <a:chOff x="108000" y="1982880"/>
            <a:chExt cx="6480000" cy="4038480"/>
          </a:xfrm>
        </p:grpSpPr>
        <p:sp>
          <p:nvSpPr>
            <p:cNvPr id="99" name=""/>
            <p:cNvSpPr/>
            <p:nvPr/>
          </p:nvSpPr>
          <p:spPr>
            <a:xfrm>
              <a:off x="108000" y="1982880"/>
              <a:ext cx="150984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cc00"/>
                  </a:solidFill>
                  <a:latin typeface="微软雅黑"/>
                  <a:ea typeface="微软雅黑"/>
                </a:rPr>
                <a:t>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cc00"/>
                  </a:solidFill>
                  <a:latin typeface="微软雅黑"/>
                  <a:ea typeface="微软雅黑"/>
                </a:rPr>
                <a:t>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cc00"/>
                  </a:solidFill>
                  <a:latin typeface="微软雅黑"/>
                  <a:ea typeface="微软雅黑"/>
                </a:rPr>
                <a:t>舟</a:t>
              </a:r>
              <a:r>
                <a:rPr b="1" i="1" lang="zh-CN" sz="2800" spc="-1" strike="noStrike">
                  <a:solidFill>
                    <a:srgbClr val="00cc00"/>
                  </a:solidFill>
                  <a:latin typeface="微软雅黑"/>
                  <a:ea typeface="微软雅黑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405080" y="2055960"/>
              <a:ext cx="5182920" cy="347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6659640" y="2127240"/>
            <a:ext cx="2089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汉族多在每年“端午节”举行，船长一般为</a:t>
            </a:r>
            <a:r>
              <a:rPr b="1" lang="en-US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20—30</a:t>
            </a:r>
            <a:r>
              <a:rPr b="1" lang="zh-CN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米，每艘船上约</a:t>
            </a:r>
            <a:r>
              <a:rPr b="1" lang="en-US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30</a:t>
            </a:r>
            <a:r>
              <a:rPr b="1" lang="zh-CN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名水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80000" y="1628640"/>
            <a:ext cx="4248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湖北省　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黄冈市端午节巴河镇迎傩人，花冠文身，鸣金逐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广东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石城县端午，儿童放风筝，称为“放殃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台湾省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　家门口挂艾草、贴钟馗画像，成人饮雄黄酒，小孩子佩香包，避邪保平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44720" y="1844640"/>
            <a:ext cx="2342880" cy="2960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4360" y="981000"/>
            <a:ext cx="777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端午节各地风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250720"/>
            <a:ext cx="67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微软雅黑"/>
              </a:rPr>
              <a:t>七律　端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ff6600"/>
                </a:solidFill>
                <a:latin typeface="微软雅黑"/>
              </a:rPr>
              <a:t>　　　             </a:t>
            </a:r>
            <a:r>
              <a:rPr b="1" lang="zh-CN" sz="2400" spc="-1" strike="noStrike">
                <a:solidFill>
                  <a:srgbClr val="ff6600"/>
                </a:solidFill>
                <a:latin typeface="微软雅黑"/>
              </a:rPr>
              <a:t>老舍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314136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微软雅黑"/>
              </a:rPr>
              <a:t>端午偏逢风雨狂，村童仍着旧衣裳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微软雅黑"/>
              </a:rPr>
              <a:t>相邀情重携蓑笠，敢为泥深恋草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微软雅黑"/>
              </a:rPr>
              <a:t>有客同心当骨肉，无钱买酒卖文章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微软雅黑"/>
              </a:rPr>
              <a:t>当年此会鱼三尺，不似今朝豆味香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765000"/>
            <a:ext cx="79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微软雅黑"/>
                <a:ea typeface="微软雅黑"/>
              </a:rPr>
              <a:t>端午节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71640" y="2349360"/>
            <a:ext cx="38880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微软雅黑"/>
              </a:rPr>
              <a:t>谢谢欣赏！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9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0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2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0:50:53Z</dcterms:created>
  <dc:creator/>
  <dc:description/>
  <cp:keywords/>
  <dc:language>en-US</dc:language>
  <cp:lastModifiedBy>User</cp:lastModifiedBy>
  <cp:lastPrinted>1899-12-30T00:00:00Z</cp:lastPrinted>
  <dcterms:modified xsi:type="dcterms:W3CDTF">2011-11-19T07:12:22Z</dcterms:modified>
  <cp:revision>10</cp:revision>
  <dc:subject/>
  <dc:title>单击此处添加标题文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