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BE2-BE34-4BC1-9220-C7F50C4A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06A-A428-4888-A2DD-AF8F721B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F16-D703-49D7-8ACD-F419B611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017-D1D7-41FD-9D4C-987642B0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F064-6073-4D61-9F3A-CDB95E49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B74E-50CF-49E5-BB43-406CDE8E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F6FE-A34A-466E-8F1A-A1A6A1A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9FE6-FE60-494B-96FE-8AC7A91E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B6F0-FED9-421E-94C5-12DFFE0F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5110-1DEA-4007-8A04-B2D0B566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82C7-FA7B-49BF-8970-759A885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0B7-2979-401F-94FE-EBAFC0DF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E53D-06FA-48F1-8F3C-DC75A87D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46EB-6720-4C5A-BA1B-377115E1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401F-F2CC-4B37-9178-F313C02F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22A7-B533-43C1-90EF-63995513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4831-3A9C-4404-AE21-FEE1D8BD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5397D-8EF4-4419-98D5-A05EC2FD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9B9D-6E4C-42A4-8437-5E372427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1906-19D2-4E1D-9152-BDE4B170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B2E2-871A-401F-99A3-1CF0D220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A2C7-28FE-45C4-BAEC-29597CA1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E72-67D5-4911-BA88-C47D242C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3062-F699-4783-9315-E499CC18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02BB-E8F7-49DE-BD0E-930B1C2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3B3C-428A-4B4D-B226-490E6C8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F03B-4E4D-4D0A-BE96-F2CEF7B7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B42B-77C1-4A5C-B4A1-C5160F12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258F-C293-4A65-8DAE-75C711BE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1F9B-6CB5-4DB5-B684-166C34FC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940-9E71-4128-A0FA-366A711B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9A8-DBD8-42C4-90F3-B87FC215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E5F-1987-4192-BA2E-21133EF8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B02-919E-499E-A48F-62B417B6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B0B-10A7-4B04-8ED9-CDCF2F0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DC7-1E0C-4788-98A3-E5EAB9D1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15B0-DFE6-49B8-AC0D-0644993A9C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3160-F512-475C-A312-D1803E225E9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1C00-6177-4566-AAC7-654AED8601D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2286000" y="914400"/>
            <a:ext cx="9753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926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飞 扬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      </a:t>
            </a: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de 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            </a:t>
            </a: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青春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61722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 高一五班 五四青年节主题班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685800"/>
            <a:ext cx="82296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青团中央机关刊物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复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中国青年》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团内通讯》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中国共青团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609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2006640" cy="2527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57600" y="3352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中国青年》是中国共产主义青年团中央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代出版的机关刊物。周刊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发刊于上海，后迁广州﹑汉口等地出版。《中国青年》是“五四”以后最早提倡“革命文学”的刊物。它的前身《先驱》，早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就设置“革命文艺”栏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600" y="304920"/>
            <a:ext cx="1378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的未来不是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9907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我不在乎 别人怎么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从来没有忘记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自己的承诺 对爱的执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知道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真的过每一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心跟着希望在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真的过每一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未来不是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心跟着希望在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跟着希望在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4290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不是梦，青春在我们手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激情为旗，用青春做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拼一个无悔的人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905120" y="2362320"/>
            <a:ext cx="376056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692280"/>
            <a:ext cx="453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五四”运动资料赏析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79280" y="2852640"/>
            <a:ext cx="4608720" cy="3103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  <a:ea typeface="华文新魏"/>
              </a:rPr>
              <a:t>五四爱国运动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1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在北京爆发的中国人民反对帝国主义、封建主义的爱国运动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第一次世界大战爆发，日本借口对德宣战，攻占青岛和胶济铁路全线，控制了山东省，夺去德国在山东强占的各种权益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大战结束，德国战败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1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，战胜国在巴黎召开 “和平会议”。北京政府和广州军政府联合组成中国代表团，以战胜国身分参加和会，提出取消列强在华的各项特权，取消日本帝国主义与袁世凯订立的 “二十一条”不平等条约，归还大战期间日本从德国手中夺去的山东各项权利等要求。巴黎和会在帝国主义列强操纵下，不但拒绝中国的要求，而且在对德和约上，明文规定把德国在山东的特权，全部转让给日本。北京政府竟准备在 “和约”上签字，从而激起了中国人民的强烈反对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五四运动是中国旧民主主义革命的结束和新民主主义革命的开端，中国革命从此进入了一个新的历史时期。中华人民共和国成立后，中央人民政府政务院于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94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月正式宣布以五月四日为中国青年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21417000">
            <a:off x="380520" y="380880"/>
            <a:ext cx="4267440" cy="2721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 rot="352800">
            <a:off x="4267080" y="3733920"/>
            <a:ext cx="4191120" cy="2904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 rot="21264600">
            <a:off x="1599840" y="2209680"/>
            <a:ext cx="3019320" cy="416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20970600">
            <a:off x="609120" y="685440"/>
            <a:ext cx="3265560" cy="2212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rot="564000">
            <a:off x="6019920" y="3047760"/>
            <a:ext cx="2295360" cy="3327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981080" y="3200400"/>
            <a:ext cx="2284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997280" cy="2576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676520" y="3352680"/>
            <a:ext cx="54100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914400"/>
            <a:ext cx="4915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知识小竞赛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3124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1981080" y="2895120"/>
            <a:ext cx="2743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523880" y="3886200"/>
            <a:ext cx="33530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18148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46483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362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徽的组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2590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星，周围为黄圈。中国青年一代紧密团结在中国共产党周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5334120"/>
            <a:ext cx="236232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3657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麦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齿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181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生的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共青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95280" y="685800"/>
            <a:ext cx="64771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第一个青年团早期组织的负责人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施存统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俞秀松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弼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1371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124080" y="312408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俞秀松，中国共产党早期杰出的革命活动家，杭州“五四运动”的领导人；上海马克思主义研究会和上海共产主义小组创建人之一，中国社会主义青年团创始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4-29T15:12:2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