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384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384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384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384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384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384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384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384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384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384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84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384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384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384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384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1305-B993-4DAC-883A-E387F2F8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AEE4-5644-41D3-A965-03E84DD0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91CD-60A2-4FD0-806E-585EB461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ECDE-5FE8-4C2D-BB89-EC07C8FC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4967-D289-40D8-AA04-EB4B40DC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71E8-BE54-4F3B-B1F9-E56278C9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384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30CD-C4FF-404D-8DCF-469ED006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384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B816-9F99-4844-8512-AF74FF63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384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701A-E388-46FF-B253-30452D69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384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75A4-8D77-4C05-B96E-0AE4E9F4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84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384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662D-5350-43D2-83EA-0BD71FB4D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384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384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384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32ED-67AB-4150-B429-8F57D45A3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384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384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384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2213-C082-4B65-BB2E-645564F854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08000" y="1989000"/>
            <a:ext cx="468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35640" y="5518080"/>
            <a:ext cx="29527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55640" y="1197000"/>
            <a:ext cx="55720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诚信考试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     </a:t>
            </a: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从我做起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43280" y="494172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99ccff"/>
                </a:solidFill>
                <a:latin typeface="Arial"/>
              </a:rPr>
              <a:t>一（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99ccff"/>
                </a:solidFill>
                <a:latin typeface="Arial"/>
              </a:rPr>
              <a:t>）班主题班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WordArt 9"/>
          <p:cNvSpPr txBox="1"/>
          <p:nvPr/>
        </p:nvSpPr>
        <p:spPr>
          <a:xfrm>
            <a:off x="611280" y="333360"/>
            <a:ext cx="2286000" cy="13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微软雅黑"/>
              </a:rPr>
              <a:t>名言赏读</a:t>
            </a:r>
            <a:endParaRPr b="1" lang="en-US" sz="4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2205000"/>
            <a:ext cx="853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微软雅黑"/>
              </a:rPr>
              <a:t>.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微软雅黑"/>
              </a:rPr>
              <a:t>人而无信，不知其可也——孔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微软雅黑"/>
              </a:rPr>
              <a:t>.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微软雅黑"/>
              </a:rPr>
              <a:t>言无常信，行无常贞，惟利所在，无所不倾，若是则可谓小人矣——荀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微软雅黑"/>
              </a:rPr>
              <a:t>.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微软雅黑"/>
              </a:rPr>
              <a:t>信犹五行之土，无定位，无成名，而水金木无不待是以生者。——朱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微软雅黑"/>
              </a:rPr>
              <a:t>.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微软雅黑"/>
              </a:rPr>
              <a:t>若有人兮天一方，忠为衣兮信为裳。——卢照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微软雅黑"/>
              </a:rPr>
              <a:t>.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微软雅黑"/>
              </a:rPr>
              <a:t>你必须以诚待人，别人才会以诚相报——李嘉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微软雅黑"/>
              </a:rPr>
              <a:t>.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微软雅黑"/>
              </a:rPr>
              <a:t>创业不像读书，一天可以过好多年，创业必须一步一个脚印走。——周晋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Arial"/>
                <a:ea typeface="微软雅黑"/>
              </a:rPr>
              <a:t>一个顾客走进一家汽车维修店，自称是某运输公司的汽车司机。“在我的帐单上多写点零件，我回公司报销后，有你一份好处。”他对店主说。但店主拒绝了这样的要求。顾客纠缠说：“我的生意不算小，会常来的，你肯定能赚很多钱！”店主告诉他，这事无论如何也不会做。顾客气急败坏的嚷道：“谁都会这么干的，我看你是太傻了。”店主火了，他要那个顾客马上离开，到别处谈这种生意去这时顾客露出微笑并满怀敬佩的握住店主的手：“我就是那家运输公司的老板，我一直在寻找一个固定的、信得过的维修店，你还让我到哪里去谈这笔生意呢？” 面对诱惑，不怦然心动，不为其所惑，虽平淡如行云，质朴如流水，却让人领略到一种山高海深。这是一种闪光的品格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ff5050"/>
                </a:solidFill>
                <a:latin typeface="Arial"/>
                <a:ea typeface="微软雅黑"/>
              </a:rPr>
              <a:t>诚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844720" y="333360"/>
            <a:ext cx="267984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9360">
                  <a:solidFill>
                    <a:srgbClr val="00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7000"/>
                    </a:srgbClr>
                  </a:outerShdw>
                </a:effectLst>
                <a:latin typeface="宋体"/>
              </a:rPr>
              <a:t>诚信故事</a:t>
            </a:r>
            <a:endParaRPr b="0" lang="en-US" sz="4000" spc="-1" strike="noStrike">
              <a:ln w="9360">
                <a:solidFill>
                  <a:srgbClr val="00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0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心得体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417680"/>
            <a:ext cx="7602480" cy="40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请同学们就以下内容展开讨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对考风的认识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了解考试违纪相关内容后的感悟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怎样迎接即将到来的期中考试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真复习，不打无准备之仗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前准备好考试用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遵守校规校纪，诚信考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99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155736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971640" y="2422440"/>
            <a:ext cx="37940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微软雅黑"/>
              </a:rPr>
              <a:t>Thank you</a:t>
            </a:r>
            <a:endParaRPr b="0" lang="en-US" sz="60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3640" y="5349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123560"/>
            <a:ext cx="813744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</a:rPr>
              <a:t>诚信是一个道德范畴，是公民的第二个“身份证”，是日常行为的诚实和正式交流的信用的合称。即待人处事真诚、老实、讲信誉，言必信、行必果，一言九鼎，一诺千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3141720"/>
            <a:ext cx="80661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26920" y="476280"/>
            <a:ext cx="914400" cy="6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微软雅黑"/>
              </a:rPr>
              <a:t>诚信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微软雅黑"/>
              <a:ea typeface="微软雅黑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26920" y="3789360"/>
            <a:ext cx="914400" cy="6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微软雅黑"/>
              </a:rPr>
              <a:t>考试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微软雅黑"/>
              <a:ea typeface="微软雅黑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4581360"/>
            <a:ext cx="813744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黑体"/>
              </a:rPr>
              <a:t>考试，是一种严格的知识水平鉴定方法。为了保证结果的公平，考场必须要求有很强的纪律约束，并且专门设有主考、监考等监督考试过程。绝对禁止任何舞弊行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278160" y="477720"/>
            <a:ext cx="5256360" cy="568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12720" y="692280"/>
            <a:ext cx="2087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诚信了吗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p:transition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1" descr="170609_1024_768"/>
          <p:cNvPicPr/>
          <p:nvPr/>
        </p:nvPicPr>
        <p:blipFill>
          <a:blip r:embed="rId1"/>
          <a:stretch/>
        </p:blipFill>
        <p:spPr>
          <a:xfrm>
            <a:off x="60480" y="0"/>
            <a:ext cx="902304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332000" y="1052640"/>
            <a:ext cx="6769080" cy="41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微软雅黑"/>
              </a:rPr>
              <a:t>学生考试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微软雅黑"/>
              </a:rPr>
              <a:t>作弊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微软雅黑"/>
              </a:rPr>
              <a:t>的八大典型心理：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微软雅黑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微软雅黑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微软雅黑"/>
              </a:rPr>
              <a:t>依赖心理          功利心理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微软雅黑"/>
              </a:rPr>
              <a:t>       虚荣心理          盲从心理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微软雅黑"/>
              </a:rPr>
              <a:t>       投机心理          讲义气心理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微软雅黑"/>
              </a:rPr>
              <a:t>       冒险心理          不平衡心理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学生考核违纪作弊处理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67920" y="1303200"/>
            <a:ext cx="831852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考核作弊，作弊学生该门课程本次考核成绩按零分计，不安排正常重考，须重修。并视情节轻重给予留校察看或开除学籍处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受留校察看处分的学生，经考察一年以上，德行优良，经本人申请，由学校审批，可予以解除留校察看处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作弊行为情节特别严重或第二次作弊者给予开除学籍处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/>
  <dc:description/>
  <cp:keywords/>
  <dc:language>en-US</dc:language>
  <cp:lastModifiedBy>admin</cp:lastModifiedBy>
  <cp:lastPrinted>1899-12-30T00:00:00Z</cp:lastPrinted>
  <dcterms:modified xsi:type="dcterms:W3CDTF">2014-06-25T06:08:04Z</dcterms:modified>
  <cp:revision>6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