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11.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BCDBC-0F88-4E23-B6F6-00A79FE38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89A37-B0A7-4519-B964-87AC8DBC6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EE10B-E162-4CF3-A3DB-2896FF863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8B2E2-9ADD-4157-BD6D-C8822F39D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E9FF6-7CE2-437B-BE9D-6291600D1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EC21-4762-4EB7-B66D-7539176DA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34340-0F70-44FF-A5AD-4777AFC01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0FF43-E430-478B-ACC0-4A1ACD3E4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9ADD-A919-4E46-868D-A5F7D480F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3733-BC72-4DD3-AE49-5CCD207A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B1D3-EADA-4678-AC93-24802CED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3A5A-164B-4EFB-89AE-A5FA7BDD5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D300-3A0A-4C88-931D-95639C5F91A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000000"/>
                </a:solidFill>
                <a:latin typeface="仿宋"/>
                <a:ea typeface="仿宋"/>
              </a:rPr>
              <a:t>大学生诚信考试</a:t>
            </a:r>
            <a:endParaRPr b="0" lang="en-US" sz="8000" spc="-1" strike="noStrike">
              <a:solidFill>
                <a:srgbClr val="000000"/>
              </a:solidFill>
              <a:latin typeface="Calibri"/>
            </a:endParaRPr>
          </a:p>
        </p:txBody>
      </p:sp>
      <p:sp>
        <p:nvSpPr>
          <p:cNvPr id="42" name="PlaceHolder 2"/>
          <p:cNvSpPr>
            <a:spLocks noGrp="1"/>
          </p:cNvSpPr>
          <p:nvPr>
            <p:ph type="subTitle"/>
          </p:nvPr>
        </p:nvSpPr>
        <p:spPr>
          <a:xfrm>
            <a:off x="2500200" y="4785840"/>
            <a:ext cx="640080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8989"/>
                </a:solidFill>
                <a:latin typeface="Calibri"/>
              </a:rPr>
              <a:t>      </a:t>
            </a:r>
            <a:r>
              <a:rPr b="1" lang="en-US" sz="5400" spc="-1" strike="noStrike">
                <a:solidFill>
                  <a:srgbClr val="898989"/>
                </a:solidFill>
                <a:latin typeface="Calibri"/>
              </a:rPr>
              <a:t>13</a:t>
            </a:r>
            <a:r>
              <a:rPr b="1" lang="zh-CN" sz="5400" spc="-1" strike="noStrike">
                <a:solidFill>
                  <a:srgbClr val="898989"/>
                </a:solidFill>
                <a:latin typeface="Calibri"/>
              </a:rPr>
              <a:t>级物流（</a:t>
            </a:r>
            <a:r>
              <a:rPr b="1" lang="en-US" sz="5400" spc="-1" strike="noStrike">
                <a:solidFill>
                  <a:srgbClr val="898989"/>
                </a:solidFill>
                <a:latin typeface="Calibri"/>
              </a:rPr>
              <a:t>2</a:t>
            </a:r>
            <a:r>
              <a:rPr b="1" lang="zh-CN" sz="5400" spc="-1" strike="noStrike">
                <a:solidFill>
                  <a:srgbClr val="898989"/>
                </a:solidFill>
                <a:latin typeface="Calibri"/>
              </a:rPr>
              <a:t>）班</a:t>
            </a:r>
            <a:r>
              <a:rPr b="0" lang="zh-CN" sz="5400" spc="-1" strike="noStrike">
                <a:solidFill>
                  <a:srgbClr val="898989"/>
                </a:solidFill>
                <a:latin typeface="Calibri"/>
              </a:rPr>
              <a:t>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矩形 3" descr=""/>
          <p:cNvPicPr/>
          <p:nvPr/>
        </p:nvPicPr>
        <p:blipFill>
          <a:blip r:embed="rId2"/>
          <a:stretch/>
        </p:blipFill>
        <p:spPr>
          <a:xfrm>
            <a:off x="2614680" y="2614680"/>
            <a:ext cx="3597120" cy="263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学生考试作弊的主观因素分析</a:t>
            </a:r>
            <a:br>
              <a:rPr sz="4000"/>
            </a:b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Calibri"/>
              </a:rPr>
              <a:t>从学生考试作弊的心理动机方面分析，可以看出，当代大学生缺乏健康向上的心理，自信、自尊、自重、自强、自立意识薄弱和自我约束力差是导致作弊行为的重要原因。</a:t>
            </a:r>
            <a:br>
              <a:rPr sz="1300"/>
            </a:br>
            <a:br>
              <a:rPr sz="1300"/>
            </a:br>
            <a:r>
              <a:rPr b="0" lang="en-US" sz="1300" spc="-1" strike="noStrike">
                <a:solidFill>
                  <a:srgbClr val="000000"/>
                </a:solidFill>
                <a:latin typeface="Calibri"/>
              </a:rPr>
              <a:t>2.1</a:t>
            </a:r>
            <a:r>
              <a:rPr b="0" lang="zh-CN" sz="1300" spc="-1" strike="noStrike">
                <a:solidFill>
                  <a:srgbClr val="000000"/>
                </a:solidFill>
                <a:latin typeface="Calibri"/>
              </a:rPr>
              <a:t>缺乏是非观念与道德观念。由于从小家庭、学校包办过多过细，当代大学生对人生观、价值观缺乏思考。对是与非，对与错，不加分析，不以考试作弊为耻。在一次关于“考试作弊问题”的随机问卷调查中显示：</a:t>
            </a:r>
            <a:r>
              <a:rPr b="0" lang="en-US" sz="1300" spc="-1" strike="noStrike">
                <a:solidFill>
                  <a:srgbClr val="000000"/>
                </a:solidFill>
                <a:latin typeface="Calibri"/>
              </a:rPr>
              <a:t>64.2%</a:t>
            </a:r>
            <a:r>
              <a:rPr b="0" lang="zh-CN" sz="1300" spc="-1" strike="noStrike">
                <a:solidFill>
                  <a:srgbClr val="000000"/>
                </a:solidFill>
                <a:latin typeface="Calibri"/>
              </a:rPr>
              <a:t>的学生认为考试作弊和道德品质“没多大关系”，</a:t>
            </a:r>
            <a:r>
              <a:rPr b="0" lang="en-US" sz="1300" spc="-1" strike="noStrike">
                <a:solidFill>
                  <a:srgbClr val="000000"/>
                </a:solidFill>
                <a:latin typeface="Calibri"/>
              </a:rPr>
              <a:t>6.7%</a:t>
            </a:r>
            <a:r>
              <a:rPr b="0" lang="zh-CN" sz="1300" spc="-1" strike="noStrike">
                <a:solidFill>
                  <a:srgbClr val="000000"/>
                </a:solidFill>
                <a:latin typeface="Calibri"/>
              </a:rPr>
              <a:t>的人甚至认为两者“毫无关系”，只有</a:t>
            </a:r>
            <a:r>
              <a:rPr b="0" lang="en-US" sz="1300" spc="-1" strike="noStrike">
                <a:solidFill>
                  <a:srgbClr val="000000"/>
                </a:solidFill>
                <a:latin typeface="Calibri"/>
              </a:rPr>
              <a:t>29.1%</a:t>
            </a:r>
            <a:r>
              <a:rPr b="0" lang="zh-CN" sz="1300" spc="-1" strike="noStrike">
                <a:solidFill>
                  <a:srgbClr val="000000"/>
                </a:solidFill>
                <a:latin typeface="Calibri"/>
              </a:rPr>
              <a:t>的人认为两者“有密切关系”；</a:t>
            </a:r>
            <a:br>
              <a:rPr sz="1300"/>
            </a:br>
            <a:br>
              <a:rPr sz="1300"/>
            </a:br>
            <a:r>
              <a:rPr b="0" lang="en-US" sz="1300" spc="-1" strike="noStrike">
                <a:solidFill>
                  <a:srgbClr val="000000"/>
                </a:solidFill>
                <a:latin typeface="Calibri"/>
              </a:rPr>
              <a:t>2.2</a:t>
            </a:r>
            <a:r>
              <a:rPr b="0" lang="zh-CN" sz="1300" spc="-1" strike="noStrike">
                <a:solidFill>
                  <a:srgbClr val="000000"/>
                </a:solidFill>
                <a:latin typeface="Calibri"/>
              </a:rPr>
              <a:t>投机取巧，坐享其成。少数学生跨入大学后，对自己放松了严格要求，学习失去了目标。平时怕吃苦，学习不努力，到了期末考试就动歪脑筋，利用各种手段进行考试作弊，坐享其成；</a:t>
            </a:r>
            <a:br>
              <a:rPr sz="1300"/>
            </a:br>
            <a:br>
              <a:rPr sz="1300"/>
            </a:br>
            <a:r>
              <a:rPr b="0" lang="en-US" sz="1300" spc="-1" strike="noStrike">
                <a:solidFill>
                  <a:srgbClr val="000000"/>
                </a:solidFill>
                <a:latin typeface="Calibri"/>
              </a:rPr>
              <a:t>2.3</a:t>
            </a:r>
            <a:r>
              <a:rPr b="0" lang="zh-CN" sz="1300" spc="-1" strike="noStrike">
                <a:solidFill>
                  <a:srgbClr val="000000"/>
                </a:solidFill>
                <a:latin typeface="Calibri"/>
              </a:rPr>
              <a:t>产生盲从心理。有些学生看到别的同学考试作弊轻而易举，尤其还取得了较好的成绩，使得一些学习努力的反而不如考试作弊的，这些学生就感到考试成绩不公平，产生心态不平衡，进而也加入到考试作弊的队伍之中；</a:t>
            </a:r>
            <a:br>
              <a:rPr sz="1300"/>
            </a:br>
            <a:br>
              <a:rPr sz="1300"/>
            </a:br>
            <a:r>
              <a:rPr b="0" lang="en-US" sz="1300" spc="-1" strike="noStrike">
                <a:solidFill>
                  <a:srgbClr val="000000"/>
                </a:solidFill>
                <a:latin typeface="Calibri"/>
              </a:rPr>
              <a:t>2.4</a:t>
            </a:r>
            <a:r>
              <a:rPr b="0" lang="zh-CN" sz="1300" spc="-1" strike="noStrike">
                <a:solidFill>
                  <a:srgbClr val="000000"/>
                </a:solidFill>
                <a:latin typeface="Calibri"/>
              </a:rPr>
              <a:t>试图蒙混过关。有些学生由于学习态度和基础较差，几个学期下来，成绩趋弱、面临退学，这时面对家庭和前途的压力，试图用考试作弊来蒙混过关；</a:t>
            </a:r>
            <a:br>
              <a:rPr sz="1300"/>
            </a:br>
            <a:br>
              <a:rPr sz="1300"/>
            </a:br>
            <a:r>
              <a:rPr b="0" lang="en-US" sz="1300" spc="-1" strike="noStrike">
                <a:solidFill>
                  <a:srgbClr val="000000"/>
                </a:solidFill>
                <a:latin typeface="Calibri"/>
              </a:rPr>
              <a:t>2.5</a:t>
            </a:r>
            <a:r>
              <a:rPr b="0" lang="zh-CN" sz="1300" spc="-1" strike="noStrike">
                <a:solidFill>
                  <a:srgbClr val="000000"/>
                </a:solidFill>
                <a:latin typeface="Calibri"/>
              </a:rPr>
              <a:t>虚荣心作怪。有些学生平时表现不错，有的是学生骨干有的是历年奖学金获得者，他们考试作弊不是为了过关，而是为了得到更高的分数以便保持荣誉和评奖评优，满足自己的虚荣心；</a:t>
            </a:r>
            <a:br>
              <a:rPr sz="1300"/>
            </a:br>
            <a:br>
              <a:rPr sz="1300"/>
            </a:br>
            <a:r>
              <a:rPr b="0" lang="en-US" sz="1300" spc="-1" strike="noStrike">
                <a:solidFill>
                  <a:srgbClr val="000000"/>
                </a:solidFill>
                <a:latin typeface="Calibri"/>
              </a:rPr>
              <a:t>2.6</a:t>
            </a:r>
            <a:r>
              <a:rPr b="0" lang="zh-CN" sz="1300" spc="-1" strike="noStrike">
                <a:solidFill>
                  <a:srgbClr val="000000"/>
                </a:solidFill>
                <a:latin typeface="Calibri"/>
              </a:rPr>
              <a:t>是非不分，仅凭义气。这类学生自身学习成绩相对较好，然而面对同学的“求助”，不加思考，慷慨地伸出“友谊”之手，岂知害人害己。究其原因，是把考试当儿戏，对作弊的危害性认识不清。</a:t>
            </a:r>
            <a:br>
              <a:rPr sz="1300"/>
            </a:br>
            <a:r>
              <a:rPr b="0" lang="zh-CN"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a:rPr>
              <a:t>作弊手法分析</a:t>
            </a:r>
            <a:br>
              <a:rPr sz="6000"/>
            </a:br>
            <a:endParaRPr b="0" lang="en-US" sz="6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到作弊手段，大学生的创造力或许是最为登峰造极的了。总结起来除了一般的夹带，传纸条等小伎俩之外，更有通过无线耳机，手机，</a:t>
            </a:r>
            <a:r>
              <a:rPr b="0" lang="en-US" sz="3000" spc="-1" strike="noStrike">
                <a:solidFill>
                  <a:srgbClr val="000000"/>
                </a:solidFill>
                <a:latin typeface="Calibri"/>
              </a:rPr>
              <a:t>MP3</a:t>
            </a:r>
            <a:r>
              <a:rPr b="0" lang="zh-CN" sz="3000" spc="-1" strike="noStrike">
                <a:solidFill>
                  <a:srgbClr val="000000"/>
                </a:solidFill>
                <a:latin typeface="Calibri"/>
              </a:rPr>
              <a:t>等通讯器械作弊的富有科技含量的手法，甚至利用无线耳机这样的作弊手法在历次的英语四六级考试中成功率很高，只要是心理素质够好，基本上都能成功。另外，从监考老师方面考虑，老师平时考试的考风控制程度也在一定程度上决定了到底会使用哪种技术手段，毕竟“四大名捕”和“老好人”的应对策略是不同的。</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www.72ren.com/userfiles/0/0/183/20090925/1253862523722.gif"/>
          <p:cNvPicPr/>
          <p:nvPr/>
        </p:nvPicPr>
        <p:blipFill>
          <a:blip r:embed="rId1"/>
          <a:stretch/>
        </p:blipFill>
        <p:spPr>
          <a:xfrm>
            <a:off x="214200" y="214200"/>
            <a:ext cx="4286520" cy="3429000"/>
          </a:xfrm>
          <a:prstGeom prst="rect">
            <a:avLst/>
          </a:prstGeom>
          <a:ln w="0">
            <a:noFill/>
          </a:ln>
        </p:spPr>
      </p:pic>
      <p:pic>
        <p:nvPicPr>
          <p:cNvPr id="48" name="Picture 4" descr="http://images.ccoo.cn/bbs/20111231/2011123122303165.jpg"/>
          <p:cNvPicPr/>
          <p:nvPr/>
        </p:nvPicPr>
        <p:blipFill>
          <a:blip r:embed="rId2"/>
          <a:stretch/>
        </p:blipFill>
        <p:spPr>
          <a:xfrm>
            <a:off x="2357280" y="3714840"/>
            <a:ext cx="5113440" cy="2928960"/>
          </a:xfrm>
          <a:prstGeom prst="rect">
            <a:avLst/>
          </a:prstGeom>
          <a:ln w="0">
            <a:noFill/>
          </a:ln>
        </p:spPr>
      </p:pic>
      <p:pic>
        <p:nvPicPr>
          <p:cNvPr id="49" name="Picture 6" descr="http://image2.club.sohu.com/pic/8d/17/dalian826d4c0c2d3bcee0.jpg"/>
          <p:cNvPicPr/>
          <p:nvPr/>
        </p:nvPicPr>
        <p:blipFill>
          <a:blip r:embed="rId3"/>
          <a:stretch/>
        </p:blipFill>
        <p:spPr>
          <a:xfrm>
            <a:off x="4857840" y="214200"/>
            <a:ext cx="40003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大学生考试作弊现象的对策分析</a:t>
            </a:r>
            <a:br>
              <a:rPr sz="4000"/>
            </a:b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重诚信教育，引导大学生学会做人诚实和信用是做人的根本，是未来社会的通行证。</a:t>
            </a:r>
            <a:br>
              <a:rPr sz="2000"/>
            </a:br>
            <a:br>
              <a:rPr sz="2000"/>
            </a:br>
            <a:r>
              <a:rPr b="0" lang="zh-CN" sz="2000" spc="-1" strike="noStrike">
                <a:solidFill>
                  <a:srgbClr val="000000"/>
                </a:solidFill>
                <a:latin typeface="Calibri"/>
              </a:rPr>
              <a:t>从以上作弊者主观因素分析可看出，不管是何种心态的考试作弊行为，都集中反映了考生不诚实的一面，“考试作弊”违背了做人最起码的原则。因此，在平时的教书育人过程中，我们要紧密结合当代大学生的所想、所思、所行、所为，给予积极的引导，及时指出他们在学习、生活中说假话、做假事等不诚实行为，树立讲诚实、重信用的良好品质；要求大学生要从自身做起，从一点一滴的小事做起，特别是从考试不作弊等具体的事情做起，形成科学的人生观、价值观和世界观；注重培养学生乐观向上，积极进取的生活态度，形成健全的意志，使学生能主动自觉地迎接挑战；培养学生诚实的人格，克服“好虚荣”、“侥幸”和自制力弱的心理毛病等，要教育引导学生相信自己通过努力是可获得好成绩的，这样取得的真实成绩不仅可以增强自己的信心和自豪感，而且可以培养自强不息的意志和光明磊落的胸怀，对做一个诚实的人、正直的人都是很有帮助的。</a:t>
            </a:r>
            <a:br>
              <a:rPr sz="1200"/>
            </a:br>
            <a:r>
              <a:rPr b="0" lang="zh-CN"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3" name=""/>
          <p:cNvSpPr txBox="1"/>
          <p:nvPr/>
        </p:nvSpPr>
        <p:spPr>
          <a:xfrm>
            <a:off x="285840" y="285840"/>
            <a:ext cx="8229600" cy="6215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重视宣传教育工作，树立正确的考试观</a:t>
            </a:r>
            <a:br>
              <a:rPr sz="2000"/>
            </a:br>
            <a:br>
              <a:rPr sz="2000"/>
            </a:br>
            <a:r>
              <a:rPr b="1"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作为学校和辅导员都有义务在考试前做好考试作弊的危害性教育。通过介绍考试作弊的处分措施及过去考生作弊后的处分实例来让大学生明白，考试作弊一旦被发现，不但达不到预期的目标，还会失去学位和正常的学习机会，这又如何对得起家长的殷切期望；处分记入档案，还会影响个人的前途；他们的作弊行为将背离自己的诚实、正直的人格；作弊风气的形成会引发同学们所厌恶的不正当竞争的产生，会影响同学们学习的积极性，干扰良好学风的形成。考试除了检查学生对知识的掌握情况外，还是检查教学质量，衡量教学水平，促进教学改革的重要环节。通过考试促使学生改进学习方法，提高学习效率；促进教师改进教学方法，提高教学效果；促使教学管理人员加强和改善教学管理。考试成绩是目前衡量教学质量的最常用最重要的指标，它通过对学生知识、技能、态度的测试，评价学生是否达到教育目标的一种手段。因此，应让学生明确考试的目的和意义，让学生明确考试分数不仅对他们自己，对教师和学校有更重要的督促作用和评价作用。虚假的分数会危害学生学习的积极性，妨碍学校教学研究和教学改革的顺利进行，最终危害最大的还是学生自己。并且，考试不仅是对学生知识和技能的测试，它还包括对态度的考核，如果出现考试作弊，又从何谈职业态度，又如何培养德才兼备的“复合型”人才。</a:t>
            </a:r>
            <a:br>
              <a:rPr sz="1300"/>
            </a:br>
            <a:r>
              <a:rPr b="0" lang="zh-CN"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57120" y="35712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zh-CN" sz="3200" spc="-1" strike="noStrike">
                <a:solidFill>
                  <a:srgbClr val="000000"/>
                </a:solidFill>
                <a:latin typeface="Calibri"/>
              </a:rPr>
              <a:t>、改变教学管理模式，实施弹性学制</a:t>
            </a:r>
            <a:br>
              <a:rPr sz="2500"/>
            </a:br>
            <a:br>
              <a:rPr sz="2500"/>
            </a:br>
            <a:r>
              <a:rPr b="1" lang="zh-CN"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现行的学年制教学管理模式，没有考虑学生基础的差异和个性、爱好的不同，不能很好的体现以人为本的原则；填鸭式的课堂教学，使学生感到枯涩无味，学习缺乏兴趣。而弹性学制是在实行学分制基础上，允许学生在修满必备学分的前提下提前毕业，也可中途休学或延期毕业的一种灵活的教学管理制度。它以学生自主选课为基础，以学分及绩点计算学生学习的量和质，并以此作为考核学生对课程的学习、毕业和取得学位的标准。学生有自主选择专业，跨专业、跨校自主选择课程，自主选择授课教师，自主选择学习进程的权利。弹性学制的实行，将极大的提高学生学习的主动性。尤其是放宽了学习的年限，学生只要修满规定的学分数就能获得相应的文凭和学位，大大缓解了学生的心理压力。这在一定程度上也将减少考试作弊的可能性。</a:t>
            </a:r>
            <a:br>
              <a:rPr sz="2500"/>
            </a:br>
            <a:r>
              <a:rPr b="0" lang="zh-CN"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漳州职业技术学院关于学生违反考场记录处分实施细则</a:t>
            </a:r>
            <a:endParaRPr b="0" lang="en-US" sz="3200" spc="-1" strike="noStrike">
              <a:solidFill>
                <a:srgbClr val="000000"/>
              </a:solidFill>
              <a:latin typeface="Calibri"/>
            </a:endParaRPr>
          </a:p>
        </p:txBody>
      </p:sp>
      <p:sp>
        <p:nvSpPr>
          <p:cNvPr id="56" name=""/>
          <p:cNvSpPr txBox="1"/>
          <p:nvPr/>
        </p:nvSpPr>
        <p:spPr>
          <a:xfrm>
            <a:off x="357120" y="1285560"/>
            <a:ext cx="8229600" cy="5257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为了严肃考场纪律，杜绝考试舞弊现象，端正学习态度，树立良好考风，结合我院具体情况，特制定本细则：</a:t>
            </a:r>
            <a:br>
              <a:rPr sz="2000"/>
            </a:b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条 </a:t>
            </a:r>
            <a:r>
              <a:rPr b="0" lang="zh-CN" sz="2000" spc="-1" strike="noStrike">
                <a:solidFill>
                  <a:srgbClr val="000000"/>
                </a:solidFill>
                <a:latin typeface="Calibri"/>
              </a:rPr>
              <a:t>学生要自觉遵守考场秩序，按指定位置就坐，并且服从主考教师的临时调配和安排，不服从者根据情节轻重给予口头警告或警告处分。</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条 </a:t>
            </a:r>
            <a:r>
              <a:rPr b="0" lang="zh-CN" sz="2000" spc="-1" strike="noStrike">
                <a:solidFill>
                  <a:srgbClr val="000000"/>
                </a:solidFill>
                <a:latin typeface="Calibri"/>
              </a:rPr>
              <a:t>迟到</a:t>
            </a:r>
            <a:r>
              <a:rPr b="0" lang="en-US" sz="2000" spc="-1" strike="noStrike">
                <a:solidFill>
                  <a:srgbClr val="000000"/>
                </a:solidFill>
                <a:latin typeface="Calibri"/>
              </a:rPr>
              <a:t>15</a:t>
            </a:r>
            <a:r>
              <a:rPr b="0" lang="zh-CN" sz="2000" spc="-1" strike="noStrike">
                <a:solidFill>
                  <a:srgbClr val="000000"/>
                </a:solidFill>
                <a:latin typeface="Calibri"/>
              </a:rPr>
              <a:t>分钟或未能证明本人身份者不得进入考场，不听劝告强行进入者，给予警告处分。</a:t>
            </a:r>
            <a:br>
              <a:rPr sz="2000"/>
            </a:b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条 </a:t>
            </a:r>
            <a:r>
              <a:rPr b="0" lang="zh-CN" sz="2000" spc="-1" strike="noStrike">
                <a:solidFill>
                  <a:srgbClr val="000000"/>
                </a:solidFill>
                <a:latin typeface="Calibri"/>
              </a:rPr>
              <a:t>开考前考生应把有关的教材、笔记、参考资料集中放在监考教师指定的地方。凡不按规定私自将上述材料带进座位，以夹带论处，给予警告处分；夹带舞弊者视情节轻重，给予记过、留校察看直至开除学籍。</a:t>
            </a:r>
            <a:br>
              <a:rPr sz="2000"/>
            </a:b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四条 </a:t>
            </a:r>
            <a:r>
              <a:rPr b="0" lang="zh-CN" sz="2000" spc="-1" strike="noStrike">
                <a:solidFill>
                  <a:srgbClr val="000000"/>
                </a:solidFill>
                <a:latin typeface="Calibri"/>
              </a:rPr>
              <a:t>在考场中高声谈话、抽烟；交卷后在考场及附近逗留谈论，以及有其他影响考场秩序行为者，视情节轻重给予警告及其以上处分。</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57120" y="428400"/>
            <a:ext cx="8229600" cy="614340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五条 </a:t>
            </a:r>
            <a:r>
              <a:rPr b="0" lang="zh-CN" sz="1800" spc="-1" strike="noStrike">
                <a:solidFill>
                  <a:srgbClr val="000000"/>
                </a:solidFill>
                <a:latin typeface="Calibri"/>
              </a:rPr>
              <a:t>考试进行中未经监考人员许可，中途离开考场者作自动结束考试处理，不得再进入考场。若强行要进入考场者，给予警告处分。</a:t>
            </a:r>
            <a:br>
              <a:rPr sz="1300"/>
            </a:b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六条 </a:t>
            </a:r>
            <a:r>
              <a:rPr b="0" lang="zh-CN" sz="1800" spc="-1" strike="noStrike">
                <a:solidFill>
                  <a:srgbClr val="000000"/>
                </a:solidFill>
                <a:latin typeface="Calibri"/>
              </a:rPr>
              <a:t>考试中互相交谈，左顾右盼，经屡次劝告不改者以作弊论处，并给予警告处分。偷看抄袭，传递交换有关考试内容或以其他形式作弊，协助他人作弊或强迫他人为自己作弊提供方便者，视情节给予严重警告、记过直至留校察看处分。</a:t>
            </a:r>
            <a:br>
              <a:rPr sz="1300"/>
            </a:b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七条 </a:t>
            </a:r>
            <a:r>
              <a:rPr b="0" lang="zh-CN" sz="1800" spc="-1" strike="noStrike">
                <a:solidFill>
                  <a:srgbClr val="000000"/>
                </a:solidFill>
                <a:latin typeface="Calibri"/>
              </a:rPr>
              <a:t>进入考场不得携带通讯工具，经劝告不听者给予警告处分。</a:t>
            </a:r>
            <a:br>
              <a:rPr sz="13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八条 </a:t>
            </a:r>
            <a:r>
              <a:rPr b="0" lang="zh-CN" sz="1800" spc="-1" strike="noStrike">
                <a:solidFill>
                  <a:srgbClr val="000000"/>
                </a:solidFill>
                <a:latin typeface="Calibri"/>
              </a:rPr>
              <a:t>宣布考试结束后仍不交卷并继续作答，经劝告无效者以作弊论处，并予以警告处分。</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九条 </a:t>
            </a:r>
            <a:r>
              <a:rPr b="0" lang="zh-CN" sz="1800" spc="-1" strike="noStrike">
                <a:solidFill>
                  <a:srgbClr val="000000"/>
                </a:solidFill>
                <a:latin typeface="Calibri"/>
              </a:rPr>
              <a:t>有以下行为之一者给予开除学籍处分：利用手机等通讯工具进行作弊，由他人代替考试，替他人参加考试，以威胁手段强迫他人为自己替考，强拿别人考卷进行抄袭者，考试舞弊累计达两次者。</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十条 </a:t>
            </a:r>
            <a:r>
              <a:rPr b="0" lang="zh-CN" sz="1800" spc="-1" strike="noStrike">
                <a:solidFill>
                  <a:srgbClr val="000000"/>
                </a:solidFill>
                <a:latin typeface="Calibri"/>
              </a:rPr>
              <a:t>违反考场纪律，拒不认错、态度恶劣者，查清事实后均加重一级处分</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十一条 </a:t>
            </a:r>
            <a:r>
              <a:rPr b="0" lang="zh-CN" sz="1800" spc="-1" strike="noStrike">
                <a:solidFill>
                  <a:srgbClr val="000000"/>
                </a:solidFill>
                <a:latin typeface="Calibri"/>
              </a:rPr>
              <a:t>所有违反考场纪律者，一律取消考试资格，成绩以零分计算。不予重考必须参加课程重修。毕业班学生舞弊受记过及其以上处分者，作结业处理。</a:t>
            </a:r>
            <a:endParaRPr b="0" lang="en-US" sz="1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十二条 </a:t>
            </a:r>
            <a:r>
              <a:rPr b="0" lang="zh-CN" sz="2200" spc="-1" strike="noStrike">
                <a:solidFill>
                  <a:srgbClr val="000000"/>
                </a:solidFill>
                <a:latin typeface="Calibri"/>
              </a:rPr>
              <a:t>凡与本规定不符的，以本规定为准。解释权归教务处</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1:52:50Z</dcterms:created>
  <dc:creator>User</dc:creator>
  <dc:description/>
  <dc:language>en-US</dc:language>
  <cp:lastModifiedBy>Sky123.Org</cp:lastModifiedBy>
  <dcterms:modified xsi:type="dcterms:W3CDTF">2015-06-04T02:18:04Z</dcterms:modified>
  <cp:revision>13</cp:revision>
  <dc:subject/>
  <dc:title>大学生诚信考试</dc:title>
</cp:coreProperties>
</file>