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mera.wav" ContentType="audio/x-wav"/>
  <Override PartName="/ppt/media/image12.jpeg" ContentType="image/jpeg"/>
  <Override PartName="/ppt/media/image7.jpeg" ContentType="image/jpeg"/>
  <Override PartName="/ppt/media/image14.jpeg" ContentType="image/jpeg"/>
  <Override PartName="/ppt/media/image2.png" ContentType="image/png"/>
  <Override PartName="/ppt/media/image13.jpeg" ContentType="image/jpeg"/>
  <Override PartName="/ppt/media/image3.wmf" ContentType="image/x-wmf"/>
  <Override PartName="/ppt/media/type.wav" ContentType="audio/x-wav"/>
  <Override PartName="/ppt/media/image1.png" ContentType="image/png"/>
  <Override PartName="/ppt/media/image4.wmf" ContentType="image/x-wmf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9A047-E9A5-42A7-B5AC-D13EBFC240A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hyperlink" Target="http://www.51ppt.com.cn/" TargetMode="External"/><Relationship Id="rId2" Type="http://schemas.openxmlformats.org/officeDocument/2006/relationships/hyperlink" Target="http://www.51ppt.com.cn/" TargetMode="External"/><Relationship Id="rId3" Type="http://schemas.openxmlformats.org/officeDocument/2006/relationships/hyperlink" Target="http://www.51ppt.com.cn/" TargetMode="External"/><Relationship Id="rId4" Type="http://schemas.openxmlformats.org/officeDocument/2006/relationships/hyperlink" Target="http://www.51ppt.com.cn/" TargetMode="External"/><Relationship Id="rId5" Type="http://schemas.openxmlformats.org/officeDocument/2006/relationships/slide" Target="../slides/slide2.xml"/><Relationship Id="rId6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去除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模板上的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无忧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整理发布的文字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首先打开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模板，选择视图，然后选择幻灯片母版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然后再在幻灯片母版视图中点击“无忧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整理发布”的文字文本框，删除，保存即可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更多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模板资源，请访问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无忧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PPT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Times New Roman"/>
                <a:hlinkClick r:id="rId3"/>
              </a:rPr>
              <a:t>网站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Times New Roman"/>
                <a:hlinkClick r:id="rId4"/>
              </a:rPr>
              <a:t>--http://www.51ppt.com.cn</a:t>
            </a:r>
            <a:r>
              <a:rPr b="1" lang="zh-CN" sz="1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使用时删除本备注即可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00"/>
                </a:solidFill>
                <a:latin typeface="华文彩云"/>
                <a:ea typeface="华文彩云"/>
              </a:rPr>
              <a:t>展示您的作品</a:t>
            </a:r>
            <a:r>
              <a:rPr b="1" lang="zh-CN" sz="1200" spc="-1" strike="noStrike">
                <a:solidFill>
                  <a:srgbClr val="ff0000"/>
                </a:solidFill>
                <a:latin typeface="华文彩云"/>
                <a:ea typeface="华文彩云"/>
              </a:rPr>
              <a:t>,PPT</a:t>
            </a:r>
            <a:r>
              <a:rPr b="1" lang="zh-CN" sz="1200" spc="-1" strike="noStrike">
                <a:solidFill>
                  <a:srgbClr val="ff0000"/>
                </a:solidFill>
                <a:latin typeface="华文彩云"/>
                <a:ea typeface="华文彩云"/>
              </a:rPr>
              <a:t>模板作品投稿绿色通道 </a:t>
            </a:r>
            <a:r>
              <a:rPr b="1" lang="zh-CN" sz="1200" spc="-1" strike="noStrike">
                <a:solidFill>
                  <a:srgbClr val="ff0000"/>
                </a:solidFill>
                <a:latin typeface="华文彩云"/>
                <a:ea typeface="华文彩云"/>
              </a:rPr>
              <a:t>:chinappt2011@gmail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将此幻灯片插入到演示文稿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将此模板作为演示文稿（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.ppt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文件）保存到计算机上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打开将包含该图像幻灯片的演示文稿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在“幻灯片”选项卡上，将插入点置于将位于该图像幻灯片之前的幻灯片之后。（确保不要选择幻灯片。插入点应位于幻灯片之间。）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在“插入”菜单上，单击“幻灯片（从文件）”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在“幻灯片搜索器”对话框中，单击“搜索演示文稿”选项卡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单击“浏览”，找到并选择包含该图像幻灯片的演示文稿，然后单击“打开”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在“幻灯片（从文件）”对话框中，选择该图像幻灯片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选中“保留源格式”复选框。如果不选中此复选框，复制的幻灯片将继承在演示文稿中位于它之前的幻灯片的设计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单击“插入”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单击“关闭”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模板来源于互联网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版权归原作者所有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如有问题请与站长联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1A8C9-0295-4465-A671-704A5D08CD0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2EE2-CEFF-4D9C-B8C8-B5AB6D076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2995-DC25-4E2E-8FAF-EB01A6F21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CB02-63D1-4914-8F15-2DAF23D26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E2E7-537F-4AD3-AA87-F3F13290A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A497-DB38-42DC-A81C-E07CF9317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8F02-DC8E-4A1E-BCA5-22DB5D03F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60ED-AA81-488A-BD61-2829B7F37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8787-16DB-4FCE-9AC8-30AAC047D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0289-F20E-45F3-A48D-5CD66D6D6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31D3-CAC7-4233-BCEA-C3E17E269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6EF8-413E-4701-AEC6-034D2D102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18BB-675F-4CB5-A5AD-E49C4083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C995A-5322-45F6-9AC0-CB82DFE4F97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camera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1.png"/><Relationship Id="rId30" Type="http://schemas.openxmlformats.org/officeDocument/2006/relationships/image" Target="../media/image1.png"/><Relationship Id="rId31" Type="http://schemas.openxmlformats.org/officeDocument/2006/relationships/image" Target="../media/image1.png"/><Relationship Id="rId32" Type="http://schemas.openxmlformats.org/officeDocument/2006/relationships/image" Target="../media/image1.png"/><Relationship Id="rId33" Type="http://schemas.openxmlformats.org/officeDocument/2006/relationships/image" Target="../media/image1.png"/><Relationship Id="rId34" Type="http://schemas.openxmlformats.org/officeDocument/2006/relationships/image" Target="../media/image1.png"/><Relationship Id="rId35" Type="http://schemas.openxmlformats.org/officeDocument/2006/relationships/image" Target="../media/image1.png"/><Relationship Id="rId36" Type="http://schemas.openxmlformats.org/officeDocument/2006/relationships/image" Target="../media/image1.png"/><Relationship Id="rId37" Type="http://schemas.openxmlformats.org/officeDocument/2006/relationships/image" Target="../media/image1.png"/><Relationship Id="rId38" Type="http://schemas.openxmlformats.org/officeDocument/2006/relationships/image" Target="../media/image1.png"/><Relationship Id="rId39" Type="http://schemas.openxmlformats.org/officeDocument/2006/relationships/image" Target="../media/image1.png"/><Relationship Id="rId40" Type="http://schemas.openxmlformats.org/officeDocument/2006/relationships/image" Target="../media/image2.png"/><Relationship Id="rId41" Type="http://schemas.openxmlformats.org/officeDocument/2006/relationships/image" Target="../media/image3.wmf"/><Relationship Id="rId42" Type="http://schemas.openxmlformats.org/officeDocument/2006/relationships/image" Target="../media/image4.wmf"/><Relationship Id="rId43" Type="http://schemas.openxmlformats.org/officeDocument/2006/relationships/image" Target="../media/image4.wmf"/><Relationship Id="rId44" Type="http://schemas.openxmlformats.org/officeDocument/2006/relationships/image" Target="../media/image4.wmf"/><Relationship Id="rId45" Type="http://schemas.openxmlformats.org/officeDocument/2006/relationships/image" Target="../media/image1.png"/><Relationship Id="rId46" Type="http://schemas.openxmlformats.org/officeDocument/2006/relationships/image" Target="../media/image1.png"/><Relationship Id="rId47" Type="http://schemas.openxmlformats.org/officeDocument/2006/relationships/image" Target="../media/image1.png"/><Relationship Id="rId48" Type="http://schemas.openxmlformats.org/officeDocument/2006/relationships/slideLayout" Target="../slideLayouts/slideLayout1.xml"/><Relationship Id="rId4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6" name="" descr=""/>
          <p:cNvPicPr/>
          <p:nvPr/>
        </p:nvPicPr>
        <p:blipFill>
          <a:blip r:embed="rId1"/>
          <a:stretch/>
        </p:blipFill>
        <p:spPr>
          <a:xfrm>
            <a:off x="-838080" y="0"/>
            <a:ext cx="10439280" cy="698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"/>
          <p:cNvSpPr/>
          <p:nvPr/>
        </p:nvSpPr>
        <p:spPr>
          <a:xfrm>
            <a:off x="685800" y="1219320"/>
            <a:ext cx="320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环境污染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609480" y="2362320"/>
            <a:ext cx="7696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类排放的污染物超过了环境的自净能力，使环境发生了不良变化，危害了人类的健康和生存，这就是环境污染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4" dur="5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"/>
          <p:cNvSpPr/>
          <p:nvPr/>
        </p:nvSpPr>
        <p:spPr>
          <a:xfrm>
            <a:off x="324000" y="333360"/>
            <a:ext cx="487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环境污染常见的种类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2050920" y="1628640"/>
            <a:ext cx="381240" cy="4095720"/>
          </a:xfrm>
          <a:custGeom>
            <a:avLst/>
            <a:gdLst>
              <a:gd name="textAreaLeft" fmla="*/ 243720 w 381240"/>
              <a:gd name="textAreaRight" fmla="*/ 381600 w 381240"/>
              <a:gd name="textAreaTop" fmla="*/ 106560 h 4095720"/>
              <a:gd name="textAreaBottom" fmla="*/ 3989160 h 4095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75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2627280" y="134136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大气污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2700360" y="24210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水污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2771640" y="35002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土壤污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2771640" y="44370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食品污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2843280" y="537372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噪声污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4788000" y="1341360"/>
            <a:ext cx="5553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工业废气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汽车尾气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活废气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毒气体的意外泄漏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4140360" y="2565360"/>
            <a:ext cx="419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工业废水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活废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5900760" y="3508200"/>
            <a:ext cx="135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工业垃圾、废水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活垃圾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化肥、农药残留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放射物质残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300"/>
                                        <p:tgtEl>
                                          <p:spTgt spid="1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300"/>
                                        <p:tgtEl>
                                          <p:spTgt spid="1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300"/>
                                        <p:tgtEl>
                                          <p:spTgt spid="1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300"/>
                                        <p:tgtEl>
                                          <p:spTgt spid="1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300"/>
                                        <p:tgtEl>
                                          <p:spTgt spid="1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300"/>
                                        <p:tgtEl>
                                          <p:spTgt spid="1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" dur="500"/>
                                        <p:tgtEl>
                                          <p:spTgt spid="1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"/>
          <p:cNvSpPr/>
          <p:nvPr/>
        </p:nvSpPr>
        <p:spPr>
          <a:xfrm>
            <a:off x="1896840" y="2275560"/>
            <a:ext cx="5658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周末跟父母外出，用了多少只塑料袋？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塑料袋主要用在哪些地方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使用后是怎么处理这些塑料袋的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 那这些塑料袋最终去了哪儿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1338840" y="76500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华文楷体"/>
              </a:rPr>
              <a:t>小调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5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569080" cy="63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8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8964720" cy="65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白色污染”的危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塑料不易降解，影响环境的美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于其很难降解，废旧塑料包装物混在土壤中，影响农作物吸收养分和水分，将导致农作物减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抛弃在陆地或水体中的废旧塑料包装物，被动物当作食物吞入，导致动物死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填埋处理混入生活垃圾中的废旧塑料包装物，将会长期占用土地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"/>
          <p:cNvSpPr/>
          <p:nvPr/>
        </p:nvSpPr>
        <p:spPr>
          <a:xfrm>
            <a:off x="1400040" y="1413000"/>
            <a:ext cx="38383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观察校园中有哪些举动属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破坏环境的行为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哪些是保护环境的做法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3"/>
          <p:cNvGrpSpPr/>
          <p:nvPr/>
        </p:nvGrpSpPr>
        <p:grpSpPr>
          <a:xfrm>
            <a:off x="4319640" y="3141720"/>
            <a:ext cx="1800000" cy="1457280"/>
            <a:chOff x="4319640" y="3141720"/>
            <a:chExt cx="1800000" cy="1457280"/>
          </a:xfrm>
        </p:grpSpPr>
        <p:sp>
          <p:nvSpPr>
            <p:cNvPr id="49" name="Cloud"/>
            <p:cNvSpPr/>
            <p:nvPr/>
          </p:nvSpPr>
          <p:spPr>
            <a:xfrm>
              <a:off x="4803840" y="3633840"/>
              <a:ext cx="1315800" cy="73512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Cloud"/>
            <p:cNvSpPr/>
            <p:nvPr/>
          </p:nvSpPr>
          <p:spPr>
            <a:xfrm>
              <a:off x="4319640" y="3719520"/>
              <a:ext cx="1315800" cy="73656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Cloud"/>
            <p:cNvSpPr/>
            <p:nvPr/>
          </p:nvSpPr>
          <p:spPr>
            <a:xfrm>
              <a:off x="4803840" y="3862440"/>
              <a:ext cx="1315800" cy="73656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Cloud"/>
            <p:cNvSpPr/>
            <p:nvPr/>
          </p:nvSpPr>
          <p:spPr>
            <a:xfrm>
              <a:off x="4680000" y="3375000"/>
              <a:ext cx="1028520" cy="73512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Cloud"/>
            <p:cNvSpPr/>
            <p:nvPr/>
          </p:nvSpPr>
          <p:spPr>
            <a:xfrm>
              <a:off x="4967280" y="3141720"/>
              <a:ext cx="576360" cy="88092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Freeform 4"/>
          <p:cNvSpPr/>
          <p:nvPr/>
        </p:nvSpPr>
        <p:spPr>
          <a:xfrm>
            <a:off x="1619280" y="4076640"/>
            <a:ext cx="7605720" cy="1825560"/>
          </a:xfrm>
          <a:prstGeom prst="pie">
            <a:avLst/>
          </a:prstGeom>
          <a:gradFill rotWithShape="0">
            <a:gsLst>
              <a:gs pos="0">
                <a:srgbClr val="9bda07"/>
              </a:gs>
              <a:gs pos="100000">
                <a:srgbClr val="44b81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1970"/>
          <p:cNvGrpSpPr/>
          <p:nvPr/>
        </p:nvGrpSpPr>
        <p:grpSpPr>
          <a:xfrm>
            <a:off x="3464640" y="4159080"/>
            <a:ext cx="1395360" cy="898200"/>
            <a:chOff x="3464640" y="4159080"/>
            <a:chExt cx="1395360" cy="898200"/>
          </a:xfrm>
        </p:grpSpPr>
        <p:sp>
          <p:nvSpPr>
            <p:cNvPr id="56" name="Freeform 1971"/>
            <p:cNvSpPr/>
            <p:nvPr/>
          </p:nvSpPr>
          <p:spPr>
            <a:xfrm rot="735600">
              <a:off x="4381200" y="4395960"/>
              <a:ext cx="416880" cy="624240"/>
            </a:xfrm>
            <a:prstGeom prst="pie">
              <a:avLst/>
            </a:pr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1972"/>
            <p:cNvSpPr/>
            <p:nvPr/>
          </p:nvSpPr>
          <p:spPr>
            <a:xfrm rot="735600">
              <a:off x="4133520" y="4328280"/>
              <a:ext cx="416880" cy="624240"/>
            </a:xfrm>
            <a:prstGeom prst="pie">
              <a:avLst/>
            </a:pr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1973"/>
            <p:cNvSpPr/>
            <p:nvPr/>
          </p:nvSpPr>
          <p:spPr>
            <a:xfrm rot="735600">
              <a:off x="3809160" y="4271760"/>
              <a:ext cx="416880" cy="624240"/>
            </a:xfrm>
            <a:prstGeom prst="pie">
              <a:avLst/>
            </a:pr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Freeform 1974"/>
            <p:cNvSpPr/>
            <p:nvPr/>
          </p:nvSpPr>
          <p:spPr>
            <a:xfrm rot="735600">
              <a:off x="3525840" y="4196160"/>
              <a:ext cx="416880" cy="624240"/>
            </a:xfrm>
            <a:prstGeom prst="pie">
              <a:avLst/>
            </a:pr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Group 155"/>
          <p:cNvGrpSpPr/>
          <p:nvPr/>
        </p:nvGrpSpPr>
        <p:grpSpPr>
          <a:xfrm>
            <a:off x="6815880" y="4283640"/>
            <a:ext cx="1492560" cy="1062000"/>
            <a:chOff x="6815880" y="4283640"/>
            <a:chExt cx="1492560" cy="1062000"/>
          </a:xfrm>
        </p:grpSpPr>
        <p:sp>
          <p:nvSpPr>
            <p:cNvPr id="61" name="Freeform 156"/>
            <p:cNvSpPr/>
            <p:nvPr/>
          </p:nvSpPr>
          <p:spPr>
            <a:xfrm rot="1183800">
              <a:off x="7776000" y="4665240"/>
              <a:ext cx="439920" cy="624240"/>
            </a:xfrm>
            <a:prstGeom prst="pie">
              <a:avLst/>
            </a:pr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157"/>
            <p:cNvSpPr/>
            <p:nvPr/>
          </p:nvSpPr>
          <p:spPr>
            <a:xfrm rot="1183800">
              <a:off x="7525800" y="4561200"/>
              <a:ext cx="439920" cy="624240"/>
            </a:xfrm>
            <a:prstGeom prst="pie">
              <a:avLst/>
            </a:pr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158"/>
            <p:cNvSpPr/>
            <p:nvPr/>
          </p:nvSpPr>
          <p:spPr>
            <a:xfrm rot="1183800">
              <a:off x="7193880" y="4456800"/>
              <a:ext cx="439920" cy="624240"/>
            </a:xfrm>
            <a:prstGeom prst="pie">
              <a:avLst/>
            </a:pr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159"/>
            <p:cNvSpPr/>
            <p:nvPr/>
          </p:nvSpPr>
          <p:spPr>
            <a:xfrm rot="1183800">
              <a:off x="6908040" y="4339440"/>
              <a:ext cx="439920" cy="624240"/>
            </a:xfrm>
            <a:prstGeom prst="pie">
              <a:avLst/>
            </a:pr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Group 145"/>
          <p:cNvGrpSpPr/>
          <p:nvPr/>
        </p:nvGrpSpPr>
        <p:grpSpPr>
          <a:xfrm>
            <a:off x="2190600" y="4190040"/>
            <a:ext cx="1451160" cy="1080720"/>
            <a:chOff x="2190600" y="4190040"/>
            <a:chExt cx="1451160" cy="1080720"/>
          </a:xfrm>
        </p:grpSpPr>
        <p:sp>
          <p:nvSpPr>
            <p:cNvPr id="66" name="Freeform 146"/>
            <p:cNvSpPr/>
            <p:nvPr/>
          </p:nvSpPr>
          <p:spPr>
            <a:xfrm rot="20841000">
              <a:off x="3138120" y="4225680"/>
              <a:ext cx="416880" cy="834840"/>
            </a:xfrm>
            <a:prstGeom prst="pie">
              <a:avLst/>
            </a:pr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147"/>
            <p:cNvSpPr/>
            <p:nvPr/>
          </p:nvSpPr>
          <p:spPr>
            <a:xfrm rot="20841000">
              <a:off x="2883600" y="4263840"/>
              <a:ext cx="416880" cy="834840"/>
            </a:xfrm>
            <a:prstGeom prst="pie">
              <a:avLst/>
            </a:pr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148"/>
            <p:cNvSpPr/>
            <p:nvPr/>
          </p:nvSpPr>
          <p:spPr>
            <a:xfrm rot="20841000">
              <a:off x="2566080" y="4353840"/>
              <a:ext cx="416880" cy="834840"/>
            </a:xfrm>
            <a:prstGeom prst="pie">
              <a:avLst/>
            </a:pr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149"/>
            <p:cNvSpPr/>
            <p:nvPr/>
          </p:nvSpPr>
          <p:spPr>
            <a:xfrm rot="20841000">
              <a:off x="2276640" y="4400280"/>
              <a:ext cx="416880" cy="834840"/>
            </a:xfrm>
            <a:prstGeom prst="pie">
              <a:avLst/>
            </a:pr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Group 150"/>
          <p:cNvGrpSpPr/>
          <p:nvPr/>
        </p:nvGrpSpPr>
        <p:grpSpPr>
          <a:xfrm>
            <a:off x="4932360" y="4230720"/>
            <a:ext cx="2160360" cy="637920"/>
            <a:chOff x="4932360" y="4230720"/>
            <a:chExt cx="2160360" cy="637920"/>
          </a:xfrm>
        </p:grpSpPr>
        <p:sp>
          <p:nvSpPr>
            <p:cNvPr id="71" name="Freeform 151"/>
            <p:cNvSpPr/>
            <p:nvPr/>
          </p:nvSpPr>
          <p:spPr>
            <a:xfrm>
              <a:off x="6397560" y="4244400"/>
              <a:ext cx="695160" cy="624240"/>
            </a:xfrm>
            <a:prstGeom prst="pie">
              <a:avLst/>
            </a:pr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52"/>
            <p:cNvSpPr/>
            <p:nvPr/>
          </p:nvSpPr>
          <p:spPr>
            <a:xfrm>
              <a:off x="5969520" y="4230720"/>
              <a:ext cx="695520" cy="624240"/>
            </a:xfrm>
            <a:prstGeom prst="pie">
              <a:avLst/>
            </a:pr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3"/>
            <p:cNvSpPr/>
            <p:nvPr/>
          </p:nvSpPr>
          <p:spPr>
            <a:xfrm>
              <a:off x="5420520" y="4244400"/>
              <a:ext cx="695520" cy="624240"/>
            </a:xfrm>
            <a:prstGeom prst="pie">
              <a:avLst/>
            </a:pr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54"/>
            <p:cNvSpPr/>
            <p:nvPr/>
          </p:nvSpPr>
          <p:spPr>
            <a:xfrm>
              <a:off x="4932360" y="4230720"/>
              <a:ext cx="695520" cy="624240"/>
            </a:xfrm>
            <a:prstGeom prst="pie">
              <a:avLst/>
            </a:pr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Group 140"/>
          <p:cNvGrpSpPr/>
          <p:nvPr/>
        </p:nvGrpSpPr>
        <p:grpSpPr>
          <a:xfrm>
            <a:off x="-24840" y="4489560"/>
            <a:ext cx="2386800" cy="856800"/>
            <a:chOff x="-24840" y="4489560"/>
            <a:chExt cx="2386800" cy="856800"/>
          </a:xfrm>
        </p:grpSpPr>
        <p:sp>
          <p:nvSpPr>
            <p:cNvPr id="76" name="Freeform 141"/>
            <p:cNvSpPr/>
            <p:nvPr/>
          </p:nvSpPr>
          <p:spPr>
            <a:xfrm rot="326400">
              <a:off x="1581120" y="4687920"/>
              <a:ext cx="752760" cy="624240"/>
            </a:xfrm>
            <a:prstGeom prst="pie">
              <a:avLst/>
            </a:pr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42"/>
            <p:cNvSpPr/>
            <p:nvPr/>
          </p:nvSpPr>
          <p:spPr>
            <a:xfrm rot="326400">
              <a:off x="1121040" y="4630320"/>
              <a:ext cx="753120" cy="624240"/>
            </a:xfrm>
            <a:prstGeom prst="pie">
              <a:avLst/>
            </a:pr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143"/>
            <p:cNvSpPr/>
            <p:nvPr/>
          </p:nvSpPr>
          <p:spPr>
            <a:xfrm rot="326400">
              <a:off x="527760" y="4587480"/>
              <a:ext cx="753120" cy="624240"/>
            </a:xfrm>
            <a:prstGeom prst="pie">
              <a:avLst/>
            </a:pr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144"/>
            <p:cNvSpPr/>
            <p:nvPr/>
          </p:nvSpPr>
          <p:spPr>
            <a:xfrm rot="326400">
              <a:off x="2880" y="4523760"/>
              <a:ext cx="753120" cy="624240"/>
            </a:xfrm>
            <a:prstGeom prst="pie">
              <a:avLst/>
            </a:pr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Group 15"/>
          <p:cNvGrpSpPr/>
          <p:nvPr/>
        </p:nvGrpSpPr>
        <p:grpSpPr>
          <a:xfrm>
            <a:off x="9144000" y="2637000"/>
            <a:ext cx="1366920" cy="791640"/>
            <a:chOff x="9144000" y="2637000"/>
            <a:chExt cx="1366920" cy="791640"/>
          </a:xfrm>
        </p:grpSpPr>
        <p:sp>
          <p:nvSpPr>
            <p:cNvPr id="81" name="Cloud"/>
            <p:cNvSpPr/>
            <p:nvPr/>
          </p:nvSpPr>
          <p:spPr>
            <a:xfrm>
              <a:off x="9343440" y="2637000"/>
              <a:ext cx="1046160" cy="57600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Cloud"/>
            <p:cNvSpPr/>
            <p:nvPr/>
          </p:nvSpPr>
          <p:spPr>
            <a:xfrm>
              <a:off x="9144000" y="2852640"/>
              <a:ext cx="1046160" cy="57600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Cloud"/>
            <p:cNvSpPr/>
            <p:nvPr/>
          </p:nvSpPr>
          <p:spPr>
            <a:xfrm>
              <a:off x="9464760" y="2852640"/>
              <a:ext cx="1046160" cy="57600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Cloud"/>
            <p:cNvSpPr/>
            <p:nvPr/>
          </p:nvSpPr>
          <p:spPr>
            <a:xfrm>
              <a:off x="9343440" y="2779560"/>
              <a:ext cx="1046160" cy="57600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Freeform 5"/>
          <p:cNvSpPr/>
          <p:nvPr/>
        </p:nvSpPr>
        <p:spPr>
          <a:xfrm>
            <a:off x="-538200" y="4365720"/>
            <a:ext cx="10563120" cy="1655640"/>
          </a:xfrm>
          <a:prstGeom prst="pie">
            <a:avLst/>
          </a:prstGeom>
          <a:gradFill rotWithShape="0">
            <a:gsLst>
              <a:gs pos="0">
                <a:srgbClr val="ccff33"/>
              </a:gs>
              <a:gs pos="100000">
                <a:srgbClr val="00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reeform 6"/>
          <p:cNvSpPr/>
          <p:nvPr/>
        </p:nvSpPr>
        <p:spPr>
          <a:xfrm>
            <a:off x="-468360" y="4365720"/>
            <a:ext cx="7094520" cy="1628640"/>
          </a:xfrm>
          <a:prstGeom prst="pie">
            <a:avLst/>
          </a:prstGeom>
          <a:gradFill rotWithShape="0">
            <a:gsLst>
              <a:gs pos="0">
                <a:srgbClr val="ccff33"/>
              </a:gs>
              <a:gs pos="100000">
                <a:srgbClr val="99ff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Group 31"/>
          <p:cNvGrpSpPr/>
          <p:nvPr/>
        </p:nvGrpSpPr>
        <p:grpSpPr>
          <a:xfrm>
            <a:off x="2519280" y="2060640"/>
            <a:ext cx="1584000" cy="927000"/>
            <a:chOff x="2519280" y="2060640"/>
            <a:chExt cx="1584000" cy="927000"/>
          </a:xfrm>
        </p:grpSpPr>
        <p:sp>
          <p:nvSpPr>
            <p:cNvPr id="88" name="Cloud"/>
            <p:cNvSpPr/>
            <p:nvPr/>
          </p:nvSpPr>
          <p:spPr>
            <a:xfrm>
              <a:off x="2652480" y="2384280"/>
              <a:ext cx="896760" cy="42696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Cloud"/>
            <p:cNvSpPr/>
            <p:nvPr/>
          </p:nvSpPr>
          <p:spPr>
            <a:xfrm>
              <a:off x="2519280" y="2433960"/>
              <a:ext cx="897120" cy="42876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Cloud"/>
            <p:cNvSpPr/>
            <p:nvPr/>
          </p:nvSpPr>
          <p:spPr>
            <a:xfrm>
              <a:off x="3206160" y="2474640"/>
              <a:ext cx="897120" cy="42876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Cloud"/>
            <p:cNvSpPr/>
            <p:nvPr/>
          </p:nvSpPr>
          <p:spPr>
            <a:xfrm>
              <a:off x="2567880" y="2233440"/>
              <a:ext cx="700200" cy="42696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Cloud"/>
            <p:cNvSpPr/>
            <p:nvPr/>
          </p:nvSpPr>
          <p:spPr>
            <a:xfrm>
              <a:off x="2567880" y="2060640"/>
              <a:ext cx="539640" cy="63756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Cloud"/>
            <p:cNvSpPr/>
            <p:nvPr/>
          </p:nvSpPr>
          <p:spPr>
            <a:xfrm>
              <a:off x="2666520" y="2558880"/>
              <a:ext cx="897120" cy="42876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Group 32"/>
          <p:cNvGrpSpPr/>
          <p:nvPr/>
        </p:nvGrpSpPr>
        <p:grpSpPr>
          <a:xfrm>
            <a:off x="8064360" y="1701720"/>
            <a:ext cx="936360" cy="576000"/>
            <a:chOff x="8064360" y="1701720"/>
            <a:chExt cx="936360" cy="576000"/>
          </a:xfrm>
        </p:grpSpPr>
        <p:sp>
          <p:nvSpPr>
            <p:cNvPr id="95" name="Cloud"/>
            <p:cNvSpPr/>
            <p:nvPr/>
          </p:nvSpPr>
          <p:spPr>
            <a:xfrm>
              <a:off x="8143560" y="1903320"/>
              <a:ext cx="530280" cy="26496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Cloud"/>
            <p:cNvSpPr/>
            <p:nvPr/>
          </p:nvSpPr>
          <p:spPr>
            <a:xfrm>
              <a:off x="8064360" y="1933200"/>
              <a:ext cx="530280" cy="26640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Cloud"/>
            <p:cNvSpPr/>
            <p:nvPr/>
          </p:nvSpPr>
          <p:spPr>
            <a:xfrm>
              <a:off x="8470440" y="1959120"/>
              <a:ext cx="530280" cy="26640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Cloud"/>
            <p:cNvSpPr/>
            <p:nvPr/>
          </p:nvSpPr>
          <p:spPr>
            <a:xfrm>
              <a:off x="8093160" y="1809720"/>
              <a:ext cx="414360" cy="26496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Cloud"/>
            <p:cNvSpPr/>
            <p:nvPr/>
          </p:nvSpPr>
          <p:spPr>
            <a:xfrm>
              <a:off x="8093160" y="1701720"/>
              <a:ext cx="318960" cy="39708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Cloud"/>
            <p:cNvSpPr/>
            <p:nvPr/>
          </p:nvSpPr>
          <p:spPr>
            <a:xfrm>
              <a:off x="8151120" y="2011320"/>
              <a:ext cx="530280" cy="26640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AutoShape 41"/>
          <p:cNvSpPr/>
          <p:nvPr/>
        </p:nvSpPr>
        <p:spPr>
          <a:xfrm>
            <a:off x="3851280" y="476280"/>
            <a:ext cx="1828800" cy="18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34"/>
          <p:cNvGrpSpPr/>
          <p:nvPr/>
        </p:nvGrpSpPr>
        <p:grpSpPr>
          <a:xfrm>
            <a:off x="1726920" y="4491720"/>
            <a:ext cx="2580840" cy="1374120"/>
            <a:chOff x="1726920" y="4491720"/>
            <a:chExt cx="2580840" cy="1374120"/>
          </a:xfrm>
        </p:grpSpPr>
        <p:sp>
          <p:nvSpPr>
            <p:cNvPr id="103" name="Freeform 135"/>
            <p:cNvSpPr/>
            <p:nvPr/>
          </p:nvSpPr>
          <p:spPr>
            <a:xfrm rot="930000">
              <a:off x="3426840" y="5050440"/>
              <a:ext cx="798840" cy="721800"/>
            </a:xfrm>
            <a:prstGeom prst="pie">
              <a:avLst/>
            </a:pr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Freeform 136"/>
            <p:cNvSpPr/>
            <p:nvPr/>
          </p:nvSpPr>
          <p:spPr>
            <a:xfrm rot="930000">
              <a:off x="2957400" y="4903920"/>
              <a:ext cx="799200" cy="721800"/>
            </a:xfrm>
            <a:prstGeom prst="pie">
              <a:avLst/>
            </a:pr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Freeform 137"/>
            <p:cNvSpPr/>
            <p:nvPr/>
          </p:nvSpPr>
          <p:spPr>
            <a:xfrm rot="930000">
              <a:off x="2345400" y="4750560"/>
              <a:ext cx="799200" cy="721800"/>
            </a:xfrm>
            <a:prstGeom prst="pie">
              <a:avLst/>
            </a:pr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Freeform 138"/>
            <p:cNvSpPr/>
            <p:nvPr/>
          </p:nvSpPr>
          <p:spPr>
            <a:xfrm rot="930000">
              <a:off x="1808640" y="4585320"/>
              <a:ext cx="799200" cy="721800"/>
            </a:xfrm>
            <a:prstGeom prst="pie">
              <a:avLst/>
            </a:pr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Freeform 7"/>
          <p:cNvSpPr/>
          <p:nvPr/>
        </p:nvSpPr>
        <p:spPr>
          <a:xfrm>
            <a:off x="0" y="4784760"/>
            <a:ext cx="7631280" cy="2073240"/>
          </a:xfrm>
          <a:prstGeom prst="pie">
            <a:avLst/>
          </a:prstGeom>
          <a:gradFill rotWithShape="0">
            <a:gsLst>
              <a:gs pos="0">
                <a:srgbClr val="009900"/>
              </a:gs>
              <a:gs pos="100000">
                <a:srgbClr val="ccff3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Group 70"/>
          <p:cNvGrpSpPr/>
          <p:nvPr/>
        </p:nvGrpSpPr>
        <p:grpSpPr>
          <a:xfrm>
            <a:off x="-36360" y="6237360"/>
            <a:ext cx="2549520" cy="647280"/>
            <a:chOff x="-36360" y="6237360"/>
            <a:chExt cx="2549520" cy="647280"/>
          </a:xfrm>
        </p:grpSpPr>
        <p:sp>
          <p:nvSpPr>
            <p:cNvPr id="109" name="Freeform 71"/>
            <p:cNvSpPr/>
            <p:nvPr/>
          </p:nvSpPr>
          <p:spPr>
            <a:xfrm>
              <a:off x="1692720" y="6251400"/>
              <a:ext cx="820440" cy="633240"/>
            </a:xfrm>
            <a:prstGeom prst="pie">
              <a:avLst/>
            </a:pr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72"/>
            <p:cNvSpPr/>
            <p:nvPr/>
          </p:nvSpPr>
          <p:spPr>
            <a:xfrm>
              <a:off x="1187640" y="6237360"/>
              <a:ext cx="820800" cy="633240"/>
            </a:xfrm>
            <a:prstGeom prst="pie">
              <a:avLst/>
            </a:pr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Freeform 73"/>
            <p:cNvSpPr/>
            <p:nvPr/>
          </p:nvSpPr>
          <p:spPr>
            <a:xfrm>
              <a:off x="540000" y="6251400"/>
              <a:ext cx="820800" cy="633240"/>
            </a:xfrm>
            <a:prstGeom prst="pie">
              <a:avLst/>
            </a:pr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Freeform 74"/>
            <p:cNvSpPr/>
            <p:nvPr/>
          </p:nvSpPr>
          <p:spPr>
            <a:xfrm>
              <a:off x="-36360" y="6237360"/>
              <a:ext cx="820800" cy="633240"/>
            </a:xfrm>
            <a:prstGeom prst="pie">
              <a:avLst/>
            </a:pr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Group 139"/>
          <p:cNvGrpSpPr/>
          <p:nvPr/>
        </p:nvGrpSpPr>
        <p:grpSpPr>
          <a:xfrm>
            <a:off x="2015640" y="4724280"/>
            <a:ext cx="7186680" cy="1958760"/>
            <a:chOff x="2015640" y="4724280"/>
            <a:chExt cx="7186680" cy="1958760"/>
          </a:xfrm>
        </p:grpSpPr>
        <p:grpSp>
          <p:nvGrpSpPr>
            <p:cNvPr id="114" name="Group 99"/>
            <p:cNvGrpSpPr/>
            <p:nvPr/>
          </p:nvGrpSpPr>
          <p:grpSpPr>
            <a:xfrm>
              <a:off x="6609960" y="4724280"/>
              <a:ext cx="2549520" cy="647640"/>
              <a:chOff x="6609960" y="4724280"/>
              <a:chExt cx="2549520" cy="647640"/>
            </a:xfrm>
          </p:grpSpPr>
          <p:sp>
            <p:nvSpPr>
              <p:cNvPr id="115" name="Freeform 100"/>
              <p:cNvSpPr/>
              <p:nvPr/>
            </p:nvSpPr>
            <p:spPr>
              <a:xfrm>
                <a:off x="8339040" y="4738320"/>
                <a:ext cx="820440" cy="63360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Freeform 101"/>
              <p:cNvSpPr/>
              <p:nvPr/>
            </p:nvSpPr>
            <p:spPr>
              <a:xfrm>
                <a:off x="7833960" y="4724280"/>
                <a:ext cx="820800" cy="63360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Freeform 102"/>
              <p:cNvSpPr/>
              <p:nvPr/>
            </p:nvSpPr>
            <p:spPr>
              <a:xfrm>
                <a:off x="7186320" y="4738320"/>
                <a:ext cx="820800" cy="63360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Freeform 103"/>
              <p:cNvSpPr/>
              <p:nvPr/>
            </p:nvSpPr>
            <p:spPr>
              <a:xfrm>
                <a:off x="6609960" y="4724280"/>
                <a:ext cx="820800" cy="63360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Group 104"/>
            <p:cNvGrpSpPr/>
            <p:nvPr/>
          </p:nvGrpSpPr>
          <p:grpSpPr>
            <a:xfrm>
              <a:off x="2015640" y="4862520"/>
              <a:ext cx="3627000" cy="1820520"/>
              <a:chOff x="2015640" y="4862520"/>
              <a:chExt cx="3627000" cy="1820520"/>
            </a:xfrm>
          </p:grpSpPr>
          <p:sp>
            <p:nvSpPr>
              <p:cNvPr id="120" name="Freeform 105"/>
              <p:cNvSpPr/>
              <p:nvPr/>
            </p:nvSpPr>
            <p:spPr>
              <a:xfrm rot="20519400">
                <a:off x="4406400" y="5020200"/>
                <a:ext cx="1144440" cy="77436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Freeform 106"/>
              <p:cNvSpPr/>
              <p:nvPr/>
            </p:nvSpPr>
            <p:spPr>
              <a:xfrm rot="20519400">
                <a:off x="3731400" y="5222160"/>
                <a:ext cx="1145160" cy="77436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Freeform 107"/>
              <p:cNvSpPr/>
              <p:nvPr/>
            </p:nvSpPr>
            <p:spPr>
              <a:xfrm rot="20519400">
                <a:off x="2876760" y="5517720"/>
                <a:ext cx="1145160" cy="77436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Freeform 108"/>
              <p:cNvSpPr/>
              <p:nvPr/>
            </p:nvSpPr>
            <p:spPr>
              <a:xfrm rot="20519400">
                <a:off x="2107080" y="5750280"/>
                <a:ext cx="1145160" cy="77436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Group 119"/>
            <p:cNvGrpSpPr/>
            <p:nvPr/>
          </p:nvGrpSpPr>
          <p:grpSpPr>
            <a:xfrm>
              <a:off x="4494960" y="4776120"/>
              <a:ext cx="2073960" cy="833040"/>
              <a:chOff x="4494960" y="4776120"/>
              <a:chExt cx="2073960" cy="833040"/>
            </a:xfrm>
          </p:grpSpPr>
          <p:sp>
            <p:nvSpPr>
              <p:cNvPr id="125" name="Freeform 120"/>
              <p:cNvSpPr/>
              <p:nvPr/>
            </p:nvSpPr>
            <p:spPr>
              <a:xfrm rot="21228600">
                <a:off x="5887800" y="4808880"/>
                <a:ext cx="648720" cy="63324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Freeform 121"/>
              <p:cNvSpPr/>
              <p:nvPr/>
            </p:nvSpPr>
            <p:spPr>
              <a:xfrm rot="21228600">
                <a:off x="5489280" y="4838040"/>
                <a:ext cx="648720" cy="63324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Freeform 122"/>
              <p:cNvSpPr/>
              <p:nvPr/>
            </p:nvSpPr>
            <p:spPr>
              <a:xfrm rot="21228600">
                <a:off x="4981680" y="4907160"/>
                <a:ext cx="648720" cy="63324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Freeform 123"/>
              <p:cNvSpPr/>
              <p:nvPr/>
            </p:nvSpPr>
            <p:spPr>
              <a:xfrm rot="21228600">
                <a:off x="4527000" y="4942440"/>
                <a:ext cx="648720" cy="63324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Group 124"/>
            <p:cNvGrpSpPr/>
            <p:nvPr/>
          </p:nvGrpSpPr>
          <p:grpSpPr>
            <a:xfrm>
              <a:off x="6035400" y="4726080"/>
              <a:ext cx="2016000" cy="647280"/>
              <a:chOff x="6035400" y="4726080"/>
              <a:chExt cx="2016000" cy="647280"/>
            </a:xfrm>
          </p:grpSpPr>
          <p:sp>
            <p:nvSpPr>
              <p:cNvPr id="130" name="Freeform 125"/>
              <p:cNvSpPr/>
              <p:nvPr/>
            </p:nvSpPr>
            <p:spPr>
              <a:xfrm>
                <a:off x="7402680" y="4740120"/>
                <a:ext cx="648720" cy="63324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Freeform 126"/>
              <p:cNvSpPr/>
              <p:nvPr/>
            </p:nvSpPr>
            <p:spPr>
              <a:xfrm>
                <a:off x="7003080" y="4726080"/>
                <a:ext cx="648720" cy="63324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Freeform 127"/>
              <p:cNvSpPr/>
              <p:nvPr/>
            </p:nvSpPr>
            <p:spPr>
              <a:xfrm>
                <a:off x="6491160" y="4740120"/>
                <a:ext cx="648720" cy="63324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Freeform 128"/>
              <p:cNvSpPr/>
              <p:nvPr/>
            </p:nvSpPr>
            <p:spPr>
              <a:xfrm>
                <a:off x="6035400" y="4726080"/>
                <a:ext cx="648720" cy="63324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Group 129"/>
            <p:cNvGrpSpPr/>
            <p:nvPr/>
          </p:nvGrpSpPr>
          <p:grpSpPr>
            <a:xfrm>
              <a:off x="7186320" y="4724280"/>
              <a:ext cx="2016000" cy="647640"/>
              <a:chOff x="7186320" y="4724280"/>
              <a:chExt cx="2016000" cy="647640"/>
            </a:xfrm>
          </p:grpSpPr>
          <p:sp>
            <p:nvSpPr>
              <p:cNvPr id="135" name="Freeform 130"/>
              <p:cNvSpPr/>
              <p:nvPr/>
            </p:nvSpPr>
            <p:spPr>
              <a:xfrm>
                <a:off x="8553600" y="4738320"/>
                <a:ext cx="648720" cy="63360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Freeform 131"/>
              <p:cNvSpPr/>
              <p:nvPr/>
            </p:nvSpPr>
            <p:spPr>
              <a:xfrm>
                <a:off x="8154000" y="4724280"/>
                <a:ext cx="648720" cy="63360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Freeform 132"/>
              <p:cNvSpPr/>
              <p:nvPr/>
            </p:nvSpPr>
            <p:spPr>
              <a:xfrm>
                <a:off x="7642080" y="4738320"/>
                <a:ext cx="648720" cy="63360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Freeform 133"/>
              <p:cNvSpPr/>
              <p:nvPr/>
            </p:nvSpPr>
            <p:spPr>
              <a:xfrm>
                <a:off x="7186320" y="4724280"/>
                <a:ext cx="648720" cy="63360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9" name="Freeform 9"/>
          <p:cNvSpPr/>
          <p:nvPr/>
        </p:nvSpPr>
        <p:spPr>
          <a:xfrm>
            <a:off x="1541520" y="5029200"/>
            <a:ext cx="7653240" cy="1854360"/>
          </a:xfrm>
          <a:prstGeom prst="pie">
            <a:avLst/>
          </a:prstGeom>
          <a:gradFill rotWithShape="0">
            <a:gsLst>
              <a:gs pos="0">
                <a:srgbClr val="ccff33"/>
              </a:gs>
              <a:gs pos="100000">
                <a:srgbClr val="0099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Group 97"/>
          <p:cNvGrpSpPr/>
          <p:nvPr/>
        </p:nvGrpSpPr>
        <p:grpSpPr>
          <a:xfrm>
            <a:off x="2050920" y="6237360"/>
            <a:ext cx="7129440" cy="647280"/>
            <a:chOff x="2050920" y="6237360"/>
            <a:chExt cx="7129440" cy="647280"/>
          </a:xfrm>
        </p:grpSpPr>
        <p:grpSp>
          <p:nvGrpSpPr>
            <p:cNvPr id="141" name="Group 59"/>
            <p:cNvGrpSpPr/>
            <p:nvPr/>
          </p:nvGrpSpPr>
          <p:grpSpPr>
            <a:xfrm>
              <a:off x="6630840" y="6237360"/>
              <a:ext cx="2549520" cy="647280"/>
              <a:chOff x="6630840" y="6237360"/>
              <a:chExt cx="2549520" cy="647280"/>
            </a:xfrm>
          </p:grpSpPr>
          <p:sp>
            <p:nvSpPr>
              <p:cNvPr id="142" name="Freeform 44"/>
              <p:cNvSpPr/>
              <p:nvPr/>
            </p:nvSpPr>
            <p:spPr>
              <a:xfrm>
                <a:off x="8359920" y="6251400"/>
                <a:ext cx="820440" cy="63324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Freeform 56"/>
              <p:cNvSpPr/>
              <p:nvPr/>
            </p:nvSpPr>
            <p:spPr>
              <a:xfrm>
                <a:off x="7854840" y="6237360"/>
                <a:ext cx="820800" cy="63324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Freeform 57"/>
              <p:cNvSpPr/>
              <p:nvPr/>
            </p:nvSpPr>
            <p:spPr>
              <a:xfrm>
                <a:off x="7207200" y="6251400"/>
                <a:ext cx="820800" cy="63324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Freeform 58"/>
              <p:cNvSpPr/>
              <p:nvPr/>
            </p:nvSpPr>
            <p:spPr>
              <a:xfrm>
                <a:off x="6630840" y="6237360"/>
                <a:ext cx="820800" cy="63324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Group 60"/>
            <p:cNvGrpSpPr/>
            <p:nvPr/>
          </p:nvGrpSpPr>
          <p:grpSpPr>
            <a:xfrm>
              <a:off x="4067280" y="6237360"/>
              <a:ext cx="2549520" cy="647280"/>
              <a:chOff x="4067280" y="6237360"/>
              <a:chExt cx="2549520" cy="647280"/>
            </a:xfrm>
          </p:grpSpPr>
          <p:sp>
            <p:nvSpPr>
              <p:cNvPr id="147" name="Freeform 61"/>
              <p:cNvSpPr/>
              <p:nvPr/>
            </p:nvSpPr>
            <p:spPr>
              <a:xfrm>
                <a:off x="5796360" y="6251400"/>
                <a:ext cx="820440" cy="63324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Freeform 62"/>
              <p:cNvSpPr/>
              <p:nvPr/>
            </p:nvSpPr>
            <p:spPr>
              <a:xfrm>
                <a:off x="5291280" y="6237360"/>
                <a:ext cx="820800" cy="63324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Freeform 63"/>
              <p:cNvSpPr/>
              <p:nvPr/>
            </p:nvSpPr>
            <p:spPr>
              <a:xfrm>
                <a:off x="4643640" y="6251400"/>
                <a:ext cx="820800" cy="63324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Freeform 64"/>
              <p:cNvSpPr/>
              <p:nvPr/>
            </p:nvSpPr>
            <p:spPr>
              <a:xfrm>
                <a:off x="4067280" y="6237360"/>
                <a:ext cx="820800" cy="63324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Group 65"/>
            <p:cNvGrpSpPr/>
            <p:nvPr/>
          </p:nvGrpSpPr>
          <p:grpSpPr>
            <a:xfrm>
              <a:off x="2527200" y="6237360"/>
              <a:ext cx="2549520" cy="647280"/>
              <a:chOff x="2527200" y="6237360"/>
              <a:chExt cx="2549520" cy="647280"/>
            </a:xfrm>
          </p:grpSpPr>
          <p:sp>
            <p:nvSpPr>
              <p:cNvPr id="152" name="Freeform 66"/>
              <p:cNvSpPr/>
              <p:nvPr/>
            </p:nvSpPr>
            <p:spPr>
              <a:xfrm>
                <a:off x="4256280" y="6251400"/>
                <a:ext cx="820440" cy="63324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Freeform 67"/>
              <p:cNvSpPr/>
              <p:nvPr/>
            </p:nvSpPr>
            <p:spPr>
              <a:xfrm>
                <a:off x="3751200" y="6237360"/>
                <a:ext cx="820800" cy="63324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Freeform 68"/>
              <p:cNvSpPr/>
              <p:nvPr/>
            </p:nvSpPr>
            <p:spPr>
              <a:xfrm>
                <a:off x="3103560" y="6251400"/>
                <a:ext cx="820800" cy="63324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Freeform 69"/>
              <p:cNvSpPr/>
              <p:nvPr/>
            </p:nvSpPr>
            <p:spPr>
              <a:xfrm>
                <a:off x="2527200" y="6237360"/>
                <a:ext cx="820800" cy="63324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Group 77"/>
            <p:cNvGrpSpPr/>
            <p:nvPr/>
          </p:nvGrpSpPr>
          <p:grpSpPr>
            <a:xfrm>
              <a:off x="2050920" y="6237360"/>
              <a:ext cx="2016000" cy="647280"/>
              <a:chOff x="2050920" y="6237360"/>
              <a:chExt cx="2016000" cy="647280"/>
            </a:xfrm>
          </p:grpSpPr>
          <p:sp>
            <p:nvSpPr>
              <p:cNvPr id="157" name="Freeform 78"/>
              <p:cNvSpPr/>
              <p:nvPr/>
            </p:nvSpPr>
            <p:spPr>
              <a:xfrm>
                <a:off x="3418200" y="6251400"/>
                <a:ext cx="648720" cy="63324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Freeform 79"/>
              <p:cNvSpPr/>
              <p:nvPr/>
            </p:nvSpPr>
            <p:spPr>
              <a:xfrm>
                <a:off x="3018960" y="6237360"/>
                <a:ext cx="649080" cy="63324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Freeform 80"/>
              <p:cNvSpPr/>
              <p:nvPr/>
            </p:nvSpPr>
            <p:spPr>
              <a:xfrm>
                <a:off x="2506680" y="6251400"/>
                <a:ext cx="649080" cy="63324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Freeform 81"/>
              <p:cNvSpPr/>
              <p:nvPr/>
            </p:nvSpPr>
            <p:spPr>
              <a:xfrm>
                <a:off x="2050920" y="6237360"/>
                <a:ext cx="649080" cy="63324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" name="Group 82"/>
            <p:cNvGrpSpPr/>
            <p:nvPr/>
          </p:nvGrpSpPr>
          <p:grpSpPr>
            <a:xfrm>
              <a:off x="4284720" y="6237360"/>
              <a:ext cx="2016000" cy="647280"/>
              <a:chOff x="4284720" y="6237360"/>
              <a:chExt cx="2016000" cy="647280"/>
            </a:xfrm>
          </p:grpSpPr>
          <p:sp>
            <p:nvSpPr>
              <p:cNvPr id="162" name="Freeform 83"/>
              <p:cNvSpPr/>
              <p:nvPr/>
            </p:nvSpPr>
            <p:spPr>
              <a:xfrm>
                <a:off x="5652000" y="6251400"/>
                <a:ext cx="648720" cy="63324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Freeform 84"/>
              <p:cNvSpPr/>
              <p:nvPr/>
            </p:nvSpPr>
            <p:spPr>
              <a:xfrm>
                <a:off x="5252400" y="6237360"/>
                <a:ext cx="648720" cy="63324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Freeform 85"/>
              <p:cNvSpPr/>
              <p:nvPr/>
            </p:nvSpPr>
            <p:spPr>
              <a:xfrm>
                <a:off x="4740480" y="6251400"/>
                <a:ext cx="648720" cy="63324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Freeform 86"/>
              <p:cNvSpPr/>
              <p:nvPr/>
            </p:nvSpPr>
            <p:spPr>
              <a:xfrm>
                <a:off x="4284720" y="6237360"/>
                <a:ext cx="648720" cy="63324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Group 87"/>
            <p:cNvGrpSpPr/>
            <p:nvPr/>
          </p:nvGrpSpPr>
          <p:grpSpPr>
            <a:xfrm>
              <a:off x="5796000" y="6237360"/>
              <a:ext cx="2016000" cy="647280"/>
              <a:chOff x="5796000" y="6237360"/>
              <a:chExt cx="2016000" cy="647280"/>
            </a:xfrm>
          </p:grpSpPr>
          <p:sp>
            <p:nvSpPr>
              <p:cNvPr id="167" name="Freeform 88"/>
              <p:cNvSpPr/>
              <p:nvPr/>
            </p:nvSpPr>
            <p:spPr>
              <a:xfrm>
                <a:off x="7163280" y="6251400"/>
                <a:ext cx="648720" cy="63324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Freeform 89"/>
              <p:cNvSpPr/>
              <p:nvPr/>
            </p:nvSpPr>
            <p:spPr>
              <a:xfrm>
                <a:off x="6763680" y="6237360"/>
                <a:ext cx="648720" cy="63324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Freeform 90"/>
              <p:cNvSpPr/>
              <p:nvPr/>
            </p:nvSpPr>
            <p:spPr>
              <a:xfrm>
                <a:off x="6251760" y="6251400"/>
                <a:ext cx="648720" cy="63324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Freeform 91"/>
              <p:cNvSpPr/>
              <p:nvPr/>
            </p:nvSpPr>
            <p:spPr>
              <a:xfrm>
                <a:off x="5796000" y="6237360"/>
                <a:ext cx="648720" cy="63324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" name="Group 92"/>
            <p:cNvGrpSpPr/>
            <p:nvPr/>
          </p:nvGrpSpPr>
          <p:grpSpPr>
            <a:xfrm>
              <a:off x="7093080" y="6237360"/>
              <a:ext cx="2016000" cy="647280"/>
              <a:chOff x="7093080" y="6237360"/>
              <a:chExt cx="2016000" cy="647280"/>
            </a:xfrm>
          </p:grpSpPr>
          <p:sp>
            <p:nvSpPr>
              <p:cNvPr id="172" name="Freeform 93"/>
              <p:cNvSpPr/>
              <p:nvPr/>
            </p:nvSpPr>
            <p:spPr>
              <a:xfrm>
                <a:off x="8460360" y="6251400"/>
                <a:ext cx="648720" cy="63324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Freeform 94"/>
              <p:cNvSpPr/>
              <p:nvPr/>
            </p:nvSpPr>
            <p:spPr>
              <a:xfrm>
                <a:off x="8060760" y="6237360"/>
                <a:ext cx="648720" cy="63324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Freeform 95"/>
              <p:cNvSpPr/>
              <p:nvPr/>
            </p:nvSpPr>
            <p:spPr>
              <a:xfrm>
                <a:off x="7548840" y="6251400"/>
                <a:ext cx="648720" cy="63324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Freeform 96"/>
              <p:cNvSpPr/>
              <p:nvPr/>
            </p:nvSpPr>
            <p:spPr>
              <a:xfrm>
                <a:off x="7093080" y="6237360"/>
                <a:ext cx="648720" cy="63324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6" name="Group 160"/>
          <p:cNvGrpSpPr/>
          <p:nvPr/>
        </p:nvGrpSpPr>
        <p:grpSpPr>
          <a:xfrm>
            <a:off x="6585840" y="5155200"/>
            <a:ext cx="367920" cy="367920"/>
            <a:chOff x="6585840" y="5155200"/>
            <a:chExt cx="367920" cy="367920"/>
          </a:xfrm>
        </p:grpSpPr>
        <p:grpSp>
          <p:nvGrpSpPr>
            <p:cNvPr id="177" name="Group 161"/>
            <p:cNvGrpSpPr/>
            <p:nvPr/>
          </p:nvGrpSpPr>
          <p:grpSpPr>
            <a:xfrm>
              <a:off x="6588000" y="5157720"/>
              <a:ext cx="363240" cy="363240"/>
              <a:chOff x="6588000" y="5157720"/>
              <a:chExt cx="363240" cy="363240"/>
            </a:xfrm>
          </p:grpSpPr>
          <p:grpSp>
            <p:nvGrpSpPr>
              <p:cNvPr id="178" name="Group 162"/>
              <p:cNvGrpSpPr/>
              <p:nvPr/>
            </p:nvGrpSpPr>
            <p:grpSpPr>
              <a:xfrm>
                <a:off x="6588000" y="5157720"/>
                <a:ext cx="363240" cy="363240"/>
                <a:chOff x="6588000" y="5157720"/>
                <a:chExt cx="363240" cy="363240"/>
              </a:xfrm>
            </p:grpSpPr>
            <p:sp>
              <p:nvSpPr>
                <p:cNvPr id="179" name="Oval 163"/>
                <p:cNvSpPr/>
                <p:nvPr/>
              </p:nvSpPr>
              <p:spPr>
                <a:xfrm>
                  <a:off x="6588000" y="5297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Oval 164"/>
                <p:cNvSpPr/>
                <p:nvPr/>
              </p:nvSpPr>
              <p:spPr>
                <a:xfrm rot="5400000">
                  <a:off x="6587640" y="5298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Group 165"/>
              <p:cNvGrpSpPr/>
              <p:nvPr/>
            </p:nvGrpSpPr>
            <p:grpSpPr>
              <a:xfrm>
                <a:off x="6611760" y="5181840"/>
                <a:ext cx="315360" cy="315000"/>
                <a:chOff x="6611760" y="5181840"/>
                <a:chExt cx="315360" cy="315000"/>
              </a:xfrm>
            </p:grpSpPr>
            <p:sp>
              <p:nvSpPr>
                <p:cNvPr id="182" name="Oval 166"/>
                <p:cNvSpPr/>
                <p:nvPr/>
              </p:nvSpPr>
              <p:spPr>
                <a:xfrm rot="2700000">
                  <a:off x="6588000" y="5298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Oval 167"/>
                <p:cNvSpPr/>
                <p:nvPr/>
              </p:nvSpPr>
              <p:spPr>
                <a:xfrm rot="8100000">
                  <a:off x="6587280" y="5298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4" name="Group 168"/>
            <p:cNvGrpSpPr/>
            <p:nvPr/>
          </p:nvGrpSpPr>
          <p:grpSpPr>
            <a:xfrm>
              <a:off x="6585840" y="5155200"/>
              <a:ext cx="367920" cy="367920"/>
              <a:chOff x="6585840" y="5155200"/>
              <a:chExt cx="367920" cy="367920"/>
            </a:xfrm>
          </p:grpSpPr>
          <p:grpSp>
            <p:nvGrpSpPr>
              <p:cNvPr id="185" name="Group 169"/>
              <p:cNvGrpSpPr/>
              <p:nvPr/>
            </p:nvGrpSpPr>
            <p:grpSpPr>
              <a:xfrm>
                <a:off x="6585840" y="5155200"/>
                <a:ext cx="367920" cy="367920"/>
                <a:chOff x="6585840" y="5155200"/>
                <a:chExt cx="367920" cy="367920"/>
              </a:xfrm>
            </p:grpSpPr>
            <p:sp>
              <p:nvSpPr>
                <p:cNvPr id="186" name="Oval 170"/>
                <p:cNvSpPr/>
                <p:nvPr/>
              </p:nvSpPr>
              <p:spPr>
                <a:xfrm rot="1320000">
                  <a:off x="6588000" y="5297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Oval 171"/>
                <p:cNvSpPr/>
                <p:nvPr/>
              </p:nvSpPr>
              <p:spPr>
                <a:xfrm rot="6720000">
                  <a:off x="6587640" y="5297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Group 172"/>
              <p:cNvGrpSpPr/>
              <p:nvPr/>
            </p:nvGrpSpPr>
            <p:grpSpPr>
              <a:xfrm>
                <a:off x="6586200" y="5156280"/>
                <a:ext cx="366480" cy="366480"/>
                <a:chOff x="6586200" y="5156280"/>
                <a:chExt cx="366480" cy="366480"/>
              </a:xfrm>
            </p:grpSpPr>
            <p:sp>
              <p:nvSpPr>
                <p:cNvPr id="189" name="Oval 173"/>
                <p:cNvSpPr/>
                <p:nvPr/>
              </p:nvSpPr>
              <p:spPr>
                <a:xfrm rot="4020000">
                  <a:off x="6588000" y="5298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Oval 174"/>
                <p:cNvSpPr/>
                <p:nvPr/>
              </p:nvSpPr>
              <p:spPr>
                <a:xfrm rot="9420000">
                  <a:off x="6587640" y="5297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1" name="Oval 175"/>
            <p:cNvSpPr/>
            <p:nvPr/>
          </p:nvSpPr>
          <p:spPr>
            <a:xfrm>
              <a:off x="6710040" y="5285880"/>
              <a:ext cx="118800" cy="10584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Group 176"/>
          <p:cNvGrpSpPr/>
          <p:nvPr/>
        </p:nvGrpSpPr>
        <p:grpSpPr>
          <a:xfrm>
            <a:off x="6082560" y="5226840"/>
            <a:ext cx="367920" cy="367560"/>
            <a:chOff x="6082560" y="5226840"/>
            <a:chExt cx="367920" cy="367560"/>
          </a:xfrm>
        </p:grpSpPr>
        <p:grpSp>
          <p:nvGrpSpPr>
            <p:cNvPr id="193" name="Group 177"/>
            <p:cNvGrpSpPr/>
            <p:nvPr/>
          </p:nvGrpSpPr>
          <p:grpSpPr>
            <a:xfrm>
              <a:off x="6084720" y="5229360"/>
              <a:ext cx="363240" cy="362880"/>
              <a:chOff x="6084720" y="5229360"/>
              <a:chExt cx="363240" cy="362880"/>
            </a:xfrm>
          </p:grpSpPr>
          <p:grpSp>
            <p:nvGrpSpPr>
              <p:cNvPr id="194" name="Group 178"/>
              <p:cNvGrpSpPr/>
              <p:nvPr/>
            </p:nvGrpSpPr>
            <p:grpSpPr>
              <a:xfrm>
                <a:off x="6084720" y="5229360"/>
                <a:ext cx="363240" cy="362880"/>
                <a:chOff x="6084720" y="5229360"/>
                <a:chExt cx="363240" cy="362880"/>
              </a:xfrm>
            </p:grpSpPr>
            <p:sp>
              <p:nvSpPr>
                <p:cNvPr id="195" name="Oval 179"/>
                <p:cNvSpPr/>
                <p:nvPr/>
              </p:nvSpPr>
              <p:spPr>
                <a:xfrm>
                  <a:off x="6084720" y="5369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Oval 180"/>
                <p:cNvSpPr/>
                <p:nvPr/>
              </p:nvSpPr>
              <p:spPr>
                <a:xfrm rot="5400000">
                  <a:off x="6084360" y="536940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Group 181"/>
              <p:cNvGrpSpPr/>
              <p:nvPr/>
            </p:nvGrpSpPr>
            <p:grpSpPr>
              <a:xfrm>
                <a:off x="6108480" y="5253480"/>
                <a:ext cx="315360" cy="315000"/>
                <a:chOff x="6108480" y="5253480"/>
                <a:chExt cx="315360" cy="315000"/>
              </a:xfrm>
            </p:grpSpPr>
            <p:sp>
              <p:nvSpPr>
                <p:cNvPr id="198" name="Oval 182"/>
                <p:cNvSpPr/>
                <p:nvPr/>
              </p:nvSpPr>
              <p:spPr>
                <a:xfrm rot="2700000">
                  <a:off x="6084720" y="536940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Oval 183"/>
                <p:cNvSpPr/>
                <p:nvPr/>
              </p:nvSpPr>
              <p:spPr>
                <a:xfrm rot="8100000">
                  <a:off x="6084000" y="5369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0" name="Group 184"/>
            <p:cNvGrpSpPr/>
            <p:nvPr/>
          </p:nvGrpSpPr>
          <p:grpSpPr>
            <a:xfrm>
              <a:off x="6082560" y="5226840"/>
              <a:ext cx="367920" cy="367560"/>
              <a:chOff x="6082560" y="5226840"/>
              <a:chExt cx="367920" cy="367560"/>
            </a:xfrm>
          </p:grpSpPr>
          <p:grpSp>
            <p:nvGrpSpPr>
              <p:cNvPr id="201" name="Group 185"/>
              <p:cNvGrpSpPr/>
              <p:nvPr/>
            </p:nvGrpSpPr>
            <p:grpSpPr>
              <a:xfrm>
                <a:off x="6082560" y="5226840"/>
                <a:ext cx="367920" cy="367560"/>
                <a:chOff x="6082560" y="5226840"/>
                <a:chExt cx="367920" cy="367560"/>
              </a:xfrm>
            </p:grpSpPr>
            <p:sp>
              <p:nvSpPr>
                <p:cNvPr id="202" name="Oval 186"/>
                <p:cNvSpPr/>
                <p:nvPr/>
              </p:nvSpPr>
              <p:spPr>
                <a:xfrm rot="1320000">
                  <a:off x="6084720" y="5369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Oval 187"/>
                <p:cNvSpPr/>
                <p:nvPr/>
              </p:nvSpPr>
              <p:spPr>
                <a:xfrm rot="6720000">
                  <a:off x="6084720" y="536904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Group 188"/>
              <p:cNvGrpSpPr/>
              <p:nvPr/>
            </p:nvGrpSpPr>
            <p:grpSpPr>
              <a:xfrm>
                <a:off x="6082560" y="5227560"/>
                <a:ext cx="366480" cy="366120"/>
                <a:chOff x="6082560" y="5227560"/>
                <a:chExt cx="366480" cy="366120"/>
              </a:xfrm>
            </p:grpSpPr>
            <p:sp>
              <p:nvSpPr>
                <p:cNvPr id="205" name="Oval 189"/>
                <p:cNvSpPr/>
                <p:nvPr/>
              </p:nvSpPr>
              <p:spPr>
                <a:xfrm rot="4020000">
                  <a:off x="6084720" y="536940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Oval 190"/>
                <p:cNvSpPr/>
                <p:nvPr/>
              </p:nvSpPr>
              <p:spPr>
                <a:xfrm rot="9420000">
                  <a:off x="6084000" y="5369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7" name="Oval 191"/>
            <p:cNvSpPr/>
            <p:nvPr/>
          </p:nvSpPr>
          <p:spPr>
            <a:xfrm>
              <a:off x="6206760" y="5357520"/>
              <a:ext cx="118800" cy="10584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Group 192"/>
          <p:cNvGrpSpPr/>
          <p:nvPr/>
        </p:nvGrpSpPr>
        <p:grpSpPr>
          <a:xfrm>
            <a:off x="6657480" y="5587200"/>
            <a:ext cx="367920" cy="367560"/>
            <a:chOff x="6657480" y="5587200"/>
            <a:chExt cx="367920" cy="367560"/>
          </a:xfrm>
        </p:grpSpPr>
        <p:grpSp>
          <p:nvGrpSpPr>
            <p:cNvPr id="209" name="Group 193"/>
            <p:cNvGrpSpPr/>
            <p:nvPr/>
          </p:nvGrpSpPr>
          <p:grpSpPr>
            <a:xfrm>
              <a:off x="6659640" y="5589720"/>
              <a:ext cx="363240" cy="362880"/>
              <a:chOff x="6659640" y="5589720"/>
              <a:chExt cx="363240" cy="362880"/>
            </a:xfrm>
          </p:grpSpPr>
          <p:grpSp>
            <p:nvGrpSpPr>
              <p:cNvPr id="210" name="Group 194"/>
              <p:cNvGrpSpPr/>
              <p:nvPr/>
            </p:nvGrpSpPr>
            <p:grpSpPr>
              <a:xfrm>
                <a:off x="6659640" y="5589720"/>
                <a:ext cx="363240" cy="362880"/>
                <a:chOff x="6659640" y="5589720"/>
                <a:chExt cx="363240" cy="362880"/>
              </a:xfrm>
            </p:grpSpPr>
            <p:sp>
              <p:nvSpPr>
                <p:cNvPr id="211" name="Oval 195"/>
                <p:cNvSpPr/>
                <p:nvPr/>
              </p:nvSpPr>
              <p:spPr>
                <a:xfrm>
                  <a:off x="6659640" y="5729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Oval 196"/>
                <p:cNvSpPr/>
                <p:nvPr/>
              </p:nvSpPr>
              <p:spPr>
                <a:xfrm rot="5400000">
                  <a:off x="6659280" y="572976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Group 197"/>
              <p:cNvGrpSpPr/>
              <p:nvPr/>
            </p:nvGrpSpPr>
            <p:grpSpPr>
              <a:xfrm>
                <a:off x="6683400" y="5613840"/>
                <a:ext cx="315360" cy="315000"/>
                <a:chOff x="6683400" y="5613840"/>
                <a:chExt cx="315360" cy="315000"/>
              </a:xfrm>
            </p:grpSpPr>
            <p:sp>
              <p:nvSpPr>
                <p:cNvPr id="214" name="Oval 198"/>
                <p:cNvSpPr/>
                <p:nvPr/>
              </p:nvSpPr>
              <p:spPr>
                <a:xfrm rot="2700000">
                  <a:off x="6659640" y="572976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Oval 199"/>
                <p:cNvSpPr/>
                <p:nvPr/>
              </p:nvSpPr>
              <p:spPr>
                <a:xfrm rot="8100000">
                  <a:off x="6658920" y="5730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6" name="Group 200"/>
            <p:cNvGrpSpPr/>
            <p:nvPr/>
          </p:nvGrpSpPr>
          <p:grpSpPr>
            <a:xfrm>
              <a:off x="6657480" y="5587200"/>
              <a:ext cx="367920" cy="367560"/>
              <a:chOff x="6657480" y="5587200"/>
              <a:chExt cx="367920" cy="367560"/>
            </a:xfrm>
          </p:grpSpPr>
          <p:grpSp>
            <p:nvGrpSpPr>
              <p:cNvPr id="217" name="Group 201"/>
              <p:cNvGrpSpPr/>
              <p:nvPr/>
            </p:nvGrpSpPr>
            <p:grpSpPr>
              <a:xfrm>
                <a:off x="6657480" y="5587200"/>
                <a:ext cx="367920" cy="367560"/>
                <a:chOff x="6657480" y="5587200"/>
                <a:chExt cx="367920" cy="367560"/>
              </a:xfrm>
            </p:grpSpPr>
            <p:sp>
              <p:nvSpPr>
                <p:cNvPr id="218" name="Oval 202"/>
                <p:cNvSpPr/>
                <p:nvPr/>
              </p:nvSpPr>
              <p:spPr>
                <a:xfrm rot="1320000">
                  <a:off x="6659640" y="5729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Oval 203"/>
                <p:cNvSpPr/>
                <p:nvPr/>
              </p:nvSpPr>
              <p:spPr>
                <a:xfrm rot="6720000">
                  <a:off x="6659640" y="572940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" name="Group 204"/>
              <p:cNvGrpSpPr/>
              <p:nvPr/>
            </p:nvGrpSpPr>
            <p:grpSpPr>
              <a:xfrm>
                <a:off x="6657480" y="5587920"/>
                <a:ext cx="366480" cy="366120"/>
                <a:chOff x="6657480" y="5587920"/>
                <a:chExt cx="366480" cy="366120"/>
              </a:xfrm>
            </p:grpSpPr>
            <p:sp>
              <p:nvSpPr>
                <p:cNvPr id="221" name="Oval 205"/>
                <p:cNvSpPr/>
                <p:nvPr/>
              </p:nvSpPr>
              <p:spPr>
                <a:xfrm rot="4020000">
                  <a:off x="6659640" y="572976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Oval 206"/>
                <p:cNvSpPr/>
                <p:nvPr/>
              </p:nvSpPr>
              <p:spPr>
                <a:xfrm rot="9420000">
                  <a:off x="6658920" y="5729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3" name="Oval 207"/>
            <p:cNvSpPr/>
            <p:nvPr/>
          </p:nvSpPr>
          <p:spPr>
            <a:xfrm>
              <a:off x="6781680" y="5717880"/>
              <a:ext cx="118800" cy="10584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Group 224"/>
          <p:cNvGrpSpPr/>
          <p:nvPr/>
        </p:nvGrpSpPr>
        <p:grpSpPr>
          <a:xfrm>
            <a:off x="7450560" y="5661000"/>
            <a:ext cx="218520" cy="218520"/>
            <a:chOff x="7450560" y="5661000"/>
            <a:chExt cx="218520" cy="218520"/>
          </a:xfrm>
        </p:grpSpPr>
        <p:grpSp>
          <p:nvGrpSpPr>
            <p:cNvPr id="225" name="Group 225"/>
            <p:cNvGrpSpPr/>
            <p:nvPr/>
          </p:nvGrpSpPr>
          <p:grpSpPr>
            <a:xfrm>
              <a:off x="7451640" y="5662440"/>
              <a:ext cx="216000" cy="216000"/>
              <a:chOff x="7451640" y="5662440"/>
              <a:chExt cx="216000" cy="216000"/>
            </a:xfrm>
          </p:grpSpPr>
          <p:grpSp>
            <p:nvGrpSpPr>
              <p:cNvPr id="226" name="Group 226"/>
              <p:cNvGrpSpPr/>
              <p:nvPr/>
            </p:nvGrpSpPr>
            <p:grpSpPr>
              <a:xfrm>
                <a:off x="7451640" y="5662440"/>
                <a:ext cx="216000" cy="216000"/>
                <a:chOff x="7451640" y="5662440"/>
                <a:chExt cx="216000" cy="216000"/>
              </a:xfrm>
            </p:grpSpPr>
            <p:sp>
              <p:nvSpPr>
                <p:cNvPr id="227" name="Oval 227"/>
                <p:cNvSpPr/>
                <p:nvPr/>
              </p:nvSpPr>
              <p:spPr>
                <a:xfrm>
                  <a:off x="7451640" y="57456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Oval 228"/>
                <p:cNvSpPr/>
                <p:nvPr/>
              </p:nvSpPr>
              <p:spPr>
                <a:xfrm rot="5400000">
                  <a:off x="7451640" y="57459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" name="Group 229"/>
              <p:cNvGrpSpPr/>
              <p:nvPr/>
            </p:nvGrpSpPr>
            <p:grpSpPr>
              <a:xfrm>
                <a:off x="7466040" y="5676480"/>
                <a:ext cx="187560" cy="187560"/>
                <a:chOff x="7466040" y="5676480"/>
                <a:chExt cx="187560" cy="187560"/>
              </a:xfrm>
            </p:grpSpPr>
            <p:sp>
              <p:nvSpPr>
                <p:cNvPr id="230" name="Oval 230"/>
                <p:cNvSpPr/>
                <p:nvPr/>
              </p:nvSpPr>
              <p:spPr>
                <a:xfrm rot="2700000">
                  <a:off x="7452000" y="57456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Oval 231"/>
                <p:cNvSpPr/>
                <p:nvPr/>
              </p:nvSpPr>
              <p:spPr>
                <a:xfrm rot="8100000">
                  <a:off x="7451280" y="57459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2" name="Group 232"/>
            <p:cNvGrpSpPr/>
            <p:nvPr/>
          </p:nvGrpSpPr>
          <p:grpSpPr>
            <a:xfrm>
              <a:off x="7450560" y="5661000"/>
              <a:ext cx="218520" cy="218520"/>
              <a:chOff x="7450560" y="5661000"/>
              <a:chExt cx="218520" cy="218520"/>
            </a:xfrm>
          </p:grpSpPr>
          <p:grpSp>
            <p:nvGrpSpPr>
              <p:cNvPr id="233" name="Group 233"/>
              <p:cNvGrpSpPr/>
              <p:nvPr/>
            </p:nvGrpSpPr>
            <p:grpSpPr>
              <a:xfrm>
                <a:off x="7450560" y="5661000"/>
                <a:ext cx="218520" cy="218520"/>
                <a:chOff x="7450560" y="5661000"/>
                <a:chExt cx="218520" cy="218520"/>
              </a:xfrm>
            </p:grpSpPr>
            <p:sp>
              <p:nvSpPr>
                <p:cNvPr id="234" name="Oval 234"/>
                <p:cNvSpPr/>
                <p:nvPr/>
              </p:nvSpPr>
              <p:spPr>
                <a:xfrm rot="1320000">
                  <a:off x="7451640" y="57456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Oval 235"/>
                <p:cNvSpPr/>
                <p:nvPr/>
              </p:nvSpPr>
              <p:spPr>
                <a:xfrm rot="6720000">
                  <a:off x="7451280" y="57456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Group 236"/>
              <p:cNvGrpSpPr/>
              <p:nvPr/>
            </p:nvGrpSpPr>
            <p:grpSpPr>
              <a:xfrm>
                <a:off x="7450920" y="5661360"/>
                <a:ext cx="217800" cy="217800"/>
                <a:chOff x="7450920" y="5661360"/>
                <a:chExt cx="217800" cy="217800"/>
              </a:xfrm>
            </p:grpSpPr>
            <p:sp>
              <p:nvSpPr>
                <p:cNvPr id="237" name="Oval 237"/>
                <p:cNvSpPr/>
                <p:nvPr/>
              </p:nvSpPr>
              <p:spPr>
                <a:xfrm rot="4020000">
                  <a:off x="7452000" y="57456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Oval 238"/>
                <p:cNvSpPr/>
                <p:nvPr/>
              </p:nvSpPr>
              <p:spPr>
                <a:xfrm rot="9420000">
                  <a:off x="7451640" y="57456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9" name="Oval 239"/>
            <p:cNvSpPr/>
            <p:nvPr/>
          </p:nvSpPr>
          <p:spPr>
            <a:xfrm>
              <a:off x="7524000" y="5738760"/>
              <a:ext cx="70560" cy="6300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Group 240"/>
          <p:cNvGrpSpPr/>
          <p:nvPr/>
        </p:nvGrpSpPr>
        <p:grpSpPr>
          <a:xfrm>
            <a:off x="4422240" y="5371200"/>
            <a:ext cx="367920" cy="367920"/>
            <a:chOff x="4422240" y="5371200"/>
            <a:chExt cx="367920" cy="367920"/>
          </a:xfrm>
        </p:grpSpPr>
        <p:grpSp>
          <p:nvGrpSpPr>
            <p:cNvPr id="241" name="Group 241"/>
            <p:cNvGrpSpPr/>
            <p:nvPr/>
          </p:nvGrpSpPr>
          <p:grpSpPr>
            <a:xfrm>
              <a:off x="4424400" y="5373720"/>
              <a:ext cx="363240" cy="363240"/>
              <a:chOff x="4424400" y="5373720"/>
              <a:chExt cx="363240" cy="363240"/>
            </a:xfrm>
          </p:grpSpPr>
          <p:grpSp>
            <p:nvGrpSpPr>
              <p:cNvPr id="242" name="Group 242"/>
              <p:cNvGrpSpPr/>
              <p:nvPr/>
            </p:nvGrpSpPr>
            <p:grpSpPr>
              <a:xfrm>
                <a:off x="4424400" y="5373720"/>
                <a:ext cx="363240" cy="363240"/>
                <a:chOff x="4424400" y="5373720"/>
                <a:chExt cx="363240" cy="363240"/>
              </a:xfrm>
            </p:grpSpPr>
            <p:sp>
              <p:nvSpPr>
                <p:cNvPr id="243" name="Oval 243"/>
                <p:cNvSpPr/>
                <p:nvPr/>
              </p:nvSpPr>
              <p:spPr>
                <a:xfrm>
                  <a:off x="4424400" y="5513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Oval 244"/>
                <p:cNvSpPr/>
                <p:nvPr/>
              </p:nvSpPr>
              <p:spPr>
                <a:xfrm rot="5400000">
                  <a:off x="4424040" y="5514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Group 245"/>
              <p:cNvGrpSpPr/>
              <p:nvPr/>
            </p:nvGrpSpPr>
            <p:grpSpPr>
              <a:xfrm>
                <a:off x="4448160" y="5397840"/>
                <a:ext cx="315360" cy="315000"/>
                <a:chOff x="4448160" y="5397840"/>
                <a:chExt cx="315360" cy="315000"/>
              </a:xfrm>
            </p:grpSpPr>
            <p:sp>
              <p:nvSpPr>
                <p:cNvPr id="246" name="Oval 246"/>
                <p:cNvSpPr/>
                <p:nvPr/>
              </p:nvSpPr>
              <p:spPr>
                <a:xfrm rot="2700000">
                  <a:off x="4424400" y="5514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Oval 247"/>
                <p:cNvSpPr/>
                <p:nvPr/>
              </p:nvSpPr>
              <p:spPr>
                <a:xfrm rot="8100000">
                  <a:off x="4423680" y="5514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8" name="Group 248"/>
            <p:cNvGrpSpPr/>
            <p:nvPr/>
          </p:nvGrpSpPr>
          <p:grpSpPr>
            <a:xfrm>
              <a:off x="4422240" y="5371200"/>
              <a:ext cx="367920" cy="367920"/>
              <a:chOff x="4422240" y="5371200"/>
              <a:chExt cx="367920" cy="367920"/>
            </a:xfrm>
          </p:grpSpPr>
          <p:grpSp>
            <p:nvGrpSpPr>
              <p:cNvPr id="249" name="Group 249"/>
              <p:cNvGrpSpPr/>
              <p:nvPr/>
            </p:nvGrpSpPr>
            <p:grpSpPr>
              <a:xfrm>
                <a:off x="4422240" y="5371200"/>
                <a:ext cx="367920" cy="367920"/>
                <a:chOff x="4422240" y="5371200"/>
                <a:chExt cx="367920" cy="367920"/>
              </a:xfrm>
            </p:grpSpPr>
            <p:sp>
              <p:nvSpPr>
                <p:cNvPr id="250" name="Oval 250"/>
                <p:cNvSpPr/>
                <p:nvPr/>
              </p:nvSpPr>
              <p:spPr>
                <a:xfrm rot="1320000">
                  <a:off x="4424400" y="5513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Oval 251"/>
                <p:cNvSpPr/>
                <p:nvPr/>
              </p:nvSpPr>
              <p:spPr>
                <a:xfrm rot="6720000">
                  <a:off x="4424040" y="5513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Group 252"/>
              <p:cNvGrpSpPr/>
              <p:nvPr/>
            </p:nvGrpSpPr>
            <p:grpSpPr>
              <a:xfrm>
                <a:off x="4422600" y="5372280"/>
                <a:ext cx="366480" cy="366480"/>
                <a:chOff x="4422600" y="5372280"/>
                <a:chExt cx="366480" cy="366480"/>
              </a:xfrm>
            </p:grpSpPr>
            <p:sp>
              <p:nvSpPr>
                <p:cNvPr id="253" name="Oval 253"/>
                <p:cNvSpPr/>
                <p:nvPr/>
              </p:nvSpPr>
              <p:spPr>
                <a:xfrm rot="4020000">
                  <a:off x="4424400" y="5514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Oval 254"/>
                <p:cNvSpPr/>
                <p:nvPr/>
              </p:nvSpPr>
              <p:spPr>
                <a:xfrm rot="9420000">
                  <a:off x="4424040" y="5513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5" name="Oval 255"/>
            <p:cNvSpPr/>
            <p:nvPr/>
          </p:nvSpPr>
          <p:spPr>
            <a:xfrm>
              <a:off x="4546440" y="5501880"/>
              <a:ext cx="118800" cy="105840"/>
            </a:xfrm>
            <a:prstGeom prst="ellips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256"/>
          <p:cNvGrpSpPr/>
          <p:nvPr/>
        </p:nvGrpSpPr>
        <p:grpSpPr>
          <a:xfrm>
            <a:off x="3990240" y="5514120"/>
            <a:ext cx="367920" cy="367920"/>
            <a:chOff x="3990240" y="5514120"/>
            <a:chExt cx="367920" cy="367920"/>
          </a:xfrm>
        </p:grpSpPr>
        <p:grpSp>
          <p:nvGrpSpPr>
            <p:cNvPr id="257" name="Group 257"/>
            <p:cNvGrpSpPr/>
            <p:nvPr/>
          </p:nvGrpSpPr>
          <p:grpSpPr>
            <a:xfrm>
              <a:off x="3992400" y="5516640"/>
              <a:ext cx="363240" cy="363240"/>
              <a:chOff x="3992400" y="5516640"/>
              <a:chExt cx="363240" cy="363240"/>
            </a:xfrm>
          </p:grpSpPr>
          <p:grpSp>
            <p:nvGrpSpPr>
              <p:cNvPr id="258" name="Group 258"/>
              <p:cNvGrpSpPr/>
              <p:nvPr/>
            </p:nvGrpSpPr>
            <p:grpSpPr>
              <a:xfrm>
                <a:off x="3992400" y="5516640"/>
                <a:ext cx="363240" cy="363240"/>
                <a:chOff x="3992400" y="5516640"/>
                <a:chExt cx="363240" cy="363240"/>
              </a:xfrm>
            </p:grpSpPr>
            <p:sp>
              <p:nvSpPr>
                <p:cNvPr id="259" name="Oval 259"/>
                <p:cNvSpPr/>
                <p:nvPr/>
              </p:nvSpPr>
              <p:spPr>
                <a:xfrm>
                  <a:off x="3992400" y="56566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Oval 260"/>
                <p:cNvSpPr/>
                <p:nvPr/>
              </p:nvSpPr>
              <p:spPr>
                <a:xfrm rot="5400000">
                  <a:off x="3992040" y="5657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Group 261"/>
              <p:cNvGrpSpPr/>
              <p:nvPr/>
            </p:nvGrpSpPr>
            <p:grpSpPr>
              <a:xfrm>
                <a:off x="4016160" y="5540760"/>
                <a:ext cx="315360" cy="315000"/>
                <a:chOff x="4016160" y="5540760"/>
                <a:chExt cx="315360" cy="315000"/>
              </a:xfrm>
            </p:grpSpPr>
            <p:sp>
              <p:nvSpPr>
                <p:cNvPr id="262" name="Oval 262"/>
                <p:cNvSpPr/>
                <p:nvPr/>
              </p:nvSpPr>
              <p:spPr>
                <a:xfrm rot="2700000">
                  <a:off x="3992400" y="5657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Oval 263"/>
                <p:cNvSpPr/>
                <p:nvPr/>
              </p:nvSpPr>
              <p:spPr>
                <a:xfrm rot="8100000">
                  <a:off x="3991680" y="5657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4" name="Group 264"/>
            <p:cNvGrpSpPr/>
            <p:nvPr/>
          </p:nvGrpSpPr>
          <p:grpSpPr>
            <a:xfrm>
              <a:off x="3990240" y="5514120"/>
              <a:ext cx="367920" cy="367920"/>
              <a:chOff x="3990240" y="5514120"/>
              <a:chExt cx="367920" cy="367920"/>
            </a:xfrm>
          </p:grpSpPr>
          <p:grpSp>
            <p:nvGrpSpPr>
              <p:cNvPr id="265" name="Group 265"/>
              <p:cNvGrpSpPr/>
              <p:nvPr/>
            </p:nvGrpSpPr>
            <p:grpSpPr>
              <a:xfrm>
                <a:off x="3990240" y="5514120"/>
                <a:ext cx="367920" cy="367920"/>
                <a:chOff x="3990240" y="5514120"/>
                <a:chExt cx="367920" cy="367920"/>
              </a:xfrm>
            </p:grpSpPr>
            <p:sp>
              <p:nvSpPr>
                <p:cNvPr id="266" name="Oval 266"/>
                <p:cNvSpPr/>
                <p:nvPr/>
              </p:nvSpPr>
              <p:spPr>
                <a:xfrm rot="1320000">
                  <a:off x="3992400" y="56563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Oval 267"/>
                <p:cNvSpPr/>
                <p:nvPr/>
              </p:nvSpPr>
              <p:spPr>
                <a:xfrm rot="6720000">
                  <a:off x="3992040" y="56566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" name="Group 268"/>
              <p:cNvGrpSpPr/>
              <p:nvPr/>
            </p:nvGrpSpPr>
            <p:grpSpPr>
              <a:xfrm>
                <a:off x="3990600" y="5515200"/>
                <a:ext cx="366480" cy="366480"/>
                <a:chOff x="3990600" y="5515200"/>
                <a:chExt cx="366480" cy="366480"/>
              </a:xfrm>
            </p:grpSpPr>
            <p:sp>
              <p:nvSpPr>
                <p:cNvPr id="269" name="Oval 269"/>
                <p:cNvSpPr/>
                <p:nvPr/>
              </p:nvSpPr>
              <p:spPr>
                <a:xfrm rot="4020000">
                  <a:off x="3992400" y="5657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Oval 270"/>
                <p:cNvSpPr/>
                <p:nvPr/>
              </p:nvSpPr>
              <p:spPr>
                <a:xfrm rot="9420000">
                  <a:off x="3992040" y="56566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71" name="Oval 271"/>
            <p:cNvSpPr/>
            <p:nvPr/>
          </p:nvSpPr>
          <p:spPr>
            <a:xfrm>
              <a:off x="4114440" y="5644800"/>
              <a:ext cx="118800" cy="10584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Group 288"/>
          <p:cNvGrpSpPr/>
          <p:nvPr/>
        </p:nvGrpSpPr>
        <p:grpSpPr>
          <a:xfrm>
            <a:off x="3705480" y="5805720"/>
            <a:ext cx="218160" cy="218160"/>
            <a:chOff x="3705480" y="5805720"/>
            <a:chExt cx="218160" cy="218160"/>
          </a:xfrm>
        </p:grpSpPr>
        <p:grpSp>
          <p:nvGrpSpPr>
            <p:cNvPr id="273" name="Group 289"/>
            <p:cNvGrpSpPr/>
            <p:nvPr/>
          </p:nvGrpSpPr>
          <p:grpSpPr>
            <a:xfrm>
              <a:off x="3706920" y="5807160"/>
              <a:ext cx="215640" cy="215640"/>
              <a:chOff x="3706920" y="5807160"/>
              <a:chExt cx="215640" cy="215640"/>
            </a:xfrm>
          </p:grpSpPr>
          <p:grpSp>
            <p:nvGrpSpPr>
              <p:cNvPr id="274" name="Group 290"/>
              <p:cNvGrpSpPr/>
              <p:nvPr/>
            </p:nvGrpSpPr>
            <p:grpSpPr>
              <a:xfrm>
                <a:off x="3706920" y="5807160"/>
                <a:ext cx="215640" cy="215640"/>
                <a:chOff x="3706920" y="5807160"/>
                <a:chExt cx="215640" cy="215640"/>
              </a:xfrm>
            </p:grpSpPr>
            <p:sp>
              <p:nvSpPr>
                <p:cNvPr id="275" name="Oval 291"/>
                <p:cNvSpPr/>
                <p:nvPr/>
              </p:nvSpPr>
              <p:spPr>
                <a:xfrm>
                  <a:off x="3706920" y="58903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Oval 292"/>
                <p:cNvSpPr/>
                <p:nvPr/>
              </p:nvSpPr>
              <p:spPr>
                <a:xfrm rot="5400000">
                  <a:off x="3706560" y="58903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7" name="Group 293"/>
              <p:cNvGrpSpPr/>
              <p:nvPr/>
            </p:nvGrpSpPr>
            <p:grpSpPr>
              <a:xfrm>
                <a:off x="3720960" y="5821200"/>
                <a:ext cx="187560" cy="187560"/>
                <a:chOff x="3720960" y="5821200"/>
                <a:chExt cx="187560" cy="187560"/>
              </a:xfrm>
            </p:grpSpPr>
            <p:sp>
              <p:nvSpPr>
                <p:cNvPr id="278" name="Oval 294"/>
                <p:cNvSpPr/>
                <p:nvPr/>
              </p:nvSpPr>
              <p:spPr>
                <a:xfrm rot="2700000">
                  <a:off x="3706920" y="588996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Oval 295"/>
                <p:cNvSpPr/>
                <p:nvPr/>
              </p:nvSpPr>
              <p:spPr>
                <a:xfrm rot="8100000">
                  <a:off x="3706560" y="58903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0" name="Group 296"/>
            <p:cNvGrpSpPr/>
            <p:nvPr/>
          </p:nvGrpSpPr>
          <p:grpSpPr>
            <a:xfrm>
              <a:off x="3705480" y="5805720"/>
              <a:ext cx="218160" cy="218160"/>
              <a:chOff x="3705480" y="5805720"/>
              <a:chExt cx="218160" cy="218160"/>
            </a:xfrm>
          </p:grpSpPr>
          <p:grpSp>
            <p:nvGrpSpPr>
              <p:cNvPr id="281" name="Group 297"/>
              <p:cNvGrpSpPr/>
              <p:nvPr/>
            </p:nvGrpSpPr>
            <p:grpSpPr>
              <a:xfrm>
                <a:off x="3705480" y="5805720"/>
                <a:ext cx="218160" cy="218160"/>
                <a:chOff x="3705480" y="5805720"/>
                <a:chExt cx="218160" cy="218160"/>
              </a:xfrm>
            </p:grpSpPr>
            <p:sp>
              <p:nvSpPr>
                <p:cNvPr id="282" name="Oval 298"/>
                <p:cNvSpPr/>
                <p:nvPr/>
              </p:nvSpPr>
              <p:spPr>
                <a:xfrm rot="1320000">
                  <a:off x="3706560" y="58903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Oval 299"/>
                <p:cNvSpPr/>
                <p:nvPr/>
              </p:nvSpPr>
              <p:spPr>
                <a:xfrm rot="6720000">
                  <a:off x="3706560" y="58903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Group 300"/>
              <p:cNvGrpSpPr/>
              <p:nvPr/>
            </p:nvGrpSpPr>
            <p:grpSpPr>
              <a:xfrm>
                <a:off x="3705480" y="5806080"/>
                <a:ext cx="217800" cy="217800"/>
                <a:chOff x="3705480" y="5806080"/>
                <a:chExt cx="217800" cy="217800"/>
              </a:xfrm>
            </p:grpSpPr>
            <p:sp>
              <p:nvSpPr>
                <p:cNvPr id="285" name="Oval 301"/>
                <p:cNvSpPr/>
                <p:nvPr/>
              </p:nvSpPr>
              <p:spPr>
                <a:xfrm rot="4020000">
                  <a:off x="3706560" y="58903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Oval 302"/>
                <p:cNvSpPr/>
                <p:nvPr/>
              </p:nvSpPr>
              <p:spPr>
                <a:xfrm rot="9420000">
                  <a:off x="3706560" y="58903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87" name="Oval 303"/>
            <p:cNvSpPr/>
            <p:nvPr/>
          </p:nvSpPr>
          <p:spPr>
            <a:xfrm>
              <a:off x="3779280" y="5883120"/>
              <a:ext cx="70200" cy="6300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Group 304"/>
          <p:cNvGrpSpPr/>
          <p:nvPr/>
        </p:nvGrpSpPr>
        <p:grpSpPr>
          <a:xfrm>
            <a:off x="8458560" y="5300640"/>
            <a:ext cx="218520" cy="218520"/>
            <a:chOff x="8458560" y="5300640"/>
            <a:chExt cx="218520" cy="218520"/>
          </a:xfrm>
        </p:grpSpPr>
        <p:grpSp>
          <p:nvGrpSpPr>
            <p:cNvPr id="289" name="Group 305"/>
            <p:cNvGrpSpPr/>
            <p:nvPr/>
          </p:nvGrpSpPr>
          <p:grpSpPr>
            <a:xfrm>
              <a:off x="8459640" y="5302080"/>
              <a:ext cx="216000" cy="216000"/>
              <a:chOff x="8459640" y="5302080"/>
              <a:chExt cx="216000" cy="216000"/>
            </a:xfrm>
          </p:grpSpPr>
          <p:grpSp>
            <p:nvGrpSpPr>
              <p:cNvPr id="290" name="Group 306"/>
              <p:cNvGrpSpPr/>
              <p:nvPr/>
            </p:nvGrpSpPr>
            <p:grpSpPr>
              <a:xfrm>
                <a:off x="8459640" y="5302080"/>
                <a:ext cx="216000" cy="216000"/>
                <a:chOff x="8459640" y="5302080"/>
                <a:chExt cx="216000" cy="216000"/>
              </a:xfrm>
            </p:grpSpPr>
            <p:sp>
              <p:nvSpPr>
                <p:cNvPr id="291" name="Oval 307"/>
                <p:cNvSpPr/>
                <p:nvPr/>
              </p:nvSpPr>
              <p:spPr>
                <a:xfrm>
                  <a:off x="8459640" y="53852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Oval 308"/>
                <p:cNvSpPr/>
                <p:nvPr/>
              </p:nvSpPr>
              <p:spPr>
                <a:xfrm rot="5400000">
                  <a:off x="8459640" y="53856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Group 309"/>
              <p:cNvGrpSpPr/>
              <p:nvPr/>
            </p:nvGrpSpPr>
            <p:grpSpPr>
              <a:xfrm>
                <a:off x="8474040" y="5316120"/>
                <a:ext cx="187560" cy="187560"/>
                <a:chOff x="8474040" y="5316120"/>
                <a:chExt cx="187560" cy="187560"/>
              </a:xfrm>
            </p:grpSpPr>
            <p:sp>
              <p:nvSpPr>
                <p:cNvPr id="294" name="Oval 310"/>
                <p:cNvSpPr/>
                <p:nvPr/>
              </p:nvSpPr>
              <p:spPr>
                <a:xfrm rot="2700000">
                  <a:off x="8460000" y="53852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Oval 311"/>
                <p:cNvSpPr/>
                <p:nvPr/>
              </p:nvSpPr>
              <p:spPr>
                <a:xfrm rot="8100000">
                  <a:off x="8459280" y="53856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6" name="Group 312"/>
            <p:cNvGrpSpPr/>
            <p:nvPr/>
          </p:nvGrpSpPr>
          <p:grpSpPr>
            <a:xfrm>
              <a:off x="8458560" y="5300640"/>
              <a:ext cx="218520" cy="218520"/>
              <a:chOff x="8458560" y="5300640"/>
              <a:chExt cx="218520" cy="218520"/>
            </a:xfrm>
          </p:grpSpPr>
          <p:grpSp>
            <p:nvGrpSpPr>
              <p:cNvPr id="297" name="Group 313"/>
              <p:cNvGrpSpPr/>
              <p:nvPr/>
            </p:nvGrpSpPr>
            <p:grpSpPr>
              <a:xfrm>
                <a:off x="8458560" y="5300640"/>
                <a:ext cx="218520" cy="218520"/>
                <a:chOff x="8458560" y="5300640"/>
                <a:chExt cx="218520" cy="218520"/>
              </a:xfrm>
            </p:grpSpPr>
            <p:sp>
              <p:nvSpPr>
                <p:cNvPr id="298" name="Oval 314"/>
                <p:cNvSpPr/>
                <p:nvPr/>
              </p:nvSpPr>
              <p:spPr>
                <a:xfrm rot="1320000">
                  <a:off x="8459640" y="53852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Oval 315"/>
                <p:cNvSpPr/>
                <p:nvPr/>
              </p:nvSpPr>
              <p:spPr>
                <a:xfrm rot="6720000">
                  <a:off x="8459280" y="53852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Group 316"/>
              <p:cNvGrpSpPr/>
              <p:nvPr/>
            </p:nvGrpSpPr>
            <p:grpSpPr>
              <a:xfrm>
                <a:off x="8458920" y="5301000"/>
                <a:ext cx="217800" cy="217800"/>
                <a:chOff x="8458920" y="5301000"/>
                <a:chExt cx="217800" cy="217800"/>
              </a:xfrm>
            </p:grpSpPr>
            <p:sp>
              <p:nvSpPr>
                <p:cNvPr id="301" name="Oval 317"/>
                <p:cNvSpPr/>
                <p:nvPr/>
              </p:nvSpPr>
              <p:spPr>
                <a:xfrm rot="4020000">
                  <a:off x="8460000" y="53852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Oval 318"/>
                <p:cNvSpPr/>
                <p:nvPr/>
              </p:nvSpPr>
              <p:spPr>
                <a:xfrm rot="9420000">
                  <a:off x="8459640" y="53852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3" name="Oval 319"/>
            <p:cNvSpPr/>
            <p:nvPr/>
          </p:nvSpPr>
          <p:spPr>
            <a:xfrm>
              <a:off x="8532000" y="5378400"/>
              <a:ext cx="70560" cy="63000"/>
            </a:xfrm>
            <a:prstGeom prst="ellips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Group 320"/>
          <p:cNvGrpSpPr/>
          <p:nvPr/>
        </p:nvGrpSpPr>
        <p:grpSpPr>
          <a:xfrm>
            <a:off x="5145120" y="5445360"/>
            <a:ext cx="218520" cy="218160"/>
            <a:chOff x="5145120" y="5445360"/>
            <a:chExt cx="218520" cy="218160"/>
          </a:xfrm>
        </p:grpSpPr>
        <p:grpSp>
          <p:nvGrpSpPr>
            <p:cNvPr id="305" name="Group 321"/>
            <p:cNvGrpSpPr/>
            <p:nvPr/>
          </p:nvGrpSpPr>
          <p:grpSpPr>
            <a:xfrm>
              <a:off x="5146560" y="5446800"/>
              <a:ext cx="216000" cy="215640"/>
              <a:chOff x="5146560" y="5446800"/>
              <a:chExt cx="216000" cy="215640"/>
            </a:xfrm>
          </p:grpSpPr>
          <p:grpSp>
            <p:nvGrpSpPr>
              <p:cNvPr id="306" name="Group 322"/>
              <p:cNvGrpSpPr/>
              <p:nvPr/>
            </p:nvGrpSpPr>
            <p:grpSpPr>
              <a:xfrm>
                <a:off x="5146560" y="5446800"/>
                <a:ext cx="216000" cy="215640"/>
                <a:chOff x="5146560" y="5446800"/>
                <a:chExt cx="216000" cy="215640"/>
              </a:xfrm>
            </p:grpSpPr>
            <p:sp>
              <p:nvSpPr>
                <p:cNvPr id="307" name="Oval 323"/>
                <p:cNvSpPr/>
                <p:nvPr/>
              </p:nvSpPr>
              <p:spPr>
                <a:xfrm>
                  <a:off x="5146560" y="55299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Oval 324"/>
                <p:cNvSpPr/>
                <p:nvPr/>
              </p:nvSpPr>
              <p:spPr>
                <a:xfrm rot="5400000">
                  <a:off x="5146560" y="552996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Group 325"/>
              <p:cNvGrpSpPr/>
              <p:nvPr/>
            </p:nvGrpSpPr>
            <p:grpSpPr>
              <a:xfrm>
                <a:off x="5160960" y="5460840"/>
                <a:ext cx="187560" cy="187200"/>
                <a:chOff x="5160960" y="5460840"/>
                <a:chExt cx="187560" cy="187200"/>
              </a:xfrm>
            </p:grpSpPr>
            <p:sp>
              <p:nvSpPr>
                <p:cNvPr id="310" name="Oval 326"/>
                <p:cNvSpPr/>
                <p:nvPr/>
              </p:nvSpPr>
              <p:spPr>
                <a:xfrm rot="2700000">
                  <a:off x="5146920" y="552960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Oval 327"/>
                <p:cNvSpPr/>
                <p:nvPr/>
              </p:nvSpPr>
              <p:spPr>
                <a:xfrm rot="8100000">
                  <a:off x="5146200" y="55299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2" name="Group 328"/>
            <p:cNvGrpSpPr/>
            <p:nvPr/>
          </p:nvGrpSpPr>
          <p:grpSpPr>
            <a:xfrm>
              <a:off x="5145120" y="5445360"/>
              <a:ext cx="218520" cy="218160"/>
              <a:chOff x="5145120" y="5445360"/>
              <a:chExt cx="218520" cy="218160"/>
            </a:xfrm>
          </p:grpSpPr>
          <p:grpSp>
            <p:nvGrpSpPr>
              <p:cNvPr id="313" name="Group 329"/>
              <p:cNvGrpSpPr/>
              <p:nvPr/>
            </p:nvGrpSpPr>
            <p:grpSpPr>
              <a:xfrm>
                <a:off x="5145120" y="5445360"/>
                <a:ext cx="218520" cy="218160"/>
                <a:chOff x="5145120" y="5445360"/>
                <a:chExt cx="218520" cy="218160"/>
              </a:xfrm>
            </p:grpSpPr>
            <p:sp>
              <p:nvSpPr>
                <p:cNvPr id="314" name="Oval 330"/>
                <p:cNvSpPr/>
                <p:nvPr/>
              </p:nvSpPr>
              <p:spPr>
                <a:xfrm rot="1320000">
                  <a:off x="5146200" y="55299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Oval 331"/>
                <p:cNvSpPr/>
                <p:nvPr/>
              </p:nvSpPr>
              <p:spPr>
                <a:xfrm rot="6720000">
                  <a:off x="5146560" y="552996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Group 332"/>
              <p:cNvGrpSpPr/>
              <p:nvPr/>
            </p:nvGrpSpPr>
            <p:grpSpPr>
              <a:xfrm>
                <a:off x="5145840" y="5445720"/>
                <a:ext cx="217800" cy="217800"/>
                <a:chOff x="5145840" y="5445720"/>
                <a:chExt cx="217800" cy="217800"/>
              </a:xfrm>
            </p:grpSpPr>
            <p:sp>
              <p:nvSpPr>
                <p:cNvPr id="317" name="Oval 333"/>
                <p:cNvSpPr/>
                <p:nvPr/>
              </p:nvSpPr>
              <p:spPr>
                <a:xfrm rot="4020000">
                  <a:off x="5146560" y="552996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Oval 334"/>
                <p:cNvSpPr/>
                <p:nvPr/>
              </p:nvSpPr>
              <p:spPr>
                <a:xfrm rot="9420000">
                  <a:off x="5146560" y="55296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19" name="Oval 335"/>
            <p:cNvSpPr/>
            <p:nvPr/>
          </p:nvSpPr>
          <p:spPr>
            <a:xfrm>
              <a:off x="5218920" y="5522760"/>
              <a:ext cx="70560" cy="63000"/>
            </a:xfrm>
            <a:prstGeom prst="ellipse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336"/>
          <p:cNvGrpSpPr/>
          <p:nvPr/>
        </p:nvGrpSpPr>
        <p:grpSpPr>
          <a:xfrm>
            <a:off x="8098200" y="5229360"/>
            <a:ext cx="218520" cy="218520"/>
            <a:chOff x="8098200" y="5229360"/>
            <a:chExt cx="218520" cy="218520"/>
          </a:xfrm>
        </p:grpSpPr>
        <p:grpSp>
          <p:nvGrpSpPr>
            <p:cNvPr id="321" name="Group 337"/>
            <p:cNvGrpSpPr/>
            <p:nvPr/>
          </p:nvGrpSpPr>
          <p:grpSpPr>
            <a:xfrm>
              <a:off x="8099280" y="5230800"/>
              <a:ext cx="216000" cy="216000"/>
              <a:chOff x="8099280" y="5230800"/>
              <a:chExt cx="216000" cy="216000"/>
            </a:xfrm>
          </p:grpSpPr>
          <p:grpSp>
            <p:nvGrpSpPr>
              <p:cNvPr id="322" name="Group 338"/>
              <p:cNvGrpSpPr/>
              <p:nvPr/>
            </p:nvGrpSpPr>
            <p:grpSpPr>
              <a:xfrm>
                <a:off x="8099280" y="5230800"/>
                <a:ext cx="216000" cy="216000"/>
                <a:chOff x="8099280" y="5230800"/>
                <a:chExt cx="216000" cy="216000"/>
              </a:xfrm>
            </p:grpSpPr>
            <p:sp>
              <p:nvSpPr>
                <p:cNvPr id="323" name="Oval 339"/>
                <p:cNvSpPr/>
                <p:nvPr/>
              </p:nvSpPr>
              <p:spPr>
                <a:xfrm>
                  <a:off x="8099280" y="53139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Oval 340"/>
                <p:cNvSpPr/>
                <p:nvPr/>
              </p:nvSpPr>
              <p:spPr>
                <a:xfrm rot="5400000">
                  <a:off x="8099280" y="53143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Group 341"/>
              <p:cNvGrpSpPr/>
              <p:nvPr/>
            </p:nvGrpSpPr>
            <p:grpSpPr>
              <a:xfrm>
                <a:off x="8113680" y="5244840"/>
                <a:ext cx="187560" cy="187560"/>
                <a:chOff x="8113680" y="5244840"/>
                <a:chExt cx="187560" cy="187560"/>
              </a:xfrm>
            </p:grpSpPr>
            <p:sp>
              <p:nvSpPr>
                <p:cNvPr id="326" name="Oval 342"/>
                <p:cNvSpPr/>
                <p:nvPr/>
              </p:nvSpPr>
              <p:spPr>
                <a:xfrm rot="2700000">
                  <a:off x="8099640" y="53139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Oval 343"/>
                <p:cNvSpPr/>
                <p:nvPr/>
              </p:nvSpPr>
              <p:spPr>
                <a:xfrm rot="8100000">
                  <a:off x="8098920" y="53143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8" name="Group 344"/>
            <p:cNvGrpSpPr/>
            <p:nvPr/>
          </p:nvGrpSpPr>
          <p:grpSpPr>
            <a:xfrm>
              <a:off x="8098200" y="5229360"/>
              <a:ext cx="218520" cy="218520"/>
              <a:chOff x="8098200" y="5229360"/>
              <a:chExt cx="218520" cy="218520"/>
            </a:xfrm>
          </p:grpSpPr>
          <p:grpSp>
            <p:nvGrpSpPr>
              <p:cNvPr id="329" name="Group 345"/>
              <p:cNvGrpSpPr/>
              <p:nvPr/>
            </p:nvGrpSpPr>
            <p:grpSpPr>
              <a:xfrm>
                <a:off x="8098200" y="5229360"/>
                <a:ext cx="218520" cy="218520"/>
                <a:chOff x="8098200" y="5229360"/>
                <a:chExt cx="218520" cy="218520"/>
              </a:xfrm>
            </p:grpSpPr>
            <p:sp>
              <p:nvSpPr>
                <p:cNvPr id="330" name="Oval 346"/>
                <p:cNvSpPr/>
                <p:nvPr/>
              </p:nvSpPr>
              <p:spPr>
                <a:xfrm rot="1320000">
                  <a:off x="8099280" y="53139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Oval 347"/>
                <p:cNvSpPr/>
                <p:nvPr/>
              </p:nvSpPr>
              <p:spPr>
                <a:xfrm rot="6720000">
                  <a:off x="8098920" y="53139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" name="Group 348"/>
              <p:cNvGrpSpPr/>
              <p:nvPr/>
            </p:nvGrpSpPr>
            <p:grpSpPr>
              <a:xfrm>
                <a:off x="8098560" y="5229720"/>
                <a:ext cx="217800" cy="217800"/>
                <a:chOff x="8098560" y="5229720"/>
                <a:chExt cx="217800" cy="217800"/>
              </a:xfrm>
            </p:grpSpPr>
            <p:sp>
              <p:nvSpPr>
                <p:cNvPr id="333" name="Oval 349"/>
                <p:cNvSpPr/>
                <p:nvPr/>
              </p:nvSpPr>
              <p:spPr>
                <a:xfrm rot="4020000">
                  <a:off x="8099640" y="53139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Oval 350"/>
                <p:cNvSpPr/>
                <p:nvPr/>
              </p:nvSpPr>
              <p:spPr>
                <a:xfrm rot="9420000">
                  <a:off x="8099280" y="53139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35" name="Oval 351"/>
            <p:cNvSpPr/>
            <p:nvPr/>
          </p:nvSpPr>
          <p:spPr>
            <a:xfrm>
              <a:off x="8171640" y="5307120"/>
              <a:ext cx="70560" cy="63000"/>
            </a:xfrm>
            <a:prstGeom prst="ellipse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Group 352"/>
          <p:cNvGrpSpPr/>
          <p:nvPr/>
        </p:nvGrpSpPr>
        <p:grpSpPr>
          <a:xfrm>
            <a:off x="5650200" y="5372280"/>
            <a:ext cx="218520" cy="218520"/>
            <a:chOff x="5650200" y="5372280"/>
            <a:chExt cx="218520" cy="218520"/>
          </a:xfrm>
        </p:grpSpPr>
        <p:grpSp>
          <p:nvGrpSpPr>
            <p:cNvPr id="337" name="Group 353"/>
            <p:cNvGrpSpPr/>
            <p:nvPr/>
          </p:nvGrpSpPr>
          <p:grpSpPr>
            <a:xfrm>
              <a:off x="5651640" y="5373720"/>
              <a:ext cx="215640" cy="216000"/>
              <a:chOff x="5651640" y="5373720"/>
              <a:chExt cx="215640" cy="216000"/>
            </a:xfrm>
          </p:grpSpPr>
          <p:grpSp>
            <p:nvGrpSpPr>
              <p:cNvPr id="338" name="Group 354"/>
              <p:cNvGrpSpPr/>
              <p:nvPr/>
            </p:nvGrpSpPr>
            <p:grpSpPr>
              <a:xfrm>
                <a:off x="5651640" y="5373720"/>
                <a:ext cx="215640" cy="216000"/>
                <a:chOff x="5651640" y="5373720"/>
                <a:chExt cx="215640" cy="216000"/>
              </a:xfrm>
            </p:grpSpPr>
            <p:sp>
              <p:nvSpPr>
                <p:cNvPr id="339" name="Oval 355"/>
                <p:cNvSpPr/>
                <p:nvPr/>
              </p:nvSpPr>
              <p:spPr>
                <a:xfrm>
                  <a:off x="5651640" y="545688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Oval 356"/>
                <p:cNvSpPr/>
                <p:nvPr/>
              </p:nvSpPr>
              <p:spPr>
                <a:xfrm rot="5400000">
                  <a:off x="5651280" y="54572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1" name="Group 357"/>
              <p:cNvGrpSpPr/>
              <p:nvPr/>
            </p:nvGrpSpPr>
            <p:grpSpPr>
              <a:xfrm>
                <a:off x="5665680" y="5388120"/>
                <a:ext cx="187200" cy="187560"/>
                <a:chOff x="5665680" y="5388120"/>
                <a:chExt cx="187200" cy="187560"/>
              </a:xfrm>
            </p:grpSpPr>
            <p:sp>
              <p:nvSpPr>
                <p:cNvPr id="342" name="Oval 358"/>
                <p:cNvSpPr/>
                <p:nvPr/>
              </p:nvSpPr>
              <p:spPr>
                <a:xfrm rot="2700000">
                  <a:off x="5651280" y="54572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Oval 359"/>
                <p:cNvSpPr/>
                <p:nvPr/>
              </p:nvSpPr>
              <p:spPr>
                <a:xfrm rot="8100000">
                  <a:off x="5651280" y="545724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4" name="Group 360"/>
            <p:cNvGrpSpPr/>
            <p:nvPr/>
          </p:nvGrpSpPr>
          <p:grpSpPr>
            <a:xfrm>
              <a:off x="5650200" y="5372280"/>
              <a:ext cx="218520" cy="218520"/>
              <a:chOff x="5650200" y="5372280"/>
              <a:chExt cx="218520" cy="218520"/>
            </a:xfrm>
          </p:grpSpPr>
          <p:grpSp>
            <p:nvGrpSpPr>
              <p:cNvPr id="345" name="Group 361"/>
              <p:cNvGrpSpPr/>
              <p:nvPr/>
            </p:nvGrpSpPr>
            <p:grpSpPr>
              <a:xfrm>
                <a:off x="5650560" y="5372280"/>
                <a:ext cx="218160" cy="218520"/>
                <a:chOff x="5650560" y="5372280"/>
                <a:chExt cx="218160" cy="218520"/>
              </a:xfrm>
            </p:grpSpPr>
            <p:sp>
              <p:nvSpPr>
                <p:cNvPr id="346" name="Oval 362"/>
                <p:cNvSpPr/>
                <p:nvPr/>
              </p:nvSpPr>
              <p:spPr>
                <a:xfrm rot="1320000">
                  <a:off x="5651640" y="545688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Oval 363"/>
                <p:cNvSpPr/>
                <p:nvPr/>
              </p:nvSpPr>
              <p:spPr>
                <a:xfrm rot="6720000">
                  <a:off x="5650920" y="545688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8" name="Group 364"/>
              <p:cNvGrpSpPr/>
              <p:nvPr/>
            </p:nvGrpSpPr>
            <p:grpSpPr>
              <a:xfrm>
                <a:off x="5650200" y="5372640"/>
                <a:ext cx="217800" cy="217800"/>
                <a:chOff x="5650200" y="5372640"/>
                <a:chExt cx="217800" cy="217800"/>
              </a:xfrm>
            </p:grpSpPr>
            <p:sp>
              <p:nvSpPr>
                <p:cNvPr id="349" name="Oval 365"/>
                <p:cNvSpPr/>
                <p:nvPr/>
              </p:nvSpPr>
              <p:spPr>
                <a:xfrm rot="4020000">
                  <a:off x="5650920" y="545688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Oval 366"/>
                <p:cNvSpPr/>
                <p:nvPr/>
              </p:nvSpPr>
              <p:spPr>
                <a:xfrm rot="9420000">
                  <a:off x="5651280" y="545724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51" name="Oval 367"/>
            <p:cNvSpPr/>
            <p:nvPr/>
          </p:nvSpPr>
          <p:spPr>
            <a:xfrm>
              <a:off x="5724000" y="5450040"/>
              <a:ext cx="70200" cy="63000"/>
            </a:xfrm>
            <a:prstGeom prst="ellipse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Group 368"/>
          <p:cNvGrpSpPr/>
          <p:nvPr/>
        </p:nvGrpSpPr>
        <p:grpSpPr>
          <a:xfrm>
            <a:off x="7595280" y="6021720"/>
            <a:ext cx="146520" cy="146520"/>
            <a:chOff x="7595280" y="6021720"/>
            <a:chExt cx="146520" cy="146520"/>
          </a:xfrm>
        </p:grpSpPr>
        <p:grpSp>
          <p:nvGrpSpPr>
            <p:cNvPr id="353" name="Group 369"/>
            <p:cNvGrpSpPr/>
            <p:nvPr/>
          </p:nvGrpSpPr>
          <p:grpSpPr>
            <a:xfrm>
              <a:off x="7596360" y="6022800"/>
              <a:ext cx="144360" cy="144720"/>
              <a:chOff x="7596360" y="6022800"/>
              <a:chExt cx="144360" cy="144720"/>
            </a:xfrm>
          </p:grpSpPr>
          <p:grpSp>
            <p:nvGrpSpPr>
              <p:cNvPr id="354" name="Group 370"/>
              <p:cNvGrpSpPr/>
              <p:nvPr/>
            </p:nvGrpSpPr>
            <p:grpSpPr>
              <a:xfrm>
                <a:off x="7596360" y="6022800"/>
                <a:ext cx="144360" cy="144720"/>
                <a:chOff x="7596360" y="6022800"/>
                <a:chExt cx="144360" cy="144720"/>
              </a:xfrm>
            </p:grpSpPr>
            <p:sp>
              <p:nvSpPr>
                <p:cNvPr id="355" name="Oval 371"/>
                <p:cNvSpPr/>
                <p:nvPr/>
              </p:nvSpPr>
              <p:spPr>
                <a:xfrm>
                  <a:off x="7596360" y="60786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Oval 372"/>
                <p:cNvSpPr/>
                <p:nvPr/>
              </p:nvSpPr>
              <p:spPr>
                <a:xfrm rot="5400000">
                  <a:off x="7595640" y="607860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Group 373"/>
              <p:cNvGrpSpPr/>
              <p:nvPr/>
            </p:nvGrpSpPr>
            <p:grpSpPr>
              <a:xfrm>
                <a:off x="7605360" y="6032520"/>
                <a:ext cx="125640" cy="125640"/>
                <a:chOff x="7605360" y="6032520"/>
                <a:chExt cx="125640" cy="125640"/>
              </a:xfrm>
            </p:grpSpPr>
            <p:sp>
              <p:nvSpPr>
                <p:cNvPr id="358" name="Oval 374"/>
                <p:cNvSpPr/>
                <p:nvPr/>
              </p:nvSpPr>
              <p:spPr>
                <a:xfrm rot="2700000">
                  <a:off x="7595640" y="607860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Oval 375"/>
                <p:cNvSpPr/>
                <p:nvPr/>
              </p:nvSpPr>
              <p:spPr>
                <a:xfrm rot="8100000">
                  <a:off x="7595640" y="60786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60" name="Group 376"/>
            <p:cNvGrpSpPr/>
            <p:nvPr/>
          </p:nvGrpSpPr>
          <p:grpSpPr>
            <a:xfrm>
              <a:off x="7595280" y="6021720"/>
              <a:ext cx="146520" cy="146520"/>
              <a:chOff x="7595280" y="6021720"/>
              <a:chExt cx="146520" cy="146520"/>
            </a:xfrm>
          </p:grpSpPr>
          <p:grpSp>
            <p:nvGrpSpPr>
              <p:cNvPr id="361" name="Group 377"/>
              <p:cNvGrpSpPr/>
              <p:nvPr/>
            </p:nvGrpSpPr>
            <p:grpSpPr>
              <a:xfrm>
                <a:off x="7595640" y="6021720"/>
                <a:ext cx="146160" cy="146520"/>
                <a:chOff x="7595640" y="6021720"/>
                <a:chExt cx="146160" cy="146520"/>
              </a:xfrm>
            </p:grpSpPr>
            <p:sp>
              <p:nvSpPr>
                <p:cNvPr id="362" name="Oval 378"/>
                <p:cNvSpPr/>
                <p:nvPr/>
              </p:nvSpPr>
              <p:spPr>
                <a:xfrm rot="1320000">
                  <a:off x="7596360" y="60782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Oval 379"/>
                <p:cNvSpPr/>
                <p:nvPr/>
              </p:nvSpPr>
              <p:spPr>
                <a:xfrm rot="6720000">
                  <a:off x="7595640" y="607824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" name="Group 380"/>
              <p:cNvGrpSpPr/>
              <p:nvPr/>
            </p:nvGrpSpPr>
            <p:grpSpPr>
              <a:xfrm>
                <a:off x="7595280" y="6022080"/>
                <a:ext cx="145800" cy="146160"/>
                <a:chOff x="7595280" y="6022080"/>
                <a:chExt cx="145800" cy="146160"/>
              </a:xfrm>
            </p:grpSpPr>
            <p:sp>
              <p:nvSpPr>
                <p:cNvPr id="365" name="Oval 381"/>
                <p:cNvSpPr/>
                <p:nvPr/>
              </p:nvSpPr>
              <p:spPr>
                <a:xfrm rot="4020000">
                  <a:off x="7595640" y="607860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Oval 382"/>
                <p:cNvSpPr/>
                <p:nvPr/>
              </p:nvSpPr>
              <p:spPr>
                <a:xfrm rot="9420000">
                  <a:off x="7596000" y="60782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67" name="Oval 383"/>
            <p:cNvSpPr/>
            <p:nvPr/>
          </p:nvSpPr>
          <p:spPr>
            <a:xfrm>
              <a:off x="7644600" y="6073920"/>
              <a:ext cx="47160" cy="42120"/>
            </a:xfrm>
            <a:prstGeom prst="ellipse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Group 384"/>
          <p:cNvGrpSpPr/>
          <p:nvPr/>
        </p:nvGrpSpPr>
        <p:grpSpPr>
          <a:xfrm>
            <a:off x="3850200" y="6166440"/>
            <a:ext cx="146160" cy="146160"/>
            <a:chOff x="3850200" y="6166440"/>
            <a:chExt cx="146160" cy="146160"/>
          </a:xfrm>
        </p:grpSpPr>
        <p:grpSp>
          <p:nvGrpSpPr>
            <p:cNvPr id="369" name="Group 385"/>
            <p:cNvGrpSpPr/>
            <p:nvPr/>
          </p:nvGrpSpPr>
          <p:grpSpPr>
            <a:xfrm>
              <a:off x="3851280" y="6167520"/>
              <a:ext cx="144360" cy="144360"/>
              <a:chOff x="3851280" y="6167520"/>
              <a:chExt cx="144360" cy="144360"/>
            </a:xfrm>
          </p:grpSpPr>
          <p:grpSp>
            <p:nvGrpSpPr>
              <p:cNvPr id="370" name="Group 386"/>
              <p:cNvGrpSpPr/>
              <p:nvPr/>
            </p:nvGrpSpPr>
            <p:grpSpPr>
              <a:xfrm>
                <a:off x="3851280" y="6167520"/>
                <a:ext cx="144360" cy="144360"/>
                <a:chOff x="3851280" y="6167520"/>
                <a:chExt cx="144360" cy="144360"/>
              </a:xfrm>
            </p:grpSpPr>
            <p:sp>
              <p:nvSpPr>
                <p:cNvPr id="371" name="Oval 387"/>
                <p:cNvSpPr/>
                <p:nvPr/>
              </p:nvSpPr>
              <p:spPr>
                <a:xfrm>
                  <a:off x="3851280" y="622332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Oval 388"/>
                <p:cNvSpPr/>
                <p:nvPr/>
              </p:nvSpPr>
              <p:spPr>
                <a:xfrm rot="5400000">
                  <a:off x="3850920" y="622332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" name="Group 389"/>
              <p:cNvGrpSpPr/>
              <p:nvPr/>
            </p:nvGrpSpPr>
            <p:grpSpPr>
              <a:xfrm>
                <a:off x="3860280" y="6176880"/>
                <a:ext cx="125640" cy="125640"/>
                <a:chOff x="3860280" y="6176880"/>
                <a:chExt cx="125640" cy="125640"/>
              </a:xfrm>
            </p:grpSpPr>
            <p:sp>
              <p:nvSpPr>
                <p:cNvPr id="374" name="Oval 390"/>
                <p:cNvSpPr/>
                <p:nvPr/>
              </p:nvSpPr>
              <p:spPr>
                <a:xfrm rot="2700000">
                  <a:off x="3850920" y="622332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Oval 391"/>
                <p:cNvSpPr/>
                <p:nvPr/>
              </p:nvSpPr>
              <p:spPr>
                <a:xfrm rot="8100000">
                  <a:off x="3850560" y="62229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6" name="Group 392"/>
            <p:cNvGrpSpPr/>
            <p:nvPr/>
          </p:nvGrpSpPr>
          <p:grpSpPr>
            <a:xfrm>
              <a:off x="3850200" y="6166440"/>
              <a:ext cx="146160" cy="146160"/>
              <a:chOff x="3850200" y="6166440"/>
              <a:chExt cx="146160" cy="146160"/>
            </a:xfrm>
          </p:grpSpPr>
          <p:grpSp>
            <p:nvGrpSpPr>
              <p:cNvPr id="377" name="Group 393"/>
              <p:cNvGrpSpPr/>
              <p:nvPr/>
            </p:nvGrpSpPr>
            <p:grpSpPr>
              <a:xfrm>
                <a:off x="3850200" y="6166440"/>
                <a:ext cx="146160" cy="146160"/>
                <a:chOff x="3850200" y="6166440"/>
                <a:chExt cx="146160" cy="146160"/>
              </a:xfrm>
            </p:grpSpPr>
            <p:sp>
              <p:nvSpPr>
                <p:cNvPr id="378" name="Oval 394"/>
                <p:cNvSpPr/>
                <p:nvPr/>
              </p:nvSpPr>
              <p:spPr>
                <a:xfrm rot="1320000">
                  <a:off x="3850920" y="62229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Oval 395"/>
                <p:cNvSpPr/>
                <p:nvPr/>
              </p:nvSpPr>
              <p:spPr>
                <a:xfrm rot="6720000">
                  <a:off x="3850920" y="62229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" name="Group 396"/>
              <p:cNvGrpSpPr/>
              <p:nvPr/>
            </p:nvGrpSpPr>
            <p:grpSpPr>
              <a:xfrm>
                <a:off x="3850200" y="6166800"/>
                <a:ext cx="145800" cy="145800"/>
                <a:chOff x="3850200" y="6166800"/>
                <a:chExt cx="145800" cy="145800"/>
              </a:xfrm>
            </p:grpSpPr>
            <p:sp>
              <p:nvSpPr>
                <p:cNvPr id="381" name="Oval 397"/>
                <p:cNvSpPr/>
                <p:nvPr/>
              </p:nvSpPr>
              <p:spPr>
                <a:xfrm rot="4020000">
                  <a:off x="3850560" y="62229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Oval 398"/>
                <p:cNvSpPr/>
                <p:nvPr/>
              </p:nvSpPr>
              <p:spPr>
                <a:xfrm rot="9420000">
                  <a:off x="3850920" y="62226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83" name="Oval 399"/>
            <p:cNvSpPr/>
            <p:nvPr/>
          </p:nvSpPr>
          <p:spPr>
            <a:xfrm>
              <a:off x="3899520" y="6218280"/>
              <a:ext cx="47160" cy="42120"/>
            </a:xfrm>
            <a:prstGeom prst="ellipse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" name="Group 400"/>
          <p:cNvGrpSpPr/>
          <p:nvPr/>
        </p:nvGrpSpPr>
        <p:grpSpPr>
          <a:xfrm>
            <a:off x="8603280" y="5661360"/>
            <a:ext cx="146520" cy="146520"/>
            <a:chOff x="8603280" y="5661360"/>
            <a:chExt cx="146520" cy="146520"/>
          </a:xfrm>
        </p:grpSpPr>
        <p:grpSp>
          <p:nvGrpSpPr>
            <p:cNvPr id="385" name="Group 401"/>
            <p:cNvGrpSpPr/>
            <p:nvPr/>
          </p:nvGrpSpPr>
          <p:grpSpPr>
            <a:xfrm>
              <a:off x="8604360" y="5662440"/>
              <a:ext cx="144360" cy="144720"/>
              <a:chOff x="8604360" y="5662440"/>
              <a:chExt cx="144360" cy="144720"/>
            </a:xfrm>
          </p:grpSpPr>
          <p:grpSp>
            <p:nvGrpSpPr>
              <p:cNvPr id="386" name="Group 402"/>
              <p:cNvGrpSpPr/>
              <p:nvPr/>
            </p:nvGrpSpPr>
            <p:grpSpPr>
              <a:xfrm>
                <a:off x="8604360" y="5662440"/>
                <a:ext cx="144360" cy="144720"/>
                <a:chOff x="8604360" y="5662440"/>
                <a:chExt cx="144360" cy="144720"/>
              </a:xfrm>
            </p:grpSpPr>
            <p:sp>
              <p:nvSpPr>
                <p:cNvPr id="387" name="Oval 403"/>
                <p:cNvSpPr/>
                <p:nvPr/>
              </p:nvSpPr>
              <p:spPr>
                <a:xfrm>
                  <a:off x="8604360" y="57182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Oval 404"/>
                <p:cNvSpPr/>
                <p:nvPr/>
              </p:nvSpPr>
              <p:spPr>
                <a:xfrm rot="5400000">
                  <a:off x="8603640" y="571824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9" name="Group 405"/>
              <p:cNvGrpSpPr/>
              <p:nvPr/>
            </p:nvGrpSpPr>
            <p:grpSpPr>
              <a:xfrm>
                <a:off x="8613360" y="5672160"/>
                <a:ext cx="125640" cy="125640"/>
                <a:chOff x="8613360" y="5672160"/>
                <a:chExt cx="125640" cy="125640"/>
              </a:xfrm>
            </p:grpSpPr>
            <p:sp>
              <p:nvSpPr>
                <p:cNvPr id="390" name="Oval 406"/>
                <p:cNvSpPr/>
                <p:nvPr/>
              </p:nvSpPr>
              <p:spPr>
                <a:xfrm rot="2700000">
                  <a:off x="8603640" y="571824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Oval 407"/>
                <p:cNvSpPr/>
                <p:nvPr/>
              </p:nvSpPr>
              <p:spPr>
                <a:xfrm rot="8100000">
                  <a:off x="8603640" y="57182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2" name="Group 408"/>
            <p:cNvGrpSpPr/>
            <p:nvPr/>
          </p:nvGrpSpPr>
          <p:grpSpPr>
            <a:xfrm>
              <a:off x="8603280" y="5661360"/>
              <a:ext cx="146520" cy="146520"/>
              <a:chOff x="8603280" y="5661360"/>
              <a:chExt cx="146520" cy="146520"/>
            </a:xfrm>
          </p:grpSpPr>
          <p:grpSp>
            <p:nvGrpSpPr>
              <p:cNvPr id="393" name="Group 409"/>
              <p:cNvGrpSpPr/>
              <p:nvPr/>
            </p:nvGrpSpPr>
            <p:grpSpPr>
              <a:xfrm>
                <a:off x="8603640" y="5661360"/>
                <a:ext cx="146160" cy="146520"/>
                <a:chOff x="8603640" y="5661360"/>
                <a:chExt cx="146160" cy="146520"/>
              </a:xfrm>
            </p:grpSpPr>
            <p:sp>
              <p:nvSpPr>
                <p:cNvPr id="394" name="Oval 410"/>
                <p:cNvSpPr/>
                <p:nvPr/>
              </p:nvSpPr>
              <p:spPr>
                <a:xfrm rot="1320000">
                  <a:off x="8604360" y="571788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Oval 411"/>
                <p:cNvSpPr/>
                <p:nvPr/>
              </p:nvSpPr>
              <p:spPr>
                <a:xfrm rot="6720000">
                  <a:off x="8603640" y="571788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" name="Group 412"/>
              <p:cNvGrpSpPr/>
              <p:nvPr/>
            </p:nvGrpSpPr>
            <p:grpSpPr>
              <a:xfrm>
                <a:off x="8603280" y="5661720"/>
                <a:ext cx="145800" cy="146160"/>
                <a:chOff x="8603280" y="5661720"/>
                <a:chExt cx="145800" cy="146160"/>
              </a:xfrm>
            </p:grpSpPr>
            <p:sp>
              <p:nvSpPr>
                <p:cNvPr id="397" name="Oval 413"/>
                <p:cNvSpPr/>
                <p:nvPr/>
              </p:nvSpPr>
              <p:spPr>
                <a:xfrm rot="4020000">
                  <a:off x="8603640" y="571824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Oval 414"/>
                <p:cNvSpPr/>
                <p:nvPr/>
              </p:nvSpPr>
              <p:spPr>
                <a:xfrm rot="9420000">
                  <a:off x="8604000" y="571788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99" name="Oval 415"/>
            <p:cNvSpPr/>
            <p:nvPr/>
          </p:nvSpPr>
          <p:spPr>
            <a:xfrm>
              <a:off x="8652600" y="5713560"/>
              <a:ext cx="47160" cy="42120"/>
            </a:xfrm>
            <a:prstGeom prst="ellipse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Group 416"/>
          <p:cNvGrpSpPr/>
          <p:nvPr/>
        </p:nvGrpSpPr>
        <p:grpSpPr>
          <a:xfrm>
            <a:off x="5290200" y="5806080"/>
            <a:ext cx="146160" cy="146160"/>
            <a:chOff x="5290200" y="5806080"/>
            <a:chExt cx="146160" cy="146160"/>
          </a:xfrm>
        </p:grpSpPr>
        <p:grpSp>
          <p:nvGrpSpPr>
            <p:cNvPr id="401" name="Group 417"/>
            <p:cNvGrpSpPr/>
            <p:nvPr/>
          </p:nvGrpSpPr>
          <p:grpSpPr>
            <a:xfrm>
              <a:off x="5291280" y="5807160"/>
              <a:ext cx="144360" cy="144360"/>
              <a:chOff x="5291280" y="5807160"/>
              <a:chExt cx="144360" cy="144360"/>
            </a:xfrm>
          </p:grpSpPr>
          <p:grpSp>
            <p:nvGrpSpPr>
              <p:cNvPr id="402" name="Group 418"/>
              <p:cNvGrpSpPr/>
              <p:nvPr/>
            </p:nvGrpSpPr>
            <p:grpSpPr>
              <a:xfrm>
                <a:off x="5291280" y="5807160"/>
                <a:ext cx="144360" cy="144360"/>
                <a:chOff x="5291280" y="5807160"/>
                <a:chExt cx="144360" cy="144360"/>
              </a:xfrm>
            </p:grpSpPr>
            <p:sp>
              <p:nvSpPr>
                <p:cNvPr id="403" name="Oval 419"/>
                <p:cNvSpPr/>
                <p:nvPr/>
              </p:nvSpPr>
              <p:spPr>
                <a:xfrm>
                  <a:off x="5291280" y="58629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Oval 420"/>
                <p:cNvSpPr/>
                <p:nvPr/>
              </p:nvSpPr>
              <p:spPr>
                <a:xfrm rot="5400000">
                  <a:off x="5290920" y="58629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5" name="Group 421"/>
              <p:cNvGrpSpPr/>
              <p:nvPr/>
            </p:nvGrpSpPr>
            <p:grpSpPr>
              <a:xfrm>
                <a:off x="5300280" y="5816520"/>
                <a:ext cx="125640" cy="125640"/>
                <a:chOff x="5300280" y="5816520"/>
                <a:chExt cx="125640" cy="125640"/>
              </a:xfrm>
            </p:grpSpPr>
            <p:sp>
              <p:nvSpPr>
                <p:cNvPr id="406" name="Oval 422"/>
                <p:cNvSpPr/>
                <p:nvPr/>
              </p:nvSpPr>
              <p:spPr>
                <a:xfrm rot="2700000">
                  <a:off x="5290920" y="58629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Oval 423"/>
                <p:cNvSpPr/>
                <p:nvPr/>
              </p:nvSpPr>
              <p:spPr>
                <a:xfrm rot="8100000">
                  <a:off x="5290560" y="58626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08" name="Group 424"/>
            <p:cNvGrpSpPr/>
            <p:nvPr/>
          </p:nvGrpSpPr>
          <p:grpSpPr>
            <a:xfrm>
              <a:off x="5290200" y="5806080"/>
              <a:ext cx="146160" cy="146160"/>
              <a:chOff x="5290200" y="5806080"/>
              <a:chExt cx="146160" cy="146160"/>
            </a:xfrm>
          </p:grpSpPr>
          <p:grpSp>
            <p:nvGrpSpPr>
              <p:cNvPr id="409" name="Group 425"/>
              <p:cNvGrpSpPr/>
              <p:nvPr/>
            </p:nvGrpSpPr>
            <p:grpSpPr>
              <a:xfrm>
                <a:off x="5290200" y="5806080"/>
                <a:ext cx="146160" cy="146160"/>
                <a:chOff x="5290200" y="5806080"/>
                <a:chExt cx="146160" cy="146160"/>
              </a:xfrm>
            </p:grpSpPr>
            <p:sp>
              <p:nvSpPr>
                <p:cNvPr id="410" name="Oval 426"/>
                <p:cNvSpPr/>
                <p:nvPr/>
              </p:nvSpPr>
              <p:spPr>
                <a:xfrm rot="1320000">
                  <a:off x="5290920" y="58626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Oval 427"/>
                <p:cNvSpPr/>
                <p:nvPr/>
              </p:nvSpPr>
              <p:spPr>
                <a:xfrm rot="6720000">
                  <a:off x="5290920" y="58626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" name="Group 428"/>
              <p:cNvGrpSpPr/>
              <p:nvPr/>
            </p:nvGrpSpPr>
            <p:grpSpPr>
              <a:xfrm>
                <a:off x="5290200" y="5806440"/>
                <a:ext cx="145800" cy="145800"/>
                <a:chOff x="5290200" y="5806440"/>
                <a:chExt cx="145800" cy="145800"/>
              </a:xfrm>
            </p:grpSpPr>
            <p:sp>
              <p:nvSpPr>
                <p:cNvPr id="413" name="Oval 429"/>
                <p:cNvSpPr/>
                <p:nvPr/>
              </p:nvSpPr>
              <p:spPr>
                <a:xfrm rot="4020000">
                  <a:off x="5290560" y="58626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Oval 430"/>
                <p:cNvSpPr/>
                <p:nvPr/>
              </p:nvSpPr>
              <p:spPr>
                <a:xfrm rot="9420000">
                  <a:off x="5290920" y="58622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15" name="Oval 431"/>
            <p:cNvSpPr/>
            <p:nvPr/>
          </p:nvSpPr>
          <p:spPr>
            <a:xfrm>
              <a:off x="5339520" y="5857920"/>
              <a:ext cx="47160" cy="42120"/>
            </a:xfrm>
            <a:prstGeom prst="ellipse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Group 432"/>
          <p:cNvGrpSpPr/>
          <p:nvPr/>
        </p:nvGrpSpPr>
        <p:grpSpPr>
          <a:xfrm>
            <a:off x="8242920" y="5590080"/>
            <a:ext cx="146160" cy="146160"/>
            <a:chOff x="8242920" y="5590080"/>
            <a:chExt cx="146160" cy="146160"/>
          </a:xfrm>
        </p:grpSpPr>
        <p:grpSp>
          <p:nvGrpSpPr>
            <p:cNvPr id="417" name="Group 433"/>
            <p:cNvGrpSpPr/>
            <p:nvPr/>
          </p:nvGrpSpPr>
          <p:grpSpPr>
            <a:xfrm>
              <a:off x="8244000" y="5591160"/>
              <a:ext cx="144360" cy="144360"/>
              <a:chOff x="8244000" y="5591160"/>
              <a:chExt cx="144360" cy="144360"/>
            </a:xfrm>
          </p:grpSpPr>
          <p:grpSp>
            <p:nvGrpSpPr>
              <p:cNvPr id="418" name="Group 434"/>
              <p:cNvGrpSpPr/>
              <p:nvPr/>
            </p:nvGrpSpPr>
            <p:grpSpPr>
              <a:xfrm>
                <a:off x="8244000" y="5591160"/>
                <a:ext cx="144360" cy="144360"/>
                <a:chOff x="8244000" y="5591160"/>
                <a:chExt cx="144360" cy="144360"/>
              </a:xfrm>
            </p:grpSpPr>
            <p:sp>
              <p:nvSpPr>
                <p:cNvPr id="419" name="Oval 435"/>
                <p:cNvSpPr/>
                <p:nvPr/>
              </p:nvSpPr>
              <p:spPr>
                <a:xfrm>
                  <a:off x="8244000" y="56469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Oval 436"/>
                <p:cNvSpPr/>
                <p:nvPr/>
              </p:nvSpPr>
              <p:spPr>
                <a:xfrm rot="5400000">
                  <a:off x="8243640" y="56469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1" name="Group 437"/>
              <p:cNvGrpSpPr/>
              <p:nvPr/>
            </p:nvGrpSpPr>
            <p:grpSpPr>
              <a:xfrm>
                <a:off x="8253000" y="5600520"/>
                <a:ext cx="125640" cy="125640"/>
                <a:chOff x="8253000" y="5600520"/>
                <a:chExt cx="125640" cy="125640"/>
              </a:xfrm>
            </p:grpSpPr>
            <p:sp>
              <p:nvSpPr>
                <p:cNvPr id="422" name="Oval 438"/>
                <p:cNvSpPr/>
                <p:nvPr/>
              </p:nvSpPr>
              <p:spPr>
                <a:xfrm rot="2700000">
                  <a:off x="8243640" y="56469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Oval 439"/>
                <p:cNvSpPr/>
                <p:nvPr/>
              </p:nvSpPr>
              <p:spPr>
                <a:xfrm rot="8100000">
                  <a:off x="8243280" y="56466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24" name="Group 440"/>
            <p:cNvGrpSpPr/>
            <p:nvPr/>
          </p:nvGrpSpPr>
          <p:grpSpPr>
            <a:xfrm>
              <a:off x="8242920" y="5590080"/>
              <a:ext cx="146160" cy="146160"/>
              <a:chOff x="8242920" y="5590080"/>
              <a:chExt cx="146160" cy="146160"/>
            </a:xfrm>
          </p:grpSpPr>
          <p:grpSp>
            <p:nvGrpSpPr>
              <p:cNvPr id="425" name="Group 441"/>
              <p:cNvGrpSpPr/>
              <p:nvPr/>
            </p:nvGrpSpPr>
            <p:grpSpPr>
              <a:xfrm>
                <a:off x="8242920" y="5590080"/>
                <a:ext cx="146160" cy="146160"/>
                <a:chOff x="8242920" y="5590080"/>
                <a:chExt cx="146160" cy="146160"/>
              </a:xfrm>
            </p:grpSpPr>
            <p:sp>
              <p:nvSpPr>
                <p:cNvPr id="426" name="Oval 442"/>
                <p:cNvSpPr/>
                <p:nvPr/>
              </p:nvSpPr>
              <p:spPr>
                <a:xfrm rot="1320000">
                  <a:off x="8243640" y="56466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Oval 443"/>
                <p:cNvSpPr/>
                <p:nvPr/>
              </p:nvSpPr>
              <p:spPr>
                <a:xfrm rot="6720000">
                  <a:off x="8243640" y="56466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8" name="Group 444"/>
              <p:cNvGrpSpPr/>
              <p:nvPr/>
            </p:nvGrpSpPr>
            <p:grpSpPr>
              <a:xfrm>
                <a:off x="8242920" y="5590440"/>
                <a:ext cx="145800" cy="145800"/>
                <a:chOff x="8242920" y="5590440"/>
                <a:chExt cx="145800" cy="145800"/>
              </a:xfrm>
            </p:grpSpPr>
            <p:sp>
              <p:nvSpPr>
                <p:cNvPr id="429" name="Oval 445"/>
                <p:cNvSpPr/>
                <p:nvPr/>
              </p:nvSpPr>
              <p:spPr>
                <a:xfrm rot="4020000">
                  <a:off x="8243280" y="56466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Oval 446"/>
                <p:cNvSpPr/>
                <p:nvPr/>
              </p:nvSpPr>
              <p:spPr>
                <a:xfrm rot="9420000">
                  <a:off x="8243640" y="56462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31" name="Oval 447"/>
            <p:cNvSpPr/>
            <p:nvPr/>
          </p:nvSpPr>
          <p:spPr>
            <a:xfrm>
              <a:off x="8292240" y="5641920"/>
              <a:ext cx="47160" cy="42120"/>
            </a:xfrm>
            <a:prstGeom prst="ellipse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" name="Group 448"/>
          <p:cNvGrpSpPr/>
          <p:nvPr/>
        </p:nvGrpSpPr>
        <p:grpSpPr>
          <a:xfrm>
            <a:off x="5361480" y="5445720"/>
            <a:ext cx="146160" cy="146160"/>
            <a:chOff x="5361480" y="5445720"/>
            <a:chExt cx="146160" cy="146160"/>
          </a:xfrm>
        </p:grpSpPr>
        <p:grpSp>
          <p:nvGrpSpPr>
            <p:cNvPr id="433" name="Group 449"/>
            <p:cNvGrpSpPr/>
            <p:nvPr/>
          </p:nvGrpSpPr>
          <p:grpSpPr>
            <a:xfrm>
              <a:off x="5362560" y="5446800"/>
              <a:ext cx="144360" cy="144360"/>
              <a:chOff x="5362560" y="5446800"/>
              <a:chExt cx="144360" cy="144360"/>
            </a:xfrm>
          </p:grpSpPr>
          <p:grpSp>
            <p:nvGrpSpPr>
              <p:cNvPr id="434" name="Group 450"/>
              <p:cNvGrpSpPr/>
              <p:nvPr/>
            </p:nvGrpSpPr>
            <p:grpSpPr>
              <a:xfrm>
                <a:off x="5362560" y="5446800"/>
                <a:ext cx="144360" cy="144360"/>
                <a:chOff x="5362560" y="5446800"/>
                <a:chExt cx="144360" cy="144360"/>
              </a:xfrm>
            </p:grpSpPr>
            <p:sp>
              <p:nvSpPr>
                <p:cNvPr id="435" name="Oval 451"/>
                <p:cNvSpPr/>
                <p:nvPr/>
              </p:nvSpPr>
              <p:spPr>
                <a:xfrm>
                  <a:off x="5362560" y="55026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Oval 452"/>
                <p:cNvSpPr/>
                <p:nvPr/>
              </p:nvSpPr>
              <p:spPr>
                <a:xfrm rot="5400000">
                  <a:off x="5362200" y="55026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7" name="Group 453"/>
              <p:cNvGrpSpPr/>
              <p:nvPr/>
            </p:nvGrpSpPr>
            <p:grpSpPr>
              <a:xfrm>
                <a:off x="5371560" y="5456160"/>
                <a:ext cx="125640" cy="125640"/>
                <a:chOff x="5371560" y="5456160"/>
                <a:chExt cx="125640" cy="125640"/>
              </a:xfrm>
            </p:grpSpPr>
            <p:sp>
              <p:nvSpPr>
                <p:cNvPr id="438" name="Oval 454"/>
                <p:cNvSpPr/>
                <p:nvPr/>
              </p:nvSpPr>
              <p:spPr>
                <a:xfrm rot="2700000">
                  <a:off x="5362200" y="55026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Oval 455"/>
                <p:cNvSpPr/>
                <p:nvPr/>
              </p:nvSpPr>
              <p:spPr>
                <a:xfrm rot="8100000">
                  <a:off x="5361840" y="55022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40" name="Group 456"/>
            <p:cNvGrpSpPr/>
            <p:nvPr/>
          </p:nvGrpSpPr>
          <p:grpSpPr>
            <a:xfrm>
              <a:off x="5361480" y="5445720"/>
              <a:ext cx="146160" cy="146160"/>
              <a:chOff x="5361480" y="5445720"/>
              <a:chExt cx="146160" cy="146160"/>
            </a:xfrm>
          </p:grpSpPr>
          <p:grpSp>
            <p:nvGrpSpPr>
              <p:cNvPr id="441" name="Group 457"/>
              <p:cNvGrpSpPr/>
              <p:nvPr/>
            </p:nvGrpSpPr>
            <p:grpSpPr>
              <a:xfrm>
                <a:off x="5361480" y="5445720"/>
                <a:ext cx="146160" cy="146160"/>
                <a:chOff x="5361480" y="5445720"/>
                <a:chExt cx="146160" cy="146160"/>
              </a:xfrm>
            </p:grpSpPr>
            <p:sp>
              <p:nvSpPr>
                <p:cNvPr id="442" name="Oval 458"/>
                <p:cNvSpPr/>
                <p:nvPr/>
              </p:nvSpPr>
              <p:spPr>
                <a:xfrm rot="1320000">
                  <a:off x="5362200" y="55022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Oval 459"/>
                <p:cNvSpPr/>
                <p:nvPr/>
              </p:nvSpPr>
              <p:spPr>
                <a:xfrm rot="6720000">
                  <a:off x="5362200" y="55022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4" name="Group 460"/>
              <p:cNvGrpSpPr/>
              <p:nvPr/>
            </p:nvGrpSpPr>
            <p:grpSpPr>
              <a:xfrm>
                <a:off x="5361480" y="5446080"/>
                <a:ext cx="145800" cy="145800"/>
                <a:chOff x="5361480" y="5446080"/>
                <a:chExt cx="145800" cy="145800"/>
              </a:xfrm>
            </p:grpSpPr>
            <p:sp>
              <p:nvSpPr>
                <p:cNvPr id="445" name="Oval 461"/>
                <p:cNvSpPr/>
                <p:nvPr/>
              </p:nvSpPr>
              <p:spPr>
                <a:xfrm rot="4020000">
                  <a:off x="5361840" y="55022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Oval 462"/>
                <p:cNvSpPr/>
                <p:nvPr/>
              </p:nvSpPr>
              <p:spPr>
                <a:xfrm rot="9420000">
                  <a:off x="5362200" y="550188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7" name="Oval 463"/>
            <p:cNvSpPr/>
            <p:nvPr/>
          </p:nvSpPr>
          <p:spPr>
            <a:xfrm>
              <a:off x="5410800" y="5497560"/>
              <a:ext cx="47160" cy="42120"/>
            </a:xfrm>
            <a:prstGeom prst="ellipse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Group 464"/>
          <p:cNvGrpSpPr/>
          <p:nvPr/>
        </p:nvGrpSpPr>
        <p:grpSpPr>
          <a:xfrm>
            <a:off x="1401120" y="5658480"/>
            <a:ext cx="367920" cy="367920"/>
            <a:chOff x="1401120" y="5658480"/>
            <a:chExt cx="367920" cy="367920"/>
          </a:xfrm>
        </p:grpSpPr>
        <p:grpSp>
          <p:nvGrpSpPr>
            <p:cNvPr id="449" name="Group 465"/>
            <p:cNvGrpSpPr/>
            <p:nvPr/>
          </p:nvGrpSpPr>
          <p:grpSpPr>
            <a:xfrm>
              <a:off x="1403280" y="5661000"/>
              <a:ext cx="363240" cy="363240"/>
              <a:chOff x="1403280" y="5661000"/>
              <a:chExt cx="363240" cy="363240"/>
            </a:xfrm>
          </p:grpSpPr>
          <p:grpSp>
            <p:nvGrpSpPr>
              <p:cNvPr id="450" name="Group 466"/>
              <p:cNvGrpSpPr/>
              <p:nvPr/>
            </p:nvGrpSpPr>
            <p:grpSpPr>
              <a:xfrm>
                <a:off x="1403280" y="5661000"/>
                <a:ext cx="363240" cy="363240"/>
                <a:chOff x="1403280" y="5661000"/>
                <a:chExt cx="363240" cy="363240"/>
              </a:xfrm>
            </p:grpSpPr>
            <p:sp>
              <p:nvSpPr>
                <p:cNvPr id="451" name="Oval 467"/>
                <p:cNvSpPr/>
                <p:nvPr/>
              </p:nvSpPr>
              <p:spPr>
                <a:xfrm>
                  <a:off x="1403280" y="5801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Oval 468"/>
                <p:cNvSpPr/>
                <p:nvPr/>
              </p:nvSpPr>
              <p:spPr>
                <a:xfrm rot="5400000">
                  <a:off x="1402920" y="5801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3" name="Group 469"/>
              <p:cNvGrpSpPr/>
              <p:nvPr/>
            </p:nvGrpSpPr>
            <p:grpSpPr>
              <a:xfrm>
                <a:off x="1427040" y="5685120"/>
                <a:ext cx="315360" cy="315000"/>
                <a:chOff x="1427040" y="5685120"/>
                <a:chExt cx="315360" cy="315000"/>
              </a:xfrm>
            </p:grpSpPr>
            <p:sp>
              <p:nvSpPr>
                <p:cNvPr id="454" name="Oval 470"/>
                <p:cNvSpPr/>
                <p:nvPr/>
              </p:nvSpPr>
              <p:spPr>
                <a:xfrm rot="2700000">
                  <a:off x="1403280" y="5801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Oval 471"/>
                <p:cNvSpPr/>
                <p:nvPr/>
              </p:nvSpPr>
              <p:spPr>
                <a:xfrm rot="8100000">
                  <a:off x="1402560" y="5801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56" name="Group 472"/>
            <p:cNvGrpSpPr/>
            <p:nvPr/>
          </p:nvGrpSpPr>
          <p:grpSpPr>
            <a:xfrm>
              <a:off x="1401120" y="5658480"/>
              <a:ext cx="367920" cy="367920"/>
              <a:chOff x="1401120" y="5658480"/>
              <a:chExt cx="367920" cy="367920"/>
            </a:xfrm>
          </p:grpSpPr>
          <p:grpSp>
            <p:nvGrpSpPr>
              <p:cNvPr id="457" name="Group 473"/>
              <p:cNvGrpSpPr/>
              <p:nvPr/>
            </p:nvGrpSpPr>
            <p:grpSpPr>
              <a:xfrm>
                <a:off x="1401120" y="5658480"/>
                <a:ext cx="367920" cy="367920"/>
                <a:chOff x="1401120" y="5658480"/>
                <a:chExt cx="367920" cy="367920"/>
              </a:xfrm>
            </p:grpSpPr>
            <p:sp>
              <p:nvSpPr>
                <p:cNvPr id="458" name="Oval 474"/>
                <p:cNvSpPr/>
                <p:nvPr/>
              </p:nvSpPr>
              <p:spPr>
                <a:xfrm rot="1320000">
                  <a:off x="1403280" y="58006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Oval 475"/>
                <p:cNvSpPr/>
                <p:nvPr/>
              </p:nvSpPr>
              <p:spPr>
                <a:xfrm rot="6720000">
                  <a:off x="1402920" y="5801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0" name="Group 476"/>
              <p:cNvGrpSpPr/>
              <p:nvPr/>
            </p:nvGrpSpPr>
            <p:grpSpPr>
              <a:xfrm>
                <a:off x="1401480" y="5659560"/>
                <a:ext cx="366480" cy="366480"/>
                <a:chOff x="1401480" y="5659560"/>
                <a:chExt cx="366480" cy="366480"/>
              </a:xfrm>
            </p:grpSpPr>
            <p:sp>
              <p:nvSpPr>
                <p:cNvPr id="461" name="Oval 477"/>
                <p:cNvSpPr/>
                <p:nvPr/>
              </p:nvSpPr>
              <p:spPr>
                <a:xfrm rot="4020000">
                  <a:off x="1403280" y="5801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Oval 478"/>
                <p:cNvSpPr/>
                <p:nvPr/>
              </p:nvSpPr>
              <p:spPr>
                <a:xfrm rot="9420000">
                  <a:off x="1402920" y="5801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63" name="Oval 479"/>
            <p:cNvSpPr/>
            <p:nvPr/>
          </p:nvSpPr>
          <p:spPr>
            <a:xfrm>
              <a:off x="1525320" y="5789160"/>
              <a:ext cx="118800" cy="105840"/>
            </a:xfrm>
            <a:prstGeom prst="ellipse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480"/>
          <p:cNvGrpSpPr/>
          <p:nvPr/>
        </p:nvGrpSpPr>
        <p:grpSpPr>
          <a:xfrm>
            <a:off x="2193480" y="5659920"/>
            <a:ext cx="367560" cy="367920"/>
            <a:chOff x="2193480" y="5659920"/>
            <a:chExt cx="367560" cy="367920"/>
          </a:xfrm>
        </p:grpSpPr>
        <p:grpSp>
          <p:nvGrpSpPr>
            <p:cNvPr id="465" name="Group 481"/>
            <p:cNvGrpSpPr/>
            <p:nvPr/>
          </p:nvGrpSpPr>
          <p:grpSpPr>
            <a:xfrm>
              <a:off x="2195640" y="5662440"/>
              <a:ext cx="362880" cy="363240"/>
              <a:chOff x="2195640" y="5662440"/>
              <a:chExt cx="362880" cy="363240"/>
            </a:xfrm>
          </p:grpSpPr>
          <p:grpSp>
            <p:nvGrpSpPr>
              <p:cNvPr id="466" name="Group 482"/>
              <p:cNvGrpSpPr/>
              <p:nvPr/>
            </p:nvGrpSpPr>
            <p:grpSpPr>
              <a:xfrm>
                <a:off x="2195640" y="5662440"/>
                <a:ext cx="362880" cy="363240"/>
                <a:chOff x="2195640" y="5662440"/>
                <a:chExt cx="362880" cy="363240"/>
              </a:xfrm>
            </p:grpSpPr>
            <p:sp>
              <p:nvSpPr>
                <p:cNvPr id="467" name="Oval 483"/>
                <p:cNvSpPr/>
                <p:nvPr/>
              </p:nvSpPr>
              <p:spPr>
                <a:xfrm>
                  <a:off x="2195640" y="580248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Oval 484"/>
                <p:cNvSpPr/>
                <p:nvPr/>
              </p:nvSpPr>
              <p:spPr>
                <a:xfrm rot="5400000">
                  <a:off x="2195280" y="58028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9" name="Group 485"/>
              <p:cNvGrpSpPr/>
              <p:nvPr/>
            </p:nvGrpSpPr>
            <p:grpSpPr>
              <a:xfrm>
                <a:off x="2219400" y="5686560"/>
                <a:ext cx="315360" cy="315000"/>
                <a:chOff x="2219400" y="5686560"/>
                <a:chExt cx="315360" cy="315000"/>
              </a:xfrm>
            </p:grpSpPr>
            <p:sp>
              <p:nvSpPr>
                <p:cNvPr id="470" name="Oval 486"/>
                <p:cNvSpPr/>
                <p:nvPr/>
              </p:nvSpPr>
              <p:spPr>
                <a:xfrm rot="2700000">
                  <a:off x="2195640" y="58028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Oval 487"/>
                <p:cNvSpPr/>
                <p:nvPr/>
              </p:nvSpPr>
              <p:spPr>
                <a:xfrm rot="8100000">
                  <a:off x="2195280" y="580248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72" name="Group 488"/>
            <p:cNvGrpSpPr/>
            <p:nvPr/>
          </p:nvGrpSpPr>
          <p:grpSpPr>
            <a:xfrm>
              <a:off x="2193480" y="5659920"/>
              <a:ext cx="367560" cy="367920"/>
              <a:chOff x="2193480" y="5659920"/>
              <a:chExt cx="367560" cy="367920"/>
            </a:xfrm>
          </p:grpSpPr>
          <p:grpSp>
            <p:nvGrpSpPr>
              <p:cNvPr id="473" name="Group 489"/>
              <p:cNvGrpSpPr/>
              <p:nvPr/>
            </p:nvGrpSpPr>
            <p:grpSpPr>
              <a:xfrm>
                <a:off x="2193480" y="5659920"/>
                <a:ext cx="367560" cy="367920"/>
                <a:chOff x="2193480" y="5659920"/>
                <a:chExt cx="367560" cy="367920"/>
              </a:xfrm>
            </p:grpSpPr>
            <p:sp>
              <p:nvSpPr>
                <p:cNvPr id="474" name="Oval 490"/>
                <p:cNvSpPr/>
                <p:nvPr/>
              </p:nvSpPr>
              <p:spPr>
                <a:xfrm rot="1320000">
                  <a:off x="2195640" y="580248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Oval 491"/>
                <p:cNvSpPr/>
                <p:nvPr/>
              </p:nvSpPr>
              <p:spPr>
                <a:xfrm rot="6720000">
                  <a:off x="2195280" y="58024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6" name="Group 492"/>
              <p:cNvGrpSpPr/>
              <p:nvPr/>
            </p:nvGrpSpPr>
            <p:grpSpPr>
              <a:xfrm>
                <a:off x="2194200" y="5661000"/>
                <a:ext cx="366120" cy="366480"/>
                <a:chOff x="2194200" y="5661000"/>
                <a:chExt cx="366120" cy="366480"/>
              </a:xfrm>
            </p:grpSpPr>
            <p:sp>
              <p:nvSpPr>
                <p:cNvPr id="477" name="Oval 493"/>
                <p:cNvSpPr/>
                <p:nvPr/>
              </p:nvSpPr>
              <p:spPr>
                <a:xfrm rot="4020000">
                  <a:off x="2195640" y="58028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Oval 494"/>
                <p:cNvSpPr/>
                <p:nvPr/>
              </p:nvSpPr>
              <p:spPr>
                <a:xfrm rot="9420000">
                  <a:off x="2195640" y="580284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79" name="Oval 495"/>
            <p:cNvSpPr/>
            <p:nvPr/>
          </p:nvSpPr>
          <p:spPr>
            <a:xfrm>
              <a:off x="2317320" y="5790600"/>
              <a:ext cx="118440" cy="105840"/>
            </a:xfrm>
            <a:prstGeom prst="ellipse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0" name="Group 496"/>
          <p:cNvGrpSpPr/>
          <p:nvPr/>
        </p:nvGrpSpPr>
        <p:grpSpPr>
          <a:xfrm>
            <a:off x="1113840" y="5082120"/>
            <a:ext cx="367920" cy="367920"/>
            <a:chOff x="1113840" y="5082120"/>
            <a:chExt cx="367920" cy="367920"/>
          </a:xfrm>
        </p:grpSpPr>
        <p:grpSp>
          <p:nvGrpSpPr>
            <p:cNvPr id="481" name="Group 497"/>
            <p:cNvGrpSpPr/>
            <p:nvPr/>
          </p:nvGrpSpPr>
          <p:grpSpPr>
            <a:xfrm>
              <a:off x="1116000" y="5084640"/>
              <a:ext cx="363240" cy="363240"/>
              <a:chOff x="1116000" y="5084640"/>
              <a:chExt cx="363240" cy="363240"/>
            </a:xfrm>
          </p:grpSpPr>
          <p:grpSp>
            <p:nvGrpSpPr>
              <p:cNvPr id="482" name="Group 498"/>
              <p:cNvGrpSpPr/>
              <p:nvPr/>
            </p:nvGrpSpPr>
            <p:grpSpPr>
              <a:xfrm>
                <a:off x="1116000" y="5084640"/>
                <a:ext cx="363240" cy="363240"/>
                <a:chOff x="1116000" y="5084640"/>
                <a:chExt cx="363240" cy="363240"/>
              </a:xfrm>
            </p:grpSpPr>
            <p:sp>
              <p:nvSpPr>
                <p:cNvPr id="483" name="Oval 499"/>
                <p:cNvSpPr/>
                <p:nvPr/>
              </p:nvSpPr>
              <p:spPr>
                <a:xfrm>
                  <a:off x="1116000" y="52246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Oval 500"/>
                <p:cNvSpPr/>
                <p:nvPr/>
              </p:nvSpPr>
              <p:spPr>
                <a:xfrm rot="5400000">
                  <a:off x="1115640" y="5225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5" name="Group 501"/>
              <p:cNvGrpSpPr/>
              <p:nvPr/>
            </p:nvGrpSpPr>
            <p:grpSpPr>
              <a:xfrm>
                <a:off x="1139760" y="5108760"/>
                <a:ext cx="315360" cy="315000"/>
                <a:chOff x="1139760" y="5108760"/>
                <a:chExt cx="315360" cy="315000"/>
              </a:xfrm>
            </p:grpSpPr>
            <p:sp>
              <p:nvSpPr>
                <p:cNvPr id="486" name="Oval 502"/>
                <p:cNvSpPr/>
                <p:nvPr/>
              </p:nvSpPr>
              <p:spPr>
                <a:xfrm rot="2700000">
                  <a:off x="1116000" y="5225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Oval 503"/>
                <p:cNvSpPr/>
                <p:nvPr/>
              </p:nvSpPr>
              <p:spPr>
                <a:xfrm rot="8100000">
                  <a:off x="1115280" y="5225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88" name="Group 504"/>
            <p:cNvGrpSpPr/>
            <p:nvPr/>
          </p:nvGrpSpPr>
          <p:grpSpPr>
            <a:xfrm>
              <a:off x="1113840" y="5082120"/>
              <a:ext cx="367920" cy="367920"/>
              <a:chOff x="1113840" y="5082120"/>
              <a:chExt cx="367920" cy="367920"/>
            </a:xfrm>
          </p:grpSpPr>
          <p:grpSp>
            <p:nvGrpSpPr>
              <p:cNvPr id="489" name="Group 505"/>
              <p:cNvGrpSpPr/>
              <p:nvPr/>
            </p:nvGrpSpPr>
            <p:grpSpPr>
              <a:xfrm>
                <a:off x="1113840" y="5082120"/>
                <a:ext cx="367920" cy="367920"/>
                <a:chOff x="1113840" y="5082120"/>
                <a:chExt cx="367920" cy="367920"/>
              </a:xfrm>
            </p:grpSpPr>
            <p:sp>
              <p:nvSpPr>
                <p:cNvPr id="490" name="Oval 506"/>
                <p:cNvSpPr/>
                <p:nvPr/>
              </p:nvSpPr>
              <p:spPr>
                <a:xfrm rot="1320000">
                  <a:off x="1116000" y="52243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Oval 507"/>
                <p:cNvSpPr/>
                <p:nvPr/>
              </p:nvSpPr>
              <p:spPr>
                <a:xfrm rot="6720000">
                  <a:off x="1115640" y="52246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2" name="Group 508"/>
              <p:cNvGrpSpPr/>
              <p:nvPr/>
            </p:nvGrpSpPr>
            <p:grpSpPr>
              <a:xfrm>
                <a:off x="1114200" y="5083200"/>
                <a:ext cx="366480" cy="366480"/>
                <a:chOff x="1114200" y="5083200"/>
                <a:chExt cx="366480" cy="366480"/>
              </a:xfrm>
            </p:grpSpPr>
            <p:sp>
              <p:nvSpPr>
                <p:cNvPr id="493" name="Oval 509"/>
                <p:cNvSpPr/>
                <p:nvPr/>
              </p:nvSpPr>
              <p:spPr>
                <a:xfrm rot="4020000">
                  <a:off x="1116000" y="5225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Oval 510"/>
                <p:cNvSpPr/>
                <p:nvPr/>
              </p:nvSpPr>
              <p:spPr>
                <a:xfrm rot="9420000">
                  <a:off x="1115640" y="52246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95" name="Oval 511"/>
            <p:cNvSpPr/>
            <p:nvPr/>
          </p:nvSpPr>
          <p:spPr>
            <a:xfrm>
              <a:off x="1238040" y="5212800"/>
              <a:ext cx="118800" cy="105840"/>
            </a:xfrm>
            <a:prstGeom prst="ellipse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6" name="Group 528"/>
          <p:cNvGrpSpPr/>
          <p:nvPr/>
        </p:nvGrpSpPr>
        <p:grpSpPr>
          <a:xfrm>
            <a:off x="1904400" y="5299560"/>
            <a:ext cx="367920" cy="367920"/>
            <a:chOff x="1904400" y="5299560"/>
            <a:chExt cx="367920" cy="367920"/>
          </a:xfrm>
        </p:grpSpPr>
        <p:grpSp>
          <p:nvGrpSpPr>
            <p:cNvPr id="497" name="Group 529"/>
            <p:cNvGrpSpPr/>
            <p:nvPr/>
          </p:nvGrpSpPr>
          <p:grpSpPr>
            <a:xfrm>
              <a:off x="1906560" y="5302080"/>
              <a:ext cx="363240" cy="363240"/>
              <a:chOff x="1906560" y="5302080"/>
              <a:chExt cx="363240" cy="363240"/>
            </a:xfrm>
          </p:grpSpPr>
          <p:grpSp>
            <p:nvGrpSpPr>
              <p:cNvPr id="498" name="Group 530"/>
              <p:cNvGrpSpPr/>
              <p:nvPr/>
            </p:nvGrpSpPr>
            <p:grpSpPr>
              <a:xfrm>
                <a:off x="1906560" y="5302080"/>
                <a:ext cx="363240" cy="363240"/>
                <a:chOff x="1906560" y="5302080"/>
                <a:chExt cx="363240" cy="363240"/>
              </a:xfrm>
            </p:grpSpPr>
            <p:sp>
              <p:nvSpPr>
                <p:cNvPr id="499" name="Oval 531"/>
                <p:cNvSpPr/>
                <p:nvPr/>
              </p:nvSpPr>
              <p:spPr>
                <a:xfrm>
                  <a:off x="1906560" y="5442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Oval 532"/>
                <p:cNvSpPr/>
                <p:nvPr/>
              </p:nvSpPr>
              <p:spPr>
                <a:xfrm rot="5400000">
                  <a:off x="1906200" y="54424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1" name="Group 533"/>
              <p:cNvGrpSpPr/>
              <p:nvPr/>
            </p:nvGrpSpPr>
            <p:grpSpPr>
              <a:xfrm>
                <a:off x="1930320" y="5326200"/>
                <a:ext cx="315360" cy="315000"/>
                <a:chOff x="1930320" y="5326200"/>
                <a:chExt cx="315360" cy="315000"/>
              </a:xfrm>
            </p:grpSpPr>
            <p:sp>
              <p:nvSpPr>
                <p:cNvPr id="502" name="Oval 534"/>
                <p:cNvSpPr/>
                <p:nvPr/>
              </p:nvSpPr>
              <p:spPr>
                <a:xfrm rot="2700000">
                  <a:off x="1906560" y="54424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Oval 535"/>
                <p:cNvSpPr/>
                <p:nvPr/>
              </p:nvSpPr>
              <p:spPr>
                <a:xfrm rot="8100000">
                  <a:off x="1905840" y="54424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04" name="Group 536"/>
            <p:cNvGrpSpPr/>
            <p:nvPr/>
          </p:nvGrpSpPr>
          <p:grpSpPr>
            <a:xfrm>
              <a:off x="1904400" y="5299560"/>
              <a:ext cx="367920" cy="367920"/>
              <a:chOff x="1904400" y="5299560"/>
              <a:chExt cx="367920" cy="367920"/>
            </a:xfrm>
          </p:grpSpPr>
          <p:grpSp>
            <p:nvGrpSpPr>
              <p:cNvPr id="505" name="Group 537"/>
              <p:cNvGrpSpPr/>
              <p:nvPr/>
            </p:nvGrpSpPr>
            <p:grpSpPr>
              <a:xfrm>
                <a:off x="1904400" y="5299560"/>
                <a:ext cx="367920" cy="367920"/>
                <a:chOff x="1904400" y="5299560"/>
                <a:chExt cx="367920" cy="367920"/>
              </a:xfrm>
            </p:grpSpPr>
            <p:sp>
              <p:nvSpPr>
                <p:cNvPr id="506" name="Oval 538"/>
                <p:cNvSpPr/>
                <p:nvPr/>
              </p:nvSpPr>
              <p:spPr>
                <a:xfrm rot="1320000">
                  <a:off x="1906560" y="5441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Oval 539"/>
                <p:cNvSpPr/>
                <p:nvPr/>
              </p:nvSpPr>
              <p:spPr>
                <a:xfrm rot="6720000">
                  <a:off x="1906200" y="5442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8" name="Group 540"/>
              <p:cNvGrpSpPr/>
              <p:nvPr/>
            </p:nvGrpSpPr>
            <p:grpSpPr>
              <a:xfrm>
                <a:off x="1904760" y="5300640"/>
                <a:ext cx="366480" cy="366480"/>
                <a:chOff x="1904760" y="5300640"/>
                <a:chExt cx="366480" cy="366480"/>
              </a:xfrm>
            </p:grpSpPr>
            <p:sp>
              <p:nvSpPr>
                <p:cNvPr id="509" name="Oval 541"/>
                <p:cNvSpPr/>
                <p:nvPr/>
              </p:nvSpPr>
              <p:spPr>
                <a:xfrm rot="4020000">
                  <a:off x="1906560" y="54424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Oval 542"/>
                <p:cNvSpPr/>
                <p:nvPr/>
              </p:nvSpPr>
              <p:spPr>
                <a:xfrm rot="9420000">
                  <a:off x="1906200" y="5442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11" name="Oval 543"/>
            <p:cNvSpPr/>
            <p:nvPr/>
          </p:nvSpPr>
          <p:spPr>
            <a:xfrm>
              <a:off x="2028600" y="5430240"/>
              <a:ext cx="118800" cy="105840"/>
            </a:xfrm>
            <a:prstGeom prst="ellipse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2" name="Group 544"/>
          <p:cNvGrpSpPr/>
          <p:nvPr/>
        </p:nvGrpSpPr>
        <p:grpSpPr>
          <a:xfrm>
            <a:off x="2625840" y="5805720"/>
            <a:ext cx="218520" cy="218160"/>
            <a:chOff x="2625840" y="5805720"/>
            <a:chExt cx="218520" cy="218160"/>
          </a:xfrm>
        </p:grpSpPr>
        <p:grpSp>
          <p:nvGrpSpPr>
            <p:cNvPr id="513" name="Group 545"/>
            <p:cNvGrpSpPr/>
            <p:nvPr/>
          </p:nvGrpSpPr>
          <p:grpSpPr>
            <a:xfrm>
              <a:off x="2627280" y="5807160"/>
              <a:ext cx="216000" cy="215640"/>
              <a:chOff x="2627280" y="5807160"/>
              <a:chExt cx="216000" cy="215640"/>
            </a:xfrm>
          </p:grpSpPr>
          <p:grpSp>
            <p:nvGrpSpPr>
              <p:cNvPr id="514" name="Group 546"/>
              <p:cNvGrpSpPr/>
              <p:nvPr/>
            </p:nvGrpSpPr>
            <p:grpSpPr>
              <a:xfrm>
                <a:off x="2627280" y="5807160"/>
                <a:ext cx="216000" cy="215640"/>
                <a:chOff x="2627280" y="5807160"/>
                <a:chExt cx="216000" cy="215640"/>
              </a:xfrm>
            </p:grpSpPr>
            <p:sp>
              <p:nvSpPr>
                <p:cNvPr id="515" name="Oval 547"/>
                <p:cNvSpPr/>
                <p:nvPr/>
              </p:nvSpPr>
              <p:spPr>
                <a:xfrm>
                  <a:off x="2627280" y="58903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Oval 548"/>
                <p:cNvSpPr/>
                <p:nvPr/>
              </p:nvSpPr>
              <p:spPr>
                <a:xfrm rot="5400000">
                  <a:off x="2627280" y="58903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7" name="Group 549"/>
              <p:cNvGrpSpPr/>
              <p:nvPr/>
            </p:nvGrpSpPr>
            <p:grpSpPr>
              <a:xfrm>
                <a:off x="2641680" y="5821200"/>
                <a:ext cx="187560" cy="187200"/>
                <a:chOff x="2641680" y="5821200"/>
                <a:chExt cx="187560" cy="187200"/>
              </a:xfrm>
            </p:grpSpPr>
            <p:sp>
              <p:nvSpPr>
                <p:cNvPr id="518" name="Oval 550"/>
                <p:cNvSpPr/>
                <p:nvPr/>
              </p:nvSpPr>
              <p:spPr>
                <a:xfrm rot="2700000">
                  <a:off x="2627640" y="588996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Oval 551"/>
                <p:cNvSpPr/>
                <p:nvPr/>
              </p:nvSpPr>
              <p:spPr>
                <a:xfrm rot="8100000">
                  <a:off x="2626920" y="58903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20" name="Group 552"/>
            <p:cNvGrpSpPr/>
            <p:nvPr/>
          </p:nvGrpSpPr>
          <p:grpSpPr>
            <a:xfrm>
              <a:off x="2625840" y="5805720"/>
              <a:ext cx="218520" cy="218160"/>
              <a:chOff x="2625840" y="5805720"/>
              <a:chExt cx="218520" cy="218160"/>
            </a:xfrm>
          </p:grpSpPr>
          <p:grpSp>
            <p:nvGrpSpPr>
              <p:cNvPr id="521" name="Group 553"/>
              <p:cNvGrpSpPr/>
              <p:nvPr/>
            </p:nvGrpSpPr>
            <p:grpSpPr>
              <a:xfrm>
                <a:off x="2625840" y="5805720"/>
                <a:ext cx="218520" cy="218160"/>
                <a:chOff x="2625840" y="5805720"/>
                <a:chExt cx="218520" cy="218160"/>
              </a:xfrm>
            </p:grpSpPr>
            <p:sp>
              <p:nvSpPr>
                <p:cNvPr id="522" name="Oval 554"/>
                <p:cNvSpPr/>
                <p:nvPr/>
              </p:nvSpPr>
              <p:spPr>
                <a:xfrm rot="1320000">
                  <a:off x="2626920" y="58903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Oval 555"/>
                <p:cNvSpPr/>
                <p:nvPr/>
              </p:nvSpPr>
              <p:spPr>
                <a:xfrm rot="6720000">
                  <a:off x="2627280" y="58903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Group 556"/>
              <p:cNvGrpSpPr/>
              <p:nvPr/>
            </p:nvGrpSpPr>
            <p:grpSpPr>
              <a:xfrm>
                <a:off x="2626560" y="5806080"/>
                <a:ext cx="217800" cy="217800"/>
                <a:chOff x="2626560" y="5806080"/>
                <a:chExt cx="217800" cy="217800"/>
              </a:xfrm>
            </p:grpSpPr>
            <p:sp>
              <p:nvSpPr>
                <p:cNvPr id="525" name="Oval 557"/>
                <p:cNvSpPr/>
                <p:nvPr/>
              </p:nvSpPr>
              <p:spPr>
                <a:xfrm rot="4020000">
                  <a:off x="2627280" y="58903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Oval 558"/>
                <p:cNvSpPr/>
                <p:nvPr/>
              </p:nvSpPr>
              <p:spPr>
                <a:xfrm rot="9420000">
                  <a:off x="2627280" y="58899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27" name="Oval 559"/>
            <p:cNvSpPr/>
            <p:nvPr/>
          </p:nvSpPr>
          <p:spPr>
            <a:xfrm>
              <a:off x="2699640" y="5883120"/>
              <a:ext cx="70560" cy="63000"/>
            </a:xfrm>
            <a:prstGeom prst="ellipse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8" name="Group 560"/>
          <p:cNvGrpSpPr/>
          <p:nvPr/>
        </p:nvGrpSpPr>
        <p:grpSpPr>
          <a:xfrm>
            <a:off x="897120" y="5805720"/>
            <a:ext cx="218520" cy="218160"/>
            <a:chOff x="897120" y="5805720"/>
            <a:chExt cx="218520" cy="218160"/>
          </a:xfrm>
        </p:grpSpPr>
        <p:grpSp>
          <p:nvGrpSpPr>
            <p:cNvPr id="529" name="Group 561"/>
            <p:cNvGrpSpPr/>
            <p:nvPr/>
          </p:nvGrpSpPr>
          <p:grpSpPr>
            <a:xfrm>
              <a:off x="898560" y="5807160"/>
              <a:ext cx="216000" cy="215640"/>
              <a:chOff x="898560" y="5807160"/>
              <a:chExt cx="216000" cy="215640"/>
            </a:xfrm>
          </p:grpSpPr>
          <p:grpSp>
            <p:nvGrpSpPr>
              <p:cNvPr id="530" name="Group 562"/>
              <p:cNvGrpSpPr/>
              <p:nvPr/>
            </p:nvGrpSpPr>
            <p:grpSpPr>
              <a:xfrm>
                <a:off x="898560" y="5807160"/>
                <a:ext cx="216000" cy="215640"/>
                <a:chOff x="898560" y="5807160"/>
                <a:chExt cx="216000" cy="215640"/>
              </a:xfrm>
            </p:grpSpPr>
            <p:sp>
              <p:nvSpPr>
                <p:cNvPr id="531" name="Oval 563"/>
                <p:cNvSpPr/>
                <p:nvPr/>
              </p:nvSpPr>
              <p:spPr>
                <a:xfrm>
                  <a:off x="898560" y="58903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Oval 564"/>
                <p:cNvSpPr/>
                <p:nvPr/>
              </p:nvSpPr>
              <p:spPr>
                <a:xfrm rot="5400000">
                  <a:off x="898560" y="58903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3" name="Group 565"/>
              <p:cNvGrpSpPr/>
              <p:nvPr/>
            </p:nvGrpSpPr>
            <p:grpSpPr>
              <a:xfrm>
                <a:off x="912960" y="5821200"/>
                <a:ext cx="187560" cy="187200"/>
                <a:chOff x="912960" y="5821200"/>
                <a:chExt cx="187560" cy="187200"/>
              </a:xfrm>
            </p:grpSpPr>
            <p:sp>
              <p:nvSpPr>
                <p:cNvPr id="534" name="Oval 566"/>
                <p:cNvSpPr/>
                <p:nvPr/>
              </p:nvSpPr>
              <p:spPr>
                <a:xfrm rot="2700000">
                  <a:off x="898920" y="588996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Oval 567"/>
                <p:cNvSpPr/>
                <p:nvPr/>
              </p:nvSpPr>
              <p:spPr>
                <a:xfrm rot="8100000">
                  <a:off x="898200" y="58903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36" name="Group 568"/>
            <p:cNvGrpSpPr/>
            <p:nvPr/>
          </p:nvGrpSpPr>
          <p:grpSpPr>
            <a:xfrm>
              <a:off x="897120" y="5805720"/>
              <a:ext cx="218520" cy="218160"/>
              <a:chOff x="897120" y="5805720"/>
              <a:chExt cx="218520" cy="218160"/>
            </a:xfrm>
          </p:grpSpPr>
          <p:grpSp>
            <p:nvGrpSpPr>
              <p:cNvPr id="537" name="Group 569"/>
              <p:cNvGrpSpPr/>
              <p:nvPr/>
            </p:nvGrpSpPr>
            <p:grpSpPr>
              <a:xfrm>
                <a:off x="897120" y="5805720"/>
                <a:ext cx="218520" cy="218160"/>
                <a:chOff x="897120" y="5805720"/>
                <a:chExt cx="218520" cy="218160"/>
              </a:xfrm>
            </p:grpSpPr>
            <p:sp>
              <p:nvSpPr>
                <p:cNvPr id="538" name="Oval 570"/>
                <p:cNvSpPr/>
                <p:nvPr/>
              </p:nvSpPr>
              <p:spPr>
                <a:xfrm rot="1320000">
                  <a:off x="898200" y="58903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Oval 571"/>
                <p:cNvSpPr/>
                <p:nvPr/>
              </p:nvSpPr>
              <p:spPr>
                <a:xfrm rot="6720000">
                  <a:off x="898560" y="58903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0" name="Group 572"/>
              <p:cNvGrpSpPr/>
              <p:nvPr/>
            </p:nvGrpSpPr>
            <p:grpSpPr>
              <a:xfrm>
                <a:off x="897840" y="5806080"/>
                <a:ext cx="217800" cy="217800"/>
                <a:chOff x="897840" y="5806080"/>
                <a:chExt cx="217800" cy="217800"/>
              </a:xfrm>
            </p:grpSpPr>
            <p:sp>
              <p:nvSpPr>
                <p:cNvPr id="541" name="Oval 573"/>
                <p:cNvSpPr/>
                <p:nvPr/>
              </p:nvSpPr>
              <p:spPr>
                <a:xfrm rot="4020000">
                  <a:off x="898560" y="58903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Oval 574"/>
                <p:cNvSpPr/>
                <p:nvPr/>
              </p:nvSpPr>
              <p:spPr>
                <a:xfrm rot="9420000">
                  <a:off x="898560" y="58899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43" name="Oval 575"/>
            <p:cNvSpPr/>
            <p:nvPr/>
          </p:nvSpPr>
          <p:spPr>
            <a:xfrm>
              <a:off x="970920" y="5883120"/>
              <a:ext cx="70560" cy="63000"/>
            </a:xfrm>
            <a:prstGeom prst="ellipse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Group 576"/>
          <p:cNvGrpSpPr/>
          <p:nvPr/>
        </p:nvGrpSpPr>
        <p:grpSpPr>
          <a:xfrm>
            <a:off x="3202560" y="6020280"/>
            <a:ext cx="146160" cy="146160"/>
            <a:chOff x="3202560" y="6020280"/>
            <a:chExt cx="146160" cy="146160"/>
          </a:xfrm>
        </p:grpSpPr>
        <p:grpSp>
          <p:nvGrpSpPr>
            <p:cNvPr id="545" name="Group 577"/>
            <p:cNvGrpSpPr/>
            <p:nvPr/>
          </p:nvGrpSpPr>
          <p:grpSpPr>
            <a:xfrm>
              <a:off x="3203640" y="6021360"/>
              <a:ext cx="144360" cy="144360"/>
              <a:chOff x="3203640" y="6021360"/>
              <a:chExt cx="144360" cy="144360"/>
            </a:xfrm>
          </p:grpSpPr>
          <p:grpSp>
            <p:nvGrpSpPr>
              <p:cNvPr id="546" name="Group 578"/>
              <p:cNvGrpSpPr/>
              <p:nvPr/>
            </p:nvGrpSpPr>
            <p:grpSpPr>
              <a:xfrm>
                <a:off x="3203640" y="6021360"/>
                <a:ext cx="144360" cy="144360"/>
                <a:chOff x="3203640" y="6021360"/>
                <a:chExt cx="144360" cy="144360"/>
              </a:xfrm>
            </p:grpSpPr>
            <p:sp>
              <p:nvSpPr>
                <p:cNvPr id="547" name="Oval 579"/>
                <p:cNvSpPr/>
                <p:nvPr/>
              </p:nvSpPr>
              <p:spPr>
                <a:xfrm>
                  <a:off x="3203640" y="60771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Oval 580"/>
                <p:cNvSpPr/>
                <p:nvPr/>
              </p:nvSpPr>
              <p:spPr>
                <a:xfrm rot="5400000">
                  <a:off x="3203280" y="60771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9" name="Group 581"/>
              <p:cNvGrpSpPr/>
              <p:nvPr/>
            </p:nvGrpSpPr>
            <p:grpSpPr>
              <a:xfrm>
                <a:off x="3212640" y="6030720"/>
                <a:ext cx="125640" cy="125640"/>
                <a:chOff x="3212640" y="6030720"/>
                <a:chExt cx="125640" cy="125640"/>
              </a:xfrm>
            </p:grpSpPr>
            <p:sp>
              <p:nvSpPr>
                <p:cNvPr id="550" name="Oval 582"/>
                <p:cNvSpPr/>
                <p:nvPr/>
              </p:nvSpPr>
              <p:spPr>
                <a:xfrm rot="2700000">
                  <a:off x="3203280" y="60771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Oval 583"/>
                <p:cNvSpPr/>
                <p:nvPr/>
              </p:nvSpPr>
              <p:spPr>
                <a:xfrm rot="8100000">
                  <a:off x="3202920" y="60768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52" name="Group 584"/>
            <p:cNvGrpSpPr/>
            <p:nvPr/>
          </p:nvGrpSpPr>
          <p:grpSpPr>
            <a:xfrm>
              <a:off x="3202560" y="6020280"/>
              <a:ext cx="146160" cy="146160"/>
              <a:chOff x="3202560" y="6020280"/>
              <a:chExt cx="146160" cy="146160"/>
            </a:xfrm>
          </p:grpSpPr>
          <p:grpSp>
            <p:nvGrpSpPr>
              <p:cNvPr id="553" name="Group 585"/>
              <p:cNvGrpSpPr/>
              <p:nvPr/>
            </p:nvGrpSpPr>
            <p:grpSpPr>
              <a:xfrm>
                <a:off x="3202560" y="6020280"/>
                <a:ext cx="146160" cy="146160"/>
                <a:chOff x="3202560" y="6020280"/>
                <a:chExt cx="146160" cy="146160"/>
              </a:xfrm>
            </p:grpSpPr>
            <p:sp>
              <p:nvSpPr>
                <p:cNvPr id="554" name="Oval 586"/>
                <p:cNvSpPr/>
                <p:nvPr/>
              </p:nvSpPr>
              <p:spPr>
                <a:xfrm rot="1320000">
                  <a:off x="3203280" y="60768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Oval 587"/>
                <p:cNvSpPr/>
                <p:nvPr/>
              </p:nvSpPr>
              <p:spPr>
                <a:xfrm rot="6720000">
                  <a:off x="3203280" y="60768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6" name="Group 588"/>
              <p:cNvGrpSpPr/>
              <p:nvPr/>
            </p:nvGrpSpPr>
            <p:grpSpPr>
              <a:xfrm>
                <a:off x="3202560" y="6020640"/>
                <a:ext cx="145800" cy="145800"/>
                <a:chOff x="3202560" y="6020640"/>
                <a:chExt cx="145800" cy="145800"/>
              </a:xfrm>
            </p:grpSpPr>
            <p:sp>
              <p:nvSpPr>
                <p:cNvPr id="557" name="Oval 589"/>
                <p:cNvSpPr/>
                <p:nvPr/>
              </p:nvSpPr>
              <p:spPr>
                <a:xfrm rot="4020000">
                  <a:off x="3202920" y="60768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Oval 590"/>
                <p:cNvSpPr/>
                <p:nvPr/>
              </p:nvSpPr>
              <p:spPr>
                <a:xfrm rot="9420000">
                  <a:off x="3203280" y="60764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9" name="Oval 591"/>
            <p:cNvSpPr/>
            <p:nvPr/>
          </p:nvSpPr>
          <p:spPr>
            <a:xfrm>
              <a:off x="3251880" y="6072120"/>
              <a:ext cx="47160" cy="42120"/>
            </a:xfrm>
            <a:prstGeom prst="ellipse">
              <a:avLst/>
            </a:prstGeom>
            <a:blipFill rotWithShape="0">
              <a:blip r:embed="rId24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0" name="Group 592"/>
          <p:cNvGrpSpPr/>
          <p:nvPr/>
        </p:nvGrpSpPr>
        <p:grpSpPr>
          <a:xfrm>
            <a:off x="2770560" y="6166440"/>
            <a:ext cx="146520" cy="146160"/>
            <a:chOff x="2770560" y="6166440"/>
            <a:chExt cx="146520" cy="146160"/>
          </a:xfrm>
        </p:grpSpPr>
        <p:grpSp>
          <p:nvGrpSpPr>
            <p:cNvPr id="561" name="Group 593"/>
            <p:cNvGrpSpPr/>
            <p:nvPr/>
          </p:nvGrpSpPr>
          <p:grpSpPr>
            <a:xfrm>
              <a:off x="2771640" y="6167520"/>
              <a:ext cx="144720" cy="144360"/>
              <a:chOff x="2771640" y="6167520"/>
              <a:chExt cx="144720" cy="144360"/>
            </a:xfrm>
          </p:grpSpPr>
          <p:grpSp>
            <p:nvGrpSpPr>
              <p:cNvPr id="562" name="Group 594"/>
              <p:cNvGrpSpPr/>
              <p:nvPr/>
            </p:nvGrpSpPr>
            <p:grpSpPr>
              <a:xfrm>
                <a:off x="2771640" y="6167520"/>
                <a:ext cx="144720" cy="144360"/>
                <a:chOff x="2771640" y="6167520"/>
                <a:chExt cx="144720" cy="144360"/>
              </a:xfrm>
            </p:grpSpPr>
            <p:sp>
              <p:nvSpPr>
                <p:cNvPr id="563" name="Oval 595"/>
                <p:cNvSpPr/>
                <p:nvPr/>
              </p:nvSpPr>
              <p:spPr>
                <a:xfrm>
                  <a:off x="2771640" y="622332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Oval 596"/>
                <p:cNvSpPr/>
                <p:nvPr/>
              </p:nvSpPr>
              <p:spPr>
                <a:xfrm rot="5400000">
                  <a:off x="2771280" y="622332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5" name="Group 597"/>
              <p:cNvGrpSpPr/>
              <p:nvPr/>
            </p:nvGrpSpPr>
            <p:grpSpPr>
              <a:xfrm>
                <a:off x="2781000" y="6176880"/>
                <a:ext cx="126000" cy="125280"/>
                <a:chOff x="2781000" y="6176880"/>
                <a:chExt cx="126000" cy="125280"/>
              </a:xfrm>
            </p:grpSpPr>
            <p:sp>
              <p:nvSpPr>
                <p:cNvPr id="566" name="Oval 598"/>
                <p:cNvSpPr/>
                <p:nvPr/>
              </p:nvSpPr>
              <p:spPr>
                <a:xfrm rot="2700000">
                  <a:off x="2772000" y="62229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Oval 599"/>
                <p:cNvSpPr/>
                <p:nvPr/>
              </p:nvSpPr>
              <p:spPr>
                <a:xfrm rot="8100000">
                  <a:off x="2771280" y="622296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68" name="Group 600"/>
            <p:cNvGrpSpPr/>
            <p:nvPr/>
          </p:nvGrpSpPr>
          <p:grpSpPr>
            <a:xfrm>
              <a:off x="2770560" y="6166440"/>
              <a:ext cx="146520" cy="146160"/>
              <a:chOff x="2770560" y="6166440"/>
              <a:chExt cx="146520" cy="146160"/>
            </a:xfrm>
          </p:grpSpPr>
          <p:grpSp>
            <p:nvGrpSpPr>
              <p:cNvPr id="569" name="Group 601"/>
              <p:cNvGrpSpPr/>
              <p:nvPr/>
            </p:nvGrpSpPr>
            <p:grpSpPr>
              <a:xfrm>
                <a:off x="2770560" y="6166440"/>
                <a:ext cx="146520" cy="146160"/>
                <a:chOff x="2770560" y="6166440"/>
                <a:chExt cx="146520" cy="146160"/>
              </a:xfrm>
            </p:grpSpPr>
            <p:sp>
              <p:nvSpPr>
                <p:cNvPr id="570" name="Oval 602"/>
                <p:cNvSpPr/>
                <p:nvPr/>
              </p:nvSpPr>
              <p:spPr>
                <a:xfrm rot="1320000">
                  <a:off x="2771280" y="622296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Oval 603"/>
                <p:cNvSpPr/>
                <p:nvPr/>
              </p:nvSpPr>
              <p:spPr>
                <a:xfrm rot="6720000">
                  <a:off x="2771280" y="62229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2" name="Group 604"/>
              <p:cNvGrpSpPr/>
              <p:nvPr/>
            </p:nvGrpSpPr>
            <p:grpSpPr>
              <a:xfrm>
                <a:off x="2770920" y="6166800"/>
                <a:ext cx="146160" cy="145800"/>
                <a:chOff x="2770920" y="6166800"/>
                <a:chExt cx="146160" cy="145800"/>
              </a:xfrm>
            </p:grpSpPr>
            <p:sp>
              <p:nvSpPr>
                <p:cNvPr id="573" name="Oval 605"/>
                <p:cNvSpPr/>
                <p:nvPr/>
              </p:nvSpPr>
              <p:spPr>
                <a:xfrm rot="4020000">
                  <a:off x="2771640" y="62229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Oval 606"/>
                <p:cNvSpPr/>
                <p:nvPr/>
              </p:nvSpPr>
              <p:spPr>
                <a:xfrm rot="9420000">
                  <a:off x="2771640" y="622296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75" name="Oval 607"/>
            <p:cNvSpPr/>
            <p:nvPr/>
          </p:nvSpPr>
          <p:spPr>
            <a:xfrm>
              <a:off x="2820240" y="6218280"/>
              <a:ext cx="47160" cy="42120"/>
            </a:xfrm>
            <a:prstGeom prst="ellipse">
              <a:avLst/>
            </a:prstGeom>
            <a:blipFill rotWithShape="0">
              <a:blip r:embed="rId25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Group 608"/>
          <p:cNvGrpSpPr/>
          <p:nvPr/>
        </p:nvGrpSpPr>
        <p:grpSpPr>
          <a:xfrm>
            <a:off x="5362920" y="5946840"/>
            <a:ext cx="218520" cy="218520"/>
            <a:chOff x="5362920" y="5946840"/>
            <a:chExt cx="218520" cy="218520"/>
          </a:xfrm>
        </p:grpSpPr>
        <p:grpSp>
          <p:nvGrpSpPr>
            <p:cNvPr id="577" name="Group 609"/>
            <p:cNvGrpSpPr/>
            <p:nvPr/>
          </p:nvGrpSpPr>
          <p:grpSpPr>
            <a:xfrm>
              <a:off x="5364000" y="5948280"/>
              <a:ext cx="216000" cy="216000"/>
              <a:chOff x="5364000" y="5948280"/>
              <a:chExt cx="216000" cy="216000"/>
            </a:xfrm>
          </p:grpSpPr>
          <p:grpSp>
            <p:nvGrpSpPr>
              <p:cNvPr id="578" name="Group 610"/>
              <p:cNvGrpSpPr/>
              <p:nvPr/>
            </p:nvGrpSpPr>
            <p:grpSpPr>
              <a:xfrm>
                <a:off x="5364000" y="5948280"/>
                <a:ext cx="216000" cy="216000"/>
                <a:chOff x="5364000" y="5948280"/>
                <a:chExt cx="216000" cy="216000"/>
              </a:xfrm>
            </p:grpSpPr>
            <p:sp>
              <p:nvSpPr>
                <p:cNvPr id="579" name="Oval 611"/>
                <p:cNvSpPr/>
                <p:nvPr/>
              </p:nvSpPr>
              <p:spPr>
                <a:xfrm>
                  <a:off x="5364000" y="60314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Oval 612"/>
                <p:cNvSpPr/>
                <p:nvPr/>
              </p:nvSpPr>
              <p:spPr>
                <a:xfrm rot="5400000">
                  <a:off x="5364000" y="60318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1" name="Group 613"/>
              <p:cNvGrpSpPr/>
              <p:nvPr/>
            </p:nvGrpSpPr>
            <p:grpSpPr>
              <a:xfrm>
                <a:off x="5378400" y="5962320"/>
                <a:ext cx="187560" cy="187560"/>
                <a:chOff x="5378400" y="5962320"/>
                <a:chExt cx="187560" cy="187560"/>
              </a:xfrm>
            </p:grpSpPr>
            <p:sp>
              <p:nvSpPr>
                <p:cNvPr id="582" name="Oval 614"/>
                <p:cNvSpPr/>
                <p:nvPr/>
              </p:nvSpPr>
              <p:spPr>
                <a:xfrm rot="2700000">
                  <a:off x="5364360" y="60314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Oval 615"/>
                <p:cNvSpPr/>
                <p:nvPr/>
              </p:nvSpPr>
              <p:spPr>
                <a:xfrm rot="8100000">
                  <a:off x="5363640" y="60318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84" name="Group 616"/>
            <p:cNvGrpSpPr/>
            <p:nvPr/>
          </p:nvGrpSpPr>
          <p:grpSpPr>
            <a:xfrm>
              <a:off x="5362920" y="5946840"/>
              <a:ext cx="218520" cy="218520"/>
              <a:chOff x="5362920" y="5946840"/>
              <a:chExt cx="218520" cy="218520"/>
            </a:xfrm>
          </p:grpSpPr>
          <p:grpSp>
            <p:nvGrpSpPr>
              <p:cNvPr id="585" name="Group 617"/>
              <p:cNvGrpSpPr/>
              <p:nvPr/>
            </p:nvGrpSpPr>
            <p:grpSpPr>
              <a:xfrm>
                <a:off x="5362920" y="5946840"/>
                <a:ext cx="218520" cy="218520"/>
                <a:chOff x="5362920" y="5946840"/>
                <a:chExt cx="218520" cy="218520"/>
              </a:xfrm>
            </p:grpSpPr>
            <p:sp>
              <p:nvSpPr>
                <p:cNvPr id="586" name="Oval 618"/>
                <p:cNvSpPr/>
                <p:nvPr/>
              </p:nvSpPr>
              <p:spPr>
                <a:xfrm rot="1320000">
                  <a:off x="5364000" y="60314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Oval 619"/>
                <p:cNvSpPr/>
                <p:nvPr/>
              </p:nvSpPr>
              <p:spPr>
                <a:xfrm rot="6720000">
                  <a:off x="5363640" y="60314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8" name="Group 620"/>
              <p:cNvGrpSpPr/>
              <p:nvPr/>
            </p:nvGrpSpPr>
            <p:grpSpPr>
              <a:xfrm>
                <a:off x="5363280" y="5947200"/>
                <a:ext cx="217800" cy="217800"/>
                <a:chOff x="5363280" y="5947200"/>
                <a:chExt cx="217800" cy="217800"/>
              </a:xfrm>
            </p:grpSpPr>
            <p:sp>
              <p:nvSpPr>
                <p:cNvPr id="589" name="Oval 621"/>
                <p:cNvSpPr/>
                <p:nvPr/>
              </p:nvSpPr>
              <p:spPr>
                <a:xfrm rot="4020000">
                  <a:off x="5364360" y="60314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Oval 622"/>
                <p:cNvSpPr/>
                <p:nvPr/>
              </p:nvSpPr>
              <p:spPr>
                <a:xfrm rot="9420000">
                  <a:off x="5364000" y="60314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91" name="Oval 623"/>
            <p:cNvSpPr/>
            <p:nvPr/>
          </p:nvSpPr>
          <p:spPr>
            <a:xfrm>
              <a:off x="5436360" y="6024600"/>
              <a:ext cx="70560" cy="63000"/>
            </a:xfrm>
            <a:prstGeom prst="ellipse">
              <a:avLst/>
            </a:prstGeom>
            <a:blipFill rotWithShape="0">
              <a:blip r:embed="rId26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Group 624"/>
          <p:cNvGrpSpPr/>
          <p:nvPr/>
        </p:nvGrpSpPr>
        <p:grpSpPr>
          <a:xfrm>
            <a:off x="6370920" y="5586480"/>
            <a:ext cx="218520" cy="218520"/>
            <a:chOff x="6370920" y="5586480"/>
            <a:chExt cx="218520" cy="218520"/>
          </a:xfrm>
        </p:grpSpPr>
        <p:grpSp>
          <p:nvGrpSpPr>
            <p:cNvPr id="593" name="Group 625"/>
            <p:cNvGrpSpPr/>
            <p:nvPr/>
          </p:nvGrpSpPr>
          <p:grpSpPr>
            <a:xfrm>
              <a:off x="6372360" y="5587920"/>
              <a:ext cx="215640" cy="216000"/>
              <a:chOff x="6372360" y="5587920"/>
              <a:chExt cx="215640" cy="216000"/>
            </a:xfrm>
          </p:grpSpPr>
          <p:grpSp>
            <p:nvGrpSpPr>
              <p:cNvPr id="594" name="Group 626"/>
              <p:cNvGrpSpPr/>
              <p:nvPr/>
            </p:nvGrpSpPr>
            <p:grpSpPr>
              <a:xfrm>
                <a:off x="6372360" y="5587920"/>
                <a:ext cx="215640" cy="216000"/>
                <a:chOff x="6372360" y="5587920"/>
                <a:chExt cx="215640" cy="216000"/>
              </a:xfrm>
            </p:grpSpPr>
            <p:sp>
              <p:nvSpPr>
                <p:cNvPr id="595" name="Oval 627"/>
                <p:cNvSpPr/>
                <p:nvPr/>
              </p:nvSpPr>
              <p:spPr>
                <a:xfrm>
                  <a:off x="6372360" y="567108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Oval 628"/>
                <p:cNvSpPr/>
                <p:nvPr/>
              </p:nvSpPr>
              <p:spPr>
                <a:xfrm rot="5400000">
                  <a:off x="6372000" y="56714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7" name="Group 629"/>
              <p:cNvGrpSpPr/>
              <p:nvPr/>
            </p:nvGrpSpPr>
            <p:grpSpPr>
              <a:xfrm>
                <a:off x="6386400" y="5602320"/>
                <a:ext cx="187200" cy="187560"/>
                <a:chOff x="6386400" y="5602320"/>
                <a:chExt cx="187200" cy="187560"/>
              </a:xfrm>
            </p:grpSpPr>
            <p:sp>
              <p:nvSpPr>
                <p:cNvPr id="598" name="Oval 630"/>
                <p:cNvSpPr/>
                <p:nvPr/>
              </p:nvSpPr>
              <p:spPr>
                <a:xfrm rot="2700000">
                  <a:off x="6372000" y="56714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Oval 631"/>
                <p:cNvSpPr/>
                <p:nvPr/>
              </p:nvSpPr>
              <p:spPr>
                <a:xfrm rot="8100000">
                  <a:off x="6372000" y="567144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00" name="Group 632"/>
            <p:cNvGrpSpPr/>
            <p:nvPr/>
          </p:nvGrpSpPr>
          <p:grpSpPr>
            <a:xfrm>
              <a:off x="6370920" y="5586480"/>
              <a:ext cx="218520" cy="218520"/>
              <a:chOff x="6370920" y="5586480"/>
              <a:chExt cx="218520" cy="218520"/>
            </a:xfrm>
          </p:grpSpPr>
          <p:grpSp>
            <p:nvGrpSpPr>
              <p:cNvPr id="601" name="Group 633"/>
              <p:cNvGrpSpPr/>
              <p:nvPr/>
            </p:nvGrpSpPr>
            <p:grpSpPr>
              <a:xfrm>
                <a:off x="6371280" y="5586480"/>
                <a:ext cx="218160" cy="218520"/>
                <a:chOff x="6371280" y="5586480"/>
                <a:chExt cx="218160" cy="218520"/>
              </a:xfrm>
            </p:grpSpPr>
            <p:sp>
              <p:nvSpPr>
                <p:cNvPr id="602" name="Oval 634"/>
                <p:cNvSpPr/>
                <p:nvPr/>
              </p:nvSpPr>
              <p:spPr>
                <a:xfrm rot="1320000">
                  <a:off x="6372360" y="567108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Oval 635"/>
                <p:cNvSpPr/>
                <p:nvPr/>
              </p:nvSpPr>
              <p:spPr>
                <a:xfrm rot="6720000">
                  <a:off x="6371640" y="567108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4" name="Group 636"/>
              <p:cNvGrpSpPr/>
              <p:nvPr/>
            </p:nvGrpSpPr>
            <p:grpSpPr>
              <a:xfrm>
                <a:off x="6370920" y="5586840"/>
                <a:ext cx="217800" cy="217800"/>
                <a:chOff x="6370920" y="5586840"/>
                <a:chExt cx="217800" cy="217800"/>
              </a:xfrm>
            </p:grpSpPr>
            <p:sp>
              <p:nvSpPr>
                <p:cNvPr id="605" name="Oval 637"/>
                <p:cNvSpPr/>
                <p:nvPr/>
              </p:nvSpPr>
              <p:spPr>
                <a:xfrm rot="4020000">
                  <a:off x="6371640" y="567108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Oval 638"/>
                <p:cNvSpPr/>
                <p:nvPr/>
              </p:nvSpPr>
              <p:spPr>
                <a:xfrm rot="9420000">
                  <a:off x="6372000" y="567144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07" name="Oval 639"/>
            <p:cNvSpPr/>
            <p:nvPr/>
          </p:nvSpPr>
          <p:spPr>
            <a:xfrm>
              <a:off x="6444720" y="5664240"/>
              <a:ext cx="70200" cy="63000"/>
            </a:xfrm>
            <a:prstGeom prst="ellipse">
              <a:avLst/>
            </a:prstGeom>
            <a:blipFill rotWithShape="0">
              <a:blip r:embed="rId27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8" name="Group 640"/>
          <p:cNvGrpSpPr/>
          <p:nvPr/>
        </p:nvGrpSpPr>
        <p:grpSpPr>
          <a:xfrm>
            <a:off x="6010560" y="5515200"/>
            <a:ext cx="218520" cy="218520"/>
            <a:chOff x="6010560" y="5515200"/>
            <a:chExt cx="218520" cy="218520"/>
          </a:xfrm>
        </p:grpSpPr>
        <p:grpSp>
          <p:nvGrpSpPr>
            <p:cNvPr id="609" name="Group 641"/>
            <p:cNvGrpSpPr/>
            <p:nvPr/>
          </p:nvGrpSpPr>
          <p:grpSpPr>
            <a:xfrm>
              <a:off x="6012000" y="5516640"/>
              <a:ext cx="215640" cy="216000"/>
              <a:chOff x="6012000" y="5516640"/>
              <a:chExt cx="215640" cy="216000"/>
            </a:xfrm>
          </p:grpSpPr>
          <p:grpSp>
            <p:nvGrpSpPr>
              <p:cNvPr id="610" name="Group 642"/>
              <p:cNvGrpSpPr/>
              <p:nvPr/>
            </p:nvGrpSpPr>
            <p:grpSpPr>
              <a:xfrm>
                <a:off x="6012000" y="5516640"/>
                <a:ext cx="215640" cy="216000"/>
                <a:chOff x="6012000" y="5516640"/>
                <a:chExt cx="215640" cy="216000"/>
              </a:xfrm>
            </p:grpSpPr>
            <p:sp>
              <p:nvSpPr>
                <p:cNvPr id="611" name="Oval 643"/>
                <p:cNvSpPr/>
                <p:nvPr/>
              </p:nvSpPr>
              <p:spPr>
                <a:xfrm>
                  <a:off x="6012000" y="559980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Oval 644"/>
                <p:cNvSpPr/>
                <p:nvPr/>
              </p:nvSpPr>
              <p:spPr>
                <a:xfrm rot="5400000">
                  <a:off x="6011640" y="56001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3" name="Group 645"/>
              <p:cNvGrpSpPr/>
              <p:nvPr/>
            </p:nvGrpSpPr>
            <p:grpSpPr>
              <a:xfrm>
                <a:off x="6026040" y="5531040"/>
                <a:ext cx="187200" cy="187560"/>
                <a:chOff x="6026040" y="5531040"/>
                <a:chExt cx="187200" cy="187560"/>
              </a:xfrm>
            </p:grpSpPr>
            <p:sp>
              <p:nvSpPr>
                <p:cNvPr id="614" name="Oval 646"/>
                <p:cNvSpPr/>
                <p:nvPr/>
              </p:nvSpPr>
              <p:spPr>
                <a:xfrm rot="2700000">
                  <a:off x="6011640" y="56001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Oval 647"/>
                <p:cNvSpPr/>
                <p:nvPr/>
              </p:nvSpPr>
              <p:spPr>
                <a:xfrm rot="8100000">
                  <a:off x="6011640" y="560016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16" name="Group 648"/>
            <p:cNvGrpSpPr/>
            <p:nvPr/>
          </p:nvGrpSpPr>
          <p:grpSpPr>
            <a:xfrm>
              <a:off x="6010560" y="5515200"/>
              <a:ext cx="218520" cy="218520"/>
              <a:chOff x="6010560" y="5515200"/>
              <a:chExt cx="218520" cy="218520"/>
            </a:xfrm>
          </p:grpSpPr>
          <p:grpSp>
            <p:nvGrpSpPr>
              <p:cNvPr id="617" name="Group 649"/>
              <p:cNvGrpSpPr/>
              <p:nvPr/>
            </p:nvGrpSpPr>
            <p:grpSpPr>
              <a:xfrm>
                <a:off x="6010920" y="5515200"/>
                <a:ext cx="218160" cy="218520"/>
                <a:chOff x="6010920" y="5515200"/>
                <a:chExt cx="218160" cy="218520"/>
              </a:xfrm>
            </p:grpSpPr>
            <p:sp>
              <p:nvSpPr>
                <p:cNvPr id="618" name="Oval 650"/>
                <p:cNvSpPr/>
                <p:nvPr/>
              </p:nvSpPr>
              <p:spPr>
                <a:xfrm rot="1320000">
                  <a:off x="6012000" y="559980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Oval 651"/>
                <p:cNvSpPr/>
                <p:nvPr/>
              </p:nvSpPr>
              <p:spPr>
                <a:xfrm rot="6720000">
                  <a:off x="6011280" y="55998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0" name="Group 652"/>
              <p:cNvGrpSpPr/>
              <p:nvPr/>
            </p:nvGrpSpPr>
            <p:grpSpPr>
              <a:xfrm>
                <a:off x="6010560" y="5515560"/>
                <a:ext cx="217800" cy="217800"/>
                <a:chOff x="6010560" y="5515560"/>
                <a:chExt cx="217800" cy="217800"/>
              </a:xfrm>
            </p:grpSpPr>
            <p:sp>
              <p:nvSpPr>
                <p:cNvPr id="621" name="Oval 653"/>
                <p:cNvSpPr/>
                <p:nvPr/>
              </p:nvSpPr>
              <p:spPr>
                <a:xfrm rot="4020000">
                  <a:off x="6011280" y="55998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Oval 654"/>
                <p:cNvSpPr/>
                <p:nvPr/>
              </p:nvSpPr>
              <p:spPr>
                <a:xfrm rot="9420000">
                  <a:off x="6011640" y="560016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23" name="Oval 655"/>
            <p:cNvSpPr/>
            <p:nvPr/>
          </p:nvSpPr>
          <p:spPr>
            <a:xfrm>
              <a:off x="6084360" y="5592960"/>
              <a:ext cx="70200" cy="63000"/>
            </a:xfrm>
            <a:prstGeom prst="ellipse">
              <a:avLst/>
            </a:prstGeom>
            <a:blipFill rotWithShape="0">
              <a:blip r:embed="rId28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4" name="Group 656"/>
          <p:cNvGrpSpPr/>
          <p:nvPr/>
        </p:nvGrpSpPr>
        <p:grpSpPr>
          <a:xfrm>
            <a:off x="5794920" y="5875920"/>
            <a:ext cx="146160" cy="146160"/>
            <a:chOff x="5794920" y="5875920"/>
            <a:chExt cx="146160" cy="146160"/>
          </a:xfrm>
        </p:grpSpPr>
        <p:grpSp>
          <p:nvGrpSpPr>
            <p:cNvPr id="625" name="Group 657"/>
            <p:cNvGrpSpPr/>
            <p:nvPr/>
          </p:nvGrpSpPr>
          <p:grpSpPr>
            <a:xfrm>
              <a:off x="5796000" y="5877000"/>
              <a:ext cx="144360" cy="144360"/>
              <a:chOff x="5796000" y="5877000"/>
              <a:chExt cx="144360" cy="144360"/>
            </a:xfrm>
          </p:grpSpPr>
          <p:grpSp>
            <p:nvGrpSpPr>
              <p:cNvPr id="626" name="Group 658"/>
              <p:cNvGrpSpPr/>
              <p:nvPr/>
            </p:nvGrpSpPr>
            <p:grpSpPr>
              <a:xfrm>
                <a:off x="5796000" y="5877000"/>
                <a:ext cx="144360" cy="144360"/>
                <a:chOff x="5796000" y="5877000"/>
                <a:chExt cx="144360" cy="144360"/>
              </a:xfrm>
            </p:grpSpPr>
            <p:sp>
              <p:nvSpPr>
                <p:cNvPr id="627" name="Oval 659"/>
                <p:cNvSpPr/>
                <p:nvPr/>
              </p:nvSpPr>
              <p:spPr>
                <a:xfrm>
                  <a:off x="5796000" y="59328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Oval 660"/>
                <p:cNvSpPr/>
                <p:nvPr/>
              </p:nvSpPr>
              <p:spPr>
                <a:xfrm rot="5400000">
                  <a:off x="5795640" y="59328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9" name="Group 661"/>
              <p:cNvGrpSpPr/>
              <p:nvPr/>
            </p:nvGrpSpPr>
            <p:grpSpPr>
              <a:xfrm>
                <a:off x="5805000" y="5886360"/>
                <a:ext cx="125640" cy="125640"/>
                <a:chOff x="5805000" y="5886360"/>
                <a:chExt cx="125640" cy="125640"/>
              </a:xfrm>
            </p:grpSpPr>
            <p:sp>
              <p:nvSpPr>
                <p:cNvPr id="630" name="Oval 662"/>
                <p:cNvSpPr/>
                <p:nvPr/>
              </p:nvSpPr>
              <p:spPr>
                <a:xfrm rot="2700000">
                  <a:off x="5795640" y="59328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Oval 663"/>
                <p:cNvSpPr/>
                <p:nvPr/>
              </p:nvSpPr>
              <p:spPr>
                <a:xfrm rot="8100000">
                  <a:off x="5795280" y="59324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32" name="Group 664"/>
            <p:cNvGrpSpPr/>
            <p:nvPr/>
          </p:nvGrpSpPr>
          <p:grpSpPr>
            <a:xfrm>
              <a:off x="5794920" y="5875920"/>
              <a:ext cx="146160" cy="146160"/>
              <a:chOff x="5794920" y="5875920"/>
              <a:chExt cx="146160" cy="146160"/>
            </a:xfrm>
          </p:grpSpPr>
          <p:grpSp>
            <p:nvGrpSpPr>
              <p:cNvPr id="633" name="Group 665"/>
              <p:cNvGrpSpPr/>
              <p:nvPr/>
            </p:nvGrpSpPr>
            <p:grpSpPr>
              <a:xfrm>
                <a:off x="5794920" y="5875920"/>
                <a:ext cx="146160" cy="146160"/>
                <a:chOff x="5794920" y="5875920"/>
                <a:chExt cx="146160" cy="146160"/>
              </a:xfrm>
            </p:grpSpPr>
            <p:sp>
              <p:nvSpPr>
                <p:cNvPr id="634" name="Oval 666"/>
                <p:cNvSpPr/>
                <p:nvPr/>
              </p:nvSpPr>
              <p:spPr>
                <a:xfrm rot="1320000">
                  <a:off x="5795640" y="59324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Oval 667"/>
                <p:cNvSpPr/>
                <p:nvPr/>
              </p:nvSpPr>
              <p:spPr>
                <a:xfrm rot="6720000">
                  <a:off x="5795640" y="59324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6" name="Group 668"/>
              <p:cNvGrpSpPr/>
              <p:nvPr/>
            </p:nvGrpSpPr>
            <p:grpSpPr>
              <a:xfrm>
                <a:off x="5794920" y="5876280"/>
                <a:ext cx="145800" cy="145800"/>
                <a:chOff x="5794920" y="5876280"/>
                <a:chExt cx="145800" cy="145800"/>
              </a:xfrm>
            </p:grpSpPr>
            <p:sp>
              <p:nvSpPr>
                <p:cNvPr id="637" name="Oval 669"/>
                <p:cNvSpPr/>
                <p:nvPr/>
              </p:nvSpPr>
              <p:spPr>
                <a:xfrm rot="4020000">
                  <a:off x="5795280" y="59324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Oval 670"/>
                <p:cNvSpPr/>
                <p:nvPr/>
              </p:nvSpPr>
              <p:spPr>
                <a:xfrm rot="9420000">
                  <a:off x="5795640" y="593208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39" name="Oval 671"/>
            <p:cNvSpPr/>
            <p:nvPr/>
          </p:nvSpPr>
          <p:spPr>
            <a:xfrm>
              <a:off x="5844240" y="5927760"/>
              <a:ext cx="47160" cy="42120"/>
            </a:xfrm>
            <a:prstGeom prst="ellips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Group 672"/>
          <p:cNvGrpSpPr/>
          <p:nvPr/>
        </p:nvGrpSpPr>
        <p:grpSpPr>
          <a:xfrm>
            <a:off x="6515640" y="5947200"/>
            <a:ext cx="146520" cy="146520"/>
            <a:chOff x="6515640" y="5947200"/>
            <a:chExt cx="146520" cy="146520"/>
          </a:xfrm>
        </p:grpSpPr>
        <p:grpSp>
          <p:nvGrpSpPr>
            <p:cNvPr id="641" name="Group 673"/>
            <p:cNvGrpSpPr/>
            <p:nvPr/>
          </p:nvGrpSpPr>
          <p:grpSpPr>
            <a:xfrm>
              <a:off x="6516720" y="5948280"/>
              <a:ext cx="144360" cy="144720"/>
              <a:chOff x="6516720" y="5948280"/>
              <a:chExt cx="144360" cy="144720"/>
            </a:xfrm>
          </p:grpSpPr>
          <p:grpSp>
            <p:nvGrpSpPr>
              <p:cNvPr id="642" name="Group 674"/>
              <p:cNvGrpSpPr/>
              <p:nvPr/>
            </p:nvGrpSpPr>
            <p:grpSpPr>
              <a:xfrm>
                <a:off x="6516720" y="5948280"/>
                <a:ext cx="144360" cy="144720"/>
                <a:chOff x="6516720" y="5948280"/>
                <a:chExt cx="144360" cy="144720"/>
              </a:xfrm>
            </p:grpSpPr>
            <p:sp>
              <p:nvSpPr>
                <p:cNvPr id="643" name="Oval 675"/>
                <p:cNvSpPr/>
                <p:nvPr/>
              </p:nvSpPr>
              <p:spPr>
                <a:xfrm>
                  <a:off x="6516720" y="600408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Oval 676"/>
                <p:cNvSpPr/>
                <p:nvPr/>
              </p:nvSpPr>
              <p:spPr>
                <a:xfrm rot="5400000">
                  <a:off x="6516000" y="600408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5" name="Group 677"/>
              <p:cNvGrpSpPr/>
              <p:nvPr/>
            </p:nvGrpSpPr>
            <p:grpSpPr>
              <a:xfrm>
                <a:off x="6525720" y="5958000"/>
                <a:ext cx="125640" cy="125640"/>
                <a:chOff x="6525720" y="5958000"/>
                <a:chExt cx="125640" cy="125640"/>
              </a:xfrm>
            </p:grpSpPr>
            <p:sp>
              <p:nvSpPr>
                <p:cNvPr id="646" name="Oval 678"/>
                <p:cNvSpPr/>
                <p:nvPr/>
              </p:nvSpPr>
              <p:spPr>
                <a:xfrm rot="2700000">
                  <a:off x="6516000" y="600408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Oval 679"/>
                <p:cNvSpPr/>
                <p:nvPr/>
              </p:nvSpPr>
              <p:spPr>
                <a:xfrm rot="8100000">
                  <a:off x="6516000" y="600408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8" name="Group 680"/>
            <p:cNvGrpSpPr/>
            <p:nvPr/>
          </p:nvGrpSpPr>
          <p:grpSpPr>
            <a:xfrm>
              <a:off x="6515640" y="5947200"/>
              <a:ext cx="146520" cy="146520"/>
              <a:chOff x="6515640" y="5947200"/>
              <a:chExt cx="146520" cy="146520"/>
            </a:xfrm>
          </p:grpSpPr>
          <p:grpSp>
            <p:nvGrpSpPr>
              <p:cNvPr id="649" name="Group 681"/>
              <p:cNvGrpSpPr/>
              <p:nvPr/>
            </p:nvGrpSpPr>
            <p:grpSpPr>
              <a:xfrm>
                <a:off x="6516000" y="5947200"/>
                <a:ext cx="146160" cy="146520"/>
                <a:chOff x="6516000" y="5947200"/>
                <a:chExt cx="146160" cy="146520"/>
              </a:xfrm>
            </p:grpSpPr>
            <p:sp>
              <p:nvSpPr>
                <p:cNvPr id="650" name="Oval 682"/>
                <p:cNvSpPr/>
                <p:nvPr/>
              </p:nvSpPr>
              <p:spPr>
                <a:xfrm rot="1320000">
                  <a:off x="6516720" y="600372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Oval 683"/>
                <p:cNvSpPr/>
                <p:nvPr/>
              </p:nvSpPr>
              <p:spPr>
                <a:xfrm rot="6720000">
                  <a:off x="6516000" y="600372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2" name="Group 684"/>
              <p:cNvGrpSpPr/>
              <p:nvPr/>
            </p:nvGrpSpPr>
            <p:grpSpPr>
              <a:xfrm>
                <a:off x="6515640" y="5947560"/>
                <a:ext cx="145800" cy="146160"/>
                <a:chOff x="6515640" y="5947560"/>
                <a:chExt cx="145800" cy="146160"/>
              </a:xfrm>
            </p:grpSpPr>
            <p:sp>
              <p:nvSpPr>
                <p:cNvPr id="653" name="Oval 685"/>
                <p:cNvSpPr/>
                <p:nvPr/>
              </p:nvSpPr>
              <p:spPr>
                <a:xfrm rot="4020000">
                  <a:off x="6516000" y="600408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Oval 686"/>
                <p:cNvSpPr/>
                <p:nvPr/>
              </p:nvSpPr>
              <p:spPr>
                <a:xfrm rot="9420000">
                  <a:off x="6516360" y="600372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5" name="Oval 687"/>
            <p:cNvSpPr/>
            <p:nvPr/>
          </p:nvSpPr>
          <p:spPr>
            <a:xfrm>
              <a:off x="6564960" y="5999400"/>
              <a:ext cx="47160" cy="42120"/>
            </a:xfrm>
            <a:prstGeom prst="ellips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6" name="Group 688"/>
          <p:cNvGrpSpPr/>
          <p:nvPr/>
        </p:nvGrpSpPr>
        <p:grpSpPr>
          <a:xfrm>
            <a:off x="6155280" y="5875920"/>
            <a:ext cx="146160" cy="146160"/>
            <a:chOff x="6155280" y="5875920"/>
            <a:chExt cx="146160" cy="146160"/>
          </a:xfrm>
        </p:grpSpPr>
        <p:grpSp>
          <p:nvGrpSpPr>
            <p:cNvPr id="657" name="Group 689"/>
            <p:cNvGrpSpPr/>
            <p:nvPr/>
          </p:nvGrpSpPr>
          <p:grpSpPr>
            <a:xfrm>
              <a:off x="6156360" y="5877000"/>
              <a:ext cx="144360" cy="144360"/>
              <a:chOff x="6156360" y="5877000"/>
              <a:chExt cx="144360" cy="144360"/>
            </a:xfrm>
          </p:grpSpPr>
          <p:grpSp>
            <p:nvGrpSpPr>
              <p:cNvPr id="658" name="Group 690"/>
              <p:cNvGrpSpPr/>
              <p:nvPr/>
            </p:nvGrpSpPr>
            <p:grpSpPr>
              <a:xfrm>
                <a:off x="6156360" y="5877000"/>
                <a:ext cx="144360" cy="144360"/>
                <a:chOff x="6156360" y="5877000"/>
                <a:chExt cx="144360" cy="144360"/>
              </a:xfrm>
            </p:grpSpPr>
            <p:sp>
              <p:nvSpPr>
                <p:cNvPr id="659" name="Oval 691"/>
                <p:cNvSpPr/>
                <p:nvPr/>
              </p:nvSpPr>
              <p:spPr>
                <a:xfrm>
                  <a:off x="6156360" y="59328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Oval 692"/>
                <p:cNvSpPr/>
                <p:nvPr/>
              </p:nvSpPr>
              <p:spPr>
                <a:xfrm rot="5400000">
                  <a:off x="6156000" y="59328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1" name="Group 693"/>
              <p:cNvGrpSpPr/>
              <p:nvPr/>
            </p:nvGrpSpPr>
            <p:grpSpPr>
              <a:xfrm>
                <a:off x="6165360" y="5886360"/>
                <a:ext cx="125640" cy="125640"/>
                <a:chOff x="6165360" y="5886360"/>
                <a:chExt cx="125640" cy="125640"/>
              </a:xfrm>
            </p:grpSpPr>
            <p:sp>
              <p:nvSpPr>
                <p:cNvPr id="662" name="Oval 694"/>
                <p:cNvSpPr/>
                <p:nvPr/>
              </p:nvSpPr>
              <p:spPr>
                <a:xfrm rot="2700000">
                  <a:off x="6156000" y="59328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Oval 695"/>
                <p:cNvSpPr/>
                <p:nvPr/>
              </p:nvSpPr>
              <p:spPr>
                <a:xfrm rot="8100000">
                  <a:off x="6155640" y="59324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64" name="Group 696"/>
            <p:cNvGrpSpPr/>
            <p:nvPr/>
          </p:nvGrpSpPr>
          <p:grpSpPr>
            <a:xfrm>
              <a:off x="6155280" y="5875920"/>
              <a:ext cx="146160" cy="146160"/>
              <a:chOff x="6155280" y="5875920"/>
              <a:chExt cx="146160" cy="146160"/>
            </a:xfrm>
          </p:grpSpPr>
          <p:grpSp>
            <p:nvGrpSpPr>
              <p:cNvPr id="665" name="Group 697"/>
              <p:cNvGrpSpPr/>
              <p:nvPr/>
            </p:nvGrpSpPr>
            <p:grpSpPr>
              <a:xfrm>
                <a:off x="6155280" y="5875920"/>
                <a:ext cx="146160" cy="146160"/>
                <a:chOff x="6155280" y="5875920"/>
                <a:chExt cx="146160" cy="146160"/>
              </a:xfrm>
            </p:grpSpPr>
            <p:sp>
              <p:nvSpPr>
                <p:cNvPr id="666" name="Oval 698"/>
                <p:cNvSpPr/>
                <p:nvPr/>
              </p:nvSpPr>
              <p:spPr>
                <a:xfrm rot="1320000">
                  <a:off x="6156000" y="59324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Oval 699"/>
                <p:cNvSpPr/>
                <p:nvPr/>
              </p:nvSpPr>
              <p:spPr>
                <a:xfrm rot="6720000">
                  <a:off x="6156000" y="59324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8" name="Group 700"/>
              <p:cNvGrpSpPr/>
              <p:nvPr/>
            </p:nvGrpSpPr>
            <p:grpSpPr>
              <a:xfrm>
                <a:off x="6155280" y="5876280"/>
                <a:ext cx="145800" cy="145800"/>
                <a:chOff x="6155280" y="5876280"/>
                <a:chExt cx="145800" cy="145800"/>
              </a:xfrm>
            </p:grpSpPr>
            <p:sp>
              <p:nvSpPr>
                <p:cNvPr id="669" name="Oval 701"/>
                <p:cNvSpPr/>
                <p:nvPr/>
              </p:nvSpPr>
              <p:spPr>
                <a:xfrm rot="4020000">
                  <a:off x="6155640" y="59324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Oval 702"/>
                <p:cNvSpPr/>
                <p:nvPr/>
              </p:nvSpPr>
              <p:spPr>
                <a:xfrm rot="9420000">
                  <a:off x="6156000" y="593208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71" name="Oval 703"/>
            <p:cNvSpPr/>
            <p:nvPr/>
          </p:nvSpPr>
          <p:spPr>
            <a:xfrm>
              <a:off x="6204600" y="5927760"/>
              <a:ext cx="47160" cy="42120"/>
            </a:xfrm>
            <a:prstGeom prst="ellipse">
              <a:avLst/>
            </a:prstGeom>
            <a:blipFill rotWithShape="0">
              <a:blip r:embed="rId31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2" name="Group 704"/>
          <p:cNvGrpSpPr/>
          <p:nvPr/>
        </p:nvGrpSpPr>
        <p:grpSpPr>
          <a:xfrm>
            <a:off x="358920" y="5731200"/>
            <a:ext cx="218520" cy="218160"/>
            <a:chOff x="358920" y="5731200"/>
            <a:chExt cx="218520" cy="218160"/>
          </a:xfrm>
        </p:grpSpPr>
        <p:grpSp>
          <p:nvGrpSpPr>
            <p:cNvPr id="673" name="Group 705"/>
            <p:cNvGrpSpPr/>
            <p:nvPr/>
          </p:nvGrpSpPr>
          <p:grpSpPr>
            <a:xfrm>
              <a:off x="360360" y="5732640"/>
              <a:ext cx="216000" cy="215640"/>
              <a:chOff x="360360" y="5732640"/>
              <a:chExt cx="216000" cy="215640"/>
            </a:xfrm>
          </p:grpSpPr>
          <p:grpSp>
            <p:nvGrpSpPr>
              <p:cNvPr id="674" name="Group 706"/>
              <p:cNvGrpSpPr/>
              <p:nvPr/>
            </p:nvGrpSpPr>
            <p:grpSpPr>
              <a:xfrm>
                <a:off x="360360" y="5732640"/>
                <a:ext cx="216000" cy="215640"/>
                <a:chOff x="360360" y="5732640"/>
                <a:chExt cx="216000" cy="215640"/>
              </a:xfrm>
            </p:grpSpPr>
            <p:sp>
              <p:nvSpPr>
                <p:cNvPr id="675" name="Oval 707"/>
                <p:cNvSpPr/>
                <p:nvPr/>
              </p:nvSpPr>
              <p:spPr>
                <a:xfrm>
                  <a:off x="360360" y="58158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Oval 708"/>
                <p:cNvSpPr/>
                <p:nvPr/>
              </p:nvSpPr>
              <p:spPr>
                <a:xfrm rot="5400000">
                  <a:off x="360360" y="581580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7" name="Group 709"/>
              <p:cNvGrpSpPr/>
              <p:nvPr/>
            </p:nvGrpSpPr>
            <p:grpSpPr>
              <a:xfrm>
                <a:off x="374760" y="5746680"/>
                <a:ext cx="187560" cy="187200"/>
                <a:chOff x="374760" y="5746680"/>
                <a:chExt cx="187560" cy="187200"/>
              </a:xfrm>
            </p:grpSpPr>
            <p:sp>
              <p:nvSpPr>
                <p:cNvPr id="678" name="Oval 710"/>
                <p:cNvSpPr/>
                <p:nvPr/>
              </p:nvSpPr>
              <p:spPr>
                <a:xfrm rot="2700000">
                  <a:off x="360720" y="581544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Oval 711"/>
                <p:cNvSpPr/>
                <p:nvPr/>
              </p:nvSpPr>
              <p:spPr>
                <a:xfrm rot="8100000">
                  <a:off x="360000" y="58158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80" name="Group 712"/>
            <p:cNvGrpSpPr/>
            <p:nvPr/>
          </p:nvGrpSpPr>
          <p:grpSpPr>
            <a:xfrm>
              <a:off x="358920" y="5731200"/>
              <a:ext cx="218520" cy="218160"/>
              <a:chOff x="358920" y="5731200"/>
              <a:chExt cx="218520" cy="218160"/>
            </a:xfrm>
          </p:grpSpPr>
          <p:grpSp>
            <p:nvGrpSpPr>
              <p:cNvPr id="681" name="Group 713"/>
              <p:cNvGrpSpPr/>
              <p:nvPr/>
            </p:nvGrpSpPr>
            <p:grpSpPr>
              <a:xfrm>
                <a:off x="358920" y="5731200"/>
                <a:ext cx="218520" cy="218160"/>
                <a:chOff x="358920" y="5731200"/>
                <a:chExt cx="218520" cy="218160"/>
              </a:xfrm>
            </p:grpSpPr>
            <p:sp>
              <p:nvSpPr>
                <p:cNvPr id="682" name="Oval 714"/>
                <p:cNvSpPr/>
                <p:nvPr/>
              </p:nvSpPr>
              <p:spPr>
                <a:xfrm rot="1320000">
                  <a:off x="360000" y="58158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Oval 715"/>
                <p:cNvSpPr/>
                <p:nvPr/>
              </p:nvSpPr>
              <p:spPr>
                <a:xfrm rot="6720000">
                  <a:off x="360360" y="581580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4" name="Group 716"/>
              <p:cNvGrpSpPr/>
              <p:nvPr/>
            </p:nvGrpSpPr>
            <p:grpSpPr>
              <a:xfrm>
                <a:off x="359640" y="5731560"/>
                <a:ext cx="217800" cy="217800"/>
                <a:chOff x="359640" y="5731560"/>
                <a:chExt cx="217800" cy="217800"/>
              </a:xfrm>
            </p:grpSpPr>
            <p:sp>
              <p:nvSpPr>
                <p:cNvPr id="685" name="Oval 717"/>
                <p:cNvSpPr/>
                <p:nvPr/>
              </p:nvSpPr>
              <p:spPr>
                <a:xfrm rot="4020000">
                  <a:off x="360360" y="581580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Oval 718"/>
                <p:cNvSpPr/>
                <p:nvPr/>
              </p:nvSpPr>
              <p:spPr>
                <a:xfrm rot="9420000">
                  <a:off x="360360" y="58154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87" name="Oval 719"/>
            <p:cNvSpPr/>
            <p:nvPr/>
          </p:nvSpPr>
          <p:spPr>
            <a:xfrm>
              <a:off x="432720" y="5808600"/>
              <a:ext cx="70560" cy="63000"/>
            </a:xfrm>
            <a:prstGeom prst="ellipse">
              <a:avLst/>
            </a:prstGeom>
            <a:blipFill rotWithShape="0">
              <a:blip r:embed="rId32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8" name="Group 720"/>
          <p:cNvGrpSpPr/>
          <p:nvPr/>
        </p:nvGrpSpPr>
        <p:grpSpPr>
          <a:xfrm>
            <a:off x="-1080" y="5659560"/>
            <a:ext cx="218520" cy="218520"/>
            <a:chOff x="-1080" y="5659560"/>
            <a:chExt cx="218520" cy="218520"/>
          </a:xfrm>
        </p:grpSpPr>
        <p:grpSp>
          <p:nvGrpSpPr>
            <p:cNvPr id="689" name="Group 721"/>
            <p:cNvGrpSpPr/>
            <p:nvPr/>
          </p:nvGrpSpPr>
          <p:grpSpPr>
            <a:xfrm>
              <a:off x="0" y="5661000"/>
              <a:ext cx="216000" cy="216000"/>
              <a:chOff x="0" y="5661000"/>
              <a:chExt cx="216000" cy="216000"/>
            </a:xfrm>
          </p:grpSpPr>
          <p:grpSp>
            <p:nvGrpSpPr>
              <p:cNvPr id="690" name="Group 722"/>
              <p:cNvGrpSpPr/>
              <p:nvPr/>
            </p:nvGrpSpPr>
            <p:grpSpPr>
              <a:xfrm>
                <a:off x="0" y="5661000"/>
                <a:ext cx="216000" cy="216000"/>
                <a:chOff x="0" y="5661000"/>
                <a:chExt cx="216000" cy="216000"/>
              </a:xfrm>
            </p:grpSpPr>
            <p:sp>
              <p:nvSpPr>
                <p:cNvPr id="691" name="Oval 723"/>
                <p:cNvSpPr/>
                <p:nvPr/>
              </p:nvSpPr>
              <p:spPr>
                <a:xfrm>
                  <a:off x="0" y="57441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Oval 724"/>
                <p:cNvSpPr/>
                <p:nvPr/>
              </p:nvSpPr>
              <p:spPr>
                <a:xfrm rot="5400000">
                  <a:off x="0" y="57445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3" name="Group 725"/>
              <p:cNvGrpSpPr/>
              <p:nvPr/>
            </p:nvGrpSpPr>
            <p:grpSpPr>
              <a:xfrm>
                <a:off x="14400" y="5675040"/>
                <a:ext cx="187560" cy="187560"/>
                <a:chOff x="14400" y="5675040"/>
                <a:chExt cx="187560" cy="187560"/>
              </a:xfrm>
            </p:grpSpPr>
            <p:sp>
              <p:nvSpPr>
                <p:cNvPr id="694" name="Oval 726"/>
                <p:cNvSpPr/>
                <p:nvPr/>
              </p:nvSpPr>
              <p:spPr>
                <a:xfrm rot="2700000">
                  <a:off x="360" y="57441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Oval 727"/>
                <p:cNvSpPr/>
                <p:nvPr/>
              </p:nvSpPr>
              <p:spPr>
                <a:xfrm rot="8100000">
                  <a:off x="0" y="57445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96" name="Group 728"/>
            <p:cNvGrpSpPr/>
            <p:nvPr/>
          </p:nvGrpSpPr>
          <p:grpSpPr>
            <a:xfrm>
              <a:off x="-1080" y="5659560"/>
              <a:ext cx="218520" cy="218520"/>
              <a:chOff x="-1080" y="5659560"/>
              <a:chExt cx="218520" cy="218520"/>
            </a:xfrm>
          </p:grpSpPr>
          <p:grpSp>
            <p:nvGrpSpPr>
              <p:cNvPr id="697" name="Group 729"/>
              <p:cNvGrpSpPr/>
              <p:nvPr/>
            </p:nvGrpSpPr>
            <p:grpSpPr>
              <a:xfrm>
                <a:off x="-1080" y="5659560"/>
                <a:ext cx="218520" cy="218520"/>
                <a:chOff x="-1080" y="5659560"/>
                <a:chExt cx="218520" cy="218520"/>
              </a:xfrm>
            </p:grpSpPr>
            <p:sp>
              <p:nvSpPr>
                <p:cNvPr id="698" name="Oval 730"/>
                <p:cNvSpPr/>
                <p:nvPr/>
              </p:nvSpPr>
              <p:spPr>
                <a:xfrm rot="1320000">
                  <a:off x="0" y="57441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Oval 731"/>
                <p:cNvSpPr/>
                <p:nvPr/>
              </p:nvSpPr>
              <p:spPr>
                <a:xfrm rot="6720000">
                  <a:off x="0" y="57441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0" name="Group 732"/>
              <p:cNvGrpSpPr/>
              <p:nvPr/>
            </p:nvGrpSpPr>
            <p:grpSpPr>
              <a:xfrm>
                <a:off x="-720" y="5659920"/>
                <a:ext cx="217800" cy="217800"/>
                <a:chOff x="-720" y="5659920"/>
                <a:chExt cx="217800" cy="217800"/>
              </a:xfrm>
            </p:grpSpPr>
            <p:sp>
              <p:nvSpPr>
                <p:cNvPr id="701" name="Oval 733"/>
                <p:cNvSpPr/>
                <p:nvPr/>
              </p:nvSpPr>
              <p:spPr>
                <a:xfrm rot="4020000">
                  <a:off x="360" y="57441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Oval 734"/>
                <p:cNvSpPr/>
                <p:nvPr/>
              </p:nvSpPr>
              <p:spPr>
                <a:xfrm rot="9420000">
                  <a:off x="0" y="57441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03" name="Oval 735"/>
            <p:cNvSpPr/>
            <p:nvPr/>
          </p:nvSpPr>
          <p:spPr>
            <a:xfrm>
              <a:off x="72360" y="5737320"/>
              <a:ext cx="70560" cy="63000"/>
            </a:xfrm>
            <a:prstGeom prst="ellipse">
              <a:avLst/>
            </a:prstGeom>
            <a:blipFill rotWithShape="0">
              <a:blip r:embed="rId33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4" name="Group 736"/>
          <p:cNvGrpSpPr/>
          <p:nvPr/>
        </p:nvGrpSpPr>
        <p:grpSpPr>
          <a:xfrm>
            <a:off x="503640" y="6091920"/>
            <a:ext cx="146520" cy="146160"/>
            <a:chOff x="503640" y="6091920"/>
            <a:chExt cx="146520" cy="146160"/>
          </a:xfrm>
        </p:grpSpPr>
        <p:grpSp>
          <p:nvGrpSpPr>
            <p:cNvPr id="705" name="Group 737"/>
            <p:cNvGrpSpPr/>
            <p:nvPr/>
          </p:nvGrpSpPr>
          <p:grpSpPr>
            <a:xfrm>
              <a:off x="504720" y="6093000"/>
              <a:ext cx="144720" cy="144360"/>
              <a:chOff x="504720" y="6093000"/>
              <a:chExt cx="144720" cy="144360"/>
            </a:xfrm>
          </p:grpSpPr>
          <p:grpSp>
            <p:nvGrpSpPr>
              <p:cNvPr id="706" name="Group 738"/>
              <p:cNvGrpSpPr/>
              <p:nvPr/>
            </p:nvGrpSpPr>
            <p:grpSpPr>
              <a:xfrm>
                <a:off x="504720" y="6093000"/>
                <a:ext cx="144720" cy="144360"/>
                <a:chOff x="504720" y="6093000"/>
                <a:chExt cx="144720" cy="144360"/>
              </a:xfrm>
            </p:grpSpPr>
            <p:sp>
              <p:nvSpPr>
                <p:cNvPr id="707" name="Oval 739"/>
                <p:cNvSpPr/>
                <p:nvPr/>
              </p:nvSpPr>
              <p:spPr>
                <a:xfrm>
                  <a:off x="504720" y="614880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Oval 740"/>
                <p:cNvSpPr/>
                <p:nvPr/>
              </p:nvSpPr>
              <p:spPr>
                <a:xfrm rot="5400000">
                  <a:off x="504360" y="61488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9" name="Group 741"/>
              <p:cNvGrpSpPr/>
              <p:nvPr/>
            </p:nvGrpSpPr>
            <p:grpSpPr>
              <a:xfrm>
                <a:off x="514080" y="6102360"/>
                <a:ext cx="126000" cy="125280"/>
                <a:chOff x="514080" y="6102360"/>
                <a:chExt cx="126000" cy="125280"/>
              </a:xfrm>
            </p:grpSpPr>
            <p:sp>
              <p:nvSpPr>
                <p:cNvPr id="710" name="Oval 742"/>
                <p:cNvSpPr/>
                <p:nvPr/>
              </p:nvSpPr>
              <p:spPr>
                <a:xfrm rot="2700000">
                  <a:off x="505080" y="61484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Oval 743"/>
                <p:cNvSpPr/>
                <p:nvPr/>
              </p:nvSpPr>
              <p:spPr>
                <a:xfrm rot="8100000">
                  <a:off x="504360" y="614844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12" name="Group 744"/>
            <p:cNvGrpSpPr/>
            <p:nvPr/>
          </p:nvGrpSpPr>
          <p:grpSpPr>
            <a:xfrm>
              <a:off x="503640" y="6091920"/>
              <a:ext cx="146520" cy="146160"/>
              <a:chOff x="503640" y="6091920"/>
              <a:chExt cx="146520" cy="146160"/>
            </a:xfrm>
          </p:grpSpPr>
          <p:grpSp>
            <p:nvGrpSpPr>
              <p:cNvPr id="713" name="Group 745"/>
              <p:cNvGrpSpPr/>
              <p:nvPr/>
            </p:nvGrpSpPr>
            <p:grpSpPr>
              <a:xfrm>
                <a:off x="503640" y="6091920"/>
                <a:ext cx="146520" cy="146160"/>
                <a:chOff x="503640" y="6091920"/>
                <a:chExt cx="146520" cy="146160"/>
              </a:xfrm>
            </p:grpSpPr>
            <p:sp>
              <p:nvSpPr>
                <p:cNvPr id="714" name="Oval 746"/>
                <p:cNvSpPr/>
                <p:nvPr/>
              </p:nvSpPr>
              <p:spPr>
                <a:xfrm rot="1320000">
                  <a:off x="504360" y="614844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Oval 747"/>
                <p:cNvSpPr/>
                <p:nvPr/>
              </p:nvSpPr>
              <p:spPr>
                <a:xfrm rot="6720000">
                  <a:off x="504360" y="61484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6" name="Group 748"/>
              <p:cNvGrpSpPr/>
              <p:nvPr/>
            </p:nvGrpSpPr>
            <p:grpSpPr>
              <a:xfrm>
                <a:off x="504000" y="6092280"/>
                <a:ext cx="146160" cy="145800"/>
                <a:chOff x="504000" y="6092280"/>
                <a:chExt cx="146160" cy="145800"/>
              </a:xfrm>
            </p:grpSpPr>
            <p:sp>
              <p:nvSpPr>
                <p:cNvPr id="717" name="Oval 749"/>
                <p:cNvSpPr/>
                <p:nvPr/>
              </p:nvSpPr>
              <p:spPr>
                <a:xfrm rot="4020000">
                  <a:off x="504720" y="61484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Oval 750"/>
                <p:cNvSpPr/>
                <p:nvPr/>
              </p:nvSpPr>
              <p:spPr>
                <a:xfrm rot="9420000">
                  <a:off x="504720" y="614844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19" name="Oval 751"/>
            <p:cNvSpPr/>
            <p:nvPr/>
          </p:nvSpPr>
          <p:spPr>
            <a:xfrm>
              <a:off x="553320" y="6143760"/>
              <a:ext cx="47160" cy="42120"/>
            </a:xfrm>
            <a:prstGeom prst="ellipse">
              <a:avLst/>
            </a:prstGeom>
            <a:blipFill rotWithShape="0">
              <a:blip r:embed="rId34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0" name="Group 752"/>
          <p:cNvGrpSpPr/>
          <p:nvPr/>
        </p:nvGrpSpPr>
        <p:grpSpPr>
          <a:xfrm>
            <a:off x="143280" y="6020280"/>
            <a:ext cx="146520" cy="146160"/>
            <a:chOff x="143280" y="6020280"/>
            <a:chExt cx="146520" cy="146160"/>
          </a:xfrm>
        </p:grpSpPr>
        <p:grpSp>
          <p:nvGrpSpPr>
            <p:cNvPr id="721" name="Group 753"/>
            <p:cNvGrpSpPr/>
            <p:nvPr/>
          </p:nvGrpSpPr>
          <p:grpSpPr>
            <a:xfrm>
              <a:off x="144360" y="6021360"/>
              <a:ext cx="144720" cy="144360"/>
              <a:chOff x="144360" y="6021360"/>
              <a:chExt cx="144720" cy="144360"/>
            </a:xfrm>
          </p:grpSpPr>
          <p:grpSp>
            <p:nvGrpSpPr>
              <p:cNvPr id="722" name="Group 754"/>
              <p:cNvGrpSpPr/>
              <p:nvPr/>
            </p:nvGrpSpPr>
            <p:grpSpPr>
              <a:xfrm>
                <a:off x="144360" y="6021360"/>
                <a:ext cx="144720" cy="144360"/>
                <a:chOff x="144360" y="6021360"/>
                <a:chExt cx="144720" cy="144360"/>
              </a:xfrm>
            </p:grpSpPr>
            <p:sp>
              <p:nvSpPr>
                <p:cNvPr id="723" name="Oval 755"/>
                <p:cNvSpPr/>
                <p:nvPr/>
              </p:nvSpPr>
              <p:spPr>
                <a:xfrm>
                  <a:off x="144360" y="607716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Oval 756"/>
                <p:cNvSpPr/>
                <p:nvPr/>
              </p:nvSpPr>
              <p:spPr>
                <a:xfrm rot="5400000">
                  <a:off x="143640" y="60771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5" name="Group 757"/>
              <p:cNvGrpSpPr/>
              <p:nvPr/>
            </p:nvGrpSpPr>
            <p:grpSpPr>
              <a:xfrm>
                <a:off x="153720" y="6030720"/>
                <a:ext cx="126000" cy="125280"/>
                <a:chOff x="153720" y="6030720"/>
                <a:chExt cx="126000" cy="125280"/>
              </a:xfrm>
            </p:grpSpPr>
            <p:sp>
              <p:nvSpPr>
                <p:cNvPr id="726" name="Oval 758"/>
                <p:cNvSpPr/>
                <p:nvPr/>
              </p:nvSpPr>
              <p:spPr>
                <a:xfrm rot="2700000">
                  <a:off x="144720" y="60768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Oval 759"/>
                <p:cNvSpPr/>
                <p:nvPr/>
              </p:nvSpPr>
              <p:spPr>
                <a:xfrm rot="8100000">
                  <a:off x="144000" y="607680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28" name="Group 760"/>
            <p:cNvGrpSpPr/>
            <p:nvPr/>
          </p:nvGrpSpPr>
          <p:grpSpPr>
            <a:xfrm>
              <a:off x="143280" y="6020280"/>
              <a:ext cx="146520" cy="146160"/>
              <a:chOff x="143280" y="6020280"/>
              <a:chExt cx="146520" cy="146160"/>
            </a:xfrm>
          </p:grpSpPr>
          <p:grpSp>
            <p:nvGrpSpPr>
              <p:cNvPr id="729" name="Group 761"/>
              <p:cNvGrpSpPr/>
              <p:nvPr/>
            </p:nvGrpSpPr>
            <p:grpSpPr>
              <a:xfrm>
                <a:off x="143280" y="6020280"/>
                <a:ext cx="146520" cy="146160"/>
                <a:chOff x="143280" y="6020280"/>
                <a:chExt cx="146520" cy="146160"/>
              </a:xfrm>
            </p:grpSpPr>
            <p:sp>
              <p:nvSpPr>
                <p:cNvPr id="730" name="Oval 762"/>
                <p:cNvSpPr/>
                <p:nvPr/>
              </p:nvSpPr>
              <p:spPr>
                <a:xfrm rot="1320000">
                  <a:off x="144000" y="607680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Oval 763"/>
                <p:cNvSpPr/>
                <p:nvPr/>
              </p:nvSpPr>
              <p:spPr>
                <a:xfrm rot="6720000">
                  <a:off x="144000" y="60768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2" name="Group 764"/>
              <p:cNvGrpSpPr/>
              <p:nvPr/>
            </p:nvGrpSpPr>
            <p:grpSpPr>
              <a:xfrm>
                <a:off x="143640" y="6020640"/>
                <a:ext cx="146160" cy="145800"/>
                <a:chOff x="143640" y="6020640"/>
                <a:chExt cx="146160" cy="145800"/>
              </a:xfrm>
            </p:grpSpPr>
            <p:sp>
              <p:nvSpPr>
                <p:cNvPr id="733" name="Oval 765"/>
                <p:cNvSpPr/>
                <p:nvPr/>
              </p:nvSpPr>
              <p:spPr>
                <a:xfrm rot="4020000">
                  <a:off x="144360" y="60768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Oval 766"/>
                <p:cNvSpPr/>
                <p:nvPr/>
              </p:nvSpPr>
              <p:spPr>
                <a:xfrm rot="9420000">
                  <a:off x="144360" y="607680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35" name="Oval 767"/>
            <p:cNvSpPr/>
            <p:nvPr/>
          </p:nvSpPr>
          <p:spPr>
            <a:xfrm>
              <a:off x="192960" y="6072120"/>
              <a:ext cx="47160" cy="42120"/>
            </a:xfrm>
            <a:prstGeom prst="ellipse">
              <a:avLst/>
            </a:prstGeom>
            <a:blipFill rotWithShape="0">
              <a:blip r:embed="rId35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6" name="Group 768"/>
          <p:cNvGrpSpPr/>
          <p:nvPr/>
        </p:nvGrpSpPr>
        <p:grpSpPr>
          <a:xfrm>
            <a:off x="7594200" y="5226840"/>
            <a:ext cx="367560" cy="367560"/>
            <a:chOff x="7594200" y="5226840"/>
            <a:chExt cx="367560" cy="367560"/>
          </a:xfrm>
        </p:grpSpPr>
        <p:grpSp>
          <p:nvGrpSpPr>
            <p:cNvPr id="737" name="Group 769"/>
            <p:cNvGrpSpPr/>
            <p:nvPr/>
          </p:nvGrpSpPr>
          <p:grpSpPr>
            <a:xfrm>
              <a:off x="7596360" y="5229360"/>
              <a:ext cx="362880" cy="362880"/>
              <a:chOff x="7596360" y="5229360"/>
              <a:chExt cx="362880" cy="362880"/>
            </a:xfrm>
          </p:grpSpPr>
          <p:grpSp>
            <p:nvGrpSpPr>
              <p:cNvPr id="738" name="Group 770"/>
              <p:cNvGrpSpPr/>
              <p:nvPr/>
            </p:nvGrpSpPr>
            <p:grpSpPr>
              <a:xfrm>
                <a:off x="7596360" y="5229360"/>
                <a:ext cx="362880" cy="362880"/>
                <a:chOff x="7596360" y="5229360"/>
                <a:chExt cx="362880" cy="362880"/>
              </a:xfrm>
            </p:grpSpPr>
            <p:sp>
              <p:nvSpPr>
                <p:cNvPr id="739" name="Oval 771"/>
                <p:cNvSpPr/>
                <p:nvPr/>
              </p:nvSpPr>
              <p:spPr>
                <a:xfrm>
                  <a:off x="7596360" y="536940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Oval 772"/>
                <p:cNvSpPr/>
                <p:nvPr/>
              </p:nvSpPr>
              <p:spPr>
                <a:xfrm rot="5400000">
                  <a:off x="7596000" y="536940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1" name="Group 773"/>
              <p:cNvGrpSpPr/>
              <p:nvPr/>
            </p:nvGrpSpPr>
            <p:grpSpPr>
              <a:xfrm>
                <a:off x="7620120" y="5253480"/>
                <a:ext cx="315360" cy="315000"/>
                <a:chOff x="7620120" y="5253480"/>
                <a:chExt cx="315360" cy="315000"/>
              </a:xfrm>
            </p:grpSpPr>
            <p:sp>
              <p:nvSpPr>
                <p:cNvPr id="742" name="Oval 774"/>
                <p:cNvSpPr/>
                <p:nvPr/>
              </p:nvSpPr>
              <p:spPr>
                <a:xfrm rot="2700000">
                  <a:off x="7596360" y="536940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Oval 775"/>
                <p:cNvSpPr/>
                <p:nvPr/>
              </p:nvSpPr>
              <p:spPr>
                <a:xfrm rot="8100000">
                  <a:off x="7596000" y="536940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44" name="Group 776"/>
            <p:cNvGrpSpPr/>
            <p:nvPr/>
          </p:nvGrpSpPr>
          <p:grpSpPr>
            <a:xfrm>
              <a:off x="7594200" y="5226840"/>
              <a:ext cx="367560" cy="367560"/>
              <a:chOff x="7594200" y="5226840"/>
              <a:chExt cx="367560" cy="367560"/>
            </a:xfrm>
          </p:grpSpPr>
          <p:grpSp>
            <p:nvGrpSpPr>
              <p:cNvPr id="745" name="Group 777"/>
              <p:cNvGrpSpPr/>
              <p:nvPr/>
            </p:nvGrpSpPr>
            <p:grpSpPr>
              <a:xfrm>
                <a:off x="7594200" y="5226840"/>
                <a:ext cx="367560" cy="367560"/>
                <a:chOff x="7594200" y="5226840"/>
                <a:chExt cx="367560" cy="367560"/>
              </a:xfrm>
            </p:grpSpPr>
            <p:sp>
              <p:nvSpPr>
                <p:cNvPr id="746" name="Oval 778"/>
                <p:cNvSpPr/>
                <p:nvPr/>
              </p:nvSpPr>
              <p:spPr>
                <a:xfrm rot="1320000">
                  <a:off x="7596360" y="536940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Oval 779"/>
                <p:cNvSpPr/>
                <p:nvPr/>
              </p:nvSpPr>
              <p:spPr>
                <a:xfrm rot="6720000">
                  <a:off x="7596360" y="536904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8" name="Group 780"/>
              <p:cNvGrpSpPr/>
              <p:nvPr/>
            </p:nvGrpSpPr>
            <p:grpSpPr>
              <a:xfrm>
                <a:off x="7594560" y="5227920"/>
                <a:ext cx="366120" cy="366120"/>
                <a:chOff x="7594560" y="5227920"/>
                <a:chExt cx="366120" cy="366120"/>
              </a:xfrm>
            </p:grpSpPr>
            <p:sp>
              <p:nvSpPr>
                <p:cNvPr id="749" name="Oval 781"/>
                <p:cNvSpPr/>
                <p:nvPr/>
              </p:nvSpPr>
              <p:spPr>
                <a:xfrm rot="4020000">
                  <a:off x="7596360" y="536976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Oval 782"/>
                <p:cNvSpPr/>
                <p:nvPr/>
              </p:nvSpPr>
              <p:spPr>
                <a:xfrm rot="9420000">
                  <a:off x="7596000" y="536976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51" name="Oval 783"/>
            <p:cNvSpPr/>
            <p:nvPr/>
          </p:nvSpPr>
          <p:spPr>
            <a:xfrm>
              <a:off x="7718040" y="5357520"/>
              <a:ext cx="118440" cy="105840"/>
            </a:xfrm>
            <a:prstGeom prst="ellipse">
              <a:avLst/>
            </a:prstGeom>
            <a:blipFill rotWithShape="0">
              <a:blip r:embed="rId36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2" name="Group 784"/>
          <p:cNvGrpSpPr/>
          <p:nvPr/>
        </p:nvGrpSpPr>
        <p:grpSpPr>
          <a:xfrm>
            <a:off x="7810920" y="5659560"/>
            <a:ext cx="218520" cy="218520"/>
            <a:chOff x="7810920" y="5659560"/>
            <a:chExt cx="218520" cy="218520"/>
          </a:xfrm>
        </p:grpSpPr>
        <p:grpSp>
          <p:nvGrpSpPr>
            <p:cNvPr id="753" name="Group 785"/>
            <p:cNvGrpSpPr/>
            <p:nvPr/>
          </p:nvGrpSpPr>
          <p:grpSpPr>
            <a:xfrm>
              <a:off x="7812000" y="5661000"/>
              <a:ext cx="216000" cy="216000"/>
              <a:chOff x="7812000" y="5661000"/>
              <a:chExt cx="216000" cy="216000"/>
            </a:xfrm>
          </p:grpSpPr>
          <p:grpSp>
            <p:nvGrpSpPr>
              <p:cNvPr id="754" name="Group 786"/>
              <p:cNvGrpSpPr/>
              <p:nvPr/>
            </p:nvGrpSpPr>
            <p:grpSpPr>
              <a:xfrm>
                <a:off x="7812000" y="5661000"/>
                <a:ext cx="216000" cy="216000"/>
                <a:chOff x="7812000" y="5661000"/>
                <a:chExt cx="216000" cy="216000"/>
              </a:xfrm>
            </p:grpSpPr>
            <p:sp>
              <p:nvSpPr>
                <p:cNvPr id="755" name="Oval 787"/>
                <p:cNvSpPr/>
                <p:nvPr/>
              </p:nvSpPr>
              <p:spPr>
                <a:xfrm>
                  <a:off x="7812000" y="57441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Oval 788"/>
                <p:cNvSpPr/>
                <p:nvPr/>
              </p:nvSpPr>
              <p:spPr>
                <a:xfrm rot="5400000">
                  <a:off x="7812000" y="57445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7" name="Group 789"/>
              <p:cNvGrpSpPr/>
              <p:nvPr/>
            </p:nvGrpSpPr>
            <p:grpSpPr>
              <a:xfrm>
                <a:off x="7826400" y="5675040"/>
                <a:ext cx="187560" cy="187560"/>
                <a:chOff x="7826400" y="5675040"/>
                <a:chExt cx="187560" cy="187560"/>
              </a:xfrm>
            </p:grpSpPr>
            <p:sp>
              <p:nvSpPr>
                <p:cNvPr id="758" name="Oval 790"/>
                <p:cNvSpPr/>
                <p:nvPr/>
              </p:nvSpPr>
              <p:spPr>
                <a:xfrm rot="2700000">
                  <a:off x="7812360" y="57441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Oval 791"/>
                <p:cNvSpPr/>
                <p:nvPr/>
              </p:nvSpPr>
              <p:spPr>
                <a:xfrm rot="8100000">
                  <a:off x="7811640" y="57445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60" name="Group 792"/>
            <p:cNvGrpSpPr/>
            <p:nvPr/>
          </p:nvGrpSpPr>
          <p:grpSpPr>
            <a:xfrm>
              <a:off x="7810920" y="5659560"/>
              <a:ext cx="218520" cy="218520"/>
              <a:chOff x="7810920" y="5659560"/>
              <a:chExt cx="218520" cy="218520"/>
            </a:xfrm>
          </p:grpSpPr>
          <p:grpSp>
            <p:nvGrpSpPr>
              <p:cNvPr id="761" name="Group 793"/>
              <p:cNvGrpSpPr/>
              <p:nvPr/>
            </p:nvGrpSpPr>
            <p:grpSpPr>
              <a:xfrm>
                <a:off x="7810920" y="5659560"/>
                <a:ext cx="218520" cy="218520"/>
                <a:chOff x="7810920" y="5659560"/>
                <a:chExt cx="218520" cy="218520"/>
              </a:xfrm>
            </p:grpSpPr>
            <p:sp>
              <p:nvSpPr>
                <p:cNvPr id="762" name="Oval 794"/>
                <p:cNvSpPr/>
                <p:nvPr/>
              </p:nvSpPr>
              <p:spPr>
                <a:xfrm rot="1320000">
                  <a:off x="7812000" y="57441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Oval 795"/>
                <p:cNvSpPr/>
                <p:nvPr/>
              </p:nvSpPr>
              <p:spPr>
                <a:xfrm rot="6720000">
                  <a:off x="7811640" y="57441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4" name="Group 796"/>
              <p:cNvGrpSpPr/>
              <p:nvPr/>
            </p:nvGrpSpPr>
            <p:grpSpPr>
              <a:xfrm>
                <a:off x="7811280" y="5659920"/>
                <a:ext cx="217800" cy="217800"/>
                <a:chOff x="7811280" y="5659920"/>
                <a:chExt cx="217800" cy="217800"/>
              </a:xfrm>
            </p:grpSpPr>
            <p:sp>
              <p:nvSpPr>
                <p:cNvPr id="765" name="Oval 797"/>
                <p:cNvSpPr/>
                <p:nvPr/>
              </p:nvSpPr>
              <p:spPr>
                <a:xfrm rot="4020000">
                  <a:off x="7812360" y="57441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Oval 798"/>
                <p:cNvSpPr/>
                <p:nvPr/>
              </p:nvSpPr>
              <p:spPr>
                <a:xfrm rot="9420000">
                  <a:off x="7812000" y="57441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67" name="Oval 799"/>
            <p:cNvSpPr/>
            <p:nvPr/>
          </p:nvSpPr>
          <p:spPr>
            <a:xfrm>
              <a:off x="7884360" y="5737320"/>
              <a:ext cx="70560" cy="63000"/>
            </a:xfrm>
            <a:prstGeom prst="ellipse">
              <a:avLst/>
            </a:prstGeom>
            <a:blipFill rotWithShape="0">
              <a:blip r:embed="rId37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8" name="Group 800"/>
          <p:cNvGrpSpPr/>
          <p:nvPr/>
        </p:nvGrpSpPr>
        <p:grpSpPr>
          <a:xfrm>
            <a:off x="8314920" y="5731560"/>
            <a:ext cx="367560" cy="367920"/>
            <a:chOff x="8314920" y="5731560"/>
            <a:chExt cx="367560" cy="367920"/>
          </a:xfrm>
        </p:grpSpPr>
        <p:grpSp>
          <p:nvGrpSpPr>
            <p:cNvPr id="769" name="Group 801"/>
            <p:cNvGrpSpPr/>
            <p:nvPr/>
          </p:nvGrpSpPr>
          <p:grpSpPr>
            <a:xfrm>
              <a:off x="8317080" y="5734080"/>
              <a:ext cx="362880" cy="363240"/>
              <a:chOff x="8317080" y="5734080"/>
              <a:chExt cx="362880" cy="363240"/>
            </a:xfrm>
          </p:grpSpPr>
          <p:grpSp>
            <p:nvGrpSpPr>
              <p:cNvPr id="770" name="Group 802"/>
              <p:cNvGrpSpPr/>
              <p:nvPr/>
            </p:nvGrpSpPr>
            <p:grpSpPr>
              <a:xfrm>
                <a:off x="8317080" y="5734080"/>
                <a:ext cx="362880" cy="363240"/>
                <a:chOff x="8317080" y="5734080"/>
                <a:chExt cx="362880" cy="363240"/>
              </a:xfrm>
            </p:grpSpPr>
            <p:sp>
              <p:nvSpPr>
                <p:cNvPr id="771" name="Oval 803"/>
                <p:cNvSpPr/>
                <p:nvPr/>
              </p:nvSpPr>
              <p:spPr>
                <a:xfrm>
                  <a:off x="8317080" y="587412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Oval 804"/>
                <p:cNvSpPr/>
                <p:nvPr/>
              </p:nvSpPr>
              <p:spPr>
                <a:xfrm rot="5400000">
                  <a:off x="8316720" y="58744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3" name="Group 805"/>
              <p:cNvGrpSpPr/>
              <p:nvPr/>
            </p:nvGrpSpPr>
            <p:grpSpPr>
              <a:xfrm>
                <a:off x="8340840" y="5758200"/>
                <a:ext cx="315360" cy="315000"/>
                <a:chOff x="8340840" y="5758200"/>
                <a:chExt cx="315360" cy="315000"/>
              </a:xfrm>
            </p:grpSpPr>
            <p:sp>
              <p:nvSpPr>
                <p:cNvPr id="774" name="Oval 806"/>
                <p:cNvSpPr/>
                <p:nvPr/>
              </p:nvSpPr>
              <p:spPr>
                <a:xfrm rot="2700000">
                  <a:off x="8317080" y="58744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Oval 807"/>
                <p:cNvSpPr/>
                <p:nvPr/>
              </p:nvSpPr>
              <p:spPr>
                <a:xfrm rot="8100000">
                  <a:off x="8316720" y="587412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76" name="Group 808"/>
            <p:cNvGrpSpPr/>
            <p:nvPr/>
          </p:nvGrpSpPr>
          <p:grpSpPr>
            <a:xfrm>
              <a:off x="8314920" y="5731560"/>
              <a:ext cx="367560" cy="367920"/>
              <a:chOff x="8314920" y="5731560"/>
              <a:chExt cx="367560" cy="367920"/>
            </a:xfrm>
          </p:grpSpPr>
          <p:grpSp>
            <p:nvGrpSpPr>
              <p:cNvPr id="777" name="Group 809"/>
              <p:cNvGrpSpPr/>
              <p:nvPr/>
            </p:nvGrpSpPr>
            <p:grpSpPr>
              <a:xfrm>
                <a:off x="8314920" y="5731560"/>
                <a:ext cx="367560" cy="367920"/>
                <a:chOff x="8314920" y="5731560"/>
                <a:chExt cx="367560" cy="367920"/>
              </a:xfrm>
            </p:grpSpPr>
            <p:sp>
              <p:nvSpPr>
                <p:cNvPr id="778" name="Oval 810"/>
                <p:cNvSpPr/>
                <p:nvPr/>
              </p:nvSpPr>
              <p:spPr>
                <a:xfrm rot="1320000">
                  <a:off x="8317080" y="587412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Oval 811"/>
                <p:cNvSpPr/>
                <p:nvPr/>
              </p:nvSpPr>
              <p:spPr>
                <a:xfrm rot="6720000">
                  <a:off x="8316720" y="5874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0" name="Group 812"/>
              <p:cNvGrpSpPr/>
              <p:nvPr/>
            </p:nvGrpSpPr>
            <p:grpSpPr>
              <a:xfrm>
                <a:off x="8315640" y="5732640"/>
                <a:ext cx="366120" cy="366480"/>
                <a:chOff x="8315640" y="5732640"/>
                <a:chExt cx="366120" cy="366480"/>
              </a:xfrm>
            </p:grpSpPr>
            <p:sp>
              <p:nvSpPr>
                <p:cNvPr id="781" name="Oval 813"/>
                <p:cNvSpPr/>
                <p:nvPr/>
              </p:nvSpPr>
              <p:spPr>
                <a:xfrm rot="4020000">
                  <a:off x="8317080" y="58744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Oval 814"/>
                <p:cNvSpPr/>
                <p:nvPr/>
              </p:nvSpPr>
              <p:spPr>
                <a:xfrm rot="9420000">
                  <a:off x="8317080" y="587448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83" name="Oval 815"/>
            <p:cNvSpPr/>
            <p:nvPr/>
          </p:nvSpPr>
          <p:spPr>
            <a:xfrm>
              <a:off x="8438760" y="5862240"/>
              <a:ext cx="118440" cy="105840"/>
            </a:xfrm>
            <a:prstGeom prst="ellipse">
              <a:avLst/>
            </a:prstGeom>
            <a:blipFill rotWithShape="0">
              <a:blip r:embed="rId38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4" name="Group 816"/>
          <p:cNvGrpSpPr/>
          <p:nvPr/>
        </p:nvGrpSpPr>
        <p:grpSpPr>
          <a:xfrm>
            <a:off x="8778240" y="5155200"/>
            <a:ext cx="367920" cy="367920"/>
            <a:chOff x="8778240" y="5155200"/>
            <a:chExt cx="367920" cy="367920"/>
          </a:xfrm>
        </p:grpSpPr>
        <p:grpSp>
          <p:nvGrpSpPr>
            <p:cNvPr id="785" name="Group 817"/>
            <p:cNvGrpSpPr/>
            <p:nvPr/>
          </p:nvGrpSpPr>
          <p:grpSpPr>
            <a:xfrm>
              <a:off x="8780400" y="5157720"/>
              <a:ext cx="363240" cy="363240"/>
              <a:chOff x="8780400" y="5157720"/>
              <a:chExt cx="363240" cy="363240"/>
            </a:xfrm>
          </p:grpSpPr>
          <p:grpSp>
            <p:nvGrpSpPr>
              <p:cNvPr id="786" name="Group 818"/>
              <p:cNvGrpSpPr/>
              <p:nvPr/>
            </p:nvGrpSpPr>
            <p:grpSpPr>
              <a:xfrm>
                <a:off x="8780400" y="5157720"/>
                <a:ext cx="363240" cy="363240"/>
                <a:chOff x="8780400" y="5157720"/>
                <a:chExt cx="363240" cy="363240"/>
              </a:xfrm>
            </p:grpSpPr>
            <p:sp>
              <p:nvSpPr>
                <p:cNvPr id="787" name="Oval 819"/>
                <p:cNvSpPr/>
                <p:nvPr/>
              </p:nvSpPr>
              <p:spPr>
                <a:xfrm>
                  <a:off x="8780400" y="5297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Oval 820"/>
                <p:cNvSpPr/>
                <p:nvPr/>
              </p:nvSpPr>
              <p:spPr>
                <a:xfrm rot="5400000">
                  <a:off x="8780040" y="5298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9" name="Group 821"/>
              <p:cNvGrpSpPr/>
              <p:nvPr/>
            </p:nvGrpSpPr>
            <p:grpSpPr>
              <a:xfrm>
                <a:off x="8804160" y="5181840"/>
                <a:ext cx="315360" cy="315000"/>
                <a:chOff x="8804160" y="5181840"/>
                <a:chExt cx="315360" cy="315000"/>
              </a:xfrm>
            </p:grpSpPr>
            <p:sp>
              <p:nvSpPr>
                <p:cNvPr id="790" name="Oval 822"/>
                <p:cNvSpPr/>
                <p:nvPr/>
              </p:nvSpPr>
              <p:spPr>
                <a:xfrm rot="2700000">
                  <a:off x="8780400" y="5298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Oval 823"/>
                <p:cNvSpPr/>
                <p:nvPr/>
              </p:nvSpPr>
              <p:spPr>
                <a:xfrm rot="8100000">
                  <a:off x="8779680" y="5298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92" name="Group 824"/>
            <p:cNvGrpSpPr/>
            <p:nvPr/>
          </p:nvGrpSpPr>
          <p:grpSpPr>
            <a:xfrm>
              <a:off x="8778240" y="5155200"/>
              <a:ext cx="367920" cy="367920"/>
              <a:chOff x="8778240" y="5155200"/>
              <a:chExt cx="367920" cy="367920"/>
            </a:xfrm>
          </p:grpSpPr>
          <p:grpSp>
            <p:nvGrpSpPr>
              <p:cNvPr id="793" name="Group 825"/>
              <p:cNvGrpSpPr/>
              <p:nvPr/>
            </p:nvGrpSpPr>
            <p:grpSpPr>
              <a:xfrm>
                <a:off x="8778240" y="5155200"/>
                <a:ext cx="367920" cy="367920"/>
                <a:chOff x="8778240" y="5155200"/>
                <a:chExt cx="367920" cy="367920"/>
              </a:xfrm>
            </p:grpSpPr>
            <p:sp>
              <p:nvSpPr>
                <p:cNvPr id="794" name="Oval 826"/>
                <p:cNvSpPr/>
                <p:nvPr/>
              </p:nvSpPr>
              <p:spPr>
                <a:xfrm rot="1320000">
                  <a:off x="8780400" y="5297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Oval 827"/>
                <p:cNvSpPr/>
                <p:nvPr/>
              </p:nvSpPr>
              <p:spPr>
                <a:xfrm rot="6720000">
                  <a:off x="8780040" y="5297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6" name="Group 828"/>
              <p:cNvGrpSpPr/>
              <p:nvPr/>
            </p:nvGrpSpPr>
            <p:grpSpPr>
              <a:xfrm>
                <a:off x="8778600" y="5156280"/>
                <a:ext cx="366480" cy="366480"/>
                <a:chOff x="8778600" y="5156280"/>
                <a:chExt cx="366480" cy="366480"/>
              </a:xfrm>
            </p:grpSpPr>
            <p:sp>
              <p:nvSpPr>
                <p:cNvPr id="797" name="Oval 829"/>
                <p:cNvSpPr/>
                <p:nvPr/>
              </p:nvSpPr>
              <p:spPr>
                <a:xfrm rot="4020000">
                  <a:off x="8780400" y="5298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Oval 830"/>
                <p:cNvSpPr/>
                <p:nvPr/>
              </p:nvSpPr>
              <p:spPr>
                <a:xfrm rot="9420000">
                  <a:off x="8780040" y="5297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99" name="Oval 831"/>
            <p:cNvSpPr/>
            <p:nvPr/>
          </p:nvSpPr>
          <p:spPr>
            <a:xfrm>
              <a:off x="8902440" y="5285880"/>
              <a:ext cx="118800" cy="105840"/>
            </a:xfrm>
            <a:prstGeom prst="ellipse">
              <a:avLst/>
            </a:prstGeom>
            <a:blipFill rotWithShape="0">
              <a:blip r:embed="rId39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0" name="Group 999"/>
          <p:cNvGrpSpPr/>
          <p:nvPr/>
        </p:nvGrpSpPr>
        <p:grpSpPr>
          <a:xfrm>
            <a:off x="-575280" y="-429480"/>
            <a:ext cx="2798640" cy="1756440"/>
            <a:chOff x="-575280" y="-429480"/>
            <a:chExt cx="2798640" cy="1756440"/>
          </a:xfrm>
        </p:grpSpPr>
        <p:sp>
          <p:nvSpPr>
            <p:cNvPr id="801" name="Freeform 1000"/>
            <p:cNvSpPr/>
            <p:nvPr/>
          </p:nvSpPr>
          <p:spPr>
            <a:xfrm flipH="1" rot="7023600">
              <a:off x="743400" y="-572400"/>
              <a:ext cx="275040" cy="2150640"/>
            </a:xfrm>
            <a:prstGeom prst="pi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Freeform 1001"/>
            <p:cNvSpPr/>
            <p:nvPr/>
          </p:nvSpPr>
          <p:spPr>
            <a:xfrm flipH="1" rot="7023600">
              <a:off x="-105120" y="101160"/>
              <a:ext cx="30240" cy="83160"/>
            </a:xfrm>
            <a:prstGeom prst="pi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3" name="Group 1002"/>
            <p:cNvGrpSpPr/>
            <p:nvPr/>
          </p:nvGrpSpPr>
          <p:grpSpPr>
            <a:xfrm>
              <a:off x="-575280" y="73800"/>
              <a:ext cx="856080" cy="715680"/>
              <a:chOff x="-575280" y="73800"/>
              <a:chExt cx="856080" cy="715680"/>
            </a:xfrm>
          </p:grpSpPr>
          <p:grpSp>
            <p:nvGrpSpPr>
              <p:cNvPr id="804" name="Group 1003"/>
              <p:cNvGrpSpPr/>
              <p:nvPr/>
            </p:nvGrpSpPr>
            <p:grpSpPr>
              <a:xfrm>
                <a:off x="-575280" y="73800"/>
                <a:ext cx="822960" cy="715680"/>
                <a:chOff x="-575280" y="73800"/>
                <a:chExt cx="822960" cy="715680"/>
              </a:xfrm>
            </p:grpSpPr>
            <p:sp>
              <p:nvSpPr>
                <p:cNvPr id="805" name="Freeform 1004"/>
                <p:cNvSpPr/>
                <p:nvPr/>
              </p:nvSpPr>
              <p:spPr>
                <a:xfrm flipH="1" rot="6883200">
                  <a:off x="-375840" y="92520"/>
                  <a:ext cx="424800" cy="710640"/>
                </a:xfrm>
                <a:prstGeom prst="pie">
                  <a:avLst/>
                </a:prstGeom>
                <a:solidFill>
                  <a:srgbClr val="33cc33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Freeform 1005"/>
                <p:cNvSpPr/>
                <p:nvPr/>
              </p:nvSpPr>
              <p:spPr>
                <a:xfrm flipH="1" rot="6883200">
                  <a:off x="-313560" y="275040"/>
                  <a:ext cx="360360" cy="336960"/>
                </a:xfrm>
                <a:prstGeom prst="pie">
                  <a:avLst/>
                </a:pr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Freeform 1006"/>
                <p:cNvSpPr/>
                <p:nvPr/>
              </p:nvSpPr>
              <p:spPr>
                <a:xfrm flipH="1" rot="6883200">
                  <a:off x="-340560" y="189720"/>
                  <a:ext cx="524160" cy="4201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Freeform 1007"/>
                <p:cNvSpPr/>
                <p:nvPr/>
              </p:nvSpPr>
              <p:spPr>
                <a:xfrm flipH="1" rot="6883200">
                  <a:off x="-251280" y="469800"/>
                  <a:ext cx="170640" cy="406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Freeform 1008"/>
                <p:cNvSpPr/>
                <p:nvPr/>
              </p:nvSpPr>
              <p:spPr>
                <a:xfrm flipH="1" rot="6883200">
                  <a:off x="-140040" y="415080"/>
                  <a:ext cx="220320" cy="1555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Freeform 1009"/>
                <p:cNvSpPr/>
                <p:nvPr/>
              </p:nvSpPr>
              <p:spPr>
                <a:xfrm flipH="1" rot="6883200">
                  <a:off x="-68040" y="385200"/>
                  <a:ext cx="243000" cy="2048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Freeform 1010"/>
                <p:cNvSpPr/>
                <p:nvPr/>
              </p:nvSpPr>
              <p:spPr>
                <a:xfrm flipH="1" rot="6883200">
                  <a:off x="-292320" y="492840"/>
                  <a:ext cx="101160" cy="259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Freeform 1011"/>
                <p:cNvSpPr/>
                <p:nvPr/>
              </p:nvSpPr>
              <p:spPr>
                <a:xfrm flipH="1" rot="6883200">
                  <a:off x="-337320" y="520200"/>
                  <a:ext cx="52920" cy="93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Freeform 1012"/>
                <p:cNvSpPr/>
                <p:nvPr/>
              </p:nvSpPr>
              <p:spPr>
                <a:xfrm flipH="1" rot="6883200">
                  <a:off x="-350280" y="459360"/>
                  <a:ext cx="38520" cy="720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Freeform 1013"/>
                <p:cNvSpPr/>
                <p:nvPr/>
              </p:nvSpPr>
              <p:spPr>
                <a:xfrm flipH="1" rot="6883200">
                  <a:off x="-338040" y="390960"/>
                  <a:ext cx="67320" cy="1346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Freeform 1014"/>
                <p:cNvSpPr/>
                <p:nvPr/>
              </p:nvSpPr>
              <p:spPr>
                <a:xfrm flipH="1" rot="6883200">
                  <a:off x="-320760" y="284400"/>
                  <a:ext cx="107640" cy="2354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Freeform 1015"/>
                <p:cNvSpPr/>
                <p:nvPr/>
              </p:nvSpPr>
              <p:spPr>
                <a:xfrm flipH="1" rot="6883200">
                  <a:off x="-287280" y="168840"/>
                  <a:ext cx="115560" cy="3438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Freeform 1016"/>
                <p:cNvSpPr/>
                <p:nvPr/>
              </p:nvSpPr>
              <p:spPr>
                <a:xfrm flipH="1" rot="6883200">
                  <a:off x="-339120" y="227880"/>
                  <a:ext cx="12960" cy="1375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Freeform 1017"/>
                <p:cNvSpPr/>
                <p:nvPr/>
              </p:nvSpPr>
              <p:spPr>
                <a:xfrm flipH="1" rot="6883200">
                  <a:off x="-228600" y="65160"/>
                  <a:ext cx="80640" cy="4248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Freeform 1018"/>
                <p:cNvSpPr/>
                <p:nvPr/>
              </p:nvSpPr>
              <p:spPr>
                <a:xfrm flipH="1" rot="6883200">
                  <a:off x="-255600" y="314640"/>
                  <a:ext cx="59400" cy="669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Freeform 1019"/>
                <p:cNvSpPr/>
                <p:nvPr/>
              </p:nvSpPr>
              <p:spPr>
                <a:xfrm flipH="1" rot="6883200">
                  <a:off x="-353520" y="329760"/>
                  <a:ext cx="29160" cy="1087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Freeform 1020"/>
                <p:cNvSpPr/>
                <p:nvPr/>
              </p:nvSpPr>
              <p:spPr>
                <a:xfrm flipH="1" rot="6883200">
                  <a:off x="-207000" y="497520"/>
                  <a:ext cx="62640" cy="234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Freeform 1021"/>
                <p:cNvSpPr/>
                <p:nvPr/>
              </p:nvSpPr>
              <p:spPr>
                <a:xfrm flipH="1" rot="6883200">
                  <a:off x="-166320" y="522000"/>
                  <a:ext cx="38520" cy="414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Freeform 1022"/>
                <p:cNvSpPr/>
                <p:nvPr/>
              </p:nvSpPr>
              <p:spPr>
                <a:xfrm flipH="1" rot="6883200">
                  <a:off x="-299880" y="340560"/>
                  <a:ext cx="12960" cy="2592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Freeform 1023"/>
                <p:cNvSpPr/>
                <p:nvPr/>
              </p:nvSpPr>
              <p:spPr>
                <a:xfrm flipH="1" rot="6883200">
                  <a:off x="-96840" y="522720"/>
                  <a:ext cx="11160" cy="1584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Freeform 1024"/>
                <p:cNvSpPr/>
                <p:nvPr/>
              </p:nvSpPr>
              <p:spPr>
                <a:xfrm flipH="1" rot="6883200">
                  <a:off x="1080" y="518400"/>
                  <a:ext cx="12600" cy="2052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Freeform 1025"/>
                <p:cNvSpPr/>
                <p:nvPr/>
              </p:nvSpPr>
              <p:spPr>
                <a:xfrm flipH="1" rot="6883200">
                  <a:off x="-230040" y="556560"/>
                  <a:ext cx="9360" cy="1044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7" name="Group 1026"/>
              <p:cNvGrpSpPr/>
              <p:nvPr/>
            </p:nvGrpSpPr>
            <p:grpSpPr>
              <a:xfrm>
                <a:off x="216360" y="230760"/>
                <a:ext cx="64440" cy="51840"/>
                <a:chOff x="216360" y="230760"/>
                <a:chExt cx="64440" cy="51840"/>
              </a:xfrm>
            </p:grpSpPr>
            <p:sp>
              <p:nvSpPr>
                <p:cNvPr id="828" name="Freeform 1027"/>
                <p:cNvSpPr/>
                <p:nvPr/>
              </p:nvSpPr>
              <p:spPr>
                <a:xfrm flipH="1" rot="11248200">
                  <a:off x="218520" y="234000"/>
                  <a:ext cx="59040" cy="44640"/>
                </a:xfrm>
                <a:prstGeom prst="pie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Freeform 1028"/>
                <p:cNvSpPr/>
                <p:nvPr/>
              </p:nvSpPr>
              <p:spPr>
                <a:xfrm flipH="1" rot="14895000">
                  <a:off x="225360" y="236160"/>
                  <a:ext cx="22320" cy="35640"/>
                </a:xfrm>
                <a:prstGeom prst="pie">
                  <a:avLst/>
                </a:pr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30" name="Group 1029"/>
            <p:cNvGrpSpPr/>
            <p:nvPr/>
          </p:nvGrpSpPr>
          <p:grpSpPr>
            <a:xfrm>
              <a:off x="52200" y="208800"/>
              <a:ext cx="912240" cy="832680"/>
              <a:chOff x="52200" y="208800"/>
              <a:chExt cx="912240" cy="832680"/>
            </a:xfrm>
          </p:grpSpPr>
          <p:grpSp>
            <p:nvGrpSpPr>
              <p:cNvPr id="831" name="Group 1030"/>
              <p:cNvGrpSpPr/>
              <p:nvPr/>
            </p:nvGrpSpPr>
            <p:grpSpPr>
              <a:xfrm>
                <a:off x="52200" y="208800"/>
                <a:ext cx="912240" cy="832680"/>
                <a:chOff x="52200" y="208800"/>
                <a:chExt cx="912240" cy="832680"/>
              </a:xfrm>
            </p:grpSpPr>
            <p:sp>
              <p:nvSpPr>
                <p:cNvPr id="832" name="Freeform 1031"/>
                <p:cNvSpPr/>
                <p:nvPr/>
              </p:nvSpPr>
              <p:spPr>
                <a:xfrm flipH="1" rot="2120400">
                  <a:off x="214920" y="443520"/>
                  <a:ext cx="684720" cy="440640"/>
                </a:xfrm>
                <a:prstGeom prst="pie">
                  <a:avLst/>
                </a:prstGeom>
                <a:solidFill>
                  <a:srgbClr val="33cc33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Freeform 1032"/>
                <p:cNvSpPr/>
                <p:nvPr/>
              </p:nvSpPr>
              <p:spPr>
                <a:xfrm flipH="1" rot="2120400">
                  <a:off x="253080" y="529560"/>
                  <a:ext cx="581400" cy="208800"/>
                </a:xfrm>
                <a:prstGeom prst="pie">
                  <a:avLst/>
                </a:pr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Freeform 1033"/>
                <p:cNvSpPr/>
                <p:nvPr/>
              </p:nvSpPr>
              <p:spPr>
                <a:xfrm flipH="1" rot="2120400">
                  <a:off x="49320" y="429120"/>
                  <a:ext cx="846000" cy="2606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Freeform 1034"/>
                <p:cNvSpPr/>
                <p:nvPr/>
              </p:nvSpPr>
              <p:spPr>
                <a:xfrm flipH="1" rot="2120400">
                  <a:off x="476280" y="678960"/>
                  <a:ext cx="275400" cy="252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Freeform 1035"/>
                <p:cNvSpPr/>
                <p:nvPr/>
              </p:nvSpPr>
              <p:spPr>
                <a:xfrm flipH="1" rot="2120400">
                  <a:off x="409680" y="530280"/>
                  <a:ext cx="355320" cy="964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Freeform 1036"/>
                <p:cNvSpPr/>
                <p:nvPr/>
              </p:nvSpPr>
              <p:spPr>
                <a:xfrm flipH="1" rot="2120400">
                  <a:off x="365400" y="439920"/>
                  <a:ext cx="391680" cy="1270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Freeform 1037"/>
                <p:cNvSpPr/>
                <p:nvPr/>
              </p:nvSpPr>
              <p:spPr>
                <a:xfrm flipH="1" rot="2120400">
                  <a:off x="570240" y="757800"/>
                  <a:ext cx="163440" cy="158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Freeform 1038"/>
                <p:cNvSpPr/>
                <p:nvPr/>
              </p:nvSpPr>
              <p:spPr>
                <a:xfrm flipH="1" rot="2120400">
                  <a:off x="650520" y="834120"/>
                  <a:ext cx="85320" cy="61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Freeform 1039"/>
                <p:cNvSpPr/>
                <p:nvPr/>
              </p:nvSpPr>
              <p:spPr>
                <a:xfrm flipH="1" rot="2120400">
                  <a:off x="626760" y="813240"/>
                  <a:ext cx="62280" cy="446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Freeform 1040"/>
                <p:cNvSpPr/>
                <p:nvPr/>
              </p:nvSpPr>
              <p:spPr>
                <a:xfrm flipH="1" rot="2120400">
                  <a:off x="547200" y="747360"/>
                  <a:ext cx="108720" cy="838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Freeform 1041"/>
                <p:cNvSpPr/>
                <p:nvPr/>
              </p:nvSpPr>
              <p:spPr>
                <a:xfrm flipH="1" rot="2120400">
                  <a:off x="431640" y="648360"/>
                  <a:ext cx="173520" cy="1461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Freeform 1042"/>
                <p:cNvSpPr/>
                <p:nvPr/>
              </p:nvSpPr>
              <p:spPr>
                <a:xfrm flipH="1" rot="2120400">
                  <a:off x="333720" y="543960"/>
                  <a:ext cx="186840" cy="2134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Freeform 1043"/>
                <p:cNvSpPr/>
                <p:nvPr/>
              </p:nvSpPr>
              <p:spPr>
                <a:xfrm flipH="1" rot="2120400">
                  <a:off x="380160" y="667080"/>
                  <a:ext cx="20880" cy="853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Freeform 1044"/>
                <p:cNvSpPr/>
                <p:nvPr/>
              </p:nvSpPr>
              <p:spPr>
                <a:xfrm flipH="1" rot="2120400">
                  <a:off x="268920" y="443880"/>
                  <a:ext cx="129960" cy="2635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Freeform 1045"/>
                <p:cNvSpPr/>
                <p:nvPr/>
              </p:nvSpPr>
              <p:spPr>
                <a:xfrm flipH="1" rot="2120400">
                  <a:off x="388440" y="632160"/>
                  <a:ext cx="95760" cy="414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Freeform 1046"/>
                <p:cNvSpPr/>
                <p:nvPr/>
              </p:nvSpPr>
              <p:spPr>
                <a:xfrm flipH="1" rot="2120400">
                  <a:off x="486000" y="737640"/>
                  <a:ext cx="46800" cy="676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Freeform 1047"/>
                <p:cNvSpPr/>
                <p:nvPr/>
              </p:nvSpPr>
              <p:spPr>
                <a:xfrm flipH="1" rot="2120400">
                  <a:off x="592200" y="705240"/>
                  <a:ext cx="101160" cy="144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Freeform 1048"/>
                <p:cNvSpPr/>
                <p:nvPr/>
              </p:nvSpPr>
              <p:spPr>
                <a:xfrm flipH="1" rot="2120400">
                  <a:off x="649440" y="696600"/>
                  <a:ext cx="62280" cy="252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Freeform 1049"/>
                <p:cNvSpPr/>
                <p:nvPr/>
              </p:nvSpPr>
              <p:spPr>
                <a:xfrm flipH="1" rot="2120400">
                  <a:off x="447840" y="705600"/>
                  <a:ext cx="20880" cy="1620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Freeform 1050"/>
                <p:cNvSpPr/>
                <p:nvPr/>
              </p:nvSpPr>
              <p:spPr>
                <a:xfrm flipH="1" rot="2120400">
                  <a:off x="642960" y="649080"/>
                  <a:ext cx="18000" cy="972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Freeform 1051"/>
                <p:cNvSpPr/>
                <p:nvPr/>
              </p:nvSpPr>
              <p:spPr>
                <a:xfrm flipH="1" rot="2120400">
                  <a:off x="616680" y="563040"/>
                  <a:ext cx="20520" cy="1296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Freeform 1052"/>
                <p:cNvSpPr/>
                <p:nvPr/>
              </p:nvSpPr>
              <p:spPr>
                <a:xfrm flipH="1" rot="2120400">
                  <a:off x="716400" y="784800"/>
                  <a:ext cx="15120" cy="648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4" name="Group 1053"/>
              <p:cNvGrpSpPr/>
              <p:nvPr/>
            </p:nvGrpSpPr>
            <p:grpSpPr>
              <a:xfrm>
                <a:off x="224640" y="268200"/>
                <a:ext cx="79920" cy="57600"/>
                <a:chOff x="224640" y="268200"/>
                <a:chExt cx="79920" cy="57600"/>
              </a:xfrm>
            </p:grpSpPr>
            <p:sp>
              <p:nvSpPr>
                <p:cNvPr id="855" name="Freeform 1054"/>
                <p:cNvSpPr/>
                <p:nvPr/>
              </p:nvSpPr>
              <p:spPr>
                <a:xfrm flipH="1" rot="6484800">
                  <a:off x="245880" y="261000"/>
                  <a:ext cx="36720" cy="72000"/>
                </a:xfrm>
                <a:prstGeom prst="pie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Freeform 1055"/>
                <p:cNvSpPr/>
                <p:nvPr/>
              </p:nvSpPr>
              <p:spPr>
                <a:xfrm flipH="1" rot="10131600">
                  <a:off x="241920" y="291960"/>
                  <a:ext cx="36000" cy="22320"/>
                </a:xfrm>
                <a:prstGeom prst="pie">
                  <a:avLst/>
                </a:pr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57" name="Group 1056"/>
            <p:cNvGrpSpPr/>
            <p:nvPr/>
          </p:nvGrpSpPr>
          <p:grpSpPr>
            <a:xfrm>
              <a:off x="21600" y="-429480"/>
              <a:ext cx="1294560" cy="972720"/>
              <a:chOff x="21600" y="-429480"/>
              <a:chExt cx="1294560" cy="972720"/>
            </a:xfrm>
          </p:grpSpPr>
          <p:grpSp>
            <p:nvGrpSpPr>
              <p:cNvPr id="858" name="Group 1057"/>
              <p:cNvGrpSpPr/>
              <p:nvPr/>
            </p:nvGrpSpPr>
            <p:grpSpPr>
              <a:xfrm>
                <a:off x="21600" y="-429480"/>
                <a:ext cx="761040" cy="773640"/>
                <a:chOff x="21600" y="-429480"/>
                <a:chExt cx="761040" cy="773640"/>
              </a:xfrm>
            </p:grpSpPr>
            <p:grpSp>
              <p:nvGrpSpPr>
                <p:cNvPr id="859" name="Group 1058"/>
                <p:cNvGrpSpPr/>
                <p:nvPr/>
              </p:nvGrpSpPr>
              <p:grpSpPr>
                <a:xfrm>
                  <a:off x="21600" y="-429480"/>
                  <a:ext cx="761040" cy="725400"/>
                  <a:chOff x="21600" y="-429480"/>
                  <a:chExt cx="761040" cy="725400"/>
                </a:xfrm>
              </p:grpSpPr>
              <p:sp>
                <p:nvSpPr>
                  <p:cNvPr id="860" name="Freeform 1059"/>
                  <p:cNvSpPr/>
                  <p:nvPr/>
                </p:nvSpPr>
                <p:spPr>
                  <a:xfrm rot="7164000">
                    <a:off x="206640" y="-425880"/>
                    <a:ext cx="390240" cy="653760"/>
                  </a:xfrm>
                  <a:prstGeom prst="pie">
                    <a:avLst/>
                  </a:prstGeom>
                  <a:solidFill>
                    <a:srgbClr val="33cc33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1" name="Freeform 1060"/>
                  <p:cNvSpPr/>
                  <p:nvPr/>
                </p:nvSpPr>
                <p:spPr>
                  <a:xfrm rot="7164000">
                    <a:off x="249480" y="-228240"/>
                    <a:ext cx="330840" cy="309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9900"/>
                      </a:gs>
                      <a:gs pos="100000">
                        <a:srgbClr val="43b44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2" name="Freeform 1061"/>
                  <p:cNvSpPr/>
                  <p:nvPr/>
                </p:nvSpPr>
                <p:spPr>
                  <a:xfrm rot="7164000">
                    <a:off x="170640" y="-201960"/>
                    <a:ext cx="481680" cy="38664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3" name="Freeform 1062"/>
                  <p:cNvSpPr/>
                  <p:nvPr/>
                </p:nvSpPr>
                <p:spPr>
                  <a:xfrm rot="7164000">
                    <a:off x="353880" y="-141840"/>
                    <a:ext cx="156600" cy="3816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4" name="Freeform 1063"/>
                  <p:cNvSpPr/>
                  <p:nvPr/>
                </p:nvSpPr>
                <p:spPr>
                  <a:xfrm rot="7164000">
                    <a:off x="406800" y="-94680"/>
                    <a:ext cx="202320" cy="14292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5" name="Freeform 1064"/>
                  <p:cNvSpPr/>
                  <p:nvPr/>
                </p:nvSpPr>
                <p:spPr>
                  <a:xfrm rot="7164000">
                    <a:off x="437400" y="-51840"/>
                    <a:ext cx="223200" cy="18828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6" name="Freeform 1065"/>
                  <p:cNvSpPr/>
                  <p:nvPr/>
                </p:nvSpPr>
                <p:spPr>
                  <a:xfrm rot="7164000">
                    <a:off x="356400" y="-199080"/>
                    <a:ext cx="92880" cy="2376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7" name="Freeform 1066"/>
                  <p:cNvSpPr/>
                  <p:nvPr/>
                </p:nvSpPr>
                <p:spPr>
                  <a:xfrm rot="7164000">
                    <a:off x="356400" y="-254160"/>
                    <a:ext cx="48240" cy="900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8" name="Freeform 1067"/>
                  <p:cNvSpPr/>
                  <p:nvPr/>
                </p:nvSpPr>
                <p:spPr>
                  <a:xfrm rot="7164000">
                    <a:off x="329040" y="-282240"/>
                    <a:ext cx="35280" cy="6624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9" name="Freeform 1068"/>
                  <p:cNvSpPr/>
                  <p:nvPr/>
                </p:nvSpPr>
                <p:spPr>
                  <a:xfrm rot="7164000">
                    <a:off x="301680" y="-270720"/>
                    <a:ext cx="61920" cy="12384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0" name="Freeform 1069"/>
                  <p:cNvSpPr/>
                  <p:nvPr/>
                </p:nvSpPr>
                <p:spPr>
                  <a:xfrm rot="7164000">
                    <a:off x="262800" y="-258840"/>
                    <a:ext cx="98640" cy="21744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1" name="Freeform 1070"/>
                  <p:cNvSpPr/>
                  <p:nvPr/>
                </p:nvSpPr>
                <p:spPr>
                  <a:xfrm rot="7164000">
                    <a:off x="233280" y="-247320"/>
                    <a:ext cx="106200" cy="31644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2" name="Freeform 1071"/>
                  <p:cNvSpPr/>
                  <p:nvPr/>
                </p:nvSpPr>
                <p:spPr>
                  <a:xfrm rot="7164000">
                    <a:off x="191880" y="-204840"/>
                    <a:ext cx="11880" cy="12636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3" name="Freeform 1072"/>
                  <p:cNvSpPr/>
                  <p:nvPr/>
                </p:nvSpPr>
                <p:spPr>
                  <a:xfrm rot="7164000">
                    <a:off x="225000" y="-219960"/>
                    <a:ext cx="74160" cy="39060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4" name="Freeform 1073"/>
                  <p:cNvSpPr/>
                  <p:nvPr/>
                </p:nvSpPr>
                <p:spPr>
                  <a:xfrm rot="7164000">
                    <a:off x="266400" y="-122040"/>
                    <a:ext cx="54360" cy="6156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5" name="Freeform 1074"/>
                  <p:cNvSpPr/>
                  <p:nvPr/>
                </p:nvSpPr>
                <p:spPr>
                  <a:xfrm rot="7164000">
                    <a:off x="246240" y="-244800"/>
                    <a:ext cx="26280" cy="10044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6" name="Freeform 1075"/>
                  <p:cNvSpPr/>
                  <p:nvPr/>
                </p:nvSpPr>
                <p:spPr>
                  <a:xfrm rot="7164000">
                    <a:off x="412200" y="-151560"/>
                    <a:ext cx="57600" cy="2160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7" name="Freeform 1076"/>
                  <p:cNvSpPr/>
                  <p:nvPr/>
                </p:nvSpPr>
                <p:spPr>
                  <a:xfrm rot="7164000">
                    <a:off x="463680" y="-155880"/>
                    <a:ext cx="35280" cy="3780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8" name="Freeform 1077"/>
                  <p:cNvSpPr/>
                  <p:nvPr/>
                </p:nvSpPr>
                <p:spPr>
                  <a:xfrm rot="7164000">
                    <a:off x="255600" y="-156240"/>
                    <a:ext cx="11880" cy="24120"/>
                  </a:xfrm>
                  <a:prstGeom prst="pie">
                    <a:avLst/>
                  </a:pr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9" name="Freeform 1078"/>
                  <p:cNvSpPr/>
                  <p:nvPr/>
                </p:nvSpPr>
                <p:spPr>
                  <a:xfrm rot="7164000">
                    <a:off x="498240" y="-95760"/>
                    <a:ext cx="10080" cy="14400"/>
                  </a:xfrm>
                  <a:prstGeom prst="pie">
                    <a:avLst/>
                  </a:pr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0" name="Freeform 1079"/>
                  <p:cNvSpPr/>
                  <p:nvPr/>
                </p:nvSpPr>
                <p:spPr>
                  <a:xfrm rot="7164000">
                    <a:off x="549000" y="-23760"/>
                    <a:ext cx="11520" cy="18720"/>
                  </a:xfrm>
                  <a:prstGeom prst="pie">
                    <a:avLst/>
                  </a:pr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1" name="Freeform 1080"/>
                  <p:cNvSpPr/>
                  <p:nvPr/>
                </p:nvSpPr>
                <p:spPr>
                  <a:xfrm rot="7164000">
                    <a:off x="449640" y="-209880"/>
                    <a:ext cx="8640" cy="9720"/>
                  </a:xfrm>
                  <a:prstGeom prst="pie">
                    <a:avLst/>
                  </a:pr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82" name="Group 1081"/>
                <p:cNvGrpSpPr/>
                <p:nvPr/>
              </p:nvGrpSpPr>
              <p:grpSpPr>
                <a:xfrm>
                  <a:off x="448200" y="276840"/>
                  <a:ext cx="66960" cy="67320"/>
                  <a:chOff x="448200" y="276840"/>
                  <a:chExt cx="66960" cy="67320"/>
                </a:xfrm>
              </p:grpSpPr>
              <p:sp>
                <p:nvSpPr>
                  <p:cNvPr id="883" name="Freeform 1082"/>
                  <p:cNvSpPr/>
                  <p:nvPr/>
                </p:nvSpPr>
                <p:spPr>
                  <a:xfrm rot="2799000">
                    <a:off x="454680" y="289800"/>
                    <a:ext cx="54000" cy="41040"/>
                  </a:xfrm>
                  <a:prstGeom prst="pie">
                    <a:avLst/>
                  </a:prstGeom>
                  <a:solidFill>
                    <a:srgbClr val="00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4" name="Freeform 1083"/>
                  <p:cNvSpPr/>
                  <p:nvPr/>
                </p:nvSpPr>
                <p:spPr>
                  <a:xfrm rot="20752800">
                    <a:off x="463680" y="286920"/>
                    <a:ext cx="20520" cy="32760"/>
                  </a:xfrm>
                  <a:prstGeom prst="pie">
                    <a:avLst/>
                  </a:prstGeom>
                  <a:solidFill>
                    <a:srgbClr val="ccff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85" name="Group 1084"/>
              <p:cNvGrpSpPr/>
              <p:nvPr/>
            </p:nvGrpSpPr>
            <p:grpSpPr>
              <a:xfrm>
                <a:off x="458640" y="34920"/>
                <a:ext cx="857520" cy="508320"/>
                <a:chOff x="458640" y="34920"/>
                <a:chExt cx="857520" cy="508320"/>
              </a:xfrm>
            </p:grpSpPr>
            <p:grpSp>
              <p:nvGrpSpPr>
                <p:cNvPr id="886" name="Group 1085"/>
                <p:cNvGrpSpPr/>
                <p:nvPr/>
              </p:nvGrpSpPr>
              <p:grpSpPr>
                <a:xfrm>
                  <a:off x="458640" y="34920"/>
                  <a:ext cx="857520" cy="508320"/>
                  <a:chOff x="458640" y="34920"/>
                  <a:chExt cx="857520" cy="508320"/>
                </a:xfrm>
              </p:grpSpPr>
              <p:sp>
                <p:nvSpPr>
                  <p:cNvPr id="887" name="Freeform 1086"/>
                  <p:cNvSpPr/>
                  <p:nvPr/>
                </p:nvSpPr>
                <p:spPr>
                  <a:xfrm rot="11388000">
                    <a:off x="666720" y="84240"/>
                    <a:ext cx="618840" cy="408960"/>
                  </a:xfrm>
                  <a:prstGeom prst="pie">
                    <a:avLst/>
                  </a:prstGeom>
                  <a:solidFill>
                    <a:srgbClr val="33cc33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8" name="Freeform 1087"/>
                  <p:cNvSpPr/>
                  <p:nvPr/>
                </p:nvSpPr>
                <p:spPr>
                  <a:xfrm rot="11388000">
                    <a:off x="686160" y="202680"/>
                    <a:ext cx="525240" cy="193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9900"/>
                      </a:gs>
                      <a:gs pos="100000">
                        <a:srgbClr val="43b44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9" name="Freeform 1088"/>
                  <p:cNvSpPr/>
                  <p:nvPr/>
                </p:nvSpPr>
                <p:spPr>
                  <a:xfrm rot="11388000">
                    <a:off x="473400" y="181080"/>
                    <a:ext cx="764280" cy="24156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0" name="Freeform 1089"/>
                  <p:cNvSpPr/>
                  <p:nvPr/>
                </p:nvSpPr>
                <p:spPr>
                  <a:xfrm rot="11388000">
                    <a:off x="905760" y="296280"/>
                    <a:ext cx="248760" cy="2340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1" name="Freeform 1090"/>
                  <p:cNvSpPr/>
                  <p:nvPr/>
                </p:nvSpPr>
                <p:spPr>
                  <a:xfrm rot="11388000">
                    <a:off x="779760" y="319680"/>
                    <a:ext cx="321120" cy="8964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2" name="Freeform 1091"/>
                  <p:cNvSpPr/>
                  <p:nvPr/>
                </p:nvSpPr>
                <p:spPr>
                  <a:xfrm rot="11388000">
                    <a:off x="698400" y="337680"/>
                    <a:ext cx="353880" cy="11808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3" name="Freeform 1092"/>
                  <p:cNvSpPr/>
                  <p:nvPr/>
                </p:nvSpPr>
                <p:spPr>
                  <a:xfrm rot="11388000">
                    <a:off x="1028160" y="276120"/>
                    <a:ext cx="147960" cy="1512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4" name="Freeform 1093"/>
                  <p:cNvSpPr/>
                  <p:nvPr/>
                </p:nvSpPr>
                <p:spPr>
                  <a:xfrm rot="11388000">
                    <a:off x="1136160" y="262080"/>
                    <a:ext cx="77040" cy="504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5" name="Freeform 1094"/>
                  <p:cNvSpPr/>
                  <p:nvPr/>
                </p:nvSpPr>
                <p:spPr>
                  <a:xfrm rot="11388000">
                    <a:off x="1123200" y="221040"/>
                    <a:ext cx="56160" cy="4176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6" name="Freeform 1095"/>
                  <p:cNvSpPr/>
                  <p:nvPr/>
                </p:nvSpPr>
                <p:spPr>
                  <a:xfrm rot="11388000">
                    <a:off x="1035720" y="197280"/>
                    <a:ext cx="98280" cy="7668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7" name="Freeform 1096"/>
                  <p:cNvSpPr/>
                  <p:nvPr/>
                </p:nvSpPr>
                <p:spPr>
                  <a:xfrm rot="11388000">
                    <a:off x="910440" y="158400"/>
                    <a:ext cx="156600" cy="13500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8" name="Freeform 1097"/>
                  <p:cNvSpPr/>
                  <p:nvPr/>
                </p:nvSpPr>
                <p:spPr>
                  <a:xfrm rot="11388000">
                    <a:off x="800640" y="113400"/>
                    <a:ext cx="168480" cy="19800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9" name="Freeform 1098"/>
                  <p:cNvSpPr/>
                  <p:nvPr/>
                </p:nvSpPr>
                <p:spPr>
                  <a:xfrm rot="11388000">
                    <a:off x="890640" y="110880"/>
                    <a:ext cx="19080" cy="7884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0" name="Freeform 1099"/>
                  <p:cNvSpPr/>
                  <p:nvPr/>
                </p:nvSpPr>
                <p:spPr>
                  <a:xfrm rot="11388000">
                    <a:off x="718560" y="78840"/>
                    <a:ext cx="117360" cy="24408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1" name="Freeform 1100"/>
                  <p:cNvSpPr/>
                  <p:nvPr/>
                </p:nvSpPr>
                <p:spPr>
                  <a:xfrm rot="11388000">
                    <a:off x="849600" y="197640"/>
                    <a:ext cx="86400" cy="3888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560" bIns="-75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2" name="Freeform 1101"/>
                  <p:cNvSpPr/>
                  <p:nvPr/>
                </p:nvSpPr>
                <p:spPr>
                  <a:xfrm rot="11388000">
                    <a:off x="993600" y="155880"/>
                    <a:ext cx="42480" cy="6264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3" name="Freeform 1102"/>
                  <p:cNvSpPr/>
                  <p:nvPr/>
                </p:nvSpPr>
                <p:spPr>
                  <a:xfrm rot="11388000">
                    <a:off x="1015560" y="305640"/>
                    <a:ext cx="91440" cy="1332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4" name="Freeform 1103"/>
                  <p:cNvSpPr/>
                  <p:nvPr/>
                </p:nvSpPr>
                <p:spPr>
                  <a:xfrm rot="11388000">
                    <a:off x="1055880" y="328320"/>
                    <a:ext cx="56160" cy="2340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5" name="Freeform 1104"/>
                  <p:cNvSpPr/>
                  <p:nvPr/>
                </p:nvSpPr>
                <p:spPr>
                  <a:xfrm rot="11388000">
                    <a:off x="935280" y="184320"/>
                    <a:ext cx="19080" cy="15120"/>
                  </a:xfrm>
                  <a:prstGeom prst="pie">
                    <a:avLst/>
                  </a:pr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6" name="Freeform 1105"/>
                  <p:cNvSpPr/>
                  <p:nvPr/>
                </p:nvSpPr>
                <p:spPr>
                  <a:xfrm rot="11388000">
                    <a:off x="1021680" y="353160"/>
                    <a:ext cx="16200" cy="9000"/>
                  </a:xfrm>
                  <a:prstGeom prst="pie">
                    <a:avLst/>
                  </a:pr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7" name="Freeform 1106"/>
                  <p:cNvSpPr/>
                  <p:nvPr/>
                </p:nvSpPr>
                <p:spPr>
                  <a:xfrm rot="11388000">
                    <a:off x="950400" y="391320"/>
                    <a:ext cx="18360" cy="11520"/>
                  </a:xfrm>
                  <a:prstGeom prst="pie">
                    <a:avLst/>
                  </a:pr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8" name="Freeform 1107"/>
                  <p:cNvSpPr/>
                  <p:nvPr/>
                </p:nvSpPr>
                <p:spPr>
                  <a:xfrm rot="11388000">
                    <a:off x="1155240" y="314640"/>
                    <a:ext cx="13320" cy="5400"/>
                  </a:xfrm>
                  <a:prstGeom prst="pie">
                    <a:avLst/>
                  </a:pr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09" name="Group 1108"/>
                <p:cNvGrpSpPr/>
                <p:nvPr/>
              </p:nvGrpSpPr>
              <p:grpSpPr>
                <a:xfrm>
                  <a:off x="515520" y="310320"/>
                  <a:ext cx="73440" cy="59760"/>
                  <a:chOff x="515520" y="310320"/>
                  <a:chExt cx="73440" cy="59760"/>
                </a:xfrm>
              </p:grpSpPr>
              <p:sp>
                <p:nvSpPr>
                  <p:cNvPr id="910" name="Freeform 1109"/>
                  <p:cNvSpPr/>
                  <p:nvPr/>
                </p:nvSpPr>
                <p:spPr>
                  <a:xfrm rot="7023600">
                    <a:off x="535320" y="307440"/>
                    <a:ext cx="33840" cy="65160"/>
                  </a:xfrm>
                  <a:prstGeom prst="pie">
                    <a:avLst/>
                  </a:prstGeom>
                  <a:solidFill>
                    <a:srgbClr val="00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720" bIns="187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1" name="Freeform 1110"/>
                  <p:cNvSpPr/>
                  <p:nvPr/>
                </p:nvSpPr>
                <p:spPr>
                  <a:xfrm rot="3376800">
                    <a:off x="537480" y="322920"/>
                    <a:ext cx="32400" cy="20520"/>
                  </a:xfrm>
                  <a:prstGeom prst="pie">
                    <a:avLst/>
                  </a:prstGeom>
                  <a:solidFill>
                    <a:srgbClr val="ccff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912" name="Group 1111"/>
            <p:cNvGrpSpPr/>
            <p:nvPr/>
          </p:nvGrpSpPr>
          <p:grpSpPr>
            <a:xfrm>
              <a:off x="1064160" y="537840"/>
              <a:ext cx="748080" cy="783720"/>
              <a:chOff x="1064160" y="537840"/>
              <a:chExt cx="748080" cy="783720"/>
            </a:xfrm>
          </p:grpSpPr>
          <p:grpSp>
            <p:nvGrpSpPr>
              <p:cNvPr id="913" name="Group 1112"/>
              <p:cNvGrpSpPr/>
              <p:nvPr/>
            </p:nvGrpSpPr>
            <p:grpSpPr>
              <a:xfrm>
                <a:off x="1064160" y="537840"/>
                <a:ext cx="748080" cy="783720"/>
                <a:chOff x="1064160" y="537840"/>
                <a:chExt cx="748080" cy="783720"/>
              </a:xfrm>
            </p:grpSpPr>
            <p:sp>
              <p:nvSpPr>
                <p:cNvPr id="914" name="Freeform 1113"/>
                <p:cNvSpPr/>
                <p:nvPr/>
              </p:nvSpPr>
              <p:spPr>
                <a:xfrm flipH="1" rot="2658600">
                  <a:off x="1167120" y="784800"/>
                  <a:ext cx="595440" cy="383040"/>
                </a:xfrm>
                <a:prstGeom prst="pie">
                  <a:avLst/>
                </a:prstGeom>
                <a:solidFill>
                  <a:srgbClr val="33cc33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Freeform 1114"/>
                <p:cNvSpPr/>
                <p:nvPr/>
              </p:nvSpPr>
              <p:spPr>
                <a:xfrm flipH="1" rot="2658600">
                  <a:off x="1204560" y="858600"/>
                  <a:ext cx="505440" cy="181080"/>
                </a:xfrm>
                <a:prstGeom prst="pie">
                  <a:avLst/>
                </a:pr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Freeform 1115"/>
                <p:cNvSpPr/>
                <p:nvPr/>
              </p:nvSpPr>
              <p:spPr>
                <a:xfrm flipH="1" rot="2658600">
                  <a:off x="1037880" y="762480"/>
                  <a:ext cx="735840" cy="2260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Freeform 1116"/>
                <p:cNvSpPr/>
                <p:nvPr/>
              </p:nvSpPr>
              <p:spPr>
                <a:xfrm flipH="1" rot="2658600">
                  <a:off x="1389600" y="996840"/>
                  <a:ext cx="239400" cy="219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Freeform 1117"/>
                <p:cNvSpPr/>
                <p:nvPr/>
              </p:nvSpPr>
              <p:spPr>
                <a:xfrm flipH="1" rot="2658600">
                  <a:off x="1347840" y="865800"/>
                  <a:ext cx="308880" cy="838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Freeform 1118"/>
                <p:cNvSpPr/>
                <p:nvPr/>
              </p:nvSpPr>
              <p:spPr>
                <a:xfrm flipH="1" rot="2658600">
                  <a:off x="1319400" y="784800"/>
                  <a:ext cx="340560" cy="1101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Freeform 1119"/>
                <p:cNvSpPr/>
                <p:nvPr/>
              </p:nvSpPr>
              <p:spPr>
                <a:xfrm flipH="1" rot="2658600">
                  <a:off x="1461240" y="1069920"/>
                  <a:ext cx="142200" cy="133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Freeform 1120"/>
                <p:cNvSpPr/>
                <p:nvPr/>
              </p:nvSpPr>
              <p:spPr>
                <a:xfrm flipH="1" rot="2658600">
                  <a:off x="1521720" y="1140840"/>
                  <a:ext cx="74160" cy="50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Freeform 1121"/>
                <p:cNvSpPr/>
                <p:nvPr/>
              </p:nvSpPr>
              <p:spPr>
                <a:xfrm flipH="1" rot="2658600">
                  <a:off x="1501560" y="1118520"/>
                  <a:ext cx="54000" cy="388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Freeform 1122"/>
                <p:cNvSpPr/>
                <p:nvPr/>
              </p:nvSpPr>
              <p:spPr>
                <a:xfrm flipH="1" rot="2658600">
                  <a:off x="1439280" y="1054080"/>
                  <a:ext cx="94680" cy="727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Freeform 1123"/>
                <p:cNvSpPr/>
                <p:nvPr/>
              </p:nvSpPr>
              <p:spPr>
                <a:xfrm flipH="1" rot="2658600">
                  <a:off x="1348200" y="957600"/>
                  <a:ext cx="150840" cy="1267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Freeform 1124"/>
                <p:cNvSpPr/>
                <p:nvPr/>
              </p:nvSpPr>
              <p:spPr>
                <a:xfrm flipH="1" rot="2658600">
                  <a:off x="1274040" y="855000"/>
                  <a:ext cx="162000" cy="1854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Freeform 1125"/>
                <p:cNvSpPr/>
                <p:nvPr/>
              </p:nvSpPr>
              <p:spPr>
                <a:xfrm flipH="1" rot="2658600">
                  <a:off x="1307160" y="955800"/>
                  <a:ext cx="18360" cy="741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Freeform 1126"/>
                <p:cNvSpPr/>
                <p:nvPr/>
              </p:nvSpPr>
              <p:spPr>
                <a:xfrm flipH="1" rot="2658600">
                  <a:off x="1228320" y="756360"/>
                  <a:ext cx="113040" cy="2282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Freeform 1127"/>
                <p:cNvSpPr/>
                <p:nvPr/>
              </p:nvSpPr>
              <p:spPr>
                <a:xfrm flipH="1" rot="2658600">
                  <a:off x="1321560" y="932400"/>
                  <a:ext cx="83160" cy="360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Freeform 1128"/>
                <p:cNvSpPr/>
                <p:nvPr/>
              </p:nvSpPr>
              <p:spPr>
                <a:xfrm flipH="1" rot="2658600">
                  <a:off x="1389240" y="1032840"/>
                  <a:ext cx="40680" cy="586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Freeform 1129"/>
                <p:cNvSpPr/>
                <p:nvPr/>
              </p:nvSpPr>
              <p:spPr>
                <a:xfrm flipH="1" rot="2658600">
                  <a:off x="1487160" y="1024200"/>
                  <a:ext cx="87840" cy="126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Freeform 1130"/>
                <p:cNvSpPr/>
                <p:nvPr/>
              </p:nvSpPr>
              <p:spPr>
                <a:xfrm flipH="1" rot="2658600">
                  <a:off x="1538280" y="1021680"/>
                  <a:ext cx="54000" cy="223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Freeform 1131"/>
                <p:cNvSpPr/>
                <p:nvPr/>
              </p:nvSpPr>
              <p:spPr>
                <a:xfrm flipH="1" rot="2658600">
                  <a:off x="1364400" y="998280"/>
                  <a:ext cx="18360" cy="1440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Freeform 1132"/>
                <p:cNvSpPr/>
                <p:nvPr/>
              </p:nvSpPr>
              <p:spPr>
                <a:xfrm flipH="1" rot="2658600">
                  <a:off x="1540080" y="976680"/>
                  <a:ext cx="15840" cy="864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Freeform 1133"/>
                <p:cNvSpPr/>
                <p:nvPr/>
              </p:nvSpPr>
              <p:spPr>
                <a:xfrm flipH="1" rot="2658600">
                  <a:off x="1529280" y="899640"/>
                  <a:ext cx="17640" cy="1080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Freeform 1134"/>
                <p:cNvSpPr/>
                <p:nvPr/>
              </p:nvSpPr>
              <p:spPr>
                <a:xfrm flipH="1" rot="2658600">
                  <a:off x="1585440" y="1102680"/>
                  <a:ext cx="12960" cy="540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6" name="Group 1135"/>
              <p:cNvGrpSpPr/>
              <p:nvPr/>
            </p:nvGrpSpPr>
            <p:grpSpPr>
              <a:xfrm>
                <a:off x="1229040" y="594000"/>
                <a:ext cx="69840" cy="56520"/>
                <a:chOff x="1229040" y="594000"/>
                <a:chExt cx="69840" cy="56520"/>
              </a:xfrm>
            </p:grpSpPr>
            <p:sp>
              <p:nvSpPr>
                <p:cNvPr id="937" name="Freeform 1136"/>
                <p:cNvSpPr/>
                <p:nvPr/>
              </p:nvSpPr>
              <p:spPr>
                <a:xfrm flipH="1" rot="7023600">
                  <a:off x="1247760" y="590760"/>
                  <a:ext cx="31680" cy="62280"/>
                </a:xfrm>
                <a:prstGeom prst="pie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Freeform 1137"/>
                <p:cNvSpPr/>
                <p:nvPr/>
              </p:nvSpPr>
              <p:spPr>
                <a:xfrm flipH="1" rot="10670400">
                  <a:off x="1243440" y="617400"/>
                  <a:ext cx="30960" cy="19080"/>
                </a:xfrm>
                <a:prstGeom prst="pie">
                  <a:avLst/>
                </a:pr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39" name="Group 1138"/>
            <p:cNvGrpSpPr/>
            <p:nvPr/>
          </p:nvGrpSpPr>
          <p:grpSpPr>
            <a:xfrm>
              <a:off x="1194840" y="319320"/>
              <a:ext cx="674280" cy="351360"/>
              <a:chOff x="1194840" y="319320"/>
              <a:chExt cx="674280" cy="351360"/>
            </a:xfrm>
          </p:grpSpPr>
          <p:grpSp>
            <p:nvGrpSpPr>
              <p:cNvPr id="940" name="Group 1139"/>
              <p:cNvGrpSpPr/>
              <p:nvPr/>
            </p:nvGrpSpPr>
            <p:grpSpPr>
              <a:xfrm>
                <a:off x="1194840" y="319320"/>
                <a:ext cx="674280" cy="351360"/>
                <a:chOff x="1194840" y="319320"/>
                <a:chExt cx="674280" cy="351360"/>
              </a:xfrm>
            </p:grpSpPr>
            <p:sp>
              <p:nvSpPr>
                <p:cNvPr id="941" name="Freeform 1140"/>
                <p:cNvSpPr/>
                <p:nvPr/>
              </p:nvSpPr>
              <p:spPr>
                <a:xfrm rot="10594800">
                  <a:off x="1352880" y="333720"/>
                  <a:ext cx="506880" cy="321840"/>
                </a:xfrm>
                <a:prstGeom prst="pie">
                  <a:avLst/>
                </a:prstGeom>
                <a:solidFill>
                  <a:srgbClr val="33cc33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Freeform 1141"/>
                <p:cNvSpPr/>
                <p:nvPr/>
              </p:nvSpPr>
              <p:spPr>
                <a:xfrm rot="10594800">
                  <a:off x="1371600" y="431640"/>
                  <a:ext cx="429840" cy="1526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Freeform 1142"/>
                <p:cNvSpPr/>
                <p:nvPr/>
              </p:nvSpPr>
              <p:spPr>
                <a:xfrm rot="10594800">
                  <a:off x="1199520" y="431640"/>
                  <a:ext cx="625680" cy="1900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Freeform 1143"/>
                <p:cNvSpPr/>
                <p:nvPr/>
              </p:nvSpPr>
              <p:spPr>
                <a:xfrm rot="10594800">
                  <a:off x="1551240" y="490680"/>
                  <a:ext cx="203400" cy="183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Freeform 1144"/>
                <p:cNvSpPr/>
                <p:nvPr/>
              </p:nvSpPr>
              <p:spPr>
                <a:xfrm rot="10594800">
                  <a:off x="1460520" y="523440"/>
                  <a:ext cx="262800" cy="702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Freeform 1145"/>
                <p:cNvSpPr/>
                <p:nvPr/>
              </p:nvSpPr>
              <p:spPr>
                <a:xfrm rot="10594800">
                  <a:off x="1401840" y="549360"/>
                  <a:ext cx="289800" cy="928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Freeform 1146"/>
                <p:cNvSpPr/>
                <p:nvPr/>
              </p:nvSpPr>
              <p:spPr>
                <a:xfrm rot="10594800">
                  <a:off x="1645560" y="462600"/>
                  <a:ext cx="120960" cy="111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Freeform 1147"/>
                <p:cNvSpPr/>
                <p:nvPr/>
              </p:nvSpPr>
              <p:spPr>
                <a:xfrm rot="10594800">
                  <a:off x="1728360" y="437400"/>
                  <a:ext cx="63000" cy="46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Freeform 1148"/>
                <p:cNvSpPr/>
                <p:nvPr/>
              </p:nvSpPr>
              <p:spPr>
                <a:xfrm rot="10594800">
                  <a:off x="1714680" y="411120"/>
                  <a:ext cx="46080" cy="324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Freeform 1149"/>
                <p:cNvSpPr/>
                <p:nvPr/>
              </p:nvSpPr>
              <p:spPr>
                <a:xfrm rot="10594800">
                  <a:off x="1644120" y="403560"/>
                  <a:ext cx="80280" cy="608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Freeform 1150"/>
                <p:cNvSpPr/>
                <p:nvPr/>
              </p:nvSpPr>
              <p:spPr>
                <a:xfrm rot="10594800">
                  <a:off x="1540080" y="390600"/>
                  <a:ext cx="128160" cy="1069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Freeform 1151"/>
                <p:cNvSpPr/>
                <p:nvPr/>
              </p:nvSpPr>
              <p:spPr>
                <a:xfrm rot="10594800">
                  <a:off x="1450440" y="374760"/>
                  <a:ext cx="137880" cy="1558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Freeform 1152"/>
                <p:cNvSpPr/>
                <p:nvPr/>
              </p:nvSpPr>
              <p:spPr>
                <a:xfrm rot="10594800">
                  <a:off x="1512360" y="370800"/>
                  <a:ext cx="15480" cy="619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Freeform 1153"/>
                <p:cNvSpPr/>
                <p:nvPr/>
              </p:nvSpPr>
              <p:spPr>
                <a:xfrm rot="10594800">
                  <a:off x="1383840" y="366840"/>
                  <a:ext cx="96120" cy="1922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Freeform 1154"/>
                <p:cNvSpPr/>
                <p:nvPr/>
              </p:nvSpPr>
              <p:spPr>
                <a:xfrm rot="10594800">
                  <a:off x="1491120" y="440640"/>
                  <a:ext cx="70920" cy="298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Freeform 1155"/>
                <p:cNvSpPr/>
                <p:nvPr/>
              </p:nvSpPr>
              <p:spPr>
                <a:xfrm rot="10594800">
                  <a:off x="1601640" y="385560"/>
                  <a:ext cx="34560" cy="489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Freeform 1156"/>
                <p:cNvSpPr/>
                <p:nvPr/>
              </p:nvSpPr>
              <p:spPr>
                <a:xfrm rot="10594800">
                  <a:off x="1642320" y="492480"/>
                  <a:ext cx="74520" cy="104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Freeform 1157"/>
                <p:cNvSpPr/>
                <p:nvPr/>
              </p:nvSpPr>
              <p:spPr>
                <a:xfrm rot="10594800">
                  <a:off x="1679040" y="505440"/>
                  <a:ext cx="46080" cy="183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Freeform 1158"/>
                <p:cNvSpPr/>
                <p:nvPr/>
              </p:nvSpPr>
              <p:spPr>
                <a:xfrm rot="10594800">
                  <a:off x="1556280" y="419400"/>
                  <a:ext cx="15480" cy="1224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Freeform 1159"/>
                <p:cNvSpPr/>
                <p:nvPr/>
              </p:nvSpPr>
              <p:spPr>
                <a:xfrm rot="10594800">
                  <a:off x="1656000" y="534240"/>
                  <a:ext cx="13320" cy="720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Freeform 1160"/>
                <p:cNvSpPr/>
                <p:nvPr/>
              </p:nvSpPr>
              <p:spPr>
                <a:xfrm rot="10594800">
                  <a:off x="1606320" y="576000"/>
                  <a:ext cx="15120" cy="864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Freeform 1161"/>
                <p:cNvSpPr/>
                <p:nvPr/>
              </p:nvSpPr>
              <p:spPr>
                <a:xfrm rot="10594800">
                  <a:off x="1753920" y="480240"/>
                  <a:ext cx="11160" cy="468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3" name="Group 1162"/>
              <p:cNvGrpSpPr/>
              <p:nvPr/>
            </p:nvGrpSpPr>
            <p:grpSpPr>
              <a:xfrm>
                <a:off x="1251360" y="587880"/>
                <a:ext cx="57960" cy="39960"/>
                <a:chOff x="1251360" y="587880"/>
                <a:chExt cx="57960" cy="39960"/>
              </a:xfrm>
            </p:grpSpPr>
            <p:sp>
              <p:nvSpPr>
                <p:cNvPr id="964" name="Freeform 1163"/>
                <p:cNvSpPr/>
                <p:nvPr/>
              </p:nvSpPr>
              <p:spPr>
                <a:xfrm rot="6231000">
                  <a:off x="1266840" y="581760"/>
                  <a:ext cx="26640" cy="52920"/>
                </a:xfrm>
                <a:prstGeom prst="pie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Freeform 1164"/>
                <p:cNvSpPr/>
                <p:nvPr/>
              </p:nvSpPr>
              <p:spPr>
                <a:xfrm rot="2583600">
                  <a:off x="1266840" y="594360"/>
                  <a:ext cx="26280" cy="16200"/>
                </a:xfrm>
                <a:prstGeom prst="pie">
                  <a:avLst/>
                </a:pr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66" name="Group 1165"/>
            <p:cNvGrpSpPr/>
            <p:nvPr/>
          </p:nvGrpSpPr>
          <p:grpSpPr>
            <a:xfrm>
              <a:off x="1655640" y="802800"/>
              <a:ext cx="567720" cy="524160"/>
              <a:chOff x="1655640" y="802800"/>
              <a:chExt cx="567720" cy="524160"/>
            </a:xfrm>
          </p:grpSpPr>
          <p:grpSp>
            <p:nvGrpSpPr>
              <p:cNvPr id="967" name="Group 1166"/>
              <p:cNvGrpSpPr/>
              <p:nvPr/>
            </p:nvGrpSpPr>
            <p:grpSpPr>
              <a:xfrm>
                <a:off x="1659240" y="802800"/>
                <a:ext cx="564120" cy="524160"/>
                <a:chOff x="1659240" y="802800"/>
                <a:chExt cx="564120" cy="524160"/>
              </a:xfrm>
            </p:grpSpPr>
            <p:sp>
              <p:nvSpPr>
                <p:cNvPr id="968" name="Freeform 1167"/>
                <p:cNvSpPr/>
                <p:nvPr/>
              </p:nvSpPr>
              <p:spPr>
                <a:xfrm rot="15123000">
                  <a:off x="1773000" y="849960"/>
                  <a:ext cx="336240" cy="484200"/>
                </a:xfrm>
                <a:prstGeom prst="pie">
                  <a:avLst/>
                </a:prstGeom>
                <a:solidFill>
                  <a:srgbClr val="33cc33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Freeform 1168"/>
                <p:cNvSpPr/>
                <p:nvPr/>
              </p:nvSpPr>
              <p:spPr>
                <a:xfrm rot="15123000">
                  <a:off x="1778040" y="969840"/>
                  <a:ext cx="285120" cy="228960"/>
                </a:xfrm>
                <a:prstGeom prst="pie">
                  <a:avLst/>
                </a:pr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Freeform 1169"/>
                <p:cNvSpPr/>
                <p:nvPr/>
              </p:nvSpPr>
              <p:spPr>
                <a:xfrm rot="15123000">
                  <a:off x="1677240" y="901080"/>
                  <a:ext cx="415080" cy="2862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Freeform 1170"/>
                <p:cNvSpPr/>
                <p:nvPr/>
              </p:nvSpPr>
              <p:spPr>
                <a:xfrm rot="15123000">
                  <a:off x="1873440" y="1110960"/>
                  <a:ext cx="135000" cy="277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Freeform 1171"/>
                <p:cNvSpPr/>
                <p:nvPr/>
              </p:nvSpPr>
              <p:spPr>
                <a:xfrm rot="15123000">
                  <a:off x="1760040" y="1056960"/>
                  <a:ext cx="174240" cy="1062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Freeform 1172"/>
                <p:cNvSpPr/>
                <p:nvPr/>
              </p:nvSpPr>
              <p:spPr>
                <a:xfrm rot="15123000">
                  <a:off x="1693440" y="1025640"/>
                  <a:ext cx="192240" cy="1400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Freeform 1173"/>
                <p:cNvSpPr/>
                <p:nvPr/>
              </p:nvSpPr>
              <p:spPr>
                <a:xfrm rot="15123000">
                  <a:off x="1952280" y="1137600"/>
                  <a:ext cx="80280" cy="169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Freeform 1174"/>
                <p:cNvSpPr/>
                <p:nvPr/>
              </p:nvSpPr>
              <p:spPr>
                <a:xfrm rot="15123000">
                  <a:off x="2018160" y="1166760"/>
                  <a:ext cx="41760" cy="64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Freeform 1175"/>
                <p:cNvSpPr/>
                <p:nvPr/>
              </p:nvSpPr>
              <p:spPr>
                <a:xfrm rot="15123000">
                  <a:off x="2039760" y="1125000"/>
                  <a:ext cx="30600" cy="493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Freeform 1176"/>
                <p:cNvSpPr/>
                <p:nvPr/>
              </p:nvSpPr>
              <p:spPr>
                <a:xfrm rot="15123000">
                  <a:off x="2012040" y="1070640"/>
                  <a:ext cx="53280" cy="921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Freeform 1177"/>
                <p:cNvSpPr/>
                <p:nvPr/>
              </p:nvSpPr>
              <p:spPr>
                <a:xfrm rot="15123000">
                  <a:off x="1972080" y="989640"/>
                  <a:ext cx="85320" cy="1602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Freeform 1178"/>
                <p:cNvSpPr/>
                <p:nvPr/>
              </p:nvSpPr>
              <p:spPr>
                <a:xfrm rot="15123000">
                  <a:off x="1946520" y="899640"/>
                  <a:ext cx="92160" cy="2347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Freeform 1179"/>
                <p:cNvSpPr/>
                <p:nvPr/>
              </p:nvSpPr>
              <p:spPr>
                <a:xfrm rot="15123000">
                  <a:off x="2060280" y="948960"/>
                  <a:ext cx="10080" cy="936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Freeform 1180"/>
                <p:cNvSpPr/>
                <p:nvPr/>
              </p:nvSpPr>
              <p:spPr>
                <a:xfrm rot="15123000">
                  <a:off x="1935000" y="818640"/>
                  <a:ext cx="63720" cy="2890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Freeform 1181"/>
                <p:cNvSpPr/>
                <p:nvPr/>
              </p:nvSpPr>
              <p:spPr>
                <a:xfrm rot="15123000">
                  <a:off x="1966320" y="1000440"/>
                  <a:ext cx="46800" cy="453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Freeform 1182"/>
                <p:cNvSpPr/>
                <p:nvPr/>
              </p:nvSpPr>
              <p:spPr>
                <a:xfrm rot="15123000">
                  <a:off x="2054520" y="1026720"/>
                  <a:ext cx="23040" cy="745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Freeform 1183"/>
                <p:cNvSpPr/>
                <p:nvPr/>
              </p:nvSpPr>
              <p:spPr>
                <a:xfrm rot="15123000">
                  <a:off x="1922400" y="1133280"/>
                  <a:ext cx="49320" cy="158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Freeform 1184"/>
                <p:cNvSpPr/>
                <p:nvPr/>
              </p:nvSpPr>
              <p:spPr>
                <a:xfrm rot="15123000">
                  <a:off x="1910520" y="1149120"/>
                  <a:ext cx="30600" cy="277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Freeform 1185"/>
                <p:cNvSpPr/>
                <p:nvPr/>
              </p:nvSpPr>
              <p:spPr>
                <a:xfrm rot="15123000">
                  <a:off x="2031480" y="1025640"/>
                  <a:ext cx="10080" cy="1800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Freeform 1186"/>
                <p:cNvSpPr/>
                <p:nvPr/>
              </p:nvSpPr>
              <p:spPr>
                <a:xfrm rot="15123000">
                  <a:off x="1882800" y="1141920"/>
                  <a:ext cx="8640" cy="1080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Freeform 1187"/>
                <p:cNvSpPr/>
                <p:nvPr/>
              </p:nvSpPr>
              <p:spPr>
                <a:xfrm rot="15123000">
                  <a:off x="1814760" y="1126440"/>
                  <a:ext cx="10080" cy="1368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Freeform 1188"/>
                <p:cNvSpPr/>
                <p:nvPr/>
              </p:nvSpPr>
              <p:spPr>
                <a:xfrm rot="15123000">
                  <a:off x="1974600" y="1184040"/>
                  <a:ext cx="7200" cy="720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0" name="Group 1189"/>
              <p:cNvGrpSpPr/>
              <p:nvPr/>
            </p:nvGrpSpPr>
            <p:grpSpPr>
              <a:xfrm>
                <a:off x="1655640" y="885240"/>
                <a:ext cx="42480" cy="35640"/>
                <a:chOff x="1655640" y="885240"/>
                <a:chExt cx="42480" cy="35640"/>
              </a:xfrm>
            </p:grpSpPr>
            <p:sp>
              <p:nvSpPr>
                <p:cNvPr id="991" name="Freeform 1190"/>
                <p:cNvSpPr/>
                <p:nvPr/>
              </p:nvSpPr>
              <p:spPr>
                <a:xfrm rot="10758000">
                  <a:off x="1655640" y="885240"/>
                  <a:ext cx="39960" cy="35280"/>
                </a:xfrm>
                <a:prstGeom prst="pie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Freeform 1191"/>
                <p:cNvSpPr/>
                <p:nvPr/>
              </p:nvSpPr>
              <p:spPr>
                <a:xfrm rot="7111800">
                  <a:off x="1674000" y="889920"/>
                  <a:ext cx="17640" cy="24480"/>
                </a:xfrm>
                <a:prstGeom prst="pie">
                  <a:avLst/>
                </a:pr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93" name="Group 1192"/>
          <p:cNvGrpSpPr/>
          <p:nvPr/>
        </p:nvGrpSpPr>
        <p:grpSpPr>
          <a:xfrm>
            <a:off x="-144000" y="31320"/>
            <a:ext cx="2052000" cy="1567800"/>
            <a:chOff x="-144000" y="31320"/>
            <a:chExt cx="2052000" cy="1567800"/>
          </a:xfrm>
        </p:grpSpPr>
        <p:sp>
          <p:nvSpPr>
            <p:cNvPr id="994" name="Freeform 1193"/>
            <p:cNvSpPr/>
            <p:nvPr/>
          </p:nvSpPr>
          <p:spPr>
            <a:xfrm flipH="1" rot="4059600">
              <a:off x="673920" y="-157680"/>
              <a:ext cx="216720" cy="1755000"/>
            </a:xfrm>
            <a:prstGeom prst="pi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Freeform 1194"/>
            <p:cNvSpPr/>
            <p:nvPr/>
          </p:nvSpPr>
          <p:spPr>
            <a:xfrm flipH="1" rot="4059600">
              <a:off x="30240" y="1091880"/>
              <a:ext cx="23760" cy="68040"/>
            </a:xfrm>
            <a:prstGeom prst="pi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6" name="Group 1195"/>
            <p:cNvGrpSpPr/>
            <p:nvPr/>
          </p:nvGrpSpPr>
          <p:grpSpPr>
            <a:xfrm>
              <a:off x="-143280" y="945000"/>
              <a:ext cx="666720" cy="654120"/>
              <a:chOff x="-143280" y="945000"/>
              <a:chExt cx="666720" cy="654120"/>
            </a:xfrm>
          </p:grpSpPr>
          <p:grpSp>
            <p:nvGrpSpPr>
              <p:cNvPr id="997" name="Group 1196"/>
              <p:cNvGrpSpPr/>
              <p:nvPr/>
            </p:nvGrpSpPr>
            <p:grpSpPr>
              <a:xfrm>
                <a:off x="-143280" y="989280"/>
                <a:ext cx="666720" cy="609840"/>
                <a:chOff x="-143280" y="989280"/>
                <a:chExt cx="666720" cy="609840"/>
              </a:xfrm>
            </p:grpSpPr>
            <p:sp>
              <p:nvSpPr>
                <p:cNvPr id="998" name="Freeform 1197"/>
                <p:cNvSpPr/>
                <p:nvPr/>
              </p:nvSpPr>
              <p:spPr>
                <a:xfrm flipH="1" rot="3919200">
                  <a:off x="22680" y="1035720"/>
                  <a:ext cx="334800" cy="579960"/>
                </a:xfrm>
                <a:prstGeom prst="pie">
                  <a:avLst/>
                </a:prstGeom>
                <a:solidFill>
                  <a:srgbClr val="33cc33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Freeform 1198"/>
                <p:cNvSpPr/>
                <p:nvPr/>
              </p:nvSpPr>
              <p:spPr>
                <a:xfrm flipH="1" rot="3919200">
                  <a:off x="61200" y="1166760"/>
                  <a:ext cx="284400" cy="274680"/>
                </a:xfrm>
                <a:prstGeom prst="pie">
                  <a:avLst/>
                </a:pr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Freeform 1199"/>
                <p:cNvSpPr/>
                <p:nvPr/>
              </p:nvSpPr>
              <p:spPr>
                <a:xfrm flipH="1" rot="3919200">
                  <a:off x="-360" y="1077120"/>
                  <a:ext cx="413640" cy="3430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Freeform 1200"/>
                <p:cNvSpPr/>
                <p:nvPr/>
              </p:nvSpPr>
              <p:spPr>
                <a:xfrm flipH="1" rot="3919200">
                  <a:off x="146880" y="1330920"/>
                  <a:ext cx="134640" cy="338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Freeform 1201"/>
                <p:cNvSpPr/>
                <p:nvPr/>
              </p:nvSpPr>
              <p:spPr>
                <a:xfrm flipH="1" rot="3919200">
                  <a:off x="202320" y="1203480"/>
                  <a:ext cx="173520" cy="1270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Freeform 1202"/>
                <p:cNvSpPr/>
                <p:nvPr/>
              </p:nvSpPr>
              <p:spPr>
                <a:xfrm flipH="1" rot="3919200">
                  <a:off x="234360" y="1128960"/>
                  <a:ext cx="191520" cy="1674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Freeform 1203"/>
                <p:cNvSpPr/>
                <p:nvPr/>
              </p:nvSpPr>
              <p:spPr>
                <a:xfrm flipH="1" rot="3919200">
                  <a:off x="143640" y="1392120"/>
                  <a:ext cx="79920" cy="205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Freeform 1204"/>
                <p:cNvSpPr/>
                <p:nvPr/>
              </p:nvSpPr>
              <p:spPr>
                <a:xfrm flipH="1" rot="3919200">
                  <a:off x="137880" y="1450080"/>
                  <a:ext cx="41400" cy="79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Freeform 1205"/>
                <p:cNvSpPr/>
                <p:nvPr/>
              </p:nvSpPr>
              <p:spPr>
                <a:xfrm flipH="1" rot="3919200">
                  <a:off x="113760" y="1422360"/>
                  <a:ext cx="30240" cy="586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Freeform 1206"/>
                <p:cNvSpPr/>
                <p:nvPr/>
              </p:nvSpPr>
              <p:spPr>
                <a:xfrm flipH="1" rot="3919200">
                  <a:off x="93600" y="1361160"/>
                  <a:ext cx="52920" cy="1101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Freeform 1207"/>
                <p:cNvSpPr/>
                <p:nvPr/>
              </p:nvSpPr>
              <p:spPr>
                <a:xfrm flipH="1" rot="3919200">
                  <a:off x="64440" y="1268640"/>
                  <a:ext cx="84600" cy="1922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Freeform 1208"/>
                <p:cNvSpPr/>
                <p:nvPr/>
              </p:nvSpPr>
              <p:spPr>
                <a:xfrm flipH="1" rot="3919200">
                  <a:off x="43560" y="1170360"/>
                  <a:ext cx="91080" cy="2808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Freeform 1209"/>
                <p:cNvSpPr/>
                <p:nvPr/>
              </p:nvSpPr>
              <p:spPr>
                <a:xfrm flipH="1" rot="3919200">
                  <a:off x="2520" y="1296360"/>
                  <a:ext cx="10080" cy="1116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Freeform 1210"/>
                <p:cNvSpPr/>
                <p:nvPr/>
              </p:nvSpPr>
              <p:spPr>
                <a:xfrm flipH="1" rot="3919200">
                  <a:off x="41400" y="1079640"/>
                  <a:ext cx="63360" cy="3470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Freeform 1211"/>
                <p:cNvSpPr/>
                <p:nvPr/>
              </p:nvSpPr>
              <p:spPr>
                <a:xfrm flipH="1" rot="3919200">
                  <a:off x="72000" y="1285200"/>
                  <a:ext cx="46800" cy="543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Freeform 1212"/>
                <p:cNvSpPr/>
                <p:nvPr/>
              </p:nvSpPr>
              <p:spPr>
                <a:xfrm flipH="1" rot="3919200">
                  <a:off x="44640" y="1355400"/>
                  <a:ext cx="22680" cy="889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Freeform 1213"/>
                <p:cNvSpPr/>
                <p:nvPr/>
              </p:nvSpPr>
              <p:spPr>
                <a:xfrm flipH="1" rot="3919200">
                  <a:off x="195840" y="1354680"/>
                  <a:ext cx="48960" cy="190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Freeform 1214"/>
                <p:cNvSpPr/>
                <p:nvPr/>
              </p:nvSpPr>
              <p:spPr>
                <a:xfrm flipH="1" rot="3919200">
                  <a:off x="241560" y="1346760"/>
                  <a:ext cx="30240" cy="338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Freeform 1215"/>
                <p:cNvSpPr/>
                <p:nvPr/>
              </p:nvSpPr>
              <p:spPr>
                <a:xfrm flipH="1" rot="3919200">
                  <a:off x="57600" y="1346040"/>
                  <a:ext cx="10080" cy="2088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Freeform 1216"/>
                <p:cNvSpPr/>
                <p:nvPr/>
              </p:nvSpPr>
              <p:spPr>
                <a:xfrm flipH="1" rot="3919200">
                  <a:off x="275400" y="1316520"/>
                  <a:ext cx="8640" cy="1260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Freeform 1217"/>
                <p:cNvSpPr/>
                <p:nvPr/>
              </p:nvSpPr>
              <p:spPr>
                <a:xfrm flipH="1" rot="3919200">
                  <a:off x="325800" y="1253880"/>
                  <a:ext cx="9720" cy="1656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Freeform 1218"/>
                <p:cNvSpPr/>
                <p:nvPr/>
              </p:nvSpPr>
              <p:spPr>
                <a:xfrm flipH="1" rot="3919200">
                  <a:off x="223200" y="1416960"/>
                  <a:ext cx="7200" cy="828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0" name="Group 1219"/>
              <p:cNvGrpSpPr/>
              <p:nvPr/>
            </p:nvGrpSpPr>
            <p:grpSpPr>
              <a:xfrm>
                <a:off x="264960" y="945000"/>
                <a:ext cx="59040" cy="58320"/>
                <a:chOff x="264960" y="945000"/>
                <a:chExt cx="59040" cy="58320"/>
              </a:xfrm>
            </p:grpSpPr>
            <p:sp>
              <p:nvSpPr>
                <p:cNvPr id="1021" name="Freeform 1220"/>
                <p:cNvSpPr/>
                <p:nvPr/>
              </p:nvSpPr>
              <p:spPr>
                <a:xfrm flipH="1" rot="8284200">
                  <a:off x="270360" y="956520"/>
                  <a:ext cx="47880" cy="35280"/>
                </a:xfrm>
                <a:prstGeom prst="pie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Freeform 1221"/>
                <p:cNvSpPr/>
                <p:nvPr/>
              </p:nvSpPr>
              <p:spPr>
                <a:xfrm flipH="1" rot="11931000">
                  <a:off x="277560" y="965520"/>
                  <a:ext cx="17640" cy="29520"/>
                </a:xfrm>
                <a:prstGeom prst="pie">
                  <a:avLst/>
                </a:pr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23" name="Group 1222"/>
            <p:cNvGrpSpPr/>
            <p:nvPr/>
          </p:nvGrpSpPr>
          <p:grpSpPr>
            <a:xfrm>
              <a:off x="239040" y="760680"/>
              <a:ext cx="781920" cy="473040"/>
              <a:chOff x="239040" y="760680"/>
              <a:chExt cx="781920" cy="473040"/>
            </a:xfrm>
          </p:grpSpPr>
          <p:grpSp>
            <p:nvGrpSpPr>
              <p:cNvPr id="1024" name="Group 1223"/>
              <p:cNvGrpSpPr/>
              <p:nvPr/>
            </p:nvGrpSpPr>
            <p:grpSpPr>
              <a:xfrm>
                <a:off x="239040" y="760680"/>
                <a:ext cx="781920" cy="473040"/>
                <a:chOff x="239040" y="760680"/>
                <a:chExt cx="781920" cy="473040"/>
              </a:xfrm>
            </p:grpSpPr>
            <p:sp>
              <p:nvSpPr>
                <p:cNvPr id="1025" name="Freeform 1224"/>
                <p:cNvSpPr/>
                <p:nvPr/>
              </p:nvSpPr>
              <p:spPr>
                <a:xfrm flipH="1" rot="20756400">
                  <a:off x="428040" y="822960"/>
                  <a:ext cx="558720" cy="347760"/>
                </a:xfrm>
                <a:prstGeom prst="pie">
                  <a:avLst/>
                </a:prstGeom>
                <a:solidFill>
                  <a:srgbClr val="33cc33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Freeform 1225"/>
                <p:cNvSpPr/>
                <p:nvPr/>
              </p:nvSpPr>
              <p:spPr>
                <a:xfrm flipH="1" rot="20756400">
                  <a:off x="444240" y="907560"/>
                  <a:ext cx="474120" cy="16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Freeform 1226"/>
                <p:cNvSpPr/>
                <p:nvPr/>
              </p:nvSpPr>
              <p:spPr>
                <a:xfrm flipH="1" rot="20756400">
                  <a:off x="253440" y="892440"/>
                  <a:ext cx="690120" cy="2055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Freeform 1227"/>
                <p:cNvSpPr/>
                <p:nvPr/>
              </p:nvSpPr>
              <p:spPr>
                <a:xfrm flipH="1" rot="20756400">
                  <a:off x="642600" y="966960"/>
                  <a:ext cx="224640" cy="198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Freeform 1228"/>
                <p:cNvSpPr/>
                <p:nvPr/>
              </p:nvSpPr>
              <p:spPr>
                <a:xfrm flipH="1" rot="20756400">
                  <a:off x="526320" y="897480"/>
                  <a:ext cx="289800" cy="756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Freeform 1229"/>
                <p:cNvSpPr/>
                <p:nvPr/>
              </p:nvSpPr>
              <p:spPr>
                <a:xfrm flipH="1" rot="20756400">
                  <a:off x="451440" y="862560"/>
                  <a:ext cx="319680" cy="997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Freeform 1230"/>
                <p:cNvSpPr/>
                <p:nvPr/>
              </p:nvSpPr>
              <p:spPr>
                <a:xfrm flipH="1" rot="20756400">
                  <a:off x="753840" y="985680"/>
                  <a:ext cx="133200" cy="126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Freeform 1231"/>
                <p:cNvSpPr/>
                <p:nvPr/>
              </p:nvSpPr>
              <p:spPr>
                <a:xfrm flipH="1" rot="20756400">
                  <a:off x="852480" y="1000440"/>
                  <a:ext cx="69480" cy="43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Freeform 1232"/>
                <p:cNvSpPr/>
                <p:nvPr/>
              </p:nvSpPr>
              <p:spPr>
                <a:xfrm flipH="1" rot="20756400">
                  <a:off x="841680" y="1005480"/>
                  <a:ext cx="50760" cy="352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Freeform 1233"/>
                <p:cNvSpPr/>
                <p:nvPr/>
              </p:nvSpPr>
              <p:spPr>
                <a:xfrm flipH="1" rot="20756400">
                  <a:off x="764280" y="1001160"/>
                  <a:ext cx="88560" cy="658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Freeform 1234"/>
                <p:cNvSpPr/>
                <p:nvPr/>
              </p:nvSpPr>
              <p:spPr>
                <a:xfrm flipH="1" rot="20756400">
                  <a:off x="651240" y="992520"/>
                  <a:ext cx="141480" cy="1155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Freeform 1235"/>
                <p:cNvSpPr/>
                <p:nvPr/>
              </p:nvSpPr>
              <p:spPr>
                <a:xfrm flipH="1" rot="20756400">
                  <a:off x="554400" y="984600"/>
                  <a:ext cx="151920" cy="1681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Freeform 1236"/>
                <p:cNvSpPr/>
                <p:nvPr/>
              </p:nvSpPr>
              <p:spPr>
                <a:xfrm flipH="1" rot="20756400">
                  <a:off x="639360" y="1087920"/>
                  <a:ext cx="17640" cy="673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Freeform 1237"/>
                <p:cNvSpPr/>
                <p:nvPr/>
              </p:nvSpPr>
              <p:spPr>
                <a:xfrm flipH="1" rot="20756400">
                  <a:off x="480960" y="983520"/>
                  <a:ext cx="105840" cy="2077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Freeform 1238"/>
                <p:cNvSpPr/>
                <p:nvPr/>
              </p:nvSpPr>
              <p:spPr>
                <a:xfrm flipH="1" rot="20756400">
                  <a:off x="597240" y="1047960"/>
                  <a:ext cx="78120" cy="327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Freeform 1239"/>
                <p:cNvSpPr/>
                <p:nvPr/>
              </p:nvSpPr>
              <p:spPr>
                <a:xfrm flipH="1" rot="20756400">
                  <a:off x="729000" y="1053720"/>
                  <a:ext cx="38160" cy="529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Freeform 1240"/>
                <p:cNvSpPr/>
                <p:nvPr/>
              </p:nvSpPr>
              <p:spPr>
                <a:xfrm flipH="1" rot="20756400">
                  <a:off x="741960" y="965160"/>
                  <a:ext cx="82440" cy="111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Freeform 1241"/>
                <p:cNvSpPr/>
                <p:nvPr/>
              </p:nvSpPr>
              <p:spPr>
                <a:xfrm flipH="1" rot="20756400">
                  <a:off x="776160" y="936000"/>
                  <a:ext cx="50760" cy="201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Freeform 1242"/>
                <p:cNvSpPr/>
                <p:nvPr/>
              </p:nvSpPr>
              <p:spPr>
                <a:xfrm flipH="1" rot="20756400">
                  <a:off x="676440" y="1075680"/>
                  <a:ext cx="17640" cy="1260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Freeform 1243"/>
                <p:cNvSpPr/>
                <p:nvPr/>
              </p:nvSpPr>
              <p:spPr>
                <a:xfrm flipH="1" rot="20756400">
                  <a:off x="744120" y="930600"/>
                  <a:ext cx="14760" cy="756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Freeform 1244"/>
                <p:cNvSpPr/>
                <p:nvPr/>
              </p:nvSpPr>
              <p:spPr>
                <a:xfrm flipH="1" rot="20756400">
                  <a:off x="678960" y="901080"/>
                  <a:ext cx="16560" cy="972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Freeform 1245"/>
                <p:cNvSpPr/>
                <p:nvPr/>
              </p:nvSpPr>
              <p:spPr>
                <a:xfrm flipH="1" rot="20756400">
                  <a:off x="866520" y="956520"/>
                  <a:ext cx="12240" cy="504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7" name="Group 1246"/>
              <p:cNvGrpSpPr/>
              <p:nvPr/>
            </p:nvGrpSpPr>
            <p:grpSpPr>
              <a:xfrm>
                <a:off x="296280" y="962280"/>
                <a:ext cx="64800" cy="55080"/>
                <a:chOff x="296280" y="962280"/>
                <a:chExt cx="64800" cy="55080"/>
              </a:xfrm>
            </p:grpSpPr>
            <p:sp>
              <p:nvSpPr>
                <p:cNvPr id="1048" name="Freeform 1247"/>
                <p:cNvSpPr/>
                <p:nvPr/>
              </p:nvSpPr>
              <p:spPr>
                <a:xfrm flipH="1" rot="3520800">
                  <a:off x="313920" y="960480"/>
                  <a:ext cx="28800" cy="58320"/>
                </a:xfrm>
                <a:prstGeom prst="pie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Freeform 1248"/>
                <p:cNvSpPr/>
                <p:nvPr/>
              </p:nvSpPr>
              <p:spPr>
                <a:xfrm flipH="1" rot="7167600">
                  <a:off x="315360" y="985680"/>
                  <a:ext cx="29160" cy="17280"/>
                </a:xfrm>
                <a:prstGeom prst="pie">
                  <a:avLst/>
                </a:pr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50" name="Group 1249"/>
            <p:cNvGrpSpPr/>
            <p:nvPr/>
          </p:nvGrpSpPr>
          <p:grpSpPr>
            <a:xfrm>
              <a:off x="-144000" y="266760"/>
              <a:ext cx="1144440" cy="709560"/>
              <a:chOff x="-144000" y="266760"/>
              <a:chExt cx="1144440" cy="709560"/>
            </a:xfrm>
          </p:grpSpPr>
          <p:grpSp>
            <p:nvGrpSpPr>
              <p:cNvPr id="1051" name="Group 1250"/>
              <p:cNvGrpSpPr/>
              <p:nvPr/>
            </p:nvGrpSpPr>
            <p:grpSpPr>
              <a:xfrm>
                <a:off x="-144000" y="468720"/>
                <a:ext cx="621360" cy="507600"/>
                <a:chOff x="-144000" y="468720"/>
                <a:chExt cx="621360" cy="507600"/>
              </a:xfrm>
            </p:grpSpPr>
            <p:grpSp>
              <p:nvGrpSpPr>
                <p:cNvPr id="1052" name="Group 1251"/>
                <p:cNvGrpSpPr/>
                <p:nvPr/>
              </p:nvGrpSpPr>
              <p:grpSpPr>
                <a:xfrm>
                  <a:off x="-144000" y="468720"/>
                  <a:ext cx="605880" cy="507600"/>
                  <a:chOff x="-144000" y="468720"/>
                  <a:chExt cx="605880" cy="507600"/>
                </a:xfrm>
              </p:grpSpPr>
              <p:sp>
                <p:nvSpPr>
                  <p:cNvPr id="1053" name="Freeform 1252"/>
                  <p:cNvSpPr/>
                  <p:nvPr/>
                </p:nvSpPr>
                <p:spPr>
                  <a:xfrm rot="4199400">
                    <a:off x="5040" y="437760"/>
                    <a:ext cx="307440" cy="532800"/>
                  </a:xfrm>
                  <a:prstGeom prst="pie">
                    <a:avLst/>
                  </a:prstGeom>
                  <a:solidFill>
                    <a:srgbClr val="33cc33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4" name="Freeform 1253"/>
                  <p:cNvSpPr/>
                  <p:nvPr/>
                </p:nvSpPr>
                <p:spPr>
                  <a:xfrm rot="4199400">
                    <a:off x="51480" y="582480"/>
                    <a:ext cx="261000" cy="252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9900"/>
                      </a:gs>
                      <a:gs pos="100000">
                        <a:srgbClr val="43b44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5" name="Freeform 1254"/>
                  <p:cNvSpPr/>
                  <p:nvPr/>
                </p:nvSpPr>
                <p:spPr>
                  <a:xfrm rot="4199400">
                    <a:off x="29160" y="586080"/>
                    <a:ext cx="380160" cy="31500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6" name="Freeform 1255"/>
                  <p:cNvSpPr/>
                  <p:nvPr/>
                </p:nvSpPr>
                <p:spPr>
                  <a:xfrm rot="4199400">
                    <a:off x="99000" y="658440"/>
                    <a:ext cx="123480" cy="3060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7" name="Freeform 1256"/>
                  <p:cNvSpPr/>
                  <p:nvPr/>
                </p:nvSpPr>
                <p:spPr>
                  <a:xfrm rot="4199400">
                    <a:off x="181800" y="619920"/>
                    <a:ext cx="159480" cy="11664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8" name="Freeform 1257"/>
                  <p:cNvSpPr/>
                  <p:nvPr/>
                </p:nvSpPr>
                <p:spPr>
                  <a:xfrm rot="4199400">
                    <a:off x="236160" y="609480"/>
                    <a:ext cx="176040" cy="15372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9" name="Freeform 1258"/>
                  <p:cNvSpPr/>
                  <p:nvPr/>
                </p:nvSpPr>
                <p:spPr>
                  <a:xfrm rot="4199400">
                    <a:off x="68760" y="648360"/>
                    <a:ext cx="73440" cy="1908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0" name="Freeform 1259"/>
                  <p:cNvSpPr/>
                  <p:nvPr/>
                </p:nvSpPr>
                <p:spPr>
                  <a:xfrm rot="4199400">
                    <a:off x="36720" y="636840"/>
                    <a:ext cx="38160" cy="720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1" name="Freeform 1260"/>
                  <p:cNvSpPr/>
                  <p:nvPr/>
                </p:nvSpPr>
                <p:spPr>
                  <a:xfrm rot="4199400">
                    <a:off x="24480" y="633600"/>
                    <a:ext cx="27720" cy="5400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2" name="Freeform 1261"/>
                  <p:cNvSpPr/>
                  <p:nvPr/>
                </p:nvSpPr>
                <p:spPr>
                  <a:xfrm rot="4199400">
                    <a:off x="30600" y="638640"/>
                    <a:ext cx="48600" cy="10116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3" name="Freeform 1262"/>
                  <p:cNvSpPr/>
                  <p:nvPr/>
                </p:nvSpPr>
                <p:spPr>
                  <a:xfrm rot="4199400">
                    <a:off x="40680" y="644040"/>
                    <a:ext cx="77760" cy="17640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4" name="Freeform 1263"/>
                  <p:cNvSpPr/>
                  <p:nvPr/>
                </p:nvSpPr>
                <p:spPr>
                  <a:xfrm rot="4199400">
                    <a:off x="61200" y="649440"/>
                    <a:ext cx="83520" cy="25848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5" name="Freeform 1264"/>
                  <p:cNvSpPr/>
                  <p:nvPr/>
                </p:nvSpPr>
                <p:spPr>
                  <a:xfrm rot="4199400">
                    <a:off x="18360" y="754560"/>
                    <a:ext cx="9360" cy="10296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6" name="Freeform 1265"/>
                  <p:cNvSpPr/>
                  <p:nvPr/>
                </p:nvSpPr>
                <p:spPr>
                  <a:xfrm rot="4199400">
                    <a:off x="99720" y="666720"/>
                    <a:ext cx="58320" cy="31860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7" name="Freeform 1266"/>
                  <p:cNvSpPr/>
                  <p:nvPr/>
                </p:nvSpPr>
                <p:spPr>
                  <a:xfrm rot="4199400">
                    <a:off x="84240" y="748080"/>
                    <a:ext cx="42840" cy="5004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8" name="Freeform 1267"/>
                  <p:cNvSpPr/>
                  <p:nvPr/>
                </p:nvSpPr>
                <p:spPr>
                  <a:xfrm rot="4199400">
                    <a:off x="12960" y="700560"/>
                    <a:ext cx="21240" cy="8172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280" bIns="352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9" name="Freeform 1268"/>
                  <p:cNvSpPr/>
                  <p:nvPr/>
                </p:nvSpPr>
                <p:spPr>
                  <a:xfrm rot="4199400">
                    <a:off x="132120" y="650520"/>
                    <a:ext cx="45360" cy="1728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0" name="Freeform 1269"/>
                  <p:cNvSpPr/>
                  <p:nvPr/>
                </p:nvSpPr>
                <p:spPr>
                  <a:xfrm rot="4199400">
                    <a:off x="163800" y="621000"/>
                    <a:ext cx="27720" cy="3060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1" name="Freeform 1270"/>
                  <p:cNvSpPr/>
                  <p:nvPr/>
                </p:nvSpPr>
                <p:spPr>
                  <a:xfrm rot="4199400">
                    <a:off x="50760" y="756360"/>
                    <a:ext cx="9360" cy="19800"/>
                  </a:xfrm>
                  <a:prstGeom prst="pie">
                    <a:avLst/>
                  </a:pr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2" name="Freeform 1271"/>
                  <p:cNvSpPr/>
                  <p:nvPr/>
                </p:nvSpPr>
                <p:spPr>
                  <a:xfrm rot="4199400">
                    <a:off x="215280" y="641520"/>
                    <a:ext cx="7920" cy="11880"/>
                  </a:xfrm>
                  <a:prstGeom prst="pie">
                    <a:avLst/>
                  </a:pr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3" name="Freeform 1272"/>
                  <p:cNvSpPr/>
                  <p:nvPr/>
                </p:nvSpPr>
                <p:spPr>
                  <a:xfrm rot="4199400">
                    <a:off x="287640" y="646560"/>
                    <a:ext cx="9000" cy="14760"/>
                  </a:xfrm>
                  <a:prstGeom prst="pie">
                    <a:avLst/>
                  </a:pr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4" name="Freeform 1273"/>
                  <p:cNvSpPr/>
                  <p:nvPr/>
                </p:nvSpPr>
                <p:spPr>
                  <a:xfrm rot="4199400">
                    <a:off x="118440" y="613800"/>
                    <a:ext cx="6840" cy="7920"/>
                  </a:xfrm>
                  <a:prstGeom prst="pie">
                    <a:avLst/>
                  </a:pr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5" name="Group 1274"/>
                <p:cNvGrpSpPr/>
                <p:nvPr/>
              </p:nvGrpSpPr>
              <p:grpSpPr>
                <a:xfrm>
                  <a:off x="430560" y="848880"/>
                  <a:ext cx="46800" cy="34560"/>
                  <a:chOff x="430560" y="848880"/>
                  <a:chExt cx="46800" cy="34560"/>
                </a:xfrm>
              </p:grpSpPr>
              <p:sp>
                <p:nvSpPr>
                  <p:cNvPr id="1076" name="Freeform 1275"/>
                  <p:cNvSpPr/>
                  <p:nvPr/>
                </p:nvSpPr>
                <p:spPr>
                  <a:xfrm rot="21435000">
                    <a:off x="432720" y="849600"/>
                    <a:ext cx="43920" cy="32400"/>
                  </a:xfrm>
                  <a:prstGeom prst="pie">
                    <a:avLst/>
                  </a:prstGeom>
                  <a:solidFill>
                    <a:srgbClr val="00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7" name="Freeform 1276"/>
                  <p:cNvSpPr/>
                  <p:nvPr/>
                </p:nvSpPr>
                <p:spPr>
                  <a:xfrm rot="17788200">
                    <a:off x="437760" y="853200"/>
                    <a:ext cx="16200" cy="26640"/>
                  </a:xfrm>
                  <a:prstGeom prst="pie">
                    <a:avLst/>
                  </a:prstGeom>
                  <a:solidFill>
                    <a:srgbClr val="ccff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78" name="Group 1277"/>
              <p:cNvGrpSpPr/>
              <p:nvPr/>
            </p:nvGrpSpPr>
            <p:grpSpPr>
              <a:xfrm>
                <a:off x="344880" y="266760"/>
                <a:ext cx="655560" cy="638280"/>
                <a:chOff x="344880" y="266760"/>
                <a:chExt cx="655560" cy="638280"/>
              </a:xfrm>
            </p:grpSpPr>
            <p:grpSp>
              <p:nvGrpSpPr>
                <p:cNvPr id="1079" name="Group 1278"/>
                <p:cNvGrpSpPr/>
                <p:nvPr/>
              </p:nvGrpSpPr>
              <p:grpSpPr>
                <a:xfrm>
                  <a:off x="344880" y="266760"/>
                  <a:ext cx="655560" cy="638280"/>
                  <a:chOff x="344880" y="266760"/>
                  <a:chExt cx="655560" cy="638280"/>
                </a:xfrm>
              </p:grpSpPr>
              <p:sp>
                <p:nvSpPr>
                  <p:cNvPr id="1080" name="Freeform 1279"/>
                  <p:cNvSpPr/>
                  <p:nvPr/>
                </p:nvSpPr>
                <p:spPr>
                  <a:xfrm rot="8424000">
                    <a:off x="450360" y="390600"/>
                    <a:ext cx="505080" cy="322200"/>
                  </a:xfrm>
                  <a:prstGeom prst="pie">
                    <a:avLst/>
                  </a:prstGeom>
                  <a:solidFill>
                    <a:srgbClr val="33cc33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1" name="Freeform 1280"/>
                  <p:cNvSpPr/>
                  <p:nvPr/>
                </p:nvSpPr>
                <p:spPr>
                  <a:xfrm rot="8424000">
                    <a:off x="480600" y="497160"/>
                    <a:ext cx="428760" cy="153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9900"/>
                      </a:gs>
                      <a:gs pos="100000">
                        <a:srgbClr val="43b44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2" name="Freeform 1281"/>
                  <p:cNvSpPr/>
                  <p:nvPr/>
                </p:nvSpPr>
                <p:spPr>
                  <a:xfrm rot="8424000">
                    <a:off x="334080" y="537120"/>
                    <a:ext cx="623880" cy="19080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3" name="Freeform 1282"/>
                  <p:cNvSpPr/>
                  <p:nvPr/>
                </p:nvSpPr>
                <p:spPr>
                  <a:xfrm rot="8424000">
                    <a:off x="641160" y="518760"/>
                    <a:ext cx="203400" cy="1800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Freeform 1283"/>
                  <p:cNvSpPr/>
                  <p:nvPr/>
                </p:nvSpPr>
                <p:spPr>
                  <a:xfrm rot="8424000">
                    <a:off x="599040" y="577080"/>
                    <a:ext cx="262080" cy="7056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120" bIns="241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5" name="Freeform 1284"/>
                  <p:cNvSpPr/>
                  <p:nvPr/>
                </p:nvSpPr>
                <p:spPr>
                  <a:xfrm rot="8424000">
                    <a:off x="570240" y="622800"/>
                    <a:ext cx="288720" cy="9252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080" bIns="46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6" name="Freeform 1285"/>
                  <p:cNvSpPr/>
                  <p:nvPr/>
                </p:nvSpPr>
                <p:spPr>
                  <a:xfrm rot="8424000">
                    <a:off x="707040" y="465840"/>
                    <a:ext cx="120600" cy="1080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7" name="Freeform 1286"/>
                  <p:cNvSpPr/>
                  <p:nvPr/>
                </p:nvSpPr>
                <p:spPr>
                  <a:xfrm rot="8424000">
                    <a:off x="762840" y="414360"/>
                    <a:ext cx="62640" cy="468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8" name="Freeform 1287"/>
                  <p:cNvSpPr/>
                  <p:nvPr/>
                </p:nvSpPr>
                <p:spPr>
                  <a:xfrm rot="8424000">
                    <a:off x="745560" y="403560"/>
                    <a:ext cx="45720" cy="3276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9" name="Freeform 1288"/>
                  <p:cNvSpPr/>
                  <p:nvPr/>
                </p:nvSpPr>
                <p:spPr>
                  <a:xfrm rot="8424000">
                    <a:off x="689400" y="426600"/>
                    <a:ext cx="80280" cy="6120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0" name="Freeform 1289"/>
                  <p:cNvSpPr/>
                  <p:nvPr/>
                </p:nvSpPr>
                <p:spPr>
                  <a:xfrm rot="8424000">
                    <a:off x="608040" y="458280"/>
                    <a:ext cx="127800" cy="10656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1" name="Freeform 1290"/>
                  <p:cNvSpPr/>
                  <p:nvPr/>
                </p:nvSpPr>
                <p:spPr>
                  <a:xfrm rot="8424000">
                    <a:off x="539640" y="490680"/>
                    <a:ext cx="137160" cy="15624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2" name="Freeform 1291"/>
                  <p:cNvSpPr/>
                  <p:nvPr/>
                </p:nvSpPr>
                <p:spPr>
                  <a:xfrm rot="8424000">
                    <a:off x="570960" y="496440"/>
                    <a:ext cx="15480" cy="6228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3" name="Freeform 1292"/>
                  <p:cNvSpPr/>
                  <p:nvPr/>
                </p:nvSpPr>
                <p:spPr>
                  <a:xfrm rot="8424000">
                    <a:off x="495360" y="532440"/>
                    <a:ext cx="95760" cy="19260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4" name="Freeform 1293"/>
                  <p:cNvSpPr/>
                  <p:nvPr/>
                </p:nvSpPr>
                <p:spPr>
                  <a:xfrm rot="8424000">
                    <a:off x="579600" y="551160"/>
                    <a:ext cx="70560" cy="3060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5" name="Freeform 1294"/>
                  <p:cNvSpPr/>
                  <p:nvPr/>
                </p:nvSpPr>
                <p:spPr>
                  <a:xfrm rot="8424000">
                    <a:off x="645480" y="451440"/>
                    <a:ext cx="34560" cy="4896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6" name="Freeform 1295"/>
                  <p:cNvSpPr/>
                  <p:nvPr/>
                </p:nvSpPr>
                <p:spPr>
                  <a:xfrm rot="8424000">
                    <a:off x="725400" y="505800"/>
                    <a:ext cx="74520" cy="1008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7" name="Freeform 1296"/>
                  <p:cNvSpPr/>
                  <p:nvPr/>
                </p:nvSpPr>
                <p:spPr>
                  <a:xfrm rot="8424000">
                    <a:off x="768600" y="501840"/>
                    <a:ext cx="45720" cy="1836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8" name="Freeform 1297"/>
                  <p:cNvSpPr/>
                  <p:nvPr/>
                </p:nvSpPr>
                <p:spPr>
                  <a:xfrm rot="8424000">
                    <a:off x="619920" y="514440"/>
                    <a:ext cx="15480" cy="12600"/>
                  </a:xfrm>
                  <a:prstGeom prst="pie">
                    <a:avLst/>
                  </a:pr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9" name="Freeform 1298"/>
                  <p:cNvSpPr/>
                  <p:nvPr/>
                </p:nvSpPr>
                <p:spPr>
                  <a:xfrm rot="8424000">
                    <a:off x="766440" y="550080"/>
                    <a:ext cx="13680" cy="7200"/>
                  </a:xfrm>
                  <a:prstGeom prst="pie">
                    <a:avLst/>
                  </a:pr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0" name="Freeform 1299"/>
                  <p:cNvSpPr/>
                  <p:nvPr/>
                </p:nvSpPr>
                <p:spPr>
                  <a:xfrm rot="8424000">
                    <a:off x="752040" y="613080"/>
                    <a:ext cx="15120" cy="8280"/>
                  </a:xfrm>
                  <a:prstGeom prst="pie">
                    <a:avLst/>
                  </a:pr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1" name="Freeform 1300"/>
                  <p:cNvSpPr/>
                  <p:nvPr/>
                </p:nvSpPr>
                <p:spPr>
                  <a:xfrm rot="8424000">
                    <a:off x="813600" y="449280"/>
                    <a:ext cx="11160" cy="4320"/>
                  </a:xfrm>
                  <a:prstGeom prst="pie">
                    <a:avLst/>
                  </a:pr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02" name="Group 1301"/>
                <p:cNvGrpSpPr/>
                <p:nvPr/>
              </p:nvGrpSpPr>
              <p:grpSpPr>
                <a:xfrm>
                  <a:off x="477720" y="813600"/>
                  <a:ext cx="59040" cy="44640"/>
                  <a:chOff x="477720" y="813600"/>
                  <a:chExt cx="59040" cy="44640"/>
                </a:xfrm>
              </p:grpSpPr>
              <p:sp>
                <p:nvSpPr>
                  <p:cNvPr id="1103" name="Freeform 1302"/>
                  <p:cNvSpPr/>
                  <p:nvPr/>
                </p:nvSpPr>
                <p:spPr>
                  <a:xfrm rot="4059600">
                    <a:off x="493920" y="809280"/>
                    <a:ext cx="26640" cy="52920"/>
                  </a:xfrm>
                  <a:prstGeom prst="pie">
                    <a:avLst/>
                  </a:prstGeom>
                  <a:solidFill>
                    <a:srgbClr val="00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4" name="Freeform 1303"/>
                  <p:cNvSpPr/>
                  <p:nvPr/>
                </p:nvSpPr>
                <p:spPr>
                  <a:xfrm rot="412800">
                    <a:off x="490680" y="823320"/>
                    <a:ext cx="26280" cy="16200"/>
                  </a:xfrm>
                  <a:prstGeom prst="pie">
                    <a:avLst/>
                  </a:prstGeom>
                  <a:solidFill>
                    <a:srgbClr val="ccff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105" name="Group 1304"/>
            <p:cNvGrpSpPr/>
            <p:nvPr/>
          </p:nvGrpSpPr>
          <p:grpSpPr>
            <a:xfrm>
              <a:off x="984960" y="432720"/>
              <a:ext cx="656280" cy="343800"/>
              <a:chOff x="984960" y="432720"/>
              <a:chExt cx="656280" cy="343800"/>
            </a:xfrm>
          </p:grpSpPr>
          <p:grpSp>
            <p:nvGrpSpPr>
              <p:cNvPr id="1106" name="Group 1305"/>
              <p:cNvGrpSpPr/>
              <p:nvPr/>
            </p:nvGrpSpPr>
            <p:grpSpPr>
              <a:xfrm>
                <a:off x="984960" y="432720"/>
                <a:ext cx="656280" cy="343800"/>
                <a:chOff x="984960" y="432720"/>
                <a:chExt cx="656280" cy="343800"/>
              </a:xfrm>
            </p:grpSpPr>
            <p:sp>
              <p:nvSpPr>
                <p:cNvPr id="1107" name="Freeform 1306"/>
                <p:cNvSpPr/>
                <p:nvPr/>
              </p:nvSpPr>
              <p:spPr>
                <a:xfrm flipH="1" rot="21294600">
                  <a:off x="1142280" y="453600"/>
                  <a:ext cx="486000" cy="301680"/>
                </a:xfrm>
                <a:prstGeom prst="pie">
                  <a:avLst/>
                </a:prstGeom>
                <a:solidFill>
                  <a:srgbClr val="33cc33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Freeform 1307"/>
                <p:cNvSpPr/>
                <p:nvPr/>
              </p:nvSpPr>
              <p:spPr>
                <a:xfrm flipH="1" rot="21294600">
                  <a:off x="1158480" y="523440"/>
                  <a:ext cx="412200" cy="143280"/>
                </a:xfrm>
                <a:prstGeom prst="pie">
                  <a:avLst/>
                </a:pr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Freeform 1308"/>
                <p:cNvSpPr/>
                <p:nvPr/>
              </p:nvSpPr>
              <p:spPr>
                <a:xfrm flipH="1" rot="21294600">
                  <a:off x="991080" y="499320"/>
                  <a:ext cx="600480" cy="1785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0" name="Freeform 1309"/>
                <p:cNvSpPr/>
                <p:nvPr/>
              </p:nvSpPr>
              <p:spPr>
                <a:xfrm flipH="1" rot="21294600">
                  <a:off x="1330920" y="584640"/>
                  <a:ext cx="195480" cy="172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Freeform 1310"/>
                <p:cNvSpPr/>
                <p:nvPr/>
              </p:nvSpPr>
              <p:spPr>
                <a:xfrm flipH="1" rot="21294600">
                  <a:off x="1236600" y="513720"/>
                  <a:ext cx="252000" cy="658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Freeform 1311"/>
                <p:cNvSpPr/>
                <p:nvPr/>
              </p:nvSpPr>
              <p:spPr>
                <a:xfrm flipH="1" rot="21294600">
                  <a:off x="1175040" y="475560"/>
                  <a:ext cx="277920" cy="871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3" name="Freeform 1312"/>
                <p:cNvSpPr/>
                <p:nvPr/>
              </p:nvSpPr>
              <p:spPr>
                <a:xfrm flipH="1" rot="21294600">
                  <a:off x="1425240" y="609840"/>
                  <a:ext cx="115920" cy="104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4" name="Freeform 1313"/>
                <p:cNvSpPr/>
                <p:nvPr/>
              </p:nvSpPr>
              <p:spPr>
                <a:xfrm flipH="1" rot="21294600">
                  <a:off x="1508760" y="631800"/>
                  <a:ext cx="60480" cy="39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Freeform 1314"/>
                <p:cNvSpPr/>
                <p:nvPr/>
              </p:nvSpPr>
              <p:spPr>
                <a:xfrm flipH="1" rot="21294600">
                  <a:off x="1496160" y="633600"/>
                  <a:ext cx="43920" cy="302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6" name="Freeform 1315"/>
                <p:cNvSpPr/>
                <p:nvPr/>
              </p:nvSpPr>
              <p:spPr>
                <a:xfrm flipH="1" rot="21294600">
                  <a:off x="1428480" y="621360"/>
                  <a:ext cx="77040" cy="572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Freeform 1316"/>
                <p:cNvSpPr/>
                <p:nvPr/>
              </p:nvSpPr>
              <p:spPr>
                <a:xfrm flipH="1" rot="21294600">
                  <a:off x="1328760" y="601560"/>
                  <a:ext cx="123120" cy="1000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Freeform 1317"/>
                <p:cNvSpPr/>
                <p:nvPr/>
              </p:nvSpPr>
              <p:spPr>
                <a:xfrm flipH="1" rot="21294600">
                  <a:off x="1242360" y="582840"/>
                  <a:ext cx="132120" cy="1465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9" name="Freeform 1318"/>
                <p:cNvSpPr/>
                <p:nvPr/>
              </p:nvSpPr>
              <p:spPr>
                <a:xfrm flipH="1" rot="21294600">
                  <a:off x="1309320" y="673920"/>
                  <a:ext cx="14760" cy="583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0" name="Freeform 1319"/>
                <p:cNvSpPr/>
                <p:nvPr/>
              </p:nvSpPr>
              <p:spPr>
                <a:xfrm flipH="1" rot="21294600">
                  <a:off x="1177560" y="568440"/>
                  <a:ext cx="92160" cy="1803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Freeform 1320"/>
                <p:cNvSpPr/>
                <p:nvPr/>
              </p:nvSpPr>
              <p:spPr>
                <a:xfrm flipH="1" rot="21294600">
                  <a:off x="1280880" y="638640"/>
                  <a:ext cx="68040" cy="280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2" name="Freeform 1321"/>
                <p:cNvSpPr/>
                <p:nvPr/>
              </p:nvSpPr>
              <p:spPr>
                <a:xfrm flipH="1" rot="21294600">
                  <a:off x="1392120" y="658440"/>
                  <a:ext cx="33120" cy="468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3" name="Freeform 1322"/>
                <p:cNvSpPr/>
                <p:nvPr/>
              </p:nvSpPr>
              <p:spPr>
                <a:xfrm flipH="1" rot="21294600">
                  <a:off x="1418400" y="586800"/>
                  <a:ext cx="71640" cy="97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Freeform 1323"/>
                <p:cNvSpPr/>
                <p:nvPr/>
              </p:nvSpPr>
              <p:spPr>
                <a:xfrm flipH="1" rot="21294600">
                  <a:off x="1451160" y="564840"/>
                  <a:ext cx="43920" cy="172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5" name="Freeform 1324"/>
                <p:cNvSpPr/>
                <p:nvPr/>
              </p:nvSpPr>
              <p:spPr>
                <a:xfrm flipH="1" rot="21294600">
                  <a:off x="1347840" y="668880"/>
                  <a:ext cx="14760" cy="1116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Freeform 1325"/>
                <p:cNvSpPr/>
                <p:nvPr/>
              </p:nvSpPr>
              <p:spPr>
                <a:xfrm flipH="1" rot="21294600">
                  <a:off x="1425960" y="553320"/>
                  <a:ext cx="12600" cy="648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Freeform 1326"/>
                <p:cNvSpPr/>
                <p:nvPr/>
              </p:nvSpPr>
              <p:spPr>
                <a:xfrm flipH="1" rot="21294600">
                  <a:off x="1373040" y="519480"/>
                  <a:ext cx="14400" cy="828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8" name="Freeform 1327"/>
                <p:cNvSpPr/>
                <p:nvPr/>
              </p:nvSpPr>
              <p:spPr>
                <a:xfrm flipH="1" rot="21294600">
                  <a:off x="1527120" y="592200"/>
                  <a:ext cx="10800" cy="432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9" name="Group 1328"/>
              <p:cNvGrpSpPr/>
              <p:nvPr/>
            </p:nvGrpSpPr>
            <p:grpSpPr>
              <a:xfrm>
                <a:off x="1032480" y="524880"/>
                <a:ext cx="56520" cy="42840"/>
                <a:chOff x="1032480" y="524880"/>
                <a:chExt cx="56520" cy="42840"/>
              </a:xfrm>
            </p:grpSpPr>
            <p:sp>
              <p:nvSpPr>
                <p:cNvPr id="1130" name="Freeform 1329"/>
                <p:cNvSpPr/>
                <p:nvPr/>
              </p:nvSpPr>
              <p:spPr>
                <a:xfrm flipH="1" rot="4059600">
                  <a:off x="1047600" y="520920"/>
                  <a:ext cx="25200" cy="50760"/>
                </a:xfrm>
                <a:prstGeom prst="pie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1" name="Freeform 1330"/>
                <p:cNvSpPr/>
                <p:nvPr/>
              </p:nvSpPr>
              <p:spPr>
                <a:xfrm flipH="1" rot="7706400">
                  <a:off x="1047960" y="543600"/>
                  <a:ext cx="25200" cy="15120"/>
                </a:xfrm>
                <a:prstGeom prst="pie">
                  <a:avLst/>
                </a:pr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32" name="Group 1331"/>
            <p:cNvGrpSpPr/>
            <p:nvPr/>
          </p:nvGrpSpPr>
          <p:grpSpPr>
            <a:xfrm>
              <a:off x="921240" y="31320"/>
              <a:ext cx="471600" cy="564480"/>
              <a:chOff x="921240" y="31320"/>
              <a:chExt cx="471600" cy="564480"/>
            </a:xfrm>
          </p:grpSpPr>
          <p:grpSp>
            <p:nvGrpSpPr>
              <p:cNvPr id="1133" name="Group 1332"/>
              <p:cNvGrpSpPr/>
              <p:nvPr/>
            </p:nvGrpSpPr>
            <p:grpSpPr>
              <a:xfrm>
                <a:off x="921240" y="31320"/>
                <a:ext cx="471600" cy="564480"/>
                <a:chOff x="921240" y="31320"/>
                <a:chExt cx="471600" cy="564480"/>
              </a:xfrm>
            </p:grpSpPr>
            <p:sp>
              <p:nvSpPr>
                <p:cNvPr id="1134" name="Freeform 1333"/>
                <p:cNvSpPr/>
                <p:nvPr/>
              </p:nvSpPr>
              <p:spPr>
                <a:xfrm rot="7630800">
                  <a:off x="960120" y="145440"/>
                  <a:ext cx="413280" cy="253440"/>
                </a:xfrm>
                <a:prstGeom prst="pie">
                  <a:avLst/>
                </a:prstGeom>
                <a:solidFill>
                  <a:srgbClr val="33cc33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Freeform 1334"/>
                <p:cNvSpPr/>
                <p:nvPr/>
              </p:nvSpPr>
              <p:spPr>
                <a:xfrm rot="7630800">
                  <a:off x="988560" y="231480"/>
                  <a:ext cx="351000" cy="119880"/>
                </a:xfrm>
                <a:prstGeom prst="pie">
                  <a:avLst/>
                </a:pr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Freeform 1335"/>
                <p:cNvSpPr/>
                <p:nvPr/>
              </p:nvSpPr>
              <p:spPr>
                <a:xfrm rot="7630800">
                  <a:off x="879840" y="271800"/>
                  <a:ext cx="511200" cy="1497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7" name="Freeform 1336"/>
                <p:cNvSpPr/>
                <p:nvPr/>
              </p:nvSpPr>
              <p:spPr>
                <a:xfrm rot="7630800">
                  <a:off x="1110600" y="237960"/>
                  <a:ext cx="166320" cy="140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Freeform 1337"/>
                <p:cNvSpPr/>
                <p:nvPr/>
              </p:nvSpPr>
              <p:spPr>
                <a:xfrm rot="7630800">
                  <a:off x="1090800" y="286560"/>
                  <a:ext cx="214560" cy="550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Freeform 1338"/>
                <p:cNvSpPr/>
                <p:nvPr/>
              </p:nvSpPr>
              <p:spPr>
                <a:xfrm rot="7630800">
                  <a:off x="1076760" y="324360"/>
                  <a:ext cx="236520" cy="730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Freeform 1339"/>
                <p:cNvSpPr/>
                <p:nvPr/>
              </p:nvSpPr>
              <p:spPr>
                <a:xfrm rot="7630800">
                  <a:off x="1153800" y="191520"/>
                  <a:ext cx="98640" cy="93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Freeform 1340"/>
                <p:cNvSpPr/>
                <p:nvPr/>
              </p:nvSpPr>
              <p:spPr>
                <a:xfrm rot="7630800">
                  <a:off x="1189080" y="146880"/>
                  <a:ext cx="51480" cy="32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Freeform 1341"/>
                <p:cNvSpPr/>
                <p:nvPr/>
              </p:nvSpPr>
              <p:spPr>
                <a:xfrm rot="7630800">
                  <a:off x="1176840" y="143280"/>
                  <a:ext cx="37440" cy="255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3" name="Freeform 1342"/>
                <p:cNvSpPr/>
                <p:nvPr/>
              </p:nvSpPr>
              <p:spPr>
                <a:xfrm rot="7630800">
                  <a:off x="1138320" y="168840"/>
                  <a:ext cx="65520" cy="482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Freeform 1343"/>
                <p:cNvSpPr/>
                <p:nvPr/>
              </p:nvSpPr>
              <p:spPr>
                <a:xfrm rot="7630800">
                  <a:off x="1082520" y="205560"/>
                  <a:ext cx="104760" cy="838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Freeform 1344"/>
                <p:cNvSpPr/>
                <p:nvPr/>
              </p:nvSpPr>
              <p:spPr>
                <a:xfrm rot="7630800">
                  <a:off x="1038960" y="243360"/>
                  <a:ext cx="112680" cy="1227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6" name="Freeform 1345"/>
                <p:cNvSpPr/>
                <p:nvPr/>
              </p:nvSpPr>
              <p:spPr>
                <a:xfrm rot="7630800">
                  <a:off x="1059120" y="253800"/>
                  <a:ext cx="12600" cy="489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Freeform 1346"/>
                <p:cNvSpPr/>
                <p:nvPr/>
              </p:nvSpPr>
              <p:spPr>
                <a:xfrm rot="7630800">
                  <a:off x="1015560" y="288720"/>
                  <a:ext cx="78480" cy="1515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Freeform 1347"/>
                <p:cNvSpPr/>
                <p:nvPr/>
              </p:nvSpPr>
              <p:spPr>
                <a:xfrm rot="7630800">
                  <a:off x="1071720" y="289440"/>
                  <a:ext cx="57600" cy="237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9" name="Freeform 1348"/>
                <p:cNvSpPr/>
                <p:nvPr/>
              </p:nvSpPr>
              <p:spPr>
                <a:xfrm rot="7630800">
                  <a:off x="1108080" y="200880"/>
                  <a:ext cx="28440" cy="388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Freeform 1349"/>
                <p:cNvSpPr/>
                <p:nvPr/>
              </p:nvSpPr>
              <p:spPr>
                <a:xfrm rot="7630800">
                  <a:off x="1175760" y="223560"/>
                  <a:ext cx="60840" cy="82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Freeform 1350"/>
                <p:cNvSpPr/>
                <p:nvPr/>
              </p:nvSpPr>
              <p:spPr>
                <a:xfrm rot="7630800">
                  <a:off x="1209600" y="216000"/>
                  <a:ext cx="37440" cy="144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Freeform 1351"/>
                <p:cNvSpPr/>
                <p:nvPr/>
              </p:nvSpPr>
              <p:spPr>
                <a:xfrm rot="7630800">
                  <a:off x="1096560" y="258120"/>
                  <a:ext cx="12600" cy="936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Freeform 1352"/>
                <p:cNvSpPr/>
                <p:nvPr/>
              </p:nvSpPr>
              <p:spPr>
                <a:xfrm rot="7630800">
                  <a:off x="1215720" y="256680"/>
                  <a:ext cx="10800" cy="540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Freeform 1353"/>
                <p:cNvSpPr/>
                <p:nvPr/>
              </p:nvSpPr>
              <p:spPr>
                <a:xfrm rot="7630800">
                  <a:off x="1215360" y="307800"/>
                  <a:ext cx="12240" cy="720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5" name="Freeform 1354"/>
                <p:cNvSpPr/>
                <p:nvPr/>
              </p:nvSpPr>
              <p:spPr>
                <a:xfrm rot="7630800">
                  <a:off x="1235520" y="168480"/>
                  <a:ext cx="9360" cy="360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6" name="Group 1355"/>
              <p:cNvGrpSpPr/>
              <p:nvPr/>
            </p:nvGrpSpPr>
            <p:grpSpPr>
              <a:xfrm>
                <a:off x="1036800" y="510480"/>
                <a:ext cx="47160" cy="42120"/>
                <a:chOff x="1036800" y="510480"/>
                <a:chExt cx="47160" cy="42120"/>
              </a:xfrm>
            </p:grpSpPr>
            <p:sp>
              <p:nvSpPr>
                <p:cNvPr id="1157" name="Freeform 1356"/>
                <p:cNvSpPr/>
                <p:nvPr/>
              </p:nvSpPr>
              <p:spPr>
                <a:xfrm rot="3266400">
                  <a:off x="1049760" y="509400"/>
                  <a:ext cx="20520" cy="43560"/>
                </a:xfrm>
                <a:prstGeom prst="pie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Freeform 1357"/>
                <p:cNvSpPr/>
                <p:nvPr/>
              </p:nvSpPr>
              <p:spPr>
                <a:xfrm rot="21219600">
                  <a:off x="1045800" y="522360"/>
                  <a:ext cx="21600" cy="11880"/>
                </a:xfrm>
                <a:prstGeom prst="pie">
                  <a:avLst/>
                </a:pr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59" name="Group 1358"/>
            <p:cNvGrpSpPr/>
            <p:nvPr/>
          </p:nvGrpSpPr>
          <p:grpSpPr>
            <a:xfrm>
              <a:off x="1434600" y="139680"/>
              <a:ext cx="473400" cy="467640"/>
              <a:chOff x="1434600" y="139680"/>
              <a:chExt cx="473400" cy="467640"/>
            </a:xfrm>
          </p:grpSpPr>
          <p:grpSp>
            <p:nvGrpSpPr>
              <p:cNvPr id="1160" name="Group 1359"/>
              <p:cNvGrpSpPr/>
              <p:nvPr/>
            </p:nvGrpSpPr>
            <p:grpSpPr>
              <a:xfrm>
                <a:off x="1455480" y="139680"/>
                <a:ext cx="452520" cy="467640"/>
                <a:chOff x="1455480" y="139680"/>
                <a:chExt cx="452520" cy="467640"/>
              </a:xfrm>
            </p:grpSpPr>
            <p:sp>
              <p:nvSpPr>
                <p:cNvPr id="1161" name="Freeform 1360"/>
                <p:cNvSpPr/>
                <p:nvPr/>
              </p:nvSpPr>
              <p:spPr>
                <a:xfrm rot="12159000">
                  <a:off x="1576800" y="175320"/>
                  <a:ext cx="264960" cy="396000"/>
                </a:xfrm>
                <a:prstGeom prst="pie">
                  <a:avLst/>
                </a:prstGeom>
                <a:solidFill>
                  <a:srgbClr val="33cc33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Freeform 1361"/>
                <p:cNvSpPr/>
                <p:nvPr/>
              </p:nvSpPr>
              <p:spPr>
                <a:xfrm rot="12159000">
                  <a:off x="1581840" y="288360"/>
                  <a:ext cx="225000" cy="187200"/>
                </a:xfrm>
                <a:prstGeom prst="pie">
                  <a:avLst/>
                </a:pr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Freeform 1362"/>
                <p:cNvSpPr/>
                <p:nvPr/>
              </p:nvSpPr>
              <p:spPr>
                <a:xfrm rot="12159000">
                  <a:off x="1487520" y="266400"/>
                  <a:ext cx="327240" cy="2336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Freeform 1363"/>
                <p:cNvSpPr/>
                <p:nvPr/>
              </p:nvSpPr>
              <p:spPr>
                <a:xfrm rot="12159000">
                  <a:off x="1675440" y="379440"/>
                  <a:ext cx="106560" cy="226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Freeform 1364"/>
                <p:cNvSpPr/>
                <p:nvPr/>
              </p:nvSpPr>
              <p:spPr>
                <a:xfrm rot="12159000">
                  <a:off x="1602360" y="398160"/>
                  <a:ext cx="137520" cy="860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Freeform 1365"/>
                <p:cNvSpPr/>
                <p:nvPr/>
              </p:nvSpPr>
              <p:spPr>
                <a:xfrm rot="12159000">
                  <a:off x="1556280" y="412920"/>
                  <a:ext cx="151560" cy="1141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Freeform 1366"/>
                <p:cNvSpPr/>
                <p:nvPr/>
              </p:nvSpPr>
              <p:spPr>
                <a:xfrm rot="12159000">
                  <a:off x="1737360" y="362160"/>
                  <a:ext cx="63000" cy="144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Freeform 1367"/>
                <p:cNvSpPr/>
                <p:nvPr/>
              </p:nvSpPr>
              <p:spPr>
                <a:xfrm rot="12159000">
                  <a:off x="1791000" y="350280"/>
                  <a:ext cx="32760" cy="54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Freeform 1368"/>
                <p:cNvSpPr/>
                <p:nvPr/>
              </p:nvSpPr>
              <p:spPr>
                <a:xfrm rot="12159000">
                  <a:off x="1791000" y="312120"/>
                  <a:ext cx="23760" cy="399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Freeform 1369"/>
                <p:cNvSpPr/>
                <p:nvPr/>
              </p:nvSpPr>
              <p:spPr>
                <a:xfrm rot="12159000">
                  <a:off x="1754280" y="287640"/>
                  <a:ext cx="42120" cy="752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Freeform 1370"/>
                <p:cNvSpPr/>
                <p:nvPr/>
              </p:nvSpPr>
              <p:spPr>
                <a:xfrm rot="12159000">
                  <a:off x="1701000" y="250200"/>
                  <a:ext cx="66960" cy="1314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Freeform 1371"/>
                <p:cNvSpPr/>
                <p:nvPr/>
              </p:nvSpPr>
              <p:spPr>
                <a:xfrm rot="12159000">
                  <a:off x="1656000" y="207000"/>
                  <a:ext cx="71640" cy="1915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3" name="Freeform 1372"/>
                <p:cNvSpPr/>
                <p:nvPr/>
              </p:nvSpPr>
              <p:spPr>
                <a:xfrm rot="12159000">
                  <a:off x="1713960" y="207720"/>
                  <a:ext cx="8280" cy="763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4" name="Freeform 1373"/>
                <p:cNvSpPr/>
                <p:nvPr/>
              </p:nvSpPr>
              <p:spPr>
                <a:xfrm rot="12159000">
                  <a:off x="1622160" y="172080"/>
                  <a:ext cx="50040" cy="2368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5" name="Freeform 1374"/>
                <p:cNvSpPr/>
                <p:nvPr/>
              </p:nvSpPr>
              <p:spPr>
                <a:xfrm rot="12159000">
                  <a:off x="1675080" y="288720"/>
                  <a:ext cx="37080" cy="370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6" name="Freeform 1375"/>
                <p:cNvSpPr/>
                <p:nvPr/>
              </p:nvSpPr>
              <p:spPr>
                <a:xfrm rot="12159000">
                  <a:off x="1749240" y="250560"/>
                  <a:ext cx="17640" cy="608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Freeform 1376"/>
                <p:cNvSpPr/>
                <p:nvPr/>
              </p:nvSpPr>
              <p:spPr>
                <a:xfrm rot="12159000">
                  <a:off x="1722600" y="388440"/>
                  <a:ext cx="38520" cy="129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Freeform 1377"/>
                <p:cNvSpPr/>
                <p:nvPr/>
              </p:nvSpPr>
              <p:spPr>
                <a:xfrm rot="12159000">
                  <a:off x="1731600" y="408960"/>
                  <a:ext cx="23760" cy="226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Freeform 1378"/>
                <p:cNvSpPr/>
                <p:nvPr/>
              </p:nvSpPr>
              <p:spPr>
                <a:xfrm rot="12159000">
                  <a:off x="1720800" y="277200"/>
                  <a:ext cx="8280" cy="1440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Freeform 1379"/>
                <p:cNvSpPr/>
                <p:nvPr/>
              </p:nvSpPr>
              <p:spPr>
                <a:xfrm rot="12159000">
                  <a:off x="1710720" y="431640"/>
                  <a:ext cx="6480" cy="864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Freeform 1380"/>
                <p:cNvSpPr/>
                <p:nvPr/>
              </p:nvSpPr>
              <p:spPr>
                <a:xfrm rot="12159000">
                  <a:off x="1665720" y="465480"/>
                  <a:ext cx="8280" cy="1080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Freeform 1381"/>
                <p:cNvSpPr/>
                <p:nvPr/>
              </p:nvSpPr>
              <p:spPr>
                <a:xfrm rot="12159000">
                  <a:off x="1783080" y="397080"/>
                  <a:ext cx="5760" cy="576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3" name="Group 1382"/>
              <p:cNvGrpSpPr/>
              <p:nvPr/>
            </p:nvGrpSpPr>
            <p:grpSpPr>
              <a:xfrm>
                <a:off x="1434600" y="419760"/>
                <a:ext cx="42120" cy="42480"/>
                <a:chOff x="1434600" y="419760"/>
                <a:chExt cx="42120" cy="42480"/>
              </a:xfrm>
            </p:grpSpPr>
            <p:sp>
              <p:nvSpPr>
                <p:cNvPr id="1184" name="Freeform 1383"/>
                <p:cNvSpPr/>
                <p:nvPr/>
              </p:nvSpPr>
              <p:spPr>
                <a:xfrm rot="7794000">
                  <a:off x="1439280" y="426960"/>
                  <a:ext cx="32760" cy="27360"/>
                </a:xfrm>
                <a:prstGeom prst="pie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Freeform 1384"/>
                <p:cNvSpPr/>
                <p:nvPr/>
              </p:nvSpPr>
              <p:spPr>
                <a:xfrm rot="4147200">
                  <a:off x="1451880" y="424800"/>
                  <a:ext cx="14040" cy="19800"/>
                </a:xfrm>
                <a:prstGeom prst="pie">
                  <a:avLst/>
                </a:pr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86" name="Group 1385"/>
          <p:cNvGrpSpPr/>
          <p:nvPr/>
        </p:nvGrpSpPr>
        <p:grpSpPr>
          <a:xfrm>
            <a:off x="-189360" y="756000"/>
            <a:ext cx="1488600" cy="1304280"/>
            <a:chOff x="-189360" y="756000"/>
            <a:chExt cx="1488600" cy="1304280"/>
          </a:xfrm>
        </p:grpSpPr>
        <p:sp>
          <p:nvSpPr>
            <p:cNvPr id="1187" name="Freeform 1386"/>
            <p:cNvSpPr/>
            <p:nvPr/>
          </p:nvSpPr>
          <p:spPr>
            <a:xfrm flipH="1" rot="4059600">
              <a:off x="376200" y="722880"/>
              <a:ext cx="216720" cy="1188360"/>
            </a:xfrm>
            <a:prstGeom prst="pi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Freeform 1387"/>
            <p:cNvSpPr/>
            <p:nvPr/>
          </p:nvSpPr>
          <p:spPr>
            <a:xfrm flipH="1" rot="4059600">
              <a:off x="-16920" y="1597680"/>
              <a:ext cx="23760" cy="46080"/>
            </a:xfrm>
            <a:prstGeom prst="pi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9" name="Group 1388"/>
            <p:cNvGrpSpPr/>
            <p:nvPr/>
          </p:nvGrpSpPr>
          <p:grpSpPr>
            <a:xfrm>
              <a:off x="-124200" y="1514880"/>
              <a:ext cx="496800" cy="545400"/>
              <a:chOff x="-124200" y="1514880"/>
              <a:chExt cx="496800" cy="545400"/>
            </a:xfrm>
          </p:grpSpPr>
          <p:grpSp>
            <p:nvGrpSpPr>
              <p:cNvPr id="1190" name="Group 1389"/>
              <p:cNvGrpSpPr/>
              <p:nvPr/>
            </p:nvGrpSpPr>
            <p:grpSpPr>
              <a:xfrm>
                <a:off x="-124200" y="1519560"/>
                <a:ext cx="496800" cy="540720"/>
                <a:chOff x="-124200" y="1519560"/>
                <a:chExt cx="496800" cy="540720"/>
              </a:xfrm>
            </p:grpSpPr>
            <p:sp>
              <p:nvSpPr>
                <p:cNvPr id="1191" name="Freeform 1390"/>
                <p:cNvSpPr/>
                <p:nvPr/>
              </p:nvSpPr>
              <p:spPr>
                <a:xfrm flipH="1" rot="3919200">
                  <a:off x="-43200" y="1629720"/>
                  <a:ext cx="334800" cy="392760"/>
                </a:xfrm>
                <a:prstGeom prst="pie">
                  <a:avLst/>
                </a:prstGeom>
                <a:solidFill>
                  <a:srgbClr val="33cc33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Freeform 1391"/>
                <p:cNvSpPr/>
                <p:nvPr/>
              </p:nvSpPr>
              <p:spPr>
                <a:xfrm flipH="1" rot="3919200">
                  <a:off x="-10440" y="1715040"/>
                  <a:ext cx="284400" cy="186120"/>
                </a:xfrm>
                <a:prstGeom prst="pie">
                  <a:avLst/>
                </a:pr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Freeform 1392"/>
                <p:cNvSpPr/>
                <p:nvPr/>
              </p:nvSpPr>
              <p:spPr>
                <a:xfrm flipH="1" rot="3919200">
                  <a:off x="-79560" y="1639800"/>
                  <a:ext cx="413640" cy="2322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4" name="Freeform 1393"/>
                <p:cNvSpPr/>
                <p:nvPr/>
              </p:nvSpPr>
              <p:spPr>
                <a:xfrm flipH="1" rot="3919200">
                  <a:off x="77040" y="1839240"/>
                  <a:ext cx="134640" cy="226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Freeform 1394"/>
                <p:cNvSpPr/>
                <p:nvPr/>
              </p:nvSpPr>
              <p:spPr>
                <a:xfrm flipH="1" rot="3919200">
                  <a:off x="102960" y="1740240"/>
                  <a:ext cx="173520" cy="860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Freeform 1395"/>
                <p:cNvSpPr/>
                <p:nvPr/>
              </p:nvSpPr>
              <p:spPr>
                <a:xfrm flipH="1" rot="3919200">
                  <a:off x="117720" y="1680480"/>
                  <a:ext cx="191520" cy="1130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Freeform 1396"/>
                <p:cNvSpPr/>
                <p:nvPr/>
              </p:nvSpPr>
              <p:spPr>
                <a:xfrm flipH="1" rot="3919200">
                  <a:off x="89280" y="1890720"/>
                  <a:ext cx="79920" cy="140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Freeform 1397"/>
                <p:cNvSpPr/>
                <p:nvPr/>
              </p:nvSpPr>
              <p:spPr>
                <a:xfrm flipH="1" rot="3919200">
                  <a:off x="96120" y="1941120"/>
                  <a:ext cx="41400" cy="54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Freeform 1398"/>
                <p:cNvSpPr/>
                <p:nvPr/>
              </p:nvSpPr>
              <p:spPr>
                <a:xfrm flipH="1" rot="3919200">
                  <a:off x="79560" y="1918080"/>
                  <a:ext cx="30240" cy="399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Freeform 1399"/>
                <p:cNvSpPr/>
                <p:nvPr/>
              </p:nvSpPr>
              <p:spPr>
                <a:xfrm flipH="1" rot="3919200">
                  <a:off x="57960" y="1865880"/>
                  <a:ext cx="52920" cy="745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Freeform 1400"/>
                <p:cNvSpPr/>
                <p:nvPr/>
              </p:nvSpPr>
              <p:spPr>
                <a:xfrm flipH="1" rot="3919200">
                  <a:off x="26280" y="1787760"/>
                  <a:ext cx="84600" cy="1299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Freeform 1401"/>
                <p:cNvSpPr/>
                <p:nvPr/>
              </p:nvSpPr>
              <p:spPr>
                <a:xfrm flipH="1" rot="3919200">
                  <a:off x="2520" y="1704600"/>
                  <a:ext cx="91080" cy="1900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Freeform 1402"/>
                <p:cNvSpPr/>
                <p:nvPr/>
              </p:nvSpPr>
              <p:spPr>
                <a:xfrm flipH="1" rot="3919200">
                  <a:off x="-11160" y="1790640"/>
                  <a:ext cx="10080" cy="756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Freeform 1403"/>
                <p:cNvSpPr/>
                <p:nvPr/>
              </p:nvSpPr>
              <p:spPr>
                <a:xfrm flipH="1" rot="3919200">
                  <a:off x="-1080" y="1626480"/>
                  <a:ext cx="63360" cy="2347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Freeform 1404"/>
                <p:cNvSpPr/>
                <p:nvPr/>
              </p:nvSpPr>
              <p:spPr>
                <a:xfrm flipH="1" rot="3919200">
                  <a:off x="29520" y="1784160"/>
                  <a:ext cx="46800" cy="367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Freeform 1405"/>
                <p:cNvSpPr/>
                <p:nvPr/>
              </p:nvSpPr>
              <p:spPr>
                <a:xfrm flipH="1" rot="3919200">
                  <a:off x="24120" y="1849680"/>
                  <a:ext cx="22680" cy="601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Freeform 1406"/>
                <p:cNvSpPr/>
                <p:nvPr/>
              </p:nvSpPr>
              <p:spPr>
                <a:xfrm flipH="1" rot="3919200">
                  <a:off x="127080" y="1860120"/>
                  <a:ext cx="48960" cy="129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Freeform 1407"/>
                <p:cNvSpPr/>
                <p:nvPr/>
              </p:nvSpPr>
              <p:spPr>
                <a:xfrm flipH="1" rot="3919200">
                  <a:off x="163080" y="1858680"/>
                  <a:ext cx="30240" cy="226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Freeform 1408"/>
                <p:cNvSpPr/>
                <p:nvPr/>
              </p:nvSpPr>
              <p:spPr>
                <a:xfrm flipH="1" rot="3919200">
                  <a:off x="28800" y="1833120"/>
                  <a:ext cx="10080" cy="1404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0" name="Freeform 1409"/>
                <p:cNvSpPr/>
                <p:nvPr/>
              </p:nvSpPr>
              <p:spPr>
                <a:xfrm flipH="1" rot="3919200">
                  <a:off x="185040" y="1830960"/>
                  <a:ext cx="8640" cy="864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1" name="Freeform 1410"/>
                <p:cNvSpPr/>
                <p:nvPr/>
              </p:nvSpPr>
              <p:spPr>
                <a:xfrm flipH="1" rot="3919200">
                  <a:off x="215280" y="1778760"/>
                  <a:ext cx="9720" cy="1116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2" name="Freeform 1411"/>
                <p:cNvSpPr/>
                <p:nvPr/>
              </p:nvSpPr>
              <p:spPr>
                <a:xfrm flipH="1" rot="3919200">
                  <a:off x="159120" y="1917360"/>
                  <a:ext cx="7200" cy="612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3" name="Group 1412"/>
              <p:cNvGrpSpPr/>
              <p:nvPr/>
            </p:nvGrpSpPr>
            <p:grpSpPr>
              <a:xfrm>
                <a:off x="133920" y="1514880"/>
                <a:ext cx="47880" cy="48240"/>
                <a:chOff x="133920" y="1514880"/>
                <a:chExt cx="47880" cy="48240"/>
              </a:xfrm>
            </p:grpSpPr>
            <p:sp>
              <p:nvSpPr>
                <p:cNvPr id="1214" name="Freeform 1413"/>
                <p:cNvSpPr/>
                <p:nvPr/>
              </p:nvSpPr>
              <p:spPr>
                <a:xfrm flipH="1" rot="8284200">
                  <a:off x="141120" y="1521360"/>
                  <a:ext cx="32760" cy="35280"/>
                </a:xfrm>
                <a:prstGeom prst="pie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Freeform 1414"/>
                <p:cNvSpPr/>
                <p:nvPr/>
              </p:nvSpPr>
              <p:spPr>
                <a:xfrm flipH="1" rot="11931000">
                  <a:off x="143280" y="1532880"/>
                  <a:ext cx="17640" cy="19800"/>
                </a:xfrm>
                <a:prstGeom prst="pie">
                  <a:avLst/>
                </a:pr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16" name="Group 1415"/>
            <p:cNvGrpSpPr/>
            <p:nvPr/>
          </p:nvGrpSpPr>
          <p:grpSpPr>
            <a:xfrm>
              <a:off x="132480" y="1355400"/>
              <a:ext cx="554760" cy="429480"/>
              <a:chOff x="132480" y="1355400"/>
              <a:chExt cx="554760" cy="429480"/>
            </a:xfrm>
          </p:grpSpPr>
          <p:grpSp>
            <p:nvGrpSpPr>
              <p:cNvPr id="1217" name="Group 1416"/>
              <p:cNvGrpSpPr/>
              <p:nvPr/>
            </p:nvGrpSpPr>
            <p:grpSpPr>
              <a:xfrm>
                <a:off x="132480" y="1355400"/>
                <a:ext cx="554760" cy="429480"/>
                <a:chOff x="132480" y="1355400"/>
                <a:chExt cx="554760" cy="429480"/>
              </a:xfrm>
            </p:grpSpPr>
            <p:sp>
              <p:nvSpPr>
                <p:cNvPr id="1218" name="Freeform 1417"/>
                <p:cNvSpPr/>
                <p:nvPr/>
              </p:nvSpPr>
              <p:spPr>
                <a:xfrm flipH="1" rot="20756400">
                  <a:off x="271800" y="1396080"/>
                  <a:ext cx="378720" cy="347760"/>
                </a:xfrm>
                <a:prstGeom prst="pie">
                  <a:avLst/>
                </a:prstGeom>
                <a:solidFill>
                  <a:srgbClr val="33cc33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9" name="Freeform 1418"/>
                <p:cNvSpPr/>
                <p:nvPr/>
              </p:nvSpPr>
              <p:spPr>
                <a:xfrm flipH="1" rot="20756400">
                  <a:off x="281520" y="1478520"/>
                  <a:ext cx="321480" cy="16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0" name="Freeform 1419"/>
                <p:cNvSpPr/>
                <p:nvPr/>
              </p:nvSpPr>
              <p:spPr>
                <a:xfrm flipH="1" rot="20756400">
                  <a:off x="150480" y="1457280"/>
                  <a:ext cx="468000" cy="2055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Freeform 1420"/>
                <p:cNvSpPr/>
                <p:nvPr/>
              </p:nvSpPr>
              <p:spPr>
                <a:xfrm flipH="1" rot="20756400">
                  <a:off x="416520" y="1543320"/>
                  <a:ext cx="152280" cy="198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Freeform 1421"/>
                <p:cNvSpPr/>
                <p:nvPr/>
              </p:nvSpPr>
              <p:spPr>
                <a:xfrm flipH="1" rot="20756400">
                  <a:off x="331920" y="1468800"/>
                  <a:ext cx="196560" cy="759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3" name="Freeform 1422"/>
                <p:cNvSpPr/>
                <p:nvPr/>
              </p:nvSpPr>
              <p:spPr>
                <a:xfrm flipH="1" rot="20756400">
                  <a:off x="278640" y="1429560"/>
                  <a:ext cx="216720" cy="1000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Freeform 1423"/>
                <p:cNvSpPr/>
                <p:nvPr/>
              </p:nvSpPr>
              <p:spPr>
                <a:xfrm flipH="1" rot="20756400">
                  <a:off x="494640" y="1567080"/>
                  <a:ext cx="90360" cy="126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Freeform 1424"/>
                <p:cNvSpPr/>
                <p:nvPr/>
              </p:nvSpPr>
              <p:spPr>
                <a:xfrm flipH="1" rot="20756400">
                  <a:off x="562680" y="1586520"/>
                  <a:ext cx="47160" cy="43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6" name="Freeform 1425"/>
                <p:cNvSpPr/>
                <p:nvPr/>
              </p:nvSpPr>
              <p:spPr>
                <a:xfrm flipH="1" rot="20756400">
                  <a:off x="557280" y="1590480"/>
                  <a:ext cx="34200" cy="352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7" name="Freeform 1426"/>
                <p:cNvSpPr/>
                <p:nvPr/>
              </p:nvSpPr>
              <p:spPr>
                <a:xfrm flipH="1" rot="20756400">
                  <a:off x="504000" y="1580760"/>
                  <a:ext cx="60120" cy="655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8" name="Freeform 1427"/>
                <p:cNvSpPr/>
                <p:nvPr/>
              </p:nvSpPr>
              <p:spPr>
                <a:xfrm flipH="1" rot="20756400">
                  <a:off x="426960" y="1565280"/>
                  <a:ext cx="95760" cy="1152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Freeform 1428"/>
                <p:cNvSpPr/>
                <p:nvPr/>
              </p:nvSpPr>
              <p:spPr>
                <a:xfrm flipH="1" rot="20756400">
                  <a:off x="361080" y="1550520"/>
                  <a:ext cx="102600" cy="1684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Freeform 1429"/>
                <p:cNvSpPr/>
                <p:nvPr/>
              </p:nvSpPr>
              <p:spPr>
                <a:xfrm flipH="1" rot="20756400">
                  <a:off x="422640" y="1653840"/>
                  <a:ext cx="11520" cy="673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Freeform 1430"/>
                <p:cNvSpPr/>
                <p:nvPr/>
              </p:nvSpPr>
              <p:spPr>
                <a:xfrm flipH="1" rot="20756400">
                  <a:off x="310680" y="1541520"/>
                  <a:ext cx="71640" cy="2077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Freeform 1431"/>
                <p:cNvSpPr/>
                <p:nvPr/>
              </p:nvSpPr>
              <p:spPr>
                <a:xfrm flipH="1" rot="20756400">
                  <a:off x="389160" y="1613880"/>
                  <a:ext cx="52920" cy="327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Freeform 1432"/>
                <p:cNvSpPr/>
                <p:nvPr/>
              </p:nvSpPr>
              <p:spPr>
                <a:xfrm flipH="1" rot="20756400">
                  <a:off x="481680" y="1628280"/>
                  <a:ext cx="25920" cy="532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Freeform 1433"/>
                <p:cNvSpPr/>
                <p:nvPr/>
              </p:nvSpPr>
              <p:spPr>
                <a:xfrm flipH="1" rot="20756400">
                  <a:off x="483480" y="1544040"/>
                  <a:ext cx="55800" cy="111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5" name="Freeform 1434"/>
                <p:cNvSpPr/>
                <p:nvPr/>
              </p:nvSpPr>
              <p:spPr>
                <a:xfrm flipH="1" rot="20756400">
                  <a:off x="505800" y="1516320"/>
                  <a:ext cx="34200" cy="198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6" name="Freeform 1435"/>
                <p:cNvSpPr/>
                <p:nvPr/>
              </p:nvSpPr>
              <p:spPr>
                <a:xfrm flipH="1" rot="20756400">
                  <a:off x="446040" y="1645560"/>
                  <a:ext cx="11520" cy="1260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Freeform 1436"/>
                <p:cNvSpPr/>
                <p:nvPr/>
              </p:nvSpPr>
              <p:spPr>
                <a:xfrm flipH="1" rot="20756400">
                  <a:off x="481320" y="1508040"/>
                  <a:ext cx="10080" cy="756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Freeform 1437"/>
                <p:cNvSpPr/>
                <p:nvPr/>
              </p:nvSpPr>
              <p:spPr>
                <a:xfrm flipH="1" rot="20756400">
                  <a:off x="433800" y="1474200"/>
                  <a:ext cx="11160" cy="972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Freeform 1438"/>
                <p:cNvSpPr/>
                <p:nvPr/>
              </p:nvSpPr>
              <p:spPr>
                <a:xfrm flipH="1" rot="20756400">
                  <a:off x="569160" y="1542960"/>
                  <a:ext cx="8280" cy="468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0" name="Group 1439"/>
              <p:cNvGrpSpPr/>
              <p:nvPr/>
            </p:nvGrpSpPr>
            <p:grpSpPr>
              <a:xfrm>
                <a:off x="149760" y="1493280"/>
                <a:ext cx="48960" cy="45360"/>
                <a:chOff x="149760" y="1493280"/>
                <a:chExt cx="48960" cy="45360"/>
              </a:xfrm>
            </p:grpSpPr>
            <p:sp>
              <p:nvSpPr>
                <p:cNvPr id="1241" name="Freeform 1440"/>
                <p:cNvSpPr/>
                <p:nvPr/>
              </p:nvSpPr>
              <p:spPr>
                <a:xfrm flipH="1" rot="3520800">
                  <a:off x="159480" y="1495800"/>
                  <a:ext cx="28800" cy="39600"/>
                </a:xfrm>
                <a:prstGeom prst="pie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Freeform 1441"/>
                <p:cNvSpPr/>
                <p:nvPr/>
              </p:nvSpPr>
              <p:spPr>
                <a:xfrm flipH="1" rot="7167600">
                  <a:off x="165600" y="1512000"/>
                  <a:ext cx="19800" cy="17280"/>
                </a:xfrm>
                <a:prstGeom prst="pie">
                  <a:avLst/>
                </a:pr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43" name="Group 1442"/>
            <p:cNvGrpSpPr/>
            <p:nvPr/>
          </p:nvGrpSpPr>
          <p:grpSpPr>
            <a:xfrm>
              <a:off x="-189360" y="922320"/>
              <a:ext cx="835200" cy="570240"/>
              <a:chOff x="-189360" y="922320"/>
              <a:chExt cx="835200" cy="570240"/>
            </a:xfrm>
          </p:grpSpPr>
          <p:grpSp>
            <p:nvGrpSpPr>
              <p:cNvPr id="1244" name="Group 1443"/>
              <p:cNvGrpSpPr/>
              <p:nvPr/>
            </p:nvGrpSpPr>
            <p:grpSpPr>
              <a:xfrm>
                <a:off x="-189360" y="1027080"/>
                <a:ext cx="445320" cy="465480"/>
                <a:chOff x="-189360" y="1027080"/>
                <a:chExt cx="445320" cy="465480"/>
              </a:xfrm>
            </p:grpSpPr>
            <p:grpSp>
              <p:nvGrpSpPr>
                <p:cNvPr id="1245" name="Group 1444"/>
                <p:cNvGrpSpPr/>
                <p:nvPr/>
              </p:nvGrpSpPr>
              <p:grpSpPr>
                <a:xfrm>
                  <a:off x="-189360" y="1027080"/>
                  <a:ext cx="444960" cy="465480"/>
                  <a:chOff x="-189360" y="1027080"/>
                  <a:chExt cx="444960" cy="465480"/>
                </a:xfrm>
              </p:grpSpPr>
              <p:sp>
                <p:nvSpPr>
                  <p:cNvPr id="1246" name="Freeform 1445"/>
                  <p:cNvSpPr/>
                  <p:nvPr/>
                </p:nvSpPr>
                <p:spPr>
                  <a:xfrm rot="4199400">
                    <a:off x="-120240" y="1052280"/>
                    <a:ext cx="307440" cy="361440"/>
                  </a:xfrm>
                  <a:prstGeom prst="pie">
                    <a:avLst/>
                  </a:prstGeom>
                  <a:solidFill>
                    <a:srgbClr val="33cc33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7" name="Freeform 1446"/>
                  <p:cNvSpPr/>
                  <p:nvPr/>
                </p:nvSpPr>
                <p:spPr>
                  <a:xfrm rot="4199400">
                    <a:off x="-80280" y="1154160"/>
                    <a:ext cx="261000" cy="171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9900"/>
                      </a:gs>
                      <a:gs pos="100000">
                        <a:srgbClr val="43b44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8" name="Freeform 1447"/>
                  <p:cNvSpPr/>
                  <p:nvPr/>
                </p:nvSpPr>
                <p:spPr>
                  <a:xfrm rot="4199400">
                    <a:off x="-109440" y="1170720"/>
                    <a:ext cx="380160" cy="21312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9" name="Freeform 1448"/>
                  <p:cNvSpPr/>
                  <p:nvPr/>
                </p:nvSpPr>
                <p:spPr>
                  <a:xfrm rot="4199400">
                    <a:off x="-30960" y="1193040"/>
                    <a:ext cx="123480" cy="2124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0" name="Freeform 1449"/>
                  <p:cNvSpPr/>
                  <p:nvPr/>
                </p:nvSpPr>
                <p:spPr>
                  <a:xfrm rot="4199400">
                    <a:off x="24120" y="1179720"/>
                    <a:ext cx="159480" cy="7884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1" name="Freeform 1450"/>
                  <p:cNvSpPr/>
                  <p:nvPr/>
                </p:nvSpPr>
                <p:spPr>
                  <a:xfrm rot="4199400">
                    <a:off x="61200" y="1181160"/>
                    <a:ext cx="176040" cy="10404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2" name="Freeform 1451"/>
                  <p:cNvSpPr/>
                  <p:nvPr/>
                </p:nvSpPr>
                <p:spPr>
                  <a:xfrm rot="4199400">
                    <a:off x="-46440" y="1176120"/>
                    <a:ext cx="73440" cy="1296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3" name="Freeform 1452"/>
                  <p:cNvSpPr/>
                  <p:nvPr/>
                </p:nvSpPr>
                <p:spPr>
                  <a:xfrm rot="4199400">
                    <a:off x="-66240" y="1158840"/>
                    <a:ext cx="38160" cy="504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4" name="Freeform 1453"/>
                  <p:cNvSpPr/>
                  <p:nvPr/>
                </p:nvSpPr>
                <p:spPr>
                  <a:xfrm rot="4199400">
                    <a:off x="-71280" y="1160640"/>
                    <a:ext cx="27720" cy="3672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5" name="Freeform 1454"/>
                  <p:cNvSpPr/>
                  <p:nvPr/>
                </p:nvSpPr>
                <p:spPr>
                  <a:xfrm rot="4199400">
                    <a:off x="-67320" y="1173960"/>
                    <a:ext cx="48600" cy="6876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320" bIns="22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6" name="Freeform 1455"/>
                  <p:cNvSpPr/>
                  <p:nvPr/>
                </p:nvSpPr>
                <p:spPr>
                  <a:xfrm rot="4199400">
                    <a:off x="-60120" y="1192320"/>
                    <a:ext cx="77760" cy="11988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7" name="Freeform 1456"/>
                  <p:cNvSpPr/>
                  <p:nvPr/>
                </p:nvSpPr>
                <p:spPr>
                  <a:xfrm rot="4199400">
                    <a:off x="-40320" y="1211400"/>
                    <a:ext cx="83520" cy="17496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8" name="Freeform 1457"/>
                  <p:cNvSpPr/>
                  <p:nvPr/>
                </p:nvSpPr>
                <p:spPr>
                  <a:xfrm rot="4199400">
                    <a:off x="-57960" y="1281960"/>
                    <a:ext cx="9360" cy="6984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9" name="Freeform 1458"/>
                  <p:cNvSpPr/>
                  <p:nvPr/>
                </p:nvSpPr>
                <p:spPr>
                  <a:xfrm rot="4199400">
                    <a:off x="-4680" y="1239840"/>
                    <a:ext cx="58320" cy="21600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0" name="Freeform 1459"/>
                  <p:cNvSpPr/>
                  <p:nvPr/>
                </p:nvSpPr>
                <p:spPr>
                  <a:xfrm rot="4199400">
                    <a:off x="-19080" y="1277280"/>
                    <a:ext cx="42840" cy="3384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1" name="Freeform 1460"/>
                  <p:cNvSpPr/>
                  <p:nvPr/>
                </p:nvSpPr>
                <p:spPr>
                  <a:xfrm rot="4199400">
                    <a:off x="-69840" y="1227960"/>
                    <a:ext cx="21240" cy="5544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2" name="Freeform 1461"/>
                  <p:cNvSpPr/>
                  <p:nvPr/>
                </p:nvSpPr>
                <p:spPr>
                  <a:xfrm rot="4199400">
                    <a:off x="2520" y="1183320"/>
                    <a:ext cx="45360" cy="1188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3" name="Freeform 1462"/>
                  <p:cNvSpPr/>
                  <p:nvPr/>
                </p:nvSpPr>
                <p:spPr>
                  <a:xfrm rot="4199400">
                    <a:off x="25560" y="1159200"/>
                    <a:ext cx="27720" cy="2088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4" name="Freeform 1463"/>
                  <p:cNvSpPr/>
                  <p:nvPr/>
                </p:nvSpPr>
                <p:spPr>
                  <a:xfrm rot="4199400">
                    <a:off x="-38880" y="1275480"/>
                    <a:ext cx="9360" cy="13320"/>
                  </a:xfrm>
                  <a:prstGeom prst="pie">
                    <a:avLst/>
                  </a:pr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5" name="Freeform 1464"/>
                  <p:cNvSpPr/>
                  <p:nvPr/>
                </p:nvSpPr>
                <p:spPr>
                  <a:xfrm rot="4199400">
                    <a:off x="66240" y="1181160"/>
                    <a:ext cx="7920" cy="7920"/>
                  </a:xfrm>
                  <a:prstGeom prst="pie">
                    <a:avLst/>
                  </a:pr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6" name="Freeform 1465"/>
                  <p:cNvSpPr/>
                  <p:nvPr/>
                </p:nvSpPr>
                <p:spPr>
                  <a:xfrm rot="4199400">
                    <a:off x="119160" y="1194120"/>
                    <a:ext cx="9000" cy="10080"/>
                  </a:xfrm>
                  <a:prstGeom prst="pie">
                    <a:avLst/>
                  </a:pr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7" name="Freeform 1466"/>
                  <p:cNvSpPr/>
                  <p:nvPr/>
                </p:nvSpPr>
                <p:spPr>
                  <a:xfrm rot="4199400">
                    <a:off x="-6120" y="1143720"/>
                    <a:ext cx="6840" cy="5400"/>
                  </a:xfrm>
                  <a:prstGeom prst="pie">
                    <a:avLst/>
                  </a:pr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68" name="Group 1467"/>
                <p:cNvGrpSpPr/>
                <p:nvPr/>
              </p:nvGrpSpPr>
              <p:grpSpPr>
                <a:xfrm>
                  <a:off x="222840" y="1382760"/>
                  <a:ext cx="33120" cy="33840"/>
                  <a:chOff x="222840" y="1382760"/>
                  <a:chExt cx="33120" cy="33840"/>
                </a:xfrm>
              </p:grpSpPr>
              <p:sp>
                <p:nvSpPr>
                  <p:cNvPr id="1269" name="Freeform 1468"/>
                  <p:cNvSpPr/>
                  <p:nvPr/>
                </p:nvSpPr>
                <p:spPr>
                  <a:xfrm rot="21435000">
                    <a:off x="225360" y="1383120"/>
                    <a:ext cx="29880" cy="32400"/>
                  </a:xfrm>
                  <a:prstGeom prst="pie">
                    <a:avLst/>
                  </a:prstGeom>
                  <a:solidFill>
                    <a:srgbClr val="00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0" name="Freeform 1469"/>
                  <p:cNvSpPr/>
                  <p:nvPr/>
                </p:nvSpPr>
                <p:spPr>
                  <a:xfrm rot="17788200">
                    <a:off x="226440" y="1390680"/>
                    <a:ext cx="16200" cy="18360"/>
                  </a:xfrm>
                  <a:prstGeom prst="pie">
                    <a:avLst/>
                  </a:prstGeom>
                  <a:solidFill>
                    <a:srgbClr val="ccff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71" name="Group 1470"/>
              <p:cNvGrpSpPr/>
              <p:nvPr/>
            </p:nvGrpSpPr>
            <p:grpSpPr>
              <a:xfrm>
                <a:off x="154080" y="922320"/>
                <a:ext cx="491760" cy="502200"/>
                <a:chOff x="154080" y="922320"/>
                <a:chExt cx="491760" cy="502200"/>
              </a:xfrm>
            </p:grpSpPr>
            <p:grpSp>
              <p:nvGrpSpPr>
                <p:cNvPr id="1272" name="Group 1471"/>
                <p:cNvGrpSpPr/>
                <p:nvPr/>
              </p:nvGrpSpPr>
              <p:grpSpPr>
                <a:xfrm>
                  <a:off x="154080" y="922320"/>
                  <a:ext cx="491760" cy="502200"/>
                  <a:chOff x="154080" y="922320"/>
                  <a:chExt cx="491760" cy="502200"/>
                </a:xfrm>
              </p:grpSpPr>
              <p:sp>
                <p:nvSpPr>
                  <p:cNvPr id="1273" name="Freeform 1472"/>
                  <p:cNvSpPr/>
                  <p:nvPr/>
                </p:nvSpPr>
                <p:spPr>
                  <a:xfrm rot="8424000">
                    <a:off x="240120" y="993960"/>
                    <a:ext cx="342000" cy="322560"/>
                  </a:xfrm>
                  <a:prstGeom prst="pie">
                    <a:avLst/>
                  </a:prstGeom>
                  <a:solidFill>
                    <a:srgbClr val="33cc33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4" name="Freeform 1473"/>
                  <p:cNvSpPr/>
                  <p:nvPr/>
                </p:nvSpPr>
                <p:spPr>
                  <a:xfrm rot="8424000">
                    <a:off x="262800" y="1097280"/>
                    <a:ext cx="290160" cy="152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9900"/>
                      </a:gs>
                      <a:gs pos="100000">
                        <a:srgbClr val="43b44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5" name="Freeform 1474"/>
                  <p:cNvSpPr/>
                  <p:nvPr/>
                </p:nvSpPr>
                <p:spPr>
                  <a:xfrm rot="8424000">
                    <a:off x="166320" y="1120320"/>
                    <a:ext cx="422640" cy="19116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6" name="Freeform 1475"/>
                  <p:cNvSpPr/>
                  <p:nvPr/>
                </p:nvSpPr>
                <p:spPr>
                  <a:xfrm rot="8424000">
                    <a:off x="371160" y="1132200"/>
                    <a:ext cx="137160" cy="1800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7" name="Freeform 1476"/>
                  <p:cNvSpPr/>
                  <p:nvPr/>
                </p:nvSpPr>
                <p:spPr>
                  <a:xfrm rot="8424000">
                    <a:off x="353520" y="1176840"/>
                    <a:ext cx="177480" cy="7056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120" bIns="241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8" name="Freeform 1477"/>
                  <p:cNvSpPr/>
                  <p:nvPr/>
                </p:nvSpPr>
                <p:spPr>
                  <a:xfrm rot="8424000">
                    <a:off x="340920" y="1213200"/>
                    <a:ext cx="195480" cy="9216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9" name="Freeform 1478"/>
                  <p:cNvSpPr/>
                  <p:nvPr/>
                </p:nvSpPr>
                <p:spPr>
                  <a:xfrm rot="8424000">
                    <a:off x="409320" y="1090080"/>
                    <a:ext cx="81720" cy="1116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0" name="Freeform 1479"/>
                  <p:cNvSpPr/>
                  <p:nvPr/>
                </p:nvSpPr>
                <p:spPr>
                  <a:xfrm rot="8424000">
                    <a:off x="442080" y="1050480"/>
                    <a:ext cx="42480" cy="396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1" name="Freeform 1480"/>
                  <p:cNvSpPr/>
                  <p:nvPr/>
                </p:nvSpPr>
                <p:spPr>
                  <a:xfrm rot="8424000">
                    <a:off x="427320" y="1035000"/>
                    <a:ext cx="30960" cy="3276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2" name="Freeform 1481"/>
                  <p:cNvSpPr/>
                  <p:nvPr/>
                </p:nvSpPr>
                <p:spPr>
                  <a:xfrm rot="8424000">
                    <a:off x="389880" y="1046520"/>
                    <a:ext cx="54360" cy="6156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3" name="Freeform 1482"/>
                  <p:cNvSpPr/>
                  <p:nvPr/>
                </p:nvSpPr>
                <p:spPr>
                  <a:xfrm rot="8424000">
                    <a:off x="336600" y="1062000"/>
                    <a:ext cx="86400" cy="10656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4" name="Freeform 1483"/>
                  <p:cNvSpPr/>
                  <p:nvPr/>
                </p:nvSpPr>
                <p:spPr>
                  <a:xfrm rot="8424000">
                    <a:off x="290880" y="1076400"/>
                    <a:ext cx="92880" cy="15660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5" name="Freeform 1484"/>
                  <p:cNvSpPr/>
                  <p:nvPr/>
                </p:nvSpPr>
                <p:spPr>
                  <a:xfrm rot="8424000">
                    <a:off x="301320" y="1082520"/>
                    <a:ext cx="10080" cy="6300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6" name="Freeform 1485"/>
                  <p:cNvSpPr/>
                  <p:nvPr/>
                </p:nvSpPr>
                <p:spPr>
                  <a:xfrm rot="8424000">
                    <a:off x="262080" y="1100160"/>
                    <a:ext cx="64800" cy="19260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7" name="Freeform 1486"/>
                  <p:cNvSpPr/>
                  <p:nvPr/>
                </p:nvSpPr>
                <p:spPr>
                  <a:xfrm rot="8424000">
                    <a:off x="318240" y="1139040"/>
                    <a:ext cx="47880" cy="3024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8" name="Freeform 1487"/>
                  <p:cNvSpPr/>
                  <p:nvPr/>
                </p:nvSpPr>
                <p:spPr>
                  <a:xfrm rot="8424000">
                    <a:off x="354600" y="1058040"/>
                    <a:ext cx="23400" cy="4932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9" name="Freeform 1488"/>
                  <p:cNvSpPr/>
                  <p:nvPr/>
                </p:nvSpPr>
                <p:spPr>
                  <a:xfrm rot="8424000">
                    <a:off x="427680" y="1123560"/>
                    <a:ext cx="50400" cy="1080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0" name="Freeform 1489"/>
                  <p:cNvSpPr/>
                  <p:nvPr/>
                </p:nvSpPr>
                <p:spPr>
                  <a:xfrm rot="8424000">
                    <a:off x="460440" y="1125360"/>
                    <a:ext cx="30960" cy="1800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1" name="Freeform 1490"/>
                  <p:cNvSpPr/>
                  <p:nvPr/>
                </p:nvSpPr>
                <p:spPr>
                  <a:xfrm rot="8424000">
                    <a:off x="340560" y="1110960"/>
                    <a:ext cx="10080" cy="11880"/>
                  </a:xfrm>
                  <a:prstGeom prst="pie">
                    <a:avLst/>
                  </a:pr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2" name="Freeform 1491"/>
                  <p:cNvSpPr/>
                  <p:nvPr/>
                </p:nvSpPr>
                <p:spPr>
                  <a:xfrm rot="8424000">
                    <a:off x="462960" y="1164600"/>
                    <a:ext cx="9000" cy="6840"/>
                  </a:xfrm>
                  <a:prstGeom prst="pie">
                    <a:avLst/>
                  </a:pr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3" name="Freeform 1492"/>
                  <p:cNvSpPr/>
                  <p:nvPr/>
                </p:nvSpPr>
                <p:spPr>
                  <a:xfrm rot="8424000">
                    <a:off x="461880" y="1216080"/>
                    <a:ext cx="10080" cy="9000"/>
                  </a:xfrm>
                  <a:prstGeom prst="pie">
                    <a:avLst/>
                  </a:pr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4" name="Freeform 1493"/>
                  <p:cNvSpPr/>
                  <p:nvPr/>
                </p:nvSpPr>
                <p:spPr>
                  <a:xfrm rot="8424000">
                    <a:off x="484920" y="1084320"/>
                    <a:ext cx="7560" cy="4680"/>
                  </a:xfrm>
                  <a:prstGeom prst="pie">
                    <a:avLst/>
                  </a:pr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95" name="Group 1494"/>
                <p:cNvGrpSpPr/>
                <p:nvPr/>
              </p:nvGrpSpPr>
              <p:grpSpPr>
                <a:xfrm>
                  <a:off x="277560" y="1378080"/>
                  <a:ext cx="43200" cy="38520"/>
                  <a:chOff x="277560" y="1378080"/>
                  <a:chExt cx="43200" cy="38520"/>
                </a:xfrm>
              </p:grpSpPr>
              <p:sp>
                <p:nvSpPr>
                  <p:cNvPr id="1296" name="Freeform 1495"/>
                  <p:cNvSpPr/>
                  <p:nvPr/>
                </p:nvSpPr>
                <p:spPr>
                  <a:xfrm rot="4059600">
                    <a:off x="285480" y="1379160"/>
                    <a:ext cx="26640" cy="36000"/>
                  </a:xfrm>
                  <a:prstGeom prst="pie">
                    <a:avLst/>
                  </a:prstGeom>
                  <a:solidFill>
                    <a:srgbClr val="00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7" name="Freeform 1496"/>
                  <p:cNvSpPr/>
                  <p:nvPr/>
                </p:nvSpPr>
                <p:spPr>
                  <a:xfrm rot="412800">
                    <a:off x="286920" y="1384200"/>
                    <a:ext cx="18000" cy="16560"/>
                  </a:xfrm>
                  <a:prstGeom prst="pie">
                    <a:avLst/>
                  </a:prstGeom>
                  <a:solidFill>
                    <a:srgbClr val="ccff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298" name="Group 1497"/>
            <p:cNvGrpSpPr/>
            <p:nvPr/>
          </p:nvGrpSpPr>
          <p:grpSpPr>
            <a:xfrm>
              <a:off x="630720" y="1104840"/>
              <a:ext cx="452160" cy="330120"/>
              <a:chOff x="630720" y="1104840"/>
              <a:chExt cx="452160" cy="330120"/>
            </a:xfrm>
          </p:grpSpPr>
          <p:grpSp>
            <p:nvGrpSpPr>
              <p:cNvPr id="1299" name="Group 1498"/>
              <p:cNvGrpSpPr/>
              <p:nvPr/>
            </p:nvGrpSpPr>
            <p:grpSpPr>
              <a:xfrm>
                <a:off x="630720" y="1104840"/>
                <a:ext cx="452160" cy="330120"/>
                <a:chOff x="630720" y="1104840"/>
                <a:chExt cx="452160" cy="330120"/>
              </a:xfrm>
            </p:grpSpPr>
            <p:sp>
              <p:nvSpPr>
                <p:cNvPr id="1300" name="Freeform 1499"/>
                <p:cNvSpPr/>
                <p:nvPr/>
              </p:nvSpPr>
              <p:spPr>
                <a:xfrm flipH="1" rot="21294600">
                  <a:off x="740880" y="1118520"/>
                  <a:ext cx="329400" cy="302040"/>
                </a:xfrm>
                <a:prstGeom prst="pie">
                  <a:avLst/>
                </a:prstGeom>
                <a:solidFill>
                  <a:srgbClr val="33cc33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Freeform 1500"/>
                <p:cNvSpPr/>
                <p:nvPr/>
              </p:nvSpPr>
              <p:spPr>
                <a:xfrm flipH="1" rot="21294600">
                  <a:off x="750600" y="1188000"/>
                  <a:ext cx="279720" cy="142920"/>
                </a:xfrm>
                <a:prstGeom prst="pie">
                  <a:avLst/>
                </a:pr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Freeform 1501"/>
                <p:cNvSpPr/>
                <p:nvPr/>
              </p:nvSpPr>
              <p:spPr>
                <a:xfrm flipH="1" rot="21294600">
                  <a:off x="636840" y="1161720"/>
                  <a:ext cx="406800" cy="1785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Freeform 1502"/>
                <p:cNvSpPr/>
                <p:nvPr/>
              </p:nvSpPr>
              <p:spPr>
                <a:xfrm flipH="1" rot="21294600">
                  <a:off x="867960" y="1251360"/>
                  <a:ext cx="132480" cy="169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Freeform 1503"/>
                <p:cNvSpPr/>
                <p:nvPr/>
              </p:nvSpPr>
              <p:spPr>
                <a:xfrm flipH="1" rot="21294600">
                  <a:off x="802440" y="1177920"/>
                  <a:ext cx="171000" cy="658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Freeform 1504"/>
                <p:cNvSpPr/>
                <p:nvPr/>
              </p:nvSpPr>
              <p:spPr>
                <a:xfrm flipH="1" rot="21294600">
                  <a:off x="760320" y="1139040"/>
                  <a:ext cx="188280" cy="871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6" name="Freeform 1505"/>
                <p:cNvSpPr/>
                <p:nvPr/>
              </p:nvSpPr>
              <p:spPr>
                <a:xfrm flipH="1" rot="21294600">
                  <a:off x="934200" y="1278000"/>
                  <a:ext cx="78480" cy="108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Freeform 1506"/>
                <p:cNvSpPr/>
                <p:nvPr/>
              </p:nvSpPr>
              <p:spPr>
                <a:xfrm flipH="1" rot="21294600">
                  <a:off x="990000" y="1301040"/>
                  <a:ext cx="41040" cy="39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Freeform 1507"/>
                <p:cNvSpPr/>
                <p:nvPr/>
              </p:nvSpPr>
              <p:spPr>
                <a:xfrm flipH="1" rot="21294600">
                  <a:off x="982440" y="1302480"/>
                  <a:ext cx="29880" cy="306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9" name="Freeform 1508"/>
                <p:cNvSpPr/>
                <p:nvPr/>
              </p:nvSpPr>
              <p:spPr>
                <a:xfrm flipH="1" rot="21294600">
                  <a:off x="936360" y="1288800"/>
                  <a:ext cx="52200" cy="572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Freeform 1509"/>
                <p:cNvSpPr/>
                <p:nvPr/>
              </p:nvSpPr>
              <p:spPr>
                <a:xfrm flipH="1" rot="21294600">
                  <a:off x="868680" y="1266840"/>
                  <a:ext cx="83520" cy="997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Freeform 1510"/>
                <p:cNvSpPr/>
                <p:nvPr/>
              </p:nvSpPr>
              <p:spPr>
                <a:xfrm flipH="1" rot="21294600">
                  <a:off x="810000" y="1245600"/>
                  <a:ext cx="89640" cy="1461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Freeform 1511"/>
                <p:cNvSpPr/>
                <p:nvPr/>
              </p:nvSpPr>
              <p:spPr>
                <a:xfrm flipH="1" rot="21294600">
                  <a:off x="856080" y="1336680"/>
                  <a:ext cx="10080" cy="586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Freeform 1512"/>
                <p:cNvSpPr/>
                <p:nvPr/>
              </p:nvSpPr>
              <p:spPr>
                <a:xfrm flipH="1" rot="21294600">
                  <a:off x="766080" y="1228680"/>
                  <a:ext cx="62280" cy="1803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Freeform 1513"/>
                <p:cNvSpPr/>
                <p:nvPr/>
              </p:nvSpPr>
              <p:spPr>
                <a:xfrm flipH="1" rot="21294600">
                  <a:off x="835200" y="1301760"/>
                  <a:ext cx="45720" cy="284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Freeform 1514"/>
                <p:cNvSpPr/>
                <p:nvPr/>
              </p:nvSpPr>
              <p:spPr>
                <a:xfrm flipH="1" rot="21294600">
                  <a:off x="912600" y="1324440"/>
                  <a:ext cx="22320" cy="468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Freeform 1515"/>
                <p:cNvSpPr/>
                <p:nvPr/>
              </p:nvSpPr>
              <p:spPr>
                <a:xfrm flipH="1" rot="21294600">
                  <a:off x="927360" y="1253880"/>
                  <a:ext cx="48600" cy="97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Freeform 1516"/>
                <p:cNvSpPr/>
                <p:nvPr/>
              </p:nvSpPr>
              <p:spPr>
                <a:xfrm flipH="1" rot="21294600">
                  <a:off x="948600" y="1232280"/>
                  <a:ext cx="29880" cy="172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8" name="Freeform 1517"/>
                <p:cNvSpPr/>
                <p:nvPr/>
              </p:nvSpPr>
              <p:spPr>
                <a:xfrm flipH="1" rot="21294600">
                  <a:off x="881280" y="1332720"/>
                  <a:ext cx="10080" cy="1116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9" name="Freeform 1518"/>
                <p:cNvSpPr/>
                <p:nvPr/>
              </p:nvSpPr>
              <p:spPr>
                <a:xfrm flipH="1" rot="21294600">
                  <a:off x="931320" y="1220040"/>
                  <a:ext cx="8640" cy="648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0" name="Freeform 1519"/>
                <p:cNvSpPr/>
                <p:nvPr/>
              </p:nvSpPr>
              <p:spPr>
                <a:xfrm flipH="1" rot="21294600">
                  <a:off x="894600" y="1184400"/>
                  <a:ext cx="9720" cy="864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1" name="Freeform 1520"/>
                <p:cNvSpPr/>
                <p:nvPr/>
              </p:nvSpPr>
              <p:spPr>
                <a:xfrm flipH="1" rot="21294600">
                  <a:off x="1001520" y="1261440"/>
                  <a:ext cx="7200" cy="432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2" name="Group 1521"/>
              <p:cNvGrpSpPr/>
              <p:nvPr/>
            </p:nvGrpSpPr>
            <p:grpSpPr>
              <a:xfrm>
                <a:off x="645840" y="1165320"/>
                <a:ext cx="41400" cy="36360"/>
                <a:chOff x="645840" y="1165320"/>
                <a:chExt cx="41400" cy="36360"/>
              </a:xfrm>
            </p:grpSpPr>
            <p:sp>
              <p:nvSpPr>
                <p:cNvPr id="1323" name="Freeform 1522"/>
                <p:cNvSpPr/>
                <p:nvPr/>
              </p:nvSpPr>
              <p:spPr>
                <a:xfrm flipH="1" rot="4059600">
                  <a:off x="653400" y="1166400"/>
                  <a:ext cx="25200" cy="34200"/>
                </a:xfrm>
                <a:prstGeom prst="pie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Freeform 1523"/>
                <p:cNvSpPr/>
                <p:nvPr/>
              </p:nvSpPr>
              <p:spPr>
                <a:xfrm flipH="1" rot="7706400">
                  <a:off x="658440" y="1181160"/>
                  <a:ext cx="17280" cy="15120"/>
                </a:xfrm>
                <a:prstGeom prst="pie">
                  <a:avLst/>
                </a:pr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25" name="Group 1524"/>
            <p:cNvGrpSpPr/>
            <p:nvPr/>
          </p:nvGrpSpPr>
          <p:grpSpPr>
            <a:xfrm>
              <a:off x="529920" y="756000"/>
              <a:ext cx="371520" cy="425880"/>
              <a:chOff x="529920" y="756000"/>
              <a:chExt cx="371520" cy="425880"/>
            </a:xfrm>
          </p:grpSpPr>
          <p:grpSp>
            <p:nvGrpSpPr>
              <p:cNvPr id="1326" name="Group 1525"/>
              <p:cNvGrpSpPr/>
              <p:nvPr/>
            </p:nvGrpSpPr>
            <p:grpSpPr>
              <a:xfrm>
                <a:off x="529920" y="756000"/>
                <a:ext cx="371520" cy="425880"/>
                <a:chOff x="529920" y="756000"/>
                <a:chExt cx="371520" cy="425880"/>
              </a:xfrm>
            </p:grpSpPr>
            <p:sp>
              <p:nvSpPr>
                <p:cNvPr id="1327" name="Freeform 1526"/>
                <p:cNvSpPr/>
                <p:nvPr/>
              </p:nvSpPr>
              <p:spPr>
                <a:xfrm rot="7630800">
                  <a:off x="575640" y="817200"/>
                  <a:ext cx="280080" cy="253800"/>
                </a:xfrm>
                <a:prstGeom prst="pie">
                  <a:avLst/>
                </a:prstGeom>
                <a:solidFill>
                  <a:srgbClr val="33cc33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8" name="Freeform 1527"/>
                <p:cNvSpPr/>
                <p:nvPr/>
              </p:nvSpPr>
              <p:spPr>
                <a:xfrm rot="7630800">
                  <a:off x="596880" y="899280"/>
                  <a:ext cx="237600" cy="119880"/>
                </a:xfrm>
                <a:prstGeom prst="pie">
                  <a:avLst/>
                </a:pr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Freeform 1528"/>
                <p:cNvSpPr/>
                <p:nvPr/>
              </p:nvSpPr>
              <p:spPr>
                <a:xfrm rot="7630800">
                  <a:off x="526680" y="923760"/>
                  <a:ext cx="345960" cy="1497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Freeform 1529"/>
                <p:cNvSpPr/>
                <p:nvPr/>
              </p:nvSpPr>
              <p:spPr>
                <a:xfrm rot="7630800">
                  <a:off x="678960" y="919800"/>
                  <a:ext cx="112680" cy="147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Freeform 1530"/>
                <p:cNvSpPr/>
                <p:nvPr/>
              </p:nvSpPr>
              <p:spPr>
                <a:xfrm rot="7630800">
                  <a:off x="677160" y="954720"/>
                  <a:ext cx="145080" cy="550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Freeform 1531"/>
                <p:cNvSpPr/>
                <p:nvPr/>
              </p:nvSpPr>
              <p:spPr>
                <a:xfrm rot="7630800">
                  <a:off x="673920" y="983520"/>
                  <a:ext cx="160560" cy="730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3" name="Freeform 1532"/>
                <p:cNvSpPr/>
                <p:nvPr/>
              </p:nvSpPr>
              <p:spPr>
                <a:xfrm rot="7630800">
                  <a:off x="703440" y="884880"/>
                  <a:ext cx="66600" cy="93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4" name="Freeform 1533"/>
                <p:cNvSpPr/>
                <p:nvPr/>
              </p:nvSpPr>
              <p:spPr>
                <a:xfrm rot="7630800">
                  <a:off x="721800" y="852120"/>
                  <a:ext cx="34560" cy="32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5" name="Freeform 1534"/>
                <p:cNvSpPr/>
                <p:nvPr/>
              </p:nvSpPr>
              <p:spPr>
                <a:xfrm rot="7630800">
                  <a:off x="710640" y="843840"/>
                  <a:ext cx="25200" cy="255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6" name="Freeform 1535"/>
                <p:cNvSpPr/>
                <p:nvPr/>
              </p:nvSpPr>
              <p:spPr>
                <a:xfrm rot="7630800">
                  <a:off x="685080" y="857880"/>
                  <a:ext cx="44280" cy="478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Freeform 1536"/>
                <p:cNvSpPr/>
                <p:nvPr/>
              </p:nvSpPr>
              <p:spPr>
                <a:xfrm rot="7630800">
                  <a:off x="648720" y="877320"/>
                  <a:ext cx="70920" cy="838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Freeform 1537"/>
                <p:cNvSpPr/>
                <p:nvPr/>
              </p:nvSpPr>
              <p:spPr>
                <a:xfrm rot="7630800">
                  <a:off x="619560" y="897480"/>
                  <a:ext cx="76320" cy="1227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Freeform 1538"/>
                <p:cNvSpPr/>
                <p:nvPr/>
              </p:nvSpPr>
              <p:spPr>
                <a:xfrm rot="7630800">
                  <a:off x="623160" y="908280"/>
                  <a:ext cx="8640" cy="489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0" name="Freeform 1539"/>
                <p:cNvSpPr/>
                <p:nvPr/>
              </p:nvSpPr>
              <p:spPr>
                <a:xfrm rot="7630800">
                  <a:off x="604800" y="924120"/>
                  <a:ext cx="52920" cy="1519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1" name="Freeform 1540"/>
                <p:cNvSpPr/>
                <p:nvPr/>
              </p:nvSpPr>
              <p:spPr>
                <a:xfrm rot="7630800">
                  <a:off x="642240" y="945360"/>
                  <a:ext cx="39240" cy="237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2" name="Freeform 1541"/>
                <p:cNvSpPr/>
                <p:nvPr/>
              </p:nvSpPr>
              <p:spPr>
                <a:xfrm rot="7630800">
                  <a:off x="658440" y="876960"/>
                  <a:ext cx="19080" cy="388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3" name="Freeform 1542"/>
                <p:cNvSpPr/>
                <p:nvPr/>
              </p:nvSpPr>
              <p:spPr>
                <a:xfrm rot="7630800">
                  <a:off x="723240" y="911520"/>
                  <a:ext cx="41400" cy="75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4" name="Freeform 1543"/>
                <p:cNvSpPr/>
                <p:nvPr/>
              </p:nvSpPr>
              <p:spPr>
                <a:xfrm rot="7630800">
                  <a:off x="750240" y="907560"/>
                  <a:ext cx="25200" cy="147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5" name="Freeform 1544"/>
                <p:cNvSpPr/>
                <p:nvPr/>
              </p:nvSpPr>
              <p:spPr>
                <a:xfrm rot="7630800">
                  <a:off x="653400" y="922680"/>
                  <a:ext cx="8640" cy="936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6" name="Freeform 1545"/>
                <p:cNvSpPr/>
                <p:nvPr/>
              </p:nvSpPr>
              <p:spPr>
                <a:xfrm rot="7630800">
                  <a:off x="758520" y="939960"/>
                  <a:ext cx="7200" cy="540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7" name="Freeform 1546"/>
                <p:cNvSpPr/>
                <p:nvPr/>
              </p:nvSpPr>
              <p:spPr>
                <a:xfrm rot="7630800">
                  <a:off x="766080" y="980640"/>
                  <a:ext cx="8280" cy="756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8" name="Freeform 1547"/>
                <p:cNvSpPr/>
                <p:nvPr/>
              </p:nvSpPr>
              <p:spPr>
                <a:xfrm rot="7630800">
                  <a:off x="761400" y="873360"/>
                  <a:ext cx="6120" cy="360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9" name="Group 1548"/>
              <p:cNvGrpSpPr/>
              <p:nvPr/>
            </p:nvGrpSpPr>
            <p:grpSpPr>
              <a:xfrm>
                <a:off x="649800" y="1137240"/>
                <a:ext cx="36000" cy="33840"/>
                <a:chOff x="649800" y="1137240"/>
                <a:chExt cx="36000" cy="33840"/>
              </a:xfrm>
            </p:grpSpPr>
            <p:sp>
              <p:nvSpPr>
                <p:cNvPr id="1350" name="Freeform 1549"/>
                <p:cNvSpPr/>
                <p:nvPr/>
              </p:nvSpPr>
              <p:spPr>
                <a:xfrm rot="3266400">
                  <a:off x="657360" y="1139400"/>
                  <a:ext cx="20520" cy="29520"/>
                </a:xfrm>
                <a:prstGeom prst="pie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Freeform 1550"/>
                <p:cNvSpPr/>
                <p:nvPr/>
              </p:nvSpPr>
              <p:spPr>
                <a:xfrm rot="21219600">
                  <a:off x="657000" y="1144440"/>
                  <a:ext cx="14760" cy="12240"/>
                </a:xfrm>
                <a:prstGeom prst="pie">
                  <a:avLst/>
                </a:pr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52" name="Group 1551"/>
            <p:cNvGrpSpPr/>
            <p:nvPr/>
          </p:nvGrpSpPr>
          <p:grpSpPr>
            <a:xfrm>
              <a:off x="890280" y="915840"/>
              <a:ext cx="408960" cy="349200"/>
              <a:chOff x="890280" y="915840"/>
              <a:chExt cx="408960" cy="349200"/>
            </a:xfrm>
          </p:grpSpPr>
          <p:grpSp>
            <p:nvGrpSpPr>
              <p:cNvPr id="1353" name="Group 1552"/>
              <p:cNvGrpSpPr/>
              <p:nvPr/>
            </p:nvGrpSpPr>
            <p:grpSpPr>
              <a:xfrm>
                <a:off x="890280" y="915840"/>
                <a:ext cx="408960" cy="349200"/>
                <a:chOff x="890280" y="915840"/>
                <a:chExt cx="408960" cy="349200"/>
              </a:xfrm>
            </p:grpSpPr>
            <p:sp>
              <p:nvSpPr>
                <p:cNvPr id="1354" name="Freeform 1553"/>
                <p:cNvSpPr/>
                <p:nvPr/>
              </p:nvSpPr>
              <p:spPr>
                <a:xfrm rot="12159000">
                  <a:off x="992880" y="956520"/>
                  <a:ext cx="264960" cy="267840"/>
                </a:xfrm>
                <a:prstGeom prst="pie">
                  <a:avLst/>
                </a:prstGeom>
                <a:solidFill>
                  <a:srgbClr val="33cc33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Freeform 1554"/>
                <p:cNvSpPr/>
                <p:nvPr/>
              </p:nvSpPr>
              <p:spPr>
                <a:xfrm rot="12159000">
                  <a:off x="999360" y="1032120"/>
                  <a:ext cx="225000" cy="126720"/>
                </a:xfrm>
                <a:prstGeom prst="pie">
                  <a:avLst/>
                </a:pr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Freeform 1555"/>
                <p:cNvSpPr/>
                <p:nvPr/>
              </p:nvSpPr>
              <p:spPr>
                <a:xfrm rot="12159000">
                  <a:off x="907920" y="1011960"/>
                  <a:ext cx="327240" cy="1576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7" name="Freeform 1556"/>
                <p:cNvSpPr/>
                <p:nvPr/>
              </p:nvSpPr>
              <p:spPr>
                <a:xfrm rot="12159000">
                  <a:off x="1092600" y="1097640"/>
                  <a:ext cx="106560" cy="154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8" name="Freeform 1557"/>
                <p:cNvSpPr/>
                <p:nvPr/>
              </p:nvSpPr>
              <p:spPr>
                <a:xfrm rot="12159000">
                  <a:off x="1028160" y="1107000"/>
                  <a:ext cx="137520" cy="579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9" name="Freeform 1558"/>
                <p:cNvSpPr/>
                <p:nvPr/>
              </p:nvSpPr>
              <p:spPr>
                <a:xfrm rot="12159000">
                  <a:off x="987480" y="1113480"/>
                  <a:ext cx="151560" cy="766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Freeform 1559"/>
                <p:cNvSpPr/>
                <p:nvPr/>
              </p:nvSpPr>
              <p:spPr>
                <a:xfrm rot="12159000">
                  <a:off x="1150560" y="1089360"/>
                  <a:ext cx="63000" cy="97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1" name="Freeform 1560"/>
                <p:cNvSpPr/>
                <p:nvPr/>
              </p:nvSpPr>
              <p:spPr>
                <a:xfrm rot="12159000">
                  <a:off x="1200600" y="1085400"/>
                  <a:ext cx="32760" cy="36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2" name="Freeform 1561"/>
                <p:cNvSpPr/>
                <p:nvPr/>
              </p:nvSpPr>
              <p:spPr>
                <a:xfrm rot="12159000">
                  <a:off x="1198080" y="1058400"/>
                  <a:ext cx="23760" cy="270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3" name="Freeform 1562"/>
                <p:cNvSpPr/>
                <p:nvPr/>
              </p:nvSpPr>
              <p:spPr>
                <a:xfrm rot="12159000">
                  <a:off x="1161720" y="1037880"/>
                  <a:ext cx="42120" cy="507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4" name="Freeform 1563"/>
                <p:cNvSpPr/>
                <p:nvPr/>
              </p:nvSpPr>
              <p:spPr>
                <a:xfrm rot="12159000">
                  <a:off x="1109520" y="1007640"/>
                  <a:ext cx="66960" cy="885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Freeform 1564"/>
                <p:cNvSpPr/>
                <p:nvPr/>
              </p:nvSpPr>
              <p:spPr>
                <a:xfrm rot="12159000">
                  <a:off x="1064880" y="972360"/>
                  <a:ext cx="71640" cy="1296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6" name="Freeform 1565"/>
                <p:cNvSpPr/>
                <p:nvPr/>
              </p:nvSpPr>
              <p:spPr>
                <a:xfrm rot="12159000">
                  <a:off x="1114920" y="973440"/>
                  <a:ext cx="8280" cy="518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7" name="Freeform 1566"/>
                <p:cNvSpPr/>
                <p:nvPr/>
              </p:nvSpPr>
              <p:spPr>
                <a:xfrm rot="12159000">
                  <a:off x="1031400" y="943560"/>
                  <a:ext cx="50040" cy="1598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8" name="Freeform 1567"/>
                <p:cNvSpPr/>
                <p:nvPr/>
              </p:nvSpPr>
              <p:spPr>
                <a:xfrm rot="12159000">
                  <a:off x="1083960" y="1028160"/>
                  <a:ext cx="37080" cy="252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9" name="Freeform 1568"/>
                <p:cNvSpPr/>
                <p:nvPr/>
              </p:nvSpPr>
              <p:spPr>
                <a:xfrm rot="12159000">
                  <a:off x="1152720" y="1008720"/>
                  <a:ext cx="17640" cy="410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0" name="Freeform 1569"/>
                <p:cNvSpPr/>
                <p:nvPr/>
              </p:nvSpPr>
              <p:spPr>
                <a:xfrm rot="12159000">
                  <a:off x="1140120" y="1105920"/>
                  <a:ext cx="38520" cy="86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Freeform 1570"/>
                <p:cNvSpPr/>
                <p:nvPr/>
              </p:nvSpPr>
              <p:spPr>
                <a:xfrm rot="12159000">
                  <a:off x="1151280" y="1120680"/>
                  <a:ext cx="23760" cy="151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Freeform 1571"/>
                <p:cNvSpPr/>
                <p:nvPr/>
              </p:nvSpPr>
              <p:spPr>
                <a:xfrm rot="12159000">
                  <a:off x="1126440" y="1022400"/>
                  <a:ext cx="8280" cy="1008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3" name="Freeform 1572"/>
                <p:cNvSpPr/>
                <p:nvPr/>
              </p:nvSpPr>
              <p:spPr>
                <a:xfrm rot="12159000">
                  <a:off x="1133640" y="1134000"/>
                  <a:ext cx="6480" cy="576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4" name="Freeform 1573"/>
                <p:cNvSpPr/>
                <p:nvPr/>
              </p:nvSpPr>
              <p:spPr>
                <a:xfrm rot="12159000">
                  <a:off x="1095120" y="1153080"/>
                  <a:ext cx="8280" cy="792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5" name="Freeform 1574"/>
                <p:cNvSpPr/>
                <p:nvPr/>
              </p:nvSpPr>
              <p:spPr>
                <a:xfrm rot="12159000">
                  <a:off x="1198800" y="1116720"/>
                  <a:ext cx="5760" cy="396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6" name="Group 1575"/>
              <p:cNvGrpSpPr/>
              <p:nvPr/>
            </p:nvGrpSpPr>
            <p:grpSpPr>
              <a:xfrm>
                <a:off x="896040" y="1090800"/>
                <a:ext cx="35640" cy="34920"/>
                <a:chOff x="896040" y="1090800"/>
                <a:chExt cx="35640" cy="34920"/>
              </a:xfrm>
            </p:grpSpPr>
            <p:sp>
              <p:nvSpPr>
                <p:cNvPr id="1377" name="Freeform 1576"/>
                <p:cNvSpPr/>
                <p:nvPr/>
              </p:nvSpPr>
              <p:spPr>
                <a:xfrm rot="7794000">
                  <a:off x="902520" y="1094040"/>
                  <a:ext cx="22320" cy="27720"/>
                </a:xfrm>
                <a:prstGeom prst="pie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Freeform 1577"/>
                <p:cNvSpPr/>
                <p:nvPr/>
              </p:nvSpPr>
              <p:spPr>
                <a:xfrm rot="4147200">
                  <a:off x="909000" y="1097640"/>
                  <a:ext cx="14040" cy="13320"/>
                </a:xfrm>
                <a:prstGeom prst="pie">
                  <a:avLst/>
                </a:pr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79" name="Group 1771"/>
          <p:cNvGrpSpPr/>
          <p:nvPr/>
        </p:nvGrpSpPr>
        <p:grpSpPr>
          <a:xfrm>
            <a:off x="-428760" y="359640"/>
            <a:ext cx="2054880" cy="1433520"/>
            <a:chOff x="-428760" y="359640"/>
            <a:chExt cx="2054880" cy="1433520"/>
          </a:xfrm>
        </p:grpSpPr>
        <p:sp>
          <p:nvSpPr>
            <p:cNvPr id="1380" name="Freeform 1772"/>
            <p:cNvSpPr/>
            <p:nvPr/>
          </p:nvSpPr>
          <p:spPr>
            <a:xfrm flipH="1" rot="7023600">
              <a:off x="532440" y="395280"/>
              <a:ext cx="275040" cy="1500120"/>
            </a:xfrm>
            <a:prstGeom prst="pi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Freeform 1773"/>
            <p:cNvSpPr/>
            <p:nvPr/>
          </p:nvSpPr>
          <p:spPr>
            <a:xfrm flipH="1" rot="7023600">
              <a:off x="-38880" y="897120"/>
              <a:ext cx="30240" cy="58320"/>
            </a:xfrm>
            <a:prstGeom prst="pi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2" name="Group 1774"/>
            <p:cNvGrpSpPr/>
            <p:nvPr/>
          </p:nvGrpSpPr>
          <p:grpSpPr>
            <a:xfrm>
              <a:off x="-428760" y="865440"/>
              <a:ext cx="639360" cy="651600"/>
              <a:chOff x="-428760" y="865440"/>
              <a:chExt cx="639360" cy="651600"/>
            </a:xfrm>
          </p:grpSpPr>
          <p:grpSp>
            <p:nvGrpSpPr>
              <p:cNvPr id="1383" name="Group 1775"/>
              <p:cNvGrpSpPr/>
              <p:nvPr/>
            </p:nvGrpSpPr>
            <p:grpSpPr>
              <a:xfrm>
                <a:off x="-428760" y="865440"/>
                <a:ext cx="627480" cy="651600"/>
                <a:chOff x="-428760" y="865440"/>
                <a:chExt cx="627480" cy="651600"/>
              </a:xfrm>
            </p:grpSpPr>
            <p:sp>
              <p:nvSpPr>
                <p:cNvPr id="1384" name="Freeform 1776"/>
                <p:cNvSpPr/>
                <p:nvPr/>
              </p:nvSpPr>
              <p:spPr>
                <a:xfrm flipH="1" rot="6883200">
                  <a:off x="-327600" y="972720"/>
                  <a:ext cx="424800" cy="495360"/>
                </a:xfrm>
                <a:prstGeom prst="pie">
                  <a:avLst/>
                </a:prstGeom>
                <a:solidFill>
                  <a:srgbClr val="33cc33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5" name="Freeform 1777"/>
                <p:cNvSpPr/>
                <p:nvPr/>
              </p:nvSpPr>
              <p:spPr>
                <a:xfrm flipH="1" rot="6883200">
                  <a:off x="-272160" y="1094760"/>
                  <a:ext cx="360360" cy="235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6" name="Freeform 1778"/>
                <p:cNvSpPr/>
                <p:nvPr/>
              </p:nvSpPr>
              <p:spPr>
                <a:xfrm flipH="1" rot="6883200">
                  <a:off x="-306720" y="1018080"/>
                  <a:ext cx="524160" cy="2930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Freeform 1779"/>
                <p:cNvSpPr/>
                <p:nvPr/>
              </p:nvSpPr>
              <p:spPr>
                <a:xfrm flipH="1" rot="6883200">
                  <a:off x="-206640" y="1245960"/>
                  <a:ext cx="170640" cy="284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8" name="Freeform 1780"/>
                <p:cNvSpPr/>
                <p:nvPr/>
              </p:nvSpPr>
              <p:spPr>
                <a:xfrm flipH="1" rot="6883200">
                  <a:off x="-129600" y="1193040"/>
                  <a:ext cx="220320" cy="1087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9" name="Freeform 1781"/>
                <p:cNvSpPr/>
                <p:nvPr/>
              </p:nvSpPr>
              <p:spPr>
                <a:xfrm flipH="1" rot="6883200">
                  <a:off x="-77760" y="1161720"/>
                  <a:ext cx="243000" cy="1425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0" name="Freeform 1782"/>
                <p:cNvSpPr/>
                <p:nvPr/>
              </p:nvSpPr>
              <p:spPr>
                <a:xfrm flipH="1" rot="6883200">
                  <a:off x="-230760" y="1275120"/>
                  <a:ext cx="101160" cy="183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1" name="Freeform 1783"/>
                <p:cNvSpPr/>
                <p:nvPr/>
              </p:nvSpPr>
              <p:spPr>
                <a:xfrm flipH="1" rot="6883200">
                  <a:off x="-260280" y="1307160"/>
                  <a:ext cx="52920" cy="64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2" name="Freeform 1784"/>
                <p:cNvSpPr/>
                <p:nvPr/>
              </p:nvSpPr>
              <p:spPr>
                <a:xfrm flipH="1" rot="6883200">
                  <a:off x="-265320" y="1259280"/>
                  <a:ext cx="38520" cy="504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3" name="Freeform 1785"/>
                <p:cNvSpPr/>
                <p:nvPr/>
              </p:nvSpPr>
              <p:spPr>
                <a:xfrm flipH="1" rot="6883200">
                  <a:off x="-255600" y="1198800"/>
                  <a:ext cx="67320" cy="943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Freeform 1786"/>
                <p:cNvSpPr/>
                <p:nvPr/>
              </p:nvSpPr>
              <p:spPr>
                <a:xfrm flipH="1" rot="6883200">
                  <a:off x="-241200" y="1106280"/>
                  <a:ext cx="107640" cy="1645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5" name="Freeform 1787"/>
                <p:cNvSpPr/>
                <p:nvPr/>
              </p:nvSpPr>
              <p:spPr>
                <a:xfrm flipH="1" rot="6883200">
                  <a:off x="-209880" y="1005840"/>
                  <a:ext cx="115560" cy="2401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6" name="Freeform 1788"/>
                <p:cNvSpPr/>
                <p:nvPr/>
              </p:nvSpPr>
              <p:spPr>
                <a:xfrm flipH="1" rot="6883200">
                  <a:off x="-231120" y="1048680"/>
                  <a:ext cx="12960" cy="957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7" name="Freeform 1789"/>
                <p:cNvSpPr/>
                <p:nvPr/>
              </p:nvSpPr>
              <p:spPr>
                <a:xfrm flipH="1" rot="6883200">
                  <a:off x="-154080" y="913320"/>
                  <a:ext cx="80640" cy="2966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8" name="Freeform 1790"/>
                <p:cNvSpPr/>
                <p:nvPr/>
              </p:nvSpPr>
              <p:spPr>
                <a:xfrm flipH="1" rot="6883200">
                  <a:off x="-179640" y="1109520"/>
                  <a:ext cx="59400" cy="464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9" name="Freeform 1791"/>
                <p:cNvSpPr/>
                <p:nvPr/>
              </p:nvSpPr>
              <p:spPr>
                <a:xfrm flipH="1" rot="6883200">
                  <a:off x="-253800" y="1141560"/>
                  <a:ext cx="29160" cy="759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0" name="Freeform 1792"/>
                <p:cNvSpPr/>
                <p:nvPr/>
              </p:nvSpPr>
              <p:spPr>
                <a:xfrm flipH="1" rot="6883200">
                  <a:off x="-162720" y="1271880"/>
                  <a:ext cx="62640" cy="162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1" name="Freeform 1793"/>
                <p:cNvSpPr/>
                <p:nvPr/>
              </p:nvSpPr>
              <p:spPr>
                <a:xfrm flipH="1" rot="6883200">
                  <a:off x="-132840" y="1293840"/>
                  <a:ext cx="38520" cy="284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Freeform 1794"/>
                <p:cNvSpPr/>
                <p:nvPr/>
              </p:nvSpPr>
              <p:spPr>
                <a:xfrm flipH="1" rot="6883200">
                  <a:off x="-208440" y="1136160"/>
                  <a:ext cx="12960" cy="1836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3" name="Freeform 1795"/>
                <p:cNvSpPr/>
                <p:nvPr/>
              </p:nvSpPr>
              <p:spPr>
                <a:xfrm flipH="1" rot="6883200">
                  <a:off x="-74880" y="1284480"/>
                  <a:ext cx="11160" cy="1080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4" name="Freeform 1796"/>
                <p:cNvSpPr/>
                <p:nvPr/>
              </p:nvSpPr>
              <p:spPr>
                <a:xfrm flipH="1" rot="6883200">
                  <a:off x="-2160" y="1270440"/>
                  <a:ext cx="12600" cy="1404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Freeform 1797"/>
                <p:cNvSpPr/>
                <p:nvPr/>
              </p:nvSpPr>
              <p:spPr>
                <a:xfrm flipH="1" rot="6883200">
                  <a:off x="-179280" y="1332360"/>
                  <a:ext cx="9360" cy="720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6" name="Group 1798"/>
              <p:cNvGrpSpPr/>
              <p:nvPr/>
            </p:nvGrpSpPr>
            <p:grpSpPr>
              <a:xfrm>
                <a:off x="163800" y="990000"/>
                <a:ext cx="46800" cy="49680"/>
                <a:chOff x="163800" y="990000"/>
                <a:chExt cx="46800" cy="49680"/>
              </a:xfrm>
            </p:grpSpPr>
            <p:sp>
              <p:nvSpPr>
                <p:cNvPr id="1407" name="Freeform 1799"/>
                <p:cNvSpPr/>
                <p:nvPr/>
              </p:nvSpPr>
              <p:spPr>
                <a:xfrm flipH="1" rot="11248200">
                  <a:off x="166320" y="992520"/>
                  <a:ext cx="41040" cy="44640"/>
                </a:xfrm>
                <a:prstGeom prst="pie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Freeform 1800"/>
                <p:cNvSpPr/>
                <p:nvPr/>
              </p:nvSpPr>
              <p:spPr>
                <a:xfrm flipH="1" rot="14895000">
                  <a:off x="167760" y="999720"/>
                  <a:ext cx="22320" cy="24840"/>
                </a:xfrm>
                <a:prstGeom prst="pie">
                  <a:avLst/>
                </a:pr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09" name="Group 1801"/>
            <p:cNvGrpSpPr/>
            <p:nvPr/>
          </p:nvGrpSpPr>
          <p:grpSpPr>
            <a:xfrm>
              <a:off x="38520" y="973440"/>
              <a:ext cx="691560" cy="676080"/>
              <a:chOff x="38520" y="973440"/>
              <a:chExt cx="691560" cy="676080"/>
            </a:xfrm>
          </p:grpSpPr>
          <p:grpSp>
            <p:nvGrpSpPr>
              <p:cNvPr id="1410" name="Group 1802"/>
              <p:cNvGrpSpPr/>
              <p:nvPr/>
            </p:nvGrpSpPr>
            <p:grpSpPr>
              <a:xfrm>
                <a:off x="38520" y="973440"/>
                <a:ext cx="691560" cy="676080"/>
                <a:chOff x="38520" y="973440"/>
                <a:chExt cx="691560" cy="676080"/>
              </a:xfrm>
            </p:grpSpPr>
            <p:sp>
              <p:nvSpPr>
                <p:cNvPr id="1411" name="Freeform 1803"/>
                <p:cNvSpPr/>
                <p:nvPr/>
              </p:nvSpPr>
              <p:spPr>
                <a:xfrm flipH="1" rot="2120400">
                  <a:off x="168120" y="1110960"/>
                  <a:ext cx="477720" cy="440640"/>
                </a:xfrm>
                <a:prstGeom prst="pie">
                  <a:avLst/>
                </a:prstGeom>
                <a:solidFill>
                  <a:srgbClr val="33cc33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2" name="Freeform 1804"/>
                <p:cNvSpPr/>
                <p:nvPr/>
              </p:nvSpPr>
              <p:spPr>
                <a:xfrm flipH="1" rot="2120400">
                  <a:off x="198360" y="1202400"/>
                  <a:ext cx="405360" cy="208800"/>
                </a:xfrm>
                <a:prstGeom prst="pie">
                  <a:avLst/>
                </a:pr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3" name="Freeform 1805"/>
                <p:cNvSpPr/>
                <p:nvPr/>
              </p:nvSpPr>
              <p:spPr>
                <a:xfrm flipH="1" rot="2120400">
                  <a:off x="59040" y="1119960"/>
                  <a:ext cx="590400" cy="2606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Freeform 1806"/>
                <p:cNvSpPr/>
                <p:nvPr/>
              </p:nvSpPr>
              <p:spPr>
                <a:xfrm flipH="1" rot="2120400">
                  <a:off x="352440" y="1335960"/>
                  <a:ext cx="191880" cy="252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5" name="Freeform 1807"/>
                <p:cNvSpPr/>
                <p:nvPr/>
              </p:nvSpPr>
              <p:spPr>
                <a:xfrm flipH="1" rot="2120400">
                  <a:off x="320040" y="1202400"/>
                  <a:ext cx="247680" cy="964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Freeform 1808"/>
                <p:cNvSpPr/>
                <p:nvPr/>
              </p:nvSpPr>
              <p:spPr>
                <a:xfrm flipH="1" rot="2120400">
                  <a:off x="297000" y="1123200"/>
                  <a:ext cx="273240" cy="1270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7" name="Freeform 1809"/>
                <p:cNvSpPr/>
                <p:nvPr/>
              </p:nvSpPr>
              <p:spPr>
                <a:xfrm flipH="1" rot="2120400">
                  <a:off x="411840" y="1402200"/>
                  <a:ext cx="114120" cy="158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8" name="Freeform 1810"/>
                <p:cNvSpPr/>
                <p:nvPr/>
              </p:nvSpPr>
              <p:spPr>
                <a:xfrm flipH="1" rot="2120400">
                  <a:off x="461880" y="1465200"/>
                  <a:ext cx="59400" cy="57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Freeform 1811"/>
                <p:cNvSpPr/>
                <p:nvPr/>
              </p:nvSpPr>
              <p:spPr>
                <a:xfrm flipH="1" rot="2120400">
                  <a:off x="441720" y="1450080"/>
                  <a:ext cx="43200" cy="446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0" name="Freeform 1812"/>
                <p:cNvSpPr/>
                <p:nvPr/>
              </p:nvSpPr>
              <p:spPr>
                <a:xfrm flipH="1" rot="2120400">
                  <a:off x="386280" y="1396440"/>
                  <a:ext cx="75960" cy="838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1" name="Freeform 1813"/>
                <p:cNvSpPr/>
                <p:nvPr/>
              </p:nvSpPr>
              <p:spPr>
                <a:xfrm flipH="1" rot="2120400">
                  <a:off x="307080" y="1316160"/>
                  <a:ext cx="120960" cy="1461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2" name="Freeform 1814"/>
                <p:cNvSpPr/>
                <p:nvPr/>
              </p:nvSpPr>
              <p:spPr>
                <a:xfrm flipH="1" rot="2120400">
                  <a:off x="240120" y="1231560"/>
                  <a:ext cx="129960" cy="2134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3" name="Freeform 1815"/>
                <p:cNvSpPr/>
                <p:nvPr/>
              </p:nvSpPr>
              <p:spPr>
                <a:xfrm flipH="1" rot="2120400">
                  <a:off x="259920" y="1354320"/>
                  <a:ext cx="14760" cy="856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4" name="Freeform 1816"/>
                <p:cNvSpPr/>
                <p:nvPr/>
              </p:nvSpPr>
              <p:spPr>
                <a:xfrm flipH="1" rot="2120400">
                  <a:off x="195120" y="1152720"/>
                  <a:ext cx="90720" cy="2635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5" name="Freeform 1817"/>
                <p:cNvSpPr/>
                <p:nvPr/>
              </p:nvSpPr>
              <p:spPr>
                <a:xfrm flipH="1" rot="2120400">
                  <a:off x="279360" y="1318320"/>
                  <a:ext cx="66600" cy="414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6" name="Freeform 1818"/>
                <p:cNvSpPr/>
                <p:nvPr/>
              </p:nvSpPr>
              <p:spPr>
                <a:xfrm flipH="1" rot="2120400">
                  <a:off x="337320" y="1400760"/>
                  <a:ext cx="32760" cy="680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7" name="Freeform 1819"/>
                <p:cNvSpPr/>
                <p:nvPr/>
              </p:nvSpPr>
              <p:spPr>
                <a:xfrm flipH="1" rot="2120400">
                  <a:off x="433080" y="1356480"/>
                  <a:ext cx="70560" cy="140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8" name="Freeform 1820"/>
                <p:cNvSpPr/>
                <p:nvPr/>
              </p:nvSpPr>
              <p:spPr>
                <a:xfrm flipH="1" rot="2120400">
                  <a:off x="478080" y="1342800"/>
                  <a:ext cx="43200" cy="252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9" name="Freeform 1821"/>
                <p:cNvSpPr/>
                <p:nvPr/>
              </p:nvSpPr>
              <p:spPr>
                <a:xfrm flipH="1" rot="2120400">
                  <a:off x="313920" y="1382400"/>
                  <a:ext cx="14760" cy="1620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0" name="Freeform 1822"/>
                <p:cNvSpPr/>
                <p:nvPr/>
              </p:nvSpPr>
              <p:spPr>
                <a:xfrm flipH="1" rot="2120400">
                  <a:off x="478440" y="1304280"/>
                  <a:ext cx="12600" cy="972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1" name="Freeform 1823"/>
                <p:cNvSpPr/>
                <p:nvPr/>
              </p:nvSpPr>
              <p:spPr>
                <a:xfrm flipH="1" rot="2120400">
                  <a:off x="470520" y="1230480"/>
                  <a:ext cx="14040" cy="1260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2" name="Freeform 1824"/>
                <p:cNvSpPr/>
                <p:nvPr/>
              </p:nvSpPr>
              <p:spPr>
                <a:xfrm flipH="1" rot="2120400">
                  <a:off x="518040" y="1416240"/>
                  <a:ext cx="10440" cy="648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3" name="Group 1825"/>
              <p:cNvGrpSpPr/>
              <p:nvPr/>
            </p:nvGrpSpPr>
            <p:grpSpPr>
              <a:xfrm>
                <a:off x="195120" y="985680"/>
                <a:ext cx="59040" cy="50760"/>
                <a:chOff x="195120" y="985680"/>
                <a:chExt cx="59040" cy="50760"/>
              </a:xfrm>
            </p:grpSpPr>
            <p:sp>
              <p:nvSpPr>
                <p:cNvPr id="1434" name="Freeform 1826"/>
                <p:cNvSpPr/>
                <p:nvPr/>
              </p:nvSpPr>
              <p:spPr>
                <a:xfrm flipH="1" rot="6484800">
                  <a:off x="206280" y="986040"/>
                  <a:ext cx="36720" cy="50040"/>
                </a:xfrm>
                <a:prstGeom prst="pie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5" name="Freeform 1827"/>
                <p:cNvSpPr/>
                <p:nvPr/>
              </p:nvSpPr>
              <p:spPr>
                <a:xfrm flipH="1" rot="10131600">
                  <a:off x="208440" y="1006200"/>
                  <a:ext cx="24840" cy="22320"/>
                </a:xfrm>
                <a:prstGeom prst="pie">
                  <a:avLst/>
                </a:pr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6" name="Group 1828"/>
            <p:cNvGrpSpPr/>
            <p:nvPr/>
          </p:nvGrpSpPr>
          <p:grpSpPr>
            <a:xfrm>
              <a:off x="86040" y="359640"/>
              <a:ext cx="926640" cy="819360"/>
              <a:chOff x="86040" y="359640"/>
              <a:chExt cx="926640" cy="819360"/>
            </a:xfrm>
          </p:grpSpPr>
          <p:grpSp>
            <p:nvGrpSpPr>
              <p:cNvPr id="1437" name="Group 1829"/>
              <p:cNvGrpSpPr/>
              <p:nvPr/>
            </p:nvGrpSpPr>
            <p:grpSpPr>
              <a:xfrm>
                <a:off x="86040" y="359640"/>
                <a:ext cx="588600" cy="646200"/>
                <a:chOff x="86040" y="359640"/>
                <a:chExt cx="588600" cy="646200"/>
              </a:xfrm>
            </p:grpSpPr>
            <p:grpSp>
              <p:nvGrpSpPr>
                <p:cNvPr id="1438" name="Group 1830"/>
                <p:cNvGrpSpPr/>
                <p:nvPr/>
              </p:nvGrpSpPr>
              <p:grpSpPr>
                <a:xfrm>
                  <a:off x="86040" y="359640"/>
                  <a:ext cx="588600" cy="640080"/>
                  <a:chOff x="86040" y="359640"/>
                  <a:chExt cx="588600" cy="640080"/>
                </a:xfrm>
              </p:grpSpPr>
              <p:sp>
                <p:nvSpPr>
                  <p:cNvPr id="1439" name="Freeform 1831"/>
                  <p:cNvSpPr/>
                  <p:nvPr/>
                </p:nvSpPr>
                <p:spPr>
                  <a:xfrm rot="7164000">
                    <a:off x="185040" y="413280"/>
                    <a:ext cx="390240" cy="455760"/>
                  </a:xfrm>
                  <a:prstGeom prst="pie">
                    <a:avLst/>
                  </a:prstGeom>
                  <a:solidFill>
                    <a:srgbClr val="33cc33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0" name="Freeform 1832"/>
                  <p:cNvSpPr/>
                  <p:nvPr/>
                </p:nvSpPr>
                <p:spPr>
                  <a:xfrm rot="7164000">
                    <a:off x="221040" y="555480"/>
                    <a:ext cx="330840" cy="21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9900"/>
                      </a:gs>
                      <a:gs pos="100000">
                        <a:srgbClr val="43b44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1" name="Freeform 1833"/>
                  <p:cNvSpPr/>
                  <p:nvPr/>
                </p:nvSpPr>
                <p:spPr>
                  <a:xfrm rot="7164000">
                    <a:off x="134640" y="588240"/>
                    <a:ext cx="481680" cy="27000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2" name="Freeform 1834"/>
                  <p:cNvSpPr/>
                  <p:nvPr/>
                </p:nvSpPr>
                <p:spPr>
                  <a:xfrm rot="7164000">
                    <a:off x="327600" y="602280"/>
                    <a:ext cx="156600" cy="2628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3" name="Freeform 1835"/>
                  <p:cNvSpPr/>
                  <p:nvPr/>
                </p:nvSpPr>
                <p:spPr>
                  <a:xfrm rot="7164000">
                    <a:off x="350280" y="647640"/>
                    <a:ext cx="202320" cy="9972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4" name="Freeform 1836"/>
                  <p:cNvSpPr/>
                  <p:nvPr/>
                </p:nvSpPr>
                <p:spPr>
                  <a:xfrm rot="7164000">
                    <a:off x="362880" y="687960"/>
                    <a:ext cx="223200" cy="13140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5" name="Freeform 1837"/>
                  <p:cNvSpPr/>
                  <p:nvPr/>
                </p:nvSpPr>
                <p:spPr>
                  <a:xfrm rot="7164000">
                    <a:off x="345960" y="550800"/>
                    <a:ext cx="92880" cy="1656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6" name="Freeform 1838"/>
                  <p:cNvSpPr/>
                  <p:nvPr/>
                </p:nvSpPr>
                <p:spPr>
                  <a:xfrm rot="7164000">
                    <a:off x="359280" y="501480"/>
                    <a:ext cx="48240" cy="612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7" name="Freeform 1839"/>
                  <p:cNvSpPr/>
                  <p:nvPr/>
                </p:nvSpPr>
                <p:spPr>
                  <a:xfrm rot="7164000">
                    <a:off x="339840" y="486720"/>
                    <a:ext cx="35280" cy="4608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8" name="Freeform 1840"/>
                  <p:cNvSpPr/>
                  <p:nvPr/>
                </p:nvSpPr>
                <p:spPr>
                  <a:xfrm rot="7164000">
                    <a:off x="309600" y="504720"/>
                    <a:ext cx="61920" cy="8676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9" name="Freeform 1841"/>
                  <p:cNvSpPr/>
                  <p:nvPr/>
                </p:nvSpPr>
                <p:spPr>
                  <a:xfrm rot="7164000">
                    <a:off x="268200" y="529920"/>
                    <a:ext cx="98640" cy="15120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0" name="Freeform 1842"/>
                  <p:cNvSpPr/>
                  <p:nvPr/>
                </p:nvSpPr>
                <p:spPr>
                  <a:xfrm rot="7164000">
                    <a:off x="236520" y="554400"/>
                    <a:ext cx="106200" cy="22104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1" name="Freeform 1843"/>
                  <p:cNvSpPr/>
                  <p:nvPr/>
                </p:nvSpPr>
                <p:spPr>
                  <a:xfrm rot="7164000">
                    <a:off x="222480" y="583920"/>
                    <a:ext cx="11880" cy="8784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2" name="Freeform 1844"/>
                  <p:cNvSpPr/>
                  <p:nvPr/>
                </p:nvSpPr>
                <p:spPr>
                  <a:xfrm rot="7164000">
                    <a:off x="225360" y="591480"/>
                    <a:ext cx="74160" cy="27288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3" name="Freeform 1845"/>
                  <p:cNvSpPr/>
                  <p:nvPr/>
                </p:nvSpPr>
                <p:spPr>
                  <a:xfrm rot="7164000">
                    <a:off x="268200" y="641520"/>
                    <a:ext cx="54360" cy="4284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4" name="Freeform 1846"/>
                  <p:cNvSpPr/>
                  <p:nvPr/>
                </p:nvSpPr>
                <p:spPr>
                  <a:xfrm rot="7164000">
                    <a:off x="269280" y="536400"/>
                    <a:ext cx="26280" cy="6984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5" name="Freeform 1847"/>
                  <p:cNvSpPr/>
                  <p:nvPr/>
                </p:nvSpPr>
                <p:spPr>
                  <a:xfrm rot="7164000">
                    <a:off x="387000" y="590400"/>
                    <a:ext cx="57600" cy="1440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6" name="Freeform 1848"/>
                  <p:cNvSpPr/>
                  <p:nvPr/>
                </p:nvSpPr>
                <p:spPr>
                  <a:xfrm rot="7164000">
                    <a:off x="428760" y="582840"/>
                    <a:ext cx="35280" cy="2628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7" name="Freeform 1849"/>
                  <p:cNvSpPr/>
                  <p:nvPr/>
                </p:nvSpPr>
                <p:spPr>
                  <a:xfrm rot="7164000">
                    <a:off x="271440" y="609120"/>
                    <a:ext cx="11880" cy="16920"/>
                  </a:xfrm>
                  <a:prstGeom prst="pie">
                    <a:avLst/>
                  </a:pr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8" name="Freeform 1850"/>
                  <p:cNvSpPr/>
                  <p:nvPr/>
                </p:nvSpPr>
                <p:spPr>
                  <a:xfrm rot="7164000">
                    <a:off x="451440" y="632880"/>
                    <a:ext cx="10080" cy="10440"/>
                  </a:xfrm>
                  <a:prstGeom prst="pie">
                    <a:avLst/>
                  </a:pr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9" name="Freeform 1851"/>
                  <p:cNvSpPr/>
                  <p:nvPr/>
                </p:nvSpPr>
                <p:spPr>
                  <a:xfrm rot="7164000">
                    <a:off x="480600" y="693000"/>
                    <a:ext cx="11520" cy="13320"/>
                  </a:xfrm>
                  <a:prstGeom prst="pie">
                    <a:avLst/>
                  </a:pr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0" name="Freeform 1852"/>
                  <p:cNvSpPr/>
                  <p:nvPr/>
                </p:nvSpPr>
                <p:spPr>
                  <a:xfrm rot="7164000">
                    <a:off x="429480" y="532440"/>
                    <a:ext cx="8640" cy="6480"/>
                  </a:xfrm>
                  <a:prstGeom prst="pie">
                    <a:avLst/>
                  </a:pr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61" name="Group 1853"/>
                <p:cNvGrpSpPr/>
                <p:nvPr/>
              </p:nvGrpSpPr>
              <p:grpSpPr>
                <a:xfrm>
                  <a:off x="362520" y="950040"/>
                  <a:ext cx="55800" cy="55800"/>
                  <a:chOff x="362520" y="950040"/>
                  <a:chExt cx="55800" cy="55800"/>
                </a:xfrm>
              </p:grpSpPr>
              <p:sp>
                <p:nvSpPr>
                  <p:cNvPr id="1462" name="Freeform 1854"/>
                  <p:cNvSpPr/>
                  <p:nvPr/>
                </p:nvSpPr>
                <p:spPr>
                  <a:xfrm rot="2799000">
                    <a:off x="371520" y="956880"/>
                    <a:ext cx="37440" cy="41400"/>
                  </a:xfrm>
                  <a:prstGeom prst="pie">
                    <a:avLst/>
                  </a:prstGeom>
                  <a:solidFill>
                    <a:srgbClr val="00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3" name="Freeform 1855"/>
                  <p:cNvSpPr/>
                  <p:nvPr/>
                </p:nvSpPr>
                <p:spPr>
                  <a:xfrm rot="20752800">
                    <a:off x="374040" y="961200"/>
                    <a:ext cx="20520" cy="22680"/>
                  </a:xfrm>
                  <a:prstGeom prst="pie">
                    <a:avLst/>
                  </a:prstGeom>
                  <a:solidFill>
                    <a:srgbClr val="ccff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64" name="Group 1856"/>
              <p:cNvGrpSpPr/>
              <p:nvPr/>
            </p:nvGrpSpPr>
            <p:grpSpPr>
              <a:xfrm>
                <a:off x="395640" y="703080"/>
                <a:ext cx="617040" cy="475920"/>
                <a:chOff x="395640" y="703080"/>
                <a:chExt cx="617040" cy="475920"/>
              </a:xfrm>
            </p:grpSpPr>
            <p:grpSp>
              <p:nvGrpSpPr>
                <p:cNvPr id="1465" name="Group 1857"/>
                <p:cNvGrpSpPr/>
                <p:nvPr/>
              </p:nvGrpSpPr>
              <p:grpSpPr>
                <a:xfrm>
                  <a:off x="395640" y="703080"/>
                  <a:ext cx="617040" cy="475920"/>
                  <a:chOff x="395640" y="703080"/>
                  <a:chExt cx="617040" cy="475920"/>
                </a:xfrm>
              </p:grpSpPr>
              <p:sp>
                <p:nvSpPr>
                  <p:cNvPr id="1466" name="Freeform 1858"/>
                  <p:cNvSpPr/>
                  <p:nvPr/>
                </p:nvSpPr>
                <p:spPr>
                  <a:xfrm rot="11388000">
                    <a:off x="549360" y="736560"/>
                    <a:ext cx="431640" cy="408600"/>
                  </a:xfrm>
                  <a:prstGeom prst="pie">
                    <a:avLst/>
                  </a:prstGeom>
                  <a:solidFill>
                    <a:srgbClr val="33cc33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7" name="Freeform 1859"/>
                  <p:cNvSpPr/>
                  <p:nvPr/>
                </p:nvSpPr>
                <p:spPr>
                  <a:xfrm rot="11388000">
                    <a:off x="561600" y="855720"/>
                    <a:ext cx="366480" cy="193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9900"/>
                      </a:gs>
                      <a:gs pos="100000">
                        <a:srgbClr val="43b44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8" name="Freeform 1860"/>
                  <p:cNvSpPr/>
                  <p:nvPr/>
                </p:nvSpPr>
                <p:spPr>
                  <a:xfrm rot="11388000">
                    <a:off x="411840" y="838080"/>
                    <a:ext cx="533520" cy="24156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9" name="Freeform 1861"/>
                  <p:cNvSpPr/>
                  <p:nvPr/>
                </p:nvSpPr>
                <p:spPr>
                  <a:xfrm rot="11388000">
                    <a:off x="715680" y="945000"/>
                    <a:ext cx="173520" cy="2340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0" name="Freeform 1862"/>
                  <p:cNvSpPr/>
                  <p:nvPr/>
                </p:nvSpPr>
                <p:spPr>
                  <a:xfrm rot="11388000">
                    <a:off x="624240" y="972720"/>
                    <a:ext cx="223920" cy="8964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1" name="Freeform 1863"/>
                  <p:cNvSpPr/>
                  <p:nvPr/>
                </p:nvSpPr>
                <p:spPr>
                  <a:xfrm rot="11388000">
                    <a:off x="564840" y="993240"/>
                    <a:ext cx="246960" cy="11808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2" name="Freeform 1864"/>
                  <p:cNvSpPr/>
                  <p:nvPr/>
                </p:nvSpPr>
                <p:spPr>
                  <a:xfrm rot="11388000">
                    <a:off x="802800" y="920880"/>
                    <a:ext cx="102960" cy="1512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3" name="Freeform 1865"/>
                  <p:cNvSpPr/>
                  <p:nvPr/>
                </p:nvSpPr>
                <p:spPr>
                  <a:xfrm rot="11388000">
                    <a:off x="879840" y="903600"/>
                    <a:ext cx="53640" cy="504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4" name="Freeform 1866"/>
                  <p:cNvSpPr/>
                  <p:nvPr/>
                </p:nvSpPr>
                <p:spPr>
                  <a:xfrm rot="11388000">
                    <a:off x="871200" y="864360"/>
                    <a:ext cx="39240" cy="4140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5" name="Freeform 1867"/>
                  <p:cNvSpPr/>
                  <p:nvPr/>
                </p:nvSpPr>
                <p:spPr>
                  <a:xfrm rot="11388000">
                    <a:off x="811080" y="843120"/>
                    <a:ext cx="68040" cy="7740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6" name="Freeform 1868"/>
                  <p:cNvSpPr/>
                  <p:nvPr/>
                </p:nvSpPr>
                <p:spPr>
                  <a:xfrm rot="11388000">
                    <a:off x="722520" y="809280"/>
                    <a:ext cx="109440" cy="13536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7" name="Freeform 1869"/>
                  <p:cNvSpPr/>
                  <p:nvPr/>
                </p:nvSpPr>
                <p:spPr>
                  <a:xfrm rot="11388000">
                    <a:off x="645480" y="769680"/>
                    <a:ext cx="117360" cy="19800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8" name="Freeform 1870"/>
                  <p:cNvSpPr/>
                  <p:nvPr/>
                </p:nvSpPr>
                <p:spPr>
                  <a:xfrm rot="11388000">
                    <a:off x="711720" y="766800"/>
                    <a:ext cx="12960" cy="7884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9" name="Freeform 1871"/>
                  <p:cNvSpPr/>
                  <p:nvPr/>
                </p:nvSpPr>
                <p:spPr>
                  <a:xfrm rot="11388000">
                    <a:off x="588600" y="740520"/>
                    <a:ext cx="81720" cy="24408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0" name="Freeform 1872"/>
                  <p:cNvSpPr/>
                  <p:nvPr/>
                </p:nvSpPr>
                <p:spPr>
                  <a:xfrm rot="11388000">
                    <a:off x="679320" y="853920"/>
                    <a:ext cx="60840" cy="3888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560" bIns="-75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1" name="Freeform 1873"/>
                  <p:cNvSpPr/>
                  <p:nvPr/>
                </p:nvSpPr>
                <p:spPr>
                  <a:xfrm rot="11388000">
                    <a:off x="783360" y="806040"/>
                    <a:ext cx="29520" cy="6264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2" name="Freeform 1874"/>
                  <p:cNvSpPr/>
                  <p:nvPr/>
                </p:nvSpPr>
                <p:spPr>
                  <a:xfrm rot="11388000">
                    <a:off x="792000" y="952560"/>
                    <a:ext cx="63720" cy="1368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3" name="Freeform 1875"/>
                  <p:cNvSpPr/>
                  <p:nvPr/>
                </p:nvSpPr>
                <p:spPr>
                  <a:xfrm rot="11388000">
                    <a:off x="819000" y="973800"/>
                    <a:ext cx="39240" cy="23400"/>
                  </a:xfrm>
                  <a:prstGeom prst="pie">
                    <a:avLst/>
                  </a:pr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4" name="Freeform 1876"/>
                  <p:cNvSpPr/>
                  <p:nvPr/>
                </p:nvSpPr>
                <p:spPr>
                  <a:xfrm rot="11388000">
                    <a:off x="741600" y="838080"/>
                    <a:ext cx="12960" cy="15120"/>
                  </a:xfrm>
                  <a:prstGeom prst="pie">
                    <a:avLst/>
                  </a:pr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5" name="Freeform 1877"/>
                  <p:cNvSpPr/>
                  <p:nvPr/>
                </p:nvSpPr>
                <p:spPr>
                  <a:xfrm rot="11388000">
                    <a:off x="794520" y="1001160"/>
                    <a:ext cx="11160" cy="8640"/>
                  </a:xfrm>
                  <a:prstGeom prst="pie">
                    <a:avLst/>
                  </a:pr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6" name="Freeform 1878"/>
                  <p:cNvSpPr/>
                  <p:nvPr/>
                </p:nvSpPr>
                <p:spPr>
                  <a:xfrm rot="11388000">
                    <a:off x="741600" y="1042560"/>
                    <a:ext cx="12960" cy="11880"/>
                  </a:xfrm>
                  <a:prstGeom prst="pie">
                    <a:avLst/>
                  </a:pr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7" name="Freeform 1879"/>
                  <p:cNvSpPr/>
                  <p:nvPr/>
                </p:nvSpPr>
                <p:spPr>
                  <a:xfrm rot="11388000">
                    <a:off x="890640" y="955800"/>
                    <a:ext cx="9360" cy="5760"/>
                  </a:xfrm>
                  <a:prstGeom prst="pie">
                    <a:avLst/>
                  </a:pr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88" name="Group 1880"/>
                <p:cNvGrpSpPr/>
                <p:nvPr/>
              </p:nvGrpSpPr>
              <p:grpSpPr>
                <a:xfrm>
                  <a:off x="412560" y="1007280"/>
                  <a:ext cx="55800" cy="50760"/>
                  <a:chOff x="412560" y="1007280"/>
                  <a:chExt cx="55800" cy="50760"/>
                </a:xfrm>
              </p:grpSpPr>
              <p:sp>
                <p:nvSpPr>
                  <p:cNvPr id="1489" name="Freeform 1881"/>
                  <p:cNvSpPr/>
                  <p:nvPr/>
                </p:nvSpPr>
                <p:spPr>
                  <a:xfrm rot="7023600">
                    <a:off x="423360" y="1009800"/>
                    <a:ext cx="33840" cy="45360"/>
                  </a:xfrm>
                  <a:prstGeom prst="pie">
                    <a:avLst/>
                  </a:prstGeom>
                  <a:solidFill>
                    <a:srgbClr val="00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0" name="Freeform 1882"/>
                  <p:cNvSpPr/>
                  <p:nvPr/>
                </p:nvSpPr>
                <p:spPr>
                  <a:xfrm rot="3376800">
                    <a:off x="430920" y="1015200"/>
                    <a:ext cx="22320" cy="20880"/>
                  </a:xfrm>
                  <a:prstGeom prst="pie">
                    <a:avLst/>
                  </a:prstGeom>
                  <a:solidFill>
                    <a:srgbClr val="ccff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491" name="Group 1883"/>
            <p:cNvGrpSpPr/>
            <p:nvPr/>
          </p:nvGrpSpPr>
          <p:grpSpPr>
            <a:xfrm>
              <a:off x="763200" y="1173240"/>
              <a:ext cx="579960" cy="619920"/>
              <a:chOff x="763200" y="1173240"/>
              <a:chExt cx="579960" cy="619920"/>
            </a:xfrm>
          </p:grpSpPr>
          <p:grpSp>
            <p:nvGrpSpPr>
              <p:cNvPr id="1492" name="Group 1884"/>
              <p:cNvGrpSpPr/>
              <p:nvPr/>
            </p:nvGrpSpPr>
            <p:grpSpPr>
              <a:xfrm>
                <a:off x="763200" y="1173240"/>
                <a:ext cx="579960" cy="619920"/>
                <a:chOff x="763200" y="1173240"/>
                <a:chExt cx="579960" cy="619920"/>
              </a:xfrm>
            </p:grpSpPr>
            <p:sp>
              <p:nvSpPr>
                <p:cNvPr id="1493" name="Freeform 1885"/>
                <p:cNvSpPr/>
                <p:nvPr/>
              </p:nvSpPr>
              <p:spPr>
                <a:xfrm flipH="1" rot="2658600">
                  <a:off x="852480" y="1319400"/>
                  <a:ext cx="415800" cy="383040"/>
                </a:xfrm>
                <a:prstGeom prst="pie">
                  <a:avLst/>
                </a:prstGeom>
                <a:solidFill>
                  <a:srgbClr val="33cc33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4" name="Freeform 1886"/>
                <p:cNvSpPr/>
                <p:nvPr/>
              </p:nvSpPr>
              <p:spPr>
                <a:xfrm flipH="1" rot="2658600">
                  <a:off x="881280" y="1397160"/>
                  <a:ext cx="352800" cy="181080"/>
                </a:xfrm>
                <a:prstGeom prst="pie">
                  <a:avLst/>
                </a:pr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5" name="Freeform 1887"/>
                <p:cNvSpPr/>
                <p:nvPr/>
              </p:nvSpPr>
              <p:spPr>
                <a:xfrm flipH="1" rot="2658600">
                  <a:off x="768960" y="1320480"/>
                  <a:ext cx="513720" cy="2260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6" name="Freeform 1888"/>
                <p:cNvSpPr/>
                <p:nvPr/>
              </p:nvSpPr>
              <p:spPr>
                <a:xfrm flipH="1" rot="2658600">
                  <a:off x="1009800" y="1519920"/>
                  <a:ext cx="167040" cy="219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7" name="Freeform 1889"/>
                <p:cNvSpPr/>
                <p:nvPr/>
              </p:nvSpPr>
              <p:spPr>
                <a:xfrm flipH="1" rot="2658600">
                  <a:off x="994680" y="1404000"/>
                  <a:ext cx="216000" cy="838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8" name="Freeform 1890"/>
                <p:cNvSpPr/>
                <p:nvPr/>
              </p:nvSpPr>
              <p:spPr>
                <a:xfrm flipH="1" rot="2658600">
                  <a:off x="982440" y="1334520"/>
                  <a:ext cx="237960" cy="1101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9" name="Freeform 1891"/>
                <p:cNvSpPr/>
                <p:nvPr/>
              </p:nvSpPr>
              <p:spPr>
                <a:xfrm flipH="1" rot="2658600">
                  <a:off x="1052280" y="1579680"/>
                  <a:ext cx="99000" cy="133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0" name="Freeform 1892"/>
                <p:cNvSpPr/>
                <p:nvPr/>
              </p:nvSpPr>
              <p:spPr>
                <a:xfrm flipH="1" rot="2658600">
                  <a:off x="1089000" y="1636560"/>
                  <a:ext cx="51480" cy="50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1" name="Freeform 1893"/>
                <p:cNvSpPr/>
                <p:nvPr/>
              </p:nvSpPr>
              <p:spPr>
                <a:xfrm flipH="1" rot="2658600">
                  <a:off x="1071000" y="1619280"/>
                  <a:ext cx="37800" cy="388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2" name="Freeform 1894"/>
                <p:cNvSpPr/>
                <p:nvPr/>
              </p:nvSpPr>
              <p:spPr>
                <a:xfrm flipH="1" rot="2658600">
                  <a:off x="1028520" y="1568520"/>
                  <a:ext cx="65880" cy="727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3" name="Freeform 1895"/>
                <p:cNvSpPr/>
                <p:nvPr/>
              </p:nvSpPr>
              <p:spPr>
                <a:xfrm flipH="1" rot="2658600">
                  <a:off x="965880" y="1491120"/>
                  <a:ext cx="105120" cy="1267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4" name="Freeform 1896"/>
                <p:cNvSpPr/>
                <p:nvPr/>
              </p:nvSpPr>
              <p:spPr>
                <a:xfrm flipH="1" rot="2658600">
                  <a:off x="915480" y="1410120"/>
                  <a:ext cx="113040" cy="1850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5" name="Freeform 1897"/>
                <p:cNvSpPr/>
                <p:nvPr/>
              </p:nvSpPr>
              <p:spPr>
                <a:xfrm flipH="1" rot="2658600">
                  <a:off x="926280" y="1511280"/>
                  <a:ext cx="12600" cy="734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6" name="Freeform 1898"/>
                <p:cNvSpPr/>
                <p:nvPr/>
              </p:nvSpPr>
              <p:spPr>
                <a:xfrm flipH="1" rot="2658600">
                  <a:off x="884880" y="1333440"/>
                  <a:ext cx="78840" cy="2282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7" name="Freeform 1899"/>
                <p:cNvSpPr/>
                <p:nvPr/>
              </p:nvSpPr>
              <p:spPr>
                <a:xfrm flipH="1" rot="2658600">
                  <a:off x="948960" y="1485720"/>
                  <a:ext cx="57960" cy="360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8" name="Freeform 1900"/>
                <p:cNvSpPr/>
                <p:nvPr/>
              </p:nvSpPr>
              <p:spPr>
                <a:xfrm flipH="1" rot="2658600">
                  <a:off x="986760" y="1562760"/>
                  <a:ext cx="28440" cy="583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9" name="Freeform 1901"/>
                <p:cNvSpPr/>
                <p:nvPr/>
              </p:nvSpPr>
              <p:spPr>
                <a:xfrm flipH="1" rot="2658600">
                  <a:off x="1078200" y="1540080"/>
                  <a:ext cx="61200" cy="126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0" name="Freeform 1902"/>
                <p:cNvSpPr/>
                <p:nvPr/>
              </p:nvSpPr>
              <p:spPr>
                <a:xfrm flipH="1" rot="2658600">
                  <a:off x="1117440" y="1532160"/>
                  <a:ext cx="37800" cy="219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1" name="Freeform 1903"/>
                <p:cNvSpPr/>
                <p:nvPr/>
              </p:nvSpPr>
              <p:spPr>
                <a:xfrm flipH="1" rot="2658600">
                  <a:off x="972720" y="1542240"/>
                  <a:ext cx="12600" cy="1368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2" name="Freeform 1904"/>
                <p:cNvSpPr/>
                <p:nvPr/>
              </p:nvSpPr>
              <p:spPr>
                <a:xfrm flipH="1" rot="2658600">
                  <a:off x="1124280" y="1497960"/>
                  <a:ext cx="10800" cy="828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3" name="Freeform 1905"/>
                <p:cNvSpPr/>
                <p:nvPr/>
              </p:nvSpPr>
              <p:spPr>
                <a:xfrm flipH="1" rot="2658600">
                  <a:off x="1126800" y="1433160"/>
                  <a:ext cx="12240" cy="1080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4" name="Freeform 1906"/>
                <p:cNvSpPr/>
                <p:nvPr/>
              </p:nvSpPr>
              <p:spPr>
                <a:xfrm flipH="1" rot="2658600">
                  <a:off x="1143720" y="1598760"/>
                  <a:ext cx="9000" cy="504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5" name="Group 1907"/>
              <p:cNvGrpSpPr/>
              <p:nvPr/>
            </p:nvGrpSpPr>
            <p:grpSpPr>
              <a:xfrm>
                <a:off x="919440" y="1186200"/>
                <a:ext cx="54000" cy="48240"/>
                <a:chOff x="919440" y="1186200"/>
                <a:chExt cx="54000" cy="48240"/>
              </a:xfrm>
            </p:grpSpPr>
            <p:sp>
              <p:nvSpPr>
                <p:cNvPr id="1516" name="Freeform 1908"/>
                <p:cNvSpPr/>
                <p:nvPr/>
              </p:nvSpPr>
              <p:spPr>
                <a:xfrm flipH="1" rot="7023600">
                  <a:off x="930240" y="1188000"/>
                  <a:ext cx="31680" cy="44280"/>
                </a:xfrm>
                <a:prstGeom prst="pie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7" name="Freeform 1909"/>
                <p:cNvSpPr/>
                <p:nvPr/>
              </p:nvSpPr>
              <p:spPr>
                <a:xfrm flipH="1" rot="10670400">
                  <a:off x="931680" y="1205640"/>
                  <a:ext cx="21960" cy="19080"/>
                </a:xfrm>
                <a:prstGeom prst="pie">
                  <a:avLst/>
                </a:pr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18" name="Group 1910"/>
            <p:cNvGrpSpPr/>
            <p:nvPr/>
          </p:nvGrpSpPr>
          <p:grpSpPr>
            <a:xfrm>
              <a:off x="928440" y="888120"/>
              <a:ext cx="475200" cy="342360"/>
              <a:chOff x="928440" y="888120"/>
              <a:chExt cx="475200" cy="342360"/>
            </a:xfrm>
          </p:grpSpPr>
          <p:grpSp>
            <p:nvGrpSpPr>
              <p:cNvPr id="1519" name="Group 1911"/>
              <p:cNvGrpSpPr/>
              <p:nvPr/>
            </p:nvGrpSpPr>
            <p:grpSpPr>
              <a:xfrm>
                <a:off x="928440" y="888120"/>
                <a:ext cx="475200" cy="342360"/>
                <a:chOff x="928440" y="888120"/>
                <a:chExt cx="475200" cy="342360"/>
              </a:xfrm>
            </p:grpSpPr>
            <p:sp>
              <p:nvSpPr>
                <p:cNvPr id="1520" name="Freeform 1912"/>
                <p:cNvSpPr/>
                <p:nvPr/>
              </p:nvSpPr>
              <p:spPr>
                <a:xfrm rot="10594800">
                  <a:off x="1040400" y="898200"/>
                  <a:ext cx="353520" cy="321840"/>
                </a:xfrm>
                <a:prstGeom prst="pie">
                  <a:avLst/>
                </a:prstGeom>
                <a:solidFill>
                  <a:srgbClr val="33cc33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1" name="Freeform 1913"/>
                <p:cNvSpPr/>
                <p:nvPr/>
              </p:nvSpPr>
              <p:spPr>
                <a:xfrm rot="10594800">
                  <a:off x="1053720" y="996120"/>
                  <a:ext cx="300240" cy="152280"/>
                </a:xfrm>
                <a:prstGeom prst="pie">
                  <a:avLst/>
                </a:pr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2" name="Freeform 1914"/>
                <p:cNvSpPr/>
                <p:nvPr/>
              </p:nvSpPr>
              <p:spPr>
                <a:xfrm rot="10594800">
                  <a:off x="933480" y="994680"/>
                  <a:ext cx="437040" cy="1900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3" name="Freeform 1915"/>
                <p:cNvSpPr/>
                <p:nvPr/>
              </p:nvSpPr>
              <p:spPr>
                <a:xfrm rot="10594800">
                  <a:off x="1178640" y="1055880"/>
                  <a:ext cx="141840" cy="180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4" name="Freeform 1916"/>
                <p:cNvSpPr/>
                <p:nvPr/>
              </p:nvSpPr>
              <p:spPr>
                <a:xfrm rot="10594800">
                  <a:off x="1117080" y="1088280"/>
                  <a:ext cx="183240" cy="705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5" name="Freeform 1917"/>
                <p:cNvSpPr/>
                <p:nvPr/>
              </p:nvSpPr>
              <p:spPr>
                <a:xfrm rot="10594800">
                  <a:off x="1076040" y="1112760"/>
                  <a:ext cx="202320" cy="925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6" name="Freeform 1918"/>
                <p:cNvSpPr/>
                <p:nvPr/>
              </p:nvSpPr>
              <p:spPr>
                <a:xfrm rot="10594800">
                  <a:off x="1244160" y="1028520"/>
                  <a:ext cx="84240" cy="115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7" name="Freeform 1919"/>
                <p:cNvSpPr/>
                <p:nvPr/>
              </p:nvSpPr>
              <p:spPr>
                <a:xfrm rot="10594800">
                  <a:off x="1301760" y="1004760"/>
                  <a:ext cx="43920" cy="43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8" name="Freeform 1920"/>
                <p:cNvSpPr/>
                <p:nvPr/>
              </p:nvSpPr>
              <p:spPr>
                <a:xfrm rot="10594800">
                  <a:off x="1291320" y="978120"/>
                  <a:ext cx="32040" cy="320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9" name="Freeform 1921"/>
                <p:cNvSpPr/>
                <p:nvPr/>
              </p:nvSpPr>
              <p:spPr>
                <a:xfrm rot="10594800">
                  <a:off x="1242720" y="969480"/>
                  <a:ext cx="56160" cy="612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0" name="Freeform 1922"/>
                <p:cNvSpPr/>
                <p:nvPr/>
              </p:nvSpPr>
              <p:spPr>
                <a:xfrm rot="10594800">
                  <a:off x="1170720" y="954720"/>
                  <a:ext cx="89640" cy="1065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1" name="Freeform 1923"/>
                <p:cNvSpPr/>
                <p:nvPr/>
              </p:nvSpPr>
              <p:spPr>
                <a:xfrm rot="10594800">
                  <a:off x="1108440" y="937440"/>
                  <a:ext cx="96120" cy="1558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2" name="Freeform 1924"/>
                <p:cNvSpPr/>
                <p:nvPr/>
              </p:nvSpPr>
              <p:spPr>
                <a:xfrm rot="10594800">
                  <a:off x="1149480" y="933480"/>
                  <a:ext cx="10800" cy="619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3" name="Freeform 1925"/>
                <p:cNvSpPr/>
                <p:nvPr/>
              </p:nvSpPr>
              <p:spPr>
                <a:xfrm rot="10594800">
                  <a:off x="1061280" y="928080"/>
                  <a:ext cx="66960" cy="1922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4" name="Freeform 1926"/>
                <p:cNvSpPr/>
                <p:nvPr/>
              </p:nvSpPr>
              <p:spPr>
                <a:xfrm rot="10594800">
                  <a:off x="1135800" y="1003320"/>
                  <a:ext cx="49320" cy="302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5" name="Freeform 1927"/>
                <p:cNvSpPr/>
                <p:nvPr/>
              </p:nvSpPr>
              <p:spPr>
                <a:xfrm rot="10594800">
                  <a:off x="1212480" y="949320"/>
                  <a:ext cx="24120" cy="4932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6" name="Freeform 1928"/>
                <p:cNvSpPr/>
                <p:nvPr/>
              </p:nvSpPr>
              <p:spPr>
                <a:xfrm rot="10594800">
                  <a:off x="1242000" y="1058040"/>
                  <a:ext cx="52200" cy="104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7" name="Freeform 1929"/>
                <p:cNvSpPr/>
                <p:nvPr/>
              </p:nvSpPr>
              <p:spPr>
                <a:xfrm rot="10594800">
                  <a:off x="1267920" y="1071000"/>
                  <a:ext cx="32040" cy="183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8" name="Freeform 1930"/>
                <p:cNvSpPr/>
                <p:nvPr/>
              </p:nvSpPr>
              <p:spPr>
                <a:xfrm rot="10594800">
                  <a:off x="1180800" y="983520"/>
                  <a:ext cx="10800" cy="1188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9" name="Freeform 1931"/>
                <p:cNvSpPr/>
                <p:nvPr/>
              </p:nvSpPr>
              <p:spPr>
                <a:xfrm rot="10594800">
                  <a:off x="1252440" y="1100160"/>
                  <a:ext cx="9360" cy="684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0" name="Freeform 1932"/>
                <p:cNvSpPr/>
                <p:nvPr/>
              </p:nvSpPr>
              <p:spPr>
                <a:xfrm rot="10594800">
                  <a:off x="1218600" y="1139760"/>
                  <a:ext cx="10440" cy="936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1" name="Freeform 1933"/>
                <p:cNvSpPr/>
                <p:nvPr/>
              </p:nvSpPr>
              <p:spPr>
                <a:xfrm rot="10594800">
                  <a:off x="1320120" y="1046880"/>
                  <a:ext cx="7560" cy="504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2" name="Group 1934"/>
              <p:cNvGrpSpPr/>
              <p:nvPr/>
            </p:nvGrpSpPr>
            <p:grpSpPr>
              <a:xfrm>
                <a:off x="956520" y="1168920"/>
                <a:ext cx="42480" cy="34920"/>
                <a:chOff x="956520" y="1168920"/>
                <a:chExt cx="42480" cy="34920"/>
              </a:xfrm>
            </p:grpSpPr>
            <p:sp>
              <p:nvSpPr>
                <p:cNvPr id="1543" name="Freeform 1935"/>
                <p:cNvSpPr/>
                <p:nvPr/>
              </p:nvSpPr>
              <p:spPr>
                <a:xfrm rot="6231000">
                  <a:off x="964440" y="1167480"/>
                  <a:ext cx="26640" cy="37080"/>
                </a:xfrm>
                <a:prstGeom prst="pie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4" name="Freeform 1936"/>
                <p:cNvSpPr/>
                <p:nvPr/>
              </p:nvSpPr>
              <p:spPr>
                <a:xfrm rot="2583600">
                  <a:off x="968760" y="1173240"/>
                  <a:ext cx="18360" cy="16200"/>
                </a:xfrm>
                <a:prstGeom prst="pie">
                  <a:avLst/>
                </a:pr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45" name="Group 1937"/>
            <p:cNvGrpSpPr/>
            <p:nvPr/>
          </p:nvGrpSpPr>
          <p:grpSpPr>
            <a:xfrm>
              <a:off x="1201320" y="1294200"/>
              <a:ext cx="424800" cy="492120"/>
              <a:chOff x="1201320" y="1294200"/>
              <a:chExt cx="424800" cy="492120"/>
            </a:xfrm>
          </p:grpSpPr>
          <p:grpSp>
            <p:nvGrpSpPr>
              <p:cNvPr id="1546" name="Group 1938"/>
              <p:cNvGrpSpPr/>
              <p:nvPr/>
            </p:nvGrpSpPr>
            <p:grpSpPr>
              <a:xfrm>
                <a:off x="1201320" y="1294200"/>
                <a:ext cx="424800" cy="492120"/>
                <a:chOff x="1201320" y="1294200"/>
                <a:chExt cx="424800" cy="492120"/>
              </a:xfrm>
            </p:grpSpPr>
            <p:sp>
              <p:nvSpPr>
                <p:cNvPr id="1547" name="Freeform 1939"/>
                <p:cNvSpPr/>
                <p:nvPr/>
              </p:nvSpPr>
              <p:spPr>
                <a:xfrm rot="15123000">
                  <a:off x="1245600" y="1405440"/>
                  <a:ext cx="336240" cy="337680"/>
                </a:xfrm>
                <a:prstGeom prst="pie">
                  <a:avLst/>
                </a:prstGeom>
                <a:solidFill>
                  <a:srgbClr val="33cc33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8" name="Freeform 1940"/>
                <p:cNvSpPr/>
                <p:nvPr/>
              </p:nvSpPr>
              <p:spPr>
                <a:xfrm rot="15123000">
                  <a:off x="1254960" y="1485000"/>
                  <a:ext cx="285120" cy="160200"/>
                </a:xfrm>
                <a:prstGeom prst="pie">
                  <a:avLst/>
                </a:pr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9" name="Freeform 1941"/>
                <p:cNvSpPr/>
                <p:nvPr/>
              </p:nvSpPr>
              <p:spPr>
                <a:xfrm rot="15123000">
                  <a:off x="1160640" y="1422720"/>
                  <a:ext cx="415080" cy="1994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0" name="Freeform 1942"/>
                <p:cNvSpPr/>
                <p:nvPr/>
              </p:nvSpPr>
              <p:spPr>
                <a:xfrm rot="15123000">
                  <a:off x="1348920" y="1596600"/>
                  <a:ext cx="135000" cy="194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1" name="Freeform 1943"/>
                <p:cNvSpPr/>
                <p:nvPr/>
              </p:nvSpPr>
              <p:spPr>
                <a:xfrm rot="15123000">
                  <a:off x="1258920" y="1546560"/>
                  <a:ext cx="174240" cy="738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2" name="Freeform 1944"/>
                <p:cNvSpPr/>
                <p:nvPr/>
              </p:nvSpPr>
              <p:spPr>
                <a:xfrm rot="15123000">
                  <a:off x="1206720" y="1515960"/>
                  <a:ext cx="192240" cy="972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3" name="Freeform 1945"/>
                <p:cNvSpPr/>
                <p:nvPr/>
              </p:nvSpPr>
              <p:spPr>
                <a:xfrm rot="15123000">
                  <a:off x="1415160" y="1624680"/>
                  <a:ext cx="80280" cy="122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4" name="Freeform 1946"/>
                <p:cNvSpPr/>
                <p:nvPr/>
              </p:nvSpPr>
              <p:spPr>
                <a:xfrm rot="15123000">
                  <a:off x="1470240" y="1656000"/>
                  <a:ext cx="41760" cy="46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5" name="Freeform 1947"/>
                <p:cNvSpPr/>
                <p:nvPr/>
              </p:nvSpPr>
              <p:spPr>
                <a:xfrm rot="15123000">
                  <a:off x="1485360" y="1622880"/>
                  <a:ext cx="30600" cy="345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6" name="Freeform 1948"/>
                <p:cNvSpPr/>
                <p:nvPr/>
              </p:nvSpPr>
              <p:spPr>
                <a:xfrm rot="15123000">
                  <a:off x="1459800" y="1575720"/>
                  <a:ext cx="53280" cy="640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7" name="Freeform 1949"/>
                <p:cNvSpPr/>
                <p:nvPr/>
              </p:nvSpPr>
              <p:spPr>
                <a:xfrm rot="15123000">
                  <a:off x="1422000" y="1502640"/>
                  <a:ext cx="85320" cy="1119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8" name="Freeform 1950"/>
                <p:cNvSpPr/>
                <p:nvPr/>
              </p:nvSpPr>
              <p:spPr>
                <a:xfrm rot="15123000">
                  <a:off x="1397520" y="1424520"/>
                  <a:ext cx="92160" cy="1634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9" name="Freeform 1951"/>
                <p:cNvSpPr/>
                <p:nvPr/>
              </p:nvSpPr>
              <p:spPr>
                <a:xfrm rot="15123000">
                  <a:off x="1490040" y="1459440"/>
                  <a:ext cx="10080" cy="651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0" name="Freeform 1952"/>
                <p:cNvSpPr/>
                <p:nvPr/>
              </p:nvSpPr>
              <p:spPr>
                <a:xfrm rot="15123000">
                  <a:off x="1388520" y="1350720"/>
                  <a:ext cx="63720" cy="2016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1" name="Freeform 1953"/>
                <p:cNvSpPr/>
                <p:nvPr/>
              </p:nvSpPr>
              <p:spPr>
                <a:xfrm rot="15123000">
                  <a:off x="1418400" y="1495440"/>
                  <a:ext cx="46800" cy="3168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2" name="Freeform 1954"/>
                <p:cNvSpPr/>
                <p:nvPr/>
              </p:nvSpPr>
              <p:spPr>
                <a:xfrm rot="15123000">
                  <a:off x="1490040" y="1532520"/>
                  <a:ext cx="23040" cy="5184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3" name="Freeform 1955"/>
                <p:cNvSpPr/>
                <p:nvPr/>
              </p:nvSpPr>
              <p:spPr>
                <a:xfrm rot="15123000">
                  <a:off x="1397160" y="1616760"/>
                  <a:ext cx="49320" cy="1116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4" name="Freeform 1956"/>
                <p:cNvSpPr/>
                <p:nvPr/>
              </p:nvSpPr>
              <p:spPr>
                <a:xfrm rot="15123000">
                  <a:off x="1393200" y="1631520"/>
                  <a:ext cx="30600" cy="19800"/>
                </a:xfrm>
                <a:prstGeom prst="pie">
                  <a:avLst/>
                </a:pr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5" name="Freeform 1957"/>
                <p:cNvSpPr/>
                <p:nvPr/>
              </p:nvSpPr>
              <p:spPr>
                <a:xfrm rot="15123000">
                  <a:off x="1471680" y="1521000"/>
                  <a:ext cx="10080" cy="1224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" name="Freeform 1958"/>
                <p:cNvSpPr/>
                <p:nvPr/>
              </p:nvSpPr>
              <p:spPr>
                <a:xfrm rot="15123000">
                  <a:off x="1374480" y="1619280"/>
                  <a:ext cx="8640" cy="720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" name="Freeform 1959"/>
                <p:cNvSpPr/>
                <p:nvPr/>
              </p:nvSpPr>
              <p:spPr>
                <a:xfrm rot="15123000">
                  <a:off x="1323360" y="1598400"/>
                  <a:ext cx="10080" cy="972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" name="Freeform 1960"/>
                <p:cNvSpPr/>
                <p:nvPr/>
              </p:nvSpPr>
              <p:spPr>
                <a:xfrm rot="15123000">
                  <a:off x="1444680" y="1667880"/>
                  <a:ext cx="7200" cy="5040"/>
                </a:xfrm>
                <a:prstGeom prst="pie">
                  <a:avLst/>
                </a:pr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9" name="Group 1961"/>
              <p:cNvGrpSpPr/>
              <p:nvPr/>
            </p:nvGrpSpPr>
            <p:grpSpPr>
              <a:xfrm>
                <a:off x="1208880" y="1366920"/>
                <a:ext cx="30960" cy="35640"/>
                <a:chOff x="1208880" y="1366920"/>
                <a:chExt cx="30960" cy="35640"/>
              </a:xfrm>
            </p:grpSpPr>
            <p:sp>
              <p:nvSpPr>
                <p:cNvPr id="1570" name="Freeform 1962"/>
                <p:cNvSpPr/>
                <p:nvPr/>
              </p:nvSpPr>
              <p:spPr>
                <a:xfrm rot="10758000">
                  <a:off x="1208880" y="1366920"/>
                  <a:ext cx="28080" cy="35280"/>
                </a:xfrm>
                <a:prstGeom prst="pie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" name="Freeform 1963"/>
                <p:cNvSpPr/>
                <p:nvPr/>
              </p:nvSpPr>
              <p:spPr>
                <a:xfrm rot="7111800">
                  <a:off x="1219320" y="1375560"/>
                  <a:ext cx="17640" cy="16920"/>
                </a:xfrm>
                <a:prstGeom prst="pie">
                  <a:avLst/>
                </a:pr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72" name="AutoShape 1982"/>
          <p:cNvSpPr/>
          <p:nvPr/>
        </p:nvSpPr>
        <p:spPr>
          <a:xfrm>
            <a:off x="3924360" y="-4978440"/>
            <a:ext cx="9955080" cy="9955080"/>
          </a:xfrm>
          <a:prstGeom prst="sun">
            <a:avLst>
              <a:gd name="adj" fmla="val 39074"/>
            </a:avLst>
          </a:prstGeom>
          <a:blipFill rotWithShape="0">
            <a:blip r:embed="rId40">
              <a:alphaModFix amt="65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3" name="Picture 1981" descr="MCj04460980000[1]"/>
          <p:cNvPicPr/>
          <p:nvPr/>
        </p:nvPicPr>
        <p:blipFill>
          <a:blip r:embed="rId41"/>
          <a:stretch/>
        </p:blipFill>
        <p:spPr>
          <a:xfrm rot="5073600">
            <a:off x="7481880" y="-461880"/>
            <a:ext cx="1403280" cy="2327040"/>
          </a:xfrm>
          <a:prstGeom prst="rect">
            <a:avLst/>
          </a:prstGeom>
          <a:ln w="0">
            <a:noFill/>
          </a:ln>
        </p:spPr>
      </p:pic>
      <p:grpSp>
        <p:nvGrpSpPr>
          <p:cNvPr id="1574" name="Group 1985"/>
          <p:cNvGrpSpPr/>
          <p:nvPr/>
        </p:nvGrpSpPr>
        <p:grpSpPr>
          <a:xfrm>
            <a:off x="4722480" y="5213520"/>
            <a:ext cx="491400" cy="1253520"/>
            <a:chOff x="4722480" y="5213520"/>
            <a:chExt cx="491400" cy="1253520"/>
          </a:xfrm>
        </p:grpSpPr>
        <p:pic>
          <p:nvPicPr>
            <p:cNvPr id="1575" name="Picture 1967" descr="MCj04456520000[1]"/>
            <p:cNvPicPr/>
            <p:nvPr/>
          </p:nvPicPr>
          <p:blipFill>
            <a:blip r:embed="rId42"/>
            <a:stretch/>
          </p:blipFill>
          <p:spPr>
            <a:xfrm rot="21224400">
              <a:off x="4754160" y="5231160"/>
              <a:ext cx="358560" cy="60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6" name="Rectangle 1984"/>
            <p:cNvSpPr/>
            <p:nvPr/>
          </p:nvSpPr>
          <p:spPr>
            <a:xfrm rot="21224400">
              <a:off x="4821480" y="5846400"/>
              <a:ext cx="360360" cy="60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7" name="Group 1986"/>
          <p:cNvGrpSpPr/>
          <p:nvPr/>
        </p:nvGrpSpPr>
        <p:grpSpPr>
          <a:xfrm>
            <a:off x="7034760" y="4851360"/>
            <a:ext cx="499320" cy="1325160"/>
            <a:chOff x="7034760" y="4851360"/>
            <a:chExt cx="499320" cy="1325160"/>
          </a:xfrm>
        </p:grpSpPr>
        <p:pic>
          <p:nvPicPr>
            <p:cNvPr id="1578" name="Picture 1987" descr="MCj04456520000[1]"/>
            <p:cNvPicPr/>
            <p:nvPr/>
          </p:nvPicPr>
          <p:blipFill>
            <a:blip r:embed="rId43"/>
            <a:stretch/>
          </p:blipFill>
          <p:spPr>
            <a:xfrm rot="21224400">
              <a:off x="7068240" y="4869000"/>
              <a:ext cx="358560" cy="63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9" name="Rectangle 1988"/>
            <p:cNvSpPr/>
            <p:nvPr/>
          </p:nvSpPr>
          <p:spPr>
            <a:xfrm rot="21224400">
              <a:off x="7139880" y="5520600"/>
              <a:ext cx="36036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0" name="Group 1989"/>
          <p:cNvGrpSpPr/>
          <p:nvPr/>
        </p:nvGrpSpPr>
        <p:grpSpPr>
          <a:xfrm>
            <a:off x="472680" y="4924800"/>
            <a:ext cx="507240" cy="1395720"/>
            <a:chOff x="472680" y="4924800"/>
            <a:chExt cx="507240" cy="1395720"/>
          </a:xfrm>
        </p:grpSpPr>
        <p:pic>
          <p:nvPicPr>
            <p:cNvPr id="1581" name="Picture 1990" descr="MCj04456520000[1]"/>
            <p:cNvPicPr/>
            <p:nvPr/>
          </p:nvPicPr>
          <p:blipFill>
            <a:blip r:embed="rId44"/>
            <a:stretch/>
          </p:blipFill>
          <p:spPr>
            <a:xfrm rot="21224400">
              <a:off x="507960" y="4942440"/>
              <a:ext cx="358560" cy="67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2" name="Rectangle 1991"/>
            <p:cNvSpPr/>
            <p:nvPr/>
          </p:nvSpPr>
          <p:spPr>
            <a:xfrm rot="21224400">
              <a:off x="583560" y="5629320"/>
              <a:ext cx="36036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3" name="Group 208"/>
          <p:cNvGrpSpPr/>
          <p:nvPr/>
        </p:nvGrpSpPr>
        <p:grpSpPr>
          <a:xfrm>
            <a:off x="7624080" y="3933720"/>
            <a:ext cx="952560" cy="1151280"/>
            <a:chOff x="7624080" y="3933720"/>
            <a:chExt cx="952560" cy="1151280"/>
          </a:xfrm>
        </p:grpSpPr>
        <p:grpSp>
          <p:nvGrpSpPr>
            <p:cNvPr id="1584" name="Group 209"/>
            <p:cNvGrpSpPr/>
            <p:nvPr/>
          </p:nvGrpSpPr>
          <p:grpSpPr>
            <a:xfrm>
              <a:off x="7624080" y="3933720"/>
              <a:ext cx="952560" cy="1151280"/>
              <a:chOff x="7624080" y="3933720"/>
              <a:chExt cx="952560" cy="1151280"/>
            </a:xfrm>
          </p:grpSpPr>
          <p:grpSp>
            <p:nvGrpSpPr>
              <p:cNvPr id="1585" name="Group 210"/>
              <p:cNvGrpSpPr/>
              <p:nvPr/>
            </p:nvGrpSpPr>
            <p:grpSpPr>
              <a:xfrm>
                <a:off x="7667640" y="3933720"/>
                <a:ext cx="862560" cy="1151280"/>
                <a:chOff x="7667640" y="3933720"/>
                <a:chExt cx="862560" cy="1151280"/>
              </a:xfrm>
            </p:grpSpPr>
            <p:sp>
              <p:nvSpPr>
                <p:cNvPr id="1586" name="Oval 211"/>
                <p:cNvSpPr/>
                <p:nvPr/>
              </p:nvSpPr>
              <p:spPr>
                <a:xfrm>
                  <a:off x="7667640" y="4377600"/>
                  <a:ext cx="862560" cy="2617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" name="Oval 212"/>
                <p:cNvSpPr/>
                <p:nvPr/>
              </p:nvSpPr>
              <p:spPr>
                <a:xfrm rot="5400000">
                  <a:off x="7522920" y="4411080"/>
                  <a:ext cx="1151280" cy="1962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8" name="Group 213"/>
              <p:cNvGrpSpPr/>
              <p:nvPr/>
            </p:nvGrpSpPr>
            <p:grpSpPr>
              <a:xfrm>
                <a:off x="7624080" y="4033440"/>
                <a:ext cx="952560" cy="952560"/>
                <a:chOff x="7624080" y="4033440"/>
                <a:chExt cx="952560" cy="952560"/>
              </a:xfrm>
            </p:grpSpPr>
            <p:sp>
              <p:nvSpPr>
                <p:cNvPr id="1589" name="Oval 214"/>
                <p:cNvSpPr/>
                <p:nvPr/>
              </p:nvSpPr>
              <p:spPr>
                <a:xfrm rot="2700000">
                  <a:off x="7524720" y="4411440"/>
                  <a:ext cx="1150920" cy="1962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" name="Oval 215"/>
                <p:cNvSpPr/>
                <p:nvPr/>
              </p:nvSpPr>
              <p:spPr>
                <a:xfrm rot="8100000">
                  <a:off x="7668360" y="4379040"/>
                  <a:ext cx="862560" cy="2617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91" name="Group 216"/>
            <p:cNvGrpSpPr/>
            <p:nvPr/>
          </p:nvGrpSpPr>
          <p:grpSpPr>
            <a:xfrm>
              <a:off x="7650720" y="3938760"/>
              <a:ext cx="897840" cy="1140840"/>
              <a:chOff x="7650720" y="3938760"/>
              <a:chExt cx="897840" cy="1140840"/>
            </a:xfrm>
          </p:grpSpPr>
          <p:grpSp>
            <p:nvGrpSpPr>
              <p:cNvPr id="1592" name="Group 217"/>
              <p:cNvGrpSpPr/>
              <p:nvPr/>
            </p:nvGrpSpPr>
            <p:grpSpPr>
              <a:xfrm>
                <a:off x="7650720" y="3938760"/>
                <a:ext cx="897840" cy="1140840"/>
                <a:chOff x="7650720" y="3938760"/>
                <a:chExt cx="897840" cy="1140840"/>
              </a:xfrm>
            </p:grpSpPr>
            <p:sp>
              <p:nvSpPr>
                <p:cNvPr id="1593" name="Oval 218"/>
                <p:cNvSpPr/>
                <p:nvPr/>
              </p:nvSpPr>
              <p:spPr>
                <a:xfrm rot="1320000">
                  <a:off x="7668000" y="4377600"/>
                  <a:ext cx="862560" cy="2617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" name="Oval 219"/>
                <p:cNvSpPr/>
                <p:nvPr/>
              </p:nvSpPr>
              <p:spPr>
                <a:xfrm rot="6720000">
                  <a:off x="7523280" y="4410720"/>
                  <a:ext cx="1151280" cy="1962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5" name="Group 220"/>
              <p:cNvGrpSpPr/>
              <p:nvPr/>
            </p:nvGrpSpPr>
            <p:grpSpPr>
              <a:xfrm>
                <a:off x="7651440" y="3942000"/>
                <a:ext cx="896400" cy="1136160"/>
                <a:chOff x="7651440" y="3942000"/>
                <a:chExt cx="896400" cy="1136160"/>
              </a:xfrm>
            </p:grpSpPr>
            <p:sp>
              <p:nvSpPr>
                <p:cNvPr id="1596" name="Oval 221"/>
                <p:cNvSpPr/>
                <p:nvPr/>
              </p:nvSpPr>
              <p:spPr>
                <a:xfrm rot="4020000">
                  <a:off x="7524720" y="4411800"/>
                  <a:ext cx="1150920" cy="1962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" name="Oval 222"/>
                <p:cNvSpPr/>
                <p:nvPr/>
              </p:nvSpPr>
              <p:spPr>
                <a:xfrm rot="9420000">
                  <a:off x="7668360" y="4379040"/>
                  <a:ext cx="862560" cy="2617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98" name="Oval 223"/>
            <p:cNvSpPr/>
            <p:nvPr/>
          </p:nvSpPr>
          <p:spPr>
            <a:xfrm>
              <a:off x="7957440" y="4340520"/>
              <a:ext cx="281880" cy="336240"/>
            </a:xfrm>
            <a:prstGeom prst="ellipse">
              <a:avLst/>
            </a:prstGeom>
            <a:blipFill rotWithShape="0">
              <a:blip r:embed="rId45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9" name="Group 512"/>
          <p:cNvGrpSpPr/>
          <p:nvPr/>
        </p:nvGrpSpPr>
        <p:grpSpPr>
          <a:xfrm>
            <a:off x="537480" y="5298120"/>
            <a:ext cx="367920" cy="367920"/>
            <a:chOff x="537480" y="5298120"/>
            <a:chExt cx="367920" cy="367920"/>
          </a:xfrm>
        </p:grpSpPr>
        <p:grpSp>
          <p:nvGrpSpPr>
            <p:cNvPr id="1600" name="Group 513"/>
            <p:cNvGrpSpPr/>
            <p:nvPr/>
          </p:nvGrpSpPr>
          <p:grpSpPr>
            <a:xfrm>
              <a:off x="539640" y="5300640"/>
              <a:ext cx="363240" cy="363240"/>
              <a:chOff x="539640" y="5300640"/>
              <a:chExt cx="363240" cy="363240"/>
            </a:xfrm>
          </p:grpSpPr>
          <p:grpSp>
            <p:nvGrpSpPr>
              <p:cNvPr id="1601" name="Group 514"/>
              <p:cNvGrpSpPr/>
              <p:nvPr/>
            </p:nvGrpSpPr>
            <p:grpSpPr>
              <a:xfrm>
                <a:off x="539640" y="5300640"/>
                <a:ext cx="363240" cy="363240"/>
                <a:chOff x="539640" y="5300640"/>
                <a:chExt cx="363240" cy="363240"/>
              </a:xfrm>
            </p:grpSpPr>
            <p:sp>
              <p:nvSpPr>
                <p:cNvPr id="1602" name="Oval 515"/>
                <p:cNvSpPr/>
                <p:nvPr/>
              </p:nvSpPr>
              <p:spPr>
                <a:xfrm>
                  <a:off x="539640" y="54406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3" name="Oval 516"/>
                <p:cNvSpPr/>
                <p:nvPr/>
              </p:nvSpPr>
              <p:spPr>
                <a:xfrm rot="5400000">
                  <a:off x="539280" y="5441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4" name="Group 517"/>
              <p:cNvGrpSpPr/>
              <p:nvPr/>
            </p:nvGrpSpPr>
            <p:grpSpPr>
              <a:xfrm>
                <a:off x="563400" y="5324760"/>
                <a:ext cx="315360" cy="315000"/>
                <a:chOff x="563400" y="5324760"/>
                <a:chExt cx="315360" cy="315000"/>
              </a:xfrm>
            </p:grpSpPr>
            <p:sp>
              <p:nvSpPr>
                <p:cNvPr id="1605" name="Oval 518"/>
                <p:cNvSpPr/>
                <p:nvPr/>
              </p:nvSpPr>
              <p:spPr>
                <a:xfrm rot="2700000">
                  <a:off x="539640" y="5441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6" name="Oval 519"/>
                <p:cNvSpPr/>
                <p:nvPr/>
              </p:nvSpPr>
              <p:spPr>
                <a:xfrm rot="8100000">
                  <a:off x="538920" y="5441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07" name="Group 520"/>
            <p:cNvGrpSpPr/>
            <p:nvPr/>
          </p:nvGrpSpPr>
          <p:grpSpPr>
            <a:xfrm>
              <a:off x="537480" y="5298120"/>
              <a:ext cx="367920" cy="367920"/>
              <a:chOff x="537480" y="5298120"/>
              <a:chExt cx="367920" cy="367920"/>
            </a:xfrm>
          </p:grpSpPr>
          <p:grpSp>
            <p:nvGrpSpPr>
              <p:cNvPr id="1608" name="Group 521"/>
              <p:cNvGrpSpPr/>
              <p:nvPr/>
            </p:nvGrpSpPr>
            <p:grpSpPr>
              <a:xfrm>
                <a:off x="537480" y="5298120"/>
                <a:ext cx="367920" cy="367920"/>
                <a:chOff x="537480" y="5298120"/>
                <a:chExt cx="367920" cy="367920"/>
              </a:xfrm>
            </p:grpSpPr>
            <p:sp>
              <p:nvSpPr>
                <p:cNvPr id="1609" name="Oval 522"/>
                <p:cNvSpPr/>
                <p:nvPr/>
              </p:nvSpPr>
              <p:spPr>
                <a:xfrm rot="1320000">
                  <a:off x="539640" y="54403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0" name="Oval 523"/>
                <p:cNvSpPr/>
                <p:nvPr/>
              </p:nvSpPr>
              <p:spPr>
                <a:xfrm rot="6720000">
                  <a:off x="539280" y="54406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1" name="Group 524"/>
              <p:cNvGrpSpPr/>
              <p:nvPr/>
            </p:nvGrpSpPr>
            <p:grpSpPr>
              <a:xfrm>
                <a:off x="537840" y="5299200"/>
                <a:ext cx="366480" cy="366480"/>
                <a:chOff x="537840" y="5299200"/>
                <a:chExt cx="366480" cy="366480"/>
              </a:xfrm>
            </p:grpSpPr>
            <p:sp>
              <p:nvSpPr>
                <p:cNvPr id="1612" name="Oval 525"/>
                <p:cNvSpPr/>
                <p:nvPr/>
              </p:nvSpPr>
              <p:spPr>
                <a:xfrm rot="4020000">
                  <a:off x="539640" y="5441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" name="Oval 526"/>
                <p:cNvSpPr/>
                <p:nvPr/>
              </p:nvSpPr>
              <p:spPr>
                <a:xfrm rot="9420000">
                  <a:off x="539280" y="54406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14" name="Oval 527"/>
            <p:cNvSpPr/>
            <p:nvPr/>
          </p:nvSpPr>
          <p:spPr>
            <a:xfrm>
              <a:off x="661680" y="5428800"/>
              <a:ext cx="118800" cy="105840"/>
            </a:xfrm>
            <a:prstGeom prst="ellipse">
              <a:avLst/>
            </a:prstGeom>
            <a:blipFill rotWithShape="0">
              <a:blip r:embed="rId46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5" name="Group 1992"/>
          <p:cNvGrpSpPr/>
          <p:nvPr/>
        </p:nvGrpSpPr>
        <p:grpSpPr>
          <a:xfrm>
            <a:off x="6012000" y="765000"/>
            <a:ext cx="844560" cy="844560"/>
            <a:chOff x="6012000" y="765000"/>
            <a:chExt cx="844560" cy="844560"/>
          </a:xfrm>
        </p:grpSpPr>
        <p:sp>
          <p:nvSpPr>
            <p:cNvPr id="1616" name="AutoShape 1993"/>
            <p:cNvSpPr/>
            <p:nvPr/>
          </p:nvSpPr>
          <p:spPr>
            <a:xfrm>
              <a:off x="6012000" y="765000"/>
              <a:ext cx="844560" cy="844560"/>
            </a:xfrm>
            <a:custGeom>
              <a:avLst/>
              <a:gdLst>
                <a:gd name="textAreaLeft" fmla="*/ 348120 w 844560"/>
                <a:gd name="textAreaRight" fmla="*/ 496440 w 844560"/>
                <a:gd name="textAreaTop" fmla="*/ 348120 h 844560"/>
                <a:gd name="textAreaBottom" fmla="*/ 496440 h 84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AutoShape 1994"/>
            <p:cNvSpPr/>
            <p:nvPr/>
          </p:nvSpPr>
          <p:spPr>
            <a:xfrm rot="2700000">
              <a:off x="6180840" y="933480"/>
              <a:ext cx="507600" cy="506160"/>
            </a:xfrm>
            <a:custGeom>
              <a:avLst/>
              <a:gdLst>
                <a:gd name="textAreaLeft" fmla="*/ 209160 w 507600"/>
                <a:gd name="textAreaRight" fmla="*/ 298440 w 507600"/>
                <a:gd name="textAreaTop" fmla="*/ 208440 h 506160"/>
                <a:gd name="textAreaBottom" fmla="*/ 297720 h 50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Oval 1995"/>
            <p:cNvSpPr/>
            <p:nvPr/>
          </p:nvSpPr>
          <p:spPr>
            <a:xfrm>
              <a:off x="6308640" y="1061640"/>
              <a:ext cx="250920" cy="250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19215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9" name="Group 1996"/>
          <p:cNvGrpSpPr/>
          <p:nvPr/>
        </p:nvGrpSpPr>
        <p:grpSpPr>
          <a:xfrm>
            <a:off x="4572000" y="1628640"/>
            <a:ext cx="844560" cy="844560"/>
            <a:chOff x="4572000" y="1628640"/>
            <a:chExt cx="844560" cy="844560"/>
          </a:xfrm>
        </p:grpSpPr>
        <p:sp>
          <p:nvSpPr>
            <p:cNvPr id="1620" name="AutoShape 1997"/>
            <p:cNvSpPr/>
            <p:nvPr/>
          </p:nvSpPr>
          <p:spPr>
            <a:xfrm>
              <a:off x="4572000" y="1628640"/>
              <a:ext cx="844560" cy="844560"/>
            </a:xfrm>
            <a:custGeom>
              <a:avLst/>
              <a:gdLst>
                <a:gd name="textAreaLeft" fmla="*/ 348120 w 844560"/>
                <a:gd name="textAreaRight" fmla="*/ 496440 w 844560"/>
                <a:gd name="textAreaTop" fmla="*/ 348120 h 844560"/>
                <a:gd name="textAreaBottom" fmla="*/ 496440 h 84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AutoShape 1998"/>
            <p:cNvSpPr/>
            <p:nvPr/>
          </p:nvSpPr>
          <p:spPr>
            <a:xfrm rot="2700000">
              <a:off x="4740840" y="1797120"/>
              <a:ext cx="507600" cy="506160"/>
            </a:xfrm>
            <a:custGeom>
              <a:avLst/>
              <a:gdLst>
                <a:gd name="textAreaLeft" fmla="*/ 209160 w 507600"/>
                <a:gd name="textAreaRight" fmla="*/ 298440 w 507600"/>
                <a:gd name="textAreaTop" fmla="*/ 208440 h 506160"/>
                <a:gd name="textAreaBottom" fmla="*/ 297720 h 50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Oval 1999"/>
            <p:cNvSpPr/>
            <p:nvPr/>
          </p:nvSpPr>
          <p:spPr>
            <a:xfrm>
              <a:off x="4868640" y="1925280"/>
              <a:ext cx="250920" cy="250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19215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3" name="Group 2000"/>
          <p:cNvGrpSpPr/>
          <p:nvPr/>
        </p:nvGrpSpPr>
        <p:grpSpPr>
          <a:xfrm>
            <a:off x="2916360" y="620640"/>
            <a:ext cx="844560" cy="844560"/>
            <a:chOff x="2916360" y="620640"/>
            <a:chExt cx="844560" cy="844560"/>
          </a:xfrm>
        </p:grpSpPr>
        <p:sp>
          <p:nvSpPr>
            <p:cNvPr id="1624" name="AutoShape 2001"/>
            <p:cNvSpPr/>
            <p:nvPr/>
          </p:nvSpPr>
          <p:spPr>
            <a:xfrm>
              <a:off x="2916360" y="620640"/>
              <a:ext cx="844560" cy="844560"/>
            </a:xfrm>
            <a:custGeom>
              <a:avLst/>
              <a:gdLst>
                <a:gd name="textAreaLeft" fmla="*/ 348120 w 844560"/>
                <a:gd name="textAreaRight" fmla="*/ 496440 w 844560"/>
                <a:gd name="textAreaTop" fmla="*/ 348120 h 844560"/>
                <a:gd name="textAreaBottom" fmla="*/ 496440 h 84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AutoShape 2002"/>
            <p:cNvSpPr/>
            <p:nvPr/>
          </p:nvSpPr>
          <p:spPr>
            <a:xfrm rot="2700000">
              <a:off x="3085200" y="789120"/>
              <a:ext cx="507600" cy="506160"/>
            </a:xfrm>
            <a:custGeom>
              <a:avLst/>
              <a:gdLst>
                <a:gd name="textAreaLeft" fmla="*/ 209160 w 507600"/>
                <a:gd name="textAreaRight" fmla="*/ 298440 w 507600"/>
                <a:gd name="textAreaTop" fmla="*/ 208440 h 506160"/>
                <a:gd name="textAreaBottom" fmla="*/ 297720 h 50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Oval 2003"/>
            <p:cNvSpPr/>
            <p:nvPr/>
          </p:nvSpPr>
          <p:spPr>
            <a:xfrm>
              <a:off x="3213000" y="917280"/>
              <a:ext cx="250920" cy="250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19215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7" name="Group 2004"/>
          <p:cNvGrpSpPr/>
          <p:nvPr/>
        </p:nvGrpSpPr>
        <p:grpSpPr>
          <a:xfrm>
            <a:off x="1979640" y="1197000"/>
            <a:ext cx="576360" cy="576360"/>
            <a:chOff x="1979640" y="1197000"/>
            <a:chExt cx="576360" cy="576360"/>
          </a:xfrm>
        </p:grpSpPr>
        <p:sp>
          <p:nvSpPr>
            <p:cNvPr id="1628" name="AutoShape 2005"/>
            <p:cNvSpPr/>
            <p:nvPr/>
          </p:nvSpPr>
          <p:spPr>
            <a:xfrm>
              <a:off x="1979640" y="1197000"/>
              <a:ext cx="576360" cy="576360"/>
            </a:xfrm>
            <a:custGeom>
              <a:avLst/>
              <a:gdLst>
                <a:gd name="textAreaLeft" fmla="*/ 237600 w 576360"/>
                <a:gd name="textAreaRight" fmla="*/ 338760 w 576360"/>
                <a:gd name="textAreaTop" fmla="*/ 237600 h 576360"/>
                <a:gd name="textAreaBottom" fmla="*/ 3387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AutoShape 2006"/>
            <p:cNvSpPr/>
            <p:nvPr/>
          </p:nvSpPr>
          <p:spPr>
            <a:xfrm rot="2700000">
              <a:off x="2095200" y="1312920"/>
              <a:ext cx="345960" cy="345960"/>
            </a:xfrm>
            <a:custGeom>
              <a:avLst/>
              <a:gdLst>
                <a:gd name="textAreaLeft" fmla="*/ 142560 w 345960"/>
                <a:gd name="textAreaRight" fmla="*/ 203400 w 345960"/>
                <a:gd name="textAreaTop" fmla="*/ 142560 h 345960"/>
                <a:gd name="textAreaBottom" fmla="*/ 203400 h 34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Oval 2007"/>
            <p:cNvSpPr/>
            <p:nvPr/>
          </p:nvSpPr>
          <p:spPr>
            <a:xfrm>
              <a:off x="2183040" y="1400400"/>
              <a:ext cx="169920" cy="169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19215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1" name="Group 2008"/>
          <p:cNvGrpSpPr/>
          <p:nvPr/>
        </p:nvGrpSpPr>
        <p:grpSpPr>
          <a:xfrm>
            <a:off x="4149720" y="549360"/>
            <a:ext cx="709560" cy="709560"/>
            <a:chOff x="4149720" y="549360"/>
            <a:chExt cx="709560" cy="709560"/>
          </a:xfrm>
        </p:grpSpPr>
        <p:sp>
          <p:nvSpPr>
            <p:cNvPr id="1632" name="AutoShape 2009"/>
            <p:cNvSpPr/>
            <p:nvPr/>
          </p:nvSpPr>
          <p:spPr>
            <a:xfrm>
              <a:off x="4149720" y="549360"/>
              <a:ext cx="709560" cy="709560"/>
            </a:xfrm>
            <a:custGeom>
              <a:avLst/>
              <a:gdLst>
                <a:gd name="textAreaLeft" fmla="*/ 292320 w 709560"/>
                <a:gd name="textAreaRight" fmla="*/ 417240 w 709560"/>
                <a:gd name="textAreaTop" fmla="*/ 292320 h 709560"/>
                <a:gd name="textAreaBottom" fmla="*/ 417240 h 7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AutoShape 2010"/>
            <p:cNvSpPr/>
            <p:nvPr/>
          </p:nvSpPr>
          <p:spPr>
            <a:xfrm rot="2700000">
              <a:off x="4291920" y="690840"/>
              <a:ext cx="427320" cy="425520"/>
            </a:xfrm>
            <a:custGeom>
              <a:avLst/>
              <a:gdLst>
                <a:gd name="textAreaLeft" fmla="*/ 176040 w 427320"/>
                <a:gd name="textAreaRight" fmla="*/ 251280 w 427320"/>
                <a:gd name="textAreaTop" fmla="*/ 175320 h 425520"/>
                <a:gd name="textAreaBottom" fmla="*/ 250200 h 425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Oval 2011"/>
            <p:cNvSpPr/>
            <p:nvPr/>
          </p:nvSpPr>
          <p:spPr>
            <a:xfrm>
              <a:off x="4398840" y="798480"/>
              <a:ext cx="210960" cy="210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19215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5" name="Group 2012"/>
          <p:cNvGrpSpPr/>
          <p:nvPr/>
        </p:nvGrpSpPr>
        <p:grpSpPr>
          <a:xfrm>
            <a:off x="1403280" y="2421000"/>
            <a:ext cx="576360" cy="576360"/>
            <a:chOff x="1403280" y="2421000"/>
            <a:chExt cx="576360" cy="576360"/>
          </a:xfrm>
        </p:grpSpPr>
        <p:sp>
          <p:nvSpPr>
            <p:cNvPr id="1636" name="AutoShape 2013"/>
            <p:cNvSpPr/>
            <p:nvPr/>
          </p:nvSpPr>
          <p:spPr>
            <a:xfrm>
              <a:off x="1403280" y="2421000"/>
              <a:ext cx="576360" cy="576360"/>
            </a:xfrm>
            <a:custGeom>
              <a:avLst/>
              <a:gdLst>
                <a:gd name="textAreaLeft" fmla="*/ 237600 w 576360"/>
                <a:gd name="textAreaRight" fmla="*/ 338760 w 576360"/>
                <a:gd name="textAreaTop" fmla="*/ 237600 h 576360"/>
                <a:gd name="textAreaBottom" fmla="*/ 3387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AutoShape 2014"/>
            <p:cNvSpPr/>
            <p:nvPr/>
          </p:nvSpPr>
          <p:spPr>
            <a:xfrm rot="2700000">
              <a:off x="1518840" y="2536920"/>
              <a:ext cx="345960" cy="345960"/>
            </a:xfrm>
            <a:custGeom>
              <a:avLst/>
              <a:gdLst>
                <a:gd name="textAreaLeft" fmla="*/ 142560 w 345960"/>
                <a:gd name="textAreaRight" fmla="*/ 203400 w 345960"/>
                <a:gd name="textAreaTop" fmla="*/ 142560 h 345960"/>
                <a:gd name="textAreaBottom" fmla="*/ 203400 h 34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Oval 2015"/>
            <p:cNvSpPr/>
            <p:nvPr/>
          </p:nvSpPr>
          <p:spPr>
            <a:xfrm>
              <a:off x="1606680" y="2624400"/>
              <a:ext cx="169920" cy="169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19215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9" name="Group 2016"/>
          <p:cNvGrpSpPr/>
          <p:nvPr/>
        </p:nvGrpSpPr>
        <p:grpSpPr>
          <a:xfrm>
            <a:off x="1763640" y="3933720"/>
            <a:ext cx="576360" cy="576360"/>
            <a:chOff x="1763640" y="3933720"/>
            <a:chExt cx="576360" cy="576360"/>
          </a:xfrm>
        </p:grpSpPr>
        <p:sp>
          <p:nvSpPr>
            <p:cNvPr id="1640" name="AutoShape 2017"/>
            <p:cNvSpPr/>
            <p:nvPr/>
          </p:nvSpPr>
          <p:spPr>
            <a:xfrm>
              <a:off x="1763640" y="3933720"/>
              <a:ext cx="576360" cy="576360"/>
            </a:xfrm>
            <a:custGeom>
              <a:avLst/>
              <a:gdLst>
                <a:gd name="textAreaLeft" fmla="*/ 237600 w 576360"/>
                <a:gd name="textAreaRight" fmla="*/ 338760 w 576360"/>
                <a:gd name="textAreaTop" fmla="*/ 237600 h 576360"/>
                <a:gd name="textAreaBottom" fmla="*/ 3387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AutoShape 2018"/>
            <p:cNvSpPr/>
            <p:nvPr/>
          </p:nvSpPr>
          <p:spPr>
            <a:xfrm rot="2700000">
              <a:off x="1879200" y="4049640"/>
              <a:ext cx="345960" cy="345960"/>
            </a:xfrm>
            <a:custGeom>
              <a:avLst/>
              <a:gdLst>
                <a:gd name="textAreaLeft" fmla="*/ 142560 w 345960"/>
                <a:gd name="textAreaRight" fmla="*/ 203400 w 345960"/>
                <a:gd name="textAreaTop" fmla="*/ 142560 h 345960"/>
                <a:gd name="textAreaBottom" fmla="*/ 203400 h 34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Oval 2019"/>
            <p:cNvSpPr/>
            <p:nvPr/>
          </p:nvSpPr>
          <p:spPr>
            <a:xfrm>
              <a:off x="1967040" y="4137120"/>
              <a:ext cx="169920" cy="169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19215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3" name="Group 2020"/>
          <p:cNvGrpSpPr/>
          <p:nvPr/>
        </p:nvGrpSpPr>
        <p:grpSpPr>
          <a:xfrm>
            <a:off x="5796000" y="3429000"/>
            <a:ext cx="576360" cy="576360"/>
            <a:chOff x="5796000" y="3429000"/>
            <a:chExt cx="576360" cy="576360"/>
          </a:xfrm>
        </p:grpSpPr>
        <p:sp>
          <p:nvSpPr>
            <p:cNvPr id="1644" name="AutoShape 2021"/>
            <p:cNvSpPr/>
            <p:nvPr/>
          </p:nvSpPr>
          <p:spPr>
            <a:xfrm>
              <a:off x="5796000" y="3429000"/>
              <a:ext cx="576360" cy="576360"/>
            </a:xfrm>
            <a:custGeom>
              <a:avLst/>
              <a:gdLst>
                <a:gd name="textAreaLeft" fmla="*/ 237600 w 576360"/>
                <a:gd name="textAreaRight" fmla="*/ 338760 w 576360"/>
                <a:gd name="textAreaTop" fmla="*/ 237600 h 576360"/>
                <a:gd name="textAreaBottom" fmla="*/ 3387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AutoShape 2022"/>
            <p:cNvSpPr/>
            <p:nvPr/>
          </p:nvSpPr>
          <p:spPr>
            <a:xfrm rot="2700000">
              <a:off x="5911560" y="3544920"/>
              <a:ext cx="345960" cy="345960"/>
            </a:xfrm>
            <a:custGeom>
              <a:avLst/>
              <a:gdLst>
                <a:gd name="textAreaLeft" fmla="*/ 142560 w 345960"/>
                <a:gd name="textAreaRight" fmla="*/ 203400 w 345960"/>
                <a:gd name="textAreaTop" fmla="*/ 142560 h 345960"/>
                <a:gd name="textAreaBottom" fmla="*/ 203400 h 34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Oval 2023"/>
            <p:cNvSpPr/>
            <p:nvPr/>
          </p:nvSpPr>
          <p:spPr>
            <a:xfrm>
              <a:off x="5999400" y="3632400"/>
              <a:ext cx="169920" cy="169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19215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7" name="Group 2024"/>
          <p:cNvGrpSpPr/>
          <p:nvPr/>
        </p:nvGrpSpPr>
        <p:grpSpPr>
          <a:xfrm>
            <a:off x="6877080" y="3139920"/>
            <a:ext cx="576360" cy="576360"/>
            <a:chOff x="6877080" y="3139920"/>
            <a:chExt cx="576360" cy="576360"/>
          </a:xfrm>
        </p:grpSpPr>
        <p:sp>
          <p:nvSpPr>
            <p:cNvPr id="1648" name="AutoShape 2025"/>
            <p:cNvSpPr/>
            <p:nvPr/>
          </p:nvSpPr>
          <p:spPr>
            <a:xfrm>
              <a:off x="6877080" y="3139920"/>
              <a:ext cx="576360" cy="576360"/>
            </a:xfrm>
            <a:custGeom>
              <a:avLst/>
              <a:gdLst>
                <a:gd name="textAreaLeft" fmla="*/ 237600 w 576360"/>
                <a:gd name="textAreaRight" fmla="*/ 338760 w 576360"/>
                <a:gd name="textAreaTop" fmla="*/ 237600 h 576360"/>
                <a:gd name="textAreaBottom" fmla="*/ 3387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AutoShape 2026"/>
            <p:cNvSpPr/>
            <p:nvPr/>
          </p:nvSpPr>
          <p:spPr>
            <a:xfrm rot="2700000">
              <a:off x="6992640" y="3255840"/>
              <a:ext cx="345960" cy="345960"/>
            </a:xfrm>
            <a:custGeom>
              <a:avLst/>
              <a:gdLst>
                <a:gd name="textAreaLeft" fmla="*/ 142560 w 345960"/>
                <a:gd name="textAreaRight" fmla="*/ 203400 w 345960"/>
                <a:gd name="textAreaTop" fmla="*/ 142560 h 345960"/>
                <a:gd name="textAreaBottom" fmla="*/ 203400 h 34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Oval 2027"/>
            <p:cNvSpPr/>
            <p:nvPr/>
          </p:nvSpPr>
          <p:spPr>
            <a:xfrm>
              <a:off x="7080480" y="3343320"/>
              <a:ext cx="169920" cy="169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19215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1" name="Group 272"/>
          <p:cNvGrpSpPr/>
          <p:nvPr/>
        </p:nvGrpSpPr>
        <p:grpSpPr>
          <a:xfrm>
            <a:off x="4818960" y="5658480"/>
            <a:ext cx="367920" cy="367920"/>
            <a:chOff x="4818960" y="5658480"/>
            <a:chExt cx="367920" cy="367920"/>
          </a:xfrm>
        </p:grpSpPr>
        <p:grpSp>
          <p:nvGrpSpPr>
            <p:cNvPr id="1652" name="Group 273"/>
            <p:cNvGrpSpPr/>
            <p:nvPr/>
          </p:nvGrpSpPr>
          <p:grpSpPr>
            <a:xfrm>
              <a:off x="4821120" y="5661000"/>
              <a:ext cx="363240" cy="363240"/>
              <a:chOff x="4821120" y="5661000"/>
              <a:chExt cx="363240" cy="363240"/>
            </a:xfrm>
          </p:grpSpPr>
          <p:grpSp>
            <p:nvGrpSpPr>
              <p:cNvPr id="1653" name="Group 274"/>
              <p:cNvGrpSpPr/>
              <p:nvPr/>
            </p:nvGrpSpPr>
            <p:grpSpPr>
              <a:xfrm>
                <a:off x="4821120" y="5661000"/>
                <a:ext cx="363240" cy="363240"/>
                <a:chOff x="4821120" y="5661000"/>
                <a:chExt cx="363240" cy="363240"/>
              </a:xfrm>
            </p:grpSpPr>
            <p:sp>
              <p:nvSpPr>
                <p:cNvPr id="1654" name="Oval 275"/>
                <p:cNvSpPr/>
                <p:nvPr/>
              </p:nvSpPr>
              <p:spPr>
                <a:xfrm>
                  <a:off x="4821120" y="5801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5" name="Oval 276"/>
                <p:cNvSpPr/>
                <p:nvPr/>
              </p:nvSpPr>
              <p:spPr>
                <a:xfrm rot="5400000">
                  <a:off x="4820760" y="5801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6" name="Group 277"/>
              <p:cNvGrpSpPr/>
              <p:nvPr/>
            </p:nvGrpSpPr>
            <p:grpSpPr>
              <a:xfrm>
                <a:off x="4844880" y="5685120"/>
                <a:ext cx="315360" cy="315000"/>
                <a:chOff x="4844880" y="5685120"/>
                <a:chExt cx="315360" cy="315000"/>
              </a:xfrm>
            </p:grpSpPr>
            <p:sp>
              <p:nvSpPr>
                <p:cNvPr id="1657" name="Oval 278"/>
                <p:cNvSpPr/>
                <p:nvPr/>
              </p:nvSpPr>
              <p:spPr>
                <a:xfrm rot="2700000">
                  <a:off x="4821120" y="5801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8" name="Oval 279"/>
                <p:cNvSpPr/>
                <p:nvPr/>
              </p:nvSpPr>
              <p:spPr>
                <a:xfrm rot="8100000">
                  <a:off x="4820400" y="5801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9" name="Group 280"/>
            <p:cNvGrpSpPr/>
            <p:nvPr/>
          </p:nvGrpSpPr>
          <p:grpSpPr>
            <a:xfrm>
              <a:off x="4818960" y="5658480"/>
              <a:ext cx="367920" cy="367920"/>
              <a:chOff x="4818960" y="5658480"/>
              <a:chExt cx="367920" cy="367920"/>
            </a:xfrm>
          </p:grpSpPr>
          <p:grpSp>
            <p:nvGrpSpPr>
              <p:cNvPr id="1660" name="Group 281"/>
              <p:cNvGrpSpPr/>
              <p:nvPr/>
            </p:nvGrpSpPr>
            <p:grpSpPr>
              <a:xfrm>
                <a:off x="4818960" y="5658480"/>
                <a:ext cx="367920" cy="367920"/>
                <a:chOff x="4818960" y="5658480"/>
                <a:chExt cx="367920" cy="367920"/>
              </a:xfrm>
            </p:grpSpPr>
            <p:sp>
              <p:nvSpPr>
                <p:cNvPr id="1661" name="Oval 282"/>
                <p:cNvSpPr/>
                <p:nvPr/>
              </p:nvSpPr>
              <p:spPr>
                <a:xfrm rot="1320000">
                  <a:off x="4821120" y="58006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2" name="Oval 283"/>
                <p:cNvSpPr/>
                <p:nvPr/>
              </p:nvSpPr>
              <p:spPr>
                <a:xfrm rot="6720000">
                  <a:off x="4820760" y="5801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3" name="Group 284"/>
              <p:cNvGrpSpPr/>
              <p:nvPr/>
            </p:nvGrpSpPr>
            <p:grpSpPr>
              <a:xfrm>
                <a:off x="4819320" y="5659560"/>
                <a:ext cx="366480" cy="366480"/>
                <a:chOff x="4819320" y="5659560"/>
                <a:chExt cx="366480" cy="366480"/>
              </a:xfrm>
            </p:grpSpPr>
            <p:sp>
              <p:nvSpPr>
                <p:cNvPr id="1664" name="Oval 285"/>
                <p:cNvSpPr/>
                <p:nvPr/>
              </p:nvSpPr>
              <p:spPr>
                <a:xfrm rot="4020000">
                  <a:off x="4821120" y="5801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5" name="Oval 286"/>
                <p:cNvSpPr/>
                <p:nvPr/>
              </p:nvSpPr>
              <p:spPr>
                <a:xfrm rot="9420000">
                  <a:off x="4820760" y="5801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66" name="Oval 287"/>
            <p:cNvSpPr/>
            <p:nvPr/>
          </p:nvSpPr>
          <p:spPr>
            <a:xfrm>
              <a:off x="4943160" y="5789160"/>
              <a:ext cx="118800" cy="105840"/>
            </a:xfrm>
            <a:prstGeom prst="ellipse">
              <a:avLst/>
            </a:prstGeom>
            <a:blipFill rotWithShape="0">
              <a:blip r:embed="rId47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7" name="Text Box 2028"/>
          <p:cNvSpPr/>
          <p:nvPr/>
        </p:nvSpPr>
        <p:spPr>
          <a:xfrm>
            <a:off x="539640" y="1844640"/>
            <a:ext cx="7417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叶根友行书繁"/>
              </a:rPr>
              <a:t>春天来了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花儿红了，草儿绿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Text Box 2029"/>
          <p:cNvSpPr/>
          <p:nvPr/>
        </p:nvSpPr>
        <p:spPr>
          <a:xfrm>
            <a:off x="2268360" y="2421000"/>
            <a:ext cx="59756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叶根友行书繁"/>
              </a:rPr>
              <a:t>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叶根友行书繁"/>
              </a:rPr>
              <a:t>让我们去春游吧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5000" fill="hold"/>
                                        <p:tgtEl>
                                          <p:spTgt spid="15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" dur="5000" fill="hold"/>
                                        <p:tgtEl>
                                          <p:spTgt spid="1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50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" dur="2500" autoRev="1" fill="hold"/>
                                        <p:tgtEl>
                                          <p:spTgt spid="15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13" dur="30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" autoRev="1" nodeType="withEffect" fill="hold" presetClass="emph" presetID="8" repeatCount="indefinite">
                                  <p:stCondLst>
                                    <p:cond delay="500"/>
                                  </p:stCondLst>
                                  <p:childTnLst>
                                    <p:animRot by="1200000">
                                      <p:cBhvr>
                                        <p:cTn id="15" dur="2000" fill="hold"/>
                                        <p:tgtEl>
                                          <p:spTgt spid="15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" autoRev="1" nodeType="withEffect" fill="hold" presetClass="emph" presetID="8" repeatCount="indefinite">
                                  <p:stCondLst>
                                    <p:cond delay="1000"/>
                                  </p:stCondLst>
                                  <p:childTnLst>
                                    <p:animRot by="1200000">
                                      <p:cBhvr>
                                        <p:cTn id="17" dur="3000" fill="hold"/>
                                        <p:tgtEl>
                                          <p:spTgt spid="1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9167 -0.04763 -0.18316 -0.09503 -0.25903 -0.09618 C -0.3349 -0.09734 -0.36233 -0.02243 -0.45573 -0.00647 C -0.54914 0.00948 -0.71389 0.01595 -0.81962 0 C -0.92535 -0.01595 -1.00782 -0.05942 -1.09011 -0.10266 E">
                                      <p:cBhvr>
                                        <p:cTn id="19" dur="20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9167 -0.04763 -0.18316 -0.09503 -0.25903 -0.09618 C -0.3349 -0.09734 -0.36233 -0.02243 -0.45573 -0.00647 C -0.54914 0.00948 -0.71389 0.01595 -0.81962 0 C -0.92535 -0.01595 -1.00782 -0.05942 -1.09011 -0.10266 E">
                                      <p:cBhvr>
                                        <p:cTn id="21" dur="20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9167 -0.04763 -0.18316 -0.09503 -0.25903 -0.09618 C -0.3349 -0.09734 -0.36233 -0.02243 -0.45573 -0.00647 C -0.54914 0.00948 -0.71389 0.01595 -0.81962 0 C -0.92535 -0.01595 -1.00782 -0.05942 -1.09011 -0.10266 E">
                                      <p:cBhvr>
                                        <p:cTn id="23" dur="20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9167 -0.04763 -0.18316 -0.09503 -0.25903 -0.09618 C -0.3349 -0.09734 -0.36233 -0.02243 -0.45573 -0.00647 C -0.54914 0.00948 -0.71389 0.01595 -0.81962 0 C -0.92535 -0.01595 -1.00782 -0.05942 -1.09011 -0.10266 E">
                                      <p:cBhvr>
                                        <p:cTn id="25" dur="20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5000"/>
                                        <p:tgtEl>
                                          <p:spTgt spid="16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2500" autoRev="1" fill="hold"/>
                                        <p:tgtEl>
                                          <p:spTgt spid="16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5000" fill="hold"/>
                                        <p:tgtEl>
                                          <p:spTgt spid="161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" dur="5000" fill="hold"/>
                                        <p:tgtEl>
                                          <p:spTgt spid="1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50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2500" autoRev="1" fill="hold"/>
                                        <p:tgtEl>
                                          <p:spTgt spid="16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6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" dur="5000" fill="hold"/>
                                        <p:tgtEl>
                                          <p:spTgt spid="161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" dur="50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5000"/>
                                        <p:tgtEl>
                                          <p:spTgt spid="16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" dur="2500" autoRev="1" fill="hold"/>
                                        <p:tgtEl>
                                          <p:spTgt spid="16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" dur="5000" fill="hold"/>
                                        <p:tgtEl>
                                          <p:spTgt spid="16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" dur="5000" fill="hold"/>
                                        <p:tgtEl>
                                          <p:spTgt spid="1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5000"/>
                                        <p:tgtEl>
                                          <p:spTgt spid="16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2500" autoRev="1" fill="hold"/>
                                        <p:tgtEl>
                                          <p:spTgt spid="16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0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" dur="5000" fill="hold"/>
                                        <p:tgtEl>
                                          <p:spTgt spid="16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" dur="5000" fill="hold"/>
                                        <p:tgtEl>
                                          <p:spTgt spid="16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50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" dur="2500" autoRev="1" fill="hold"/>
                                        <p:tgtEl>
                                          <p:spTgt spid="16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" dur="5000" fill="hold"/>
                                        <p:tgtEl>
                                          <p:spTgt spid="163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0" dur="500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5000"/>
                                        <p:tgtEl>
                                          <p:spTgt spid="16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2500" autoRev="1" fill="hold"/>
                                        <p:tgtEl>
                                          <p:spTgt spid="16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4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5" dur="5000" fill="hold"/>
                                        <p:tgtEl>
                                          <p:spTgt spid="163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7" dur="5000" fill="hold"/>
                                        <p:tgtEl>
                                          <p:spTgt spid="16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5000"/>
                                        <p:tgtEl>
                                          <p:spTgt spid="16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" dur="2500" autoRev="1" fill="hold"/>
                                        <p:tgtEl>
                                          <p:spTgt spid="16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2" dur="5000" fill="hold"/>
                                        <p:tgtEl>
                                          <p:spTgt spid="163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" dur="5000" fill="hold"/>
                                        <p:tgtEl>
                                          <p:spTgt spid="16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5000"/>
                                        <p:tgtEl>
                                          <p:spTgt spid="16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" dur="2500" autoRev="1" fill="hold"/>
                                        <p:tgtEl>
                                          <p:spTgt spid="16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9" dur="5000" fill="hold"/>
                                        <p:tgtEl>
                                          <p:spTgt spid="16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1" dur="500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5000"/>
                                        <p:tgtEl>
                                          <p:spTgt spid="16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" dur="2500" autoRev="1" fill="hold"/>
                                        <p:tgtEl>
                                          <p:spTgt spid="16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5000" fill="hold"/>
                                        <p:tgtEl>
                                          <p:spTgt spid="16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8" dur="500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3" presetSubtype="6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" dur="2000" fill="hold"/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3" presetSubtype="6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2000" fill="hold"/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66cc"/>
                </a:solidFill>
                <a:latin typeface="Arial"/>
              </a:rPr>
              <a:t>小学生可做的</a:t>
            </a:r>
            <a:r>
              <a:rPr b="1" i="1" lang="zh-CN" sz="4400" spc="-1" strike="noStrike">
                <a:solidFill>
                  <a:srgbClr val="ff66cc"/>
                </a:solidFill>
                <a:latin typeface="Arial"/>
              </a:rPr>
              <a:t>20</a:t>
            </a:r>
            <a:r>
              <a:rPr b="1" i="1" lang="zh-CN" sz="4400" spc="-1" strike="noStrike">
                <a:solidFill>
                  <a:srgbClr val="ff66cc"/>
                </a:solidFill>
                <a:latin typeface="Arial"/>
              </a:rPr>
              <a:t>件环保小事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1 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使用布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随手关闭水龙头、灯，节约用水、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回收废电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、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废金属、废塑料、废玻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拒绝使用一次性筷子非降解塑料餐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5 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倡步行，骑单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少吃口香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使用节能型灯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8 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双面使用纸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9 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节约粮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节省纸张，回收废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11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认识环保标志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12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垃圾分类回收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13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不向江河湖海倾倒垃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14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遇见垃圾要拾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15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支持环保募捐、旧物捐给贫困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16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认识、保护森林和海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17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阅读和传阅环保书籍、报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18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参与环保宣传（父母，亲友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19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关注新闻媒体有关环保的报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20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做环保志愿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/>
          </p:nvPr>
        </p:nvSpPr>
        <p:spPr>
          <a:xfrm>
            <a:off x="358560" y="260280"/>
            <a:ext cx="878508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倡议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亲爱的同学们，环境保护是一项长期而又艰巨的任务，让我们从自身做起，从捡起身边的一张废纸、分类投放垃圾做起，为我们自己更好地生活，保护好我们的环境吧！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/>
          </p:nvPr>
        </p:nvSpPr>
        <p:spPr>
          <a:xfrm>
            <a:off x="684360" y="1412640"/>
            <a:ext cx="8007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以保护大自然为主题，用图片和文字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做一个“爱护环境”的小卡片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每天统计自己为“保护环境”做了几件事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制作“环保知识”手抄报，宣传环保知识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826920" y="476280"/>
            <a:ext cx="424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加入“环保行动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"/>
          <p:cNvSpPr/>
          <p:nvPr/>
        </p:nvSpPr>
        <p:spPr>
          <a:xfrm>
            <a:off x="1963800" y="620640"/>
            <a:ext cx="444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看到大自然中这美丽的景色，你想到些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468360" y="1844640"/>
            <a:ext cx="822960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62672"/>
                </a:solidFill>
                <a:latin typeface="Arial"/>
              </a:rPr>
              <a:t>谁不希望头顶的天空湛蓝如镜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62672"/>
                </a:solidFill>
                <a:latin typeface="Arial"/>
              </a:rPr>
              <a:t>谁不希望脚下的大地绿草如茵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62672"/>
                </a:solidFill>
                <a:latin typeface="Arial"/>
              </a:rPr>
              <a:t>谁不希望身边的湖水清澈明净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62672"/>
                </a:solidFill>
                <a:latin typeface="Arial"/>
              </a:rPr>
              <a:t>谁不希望眼前的阳光灿烂如金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100720" cy="6858000"/>
          </a:xfrm>
          <a:prstGeom prst="rect">
            <a:avLst/>
          </a:prstGeom>
          <a:ln w="0">
            <a:noFill/>
          </a:ln>
        </p:spPr>
      </p:pic>
      <p:sp>
        <p:nvSpPr>
          <p:cNvPr id="1672" name=""/>
          <p:cNvSpPr txBox="1"/>
          <p:nvPr/>
        </p:nvSpPr>
        <p:spPr>
          <a:xfrm>
            <a:off x="468360" y="1557360"/>
            <a:ext cx="7416720" cy="25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 </a:t>
            </a:r>
            <a:r>
              <a:rPr b="0" lang="zh-CN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保护环境    人人有责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673" name=""/>
          <p:cNvSpPr/>
          <p:nvPr/>
        </p:nvSpPr>
        <p:spPr>
          <a:xfrm>
            <a:off x="5060160" y="4319640"/>
            <a:ext cx="275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三年级主题班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/>
          </p:nvPr>
        </p:nvSpPr>
        <p:spPr>
          <a:xfrm>
            <a:off x="684360" y="83664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们不断破坏环境，不好好保护我们的大自然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 . . . . 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08:35:54Z</dcterms:created>
  <dc:creator>szoec</dc:creator>
  <dc:description/>
  <dc:language>en-US</dc:language>
  <cp:lastModifiedBy>wgyfx</cp:lastModifiedBy>
  <dcterms:modified xsi:type="dcterms:W3CDTF">2012-03-19T05:12:35Z</dcterms:modified>
  <cp:revision>64</cp:revision>
  <dc:subject/>
  <dc:title>PowerPoint 演示文稿</dc:title>
</cp:coreProperties>
</file>