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01D-A5B4-4D3C-A9A1-06812D9F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FA1-3A2D-4608-BFA0-B8A8D831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0275-D0E7-4F20-8AAF-318C610D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C6E-E98B-4A8C-96E5-15967821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790-815C-4A93-A930-410CF456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EBC-35B2-4CB1-948A-44A237E3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211-E307-4BC5-AA06-05A61B38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291-C981-4807-B8DA-BCA2BDB9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C4A-B187-4439-96B4-08E737BE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623-89ED-4675-9D90-4EC2F99A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B721-399B-4202-A252-21E3C242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D1B-4EA4-4702-A542-7FA9BCA0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66FA-926A-4D5B-9580-D474B85A7B9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60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6-01T02:30:16Z</dcterms:modified>
  <cp:revision>97</cp:revision>
  <dc:subject/>
  <dc:title>投影片 1</dc:title>
</cp:coreProperties>
</file>