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1FC-2763-45BF-9261-8EA9E8B7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D25-3A2E-40E4-A4E2-7F980D3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35A-8B16-4D16-8690-50846983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6F9-65C8-4BDB-AEBE-2A36FC42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58C-E5EF-4E37-A243-0C33BB26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8666-0878-4056-91AE-96EA415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8954-8B82-4838-8D05-328FC29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8F3-8DA5-4F7A-B330-6433845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5290-AB16-43A4-9AE7-A615DD3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714-C209-4B55-8A2C-CB80308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69F0-B666-4FF1-96B2-853FB70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4B1-83B8-4B8F-BB91-A88AA16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9F4C-9701-4FE7-9B88-92C91FB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C93B-1270-4199-B1D7-1F517B7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FFB-9CD7-4655-A3BB-33BEA03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94AF-F541-490F-8882-067A9B23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7B12-181C-4BA5-8590-BADCDF21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1F47-6BAB-4371-B5C4-48EDF31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7CAF-BD05-46E2-9B33-D63B724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9F84-7E03-4732-BDD4-7B401B1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C044-FD47-4382-A4D6-6893E1C3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C872-BDEB-4EC7-A7D4-39C2279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EE1-BAFC-4869-A70B-3CCABA33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4FA9-DF98-4EBE-A7E6-56572DB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E7C8-9092-4BBF-A031-35329A2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C37E-92E5-465D-9691-F2C5D7E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50AC-BFE7-4A81-9AFD-20E7812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97C3-167E-4ED2-B04C-E9C3E2C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36B4-AE4B-4965-9DCC-B558A1E7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B6C3-9F54-4E40-807E-E7F20939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1E7-C0B0-425A-A464-19454B0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AD1-1021-4BBE-B49E-9B7FD384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524-3882-4510-94C1-74223AC1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AD1-A275-44EF-8520-586E77F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20F-BFF9-4676-94D6-547040C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097-9E7D-42CE-B069-5FC25429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8D0-CCE0-4DA1-ABB2-A85E70E2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E213-B0AE-4D81-9CBC-033124D5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69C-A279-461A-A057-EA35ECF05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12000"/>
          </a:blip>
          <a:srcRect l="0" t="0" r="-46" b="3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&#35270;&#39057;\&#27801;&#30011;&#12298;&#29238;&#20146;&#12299;&#65292;&#31607;&#23376;&#20804;&#24351;&#65292;&#24863;&#20154;&#65281;.f4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620640"/>
            <a:ext cx="5689800" cy="5516640"/>
          </a:xfrm>
          <a:prstGeom prst="bevel">
            <a:avLst>
              <a:gd name="adj" fmla="val 5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329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 </a:t>
            </a: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世界上有这么一个男人，小时候你怕他的威严，长大了你学他沉稳，他的爱很深沉但不求回报；你跟他耍赖不讲理，你瞎胡闹，你闯祸回家，他批评训斥你，但他对你的爱却从不改变；你只一句话，他就成为你的超人兼跑腿兼保镖兼顾问……神马男人都是浮云，全球最靠谱的男人就是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仿宋_GB2312"/>
              </a:rPr>
              <a:t>     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——</a:t>
            </a:r>
            <a:r>
              <a:rPr b="0" lang="zh-CN" sz="3600" spc="-1" strike="noStrike">
                <a:solidFill>
                  <a:srgbClr val="663300"/>
                </a:solidFill>
                <a:latin typeface="仿宋_GB2312"/>
              </a:rPr>
              <a:t>这个人就是老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60" y="260280"/>
            <a:ext cx="3167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1680" y="1263600"/>
            <a:ext cx="9175680" cy="5694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42920" y="141300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病打针，我哭，爸爸默默地陪着我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0" y="981000"/>
            <a:ext cx="9180720" cy="5877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51280" y="134136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最喜欢和爸爸一起运动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-96" b="0"/>
          <a:stretch/>
        </p:blipFill>
        <p:spPr>
          <a:xfrm>
            <a:off x="0" y="1390680"/>
            <a:ext cx="4500720" cy="5467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33" b="-56"/>
          <a:stretch/>
        </p:blipFill>
        <p:spPr>
          <a:xfrm>
            <a:off x="4494240" y="1413000"/>
            <a:ext cx="4649760" cy="544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435640" y="1557360"/>
            <a:ext cx="34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喜欢和爸爸看海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6520" t="0" r="0" b="0"/>
          <a:stretch/>
        </p:blipFill>
        <p:spPr>
          <a:xfrm>
            <a:off x="36360" y="1268280"/>
            <a:ext cx="465012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45080" y="1268280"/>
            <a:ext cx="4392720" cy="5589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1484280"/>
            <a:ext cx="3457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的肩膀象山一样…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5744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父母的爱有条件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没有设想过，如果你出生就已是有残疾，你的人生会是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，无论你是如何，父母都不曾放弃过你，父母都会竭尽自己所能去让你过得更快乐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我们一起来分享一个父亲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439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有嫌弃过你的父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4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觉得父母无法理解你，总是很唠叨而与他们争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给你的物质生活条件不够优越，能够给你创造更好的条件而埋怨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否因为父母忙于工作，无法到学校为你送汤或是周末不能在家陪伴你而指责过他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但是，无论你是如何不满与嫌弃，父母依旧是如此爱你——一个哑巴父亲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38178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第一次进幼儿园时拉着他的手不放、第一次学起单车时害怕他放手、第一次偷偷模仿他的笔迹在试卷上签字、第一次因为他对打来电话的男生呵斥而跟他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……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曾经的那个“甜蜜的负担”已经长大，大手拉小手的场景还犹然记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00" y="1343160"/>
            <a:ext cx="4775040" cy="547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89440" y="1343160"/>
            <a:ext cx="424836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们长大了，爸爸老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14637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4465800" cy="23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我们所有的心事，往往都会告诉母亲，却常常止于父亲。我们默默感受父亲的温度，心怀感恩却欲言又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7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爱要及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496908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仿宋_GB2312"/>
              </a:rPr>
              <a:t>算一算你和父母在一起的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生下你，在你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你和父母几乎天天见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-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，在外地读书，每年回去见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以后在外面打拼，半年才回一次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成家立业，父母已经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了，自己工作太忙，要陪孩子，要应酬客户，只有在节日才回家看看父母，一年大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在父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岁前，和你在一起的时间是非常有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所以，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</a:rPr>
              <a:t>爱要及时，尽孝要及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长大了要为父母做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件事 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定期带父母去做体检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父母的零花钱不能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帮父母完成年轻时未完成的梦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陪父母重游故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与父母一起拜访他们的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经常给父母拍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跟父亲做交心的沟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：带父母去旅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71640" y="733320"/>
            <a:ext cx="5472360" cy="4241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9080" y="7333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987640" y="5300640"/>
            <a:ext cx="5186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父亲，就是永远爱你的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80"/>
                </a:solidFill>
                <a:latin typeface="方正姚体"/>
              </a:rPr>
              <a:t>值得信赖的、值得尊敬的好人！</a:t>
            </a:r>
            <a:endParaRPr b="1" lang="en-US" sz="1800" spc="-1" strike="noStrike">
              <a:ln w="0">
                <a:noFill/>
              </a:ln>
              <a:solidFill>
                <a:srgbClr val="00008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17520" y="0"/>
            <a:ext cx="9747360" cy="715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7280" y="3715920"/>
            <a:ext cx="756000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今年的父亲节在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日，虽然已经过去，但作为子女的我们，应该要让父亲感觉每天都是过父亲节，让父母感受到我们的关心与爱！据说，选定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过父亲节是因为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月的阳光是一年之中最炽热的，象征着父亲给予子女那火热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60360" y="53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会付出，学会承担责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64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父母不仅仅在于说，更在于落实到你的每个行动中，父母最希望看到你健康成长，学有所成，作为子女的你能否为了父母的心愿而不断努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龄在不断增长，意味着肩上的责任也在不断增加，父母在一年年变老，我们也要逐渐成长为值得父母依靠的那座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父母非常不容易，要有经济基础，要有成熟的心智，而各位同学尚未具备这样的条件，所以，处于青春期的同学必须理智成熟地处理与异性的关系，因为这不仅仅是感情，更多的还有责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48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476280"/>
            <a:ext cx="62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方正姚体"/>
              </a:rPr>
              <a:t>父爱如山，感恩永远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方正姚体"/>
              <a:ea typeface="方正姚体"/>
            </a:endParaRPr>
          </a:p>
        </p:txBody>
      </p:sp>
      <p:sp>
        <p:nvSpPr>
          <p:cNvPr id="132" name=""/>
          <p:cNvSpPr txBox="1"/>
          <p:nvPr/>
        </p:nvSpPr>
        <p:spPr>
          <a:xfrm rot="540000">
            <a:off x="1187280" y="2155680"/>
            <a:ext cx="696312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你知道父亲节是如何来的吗？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03680" y="1080"/>
            <a:ext cx="9247320" cy="681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界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父亲节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诞生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华盛顿一位叫布鲁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的夫人，在庆贺母亲节的时候突然产生了一个念头：既然有母亲节，为什么不能有个父亲节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德夫人和他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弟弟早年丧母，他们由慈爱的父亲一手抚养大的。许多年过去了，姐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每逢父亲的生辰忌日，总会回想起父亲含辛茹苦养家的情景。在拉斯马斯博士的支持下，她提笔给州政府写了一封言辞恳切的信，呼吁建立父亲节，并建议将节日定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她父亲生日这天。州政府采纳了她的建议，仓促间将父亲节定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，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9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星期日。翌年，多德夫人所在的斯坡堪市正式庆祝这一节日，市长宣布了父亲节的文告，定这天为全州纪念日。以后，其他州也庆贺父亲节。在父亲节这天，人们选择特定的鲜花来表示对父亲的敬意。人们采纳了多德夫人伯建议，佩戴红玫瑰向健在的父亲们表示爱戴，佩戴白玫瑰对故去的父亲表示悼念。后来在温哥华，人们选择了佩戴白丁香，宾夕法尼亚人用蒲公英向父亲表示致意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0240" y="1413000"/>
            <a:ext cx="914076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08360" y="5516640"/>
            <a:ext cx="41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笨笨粗粗的手，很温柔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160" y="1343160"/>
            <a:ext cx="9107280" cy="5445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03280" y="148428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手拉小手，迈出第一步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0" y="1052640"/>
            <a:ext cx="9109080" cy="583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987640" y="1268280"/>
            <a:ext cx="568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臂，比秋千舒服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240" y="1082520"/>
            <a:ext cx="921240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042920" y="587700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爸爸有力的双手，带我飞得更高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爱如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60" y="1317600"/>
            <a:ext cx="9001440" cy="545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95280" y="148428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只要爸爸在，我就不害怕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8:18:57Z</dcterms:created>
  <dc:creator>Administrator</dc:creator>
  <dc:description/>
  <dc:language>en-US</dc:language>
  <cp:lastModifiedBy/>
  <dcterms:modified xsi:type="dcterms:W3CDTF">2013-06-10T14:0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