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61D-B667-4136-B0FE-5F6D41DFC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BDFD-D879-4042-9AA7-90FBFC9E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F186-019C-4C0E-8498-C23494F9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B813-8B8D-4E80-8A75-12A2BEC25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5E6-953F-4BAB-ACB9-E2E7A4AE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17C-87C3-42E4-90FD-3141F0C8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E34-E567-4A59-9A9D-2BFB2B74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5775-D3DF-4622-A23E-A2EC04FF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E781-47A2-4127-B5C7-5539A82C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DD7C-DA4F-4C47-9138-306DB5FD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B7A-791D-486B-842A-165B46DE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8DA-CA99-4A4A-8C7D-35C14A9C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F925-A2E9-43E9-85F1-7ED0B1AE8C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2"/>
          <a:stretch/>
        </p:blipFill>
        <p:spPr>
          <a:xfrm>
            <a:off x="646200" y="1219320"/>
            <a:ext cx="3498840" cy="156672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3"/>
          <a:stretch/>
        </p:blipFill>
        <p:spPr>
          <a:xfrm>
            <a:off x="4962600" y="5181480"/>
            <a:ext cx="4059000" cy="15670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"/>
          <p:cNvPicPr/>
          <p:nvPr/>
        </p:nvPicPr>
        <p:blipFill>
          <a:blip r:embed="rId4"/>
          <a:stretch/>
        </p:blipFill>
        <p:spPr>
          <a:xfrm>
            <a:off x="4267080" y="1262160"/>
            <a:ext cx="3041640" cy="63878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4" descr=""/>
          <p:cNvPicPr/>
          <p:nvPr/>
        </p:nvPicPr>
        <p:blipFill>
          <a:blip r:embed="rId5"/>
          <a:stretch/>
        </p:blipFill>
        <p:spPr>
          <a:xfrm>
            <a:off x="407880" y="2535120"/>
            <a:ext cx="63644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E:\资料\图片素材\PSD和图片\辛伟乐_【文艺范2摄影师】教你如何拍出完美婚照❤❤☻...(1)\008.jpg"/>
          <p:cNvPicPr/>
          <p:nvPr/>
        </p:nvPicPr>
        <p:blipFill>
          <a:blip r:embed="rId1"/>
          <a:stretch/>
        </p:blipFill>
        <p:spPr>
          <a:xfrm>
            <a:off x="4273560" y="1609560"/>
            <a:ext cx="4168800" cy="804708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7" descr=""/>
          <p:cNvPicPr/>
          <p:nvPr/>
        </p:nvPicPr>
        <p:blipFill>
          <a:blip r:embed="rId2"/>
          <a:stretch/>
        </p:blipFill>
        <p:spPr>
          <a:xfrm>
            <a:off x="738360" y="658800"/>
            <a:ext cx="398592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8" descr=""/>
          <p:cNvPicPr/>
          <p:nvPr/>
        </p:nvPicPr>
        <p:blipFill>
          <a:blip r:embed="rId3"/>
          <a:stretch/>
        </p:blipFill>
        <p:spPr>
          <a:xfrm>
            <a:off x="1249200" y="3230640"/>
            <a:ext cx="2657520" cy="14508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9" descr=""/>
          <p:cNvPicPr/>
          <p:nvPr/>
        </p:nvPicPr>
        <p:blipFill>
          <a:blip r:embed="rId4"/>
          <a:stretch/>
        </p:blipFill>
        <p:spPr>
          <a:xfrm>
            <a:off x="1249200" y="2548080"/>
            <a:ext cx="265752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E:\资料\图片素材\PSD和图片\辛伟乐_【文艺范2摄影师】教你如何拍出完美婚照❤❤☻...(1)\020.jpg"/>
          <p:cNvPicPr/>
          <p:nvPr/>
        </p:nvPicPr>
        <p:blipFill>
          <a:blip r:embed="rId1"/>
          <a:stretch/>
        </p:blipFill>
        <p:spPr>
          <a:xfrm>
            <a:off x="1944720" y="2249640"/>
            <a:ext cx="5486400" cy="7315200"/>
          </a:xfrm>
          <a:prstGeom prst="rect">
            <a:avLst/>
          </a:prstGeom>
          <a:ln w="0">
            <a:noFill/>
          </a:ln>
        </p:spPr>
      </p:pic>
      <p:pic>
        <p:nvPicPr>
          <p:cNvPr id="52" name="TextBox 1" descr=""/>
          <p:cNvPicPr/>
          <p:nvPr/>
        </p:nvPicPr>
        <p:blipFill>
          <a:blip r:embed="rId2"/>
          <a:stretch/>
        </p:blipFill>
        <p:spPr>
          <a:xfrm>
            <a:off x="30240" y="365040"/>
            <a:ext cx="63640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 STORE</dc:creator>
  <dc:description> ☆ 感谢您使用PPT STORE网站平台上发布的免费原创作品，作品仅供个人或公司使用，为了您和PPT STORE以及原创作者的利益，请勿复制、传播、销售，否则将承担法律责任！
  ☆ 其他网站或个人若进行转载发布PPT STORE平台的免费原创作品，请保留此文件和注释的完整性，并注明来源于 PPT STORE 官方网站：http://www.pptstore.net和PPT STORE 官方微博：http://weibo.com/pptstore
     未按照要求转发或发布，PPT STORE平台将和原创作者共同维权，索取赔偿！
  ☆ 感谢您支持原创设计事业，支持设计版权产品 ！
  ☆ 本模板由PPT STORE官方网站 原创设计
  ☆ PPT STORE 官方网站：http://www.pptstore.net
  ☆ PPT STORE 官方微博：http://weibo.com/pptstore</dc:description>
  <cp:keywords>高贵 浪漫 典雅 梦幻 紫色 婚庆 PPT模板</cp:keywords>
  <dc:language>en-US</dc:language>
  <cp:lastModifiedBy>Administrator</cp:lastModifiedBy>
  <dcterms:modified xsi:type="dcterms:W3CDTF">2015-01-16T08:43:24Z</dcterms:modified>
  <cp:revision>8</cp:revision>
  <dc:subject>紫色</dc:subject>
  <dc:title>高贵浪漫典雅梦幻紫色婚礼PPT模板</dc:title>
</cp:coreProperties>
</file>