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B67-C4AD-427F-8421-232F1A07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E3D-BA04-4D2E-9AF9-5EF8ED77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8DD-A220-4EF3-B4E9-285B09DD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E38-8049-41DA-99BA-EB6BDCBB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6C5F-0650-46BD-BF0D-69541AE0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BA8F-289D-49FD-9DF0-46E92612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4493-92FE-491F-A8B9-C9E3CF67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9296-03B3-4039-84CC-5E0202BD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2092-434A-44A4-8203-0CDD87F2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813D-1F57-4F54-A347-AC11DA2E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A5E9-D544-4303-91E5-3C4D9C85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4EB-3D8B-4C35-9B89-91FDA78C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6CB0-D3CF-4373-BBDF-30397FE4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81FD-A9E5-4655-AEE8-43B02F80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A678-2913-4224-901B-1AF65F5A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8C99-E151-4F0E-A514-B2C76C1C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AE2A-AD05-4B2D-9B2C-95DFD4AA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CA21-2052-420B-A153-06872147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6F6-59B4-4A61-AA7C-7DD4B613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345-C285-47AE-AE1A-A28B5646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C70-4BA4-4D37-9F6B-54090659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676-A424-4EBF-9E21-455F9D37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192-B6D0-4DCB-85ED-822A0C0E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8CA3-CD3A-4771-BF57-C7AA4F0C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7A33-1F1A-49FD-B0B5-35A456BE997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B2A4-A3D0-490F-B037-CB01B93C998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4648320" cy="5638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53080" y="228600"/>
            <a:ext cx="609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件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运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 rot="5400000">
            <a:off x="4594680" y="2948760"/>
            <a:ext cx="4703760" cy="1092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华文行楷"/>
              </a:rPr>
              <a:t>一件运动衫</a:t>
            </a:r>
            <a:endParaRPr b="1" lang="en-US" sz="1800" spc="-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8100000" blurRad="0" rotWithShape="0">
                  <a:srgbClr val="00008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到了城里，我先到小男孩告诉我的那家大商店，找到挂着那种运动衫的柜台，毫不犹豫地用三块钱买了一件，一出商店门我就穿上了，心里充满了自豪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960480" y="1900080"/>
            <a:ext cx="693576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我把那件骄傲的仰着头的大角麋鹿运动衫放在柜台上，抱着鞋盒走出商店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作者为什么多出不厌其烦的描写我对那件运动衫的喜爱？小组讨论，全班交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在读课文的过程中，你会料到老人用小狗换运动衫送给我吗？文章这样写有什么好处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第一次“得”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失”去运动衫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第二次“得”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3071880" y="739800"/>
            <a:ext cx="39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20960" y="858960"/>
            <a:ext cx="57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到了城里，我先到小男孩告诉我的那家大商店，找到挂着那种运动衫的柜台，毫不犹豫地用三块钱买了一件，一出商店门我就穿上了，心理充满了自豪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24240" y="3139920"/>
            <a:ext cx="53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我用这件运动衫再加上一元四角五分买下这双鞋，可以吗？”“我把那件骄傲的仰着头的大角麋鹿运动衫放在柜台上，抱着鞋盒走出商店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35320" y="5415120"/>
            <a:ext cx="54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他站起身，从枕头下面拿出一件印着仰着头的大角麋鹿红色运动衫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35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难句讲析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21932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瞥了一眼这双老人穿得不能再穿的破鞋子，心想这双鞋子可能是他最亲近的东西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“穿得不能再穿的破鞋子”说明老人一直在穿这双鞋，这双鞋是他惟一的一双鞋，已经穿了很久，以至于破旧到无法修理了。也说明老人没有钱买新鞋。所以“我”想到这双鞋可能是他最需要、最离不开的东西。这里的“亲近”指的是离不开、最需要的意思。这句话为下面“我”的行为讲明了理由：老人需要鞋，而这双鞋已无法再穿，“我”明白了这一点，所以决定不要运动衫，为老人买鞋。这说明“我”是一个心地善良的孩子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6094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想象康威老先生用小狗换小男孩的运动衫的情景，或者小男孩从康威老先生手中接过运动衫时的情景，并写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《一件运动衫》的故事讲给家长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推荐阅读：《麦琪的礼物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653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 rot="5400000">
            <a:off x="-478440" y="3096360"/>
            <a:ext cx="2809800" cy="785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华文琥珀"/>
              </a:rPr>
              <a:t>一  件  运  动  衫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1143000"/>
            <a:ext cx="2057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现了“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康威先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的真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友谊，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美了人与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美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Comic Sans MS"/>
              </a:rPr>
              <a:t>发挥想象，练习对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当“我”得知老人的运动衫是用小狗换来的时候，会作何反应？请你想象当时的情景，用几句话写下来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如果要在那件运动衫上题字，你准备写下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阅读《</a:t>
            </a:r>
            <a:r>
              <a:rPr b="1" lang="zh-CN" sz="4400" spc="-1" strike="noStrike">
                <a:solidFill>
                  <a:srgbClr val="800000"/>
                </a:solidFill>
                <a:latin typeface="Comic Sans MS"/>
              </a:rPr>
              <a:t>爱之链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》这篇文章，看在写法上与《一件运动衫》有何相同之处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380880"/>
            <a:ext cx="9144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读课文，要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通课文，读准字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思考：课文讲了一件什么事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447920" y="1295280"/>
            <a:ext cx="5943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</a:rPr>
              <a:t>谢谢指导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303112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给文章划分段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644480"/>
            <a:ext cx="1981080" cy="1600200"/>
            <a:chOff x="2133720" y="1644480"/>
            <a:chExt cx="1981080" cy="1600200"/>
          </a:xfrm>
        </p:grpSpPr>
        <p:sp>
          <p:nvSpPr>
            <p:cNvPr id="158" name=""/>
            <p:cNvSpPr/>
            <p:nvPr/>
          </p:nvSpPr>
          <p:spPr>
            <a:xfrm>
              <a:off x="2133720" y="1720800"/>
              <a:ext cx="1905120" cy="1523880"/>
            </a:xfrm>
            <a:prstGeom prst="downArrowCallout">
              <a:avLst>
                <a:gd name="adj1" fmla="val 31257"/>
                <a:gd name="adj2" fmla="val 31254"/>
                <a:gd name="adj3" fmla="val 16667"/>
                <a:gd name="adj4" fmla="val 6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0040" y="1644480"/>
              <a:ext cx="1904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9999"/>
                  </a:solidFill>
                  <a:latin typeface="Arial"/>
                  <a:ea typeface="幼圆"/>
                </a:rPr>
                <a:t>得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33720" y="3429000"/>
            <a:ext cx="2057400" cy="1616040"/>
            <a:chOff x="2133720" y="3429000"/>
            <a:chExt cx="2057400" cy="1616040"/>
          </a:xfrm>
        </p:grpSpPr>
        <p:sp>
          <p:nvSpPr>
            <p:cNvPr id="161" name=""/>
            <p:cNvSpPr/>
            <p:nvPr/>
          </p:nvSpPr>
          <p:spPr>
            <a:xfrm>
              <a:off x="2133720" y="3521160"/>
              <a:ext cx="1981080" cy="1523880"/>
            </a:xfrm>
            <a:prstGeom prst="downArrowCallout">
              <a:avLst>
                <a:gd name="adj1" fmla="val 32504"/>
                <a:gd name="adj2" fmla="val 32501"/>
                <a:gd name="adj3" fmla="val 16667"/>
                <a:gd name="adj4" fmla="val 6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6000" y="3429000"/>
              <a:ext cx="190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9966ff"/>
                  </a:solidFill>
                  <a:latin typeface="Arial"/>
                  <a:ea typeface="幼圆"/>
                </a:rPr>
                <a:t>失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057400" y="5334120"/>
            <a:ext cx="2133720" cy="1008360"/>
            <a:chOff x="2057400" y="5334120"/>
            <a:chExt cx="2133720" cy="1008360"/>
          </a:xfrm>
        </p:grpSpPr>
        <p:sp>
          <p:nvSpPr>
            <p:cNvPr id="164" name=""/>
            <p:cNvSpPr/>
            <p:nvPr/>
          </p:nvSpPr>
          <p:spPr>
            <a:xfrm>
              <a:off x="2057400" y="5349600"/>
              <a:ext cx="2133720" cy="990360"/>
            </a:xfrm>
            <a:prstGeom prst="flowChartAlternateProcess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9680" y="5334120"/>
              <a:ext cx="190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Arial"/>
                  <a:ea typeface="幼圆"/>
                </a:rPr>
                <a:t>得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952880" y="1949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 —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36576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9 — 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48640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9 —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90720" y="20178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去一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294804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吉特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38466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轿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20178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麋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294804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衣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386244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柜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20178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毫不犹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294336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瞥了一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47610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售货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47610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标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386244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崭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7610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面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575136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枕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62080" y="575136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620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这些词语你会读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9072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词语积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6765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事已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1676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龄已经很大了。如：我的爷爷年事已高，可身体依然很健康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200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犹豫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31240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拿不定主意。如：他犹豫不决，不知道选哪件衣服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5181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颜悦色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5029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颜、色都指面部的表情。和颜悦色指态度和蔼可亲。如：奶奶对我总是和颜悦色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30492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b800"/>
                </a:solidFill>
                <a:latin typeface="Arial"/>
              </a:rPr>
              <a:t>近反义词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371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近义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2057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2057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颜悦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蔼可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304812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犹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犹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4290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骄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4495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义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熟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51160" y="5486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陌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崭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5486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陈旧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16000" y="76500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默读课文，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187812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”的一件漂亮的运动衫，得而复失，失而复得，这是怎么回事呢？请你用比较快的速度默读课文，想想课文讲了一件什么事？抓住“得而复失，失而复得”八个字，画出有关的语句，学生读课文后汇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6201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1" lang="zh-CN" sz="4400" spc="-1" strike="noStrike">
                <a:solidFill>
                  <a:srgbClr val="800000"/>
                </a:solidFill>
                <a:latin typeface="Comic Sans MS"/>
              </a:rPr>
              <a:t>按照板书的提示，用你自己的话简要说说课文的主要内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656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课文记叙了“我”为邻居老人送鞋到镇上修补的时候，买了一件漂亮的运动衫，但在我知道那双鞋不能再补后，“我”用运动衫换了一双新鞋送给老人，没想到老人也用一条小狗跟一位孩子换了同样的运动衫送给“我”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Comic Sans MS"/>
              </a:rPr>
              <a:t>重点品读，体会表达效果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快速默读课文，画出描写我喜爱那件运动衫的句子，并说说你是怎么看出我对那件运动衫喜爱的？既然我对那件运动衫喜爱，却为什么用它换了一双新鞋送给了老人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yj</cp:lastModifiedBy>
  <dcterms:modified xsi:type="dcterms:W3CDTF">2010-12-26T08:37:0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