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11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198-97B1-40AC-B1B7-C2B9C528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86D-6D8B-46D5-AB46-EDB5659D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77D-D691-4B5C-A6AC-D7C85EB6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A0B-A99D-4D82-9190-49A918FC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45A2-B8C4-4D62-AB17-B79A079A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69D9-EDE2-4A53-86EF-CEC4B22E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60A2-F574-4E96-985E-BE8BE32E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5004-1EEE-47DC-8777-504F54DC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9D7F-1A2B-4A6D-B3F8-C037DD04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4477-081E-4C15-BD0A-04EC3549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B561-8275-4887-8948-67E17168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0F9-0AEC-4F04-974D-5945B404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CB53-AA6F-4AEA-BDCD-A222BAEB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B9BE-F151-4954-BAD1-EEA59F84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F166-622E-4B0C-A627-72B7E3A3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0351-EC2D-4A5A-B653-02D2F4E1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0CF7-F882-481B-B789-FF8DE7C5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A5C-B50D-4B7D-9532-37B280BE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3D7-A1DC-4B51-BA5B-5BE6A9FE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650-CE00-42F1-9CC8-46BEA33D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9BB-22C5-488B-99E9-28D8D367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34A-DE05-4EE1-8EC4-5CE0C08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C1E-AA68-446E-99FA-26E2BE3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E83-7C38-4A5E-9FC9-2393828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2DD5-B411-42F4-82AA-5CA1449EDF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D882-5DF1-4B6D-8F65-871ECE4A58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6251" b="62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2421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万以内数的认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0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教版教材数学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800"/>
                            </p:stCondLst>
                            <p:childTnLst>
                              <p:par>
                                <p:cTn id="12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630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609480" y="533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学得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332000" y="1125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9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作：（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403280" y="16286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13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作：（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476360" y="2133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9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作：（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476360" y="25653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作：（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476360" y="30686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00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作：（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014000" y="1125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四百九十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401360" y="162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两千一百三十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183200" y="21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两千九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085640" y="263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五千零四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183200" y="314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七千零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270160" y="146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68360" y="44370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读数时，从高位读起，千位上是几，就读几千，百位上是几，就读几百，十位上是几，就读几十，个位上是几，就读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826920" y="357336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万以内数的读法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>
            <a:off x="324000" y="2602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议一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68360" y="907920"/>
            <a:ext cx="7837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一个数末尾有零时，怎样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一个数中间有一个或两个零时，怎样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0" y="22050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（不管末尾有几个零，都不读。）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11280" y="5084640"/>
            <a:ext cx="784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（中间有一个或两个零，只读一个零。）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95280" y="54936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出下面的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258920" y="148428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20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932360" y="1413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千零二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403280" y="2852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008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148360" y="285264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八千零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116000" y="436572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000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580000" y="4221000"/>
            <a:ext cx="15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913360" y="5661000"/>
            <a:ext cx="459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332000" y="566100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487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88000" y="558972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千四百八十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2" name=""/>
          <p:cNvSpPr/>
          <p:nvPr/>
        </p:nvSpPr>
        <p:spPr>
          <a:xfrm>
            <a:off x="838080" y="7621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我学得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50920" y="2349360"/>
            <a:ext cx="9144000" cy="38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千八百       写作：（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六千一百四十五    写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    (    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千三百七十     写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   (         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千零五十          写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   (       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087600" y="242100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4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095960" y="320976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61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806880" y="42181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23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735600" y="508176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50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468360" y="443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10" name=""/>
          <p:cNvSpPr/>
          <p:nvPr/>
        </p:nvSpPr>
        <p:spPr>
          <a:xfrm>
            <a:off x="1332000" y="4762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万以内数的写法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934920" y="1700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从高位起，按照数位顺序写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900000" y="2781360"/>
            <a:ext cx="777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几千就在千位上写几，几百就在百位上写几…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971640" y="4221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中间或末尾哪一位上一个也没有，就在那一位上写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2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684360" y="54936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面的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71640" y="1628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140360" y="162864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68360" y="3141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千二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356000" y="31417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84360" y="47242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千零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140360" y="472428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 txBox="1"/>
          <p:nvPr/>
        </p:nvSpPr>
        <p:spPr>
          <a:xfrm>
            <a:off x="533520" y="4572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来数一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22" name=""/>
          <p:cNvSpPr/>
          <p:nvPr/>
        </p:nvSpPr>
        <p:spPr>
          <a:xfrm>
            <a:off x="3931560" y="137160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在下面各数的后面连续数出五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九百九十七       四百零八      九千九百九十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九百九十八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九百九十九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0" y="419112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  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一   千    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0" y="48006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  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一千零一 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0" y="54864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  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一千零二 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2819520" y="297180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  四百零九 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819520" y="365760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  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四百一十 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819520" y="4191120"/>
            <a:ext cx="31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四百一十一 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819520" y="48006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四百一十二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819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四百一十三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638680" y="3048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九千九百九十六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305760" y="365760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九千九百九十七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305760" y="426708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九千九百九十八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305760" y="487692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九千九百九十九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742720" y="5502240"/>
            <a:ext cx="32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（     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一    万     </a:t>
            </a:r>
            <a:r>
              <a:rPr b="1" lang="zh-CN" sz="3200" spc="-1" strike="noStrike">
                <a:solidFill>
                  <a:srgbClr val="808080"/>
                </a:solidFill>
                <a:latin typeface="Verdana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9" name="" descr=""/>
          <p:cNvPicPr/>
          <p:nvPr/>
        </p:nvPicPr>
        <p:blipFill>
          <a:blip r:embed="rId1"/>
          <a:stretch/>
        </p:blipFill>
        <p:spPr>
          <a:xfrm>
            <a:off x="534960" y="1557360"/>
            <a:ext cx="3492360" cy="1511280"/>
          </a:xfrm>
          <a:prstGeom prst="rect">
            <a:avLst/>
          </a:prstGeom>
          <a:ln w="0">
            <a:noFill/>
          </a:ln>
        </p:spPr>
      </p:pic>
      <p:pic>
        <p:nvPicPr>
          <p:cNvPr id="1540" name="" descr=""/>
          <p:cNvPicPr/>
          <p:nvPr/>
        </p:nvPicPr>
        <p:blipFill>
          <a:blip r:embed="rId2"/>
          <a:stretch/>
        </p:blipFill>
        <p:spPr>
          <a:xfrm>
            <a:off x="996840" y="1905120"/>
            <a:ext cx="3332160" cy="1436400"/>
          </a:xfrm>
          <a:prstGeom prst="rect">
            <a:avLst/>
          </a:prstGeom>
          <a:ln w="0">
            <a:noFill/>
          </a:ln>
        </p:spPr>
      </p:pic>
      <p:pic>
        <p:nvPicPr>
          <p:cNvPr id="1541" name="" descr=""/>
          <p:cNvPicPr/>
          <p:nvPr/>
        </p:nvPicPr>
        <p:blipFill>
          <a:blip r:embed="rId3"/>
          <a:stretch/>
        </p:blipFill>
        <p:spPr>
          <a:xfrm>
            <a:off x="1201680" y="2209680"/>
            <a:ext cx="3400560" cy="1503360"/>
          </a:xfrm>
          <a:prstGeom prst="rect">
            <a:avLst/>
          </a:prstGeom>
          <a:ln w="0">
            <a:noFill/>
          </a:ln>
        </p:spPr>
      </p:pic>
      <p:pic>
        <p:nvPicPr>
          <p:cNvPr id="1542" name="" descr=""/>
          <p:cNvPicPr/>
          <p:nvPr/>
        </p:nvPicPr>
        <p:blipFill>
          <a:blip r:embed="rId4"/>
          <a:stretch/>
        </p:blipFill>
        <p:spPr>
          <a:xfrm>
            <a:off x="1405080" y="2727360"/>
            <a:ext cx="3535200" cy="163368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5"/>
          <a:stretch/>
        </p:blipFill>
        <p:spPr>
          <a:xfrm>
            <a:off x="1447920" y="2562120"/>
            <a:ext cx="3744720" cy="1629000"/>
          </a:xfrm>
          <a:prstGeom prst="rect">
            <a:avLst/>
          </a:prstGeom>
          <a:ln w="0">
            <a:noFill/>
          </a:ln>
        </p:spPr>
      </p:pic>
      <p:pic>
        <p:nvPicPr>
          <p:cNvPr id="1544" name="" descr=""/>
          <p:cNvPicPr/>
          <p:nvPr/>
        </p:nvPicPr>
        <p:blipFill>
          <a:blip r:embed="rId6"/>
          <a:stretch/>
        </p:blipFill>
        <p:spPr>
          <a:xfrm>
            <a:off x="1828800" y="2895480"/>
            <a:ext cx="3745080" cy="180036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7"/>
          <a:stretch/>
        </p:blipFill>
        <p:spPr>
          <a:xfrm rot="21150600">
            <a:off x="5911560" y="1987200"/>
            <a:ext cx="1263600" cy="2738520"/>
          </a:xfrm>
          <a:prstGeom prst="rect">
            <a:avLst/>
          </a:prstGeom>
          <a:ln w="0">
            <a:noFill/>
          </a:ln>
        </p:spPr>
      </p:pic>
      <p:pic>
        <p:nvPicPr>
          <p:cNvPr id="1546" name="" descr=""/>
          <p:cNvPicPr/>
          <p:nvPr/>
        </p:nvPicPr>
        <p:blipFill>
          <a:blip r:embed="rId8"/>
          <a:stretch/>
        </p:blipFill>
        <p:spPr>
          <a:xfrm rot="307800">
            <a:off x="6705720" y="1980720"/>
            <a:ext cx="1296720" cy="273528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9"/>
          <a:stretch/>
        </p:blipFill>
        <p:spPr>
          <a:xfrm rot="1542000">
            <a:off x="7467120" y="2057400"/>
            <a:ext cx="1295640" cy="266544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rot="5400000">
            <a:off x="4388400" y="3070800"/>
            <a:ext cx="505080" cy="4392720"/>
          </a:xfrm>
          <a:custGeom>
            <a:avLst/>
            <a:gdLst>
              <a:gd name="textAreaLeft" fmla="*/ 0 w 505080"/>
              <a:gd name="textAreaRight" fmla="*/ 182520 w 50508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969000" y="566244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(           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138560" y="5662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307880" y="520560"/>
            <a:ext cx="6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Verdana"/>
              </a:rPr>
              <a:t>、数人民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 txBox="1"/>
          <p:nvPr/>
        </p:nvSpPr>
        <p:spPr>
          <a:xfrm>
            <a:off x="2627280" y="1700280"/>
            <a:ext cx="3959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隶书"/>
              </a:rPr>
              <a:t>数的组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由（ ）个千、（ ）个百、（ ）个十和（   ）一组成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58920" y="263700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由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个千、（  ）个百（   ）个一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87280" y="400536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由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个千和（  ）个一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348000" y="765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300720" y="8366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900000" y="1413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30280" y="782640"/>
            <a:ext cx="130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3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81440" y="256536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43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79280" y="4221000"/>
            <a:ext cx="14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851280" y="14130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812000" y="2565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700360" y="263700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435640" y="263700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2627280" y="422100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292720" y="4221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47628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、复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77336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口答：最大的两位数是几？        最小的三位数是几？       这两个数相差多少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263700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9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342900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00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443700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18900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1570" name=""/>
          <p:cNvSpPr/>
          <p:nvPr/>
        </p:nvSpPr>
        <p:spPr>
          <a:xfrm>
            <a:off x="826920" y="90792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、填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826920" y="162864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个一是（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356000" y="162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826920" y="2421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个十是（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826920" y="32846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个一百是（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356000" y="242100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003640" y="328464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826920" y="407664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个是一千是（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867280" y="4005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2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9" dur="2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2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580" name=""/>
          <p:cNvSpPr/>
          <p:nvPr/>
        </p:nvSpPr>
        <p:spPr>
          <a:xfrm>
            <a:off x="611280" y="692280"/>
            <a:ext cx="88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数，从右起第二位是（      ）位，第三位是（     ）位，第四位是（        ）位，第五位是（      ）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7885080" y="62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356000" y="1197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1476360" y="1844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835280" y="1773360"/>
            <a:ext cx="21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588000" y="184464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900000" y="33577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数的最高位是万位，这个数是（         ）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011320" y="3862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589" name=""/>
          <p:cNvSpPr/>
          <p:nvPr/>
        </p:nvSpPr>
        <p:spPr>
          <a:xfrm>
            <a:off x="395280" y="90792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、五千三百四十九在计数器上是这样拨的：千位上拨（   ），百位上拨（   ），十位上拨（      ），</a:t>
            </a:r>
            <a:r>
              <a:rPr b="0" lang="zh-CN" sz="4800" spc="-1" strike="noStrike">
                <a:solidFill>
                  <a:srgbClr val="3333cc"/>
                </a:solidFill>
                <a:latin typeface="Arial"/>
              </a:rPr>
              <a:t>个位上拨（   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042920" y="2349360"/>
            <a:ext cx="6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796000" y="2276640"/>
            <a:ext cx="64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556000" y="2997360"/>
            <a:ext cx="64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1042920" y="3716280"/>
            <a:ext cx="6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95" name=""/>
          <p:cNvSpPr/>
          <p:nvPr/>
        </p:nvSpPr>
        <p:spPr>
          <a:xfrm>
            <a:off x="395280" y="54936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50920" y="90792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11280" y="76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4592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的最高位是（       ）位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在（       ）位上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在（       ）位上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在（         ）位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7236000" y="6922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4427640" y="170028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484360" y="25653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908000" y="35733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826920" y="83664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拨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68360" y="2133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132000" y="213372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6012000" y="2133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826920" y="386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203640" y="3860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867280" y="400536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2000"/>
                                        <p:tgtEl>
                                          <p:spTgt spid="1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10" name=""/>
          <p:cNvSpPr/>
          <p:nvPr/>
        </p:nvSpPr>
        <p:spPr>
          <a:xfrm>
            <a:off x="395280" y="54936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50920" y="90792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八千六百九十九的前面一个数是（           ），后面一个数是（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694160" y="14130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869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755640" y="2060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87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0" y="321300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个千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个百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个十和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个一组成的数是（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076720" y="4076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58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31608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692280"/>
            <a:ext cx="93963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数数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个地数，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数到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个的数，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数到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00536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最大的三位数是多少？        加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是多少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458136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99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45813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627280" y="1700280"/>
            <a:ext cx="3959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隶书"/>
              </a:rPr>
              <a:t>数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3657600"/>
            <a:ext cx="533520" cy="533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49960" y="3657600"/>
            <a:ext cx="533160" cy="533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8680" y="3657600"/>
            <a:ext cx="533520" cy="533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62680" y="3657600"/>
            <a:ext cx="533520" cy="533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8480" y="3657600"/>
            <a:ext cx="533160" cy="533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9400" y="3657600"/>
            <a:ext cx="533520" cy="533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92480" y="3657600"/>
            <a:ext cx="533160" cy="533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03400" y="3657600"/>
            <a:ext cx="533520" cy="533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14680" y="3657600"/>
            <a:ext cx="533520" cy="533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27400" y="3657600"/>
            <a:ext cx="533520" cy="533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3657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077320" y="1371600"/>
            <a:ext cx="533160" cy="3962160"/>
            <a:chOff x="8077320" y="1371600"/>
            <a:chExt cx="533160" cy="3962160"/>
          </a:xfrm>
        </p:grpSpPr>
        <p:sp>
          <p:nvSpPr>
            <p:cNvPr id="111" name=""/>
            <p:cNvSpPr/>
            <p:nvPr/>
          </p:nvSpPr>
          <p:spPr>
            <a:xfrm>
              <a:off x="8077320" y="480060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77320" y="441936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77320" y="40384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77320" y="365760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77320" y="327636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7320" y="28954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77320" y="251460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77320" y="213336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77320" y="17524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77320" y="137160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80880" y="865080"/>
            <a:ext cx="455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个一个地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907920"/>
            <a:ext cx="38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个一是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1120" y="692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5943600" y="2590920"/>
            <a:ext cx="533160" cy="3962160"/>
            <a:chOff x="5943600" y="2590920"/>
            <a:chExt cx="533160" cy="3962160"/>
          </a:xfrm>
        </p:grpSpPr>
        <p:sp>
          <p:nvSpPr>
            <p:cNvPr id="125" name=""/>
            <p:cNvSpPr/>
            <p:nvPr/>
          </p:nvSpPr>
          <p:spPr>
            <a:xfrm>
              <a:off x="5943600" y="6019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43600" y="5638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3600" y="5257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43600" y="4876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3600" y="4495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43600" y="4114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3600" y="3733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600" y="3352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3600" y="2971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43600" y="2590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4120" y="2590920"/>
            <a:ext cx="533160" cy="3962160"/>
            <a:chOff x="5334120" y="2590920"/>
            <a:chExt cx="533160" cy="3962160"/>
          </a:xfrm>
        </p:grpSpPr>
        <p:sp>
          <p:nvSpPr>
            <p:cNvPr id="136" name=""/>
            <p:cNvSpPr/>
            <p:nvPr/>
          </p:nvSpPr>
          <p:spPr>
            <a:xfrm>
              <a:off x="5334120" y="6019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4120" y="5638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4120" y="5257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4120" y="4876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34120" y="4495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4120" y="4114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4120" y="3733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4120" y="3352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2971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2590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724280" y="2590920"/>
            <a:ext cx="533160" cy="3962160"/>
            <a:chOff x="4724280" y="2590920"/>
            <a:chExt cx="533160" cy="3962160"/>
          </a:xfrm>
        </p:grpSpPr>
        <p:sp>
          <p:nvSpPr>
            <p:cNvPr id="147" name=""/>
            <p:cNvSpPr/>
            <p:nvPr/>
          </p:nvSpPr>
          <p:spPr>
            <a:xfrm>
              <a:off x="4724280" y="6019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5638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24280" y="5257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4876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24280" y="4495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4280" y="4114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24280" y="3733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4280" y="3352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24280" y="2971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2590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114800" y="2590920"/>
            <a:ext cx="533160" cy="3962160"/>
            <a:chOff x="4114800" y="2590920"/>
            <a:chExt cx="533160" cy="3962160"/>
          </a:xfrm>
        </p:grpSpPr>
        <p:sp>
          <p:nvSpPr>
            <p:cNvPr id="158" name=""/>
            <p:cNvSpPr/>
            <p:nvPr/>
          </p:nvSpPr>
          <p:spPr>
            <a:xfrm>
              <a:off x="4114800" y="6019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5638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4800" y="5257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876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800" y="4495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800" y="4114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14800" y="3733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3352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2971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2590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05320" y="2590920"/>
            <a:ext cx="533160" cy="3962160"/>
            <a:chOff x="3505320" y="2590920"/>
            <a:chExt cx="533160" cy="3962160"/>
          </a:xfrm>
        </p:grpSpPr>
        <p:sp>
          <p:nvSpPr>
            <p:cNvPr id="169" name=""/>
            <p:cNvSpPr/>
            <p:nvPr/>
          </p:nvSpPr>
          <p:spPr>
            <a:xfrm>
              <a:off x="3505320" y="6019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5638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5257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4876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05320" y="4495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4114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05320" y="3733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5320" y="3352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2971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2590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895480" y="2590920"/>
            <a:ext cx="533160" cy="3962160"/>
            <a:chOff x="2895480" y="2590920"/>
            <a:chExt cx="533160" cy="3962160"/>
          </a:xfrm>
        </p:grpSpPr>
        <p:sp>
          <p:nvSpPr>
            <p:cNvPr id="180" name=""/>
            <p:cNvSpPr/>
            <p:nvPr/>
          </p:nvSpPr>
          <p:spPr>
            <a:xfrm>
              <a:off x="2895480" y="6019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95480" y="5638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5257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95480" y="4876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95480" y="4495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95480" y="4114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5480" y="3733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95480" y="3352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95480" y="2971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95480" y="2590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286000" y="2590920"/>
            <a:ext cx="533160" cy="3962160"/>
            <a:chOff x="2286000" y="2590920"/>
            <a:chExt cx="533160" cy="3962160"/>
          </a:xfrm>
        </p:grpSpPr>
        <p:sp>
          <p:nvSpPr>
            <p:cNvPr id="191" name=""/>
            <p:cNvSpPr/>
            <p:nvPr/>
          </p:nvSpPr>
          <p:spPr>
            <a:xfrm>
              <a:off x="2286000" y="6019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0" y="5638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0" y="5257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6000" y="4876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0" y="4495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0" y="4114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0" y="3733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3352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0" y="2971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2590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676520" y="2590920"/>
            <a:ext cx="533160" cy="3962160"/>
            <a:chOff x="1676520" y="2590920"/>
            <a:chExt cx="533160" cy="3962160"/>
          </a:xfrm>
        </p:grpSpPr>
        <p:sp>
          <p:nvSpPr>
            <p:cNvPr id="202" name=""/>
            <p:cNvSpPr/>
            <p:nvPr/>
          </p:nvSpPr>
          <p:spPr>
            <a:xfrm>
              <a:off x="1676520" y="6019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76520" y="5638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6520" y="5257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76520" y="4876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4495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76520" y="4114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76520" y="3733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352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76520" y="2971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2590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66680" y="2590920"/>
            <a:ext cx="533160" cy="3962160"/>
            <a:chOff x="1066680" y="2590920"/>
            <a:chExt cx="533160" cy="3962160"/>
          </a:xfrm>
        </p:grpSpPr>
        <p:sp>
          <p:nvSpPr>
            <p:cNvPr id="213" name=""/>
            <p:cNvSpPr/>
            <p:nvPr/>
          </p:nvSpPr>
          <p:spPr>
            <a:xfrm>
              <a:off x="1066680" y="6019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66680" y="5638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6680" y="5257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66680" y="4876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4495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6680" y="4114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66680" y="3733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6680" y="3352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2971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66680" y="2590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57200" y="2590920"/>
            <a:ext cx="533160" cy="3962160"/>
            <a:chOff x="457200" y="2590920"/>
            <a:chExt cx="533160" cy="3962160"/>
          </a:xfrm>
        </p:grpSpPr>
        <p:sp>
          <p:nvSpPr>
            <p:cNvPr id="224" name=""/>
            <p:cNvSpPr/>
            <p:nvPr/>
          </p:nvSpPr>
          <p:spPr>
            <a:xfrm>
              <a:off x="457200" y="6019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" y="5638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" y="5257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4876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" y="4495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4114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3733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" y="335268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" y="29718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25909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10280" y="990720"/>
            <a:ext cx="1904760" cy="5333760"/>
            <a:chOff x="7010280" y="990720"/>
            <a:chExt cx="1904760" cy="5333760"/>
          </a:xfrm>
        </p:grpSpPr>
        <p:grpSp>
          <p:nvGrpSpPr>
            <p:cNvPr id="235" name=""/>
            <p:cNvGrpSpPr/>
            <p:nvPr/>
          </p:nvGrpSpPr>
          <p:grpSpPr>
            <a:xfrm>
              <a:off x="8381880" y="990720"/>
              <a:ext cx="533160" cy="3962160"/>
              <a:chOff x="8381880" y="990720"/>
              <a:chExt cx="533160" cy="3962160"/>
            </a:xfrm>
          </p:grpSpPr>
          <p:sp>
            <p:nvSpPr>
              <p:cNvPr id="236" name=""/>
              <p:cNvSpPr/>
              <p:nvPr/>
            </p:nvSpPr>
            <p:spPr>
              <a:xfrm>
                <a:off x="8381880" y="44197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81880" y="4038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1880" y="3657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1880" y="32767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381880" y="2895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81880" y="2514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381880" y="21337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81880" y="1752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381880" y="1371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381880" y="9907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8229600" y="1143000"/>
              <a:ext cx="533160" cy="3962160"/>
              <a:chOff x="8229600" y="1143000"/>
              <a:chExt cx="533160" cy="3962160"/>
            </a:xfrm>
          </p:grpSpPr>
          <p:sp>
            <p:nvSpPr>
              <p:cNvPr id="247" name=""/>
              <p:cNvSpPr/>
              <p:nvPr/>
            </p:nvSpPr>
            <p:spPr>
              <a:xfrm>
                <a:off x="8229600" y="45720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229600" y="4190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229600" y="3809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229600" y="34290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229600" y="3047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29600" y="2666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229600" y="22860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229600" y="1904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229600" y="1523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29600" y="11430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8077320" y="1295280"/>
              <a:ext cx="533160" cy="3962160"/>
              <a:chOff x="8077320" y="1295280"/>
              <a:chExt cx="533160" cy="3962160"/>
            </a:xfrm>
          </p:grpSpPr>
          <p:sp>
            <p:nvSpPr>
              <p:cNvPr id="258" name=""/>
              <p:cNvSpPr/>
              <p:nvPr/>
            </p:nvSpPr>
            <p:spPr>
              <a:xfrm>
                <a:off x="8077320" y="47242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77320" y="434304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77320" y="39621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77320" y="35812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77320" y="320004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77320" y="28191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077320" y="24382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077320" y="205704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77320" y="16761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77320" y="12952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924680" y="1447920"/>
              <a:ext cx="533160" cy="3962160"/>
              <a:chOff x="7924680" y="1447920"/>
              <a:chExt cx="533160" cy="3962160"/>
            </a:xfrm>
          </p:grpSpPr>
          <p:sp>
            <p:nvSpPr>
              <p:cNvPr id="269" name=""/>
              <p:cNvSpPr/>
              <p:nvPr/>
            </p:nvSpPr>
            <p:spPr>
              <a:xfrm>
                <a:off x="7924680" y="48769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24680" y="44956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924680" y="41148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24680" y="37339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24680" y="33526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924680" y="29718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924680" y="25909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24680" y="22096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924680" y="18288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924680" y="14479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772400" y="1600200"/>
              <a:ext cx="533160" cy="3962160"/>
              <a:chOff x="7772400" y="1600200"/>
              <a:chExt cx="533160" cy="3962160"/>
            </a:xfrm>
          </p:grpSpPr>
          <p:sp>
            <p:nvSpPr>
              <p:cNvPr id="280" name=""/>
              <p:cNvSpPr/>
              <p:nvPr/>
            </p:nvSpPr>
            <p:spPr>
              <a:xfrm>
                <a:off x="7772400" y="50292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72400" y="46479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72400" y="42670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72400" y="38862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72400" y="35049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72400" y="31240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72400" y="27432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72400" y="23619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72400" y="19810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72400" y="16002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620120" y="1752480"/>
              <a:ext cx="533160" cy="3962160"/>
              <a:chOff x="7620120" y="1752480"/>
              <a:chExt cx="533160" cy="3962160"/>
            </a:xfrm>
          </p:grpSpPr>
          <p:sp>
            <p:nvSpPr>
              <p:cNvPr id="291" name=""/>
              <p:cNvSpPr/>
              <p:nvPr/>
            </p:nvSpPr>
            <p:spPr>
              <a:xfrm>
                <a:off x="7620120" y="51814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20120" y="480024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20120" y="44193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0120" y="40384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20120" y="365724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0120" y="32763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20120" y="28954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620120" y="251424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20120" y="21333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20120" y="17524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467480" y="1905120"/>
              <a:ext cx="533160" cy="3962160"/>
              <a:chOff x="7467480" y="1905120"/>
              <a:chExt cx="533160" cy="3962160"/>
            </a:xfrm>
          </p:grpSpPr>
          <p:sp>
            <p:nvSpPr>
              <p:cNvPr id="302" name=""/>
              <p:cNvSpPr/>
              <p:nvPr/>
            </p:nvSpPr>
            <p:spPr>
              <a:xfrm>
                <a:off x="7467480" y="53341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467480" y="4952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467480" y="4572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467480" y="41911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67480" y="3809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467480" y="3429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467480" y="30481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467480" y="2666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67480" y="2286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467480" y="19051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7315200" y="2057400"/>
              <a:ext cx="533160" cy="3962160"/>
              <a:chOff x="7315200" y="2057400"/>
              <a:chExt cx="533160" cy="3962160"/>
            </a:xfrm>
          </p:grpSpPr>
          <p:sp>
            <p:nvSpPr>
              <p:cNvPr id="313" name=""/>
              <p:cNvSpPr/>
              <p:nvPr/>
            </p:nvSpPr>
            <p:spPr>
              <a:xfrm>
                <a:off x="7315200" y="5486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15200" y="51051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15200" y="47242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15200" y="4343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15200" y="39621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15200" y="35812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15200" y="3200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15200" y="28191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15200" y="24382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15200" y="2057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7162920" y="2209680"/>
              <a:ext cx="533160" cy="3962160"/>
              <a:chOff x="7162920" y="2209680"/>
              <a:chExt cx="533160" cy="3962160"/>
            </a:xfrm>
          </p:grpSpPr>
          <p:sp>
            <p:nvSpPr>
              <p:cNvPr id="324" name=""/>
              <p:cNvSpPr/>
              <p:nvPr/>
            </p:nvSpPr>
            <p:spPr>
              <a:xfrm>
                <a:off x="7162920" y="56386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62920" y="525744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162920" y="48765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162920" y="44956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62920" y="411444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62920" y="37335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62920" y="33526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162920" y="297144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162920" y="25905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62920" y="220968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010280" y="2362320"/>
              <a:ext cx="533160" cy="3962160"/>
              <a:chOff x="7010280" y="2362320"/>
              <a:chExt cx="533160" cy="3962160"/>
            </a:xfrm>
          </p:grpSpPr>
          <p:sp>
            <p:nvSpPr>
              <p:cNvPr id="335" name=""/>
              <p:cNvSpPr/>
              <p:nvPr/>
            </p:nvSpPr>
            <p:spPr>
              <a:xfrm>
                <a:off x="7010280" y="57913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10280" y="54100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010280" y="50292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10280" y="46483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10280" y="42670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10280" y="38862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5053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010280" y="31240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10280" y="27432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10280" y="23623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6629400" y="4419720"/>
            <a:ext cx="304920" cy="609480"/>
          </a:xfrm>
          <a:custGeom>
            <a:avLst/>
            <a:gdLst>
              <a:gd name="textAreaLeft" fmla="*/ 47520 w 304920"/>
              <a:gd name="textAreaRight" fmla="*/ 267120 w 3049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17400" y="765000"/>
            <a:ext cx="402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10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个十是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（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66996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5280" y="692280"/>
            <a:ext cx="37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一十一十地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332000" y="982800"/>
            <a:ext cx="6769080" cy="3812760"/>
            <a:chOff x="1332000" y="982800"/>
            <a:chExt cx="6769080" cy="3812760"/>
          </a:xfrm>
        </p:grpSpPr>
        <p:grpSp>
          <p:nvGrpSpPr>
            <p:cNvPr id="350" name=""/>
            <p:cNvGrpSpPr/>
            <p:nvPr/>
          </p:nvGrpSpPr>
          <p:grpSpPr>
            <a:xfrm>
              <a:off x="6156360" y="982800"/>
              <a:ext cx="1944720" cy="1798200"/>
              <a:chOff x="6156360" y="982800"/>
              <a:chExt cx="1944720" cy="179820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6156360" y="2549160"/>
                <a:ext cx="1944720" cy="231840"/>
                <a:chOff x="6156360" y="2549160"/>
                <a:chExt cx="1944720" cy="2318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156360" y="254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321600" y="254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15640" y="254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708600" y="254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902280" y="254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087680" y="254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281000" y="254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473960" y="254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666920" y="254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52680" y="254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156360" y="2375280"/>
                <a:ext cx="1944720" cy="232200"/>
                <a:chOff x="6156360" y="2375280"/>
                <a:chExt cx="1944720" cy="2322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156360" y="2375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21600" y="2375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15640" y="2375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08600" y="2375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902280" y="2375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087680" y="2375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281000" y="2375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73960" y="2375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666920" y="2375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852680" y="2375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156360" y="2201400"/>
                <a:ext cx="1944720" cy="232200"/>
                <a:chOff x="6156360" y="2201400"/>
                <a:chExt cx="1944720" cy="2322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156360" y="2201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21600" y="2201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515640" y="2201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708600" y="2201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902280" y="2201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087680" y="2201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281000" y="2201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473960" y="2201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666920" y="2201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852680" y="2201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156360" y="2027160"/>
                <a:ext cx="1944720" cy="232200"/>
                <a:chOff x="6156360" y="2027160"/>
                <a:chExt cx="1944720" cy="232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6156360" y="202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321600" y="202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515640" y="202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708600" y="202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902280" y="202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087680" y="202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281000" y="202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3960" y="202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666920" y="202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852680" y="202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6156360" y="1852560"/>
                <a:ext cx="1944720" cy="231840"/>
                <a:chOff x="6156360" y="1852560"/>
                <a:chExt cx="1944720" cy="231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156360" y="1852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321600" y="1852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515640" y="1852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708600" y="1852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902280" y="1852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087680" y="1852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281000" y="1852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473960" y="1852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66920" y="1852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852680" y="1852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156360" y="1678680"/>
                <a:ext cx="1944720" cy="232200"/>
                <a:chOff x="6156360" y="1678680"/>
                <a:chExt cx="1944720" cy="2322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156360" y="1678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321600" y="1678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15640" y="1678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708600" y="1678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902280" y="1678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087680" y="1678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281000" y="1678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473960" y="1678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666920" y="1678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852680" y="1678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6156360" y="1504800"/>
                <a:ext cx="1944720" cy="231840"/>
                <a:chOff x="6156360" y="1504800"/>
                <a:chExt cx="1944720" cy="2318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156360" y="1504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321600" y="1504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515640" y="1504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708600" y="1504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02280" y="1504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087680" y="1504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281000" y="1504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473960" y="1504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666920" y="1504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852680" y="1504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156360" y="1330560"/>
                <a:ext cx="1944720" cy="232200"/>
                <a:chOff x="6156360" y="1330560"/>
                <a:chExt cx="1944720" cy="2322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156360" y="1330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321600" y="1330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515640" y="1330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708600" y="1330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902280" y="1330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087680" y="1330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281000" y="1330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473960" y="1330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666920" y="1330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852680" y="1330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156360" y="1156680"/>
                <a:ext cx="1944720" cy="232200"/>
                <a:chOff x="6156360" y="1156680"/>
                <a:chExt cx="1944720" cy="2322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156360" y="115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321600" y="115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515640" y="115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708600" y="115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902280" y="115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087680" y="115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281000" y="115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473960" y="115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66920" y="115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52680" y="115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156360" y="982800"/>
                <a:ext cx="1944720" cy="232200"/>
                <a:chOff x="6156360" y="982800"/>
                <a:chExt cx="1944720" cy="2322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56360" y="982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321600" y="982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515640" y="982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08600" y="982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902280" y="982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087680" y="982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281000" y="982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473960" y="982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666920" y="982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52680" y="982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5796000" y="1413000"/>
              <a:ext cx="1944720" cy="1798200"/>
              <a:chOff x="5796000" y="1413000"/>
              <a:chExt cx="1944720" cy="179820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5796000" y="2979360"/>
                <a:ext cx="1944720" cy="231840"/>
                <a:chOff x="5796000" y="2979360"/>
                <a:chExt cx="1944720" cy="2318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796000" y="297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961240" y="297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155280" y="297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348240" y="297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541920" y="297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727320" y="297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920640" y="297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113600" y="297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306560" y="297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492320" y="297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796000" y="2805480"/>
                <a:ext cx="1944720" cy="232200"/>
                <a:chOff x="5796000" y="2805480"/>
                <a:chExt cx="1944720" cy="2322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796000" y="28054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961240" y="28054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155280" y="28054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48240" y="28054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41920" y="28054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727320" y="28054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920640" y="28054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113600" y="28054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306560" y="28054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492320" y="28054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796000" y="2631600"/>
                <a:ext cx="1944720" cy="232200"/>
                <a:chOff x="5796000" y="2631600"/>
                <a:chExt cx="1944720" cy="2322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796000" y="2631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961240" y="2631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155280" y="2631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348240" y="2631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541920" y="2631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27320" y="2631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920640" y="2631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113600" y="2631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306560" y="2631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492320" y="2631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796000" y="2457360"/>
                <a:ext cx="1944720" cy="232200"/>
                <a:chOff x="5796000" y="2457360"/>
                <a:chExt cx="1944720" cy="232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796000" y="245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961240" y="245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155280" y="245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348240" y="245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541920" y="245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727320" y="245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920640" y="245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113600" y="245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306560" y="245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492320" y="245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5796000" y="2282760"/>
                <a:ext cx="1944720" cy="231840"/>
                <a:chOff x="5796000" y="2282760"/>
                <a:chExt cx="1944720" cy="2318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5796000" y="22827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61240" y="22827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155280" y="22827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48240" y="22827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541920" y="22827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727320" y="22827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920640" y="22827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113600" y="22827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306560" y="22827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492320" y="22827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5796000" y="2108880"/>
                <a:ext cx="1944720" cy="232200"/>
                <a:chOff x="5796000" y="2108880"/>
                <a:chExt cx="1944720" cy="2322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796000" y="2108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961240" y="2108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155280" y="2108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348240" y="2108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541920" y="2108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727320" y="2108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920640" y="2108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113600" y="2108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306560" y="2108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492320" y="2108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5796000" y="1935000"/>
                <a:ext cx="1944720" cy="231840"/>
                <a:chOff x="5796000" y="1935000"/>
                <a:chExt cx="1944720" cy="2318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796000" y="1935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961240" y="1935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155280" y="1935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348240" y="1935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541920" y="1935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727320" y="1935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920640" y="1935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113600" y="1935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306560" y="1935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492320" y="1935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96000" y="1760760"/>
                <a:ext cx="1944720" cy="232200"/>
                <a:chOff x="5796000" y="1760760"/>
                <a:chExt cx="1944720" cy="23220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796000" y="1760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961240" y="1760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155280" y="1760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348240" y="1760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541920" y="1760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727320" y="1760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20640" y="1760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113600" y="1760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306560" y="1760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492320" y="1760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5796000" y="1586880"/>
                <a:ext cx="1944720" cy="232200"/>
                <a:chOff x="5796000" y="1586880"/>
                <a:chExt cx="1944720" cy="232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5796000" y="1586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961240" y="1586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155280" y="1586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348240" y="1586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541920" y="1586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727320" y="1586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920640" y="1586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113600" y="1586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306560" y="1586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492320" y="1586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5796000" y="1413000"/>
                <a:ext cx="1944720" cy="232200"/>
                <a:chOff x="5796000" y="1413000"/>
                <a:chExt cx="1944720" cy="23220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5796000" y="1413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961240" y="1413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155280" y="1413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348240" y="1413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541920" y="1413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727320" y="1413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920640" y="1413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113600" y="1413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306560" y="1413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492320" y="1413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2" name=""/>
            <p:cNvGrpSpPr/>
            <p:nvPr/>
          </p:nvGrpSpPr>
          <p:grpSpPr>
            <a:xfrm>
              <a:off x="5508720" y="1989000"/>
              <a:ext cx="1944720" cy="1798560"/>
              <a:chOff x="5508720" y="1989000"/>
              <a:chExt cx="1944720" cy="179856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5508720" y="3555720"/>
                <a:ext cx="1944720" cy="231840"/>
                <a:chOff x="5508720" y="3555720"/>
                <a:chExt cx="1944720" cy="2318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5508720" y="3555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673960" y="3555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868000" y="3555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060960" y="3555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254640" y="3555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40040" y="3555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3360" y="3555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826320" y="3555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019280" y="3555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205040" y="3555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5508720" y="3381840"/>
                <a:ext cx="1944720" cy="232200"/>
                <a:chOff x="5508720" y="3381840"/>
                <a:chExt cx="1944720" cy="23220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5508720" y="338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673960" y="338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868000" y="338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060960" y="338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254640" y="338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440040" y="338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633360" y="338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6826320" y="338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019280" y="338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205040" y="338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5508720" y="3207600"/>
                <a:ext cx="1944720" cy="232200"/>
                <a:chOff x="5508720" y="3207600"/>
                <a:chExt cx="1944720" cy="2322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508720" y="3207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673960" y="3207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868000" y="3207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060960" y="3207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254640" y="3207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440040" y="3207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633360" y="3207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826320" y="3207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019280" y="3207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205040" y="32076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5508720" y="3033720"/>
                <a:ext cx="1944720" cy="232200"/>
                <a:chOff x="5508720" y="3033720"/>
                <a:chExt cx="1944720" cy="232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5508720" y="3033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673960" y="3033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868000" y="3033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060960" y="3033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254640" y="3033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440040" y="3033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633360" y="3033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826320" y="3033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019280" y="3033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205040" y="3033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5508720" y="2859120"/>
                <a:ext cx="1944720" cy="231840"/>
                <a:chOff x="5508720" y="2859120"/>
                <a:chExt cx="1944720" cy="23184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5508720" y="2859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673960" y="2859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868000" y="2859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060960" y="2859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254640" y="2859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440040" y="2859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633360" y="2859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826320" y="2859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019280" y="2859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7205040" y="2859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5508720" y="2684880"/>
                <a:ext cx="1944720" cy="232200"/>
                <a:chOff x="5508720" y="2684880"/>
                <a:chExt cx="1944720" cy="23220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5508720" y="2684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673960" y="2684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868000" y="2684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060960" y="2684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254640" y="2684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440040" y="2684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633360" y="2684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826320" y="2684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019280" y="2684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205040" y="2684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5508720" y="2511000"/>
                <a:ext cx="1944720" cy="231840"/>
                <a:chOff x="5508720" y="2511000"/>
                <a:chExt cx="1944720" cy="2318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5508720" y="2511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673960" y="2511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868000" y="2511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060960" y="2511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254640" y="2511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440040" y="2511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633360" y="2511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826320" y="2511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019280" y="2511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205040" y="25110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5508720" y="2336760"/>
                <a:ext cx="1944720" cy="232200"/>
                <a:chOff x="5508720" y="2336760"/>
                <a:chExt cx="1944720" cy="23220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5508720" y="2336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673960" y="2336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868000" y="2336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060960" y="2336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54640" y="2336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440040" y="2336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633360" y="2336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826320" y="2336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019280" y="2336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205040" y="2336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508720" y="2162880"/>
                <a:ext cx="1944720" cy="232200"/>
                <a:chOff x="5508720" y="2162880"/>
                <a:chExt cx="1944720" cy="2322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508720" y="2162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3960" y="2162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868000" y="2162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060960" y="2162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254640" y="2162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440040" y="2162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633360" y="2162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826320" y="2162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019280" y="2162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7205040" y="21628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508720" y="1989000"/>
                <a:ext cx="1944720" cy="232200"/>
                <a:chOff x="5508720" y="1989000"/>
                <a:chExt cx="1944720" cy="23220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508720" y="1989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73960" y="1989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868000" y="1989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060960" y="1989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254640" y="1989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440040" y="1989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633360" y="1989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826320" y="1989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019280" y="1989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7205040" y="19890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5221440" y="2567160"/>
              <a:ext cx="1944000" cy="1798200"/>
              <a:chOff x="5221440" y="2567160"/>
              <a:chExt cx="1944000" cy="179820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5221440" y="4133520"/>
                <a:ext cx="1944000" cy="231840"/>
                <a:chOff x="5221440" y="4133520"/>
                <a:chExt cx="1944000" cy="23184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5221440" y="41335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86680" y="4133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580360" y="41335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773680" y="41335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967000" y="41335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52760" y="41335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345720" y="41335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538680" y="41335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731640" y="41335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917400" y="41335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5221440" y="3959640"/>
                <a:ext cx="1944000" cy="232200"/>
                <a:chOff x="5221440" y="3959640"/>
                <a:chExt cx="1944000" cy="23220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5221440" y="39596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386680" y="3959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80360" y="39596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773680" y="39596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967000" y="39596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152760" y="39596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345720" y="39596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538680" y="39596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731640" y="39596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917400" y="39596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5221440" y="3785760"/>
                <a:ext cx="1944000" cy="232200"/>
                <a:chOff x="5221440" y="3785760"/>
                <a:chExt cx="1944000" cy="23220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5221440" y="37857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386680" y="37857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580360" y="37857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773680" y="37857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967000" y="37857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152760" y="37857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45720" y="37857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538680" y="37857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731640" y="37857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917400" y="37857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5221440" y="3611520"/>
                <a:ext cx="1944000" cy="232200"/>
                <a:chOff x="5221440" y="3611520"/>
                <a:chExt cx="1944000" cy="23220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221440" y="36115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386680" y="3611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580360" y="36115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773680" y="36115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967000" y="36115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152760" y="36115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345720" y="36115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538680" y="36115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31640" y="36115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917400" y="36115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5221440" y="3436920"/>
                <a:ext cx="1944000" cy="231840"/>
                <a:chOff x="5221440" y="3436920"/>
                <a:chExt cx="1944000" cy="23184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5221440" y="34369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386680" y="3436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580360" y="34369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73680" y="34369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967000" y="34369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152760" y="34369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345720" y="34369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538680" y="34369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731640" y="34369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917400" y="34369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5221440" y="3263040"/>
                <a:ext cx="1944000" cy="232200"/>
                <a:chOff x="5221440" y="3263040"/>
                <a:chExt cx="1944000" cy="2322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221440" y="3263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386680" y="326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580360" y="3263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773680" y="3263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967000" y="3263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152760" y="3263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345720" y="3263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538680" y="3263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731640" y="3263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917400" y="3263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5221440" y="3089160"/>
                <a:ext cx="1944000" cy="231840"/>
                <a:chOff x="5221440" y="3089160"/>
                <a:chExt cx="1944000" cy="2318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221440" y="30891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386680" y="3089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80360" y="30891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773680" y="30891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967000" y="30891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152760" y="30891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345720" y="30891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538680" y="30891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731640" y="30891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917400" y="30891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5221440" y="2914920"/>
                <a:ext cx="1944000" cy="232200"/>
                <a:chOff x="5221440" y="2914920"/>
                <a:chExt cx="1944000" cy="23220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5221440" y="29149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86680" y="29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80360" y="29149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773680" y="29149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967000" y="29149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152760" y="29149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345720" y="29149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538680" y="29149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731640" y="29149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917400" y="29149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5221440" y="2741040"/>
                <a:ext cx="1944000" cy="232200"/>
                <a:chOff x="5221440" y="2741040"/>
                <a:chExt cx="1944000" cy="23220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5221440" y="2741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386680" y="27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580360" y="2741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773680" y="2741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967000" y="2741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152760" y="2741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345720" y="2741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538680" y="2741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731640" y="2741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6917400" y="27410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221440" y="2567160"/>
                <a:ext cx="1944000" cy="232200"/>
                <a:chOff x="5221440" y="2567160"/>
                <a:chExt cx="1944000" cy="2322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221440" y="25671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86680" y="2567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580360" y="25671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773680" y="25671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967000" y="25671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152760" y="25671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345720" y="25671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538680" y="25671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731640" y="25671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917400" y="25671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4" name=""/>
            <p:cNvGrpSpPr/>
            <p:nvPr/>
          </p:nvGrpSpPr>
          <p:grpSpPr>
            <a:xfrm>
              <a:off x="4500720" y="2997360"/>
              <a:ext cx="1944000" cy="1798200"/>
              <a:chOff x="4500720" y="2997360"/>
              <a:chExt cx="1944000" cy="17982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4500720" y="4563720"/>
                <a:ext cx="1944000" cy="231840"/>
                <a:chOff x="4500720" y="4563720"/>
                <a:chExt cx="1944000" cy="2318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4500720" y="45637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65960" y="45637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859640" y="45637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052960" y="45637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246280" y="45637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432040" y="45637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625000" y="45637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17960" y="45637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010920" y="45637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196680" y="45637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4500720" y="4389840"/>
                <a:ext cx="1944000" cy="232200"/>
                <a:chOff x="4500720" y="4389840"/>
                <a:chExt cx="1944000" cy="2322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500720" y="43898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665960" y="4389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859640" y="43898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052960" y="43898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246280" y="43898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432040" y="43898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625000" y="43898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817960" y="43898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010920" y="43898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196680" y="43898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500720" y="4215960"/>
                <a:ext cx="1944000" cy="232200"/>
                <a:chOff x="4500720" y="4215960"/>
                <a:chExt cx="1944000" cy="23220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4500720" y="42159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665960" y="4215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859640" y="42159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052960" y="42159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46280" y="42159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432040" y="42159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625000" y="42159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817960" y="42159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010920" y="42159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196680" y="42159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4500720" y="4041720"/>
                <a:ext cx="1944000" cy="232200"/>
                <a:chOff x="4500720" y="4041720"/>
                <a:chExt cx="1944000" cy="23220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4500720" y="40417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665960" y="40417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4859640" y="40417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052960" y="40417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246280" y="40417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432040" y="40417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625000" y="40417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817960" y="40417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010920" y="40417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196680" y="40417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4500720" y="3867120"/>
                <a:ext cx="1944000" cy="231840"/>
                <a:chOff x="4500720" y="3867120"/>
                <a:chExt cx="1944000" cy="23184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4500720" y="38671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665960" y="38671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859640" y="38671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052960" y="38671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246280" y="38671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432040" y="38671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625000" y="38671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817960" y="38671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010920" y="38671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196680" y="386712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4500720" y="3693240"/>
                <a:ext cx="1944000" cy="232200"/>
                <a:chOff x="4500720" y="3693240"/>
                <a:chExt cx="1944000" cy="23220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4500720" y="3693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665960" y="36932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859640" y="3693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052960" y="3693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246280" y="3693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432040" y="3693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625000" y="3693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817960" y="3693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010920" y="3693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196680" y="3693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4500720" y="3519360"/>
                <a:ext cx="1944000" cy="231840"/>
                <a:chOff x="4500720" y="3519360"/>
                <a:chExt cx="1944000" cy="2318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4500720" y="35193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665960" y="35193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59640" y="35193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052960" y="35193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246280" y="35193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432040" y="35193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625000" y="35193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817960" y="35193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010920" y="35193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196680" y="3519360"/>
                  <a:ext cx="24804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4500720" y="3345120"/>
                <a:ext cx="1944000" cy="232200"/>
                <a:chOff x="4500720" y="3345120"/>
                <a:chExt cx="1944000" cy="23220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4500720" y="33451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665960" y="33451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859640" y="33451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052960" y="33451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246280" y="33451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32040" y="33451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25000" y="33451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817960" y="33451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010920" y="33451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196680" y="334512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4500720" y="3171240"/>
                <a:ext cx="1944000" cy="232200"/>
                <a:chOff x="4500720" y="3171240"/>
                <a:chExt cx="1944000" cy="23220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4500720" y="3171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665960" y="31712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859640" y="3171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052960" y="3171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246280" y="3171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432040" y="3171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625000" y="3171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817960" y="3171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010920" y="3171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196680" y="317124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4500720" y="2997360"/>
                <a:ext cx="1944000" cy="232200"/>
                <a:chOff x="4500720" y="2997360"/>
                <a:chExt cx="1944000" cy="23220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4500720" y="29973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665960" y="29973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859640" y="29973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052960" y="29973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246280" y="29973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432040" y="29973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625000" y="29973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817960" y="29973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010920" y="29973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196680" y="2997360"/>
                  <a:ext cx="24804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5" name=""/>
            <p:cNvGrpSpPr/>
            <p:nvPr/>
          </p:nvGrpSpPr>
          <p:grpSpPr>
            <a:xfrm>
              <a:off x="2771640" y="1054080"/>
              <a:ext cx="1944720" cy="1798200"/>
              <a:chOff x="2771640" y="1054080"/>
              <a:chExt cx="1944720" cy="179820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2771640" y="2620440"/>
                <a:ext cx="1944720" cy="231840"/>
                <a:chOff x="2771640" y="2620440"/>
                <a:chExt cx="1944720" cy="2318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2771640" y="2620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936880" y="2620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130920" y="2620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323880" y="2620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517560" y="2620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02960" y="2620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896280" y="2620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089240" y="2620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4282200" y="2620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467960" y="2620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2771640" y="2446560"/>
                <a:ext cx="1944720" cy="232200"/>
                <a:chOff x="2771640" y="2446560"/>
                <a:chExt cx="1944720" cy="23220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2771640" y="244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936880" y="244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130920" y="244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323880" y="244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517560" y="244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702960" y="244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3896280" y="244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089240" y="244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82200" y="244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467960" y="244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2771640" y="2272680"/>
                <a:ext cx="1944720" cy="232200"/>
                <a:chOff x="2771640" y="2272680"/>
                <a:chExt cx="1944720" cy="23220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2771640" y="227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936880" y="227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3130920" y="227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3323880" y="227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517560" y="227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3702960" y="227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896280" y="227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089240" y="227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282200" y="227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467960" y="227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2771640" y="2098440"/>
                <a:ext cx="1944720" cy="232200"/>
                <a:chOff x="2771640" y="2098440"/>
                <a:chExt cx="1944720" cy="23220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2771640" y="2098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936880" y="2098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130920" y="2098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323880" y="2098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517560" y="2098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702960" y="2098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3896280" y="2098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089240" y="2098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282200" y="2098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467960" y="2098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2771640" y="1923840"/>
                <a:ext cx="1944720" cy="231840"/>
                <a:chOff x="2771640" y="1923840"/>
                <a:chExt cx="1944720" cy="23184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2771640" y="19238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936880" y="19238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130920" y="19238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323880" y="19238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517560" y="19238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702960" y="19238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896280" y="19238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089240" y="19238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282200" y="19238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467960" y="19238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2771640" y="1749960"/>
                <a:ext cx="1944720" cy="232200"/>
                <a:chOff x="2771640" y="1749960"/>
                <a:chExt cx="1944720" cy="23220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2771640" y="1749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936880" y="1749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3130920" y="1749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323880" y="1749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517560" y="1749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702960" y="1749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96280" y="1749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089240" y="1749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282200" y="1749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467960" y="1749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2771640" y="1576080"/>
                <a:ext cx="1944720" cy="231840"/>
                <a:chOff x="2771640" y="1576080"/>
                <a:chExt cx="1944720" cy="23184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2771640" y="157608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936880" y="157608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130920" y="157608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323880" y="157608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517560" y="157608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702960" y="157608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3896280" y="157608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089240" y="157608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282200" y="157608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4467960" y="157608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2771640" y="1401840"/>
                <a:ext cx="1944720" cy="232200"/>
                <a:chOff x="2771640" y="1401840"/>
                <a:chExt cx="1944720" cy="23220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2771640" y="140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936880" y="140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130920" y="140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3323880" y="140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517560" y="140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702960" y="140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896280" y="140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89240" y="140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282200" y="140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467960" y="14018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2771640" y="1227960"/>
                <a:ext cx="1944720" cy="232200"/>
                <a:chOff x="2771640" y="1227960"/>
                <a:chExt cx="1944720" cy="23220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2771640" y="1227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2936880" y="1227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30920" y="1227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323880" y="1227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517560" y="1227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702960" y="1227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896280" y="1227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89240" y="1227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282200" y="1227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467960" y="12279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2771640" y="1054080"/>
                <a:ext cx="1944720" cy="232200"/>
                <a:chOff x="2771640" y="1054080"/>
                <a:chExt cx="1944720" cy="2322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2771640" y="10540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2936880" y="10540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130920" y="10540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323880" y="10540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517560" y="10540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702960" y="10540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896280" y="10540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89240" y="10540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282200" y="10540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467960" y="10540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6" name=""/>
            <p:cNvGrpSpPr/>
            <p:nvPr/>
          </p:nvGrpSpPr>
          <p:grpSpPr>
            <a:xfrm>
              <a:off x="2484360" y="1558800"/>
              <a:ext cx="1944720" cy="1798560"/>
              <a:chOff x="2484360" y="1558800"/>
              <a:chExt cx="1944720" cy="1798560"/>
            </a:xfrm>
          </p:grpSpPr>
          <p:grpSp>
            <p:nvGrpSpPr>
              <p:cNvPr id="1017" name=""/>
              <p:cNvGrpSpPr/>
              <p:nvPr/>
            </p:nvGrpSpPr>
            <p:grpSpPr>
              <a:xfrm>
                <a:off x="2484360" y="3125520"/>
                <a:ext cx="1944720" cy="231840"/>
                <a:chOff x="2484360" y="3125520"/>
                <a:chExt cx="1944720" cy="23184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2484360" y="3125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2649600" y="3125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843640" y="3125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036600" y="3125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230280" y="3125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415680" y="3125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609000" y="3125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801960" y="3125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994920" y="3125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180680" y="31255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2484360" y="2951640"/>
                <a:ext cx="1944720" cy="232200"/>
                <a:chOff x="2484360" y="2951640"/>
                <a:chExt cx="1944720" cy="23220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2484360" y="2951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2649600" y="2951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2843640" y="2951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036600" y="2951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230280" y="2951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415680" y="2951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609000" y="2951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801960" y="2951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994920" y="2951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180680" y="29516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2484360" y="2777400"/>
                <a:ext cx="1944720" cy="232200"/>
                <a:chOff x="2484360" y="2777400"/>
                <a:chExt cx="1944720" cy="23220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2484360" y="2777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649600" y="2777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843640" y="2777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036600" y="2777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230280" y="2777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415680" y="2777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609000" y="2777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801960" y="2777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994920" y="2777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180680" y="2777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2484360" y="2603520"/>
                <a:ext cx="1944720" cy="232200"/>
                <a:chOff x="2484360" y="2603520"/>
                <a:chExt cx="1944720" cy="2322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2484360" y="2603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2649600" y="2603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2843640" y="2603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3036600" y="2603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230280" y="2603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415680" y="2603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609000" y="2603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01960" y="2603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994920" y="2603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180680" y="26035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2484360" y="2428920"/>
                <a:ext cx="1944720" cy="231840"/>
                <a:chOff x="2484360" y="2428920"/>
                <a:chExt cx="1944720" cy="23184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2484360" y="2428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649600" y="2428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2843640" y="2428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036600" y="2428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230280" y="2428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415680" y="2428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609000" y="2428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801960" y="2428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994920" y="2428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180680" y="242892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2484360" y="2254680"/>
                <a:ext cx="1944720" cy="232200"/>
                <a:chOff x="2484360" y="2254680"/>
                <a:chExt cx="1944720" cy="2322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2484360" y="225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2649600" y="225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2843640" y="225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036600" y="225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3230280" y="225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415680" y="225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3609000" y="225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801960" y="225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994920" y="225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180680" y="225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2484360" y="2080800"/>
                <a:ext cx="1944720" cy="231840"/>
                <a:chOff x="2484360" y="2080800"/>
                <a:chExt cx="1944720" cy="23184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2484360" y="208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2649600" y="208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2843640" y="208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036600" y="208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230280" y="208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415680" y="208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609000" y="208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3801960" y="208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3994920" y="208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180680" y="208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2484360" y="1906560"/>
                <a:ext cx="1944720" cy="232200"/>
                <a:chOff x="2484360" y="1906560"/>
                <a:chExt cx="1944720" cy="2322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2484360" y="190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649600" y="190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843640" y="190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036600" y="190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230280" y="190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415680" y="190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609000" y="190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3801960" y="190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994920" y="190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180680" y="1906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4360" y="1732680"/>
                <a:ext cx="1944720" cy="232200"/>
                <a:chOff x="2484360" y="1732680"/>
                <a:chExt cx="1944720" cy="2322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4360" y="173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649600" y="173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843640" y="173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036600" y="173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230280" y="173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415680" y="173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609000" y="173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3801960" y="173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3994920" y="173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180680" y="1732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2484360" y="1558800"/>
                <a:ext cx="1944720" cy="232200"/>
                <a:chOff x="2484360" y="1558800"/>
                <a:chExt cx="1944720" cy="2322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2484360" y="155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2649600" y="155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843640" y="155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3036600" y="155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230280" y="155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415680" y="155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609000" y="155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801960" y="155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3994920" y="155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180680" y="155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7" name=""/>
            <p:cNvGrpSpPr/>
            <p:nvPr/>
          </p:nvGrpSpPr>
          <p:grpSpPr>
            <a:xfrm>
              <a:off x="2124000" y="1990800"/>
              <a:ext cx="1944720" cy="1798200"/>
              <a:chOff x="2124000" y="1990800"/>
              <a:chExt cx="1944720" cy="1798200"/>
            </a:xfrm>
          </p:grpSpPr>
          <p:grpSp>
            <p:nvGrpSpPr>
              <p:cNvPr id="1128" name=""/>
              <p:cNvGrpSpPr/>
              <p:nvPr/>
            </p:nvGrpSpPr>
            <p:grpSpPr>
              <a:xfrm>
                <a:off x="2124000" y="3557160"/>
                <a:ext cx="1944720" cy="231840"/>
                <a:chOff x="2124000" y="3557160"/>
                <a:chExt cx="1944720" cy="23184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2124000" y="3557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2289240" y="3557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483280" y="3557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676240" y="3557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2869920" y="3557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055320" y="3557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3248640" y="3557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3441600" y="3557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634560" y="3557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820320" y="35571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2124000" y="3383280"/>
                <a:ext cx="1944720" cy="232200"/>
                <a:chOff x="2124000" y="3383280"/>
                <a:chExt cx="1944720" cy="23220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2124000" y="3383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2289240" y="3383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2483280" y="3383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676240" y="3383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869920" y="3383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055320" y="3383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248640" y="3383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441600" y="3383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634560" y="3383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820320" y="33832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0" name=""/>
              <p:cNvGrpSpPr/>
              <p:nvPr/>
            </p:nvGrpSpPr>
            <p:grpSpPr>
              <a:xfrm>
                <a:off x="2124000" y="3209400"/>
                <a:ext cx="1944720" cy="232200"/>
                <a:chOff x="2124000" y="3209400"/>
                <a:chExt cx="1944720" cy="23220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2124000" y="3209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289240" y="3209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483280" y="3209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2676240" y="3209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869920" y="3209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55320" y="3209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248640" y="3209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441600" y="3209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634560" y="3209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820320" y="32094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2124000" y="3035160"/>
                <a:ext cx="1944720" cy="232200"/>
                <a:chOff x="2124000" y="3035160"/>
                <a:chExt cx="1944720" cy="2322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2124000" y="3035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289240" y="3035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483280" y="3035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676240" y="3035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2869920" y="3035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055320" y="3035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248640" y="3035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441600" y="3035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634560" y="3035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820320" y="30351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2124000" y="2860560"/>
                <a:ext cx="1944720" cy="231840"/>
                <a:chOff x="2124000" y="2860560"/>
                <a:chExt cx="1944720" cy="2318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2124000" y="2860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89240" y="2860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483280" y="2860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676240" y="2860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869920" y="2860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055320" y="2860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3248640" y="2860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441600" y="2860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634560" y="2860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3820320" y="286056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3" name=""/>
              <p:cNvGrpSpPr/>
              <p:nvPr/>
            </p:nvGrpSpPr>
            <p:grpSpPr>
              <a:xfrm>
                <a:off x="2124000" y="2686680"/>
                <a:ext cx="1944720" cy="232200"/>
                <a:chOff x="2124000" y="2686680"/>
                <a:chExt cx="1944720" cy="23220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2124000" y="268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89240" y="268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483280" y="268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676240" y="268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869920" y="268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055320" y="268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248640" y="268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441600" y="268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634560" y="268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820320" y="2686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2124000" y="2512800"/>
                <a:ext cx="1944720" cy="231840"/>
                <a:chOff x="2124000" y="2512800"/>
                <a:chExt cx="1944720" cy="2318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2124000" y="2512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289240" y="2512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483280" y="2512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676240" y="2512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869920" y="2512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055320" y="2512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248640" y="2512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441600" y="2512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634560" y="2512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820320" y="2512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124000" y="2338560"/>
                <a:ext cx="1944720" cy="232200"/>
                <a:chOff x="2124000" y="2338560"/>
                <a:chExt cx="1944720" cy="23220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124000" y="2338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289240" y="2338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483280" y="2338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676240" y="2338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869920" y="2338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055320" y="2338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248640" y="2338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441600" y="2338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634560" y="2338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820320" y="233856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2124000" y="2164680"/>
                <a:ext cx="1944720" cy="232200"/>
                <a:chOff x="2124000" y="2164680"/>
                <a:chExt cx="1944720" cy="23220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2124000" y="216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289240" y="216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483280" y="216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676240" y="216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869920" y="216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055320" y="216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248640" y="216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441600" y="216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634560" y="216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820320" y="216468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2124000" y="1990800"/>
                <a:ext cx="1944720" cy="232200"/>
                <a:chOff x="2124000" y="1990800"/>
                <a:chExt cx="1944720" cy="23220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124000" y="1990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289240" y="1990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83280" y="1990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676240" y="1990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869920" y="1990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055320" y="1990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248640" y="1990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441600" y="1990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634560" y="1990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820320" y="1990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8" name=""/>
            <p:cNvGrpSpPr/>
            <p:nvPr/>
          </p:nvGrpSpPr>
          <p:grpSpPr>
            <a:xfrm>
              <a:off x="1692360" y="2422440"/>
              <a:ext cx="1944720" cy="1798200"/>
              <a:chOff x="1692360" y="2422440"/>
              <a:chExt cx="1944720" cy="1798200"/>
            </a:xfrm>
          </p:grpSpPr>
          <p:grpSp>
            <p:nvGrpSpPr>
              <p:cNvPr id="1239" name=""/>
              <p:cNvGrpSpPr/>
              <p:nvPr/>
            </p:nvGrpSpPr>
            <p:grpSpPr>
              <a:xfrm>
                <a:off x="1692360" y="3988800"/>
                <a:ext cx="1944720" cy="231840"/>
                <a:chOff x="1692360" y="3988800"/>
                <a:chExt cx="1944720" cy="23184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1692360" y="3988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1857600" y="3988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051640" y="3988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244600" y="3988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438280" y="3988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623680" y="3988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817000" y="3988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009960" y="3988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202920" y="3988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388680" y="3988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1692360" y="3814920"/>
                <a:ext cx="1944720" cy="232200"/>
                <a:chOff x="1692360" y="3814920"/>
                <a:chExt cx="1944720" cy="23220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1692360" y="38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857600" y="38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051640" y="38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244600" y="38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38280" y="38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623680" y="38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817000" y="38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009960" y="38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202920" y="38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388680" y="3814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1692360" y="3641040"/>
                <a:ext cx="1944720" cy="232200"/>
                <a:chOff x="1692360" y="3641040"/>
                <a:chExt cx="1944720" cy="23220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1692360" y="36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1857600" y="36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051640" y="36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244600" y="36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438280" y="36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623680" y="36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817000" y="36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009960" y="36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202920" y="36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388680" y="3641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1692360" y="3466800"/>
                <a:ext cx="1944720" cy="232200"/>
                <a:chOff x="1692360" y="3466800"/>
                <a:chExt cx="1944720" cy="23220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1692360" y="3466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857600" y="3466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051640" y="3466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244600" y="3466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438280" y="3466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23680" y="3466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817000" y="3466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009960" y="3466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202920" y="3466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388680" y="3466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1692360" y="3292200"/>
                <a:ext cx="1944720" cy="231840"/>
                <a:chOff x="1692360" y="3292200"/>
                <a:chExt cx="1944720" cy="23184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1692360" y="3292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1857600" y="3292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051640" y="3292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244600" y="3292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438280" y="3292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23680" y="3292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817000" y="3292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009960" y="3292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202920" y="3292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3388680" y="3292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1692360" y="3118320"/>
                <a:ext cx="1944720" cy="232200"/>
                <a:chOff x="1692360" y="3118320"/>
                <a:chExt cx="1944720" cy="23220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1692360" y="311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1857600" y="311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051640" y="311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244600" y="311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438280" y="311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23680" y="311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817000" y="311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3009960" y="311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3202920" y="311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388680" y="311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1692360" y="2944440"/>
                <a:ext cx="1944720" cy="231840"/>
                <a:chOff x="1692360" y="2944440"/>
                <a:chExt cx="1944720" cy="23184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692360" y="2944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857600" y="2944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051640" y="2944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244600" y="2944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8280" y="2944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623680" y="2944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817000" y="2944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3009960" y="2944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3202920" y="2944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3388680" y="2944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1692360" y="2770200"/>
                <a:ext cx="1944720" cy="232200"/>
                <a:chOff x="1692360" y="2770200"/>
                <a:chExt cx="1944720" cy="23220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1692360" y="2770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1857600" y="2770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051640" y="2770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244600" y="2770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38280" y="2770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623680" y="2770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817000" y="2770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009960" y="2770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202920" y="2770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3388680" y="2770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1692360" y="2596320"/>
                <a:ext cx="1944720" cy="232200"/>
                <a:chOff x="1692360" y="2596320"/>
                <a:chExt cx="1944720" cy="23220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692360" y="2596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857600" y="2596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051640" y="2596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244600" y="2596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438280" y="2596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623680" y="2596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817000" y="2596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3009960" y="2596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3202920" y="2596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3388680" y="2596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1692360" y="2422440"/>
                <a:ext cx="1944720" cy="232200"/>
                <a:chOff x="1692360" y="2422440"/>
                <a:chExt cx="1944720" cy="23220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692360" y="2422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857600" y="2422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051640" y="2422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244600" y="2422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38280" y="2422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623680" y="2422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817000" y="2422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3009960" y="2422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3202920" y="2422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3388680" y="2422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9" name=""/>
            <p:cNvGrpSpPr/>
            <p:nvPr/>
          </p:nvGrpSpPr>
          <p:grpSpPr>
            <a:xfrm>
              <a:off x="1332000" y="2854440"/>
              <a:ext cx="1944720" cy="1798200"/>
              <a:chOff x="1332000" y="2854440"/>
              <a:chExt cx="1944720" cy="1798200"/>
            </a:xfrm>
          </p:grpSpPr>
          <p:grpSp>
            <p:nvGrpSpPr>
              <p:cNvPr id="1350" name=""/>
              <p:cNvGrpSpPr/>
              <p:nvPr/>
            </p:nvGrpSpPr>
            <p:grpSpPr>
              <a:xfrm>
                <a:off x="1332000" y="4420800"/>
                <a:ext cx="1944720" cy="231840"/>
                <a:chOff x="1332000" y="4420800"/>
                <a:chExt cx="1944720" cy="23184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1332000" y="442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497240" y="442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691280" y="442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884240" y="442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077920" y="442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263320" y="442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456640" y="442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2649600" y="442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2842560" y="442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028320" y="44208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1332000" y="4246920"/>
                <a:ext cx="1944720" cy="232200"/>
                <a:chOff x="1332000" y="4246920"/>
                <a:chExt cx="1944720" cy="23220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1332000" y="4246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497240" y="4246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691280" y="4246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884240" y="4246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077920" y="4246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263320" y="4246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456640" y="4246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649600" y="4246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842560" y="4246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028320" y="42469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1332000" y="4073040"/>
                <a:ext cx="1944720" cy="232200"/>
                <a:chOff x="1332000" y="4073040"/>
                <a:chExt cx="1944720" cy="23220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1332000" y="407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1497240" y="407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1691280" y="407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1884240" y="407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077920" y="407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263320" y="407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456640" y="407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649600" y="407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842560" y="407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028320" y="40730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1332000" y="3898800"/>
                <a:ext cx="1944720" cy="232200"/>
                <a:chOff x="1332000" y="3898800"/>
                <a:chExt cx="1944720" cy="23220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1332000" y="389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1497240" y="389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691280" y="389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1884240" y="389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077920" y="389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263320" y="389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2456640" y="389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649600" y="389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842560" y="389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3028320" y="38988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1332000" y="3724200"/>
                <a:ext cx="1944720" cy="231840"/>
                <a:chOff x="1332000" y="3724200"/>
                <a:chExt cx="1944720" cy="23184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1332000" y="3724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1497240" y="3724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1691280" y="3724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1884240" y="3724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2077920" y="3724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2263320" y="3724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2456640" y="3724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649600" y="3724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2842560" y="3724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3028320" y="372420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1332000" y="3550320"/>
                <a:ext cx="1944720" cy="232200"/>
                <a:chOff x="1332000" y="3550320"/>
                <a:chExt cx="1944720" cy="23220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1332000" y="3550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1497240" y="3550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1691280" y="3550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1884240" y="3550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2077920" y="3550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2263320" y="3550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456640" y="3550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2649600" y="3550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842560" y="3550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3028320" y="3550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1332000" y="3376440"/>
                <a:ext cx="1944720" cy="231840"/>
                <a:chOff x="1332000" y="3376440"/>
                <a:chExt cx="1944720" cy="23184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1332000" y="3376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1497240" y="3376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1691280" y="3376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1884240" y="3376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2077920" y="3376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2263320" y="3376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456640" y="3376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2649600" y="3376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842560" y="3376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3028320" y="3376440"/>
                  <a:ext cx="248400" cy="231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1332000" y="3202200"/>
                <a:ext cx="1944720" cy="232200"/>
                <a:chOff x="1332000" y="3202200"/>
                <a:chExt cx="1944720" cy="23220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1332000" y="3202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1497240" y="3202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1691280" y="3202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1884240" y="3202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2077920" y="3202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2263320" y="3202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2456640" y="3202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2649600" y="3202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2842560" y="3202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3028320" y="320220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1332000" y="3028320"/>
                <a:ext cx="1944720" cy="232200"/>
                <a:chOff x="1332000" y="3028320"/>
                <a:chExt cx="1944720" cy="23220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1332000" y="302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1497240" y="302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1691280" y="302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1884240" y="302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2077920" y="302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2263320" y="302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2456640" y="302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2649600" y="302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2842560" y="302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3028320" y="302832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1332000" y="2854440"/>
                <a:ext cx="1944720" cy="232200"/>
                <a:chOff x="1332000" y="2854440"/>
                <a:chExt cx="1944720" cy="23220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1332000" y="2854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1497240" y="2854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1691280" y="2854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1884240" y="2854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077920" y="2854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2263320" y="2854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2456640" y="2854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2649600" y="2854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2842560" y="2854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3028320" y="2854440"/>
                  <a:ext cx="248400" cy="232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99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0" name=""/>
          <p:cNvSpPr/>
          <p:nvPr/>
        </p:nvSpPr>
        <p:spPr>
          <a:xfrm>
            <a:off x="2195640" y="48880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个百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一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011320" cy="215280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3581280" y="2514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数位顺序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2362320" y="2492280"/>
          <a:ext cx="4876560" cy="2409840"/>
        </p:xfrm>
        <a:graphic>
          <a:graphicData uri="http://schemas.openxmlformats.org/drawingml/2006/table">
            <a:tbl>
              <a:tblPr/>
              <a:tblGrid>
                <a:gridCol w="1393560"/>
                <a:gridCol w="696960"/>
                <a:gridCol w="695520"/>
                <a:gridCol w="696960"/>
                <a:gridCol w="696600"/>
                <a:gridCol w="696960"/>
              </a:tblGrid>
              <a:tr h="8604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5" name=""/>
          <p:cNvSpPr/>
          <p:nvPr/>
        </p:nvSpPr>
        <p:spPr>
          <a:xfrm>
            <a:off x="6009120" y="3429000"/>
            <a:ext cx="127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个  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323320" y="3429000"/>
            <a:ext cx="1277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十  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637520" y="3429000"/>
            <a:ext cx="1277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百  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875400" y="3429000"/>
            <a:ext cx="127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千  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189600" y="3429000"/>
            <a:ext cx="127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万  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514600" y="358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3:25:25Z</dcterms:created>
  <dc:creator>MC SYSTEM</dc:creator>
  <dc:description/>
  <dc:language>en-US</dc:language>
  <cp:lastModifiedBy>YlmF</cp:lastModifiedBy>
  <dcterms:modified xsi:type="dcterms:W3CDTF">2010-05-06T03:15:16Z</dcterms:modified>
  <cp:revision>46</cp:revision>
  <dc:subject/>
  <dc:title>幻灯片 1</dc:title>
</cp:coreProperties>
</file>