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5B6E-2403-4460-B578-E22CA58D43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模板来源于网络，由第一课件网整理发布，免费分享给大家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课件网是国内最专业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分享网站，所有模板均经严格测试，保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载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精彩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多精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，敬请访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1kejia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用时删除此备注即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7120" y="3078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7120" y="3078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4160" y="3078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39560" y="714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22000" y="714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7120" y="3078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39560" y="3078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22000" y="3078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104-0030-48A9-9816-3AC777A0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71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F63-3642-4370-8022-4B9C222D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B6C-8BC0-4D7F-A69D-A4E568C4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B7B-02A5-458B-AAC1-A97565A5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877-3B9A-41D3-B950-28C7648F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28760" y="6000840"/>
            <a:ext cx="801504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A721-2669-455C-98BD-9BC74FAC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57120" y="3078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0FA-6D6F-47E4-9FB3-58A89798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71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4160" y="3078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B89-349B-466F-8BD5-6E270773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7120" y="3078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514-E447-4634-AC67-314D6F81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7120" y="3078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4D3-1648-49C4-8712-F911ADB1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7120" y="3078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4160" y="3078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9DA-FF53-41A7-919A-6B3296BF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39560" y="714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22000" y="714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7120" y="3078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39560" y="3078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22000" y="3078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D5C-4DC8-4785-8F57-27251A36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28760" y="6000840"/>
            <a:ext cx="801504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7120" y="3078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4160" y="3078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7120" y="3078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71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571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EF5A-5620-4B0A-954B-AB82A02104B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571680" y="2000160"/>
            <a:ext cx="529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幻灯片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00000" y="278136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东坡下载站编辑整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600084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模板的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28760" y="1071720"/>
            <a:ext cx="82072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0080" y="2500200"/>
            <a:ext cx="350064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xym148</dc:creator>
  <dc:description/>
  <cp:keywords>lxym148</cp:keywords>
  <dc:language>en-US</dc:language>
  <cp:lastModifiedBy>Sky123.Org</cp:lastModifiedBy>
  <dcterms:modified xsi:type="dcterms:W3CDTF">2015-04-20T06:28:48Z</dcterms:modified>
  <cp:revision>13</cp:revision>
  <dc:subject>lxym148</dc:subject>
  <dc:title>五一特别奉献</dc:title>
</cp:coreProperties>
</file>