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chimes.wav" ContentType="audio/x-wav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B236-1CE1-41F6-A9A6-F7B4CCF5F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ECF1-1F89-4891-AD55-C7DE24F6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CE0C-7A79-4D36-A38B-B79ED88F2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9BBA-A159-41DF-B1CB-AFABA439E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458B-DE22-4218-85E5-411AB147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8216-464F-4E4B-B461-D5C90FA3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DA9F-2C2E-4608-9C5F-9F56C740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292C-690D-4912-BA68-2326A32F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D46F-2E2C-41F7-B659-925278D5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BDC3-8F43-4D2A-BD61-DD5B0B88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C3A7-EC26-4700-ADD3-DE2798BE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6F20-E806-4CC2-8169-839141A8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49D5-4E73-4FD0-AD3B-3DC8F9749F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985160" y="457200"/>
            <a:ext cx="549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991080" y="0"/>
            <a:ext cx="2191320" cy="6477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ff"/>
                </a:solidFill>
                <a:latin typeface="Times New Roman"/>
                <a:ea typeface="方正舒体"/>
              </a:rPr>
              <a:t>我们家的男子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29920" y="4800600"/>
            <a:ext cx="1521000" cy="2057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王安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627280" y="-587520"/>
            <a:ext cx="5857920" cy="744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5092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对食物有极大的兴趣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对父亲很崇拜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处处要求独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刚强，男儿有泪不轻弹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沉着地面对生活的挑战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68360" y="620640"/>
            <a:ext cx="2312640" cy="603000"/>
            <a:chOff x="468360" y="620640"/>
            <a:chExt cx="2312640" cy="603000"/>
          </a:xfrm>
        </p:grpSpPr>
        <p:grpSp>
          <p:nvGrpSpPr>
            <p:cNvPr id="90" name=""/>
            <p:cNvGrpSpPr/>
            <p:nvPr/>
          </p:nvGrpSpPr>
          <p:grpSpPr>
            <a:xfrm>
              <a:off x="468360" y="620640"/>
              <a:ext cx="1800000" cy="574560"/>
              <a:chOff x="468360" y="620640"/>
              <a:chExt cx="1800000" cy="574560"/>
            </a:xfrm>
          </p:grpSpPr>
          <p:sp>
            <p:nvSpPr>
              <p:cNvPr id="91" name=""/>
              <p:cNvSpPr/>
              <p:nvPr/>
            </p:nvSpPr>
            <p:spPr>
              <a:xfrm>
                <a:off x="468360" y="620640"/>
                <a:ext cx="1800000" cy="574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9b5a"/>
                  </a:gs>
                  <a:gs pos="50000">
                    <a:srgbClr val="ff6600">
                      <a:alpha val="99215"/>
                    </a:srgbClr>
                  </a:gs>
                  <a:gs pos="100000">
                    <a:srgbClr val="fe9b5a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50080" y="725400"/>
                <a:ext cx="163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男孩子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5400000">
              <a:off x="2402640" y="845640"/>
              <a:ext cx="459000" cy="29700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a9a9a"/>
                </a:gs>
                <a:gs pos="100000">
                  <a:srgbClr val="0000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508720" y="620640"/>
            <a:ext cx="1800000" cy="574560"/>
            <a:chOff x="5508720" y="620640"/>
            <a:chExt cx="1800000" cy="574560"/>
          </a:xfrm>
        </p:grpSpPr>
        <p:sp>
          <p:nvSpPr>
            <p:cNvPr id="95" name=""/>
            <p:cNvSpPr/>
            <p:nvPr/>
          </p:nvSpPr>
          <p:spPr>
            <a:xfrm>
              <a:off x="5508720" y="620640"/>
              <a:ext cx="180000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e9b5a"/>
                </a:gs>
                <a:gs pos="50000">
                  <a:srgbClr val="ff6600">
                    <a:alpha val="99215"/>
                  </a:srgbClr>
                </a:gs>
                <a:gs pos="100000">
                  <a:srgbClr val="fe9b5a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90440" y="725400"/>
              <a:ext cx="163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男子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987640" y="620640"/>
            <a:ext cx="2312640" cy="603000"/>
            <a:chOff x="2987640" y="620640"/>
            <a:chExt cx="2312640" cy="603000"/>
          </a:xfrm>
        </p:grpSpPr>
        <p:grpSp>
          <p:nvGrpSpPr>
            <p:cNvPr id="98" name=""/>
            <p:cNvGrpSpPr/>
            <p:nvPr/>
          </p:nvGrpSpPr>
          <p:grpSpPr>
            <a:xfrm>
              <a:off x="2987640" y="620640"/>
              <a:ext cx="1800360" cy="574560"/>
              <a:chOff x="2987640" y="620640"/>
              <a:chExt cx="1800360" cy="574560"/>
            </a:xfrm>
          </p:grpSpPr>
          <p:sp>
            <p:nvSpPr>
              <p:cNvPr id="99" name=""/>
              <p:cNvSpPr/>
              <p:nvPr/>
            </p:nvSpPr>
            <p:spPr>
              <a:xfrm>
                <a:off x="2987640" y="620640"/>
                <a:ext cx="1800360" cy="574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9b5a"/>
                  </a:gs>
                  <a:gs pos="50000">
                    <a:srgbClr val="ff6600">
                      <a:alpha val="99215"/>
                    </a:srgbClr>
                  </a:gs>
                  <a:gs pos="100000">
                    <a:srgbClr val="fe9b5a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69360" y="725400"/>
                <a:ext cx="163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男人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 flipH="1" rot="5400000">
              <a:off x="4921920" y="845640"/>
              <a:ext cx="459000" cy="29700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a9a9a"/>
                </a:gs>
                <a:gs pos="100000">
                  <a:srgbClr val="0000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580000" y="1700280"/>
            <a:ext cx="1800360" cy="574560"/>
            <a:chOff x="5580000" y="1700280"/>
            <a:chExt cx="1800360" cy="574560"/>
          </a:xfrm>
        </p:grpSpPr>
        <p:sp>
          <p:nvSpPr>
            <p:cNvPr id="103" name=""/>
            <p:cNvSpPr/>
            <p:nvPr/>
          </p:nvSpPr>
          <p:spPr>
            <a:xfrm>
              <a:off x="5580000" y="1700280"/>
              <a:ext cx="180036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e9b5a"/>
                </a:gs>
                <a:gs pos="50000">
                  <a:srgbClr val="ff6600">
                    <a:alpha val="99215"/>
                  </a:srgbClr>
                </a:gs>
                <a:gs pos="100000">
                  <a:srgbClr val="fe9b5a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661720" y="1805040"/>
              <a:ext cx="163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男孩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580000" y="2276640"/>
            <a:ext cx="1800360" cy="574560"/>
            <a:chOff x="5580000" y="2276640"/>
            <a:chExt cx="1800360" cy="574560"/>
          </a:xfrm>
        </p:grpSpPr>
        <p:sp>
          <p:nvSpPr>
            <p:cNvPr id="106" name=""/>
            <p:cNvSpPr/>
            <p:nvPr/>
          </p:nvSpPr>
          <p:spPr>
            <a:xfrm>
              <a:off x="5580000" y="2276640"/>
              <a:ext cx="180036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e9b5a"/>
                </a:gs>
                <a:gs pos="50000">
                  <a:srgbClr val="ff6600">
                    <a:alpha val="99215"/>
                  </a:srgbClr>
                </a:gs>
                <a:gs pos="100000">
                  <a:srgbClr val="fe9b5a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61720" y="2381400"/>
              <a:ext cx="163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男孩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580000" y="2852640"/>
            <a:ext cx="1800360" cy="574560"/>
            <a:chOff x="5580000" y="2852640"/>
            <a:chExt cx="1800360" cy="574560"/>
          </a:xfrm>
        </p:grpSpPr>
        <p:sp>
          <p:nvSpPr>
            <p:cNvPr id="109" name=""/>
            <p:cNvSpPr/>
            <p:nvPr/>
          </p:nvSpPr>
          <p:spPr>
            <a:xfrm>
              <a:off x="5580000" y="2852640"/>
              <a:ext cx="180036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e9b5a"/>
                </a:gs>
                <a:gs pos="50000">
                  <a:srgbClr val="ff6600">
                    <a:alpha val="99215"/>
                  </a:srgbClr>
                </a:gs>
                <a:gs pos="100000">
                  <a:srgbClr val="fe9b5a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61720" y="2957400"/>
              <a:ext cx="163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男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580000" y="3429000"/>
            <a:ext cx="1800360" cy="574560"/>
            <a:chOff x="5580000" y="3429000"/>
            <a:chExt cx="1800360" cy="574560"/>
          </a:xfrm>
        </p:grpSpPr>
        <p:sp>
          <p:nvSpPr>
            <p:cNvPr id="112" name=""/>
            <p:cNvSpPr/>
            <p:nvPr/>
          </p:nvSpPr>
          <p:spPr>
            <a:xfrm>
              <a:off x="5580000" y="3429000"/>
              <a:ext cx="180036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e9b5a"/>
                </a:gs>
                <a:gs pos="50000">
                  <a:srgbClr val="ff6600">
                    <a:alpha val="99215"/>
                  </a:srgbClr>
                </a:gs>
                <a:gs pos="100000">
                  <a:srgbClr val="fe9b5a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661720" y="3533760"/>
              <a:ext cx="163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男子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5580000" y="4005360"/>
            <a:ext cx="1800360" cy="574560"/>
            <a:chOff x="5580000" y="4005360"/>
            <a:chExt cx="1800360" cy="574560"/>
          </a:xfrm>
        </p:grpSpPr>
        <p:sp>
          <p:nvSpPr>
            <p:cNvPr id="115" name=""/>
            <p:cNvSpPr/>
            <p:nvPr/>
          </p:nvSpPr>
          <p:spPr>
            <a:xfrm>
              <a:off x="5580000" y="4005360"/>
              <a:ext cx="180036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e9b5a"/>
                </a:gs>
                <a:gs pos="50000">
                  <a:srgbClr val="ff6600">
                    <a:alpha val="99215"/>
                  </a:srgbClr>
                </a:gs>
                <a:gs pos="100000">
                  <a:srgbClr val="fe9b5a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61720" y="4110120"/>
              <a:ext cx="163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男子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 rot="8486400">
            <a:off x="6876720" y="1988280"/>
            <a:ext cx="1695600" cy="244980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0082e"/>
              </a:gs>
            </a:gsLst>
            <a:lin ang="185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49510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本文生动而细腻地描写一个男孩子成长的过程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刻画了一个逐步成长的小“男子汉”的形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360" y="1143000"/>
            <a:ext cx="57769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概括这个“男子汉”的特点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838080" y="2133720"/>
            <a:ext cx="7620120" cy="1676160"/>
            <a:chOff x="838080" y="2133720"/>
            <a:chExt cx="7620120" cy="1676160"/>
          </a:xfrm>
        </p:grpSpPr>
        <p:sp>
          <p:nvSpPr>
            <p:cNvPr id="121" name=""/>
            <p:cNvSpPr/>
            <p:nvPr/>
          </p:nvSpPr>
          <p:spPr>
            <a:xfrm>
              <a:off x="5715000" y="2590920"/>
              <a:ext cx="2743200" cy="685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8080" y="2133720"/>
              <a:ext cx="4114800" cy="1676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55960" y="22622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omic Sans MS"/>
                </a:rPr>
                <a:t>爽快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75280" y="228600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omic Sans MS"/>
                </a:rPr>
                <a:t>独立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94600" y="22622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omic Sans MS"/>
                </a:rPr>
                <a:t>坚强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03600" y="302436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omic Sans MS"/>
                </a:rPr>
                <a:t>淘气镇静坦然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55960" y="302436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omic Sans MS"/>
                </a:rPr>
                <a:t>勇敢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4952880" y="2971800"/>
              <a:ext cx="8380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0960" y="259092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Comic Sans MS"/>
                </a:rPr>
                <a:t>小小男子汉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990720" y="4437000"/>
            <a:ext cx="7467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对我们中学生来讲哪些行为可称得上是男子汉的行为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09480" y="1052640"/>
            <a:ext cx="85345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家看下列人物的行为是否属于男子汉的行为，你是否对男子汉的内涵有了新的认识。 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★南京有一位叫汪侠的老人七十多岁了还连续两年参加高考。 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★赖宁为了公共财产不惜牺牲年轻的生命。 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★航天英雄杨利伟成为中国第一位太空人。 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★掏粪工人时传祥曾接受过刘少奇的接见。 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★清洁工人每天起早摸黑维护我们这个城市的卫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648320"/>
            <a:ext cx="8458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实不论年龄长幼、地位尊卑、事业大小只要在勇敢地乐观的拼搏、追求积极的人生都应当被视为男子汉或女强人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8200" y="189000"/>
            <a:ext cx="405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延伸拓展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男子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男子汉，就是干任何事有耐心而果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男子汉，自信心足事业心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男子汉，就是经受得起挫折和失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男子汉，刚中有柔胸襟坦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男子汉，勇敢地撑住一片沉重的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男子汉，任何时候都活得潇潇洒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男子汉，失意时说风雨中这点痛算什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男子汉啊，是一支雄壮的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斩荆披棘的山道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高亢地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课堂练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把你小时候称得上男子汉的行为用生动幽默的语言写出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248520" y="685800"/>
            <a:ext cx="2616120" cy="3581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380880"/>
            <a:ext cx="518184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王安忆</a:t>
            </a:r>
            <a:br>
              <a:rPr sz="3200"/>
            </a:br>
            <a:r>
              <a:rPr b="1" lang="zh-CN" sz="3200" spc="-1" strike="noStrike">
                <a:solidFill>
                  <a:srgbClr val="336600"/>
                </a:solidFill>
                <a:latin typeface="宋体"/>
              </a:rPr>
              <a:t>  上海人，当代女作家。</a:t>
            </a:r>
            <a:r>
              <a:rPr b="0" lang="zh-CN" sz="3200" spc="-1" strike="noStrike">
                <a:solidFill>
                  <a:srgbClr val="3366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主要著作</a:t>
            </a:r>
            <a:r>
              <a:rPr b="0" lang="zh-CN" sz="3200" spc="-1" strike="noStrike">
                <a:solidFill>
                  <a:srgbClr val="336600"/>
                </a:solidFill>
                <a:latin typeface="宋体"/>
              </a:rPr>
              <a:t>：</a:t>
            </a:r>
            <a:br>
              <a:rPr sz="3200"/>
            </a:br>
            <a:r>
              <a:rPr b="0" lang="zh-CN" sz="3200" spc="-1" strike="noStrike">
                <a:solidFill>
                  <a:srgbClr val="3366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3366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336600"/>
                </a:solidFill>
                <a:latin typeface="宋体"/>
              </a:rPr>
              <a:t>王安忆中短篇小说集</a:t>
            </a:r>
            <a:r>
              <a:rPr b="1" lang="en-US" sz="3200" spc="-1" strike="noStrike">
                <a:solidFill>
                  <a:srgbClr val="336600"/>
                </a:solidFill>
                <a:latin typeface="宋体"/>
              </a:rPr>
              <a:t>》  </a:t>
            </a:r>
            <a:br>
              <a:rPr sz="3200"/>
            </a:br>
            <a:r>
              <a:rPr b="1" lang="en-US" sz="3200" spc="-1" strike="noStrike">
                <a:solidFill>
                  <a:srgbClr val="336600"/>
                </a:solidFill>
                <a:latin typeface="宋体"/>
              </a:rPr>
              <a:t> 《</a:t>
            </a:r>
            <a:r>
              <a:rPr b="1" lang="zh-CN" sz="3200" spc="-1" strike="noStrike">
                <a:solidFill>
                  <a:srgbClr val="336600"/>
                </a:solidFill>
                <a:latin typeface="宋体"/>
              </a:rPr>
              <a:t>流逝</a:t>
            </a:r>
            <a:r>
              <a:rPr b="1" lang="en-US" sz="3200" spc="-1" strike="noStrike">
                <a:solidFill>
                  <a:srgbClr val="3366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336600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3366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336600"/>
                </a:solidFill>
                <a:latin typeface="宋体"/>
              </a:rPr>
              <a:t>小鲍庄</a:t>
            </a:r>
            <a:r>
              <a:rPr b="1" lang="en-US" sz="3200" spc="-1" strike="noStrike">
                <a:solidFill>
                  <a:srgbClr val="3366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336600"/>
                </a:solidFill>
                <a:latin typeface="宋体"/>
              </a:rPr>
              <a:t>、</a:t>
            </a:r>
            <a:br>
              <a:rPr sz="3200"/>
            </a:br>
            <a:r>
              <a:rPr b="1" lang="zh-CN" sz="3200" spc="-1" strike="noStrike">
                <a:solidFill>
                  <a:srgbClr val="3366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3366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336600"/>
                </a:solidFill>
                <a:latin typeface="宋体"/>
              </a:rPr>
              <a:t>小城之恋</a:t>
            </a:r>
            <a:r>
              <a:rPr b="1" lang="en-US" sz="3200" spc="-1" strike="noStrike">
                <a:solidFill>
                  <a:srgbClr val="3366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336600"/>
                </a:solidFill>
                <a:latin typeface="宋体"/>
              </a:rPr>
              <a:t>等小说集及</a:t>
            </a:r>
            <a:br>
              <a:rPr sz="3200"/>
            </a:br>
            <a:r>
              <a:rPr b="1" lang="zh-CN" sz="3200" spc="-1" strike="noStrike">
                <a:solidFill>
                  <a:srgbClr val="3366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3366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336600"/>
                </a:solidFill>
                <a:latin typeface="宋体"/>
              </a:rPr>
              <a:t>长恨歌</a:t>
            </a:r>
            <a:r>
              <a:rPr b="1" lang="en-US" sz="3200" spc="-1" strike="noStrike">
                <a:solidFill>
                  <a:srgbClr val="3366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336600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3366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336600"/>
                </a:solidFill>
                <a:latin typeface="宋体"/>
              </a:rPr>
              <a:t>纪实与虚</a:t>
            </a:r>
            <a:br>
              <a:rPr sz="3200"/>
            </a:br>
            <a:r>
              <a:rPr b="1" lang="zh-CN" sz="3200" spc="-1" strike="noStrike">
                <a:solidFill>
                  <a:srgbClr val="336600"/>
                </a:solidFill>
                <a:latin typeface="宋体"/>
              </a:rPr>
              <a:t>  构</a:t>
            </a:r>
            <a:r>
              <a:rPr b="1" lang="en-US" sz="3200" spc="-1" strike="noStrike">
                <a:solidFill>
                  <a:srgbClr val="3366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336600"/>
                </a:solidFill>
                <a:latin typeface="宋体"/>
              </a:rPr>
              <a:t>等长篇小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8006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王安忆的小说，多以平凡的小人物为主人公，表现他们平凡生活中的不平凡经历与情感。“理解”与“爱”是她的创作宗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900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5960" y="0"/>
            <a:ext cx="790200" cy="82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想一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19280" y="1700280"/>
            <a:ext cx="590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0200" y="1773360"/>
            <a:ext cx="174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70028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男孩子、男人、男子汉”三者之间有什么关系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64960" y="3827520"/>
            <a:ext cx="481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篇课文在结构方面有什么特点？这样安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什么好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315200" y="5327640"/>
            <a:ext cx="1828800" cy="15303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1295280"/>
            <a:ext cx="656892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lnSpc>
                <a:spcPct val="100000"/>
              </a:lnSpc>
              <a:spcBef>
                <a:spcPts val="23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700" spc="-1" strike="noStrike">
                <a:solidFill>
                  <a:srgbClr val="000000"/>
                </a:solidFill>
                <a:latin typeface="宋体"/>
              </a:rPr>
              <a:t>找出作者是从哪些方面来写这个“男子汉”的？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2971800"/>
            <a:ext cx="72388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）对食物有极大的兴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对父亲很崇拜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处处要求独立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刚强，男儿有泪不轻弹。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沉着地面对生活的挑战。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227880"/>
            <a:ext cx="4130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Comic Sans MS"/>
              </a:rPr>
              <a:t>整体感知课文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990720"/>
            <a:ext cx="327672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315200" y="5327640"/>
            <a:ext cx="1828800" cy="1530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915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他对食物的兴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990720"/>
            <a:ext cx="327636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71640" y="112536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他吃饭有什么特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3716280"/>
            <a:ext cx="56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这一部份表现了什么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53440" y="1700280"/>
            <a:ext cx="9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爽气、量很多、范围很广、极有滋味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耐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51480" y="4325760"/>
            <a:ext cx="179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一个孩子，一个男孩子的个性特点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爱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，爱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315200" y="5327640"/>
            <a:ext cx="1828800" cy="1530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26920" y="1197000"/>
            <a:ext cx="7186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他为什么崇拜父亲呢？他崇拜父亲的什么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父母拌嘴的时候，他为什么总是站在妈妈这边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3716280"/>
            <a:ext cx="83055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崇拜父亲：男孩子的天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他认为爸爸“无所不能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保护弱者：男孩子的天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79640" y="144360"/>
            <a:ext cx="475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他对父亲的崇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990720"/>
            <a:ext cx="327636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315200" y="5327640"/>
            <a:ext cx="1828800" cy="1530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55640" y="9810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从哪些方面可以看出来他对独立的要求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19280" y="1700280"/>
            <a:ext cx="71578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、要自己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、要自己买东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、自己换橘子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68360" y="0"/>
            <a:ext cx="47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他对独立的要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25480" y="4581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显示自己长大了，显示自己的成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3860640"/>
            <a:ext cx="54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他为什么要求独立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907920"/>
            <a:ext cx="327636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315200" y="5327640"/>
            <a:ext cx="1828800" cy="15303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67816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他的眼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35280" y="4221000"/>
            <a:ext cx="472428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刚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男儿有泪不轻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真到动情方流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98000" y="1436760"/>
            <a:ext cx="383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忍再忍”“从不为一些无聊的小事哭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语句表现了他的什么性格特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990720"/>
            <a:ext cx="327636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38000" y="2924280"/>
            <a:ext cx="4298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捂住了脸”说明他回忆起了什么？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什么不愿意让别人看见他哭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7200" y="228240"/>
            <a:ext cx="859644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他面对生活的挑战的沉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32000" y="2492280"/>
            <a:ext cx="6705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面对进入陌生的环境这一挑战，镇静、坦然、很快适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面对不得不回安徽的事实，勇敢地跳进车厢，踏上回乡之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47640" y="1197000"/>
            <a:ext cx="60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都面对了哪些生活的挑战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怎么解决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990720"/>
            <a:ext cx="327636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1-03-17T06:42:05Z</dcterms:modified>
  <cp:revision>56</cp:revision>
  <dc:subject/>
  <dc:title>PowerPoint Presentation</dc:title>
</cp:coreProperties>
</file>