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4.jpeg" ContentType="image/jpeg"/>
  <Override PartName="/ppt/media/image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801-FE45-442E-92BA-03E66AAD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925-80CE-4EC8-A9BB-23C418E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96C-484B-4F65-A1F8-AD92BBC4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FC8-4DA3-48B3-B5F8-76A284DE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B509-0DCE-41BF-BAD7-BA579C27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808D-7947-4631-9806-3574FCE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7FA-E082-4645-88D7-C886A1B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81C2-F375-4B9A-A989-41B4C82B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DD2-F4E4-44BE-8551-395A21B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2BE-07F6-4B0E-9486-B6F819A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536B-E877-42C0-89D4-0BC2608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CD1-2CD4-41C6-A8BA-F7B4199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A979-7503-4635-8D04-7AC7870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92A-CF75-4B1C-AB39-60E5BDD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084-864C-4E01-B26D-013D910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FBF-171B-43BC-BFB7-E00E806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96D-50AB-471F-B874-88E38505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7FA-C1F8-4F05-A1AE-52F95967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C9C-5162-4E99-A714-0FA8433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7B2-35AE-44C3-8447-D93F967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871-13B8-4E8D-A74A-D02ADEE4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5C4-8ED7-4315-8738-710F5139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9DB-689A-4BFA-B49F-318669B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F0F-8E03-4331-9340-77F557F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E59-F237-41B7-A114-9097B4A05F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5C2-0A6A-4B01-886A-25BA0CFDF4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om/video/n_show/Nav_24/1FF1DE77_1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24/1FF1DE77_1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hyperlink" Target="http://www.1ydt.com/video/n_show/Nav_24/1FF1DE77_1.htm" TargetMode="External"/><Relationship Id="rId6" Type="http://schemas.openxmlformats.org/officeDocument/2006/relationships/hyperlink" Target="http://www.1ydt.com/video/n_show/Nav_24/1FF1DE77_1.htm" TargetMode="External"/><Relationship Id="rId7" Type="http://schemas.openxmlformats.org/officeDocument/2006/relationships/hyperlink" Target="http://www.1ydt.com/video/n_show/Nav_24/1FF1DE77_1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1ydt.com/video/n_show/Nav_24/1FF1DE77_1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1ydt.com/video/n_show/Nav_24/1FF1DE77_1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611280" y="981000"/>
            <a:ext cx="7705800" cy="4437000"/>
          </a:xfrm>
          <a:prstGeom prst="cloudCallout">
            <a:avLst>
              <a:gd name="adj1" fmla="val -30263"/>
              <a:gd name="adj2" fmla="val -1193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ef66"/>
                </a:solidFill>
                <a:latin typeface="Arial"/>
                <a:ea typeface="楷体_GB2312"/>
              </a:rPr>
              <a:t>数据收集整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2" name="Picture 3" descr="200973021111725521"/>
          <p:cNvPicPr/>
          <p:nvPr/>
        </p:nvPicPr>
        <p:blipFill>
          <a:blip r:embed="rId2"/>
          <a:srcRect l="51982" t="65506" r="9751" b="0"/>
          <a:stretch/>
        </p:blipFill>
        <p:spPr>
          <a:xfrm>
            <a:off x="3132000" y="4149720"/>
            <a:ext cx="3743640" cy="2708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06200" y="5203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57336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3"/>
              </a:rPr>
              <a:t>点此播放教学视频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advTm="5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619760" cy="26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046160" y="3645000"/>
          <a:ext cx="6765840" cy="91440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3960"/>
                <a:gridCol w="1352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红色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蓝色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白色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7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6" name="Picture 20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6265800" cy="4754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2771640" y="37018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268360" y="4070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蓝色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蓝色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37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534360" cy="4228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8"/>
          <p:cNvSpPr/>
          <p:nvPr/>
        </p:nvSpPr>
        <p:spPr>
          <a:xfrm>
            <a:off x="611280" y="6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巩固应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Text Box 139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11280" y="6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巩固应用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32000" y="14778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黑体"/>
              </a:rPr>
              <a:t>调查本班同学最喜欢哪一个季节，把结果填入下表。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4720" y="2349360"/>
          <a:ext cx="6191280" cy="1079640"/>
        </p:xfrm>
        <a:graphic>
          <a:graphicData uri="http://schemas.openxmlformats.org/drawingml/2006/table">
            <a:tbl>
              <a:tblPr/>
              <a:tblGrid>
                <a:gridCol w="1238040"/>
                <a:gridCol w="1238400"/>
                <a:gridCol w="1238040"/>
                <a:gridCol w="1238400"/>
                <a:gridCol w="1238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季节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春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夏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秋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冬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28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4221000"/>
            <a:ext cx="172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2"/>
              </a:rPr>
              <a:t>点此播放讲课视频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539640" y="619560"/>
            <a:ext cx="36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实践活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9" name="Picture 4" descr="A1_332"/>
          <p:cNvPicPr/>
          <p:nvPr/>
        </p:nvPicPr>
        <p:blipFill>
          <a:blip r:embed="rId2"/>
          <a:stretch/>
        </p:blipFill>
        <p:spPr>
          <a:xfrm flipH="1">
            <a:off x="2195640" y="4581360"/>
            <a:ext cx="1224000" cy="194472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3"/>
          <p:cNvSpPr/>
          <p:nvPr/>
        </p:nvSpPr>
        <p:spPr>
          <a:xfrm>
            <a:off x="826920" y="1700280"/>
            <a:ext cx="7201080" cy="2448000"/>
          </a:xfrm>
          <a:prstGeom prst="cloudCallout">
            <a:avLst>
              <a:gd name="adj1" fmla="val -10296"/>
              <a:gd name="adj2" fmla="val 855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请你做个小小统计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统计同学们最爱吃的水果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22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7991640" y="6576840"/>
            <a:ext cx="1152360" cy="288720"/>
            <a:chOff x="7991640" y="6576840"/>
            <a:chExt cx="1152360" cy="288720"/>
          </a:xfrm>
        </p:grpSpPr>
        <p:sp>
          <p:nvSpPr>
            <p:cNvPr id="225" name="AutoShape 6">
              <a:hlinkClick r:id="" action="ppaction://hlinkshowjump?jump=nextslide"/>
            </p:cNvPr>
            <p:cNvSpPr/>
            <p:nvPr/>
          </p:nvSpPr>
          <p:spPr>
            <a:xfrm>
              <a:off x="8639280" y="657684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6" name="AutoShape 7">
              <a:hlinkClick r:id="" action="ppaction://hlinkshowjump?jump=previousslide"/>
            </p:cNvPr>
            <p:cNvSpPr/>
            <p:nvPr/>
          </p:nvSpPr>
          <p:spPr>
            <a:xfrm rot="10800000">
              <a:off x="7991640" y="657684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27" name="Picture 8" descr="2009148211319_2"/>
          <p:cNvPicPr/>
          <p:nvPr/>
        </p:nvPicPr>
        <p:blipFill>
          <a:blip r:embed="rId2"/>
          <a:stretch/>
        </p:blipFill>
        <p:spPr>
          <a:xfrm>
            <a:off x="1908000" y="3500280"/>
            <a:ext cx="5962680" cy="2963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835280" y="1700280"/>
            <a:ext cx="56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谈谈收获吧！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9" name="[毛阿敏]握手迪斯科  永不言败-毛阿敏.mp3" descr=""/>
          <p:cNvPicPr/>
          <p:nvPr/>
        </p:nvPicPr>
        <p:blipFill>
          <a:blip r:embed="rId3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1" name="[梦之旅]读书郎-梦之旅.mp3" descr=""/>
          <p:cNvPicPr/>
          <p:nvPr/>
        </p:nvPicPr>
        <p:blipFill>
          <a:blip r:embed="rId4"/>
          <a:stretch/>
        </p:blipFill>
        <p:spPr>
          <a:xfrm>
            <a:off x="8804160" y="6518160"/>
            <a:ext cx="339840" cy="339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6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306864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5"/>
              </a:rPr>
              <a:t>点此播放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6"/>
              </a:rPr>
              <a:t>yjip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7"/>
              </a:rPr>
              <a:t>视频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42083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3083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45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jiqimao"/>
          <p:cNvPicPr/>
          <p:nvPr/>
        </p:nvPicPr>
        <p:blipFill>
          <a:blip r:embed="rId2"/>
          <a:stretch/>
        </p:blipFill>
        <p:spPr>
          <a:xfrm>
            <a:off x="1692360" y="631800"/>
            <a:ext cx="619272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4920" y="51325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22936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3"/>
              </a:rPr>
              <a:t>点此播放教学视频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044552_350_dgfpbnlh"/>
          <p:cNvPicPr/>
          <p:nvPr/>
        </p:nvPicPr>
        <p:blipFill>
          <a:blip r:embed="rId2"/>
          <a:srcRect l="0" t="7108" r="0" b="10044"/>
          <a:stretch/>
        </p:blipFill>
        <p:spPr>
          <a:xfrm>
            <a:off x="1835280" y="549360"/>
            <a:ext cx="5832360" cy="43783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2338560" y="765000"/>
            <a:ext cx="5473440" cy="4849920"/>
            <a:chOff x="2338560" y="765000"/>
            <a:chExt cx="5473440" cy="4849920"/>
          </a:xfrm>
        </p:grpSpPr>
        <p:pic>
          <p:nvPicPr>
            <p:cNvPr id="166" name="Picture 2" descr="44029122fa71e8dbd7cae29d"/>
            <p:cNvPicPr/>
            <p:nvPr/>
          </p:nvPicPr>
          <p:blipFill>
            <a:blip r:embed="rId2"/>
            <a:stretch/>
          </p:blipFill>
          <p:spPr>
            <a:xfrm>
              <a:off x="2338560" y="765000"/>
              <a:ext cx="5473440" cy="48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6"/>
            <p:cNvSpPr/>
            <p:nvPr/>
          </p:nvSpPr>
          <p:spPr>
            <a:xfrm>
              <a:off x="4542120" y="1053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fa6942"/>
                  </a:solidFill>
                  <a:uFillTx/>
                  <a:latin typeface="Arial"/>
                  <a:ea typeface="黑体"/>
                </a:rPr>
                <a:t>海绵宝宝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508720" y="48690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ea typeface="仿宋_GB2312"/>
                <a:hlinkClick r:id="rId3"/>
              </a:rPr>
              <a:t>点此播放动画视频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bbc059b03693f318ed158f5"/>
          <p:cNvPicPr/>
          <p:nvPr/>
        </p:nvPicPr>
        <p:blipFill>
          <a:blip r:embed="rId2"/>
          <a:stretch/>
        </p:blipFill>
        <p:spPr>
          <a:xfrm>
            <a:off x="2268360" y="476280"/>
            <a:ext cx="5473800" cy="47545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6b1a4df39d77c23fb07ec589"/>
          <p:cNvPicPr/>
          <p:nvPr/>
        </p:nvPicPr>
        <p:blipFill>
          <a:blip r:embed="rId2"/>
          <a:stretch/>
        </p:blipFill>
        <p:spPr>
          <a:xfrm>
            <a:off x="2124000" y="765000"/>
            <a:ext cx="5688000" cy="4462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6b1a4df39d77c23fb07ec589"/>
          <p:cNvPicPr/>
          <p:nvPr/>
        </p:nvPicPr>
        <p:blipFill>
          <a:blip r:embed="rId2"/>
          <a:stretch/>
        </p:blipFill>
        <p:spPr>
          <a:xfrm>
            <a:off x="4932360" y="4005360"/>
            <a:ext cx="217188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1bbc059b03693f318ed158f5"/>
          <p:cNvPicPr/>
          <p:nvPr/>
        </p:nvPicPr>
        <p:blipFill>
          <a:blip r:embed="rId3"/>
          <a:stretch/>
        </p:blipFill>
        <p:spPr>
          <a:xfrm>
            <a:off x="2340000" y="4005360"/>
            <a:ext cx="1998720" cy="1612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44029122fa71e8dbd7cae29d"/>
          <p:cNvPicPr/>
          <p:nvPr/>
        </p:nvPicPr>
        <p:blipFill>
          <a:blip r:embed="rId4"/>
          <a:stretch/>
        </p:blipFill>
        <p:spPr>
          <a:xfrm>
            <a:off x="1044720" y="1498680"/>
            <a:ext cx="1998360" cy="1785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044552_350_dgfpbnlh"/>
          <p:cNvPicPr/>
          <p:nvPr/>
        </p:nvPicPr>
        <p:blipFill>
          <a:blip r:embed="rId5"/>
          <a:srcRect l="0" t="12722" r="0" b="10947"/>
          <a:stretch/>
        </p:blipFill>
        <p:spPr>
          <a:xfrm>
            <a:off x="3421080" y="155592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iqimao"/>
          <p:cNvPicPr/>
          <p:nvPr/>
        </p:nvPicPr>
        <p:blipFill>
          <a:blip r:embed="rId6"/>
          <a:stretch/>
        </p:blipFill>
        <p:spPr>
          <a:xfrm>
            <a:off x="5653080" y="1557360"/>
            <a:ext cx="2057400" cy="16970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79000" y="17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a6942"/>
                </a:solidFill>
                <a:uFillTx/>
                <a:latin typeface="Arial"/>
                <a:ea typeface="黑体"/>
              </a:rPr>
              <a:t>海绵宝宝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763560" y="1779480"/>
          <a:ext cx="7194600" cy="3017880"/>
        </p:xfrm>
        <a:graphic>
          <a:graphicData uri="http://schemas.openxmlformats.org/drawingml/2006/table">
            <a:tbl>
              <a:tblPr/>
              <a:tblGrid>
                <a:gridCol w="1440000"/>
                <a:gridCol w="1438200"/>
                <a:gridCol w="1438200"/>
                <a:gridCol w="1438200"/>
                <a:gridCol w="14400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Group 22"/>
          <p:cNvGrpSpPr/>
          <p:nvPr/>
        </p:nvGrpSpPr>
        <p:grpSpPr>
          <a:xfrm>
            <a:off x="684360" y="1916280"/>
            <a:ext cx="7200360" cy="1393560"/>
            <a:chOff x="684360" y="1916280"/>
            <a:chExt cx="7200360" cy="1393560"/>
          </a:xfrm>
        </p:grpSpPr>
        <p:pic>
          <p:nvPicPr>
            <p:cNvPr id="185" name="Picture 23" descr="a25942366c8ccdc2a3cc2bf0"/>
            <p:cNvPicPr/>
            <p:nvPr/>
          </p:nvPicPr>
          <p:blipFill>
            <a:blip r:embed="rId2"/>
            <a:stretch/>
          </p:blipFill>
          <p:spPr>
            <a:xfrm>
              <a:off x="3770280" y="2060280"/>
              <a:ext cx="11080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4" descr="1H4531623-12"/>
            <p:cNvPicPr/>
            <p:nvPr/>
          </p:nvPicPr>
          <p:blipFill>
            <a:blip r:embed="rId3"/>
            <a:stretch/>
          </p:blipFill>
          <p:spPr>
            <a:xfrm>
              <a:off x="2011320" y="2060280"/>
              <a:ext cx="139824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5" descr="2008911153718260_2"/>
            <p:cNvPicPr/>
            <p:nvPr/>
          </p:nvPicPr>
          <p:blipFill>
            <a:blip r:embed="rId4"/>
            <a:stretch/>
          </p:blipFill>
          <p:spPr>
            <a:xfrm>
              <a:off x="684360" y="2060280"/>
              <a:ext cx="125784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6" descr="images"/>
            <p:cNvPicPr/>
            <p:nvPr/>
          </p:nvPicPr>
          <p:blipFill>
            <a:blip r:embed="rId5"/>
            <a:srcRect l="7940" t="0" r="15956" b="651"/>
            <a:stretch/>
          </p:blipFill>
          <p:spPr>
            <a:xfrm>
              <a:off x="5088600" y="1916280"/>
              <a:ext cx="1330560" cy="13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7" descr="677"/>
            <p:cNvPicPr/>
            <p:nvPr/>
          </p:nvPicPr>
          <p:blipFill>
            <a:blip r:embed="rId6"/>
            <a:stretch/>
          </p:blipFill>
          <p:spPr>
            <a:xfrm>
              <a:off x="6767280" y="1989000"/>
              <a:ext cx="1117440" cy="12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28"/>
          <p:cNvSpPr/>
          <p:nvPr/>
        </p:nvSpPr>
        <p:spPr>
          <a:xfrm>
            <a:off x="755640" y="1197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下面的动画片，你最喜欢哪一部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7650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要给同学们定做校服，有下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颜色，选哪种颜色合适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451640" y="6237360"/>
            <a:ext cx="1692360" cy="62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492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数据收集整理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187280" y="2421000"/>
            <a:ext cx="64800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629080" y="2421000"/>
            <a:ext cx="6476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95640" y="2421000"/>
            <a:ext cx="647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5364000" y="2421000"/>
            <a:ext cx="64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84360" y="371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怎么知道哪种颜色是大多数同学最喜欢的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4:14:05Z</dcterms:created>
  <dc:creator>guibin</dc:creator>
  <dc:description/>
  <dc:language>en-US</dc:language>
  <cp:lastModifiedBy>user</cp:lastModifiedBy>
  <dcterms:modified xsi:type="dcterms:W3CDTF">2014-02-11T08:59:21Z</dcterms:modified>
  <cp:revision>112</cp:revision>
  <dc:subject/>
  <dc:title>幻灯片 1</dc:title>
</cp:coreProperties>
</file>