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67E2-0710-4F2E-BE9A-839FF69CEDC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64BF-D5FD-44E4-A6CD-F2626410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B54-8A0F-4605-8865-2C7900B7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9F2-0500-4E87-9CD7-9B811F6F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E1B-13B4-4137-94AB-520ACEBE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520D-C60B-4B2C-91EE-3CFB60F6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ED38-3954-42F7-9D75-2538AE1C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B6E4-B218-4ABB-8F3F-58BD2EF8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C1B-E92F-4522-96BE-F50F2A95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4104-D03D-442E-8CC1-7D926CAF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AA9-D0D9-4C32-8232-4862570E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A1EB-DC03-46D3-8800-74D80D3D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73FE-5428-4146-AA3C-6B4AC0D9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9E93-59A9-4527-8F63-C9FFCA5D05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00200" y="2514600"/>
            <a:ext cx="784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十 几 减 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4038480"/>
            <a:ext cx="83059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4-9 ○ 5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1-9 ○ 3        15-9 ○ 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黑体"/>
              </a:rPr>
              <a:t>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666880"/>
            <a:ext cx="85341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 ○ 17-9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 ○ 18-9        12-9 ○ 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黑体"/>
              </a:rPr>
              <a:t>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4360" y="1294920"/>
            <a:ext cx="380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○里填上“＞”、“＜”“或＝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600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（ ）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6    9+( 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8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）＋９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01800" y="1676880"/>
            <a:ext cx="594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【课外拓展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同学要来猜字谜，已经来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同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7382" t="7269" r="7382" b="246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1492200" y="-22320"/>
            <a:ext cx="2648160" cy="1363680"/>
            <a:chOff x="1492200" y="-22320"/>
            <a:chExt cx="2648160" cy="136368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1492200" y="-22320"/>
              <a:ext cx="2389320" cy="13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635120" y="75960"/>
              <a:ext cx="25052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有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5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个气球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卖了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个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648320" y="762120"/>
            <a:ext cx="2176200" cy="761760"/>
            <a:chOff x="4648320" y="762120"/>
            <a:chExt cx="2176200" cy="76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rcRect l="-2495" t="-11493" r="-10067" b="-17037"/>
            <a:stretch/>
          </p:blipFill>
          <p:spPr>
            <a:xfrm>
              <a:off x="4648320" y="762120"/>
              <a:ext cx="217620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905360" y="857160"/>
              <a:ext cx="187128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还有几个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24080" y="118224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5-9=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220896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因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所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5-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想加法算减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8195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-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破十减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35812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-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-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连减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43434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5-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2040" cy="731376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2666880" y="1600200"/>
            <a:ext cx="2880000" cy="2798640"/>
            <a:chOff x="2666880" y="1600200"/>
            <a:chExt cx="2880000" cy="2798640"/>
          </a:xfrm>
        </p:grpSpPr>
        <p:sp>
          <p:nvSpPr>
            <p:cNvPr id="65" name=""/>
            <p:cNvSpPr/>
            <p:nvPr/>
          </p:nvSpPr>
          <p:spPr>
            <a:xfrm>
              <a:off x="3008160" y="1600200"/>
              <a:ext cx="195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15-9=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98880" y="1734840"/>
              <a:ext cx="648000" cy="720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66880" y="2743200"/>
              <a:ext cx="503280" cy="574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59240" y="2743200"/>
              <a:ext cx="504720" cy="574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62520" y="3824280"/>
              <a:ext cx="504720" cy="574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953800" y="2311200"/>
              <a:ext cx="289080" cy="36036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59240" y="2311200"/>
              <a:ext cx="287280" cy="4320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17800" y="3319200"/>
              <a:ext cx="0" cy="36036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17800" y="3608280"/>
              <a:ext cx="576360" cy="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94160" y="2382840"/>
              <a:ext cx="0" cy="122544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245040" y="267984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65760" y="36878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02480" y="16714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26668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2040" cy="7313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rcRect l="6267" t="6511" r="7013" b="25566"/>
          <a:stretch/>
        </p:blipFill>
        <p:spPr>
          <a:xfrm>
            <a:off x="0" y="457200"/>
            <a:ext cx="9144000" cy="619272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2514600" y="1523880"/>
            <a:ext cx="3036960" cy="1363680"/>
            <a:chOff x="2514600" y="1523880"/>
            <a:chExt cx="3036960" cy="1363680"/>
          </a:xfrm>
        </p:grpSpPr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2514600" y="1523880"/>
              <a:ext cx="2625840" cy="13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2671920" y="1609560"/>
              <a:ext cx="28796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投了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4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个圈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套中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个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0" y="3429000"/>
            <a:ext cx="2195640" cy="1728360"/>
            <a:chOff x="0" y="3429000"/>
            <a:chExt cx="2195640" cy="1728360"/>
          </a:xfrm>
        </p:grpSpPr>
        <p:pic>
          <p:nvPicPr>
            <p:cNvPr id="85" name="" descr=""/>
            <p:cNvPicPr/>
            <p:nvPr/>
          </p:nvPicPr>
          <p:blipFill>
            <a:blip r:embed="rId4"/>
            <a:srcRect l="-10067" t="-11493" r="-2495" b="-17037"/>
            <a:stretch/>
          </p:blipFill>
          <p:spPr>
            <a:xfrm>
              <a:off x="0" y="3429000"/>
              <a:ext cx="2195640" cy="17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42640" y="3706200"/>
              <a:ext cx="182412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有几个没套中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3160" y="2558880"/>
            <a:ext cx="807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小棒摆一摆，算一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□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□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2040" cy="7313760"/>
          </a:xfrm>
          <a:prstGeom prst="rect">
            <a:avLst/>
          </a:prstGeom>
          <a:ln w="0">
            <a:noFill/>
          </a:ln>
        </p:spPr>
      </p:pic>
      <p:pic>
        <p:nvPicPr>
          <p:cNvPr id="90" name="pic_28505" descr=""/>
          <p:cNvPicPr/>
          <p:nvPr/>
        </p:nvPicPr>
        <p:blipFill>
          <a:blip r:embed="rId2"/>
          <a:srcRect l="15998" t="67618" r="13882" b="20483"/>
          <a:stretch/>
        </p:blipFill>
        <p:spPr>
          <a:xfrm>
            <a:off x="1295280" y="2819520"/>
            <a:ext cx="7010640" cy="2209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0" y="16916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圈一圈，算一算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920" y="1461960"/>
            <a:ext cx="883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你喜欢的方法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-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7-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2-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5-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8-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4-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999数学网 www.12999.com</dc:creator>
  <dc:description/>
  <dc:language>en-US</dc:language>
  <cp:lastModifiedBy>未知用户</cp:lastModifiedBy>
  <dcterms:modified xsi:type="dcterms:W3CDTF">2013-03-18T05:34:44Z</dcterms:modified>
  <cp:revision>8</cp:revision>
  <dc:subject>12999数学网 www.12999.com</dc:subject>
  <dc:title>12999数学网 www.12999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