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C34-F381-4CEF-A231-F18D0E4E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D0C-A20A-4918-B977-4E71C78B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BAFC-CA0F-429D-8FF4-33F39B28D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5728-E6A0-4A5F-A3EB-BFAF078B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85C-D60C-4183-BE98-55580722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785F-1F34-4E2F-9E3B-D9957C1F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7C3-FEE9-4782-BB94-B97A8CE7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D7E-C33F-4729-A37A-BA8D5CD4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790-A617-42D7-A0C5-42C43FF8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815-1957-4CB4-B03B-8E5A533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C09-78A6-401C-B68E-6E3F0FC1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167-CC0F-4BC2-A430-83B0089E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4F3B-C7DD-4E5B-AFA9-5C3686ED84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410920" y="3860640"/>
            <a:ext cx="5072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</a:rPr>
              <a:t>认识平面图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0" y="486900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绿色圃中小学教育网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619280" y="1916280"/>
            <a:ext cx="5919840" cy="1152360"/>
            <a:chOff x="1619280" y="1916280"/>
            <a:chExt cx="5919840" cy="1152360"/>
          </a:xfrm>
        </p:grpSpPr>
        <p:pic>
          <p:nvPicPr>
            <p:cNvPr id="44" name="Picture 5" descr="\\192.168.1.3\临时中转站1_以本人姓名建目录\开发中心-多媒体部\02美术部\晨会文件\04宁煌\人教数学教参\01.png"/>
            <p:cNvPicPr/>
            <p:nvPr/>
          </p:nvPicPr>
          <p:blipFill>
            <a:blip r:embed="rId2"/>
            <a:stretch/>
          </p:blipFill>
          <p:spPr>
            <a:xfrm>
              <a:off x="1619280" y="1989000"/>
              <a:ext cx="1074600" cy="10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3059280" y="1916280"/>
              <a:ext cx="447984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认识图形（二）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1187280" y="4910760"/>
            <a:ext cx="67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们能找到哪些认识的立体图形？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979640" y="5588640"/>
            <a:ext cx="65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说出这些立体图形的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1000" y="1455840"/>
            <a:ext cx="5930640" cy="3341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40" y="486900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绿色圃中小学教育网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116000" y="1052640"/>
            <a:ext cx="7145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一、创设情境，复习立体图形名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2840" y="922320"/>
            <a:ext cx="8002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二、动手操作，认识平面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900000" y="14842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学生动手，拓出平面图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388800" y="566136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问题：你有什么方法可以在纸上得到这些立体图形的“面”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332000" y="2060640"/>
            <a:ext cx="5930640" cy="334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77080" y="2279520"/>
            <a:ext cx="1584360" cy="496440"/>
          </a:xfrm>
          <a:prstGeom prst="wedgeRoundRectCallout">
            <a:avLst>
              <a:gd name="adj1" fmla="val -43527"/>
              <a:gd name="adj2" fmla="val 16717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可以把它们拓下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0" y="486900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绿色圃中小学教育网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4280" y="922320"/>
            <a:ext cx="8218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二、动手操作，认识平面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030320" y="1571760"/>
            <a:ext cx="7286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二）认一认，给平面图形分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1280" y="329580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介绍：这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是平面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47640" y="5517000"/>
            <a:ext cx="51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你知道它们的名字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48000" y="2060640"/>
            <a:ext cx="4751280" cy="356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240" y="486900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绿色圃中小学教育网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1560" y="84924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二、动手操作，认识平面图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57240" y="157788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三）体会平面图形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47640" y="5445000"/>
            <a:ext cx="6643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观察平面图形，你怎么能记住它们的样子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124000" y="2308320"/>
            <a:ext cx="532764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240" y="486900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绿色圃中小学教育网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052280"/>
            <a:ext cx="69012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</a:rPr>
              <a:t>三、应用拓展，巩固新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76360" y="1844640"/>
            <a:ext cx="7286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）找一找，说一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16000" y="5386320"/>
            <a:ext cx="70009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：说一说，你身边哪些物体的面是你学过的图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3309840"/>
            <a:ext cx="1655640" cy="496440"/>
          </a:xfrm>
          <a:prstGeom prst="wedgeRoundRectCallout">
            <a:avLst>
              <a:gd name="adj1" fmla="val 89194"/>
              <a:gd name="adj2" fmla="val -3616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台历的这个地方是三角形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4148280"/>
            <a:ext cx="1800360" cy="496440"/>
          </a:xfrm>
          <a:prstGeom prst="wedgeRoundRectCallout">
            <a:avLst>
              <a:gd name="adj1" fmla="val 44879"/>
              <a:gd name="adj2" fmla="val -10717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开关的面是正方形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844720" y="2852640"/>
            <a:ext cx="5040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560" y="981000"/>
            <a:ext cx="69008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三、应用拓展，巩固新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71640" y="1916280"/>
            <a:ext cx="7286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游戏：画出自己喜欢的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692360" y="5300640"/>
            <a:ext cx="6983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：你能用平面图形画一幅自己喜欢的画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612000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69008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</a:rPr>
              <a:t>四、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187280" y="3213000"/>
            <a:ext cx="7500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0" y="4869000"/>
            <a:ext cx="5814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绿色圃中小学教育网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03:22:55Z</dcterms:created>
  <dc:creator>微软用户</dc:creator>
  <dc:description/>
  <dc:language>en-US</dc:language>
  <cp:lastModifiedBy>微软用户</cp:lastModifiedBy>
  <dcterms:modified xsi:type="dcterms:W3CDTF">2014-04-30T03:44:33Z</dcterms:modified>
  <cp:revision>2</cp:revision>
  <dc:subject/>
  <dc:title>幻灯片 1</dc:title>
</cp:coreProperties>
</file>