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camera.wav" ContentType="audio/x-wav"/>
  <Override PartName="/ppt/media/image21.jpeg" ContentType="image/jpeg"/>
  <Override PartName="/ppt/media/chimes.wav" ContentType="audio/x-wav"/>
  <Override PartName="/ppt/media/image20.jpeg" ContentType="image/jpeg"/>
  <Override PartName="/ppt/media/image19.png" ContentType="image/png"/>
  <Override PartName="/ppt/media/image23.png" ContentType="image/png"/>
  <Override PartName="/ppt/media/coin.wav" ContentType="audio/x-wav"/>
  <Override PartName="/ppt/media/image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24.jpeg" ContentType="image/jpeg"/>
  <Override PartName="/ppt/media/image30.jpeg" ContentType="image/jpeg"/>
  <Override PartName="/ppt/media/image3.jpeg" ContentType="image/jpeg"/>
  <Override PartName="/ppt/media/drumroll.wav" ContentType="audio/x-wav"/>
  <Override PartName="/ppt/media/image26.jpeg" ContentType="image/jpeg"/>
  <Override PartName="/ppt/media/image5.jpeg" ContentType="image/jpeg"/>
  <Override PartName="/ppt/media/image27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cashreg.wav" ContentType="audio/x-wav"/>
  <Override PartName="/ppt/media/image22.jpeg" ContentType="image/jpeg"/>
  <Override PartName="/ppt/media/image14.jpeg" ContentType="image/jpeg"/>
  <Override PartName="/ppt/media/image16.png" ContentType="image/png"/>
  <Override PartName="/ppt/media/image17.png" ContentType="image/png"/>
  <Override PartName="/ppt/media/image25.gif" ContentType="image/gif"/>
  <Override PartName="/ppt/media/image6.jpeg" ContentType="image/jpeg"/>
  <Override PartName="/ppt/media/type.wav" ContentType="audio/x-wav"/>
  <Override PartName="/ppt/media/image15.png" ContentType="image/png"/>
  <Override PartName="/ppt/media/image1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E192-4CAC-488A-824D-5F179FA3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0964-9188-4209-90C1-D7DAA9FA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2187-8D6E-40E2-AAAB-9CD7E54B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2D90-3167-4F5C-BAC0-4604123D7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4AC4-F9C8-405A-9EC2-2E28A9A3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8061-273C-4877-95D1-5206C9D4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E416-6692-4FA1-8187-A60C67AB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FDD5-DA42-49B7-AE53-B64D274B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D357-59F4-4A41-8EFB-FEE011F8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B6F6-B8F2-486A-B565-5D331C686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0DE4-4665-4AEA-954D-BF268149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6424-8DCF-4AB7-96F6-63772637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98AA-F143-488F-AE18-66CF38AD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C4A3-77BA-475C-A821-2BECA0E0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153E-D982-4BAB-A77D-3F049C1C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D86E-433D-42BB-B75D-E0D85345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A1E3-FF8C-4654-BDE8-E19F57DA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D93E-9B49-49CB-907E-DA7B0A17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8424-50AC-4671-BA16-000B3442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214A-01FF-4FBD-8E3B-79CBC3FB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EAB9-BAAC-4B22-8CB4-2958E674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7755-7C02-4B6E-96F8-2C88832C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26480-C6C8-466A-BC3E-AB96230E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0B692-A90F-4BDC-B793-9CD7EBD0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1E265-D258-4DE1-9861-7E959A4B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3AEB2-680D-4402-A5C5-CF87413B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5EF98-CD49-4630-B3FA-A5B40218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A6A10-A6B4-4571-A791-8E033E69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A5EB3-E964-4313-B547-FD70D110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5DE6-9D20-4920-BB27-5CD8D737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41D63-7482-4878-BEBD-405AAFAB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DB116-3643-43F7-96C0-3CCBDAB0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46EB1-2498-41BA-8422-E454F73F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C1E45-7E66-40D3-8EAA-352AACBEE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AAC26-3BB4-40EF-976E-30295B09D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BBDE4-3455-4F97-A4F6-A7E98F12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1771F-50DD-4224-86AF-2CE0B310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65A11-A43C-4590-BBDF-A41ACB0C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4C942-7486-4EF7-99A7-384B5C17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984D2-9F2A-49B7-ACF7-B8B13414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C134-4DED-4335-BD3B-A8F3954A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7ACD9-1CDF-4672-8D5A-A41DA573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A64FE-C9CE-4D5C-8E0A-FFA928CE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56783-D7D2-4D3F-883B-38010A80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4848E-505B-4958-B89B-86411424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ED629-58F7-4CC4-9FBA-F6F74D31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67237-1441-4F30-A2A7-DF6C5EAD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81E57-643A-4088-B633-C2D887637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E212-3599-45BB-91C7-68DEEB9E9B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3b3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b3b3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b3b3b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b3b3b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b3b3b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3b3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b3b3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b3b3b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b3b3b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b3b3b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CB11-2561-42A8-B50F-FEE86B59E4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2D50-0E5B-42E3-8E47-863B0BB984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1AF0-E643-478B-A2B9-1998774DE5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6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shreg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coin.wav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6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6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6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6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6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" Target="slide36.xml"/><Relationship Id="rId4" Type="http://schemas.openxmlformats.org/officeDocument/2006/relationships/slide" Target="slide36.xml"/><Relationship Id="rId5" Type="http://schemas.openxmlformats.org/officeDocument/2006/relationships/slide" Target="slide36.xml"/><Relationship Id="rId6" Type="http://schemas.openxmlformats.org/officeDocument/2006/relationships/slide" Target="slide36.xml"/><Relationship Id="rId7" Type="http://schemas.openxmlformats.org/officeDocument/2006/relationships/slide" Target="slide36.xml"/><Relationship Id="rId8" Type="http://schemas.openxmlformats.org/officeDocument/2006/relationships/slide" Target="slide36.xml"/><Relationship Id="rId9" Type="http://schemas.openxmlformats.org/officeDocument/2006/relationships/slide" Target="slide36.xml"/><Relationship Id="rId10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2627280" y="357120"/>
            <a:ext cx="4608720" cy="45529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564000" y="2278080"/>
            <a:ext cx="2265480" cy="2265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3564000" y="2413080"/>
            <a:ext cx="2155680" cy="21304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1042920" y="158760"/>
            <a:ext cx="7489800" cy="45068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5"/>
          <a:stretch/>
        </p:blipFill>
        <p:spPr>
          <a:xfrm>
            <a:off x="1042920" y="525600"/>
            <a:ext cx="7489800" cy="43844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6"/>
          <a:stretch/>
        </p:blipFill>
        <p:spPr>
          <a:xfrm>
            <a:off x="1042920" y="525600"/>
            <a:ext cx="7489800" cy="43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3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67 -0.04209 L 0.29167 0.29094 E">
                                      <p:cBhvr>
                                        <p:cTn id="22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04 -0.05204 L -0.40139 0.33811 E">
                                      <p:cBhvr>
                                        <p:cTn id="31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6488280" y="384120"/>
            <a:ext cx="2647080" cy="1010520"/>
            <a:chOff x="6488280" y="384120"/>
            <a:chExt cx="2647080" cy="1010520"/>
          </a:xfrm>
        </p:grpSpPr>
        <p:sp>
          <p:nvSpPr>
            <p:cNvPr id="431" name=""/>
            <p:cNvSpPr/>
            <p:nvPr/>
          </p:nvSpPr>
          <p:spPr>
            <a:xfrm flipV="1">
              <a:off x="7833600" y="384120"/>
              <a:ext cx="1301760" cy="101052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 flipV="1">
              <a:off x="6488280" y="440280"/>
              <a:ext cx="1354320" cy="93132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684360" y="188640"/>
            <a:ext cx="1584000" cy="1439640"/>
            <a:chOff x="684360" y="188640"/>
            <a:chExt cx="1584000" cy="1439640"/>
          </a:xfrm>
        </p:grpSpPr>
        <p:sp>
          <p:nvSpPr>
            <p:cNvPr id="434" name=""/>
            <p:cNvSpPr/>
            <p:nvPr/>
          </p:nvSpPr>
          <p:spPr>
            <a:xfrm flipV="1">
              <a:off x="684360" y="188640"/>
              <a:ext cx="0" cy="143964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84360" y="189000"/>
              <a:ext cx="1584000" cy="43128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3781440" y="81000"/>
            <a:ext cx="1437840" cy="1402920"/>
            <a:chOff x="3781440" y="81000"/>
            <a:chExt cx="1437840" cy="1402920"/>
          </a:xfrm>
        </p:grpSpPr>
        <p:sp>
          <p:nvSpPr>
            <p:cNvPr id="437" name=""/>
            <p:cNvSpPr/>
            <p:nvPr/>
          </p:nvSpPr>
          <p:spPr>
            <a:xfrm>
              <a:off x="5199840" y="81000"/>
              <a:ext cx="19440" cy="140292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3781440" y="1483920"/>
              <a:ext cx="143784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995640" y="2852640"/>
            <a:ext cx="1387440" cy="1295280"/>
            <a:chOff x="3995640" y="2852640"/>
            <a:chExt cx="1387440" cy="1295280"/>
          </a:xfrm>
        </p:grpSpPr>
        <p:sp>
          <p:nvSpPr>
            <p:cNvPr id="440" name=""/>
            <p:cNvSpPr/>
            <p:nvPr/>
          </p:nvSpPr>
          <p:spPr>
            <a:xfrm flipH="1" flipV="1">
              <a:off x="3996360" y="2852640"/>
              <a:ext cx="19080" cy="129528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995640" y="2852640"/>
              <a:ext cx="138744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971640" y="1341360"/>
            <a:ext cx="46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367160" y="1916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625320" y="2263320"/>
            <a:ext cx="1193040" cy="1309320"/>
            <a:chOff x="625320" y="2263320"/>
            <a:chExt cx="1193040" cy="1309320"/>
          </a:xfrm>
        </p:grpSpPr>
        <p:sp>
          <p:nvSpPr>
            <p:cNvPr id="445" name=""/>
            <p:cNvSpPr/>
            <p:nvPr/>
          </p:nvSpPr>
          <p:spPr>
            <a:xfrm>
              <a:off x="657000" y="2852640"/>
              <a:ext cx="1161360" cy="72000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625320" y="2263320"/>
              <a:ext cx="1130400" cy="60588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971640" y="3284640"/>
            <a:ext cx="46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500720" y="3860640"/>
            <a:ext cx="54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740720" y="4149720"/>
            <a:ext cx="54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6738480" y="1628640"/>
            <a:ext cx="2059560" cy="2120760"/>
            <a:chOff x="6738480" y="1628640"/>
            <a:chExt cx="2059560" cy="2120760"/>
          </a:xfrm>
        </p:grpSpPr>
        <p:sp>
          <p:nvSpPr>
            <p:cNvPr id="451" name=""/>
            <p:cNvSpPr/>
            <p:nvPr/>
          </p:nvSpPr>
          <p:spPr>
            <a:xfrm flipH="1" flipV="1">
              <a:off x="6738480" y="1981440"/>
              <a:ext cx="1494360" cy="28188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235720" y="2264400"/>
              <a:ext cx="562320" cy="128592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67640" y="1628640"/>
              <a:ext cx="463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740720" y="2923920"/>
              <a:ext cx="546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210960" y="531972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比直角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499080" y="5013360"/>
            <a:ext cx="24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比直角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780000" y="501336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直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667800" y="180000"/>
            <a:ext cx="1246680" cy="2367000"/>
            <a:chOff x="667800" y="180000"/>
            <a:chExt cx="1246680" cy="2367000"/>
          </a:xfrm>
        </p:grpSpPr>
        <p:sp>
          <p:nvSpPr>
            <p:cNvPr id="459" name=""/>
            <p:cNvSpPr/>
            <p:nvPr/>
          </p:nvSpPr>
          <p:spPr>
            <a:xfrm flipH="1" rot="10749600">
              <a:off x="684360" y="188280"/>
              <a:ext cx="1212840" cy="2349720"/>
            </a:xfrm>
            <a:prstGeom prst="rtTriangle">
              <a:avLst/>
            </a:prstGeom>
            <a:solidFill>
              <a:srgbClr val="8bd0ff">
                <a:alpha val="50000"/>
              </a:srgbClr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 rot="10749600">
              <a:off x="901080" y="438120"/>
              <a:ext cx="435600" cy="435600"/>
            </a:xfrm>
            <a:prstGeom prst="ellipse">
              <a:avLst/>
            </a:prstGeom>
            <a:solidFill>
              <a:srgbClr val="009900">
                <a:alpha val="50000"/>
              </a:srgbClr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6085080" y="2275200"/>
            <a:ext cx="2634840" cy="2018520"/>
            <a:chOff x="6085080" y="2275200"/>
            <a:chExt cx="2634840" cy="2018520"/>
          </a:xfrm>
        </p:grpSpPr>
        <p:sp>
          <p:nvSpPr>
            <p:cNvPr id="462" name=""/>
            <p:cNvSpPr/>
            <p:nvPr/>
          </p:nvSpPr>
          <p:spPr>
            <a:xfrm flipH="1" rot="14853000">
              <a:off x="6795720" y="2109600"/>
              <a:ext cx="1212840" cy="2349720"/>
            </a:xfrm>
            <a:prstGeom prst="rtTriangle">
              <a:avLst/>
            </a:prstGeom>
            <a:solidFill>
              <a:srgbClr val="8bd0ff">
                <a:alpha val="50000"/>
              </a:srgbClr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 rot="14853000">
              <a:off x="7779240" y="2646000"/>
              <a:ext cx="435600" cy="435600"/>
            </a:xfrm>
            <a:prstGeom prst="ellipse">
              <a:avLst/>
            </a:prstGeom>
            <a:solidFill>
              <a:srgbClr val="009900">
                <a:alpha val="50000"/>
              </a:srgbClr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718920" y="2293200"/>
            <a:ext cx="2200680" cy="2642760"/>
            <a:chOff x="718920" y="2293200"/>
            <a:chExt cx="2200680" cy="2642760"/>
          </a:xfrm>
        </p:grpSpPr>
        <p:sp>
          <p:nvSpPr>
            <p:cNvPr id="465" name=""/>
            <p:cNvSpPr/>
            <p:nvPr/>
          </p:nvSpPr>
          <p:spPr>
            <a:xfrm flipH="1" rot="9058200">
              <a:off x="1212480" y="2439720"/>
              <a:ext cx="1212840" cy="2349360"/>
            </a:xfrm>
            <a:prstGeom prst="rtTriangle">
              <a:avLst/>
            </a:prstGeom>
            <a:solidFill>
              <a:srgbClr val="8bd0ff">
                <a:alpha val="50000"/>
              </a:srgbClr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 rot="9058200">
              <a:off x="1114920" y="2854080"/>
              <a:ext cx="435600" cy="435600"/>
            </a:xfrm>
            <a:prstGeom prst="ellipse">
              <a:avLst/>
            </a:prstGeom>
            <a:solidFill>
              <a:srgbClr val="009900">
                <a:alpha val="50000"/>
              </a:srgbClr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6751440" y="-1359360"/>
            <a:ext cx="2471760" cy="2720880"/>
            <a:chOff x="6751440" y="-1359360"/>
            <a:chExt cx="2471760" cy="2720880"/>
          </a:xfrm>
        </p:grpSpPr>
        <p:sp>
          <p:nvSpPr>
            <p:cNvPr id="468" name=""/>
            <p:cNvSpPr/>
            <p:nvPr/>
          </p:nvSpPr>
          <p:spPr>
            <a:xfrm flipH="1" rot="2099400">
              <a:off x="7308360" y="-1184400"/>
              <a:ext cx="1357200" cy="2371320"/>
            </a:xfrm>
            <a:prstGeom prst="rtTriangle">
              <a:avLst/>
            </a:prstGeom>
            <a:solidFill>
              <a:srgbClr val="8bd0ff">
                <a:alpha val="50000"/>
              </a:srgbClr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 rot="2099400">
              <a:off x="7480080" y="472320"/>
              <a:ext cx="487440" cy="439560"/>
            </a:xfrm>
            <a:prstGeom prst="ellipse">
              <a:avLst/>
            </a:prstGeom>
            <a:solidFill>
              <a:srgbClr val="009900">
                <a:alpha val="50000"/>
              </a:srgbClr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4998960" y="1181160"/>
            <a:ext cx="0" cy="32220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213080" y="2803680"/>
            <a:ext cx="0" cy="32040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5000760" y="1181160"/>
            <a:ext cx="21888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3997080" y="3124080"/>
            <a:ext cx="215640" cy="180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"/>
          <p:cNvGrpSpPr/>
          <p:nvPr/>
        </p:nvGrpSpPr>
        <p:grpSpPr>
          <a:xfrm>
            <a:off x="6488280" y="384120"/>
            <a:ext cx="2647080" cy="1010520"/>
            <a:chOff x="6488280" y="384120"/>
            <a:chExt cx="2647080" cy="1010520"/>
          </a:xfrm>
        </p:grpSpPr>
        <p:sp>
          <p:nvSpPr>
            <p:cNvPr id="475" name=""/>
            <p:cNvSpPr/>
            <p:nvPr/>
          </p:nvSpPr>
          <p:spPr>
            <a:xfrm flipV="1">
              <a:off x="7833600" y="384120"/>
              <a:ext cx="1301760" cy="101052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flipV="1">
              <a:off x="6488280" y="440280"/>
              <a:ext cx="1354320" cy="93132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684360" y="188640"/>
            <a:ext cx="1584000" cy="1439640"/>
            <a:chOff x="684360" y="188640"/>
            <a:chExt cx="1584000" cy="1439640"/>
          </a:xfrm>
        </p:grpSpPr>
        <p:sp>
          <p:nvSpPr>
            <p:cNvPr id="478" name=""/>
            <p:cNvSpPr/>
            <p:nvPr/>
          </p:nvSpPr>
          <p:spPr>
            <a:xfrm flipV="1">
              <a:off x="684360" y="188640"/>
              <a:ext cx="0" cy="143964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84360" y="189000"/>
              <a:ext cx="1584000" cy="43128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3781440" y="81000"/>
            <a:ext cx="1437840" cy="1402920"/>
            <a:chOff x="3781440" y="81000"/>
            <a:chExt cx="1437840" cy="1402920"/>
          </a:xfrm>
        </p:grpSpPr>
        <p:sp>
          <p:nvSpPr>
            <p:cNvPr id="481" name=""/>
            <p:cNvSpPr/>
            <p:nvPr/>
          </p:nvSpPr>
          <p:spPr>
            <a:xfrm>
              <a:off x="5199840" y="81000"/>
              <a:ext cx="19440" cy="140292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3781440" y="1483920"/>
              <a:ext cx="143784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3995640" y="2852640"/>
            <a:ext cx="1387440" cy="1295280"/>
            <a:chOff x="3995640" y="2852640"/>
            <a:chExt cx="1387440" cy="1295280"/>
          </a:xfrm>
        </p:grpSpPr>
        <p:sp>
          <p:nvSpPr>
            <p:cNvPr id="484" name=""/>
            <p:cNvSpPr/>
            <p:nvPr/>
          </p:nvSpPr>
          <p:spPr>
            <a:xfrm flipH="1" flipV="1">
              <a:off x="3996360" y="2852640"/>
              <a:ext cx="19080" cy="129528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995640" y="2852640"/>
              <a:ext cx="138744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971640" y="1341360"/>
            <a:ext cx="46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367160" y="1916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625320" y="2263320"/>
            <a:ext cx="1193040" cy="1309320"/>
            <a:chOff x="625320" y="2263320"/>
            <a:chExt cx="1193040" cy="1309320"/>
          </a:xfrm>
        </p:grpSpPr>
        <p:sp>
          <p:nvSpPr>
            <p:cNvPr id="489" name=""/>
            <p:cNvSpPr/>
            <p:nvPr/>
          </p:nvSpPr>
          <p:spPr>
            <a:xfrm>
              <a:off x="657000" y="2852640"/>
              <a:ext cx="1161360" cy="72000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625320" y="2263320"/>
              <a:ext cx="1130400" cy="60588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971640" y="3284640"/>
            <a:ext cx="46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500720" y="3860640"/>
            <a:ext cx="54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740720" y="4149720"/>
            <a:ext cx="54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6738480" y="1628640"/>
            <a:ext cx="2059560" cy="2120760"/>
            <a:chOff x="6738480" y="1628640"/>
            <a:chExt cx="2059560" cy="2120760"/>
          </a:xfrm>
        </p:grpSpPr>
        <p:sp>
          <p:nvSpPr>
            <p:cNvPr id="495" name=""/>
            <p:cNvSpPr/>
            <p:nvPr/>
          </p:nvSpPr>
          <p:spPr>
            <a:xfrm flipH="1" flipV="1">
              <a:off x="6738480" y="1981440"/>
              <a:ext cx="1494360" cy="28188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235720" y="2264400"/>
              <a:ext cx="562320" cy="128592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67640" y="1628640"/>
              <a:ext cx="463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740720" y="2923920"/>
              <a:ext cx="546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324000" y="6021360"/>
            <a:ext cx="24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比直角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659640" y="6093000"/>
            <a:ext cx="24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比直角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780000" y="501336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直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79280" y="5084640"/>
            <a:ext cx="19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锐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308720" y="49417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钝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667800" y="180000"/>
            <a:ext cx="1246680" cy="2367000"/>
            <a:chOff x="667800" y="180000"/>
            <a:chExt cx="1246680" cy="2367000"/>
          </a:xfrm>
        </p:grpSpPr>
        <p:sp>
          <p:nvSpPr>
            <p:cNvPr id="505" name=""/>
            <p:cNvSpPr/>
            <p:nvPr/>
          </p:nvSpPr>
          <p:spPr>
            <a:xfrm flipH="1" rot="10749600">
              <a:off x="684360" y="188280"/>
              <a:ext cx="1212840" cy="2349720"/>
            </a:xfrm>
            <a:prstGeom prst="rtTriangle">
              <a:avLst/>
            </a:prstGeom>
            <a:solidFill>
              <a:srgbClr val="8bd0ff">
                <a:alpha val="50000"/>
              </a:srgbClr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 rot="10749600">
              <a:off x="901080" y="438120"/>
              <a:ext cx="435600" cy="435600"/>
            </a:xfrm>
            <a:prstGeom prst="ellipse">
              <a:avLst/>
            </a:prstGeom>
            <a:solidFill>
              <a:srgbClr val="009900">
                <a:alpha val="50000"/>
              </a:srgbClr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6085080" y="2275200"/>
            <a:ext cx="2634840" cy="2018520"/>
            <a:chOff x="6085080" y="2275200"/>
            <a:chExt cx="2634840" cy="2018520"/>
          </a:xfrm>
        </p:grpSpPr>
        <p:sp>
          <p:nvSpPr>
            <p:cNvPr id="508" name=""/>
            <p:cNvSpPr/>
            <p:nvPr/>
          </p:nvSpPr>
          <p:spPr>
            <a:xfrm flipH="1" rot="14853000">
              <a:off x="6795720" y="2109600"/>
              <a:ext cx="1212840" cy="2349720"/>
            </a:xfrm>
            <a:prstGeom prst="rtTriangle">
              <a:avLst/>
            </a:prstGeom>
            <a:solidFill>
              <a:srgbClr val="8bd0ff">
                <a:alpha val="50000"/>
              </a:srgbClr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rot="14853000">
              <a:off x="7779240" y="2646000"/>
              <a:ext cx="435600" cy="435600"/>
            </a:xfrm>
            <a:prstGeom prst="ellipse">
              <a:avLst/>
            </a:prstGeom>
            <a:solidFill>
              <a:srgbClr val="009900">
                <a:alpha val="50000"/>
              </a:srgbClr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718920" y="2293200"/>
            <a:ext cx="2200680" cy="2642760"/>
            <a:chOff x="718920" y="2293200"/>
            <a:chExt cx="2200680" cy="2642760"/>
          </a:xfrm>
        </p:grpSpPr>
        <p:sp>
          <p:nvSpPr>
            <p:cNvPr id="511" name=""/>
            <p:cNvSpPr/>
            <p:nvPr/>
          </p:nvSpPr>
          <p:spPr>
            <a:xfrm flipH="1" rot="9058200">
              <a:off x="1212480" y="2439720"/>
              <a:ext cx="1212840" cy="2349360"/>
            </a:xfrm>
            <a:prstGeom prst="rtTriangle">
              <a:avLst/>
            </a:prstGeom>
            <a:solidFill>
              <a:srgbClr val="8bd0ff">
                <a:alpha val="50000"/>
              </a:srgbClr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 rot="9058200">
              <a:off x="1114920" y="2854080"/>
              <a:ext cx="435600" cy="435600"/>
            </a:xfrm>
            <a:prstGeom prst="ellipse">
              <a:avLst/>
            </a:prstGeom>
            <a:solidFill>
              <a:srgbClr val="009900">
                <a:alpha val="50000"/>
              </a:srgbClr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6751440" y="-1359360"/>
            <a:ext cx="2471760" cy="2720880"/>
            <a:chOff x="6751440" y="-1359360"/>
            <a:chExt cx="2471760" cy="2720880"/>
          </a:xfrm>
        </p:grpSpPr>
        <p:sp>
          <p:nvSpPr>
            <p:cNvPr id="514" name=""/>
            <p:cNvSpPr/>
            <p:nvPr/>
          </p:nvSpPr>
          <p:spPr>
            <a:xfrm flipH="1" rot="2099400">
              <a:off x="7308360" y="-1184400"/>
              <a:ext cx="1357200" cy="2371320"/>
            </a:xfrm>
            <a:prstGeom prst="rtTriangle">
              <a:avLst/>
            </a:prstGeom>
            <a:solidFill>
              <a:srgbClr val="8bd0ff">
                <a:alpha val="50000"/>
              </a:srgbClr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 rot="2099400">
              <a:off x="7480080" y="472320"/>
              <a:ext cx="487440" cy="439560"/>
            </a:xfrm>
            <a:prstGeom prst="ellipse">
              <a:avLst/>
            </a:prstGeom>
            <a:solidFill>
              <a:srgbClr val="009900">
                <a:alpha val="50000"/>
              </a:srgbClr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4998960" y="1181160"/>
            <a:ext cx="0" cy="32220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213080" y="2803680"/>
            <a:ext cx="0" cy="32040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5000760" y="1181160"/>
            <a:ext cx="21888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3997080" y="3124080"/>
            <a:ext cx="215640" cy="180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1547640" y="1989000"/>
            <a:ext cx="69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2b01"/>
                </a:solidFill>
                <a:latin typeface="Arial"/>
                <a:ea typeface="楷体_GB2312"/>
              </a:rPr>
              <a:t>一个角是什么角可以怎么判断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2050920" y="177336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Bookman Old Style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Bookman Old Style"/>
                <a:ea typeface="楷体_GB2312"/>
              </a:rPr>
              <a:t>能用眼睛判断的可以不需要三角板来帮忙，如果一眼看不出来就需要请三角板上的直角来比一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1619280" y="83664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080"/>
                </a:solidFill>
                <a:latin typeface="Times New Roman"/>
                <a:ea typeface="楷体_GB2312"/>
              </a:rPr>
              <a:t>顶点与直角的顶点重合，一条边与直角的一条边重合，看另一条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3419640" y="1484280"/>
            <a:ext cx="2361960" cy="3611520"/>
            <a:chOff x="3419640" y="1484280"/>
            <a:chExt cx="2361960" cy="3611520"/>
          </a:xfrm>
        </p:grpSpPr>
        <p:sp>
          <p:nvSpPr>
            <p:cNvPr id="525" name=""/>
            <p:cNvSpPr/>
            <p:nvPr/>
          </p:nvSpPr>
          <p:spPr>
            <a:xfrm>
              <a:off x="3419640" y="1484280"/>
              <a:ext cx="2361960" cy="20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4080"/>
                  </a:solidFill>
                  <a:latin typeface="Times New Roman"/>
                  <a:ea typeface="楷体_GB2312"/>
                </a:rPr>
                <a:t>如果在直角另一边的外面，就是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钝角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3495600" y="3465720"/>
              <a:ext cx="1510560" cy="1630080"/>
              <a:chOff x="3495600" y="3465720"/>
              <a:chExt cx="1510560" cy="1630080"/>
            </a:xfrm>
          </p:grpSpPr>
          <p:grpSp>
            <p:nvGrpSpPr>
              <p:cNvPr id="527" name=""/>
              <p:cNvGrpSpPr/>
              <p:nvPr/>
            </p:nvGrpSpPr>
            <p:grpSpPr>
              <a:xfrm>
                <a:off x="3876120" y="3465720"/>
                <a:ext cx="761760" cy="1600200"/>
                <a:chOff x="3876120" y="3465720"/>
                <a:chExt cx="761760" cy="160020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3876120" y="3465720"/>
                  <a:ext cx="761760" cy="1600200"/>
                </a:xfrm>
                <a:prstGeom prst="rtTriangle">
                  <a:avLst/>
                </a:prstGeom>
                <a:solidFill>
                  <a:srgbClr val="8bd0ff">
                    <a:alpha val="50000"/>
                  </a:srgbClr>
                </a:solidFill>
                <a:ln w="1260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4018680" y="4601160"/>
                  <a:ext cx="273600" cy="296640"/>
                </a:xfrm>
                <a:prstGeom prst="ellipse">
                  <a:avLst/>
                </a:prstGeom>
                <a:solidFill>
                  <a:srgbClr val="009900">
                    <a:alpha val="50000"/>
                  </a:srgbClr>
                </a:solidFill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495600" y="4303800"/>
                <a:ext cx="1510560" cy="792000"/>
                <a:chOff x="3495600" y="4303800"/>
                <a:chExt cx="1510560" cy="792000"/>
              </a:xfrm>
            </p:grpSpPr>
            <p:sp>
              <p:nvSpPr>
                <p:cNvPr id="531" name=""/>
                <p:cNvSpPr/>
                <p:nvPr/>
              </p:nvSpPr>
              <p:spPr>
                <a:xfrm flipH="1" flipV="1">
                  <a:off x="3495600" y="4303800"/>
                  <a:ext cx="360000" cy="792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855600" y="5095800"/>
                  <a:ext cx="115056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3" name=""/>
          <p:cNvGrpSpPr/>
          <p:nvPr/>
        </p:nvGrpSpPr>
        <p:grpSpPr>
          <a:xfrm>
            <a:off x="900000" y="2133720"/>
            <a:ext cx="2362320" cy="2998800"/>
            <a:chOff x="900000" y="2133720"/>
            <a:chExt cx="2362320" cy="2998800"/>
          </a:xfrm>
        </p:grpSpPr>
        <p:sp>
          <p:nvSpPr>
            <p:cNvPr id="534" name=""/>
            <p:cNvSpPr/>
            <p:nvPr/>
          </p:nvSpPr>
          <p:spPr>
            <a:xfrm>
              <a:off x="900000" y="2133720"/>
              <a:ext cx="236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4080"/>
                  </a:solidFill>
                  <a:latin typeface="Times New Roman"/>
                  <a:ea typeface="楷体_GB2312"/>
                </a:rPr>
                <a:t>如果与直角的另一边重合，就是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直角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1280880" y="3505320"/>
              <a:ext cx="935280" cy="1627200"/>
              <a:chOff x="1280880" y="3505320"/>
              <a:chExt cx="935280" cy="1627200"/>
            </a:xfrm>
          </p:grpSpPr>
          <p:grpSp>
            <p:nvGrpSpPr>
              <p:cNvPr id="536" name=""/>
              <p:cNvGrpSpPr/>
              <p:nvPr/>
            </p:nvGrpSpPr>
            <p:grpSpPr>
              <a:xfrm>
                <a:off x="1280880" y="3505320"/>
                <a:ext cx="762120" cy="1600200"/>
                <a:chOff x="1280880" y="3505320"/>
                <a:chExt cx="762120" cy="160020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1280880" y="3505320"/>
                  <a:ext cx="762120" cy="1600200"/>
                </a:xfrm>
                <a:prstGeom prst="rtTriangle">
                  <a:avLst/>
                </a:prstGeom>
                <a:solidFill>
                  <a:srgbClr val="8bd0ff">
                    <a:alpha val="50000"/>
                  </a:srgbClr>
                </a:solidFill>
                <a:ln w="1260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1423800" y="4640760"/>
                  <a:ext cx="273960" cy="296640"/>
                </a:xfrm>
                <a:prstGeom prst="ellipse">
                  <a:avLst/>
                </a:prstGeom>
                <a:solidFill>
                  <a:srgbClr val="009900">
                    <a:alpha val="50000"/>
                  </a:srgbClr>
                </a:solidFill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1280880" y="4267080"/>
                <a:ext cx="935280" cy="865440"/>
                <a:chOff x="1280880" y="4267080"/>
                <a:chExt cx="935280" cy="86544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1280880" y="5132520"/>
                  <a:ext cx="9352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V="1">
                  <a:off x="1280880" y="4267080"/>
                  <a:ext cx="0" cy="865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42" name=""/>
          <p:cNvGrpSpPr/>
          <p:nvPr/>
        </p:nvGrpSpPr>
        <p:grpSpPr>
          <a:xfrm>
            <a:off x="6084720" y="2060640"/>
            <a:ext cx="2438640" cy="3078000"/>
            <a:chOff x="6084720" y="2060640"/>
            <a:chExt cx="2438640" cy="3078000"/>
          </a:xfrm>
        </p:grpSpPr>
        <p:sp>
          <p:nvSpPr>
            <p:cNvPr id="543" name=""/>
            <p:cNvSpPr/>
            <p:nvPr/>
          </p:nvSpPr>
          <p:spPr>
            <a:xfrm>
              <a:off x="6084720" y="2060640"/>
              <a:ext cx="243864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4080"/>
                  </a:solidFill>
                  <a:latin typeface="Times New Roman"/>
                  <a:ea typeface="楷体_GB2312"/>
                </a:rPr>
                <a:t>如果在直角另一边的里面，就是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锐角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6084720" y="3508200"/>
              <a:ext cx="1297080" cy="1630440"/>
              <a:chOff x="6084720" y="3508200"/>
              <a:chExt cx="1297080" cy="1630440"/>
            </a:xfrm>
          </p:grpSpPr>
          <p:grpSp>
            <p:nvGrpSpPr>
              <p:cNvPr id="545" name=""/>
              <p:cNvGrpSpPr/>
              <p:nvPr/>
            </p:nvGrpSpPr>
            <p:grpSpPr>
              <a:xfrm>
                <a:off x="6084720" y="3508200"/>
                <a:ext cx="762120" cy="1600200"/>
                <a:chOff x="6084720" y="3508200"/>
                <a:chExt cx="762120" cy="160020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6084720" y="3508200"/>
                  <a:ext cx="762120" cy="1600200"/>
                </a:xfrm>
                <a:prstGeom prst="rtTriangle">
                  <a:avLst/>
                </a:prstGeom>
                <a:solidFill>
                  <a:srgbClr val="8bd0ff">
                    <a:alpha val="50000"/>
                  </a:srgbClr>
                </a:solidFill>
                <a:ln w="1260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227640" y="4643640"/>
                  <a:ext cx="273960" cy="296640"/>
                </a:xfrm>
                <a:prstGeom prst="ellipse">
                  <a:avLst/>
                </a:prstGeom>
                <a:solidFill>
                  <a:srgbClr val="009900">
                    <a:alpha val="50000"/>
                  </a:srgbClr>
                </a:solidFill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6084720" y="4346640"/>
                <a:ext cx="1297080" cy="792000"/>
                <a:chOff x="6084720" y="4346640"/>
                <a:chExt cx="1297080" cy="792000"/>
              </a:xfrm>
            </p:grpSpPr>
            <p:sp>
              <p:nvSpPr>
                <p:cNvPr id="549" name=""/>
                <p:cNvSpPr/>
                <p:nvPr/>
              </p:nvSpPr>
              <p:spPr>
                <a:xfrm flipV="1">
                  <a:off x="6084720" y="4346640"/>
                  <a:ext cx="1008000" cy="792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084720" y="5138640"/>
                  <a:ext cx="12970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255600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-106200" y="92160"/>
            <a:ext cx="957420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你能很快说出下面各角的名称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1042560" y="1484280"/>
            <a:ext cx="792360" cy="108108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042920" y="2565360"/>
            <a:ext cx="1081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348000" y="1484280"/>
            <a:ext cx="0" cy="1008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348000" y="1484280"/>
            <a:ext cx="107964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03640" y="2492280"/>
            <a:ext cx="93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5940360" y="1628280"/>
            <a:ext cx="576360" cy="86364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885080" y="1557360"/>
            <a:ext cx="12589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7019640" y="1557360"/>
            <a:ext cx="865080" cy="86364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042920" y="4365720"/>
            <a:ext cx="0" cy="1224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042920" y="5589720"/>
            <a:ext cx="1152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2771640" y="4292640"/>
            <a:ext cx="648000" cy="1224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419640" y="4221000"/>
            <a:ext cx="936360" cy="1440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148360" y="4149720"/>
            <a:ext cx="0" cy="129528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966240" y="27496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锐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982240" y="27496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直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069880" y="28209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钝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573320" y="28209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钝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821880" y="58453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直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909520" y="58453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锐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372360" y="3573360"/>
            <a:ext cx="863640" cy="129564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148360" y="5445000"/>
            <a:ext cx="1655640" cy="14472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142960" y="58453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钝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667640" y="5516640"/>
            <a:ext cx="1476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667640" y="4076640"/>
            <a:ext cx="73080" cy="1440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388360" y="3716280"/>
            <a:ext cx="755640" cy="10810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446600" y="58453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锐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44444E-006 L -0.13386 0.08403 E">
                                      <p:cBhvr>
                                        <p:cTn id="305" dur="20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81481E-006 L -0.07882 0.10486 E">
                                      <p:cBhvr>
                                        <p:cTn id="327" dur="20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"/>
          <p:cNvGrpSpPr/>
          <p:nvPr/>
        </p:nvGrpSpPr>
        <p:grpSpPr>
          <a:xfrm>
            <a:off x="976320" y="3068640"/>
            <a:ext cx="2042640" cy="1503000"/>
            <a:chOff x="976320" y="3068640"/>
            <a:chExt cx="2042640" cy="1503000"/>
          </a:xfrm>
        </p:grpSpPr>
        <p:sp>
          <p:nvSpPr>
            <p:cNvPr id="580" name=""/>
            <p:cNvSpPr/>
            <p:nvPr/>
          </p:nvSpPr>
          <p:spPr>
            <a:xfrm>
              <a:off x="976320" y="3068640"/>
              <a:ext cx="628200" cy="1503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604520" y="4571640"/>
              <a:ext cx="1414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4572000" y="3141720"/>
            <a:ext cx="1295280" cy="1506240"/>
            <a:chOff x="4572000" y="3141720"/>
            <a:chExt cx="1295280" cy="1506240"/>
          </a:xfrm>
        </p:grpSpPr>
        <p:sp>
          <p:nvSpPr>
            <p:cNvPr id="583" name=""/>
            <p:cNvSpPr/>
            <p:nvPr/>
          </p:nvSpPr>
          <p:spPr>
            <a:xfrm>
              <a:off x="4572000" y="3141720"/>
              <a:ext cx="0" cy="15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572000" y="4647960"/>
              <a:ext cx="1295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009920" y="3429000"/>
            <a:ext cx="1600560" cy="1143000"/>
            <a:chOff x="7009920" y="3429000"/>
            <a:chExt cx="1600560" cy="1143000"/>
          </a:xfrm>
        </p:grpSpPr>
        <p:sp>
          <p:nvSpPr>
            <p:cNvPr id="586" name=""/>
            <p:cNvSpPr/>
            <p:nvPr/>
          </p:nvSpPr>
          <p:spPr>
            <a:xfrm flipH="1">
              <a:off x="7009920" y="3429000"/>
              <a:ext cx="1143000" cy="1143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010280" y="4572000"/>
              <a:ext cx="160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1116000" y="509112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钝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211640" y="518148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直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086600" y="5181480"/>
            <a:ext cx="151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锐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35360" y="518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3276360" y="5410080"/>
            <a:ext cx="533520" cy="457200"/>
            <a:chOff x="3276360" y="5410080"/>
            <a:chExt cx="533520" cy="457200"/>
          </a:xfrm>
        </p:grpSpPr>
        <p:sp>
          <p:nvSpPr>
            <p:cNvPr id="593" name=""/>
            <p:cNvSpPr/>
            <p:nvPr/>
          </p:nvSpPr>
          <p:spPr>
            <a:xfrm>
              <a:off x="3276720" y="5410080"/>
              <a:ext cx="533160" cy="228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3276360" y="5638680"/>
              <a:ext cx="533160" cy="228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6134040" y="5334120"/>
            <a:ext cx="533520" cy="457200"/>
            <a:chOff x="6134040" y="5334120"/>
            <a:chExt cx="533520" cy="457200"/>
          </a:xfrm>
        </p:grpSpPr>
        <p:sp>
          <p:nvSpPr>
            <p:cNvPr id="596" name=""/>
            <p:cNvSpPr/>
            <p:nvPr/>
          </p:nvSpPr>
          <p:spPr>
            <a:xfrm>
              <a:off x="6134040" y="5334120"/>
              <a:ext cx="533520" cy="228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6134040" y="5562720"/>
              <a:ext cx="533520" cy="228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1476360" y="-69840"/>
            <a:ext cx="7632720" cy="3211560"/>
            <a:chOff x="1476360" y="-69840"/>
            <a:chExt cx="7632720" cy="3211560"/>
          </a:xfrm>
        </p:grpSpPr>
        <p:sp>
          <p:nvSpPr>
            <p:cNvPr id="599" name=""/>
            <p:cNvSpPr/>
            <p:nvPr/>
          </p:nvSpPr>
          <p:spPr>
            <a:xfrm>
              <a:off x="1476360" y="-69840"/>
              <a:ext cx="7632720" cy="3211560"/>
            </a:xfrm>
            <a:prstGeom prst="cloudCallout">
              <a:avLst>
                <a:gd name="adj1" fmla="val -46462"/>
                <a:gd name="adj2" fmla="val 1052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 txBox="1"/>
            <p:nvPr/>
          </p:nvSpPr>
          <p:spPr>
            <a:xfrm>
              <a:off x="2413080" y="72720"/>
              <a:ext cx="5400720" cy="23022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CurveUp">
                <a:avLst>
                  <a:gd name="adj" fmla="val 458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黑体"/>
                </a:rPr>
                <a:t>我们三兄弟谁是哥哥谁是弟弟呢？</a:t>
              </a:r>
              <a:endParaRPr b="1" lang="en-US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</p:grp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324000" y="2865600"/>
            <a:ext cx="8496000" cy="367164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 txBox="1"/>
          <p:nvPr/>
        </p:nvSpPr>
        <p:spPr>
          <a:xfrm>
            <a:off x="538200" y="1628640"/>
            <a:ext cx="5113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找一找，下图中有哪些角？是什么角？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684360" y="3500280"/>
            <a:ext cx="718560" cy="719280"/>
            <a:chOff x="684360" y="3500280"/>
            <a:chExt cx="718560" cy="719280"/>
          </a:xfrm>
        </p:grpSpPr>
        <p:sp>
          <p:nvSpPr>
            <p:cNvPr id="604" name=""/>
            <p:cNvSpPr/>
            <p:nvPr/>
          </p:nvSpPr>
          <p:spPr>
            <a:xfrm>
              <a:off x="684360" y="3500280"/>
              <a:ext cx="360000" cy="647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1042920" y="3500280"/>
              <a:ext cx="360000" cy="719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2627280" y="3933720"/>
            <a:ext cx="1008000" cy="1343160"/>
            <a:chOff x="2627280" y="3933720"/>
            <a:chExt cx="1008000" cy="1343160"/>
          </a:xfrm>
        </p:grpSpPr>
        <p:sp>
          <p:nvSpPr>
            <p:cNvPr id="607" name=""/>
            <p:cNvSpPr/>
            <p:nvPr/>
          </p:nvSpPr>
          <p:spPr>
            <a:xfrm>
              <a:off x="2627280" y="3933720"/>
              <a:ext cx="0" cy="1343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627280" y="3933720"/>
              <a:ext cx="1008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787640" y="3141720"/>
            <a:ext cx="648000" cy="2448000"/>
            <a:chOff x="4787640" y="3141720"/>
            <a:chExt cx="648000" cy="2448000"/>
          </a:xfrm>
        </p:grpSpPr>
        <p:sp>
          <p:nvSpPr>
            <p:cNvPr id="610" name=""/>
            <p:cNvSpPr/>
            <p:nvPr/>
          </p:nvSpPr>
          <p:spPr>
            <a:xfrm flipH="1">
              <a:off x="4787640" y="3141720"/>
              <a:ext cx="360360" cy="2303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48360" y="3141720"/>
              <a:ext cx="287280" cy="2448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516720" y="4221000"/>
            <a:ext cx="1584000" cy="719280"/>
            <a:chOff x="6516720" y="4221000"/>
            <a:chExt cx="1584000" cy="719280"/>
          </a:xfrm>
        </p:grpSpPr>
        <p:sp>
          <p:nvSpPr>
            <p:cNvPr id="613" name=""/>
            <p:cNvSpPr/>
            <p:nvPr/>
          </p:nvSpPr>
          <p:spPr>
            <a:xfrm>
              <a:off x="6516720" y="4221000"/>
              <a:ext cx="792000" cy="719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7235640" y="4365360"/>
              <a:ext cx="865080" cy="57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250" autoRev="1" fill="hold"/>
                                        <p:tgtEl>
                                          <p:spTgt spid="6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8" dur="250" autoRev="1" fill="hold"/>
                                        <p:tgtEl>
                                          <p:spTgt spid="6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9" dur="250" autoRev="1" fill="hold"/>
                                        <p:tgtEl>
                                          <p:spTgt spid="6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5" descr="未命名"/>
          <p:cNvPicPr/>
          <p:nvPr/>
        </p:nvPicPr>
        <p:blipFill>
          <a:blip r:embed="rId2"/>
          <a:stretch/>
        </p:blipFill>
        <p:spPr>
          <a:xfrm>
            <a:off x="-1981080" y="0"/>
            <a:ext cx="13182480" cy="6858000"/>
          </a:xfrm>
          <a:prstGeom prst="rect">
            <a:avLst/>
          </a:prstGeom>
          <a:ln w="0">
            <a:noFill/>
          </a:ln>
        </p:spPr>
      </p:pic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Group 19"/>
          <p:cNvGrpSpPr/>
          <p:nvPr/>
        </p:nvGrpSpPr>
        <p:grpSpPr>
          <a:xfrm>
            <a:off x="4211640" y="1268280"/>
            <a:ext cx="720720" cy="648000"/>
            <a:chOff x="4211640" y="1268280"/>
            <a:chExt cx="720720" cy="648000"/>
          </a:xfrm>
        </p:grpSpPr>
        <p:sp>
          <p:nvSpPr>
            <p:cNvPr id="618" name="Line 7"/>
            <p:cNvSpPr/>
            <p:nvPr/>
          </p:nvSpPr>
          <p:spPr>
            <a:xfrm flipH="1">
              <a:off x="4211640" y="1268280"/>
              <a:ext cx="720720" cy="289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8"/>
            <p:cNvSpPr/>
            <p:nvPr/>
          </p:nvSpPr>
          <p:spPr>
            <a:xfrm flipH="1">
              <a:off x="4642920" y="1268280"/>
              <a:ext cx="289080" cy="648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Group 18"/>
          <p:cNvGrpSpPr/>
          <p:nvPr/>
        </p:nvGrpSpPr>
        <p:grpSpPr>
          <a:xfrm>
            <a:off x="3203280" y="4941360"/>
            <a:ext cx="648000" cy="143280"/>
            <a:chOff x="3203280" y="4941360"/>
            <a:chExt cx="648000" cy="143280"/>
          </a:xfrm>
        </p:grpSpPr>
        <p:sp>
          <p:nvSpPr>
            <p:cNvPr id="621" name="Line 9"/>
            <p:cNvSpPr/>
            <p:nvPr/>
          </p:nvSpPr>
          <p:spPr>
            <a:xfrm flipH="1">
              <a:off x="3203280" y="5084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10"/>
            <p:cNvSpPr/>
            <p:nvPr/>
          </p:nvSpPr>
          <p:spPr>
            <a:xfrm flipV="1">
              <a:off x="3564000" y="4941360"/>
              <a:ext cx="287280" cy="142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17"/>
          <p:cNvGrpSpPr/>
          <p:nvPr/>
        </p:nvGrpSpPr>
        <p:grpSpPr>
          <a:xfrm>
            <a:off x="1547280" y="3933720"/>
            <a:ext cx="648360" cy="287280"/>
            <a:chOff x="1547280" y="3933720"/>
            <a:chExt cx="648360" cy="287280"/>
          </a:xfrm>
        </p:grpSpPr>
        <p:sp>
          <p:nvSpPr>
            <p:cNvPr id="624" name="Line 11"/>
            <p:cNvSpPr/>
            <p:nvPr/>
          </p:nvSpPr>
          <p:spPr>
            <a:xfrm flipH="1">
              <a:off x="1547280" y="3933720"/>
              <a:ext cx="57636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2"/>
            <p:cNvSpPr/>
            <p:nvPr/>
          </p:nvSpPr>
          <p:spPr>
            <a:xfrm>
              <a:off x="2124000" y="3933720"/>
              <a:ext cx="7164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20"/>
          <p:cNvGrpSpPr/>
          <p:nvPr/>
        </p:nvGrpSpPr>
        <p:grpSpPr>
          <a:xfrm>
            <a:off x="1619280" y="990720"/>
            <a:ext cx="590040" cy="925200"/>
            <a:chOff x="1619280" y="990720"/>
            <a:chExt cx="590040" cy="925200"/>
          </a:xfrm>
        </p:grpSpPr>
        <p:sp>
          <p:nvSpPr>
            <p:cNvPr id="627" name="Line 13"/>
            <p:cNvSpPr/>
            <p:nvPr/>
          </p:nvSpPr>
          <p:spPr>
            <a:xfrm flipH="1">
              <a:off x="1619280" y="990720"/>
              <a:ext cx="516960" cy="59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4"/>
            <p:cNvSpPr/>
            <p:nvPr/>
          </p:nvSpPr>
          <p:spPr>
            <a:xfrm>
              <a:off x="1619280" y="1586520"/>
              <a:ext cx="590040" cy="329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21"/>
          <p:cNvGrpSpPr/>
          <p:nvPr/>
        </p:nvGrpSpPr>
        <p:grpSpPr>
          <a:xfrm>
            <a:off x="5219640" y="4581360"/>
            <a:ext cx="720720" cy="287640"/>
            <a:chOff x="5219640" y="4581360"/>
            <a:chExt cx="720720" cy="287640"/>
          </a:xfrm>
        </p:grpSpPr>
        <p:sp>
          <p:nvSpPr>
            <p:cNvPr id="630" name="Line 15"/>
            <p:cNvSpPr/>
            <p:nvPr/>
          </p:nvSpPr>
          <p:spPr>
            <a:xfrm>
              <a:off x="5219640" y="4581360"/>
              <a:ext cx="432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16"/>
            <p:cNvSpPr/>
            <p:nvPr/>
          </p:nvSpPr>
          <p:spPr>
            <a:xfrm>
              <a:off x="5651640" y="4581360"/>
              <a:ext cx="288720" cy="28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25"/>
          <p:cNvGrpSpPr/>
          <p:nvPr/>
        </p:nvGrpSpPr>
        <p:grpSpPr>
          <a:xfrm>
            <a:off x="2124000" y="6524640"/>
            <a:ext cx="576360" cy="333360"/>
            <a:chOff x="2124000" y="6524640"/>
            <a:chExt cx="576360" cy="333360"/>
          </a:xfrm>
        </p:grpSpPr>
        <p:sp>
          <p:nvSpPr>
            <p:cNvPr id="633" name="Line 22"/>
            <p:cNvSpPr/>
            <p:nvPr/>
          </p:nvSpPr>
          <p:spPr>
            <a:xfrm>
              <a:off x="2124000" y="6524640"/>
              <a:ext cx="576360" cy="144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24"/>
            <p:cNvSpPr/>
            <p:nvPr/>
          </p:nvSpPr>
          <p:spPr>
            <a:xfrm>
              <a:off x="2700360" y="6669000"/>
              <a:ext cx="0" cy="189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杨圃大桥"/>
          <p:cNvPicPr/>
          <p:nvPr/>
        </p:nvPicPr>
        <p:blipFill>
          <a:blip r:embed="rId2"/>
          <a:stretch/>
        </p:blipFill>
        <p:spPr>
          <a:xfrm>
            <a:off x="0" y="0"/>
            <a:ext cx="9524880" cy="4524480"/>
          </a:xfrm>
          <a:prstGeom prst="rect">
            <a:avLst/>
          </a:prstGeom>
          <a:ln w="0">
            <a:noFill/>
          </a:ln>
        </p:spPr>
      </p:pic>
      <p:sp>
        <p:nvSpPr>
          <p:cNvPr id="636" name="AutoShape 6"/>
          <p:cNvSpPr/>
          <p:nvPr/>
        </p:nvSpPr>
        <p:spPr>
          <a:xfrm>
            <a:off x="1371600" y="2362320"/>
            <a:ext cx="1447920" cy="1066680"/>
          </a:xfrm>
          <a:prstGeom prst="wedgeEllipseCallout">
            <a:avLst>
              <a:gd name="adj1" fmla="val -82236"/>
              <a:gd name="adj2" fmla="val 191370"/>
            </a:avLst>
          </a:pr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12"/>
          <p:cNvGrpSpPr/>
          <p:nvPr/>
        </p:nvGrpSpPr>
        <p:grpSpPr>
          <a:xfrm>
            <a:off x="2057400" y="1371600"/>
            <a:ext cx="1066680" cy="1752480"/>
            <a:chOff x="2057400" y="1371600"/>
            <a:chExt cx="1066680" cy="1752480"/>
          </a:xfrm>
        </p:grpSpPr>
        <p:sp>
          <p:nvSpPr>
            <p:cNvPr id="638" name="AutoShape 7"/>
            <p:cNvSpPr/>
            <p:nvPr/>
          </p:nvSpPr>
          <p:spPr>
            <a:xfrm>
              <a:off x="2057400" y="1371600"/>
              <a:ext cx="1066680" cy="1752480"/>
            </a:xfrm>
            <a:prstGeom prst="rtTriangle">
              <a:avLst/>
            </a:prstGeom>
            <a:solidFill>
              <a:srgbClr val="3333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8"/>
            <p:cNvSpPr/>
            <p:nvPr/>
          </p:nvSpPr>
          <p:spPr>
            <a:xfrm>
              <a:off x="2285640" y="2514600"/>
              <a:ext cx="304560" cy="304920"/>
            </a:xfrm>
            <a:prstGeom prst="ellipse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Group 13"/>
          <p:cNvGrpSpPr/>
          <p:nvPr/>
        </p:nvGrpSpPr>
        <p:grpSpPr>
          <a:xfrm>
            <a:off x="304920" y="4876920"/>
            <a:ext cx="1066680" cy="1752480"/>
            <a:chOff x="304920" y="4876920"/>
            <a:chExt cx="1066680" cy="1752480"/>
          </a:xfrm>
        </p:grpSpPr>
        <p:sp>
          <p:nvSpPr>
            <p:cNvPr id="641" name="Line 10"/>
            <p:cNvSpPr/>
            <p:nvPr/>
          </p:nvSpPr>
          <p:spPr>
            <a:xfrm>
              <a:off x="304920" y="4876920"/>
              <a:ext cx="0" cy="175248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11"/>
            <p:cNvSpPr/>
            <p:nvPr/>
          </p:nvSpPr>
          <p:spPr>
            <a:xfrm>
              <a:off x="304920" y="6629400"/>
              <a:ext cx="1066680" cy="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Group 14"/>
          <p:cNvGrpSpPr/>
          <p:nvPr/>
        </p:nvGrpSpPr>
        <p:grpSpPr>
          <a:xfrm>
            <a:off x="2057400" y="1371600"/>
            <a:ext cx="1066680" cy="1752480"/>
            <a:chOff x="2057400" y="1371600"/>
            <a:chExt cx="1066680" cy="1752480"/>
          </a:xfrm>
        </p:grpSpPr>
        <p:sp>
          <p:nvSpPr>
            <p:cNvPr id="644" name="Line 15"/>
            <p:cNvSpPr/>
            <p:nvPr/>
          </p:nvSpPr>
          <p:spPr>
            <a:xfrm>
              <a:off x="2057400" y="1371600"/>
              <a:ext cx="0" cy="175248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16"/>
            <p:cNvSpPr/>
            <p:nvPr/>
          </p:nvSpPr>
          <p:spPr>
            <a:xfrm>
              <a:off x="2057400" y="3124080"/>
              <a:ext cx="1066680" cy="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AutoShape 17"/>
          <p:cNvSpPr/>
          <p:nvPr/>
        </p:nvSpPr>
        <p:spPr>
          <a:xfrm>
            <a:off x="5105520" y="2438280"/>
            <a:ext cx="1447560" cy="1067040"/>
          </a:xfrm>
          <a:prstGeom prst="wedgeEllipseCallout">
            <a:avLst>
              <a:gd name="adj1" fmla="val -82236"/>
              <a:gd name="adj2" fmla="val 191370"/>
            </a:avLst>
          </a:pr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Group 18"/>
          <p:cNvGrpSpPr/>
          <p:nvPr/>
        </p:nvGrpSpPr>
        <p:grpSpPr>
          <a:xfrm>
            <a:off x="5334120" y="1295280"/>
            <a:ext cx="1066680" cy="1752480"/>
            <a:chOff x="5334120" y="1295280"/>
            <a:chExt cx="1066680" cy="1752480"/>
          </a:xfrm>
        </p:grpSpPr>
        <p:sp>
          <p:nvSpPr>
            <p:cNvPr id="648" name="AutoShape 19"/>
            <p:cNvSpPr/>
            <p:nvPr/>
          </p:nvSpPr>
          <p:spPr>
            <a:xfrm>
              <a:off x="5334120" y="1295280"/>
              <a:ext cx="1066680" cy="1752480"/>
            </a:xfrm>
            <a:prstGeom prst="rtTriangle">
              <a:avLst/>
            </a:prstGeom>
            <a:solidFill>
              <a:srgbClr val="3333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20"/>
            <p:cNvSpPr/>
            <p:nvPr/>
          </p:nvSpPr>
          <p:spPr>
            <a:xfrm>
              <a:off x="5562360" y="2438280"/>
              <a:ext cx="304560" cy="304920"/>
            </a:xfrm>
            <a:prstGeom prst="ellipse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 21"/>
          <p:cNvGrpSpPr/>
          <p:nvPr/>
        </p:nvGrpSpPr>
        <p:grpSpPr>
          <a:xfrm>
            <a:off x="2057400" y="1371600"/>
            <a:ext cx="1066680" cy="1752480"/>
            <a:chOff x="2057400" y="1371600"/>
            <a:chExt cx="1066680" cy="1752480"/>
          </a:xfrm>
        </p:grpSpPr>
        <p:sp>
          <p:nvSpPr>
            <p:cNvPr id="651" name="Line 22"/>
            <p:cNvSpPr/>
            <p:nvPr/>
          </p:nvSpPr>
          <p:spPr>
            <a:xfrm>
              <a:off x="2057400" y="1371600"/>
              <a:ext cx="0" cy="175248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23"/>
            <p:cNvSpPr/>
            <p:nvPr/>
          </p:nvSpPr>
          <p:spPr>
            <a:xfrm>
              <a:off x="2057400" y="3124080"/>
              <a:ext cx="1066680" cy="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Group 26"/>
          <p:cNvGrpSpPr/>
          <p:nvPr/>
        </p:nvGrpSpPr>
        <p:grpSpPr>
          <a:xfrm>
            <a:off x="5334120" y="2209680"/>
            <a:ext cx="1523880" cy="838080"/>
            <a:chOff x="5334120" y="2209680"/>
            <a:chExt cx="1523880" cy="838080"/>
          </a:xfrm>
        </p:grpSpPr>
        <p:sp>
          <p:nvSpPr>
            <p:cNvPr id="654" name="Line 24"/>
            <p:cNvSpPr/>
            <p:nvPr/>
          </p:nvSpPr>
          <p:spPr>
            <a:xfrm>
              <a:off x="5334120" y="3047760"/>
              <a:ext cx="1523880" cy="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25"/>
            <p:cNvSpPr/>
            <p:nvPr/>
          </p:nvSpPr>
          <p:spPr>
            <a:xfrm flipV="1">
              <a:off x="5334120" y="2209680"/>
              <a:ext cx="1219320" cy="8380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Group 27"/>
          <p:cNvGrpSpPr/>
          <p:nvPr/>
        </p:nvGrpSpPr>
        <p:grpSpPr>
          <a:xfrm>
            <a:off x="2743200" y="5181480"/>
            <a:ext cx="1752120" cy="1142640"/>
            <a:chOff x="2743200" y="5181480"/>
            <a:chExt cx="1752120" cy="1142640"/>
          </a:xfrm>
        </p:grpSpPr>
        <p:sp>
          <p:nvSpPr>
            <p:cNvPr id="657" name="Line 28"/>
            <p:cNvSpPr/>
            <p:nvPr/>
          </p:nvSpPr>
          <p:spPr>
            <a:xfrm>
              <a:off x="2743200" y="6324120"/>
              <a:ext cx="1752120" cy="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29"/>
            <p:cNvSpPr/>
            <p:nvPr/>
          </p:nvSpPr>
          <p:spPr>
            <a:xfrm flipV="1">
              <a:off x="2743200" y="5181480"/>
              <a:ext cx="1401840" cy="11426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AutoShape 31"/>
          <p:cNvSpPr/>
          <p:nvPr/>
        </p:nvSpPr>
        <p:spPr>
          <a:xfrm>
            <a:off x="4572000" y="1752480"/>
            <a:ext cx="2209680" cy="2057400"/>
          </a:xfrm>
          <a:prstGeom prst="wedgeEllipseCallout">
            <a:avLst>
              <a:gd name="adj1" fmla="val 75217"/>
              <a:gd name="adj2" fmla="val 123300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Group 38"/>
          <p:cNvGrpSpPr/>
          <p:nvPr/>
        </p:nvGrpSpPr>
        <p:grpSpPr>
          <a:xfrm>
            <a:off x="3733920" y="1981080"/>
            <a:ext cx="3504600" cy="1066680"/>
            <a:chOff x="3733920" y="1981080"/>
            <a:chExt cx="3504600" cy="1066680"/>
          </a:xfrm>
        </p:grpSpPr>
        <p:sp>
          <p:nvSpPr>
            <p:cNvPr id="661" name="Line 32"/>
            <p:cNvSpPr/>
            <p:nvPr/>
          </p:nvSpPr>
          <p:spPr>
            <a:xfrm>
              <a:off x="3733920" y="1981080"/>
              <a:ext cx="1557360" cy="10666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33"/>
            <p:cNvSpPr/>
            <p:nvPr/>
          </p:nvSpPr>
          <p:spPr>
            <a:xfrm>
              <a:off x="5291280" y="3047760"/>
              <a:ext cx="194724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Group 39"/>
          <p:cNvGrpSpPr/>
          <p:nvPr/>
        </p:nvGrpSpPr>
        <p:grpSpPr>
          <a:xfrm>
            <a:off x="5715000" y="5157720"/>
            <a:ext cx="3177720" cy="935280"/>
            <a:chOff x="5715000" y="5157720"/>
            <a:chExt cx="3177720" cy="935280"/>
          </a:xfrm>
        </p:grpSpPr>
        <p:sp>
          <p:nvSpPr>
            <p:cNvPr id="664" name="Line 40"/>
            <p:cNvSpPr/>
            <p:nvPr/>
          </p:nvSpPr>
          <p:spPr>
            <a:xfrm>
              <a:off x="5715000" y="5157720"/>
              <a:ext cx="1412280" cy="93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41"/>
            <p:cNvSpPr/>
            <p:nvPr/>
          </p:nvSpPr>
          <p:spPr>
            <a:xfrm>
              <a:off x="7127280" y="6093000"/>
              <a:ext cx="1765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Text Box 42"/>
          <p:cNvSpPr/>
          <p:nvPr/>
        </p:nvSpPr>
        <p:spPr>
          <a:xfrm>
            <a:off x="1371600" y="5791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直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43"/>
          <p:cNvSpPr/>
          <p:nvPr/>
        </p:nvSpPr>
        <p:spPr>
          <a:xfrm>
            <a:off x="4572000" y="5638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锐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44"/>
          <p:cNvSpPr/>
          <p:nvPr/>
        </p:nvSpPr>
        <p:spPr>
          <a:xfrm>
            <a:off x="6934320" y="6216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钝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418160" cy="4464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24000" y="685440"/>
            <a:ext cx="230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波兰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6443640" y="5075280"/>
            <a:ext cx="2376360" cy="17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2160720" y="1484280"/>
            <a:ext cx="5113080" cy="136836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708360" y="4365720"/>
            <a:ext cx="93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332000" y="3500280"/>
            <a:ext cx="619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红领巾上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（     ）角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（     ）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076720" y="35002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92360" y="4221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4253040" y="32004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ff"/>
                </a:solidFill>
                <a:latin typeface="Arial"/>
              </a:rPr>
              <a:t>请用一张圆形的纸片创造出一个角，并说说是什么角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82080" cy="708660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>
            <a:off x="4784760" y="4516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268360" y="1341360"/>
            <a:ext cx="2087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692360" y="1125360"/>
            <a:ext cx="691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游戏一、    </a:t>
            </a:r>
            <a:r>
              <a:rPr b="1" lang="zh-CN" sz="4400" spc="-1" strike="noStrike">
                <a:solidFill>
                  <a:srgbClr val="d60093"/>
                </a:solidFill>
                <a:latin typeface="Arial"/>
                <a:ea typeface="楷体_GB2312"/>
              </a:rPr>
              <a:t>同学们，你们能利用身边的东西创造角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692360" y="400536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要求：用不同的方法创造一个锐角、一个直角、一个钝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5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82080" cy="70866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>
            <a:off x="2340000" y="2781360"/>
            <a:ext cx="574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楷体"/>
              </a:rPr>
              <a:t>用你的四肢表示出直角、锐角和钝角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133720" y="1828800"/>
            <a:ext cx="1717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700360" y="192240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游戏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85680" y="0"/>
            <a:ext cx="9982080" cy="708660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/>
          <p:nvPr/>
        </p:nvSpPr>
        <p:spPr>
          <a:xfrm>
            <a:off x="4067280" y="2637000"/>
            <a:ext cx="4848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cc66ff"/>
                </a:solidFill>
                <a:latin typeface="华文楷体"/>
                <a:ea typeface="华文楷体"/>
              </a:rPr>
              <a:t>这个角是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ff"/>
                </a:solidFill>
                <a:latin typeface="华文楷体"/>
                <a:ea typeface="华文楷体"/>
              </a:rPr>
              <a:t>                             </a:t>
            </a:r>
            <a:r>
              <a:rPr b="1" lang="en-US" sz="3600" spc="-1" strike="noStrike">
                <a:solidFill>
                  <a:srgbClr val="cc66ff"/>
                </a:solidFill>
                <a:latin typeface="华文楷体"/>
                <a:ea typeface="华文楷体"/>
              </a:rPr>
              <a:t>1.</a:t>
            </a:r>
            <a:r>
              <a:rPr b="1" lang="zh-CN" sz="3600" spc="-1" strike="noStrike">
                <a:solidFill>
                  <a:srgbClr val="cc66ff"/>
                </a:solidFill>
                <a:latin typeface="华文楷体"/>
                <a:ea typeface="华文楷体"/>
              </a:rPr>
              <a:t>钝角 </a:t>
            </a:r>
            <a:r>
              <a:rPr b="1" lang="en-US" sz="3600" spc="-1" strike="noStrike">
                <a:solidFill>
                  <a:srgbClr val="cc66ff"/>
                </a:solidFill>
                <a:latin typeface="华文楷体"/>
                <a:ea typeface="华文楷体"/>
              </a:rPr>
              <a:t>2.</a:t>
            </a:r>
            <a:r>
              <a:rPr b="1" lang="zh-CN" sz="3600" spc="-1" strike="noStrike">
                <a:solidFill>
                  <a:srgbClr val="cc66ff"/>
                </a:solidFill>
                <a:latin typeface="华文楷体"/>
                <a:ea typeface="华文楷体"/>
              </a:rPr>
              <a:t>锐角 </a:t>
            </a:r>
            <a:r>
              <a:rPr b="1" lang="en-US" sz="3600" spc="-1" strike="noStrike">
                <a:solidFill>
                  <a:srgbClr val="cc66ff"/>
                </a:solidFill>
                <a:latin typeface="华文楷体"/>
                <a:ea typeface="华文楷体"/>
              </a:rPr>
              <a:t>3.</a:t>
            </a:r>
            <a:r>
              <a:rPr b="1" lang="zh-CN" sz="3600" spc="-1" strike="noStrike">
                <a:solidFill>
                  <a:srgbClr val="cc66ff"/>
                </a:solidFill>
                <a:latin typeface="华文楷体"/>
                <a:ea typeface="华文楷体"/>
              </a:rPr>
              <a:t>直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484360" y="1628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认一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2960640" y="2565360"/>
            <a:ext cx="1106280" cy="825120"/>
            <a:chOff x="2960640" y="2565360"/>
            <a:chExt cx="1106280" cy="825120"/>
          </a:xfrm>
        </p:grpSpPr>
        <p:sp>
          <p:nvSpPr>
            <p:cNvPr id="688" name=""/>
            <p:cNvSpPr/>
            <p:nvPr/>
          </p:nvSpPr>
          <p:spPr>
            <a:xfrm>
              <a:off x="2960640" y="3390480"/>
              <a:ext cx="1106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2960640" y="2565360"/>
              <a:ext cx="691200" cy="825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7524720" y="263700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82080" cy="708660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1908000" y="2924280"/>
            <a:ext cx="684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572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3399ff"/>
                </a:solidFill>
                <a:latin typeface="Arial"/>
              </a:rPr>
              <a:t>直角比钝角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3399ff"/>
                </a:solidFill>
                <a:latin typeface="Arial"/>
              </a:rPr>
              <a:t>大   </a:t>
            </a: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3399ff"/>
                </a:solidFill>
                <a:latin typeface="Arial"/>
              </a:rPr>
              <a:t>小  </a:t>
            </a: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3399ff"/>
                </a:solidFill>
                <a:latin typeface="Arial"/>
              </a:rPr>
              <a:t>一样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268360" y="1557360"/>
            <a:ext cx="25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</a:rPr>
              <a:t>比一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580000" y="2421000"/>
            <a:ext cx="57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82080" cy="708660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2195640" y="1916280"/>
            <a:ext cx="6337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3399ff"/>
                </a:solidFill>
                <a:latin typeface="华文楷体"/>
                <a:ea typeface="华文楷体"/>
              </a:rPr>
              <a:t>所有的锐角都一样大</a:t>
            </a:r>
            <a:r>
              <a:rPr b="1" lang="en-US" sz="3600" spc="-1" strike="noStrike">
                <a:solidFill>
                  <a:srgbClr val="3399ff"/>
                </a:solidFill>
                <a:latin typeface="华文楷体"/>
                <a:ea typeface="华文楷体"/>
              </a:rPr>
              <a:t>(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华文楷体"/>
                <a:ea typeface="华文楷体"/>
              </a:rPr>
              <a:t> </a:t>
            </a:r>
            <a:r>
              <a:rPr b="1" lang="zh-CN" sz="3600" spc="-1" strike="noStrike">
                <a:solidFill>
                  <a:srgbClr val="3399ff"/>
                </a:solidFill>
                <a:latin typeface="华文楷体"/>
                <a:ea typeface="华文楷体"/>
              </a:rPr>
              <a:t>所有的钝角都一样大</a:t>
            </a:r>
            <a:r>
              <a:rPr b="1" lang="en-US" sz="3600" spc="-1" strike="noStrike">
                <a:solidFill>
                  <a:srgbClr val="3399ff"/>
                </a:solidFill>
                <a:latin typeface="华文楷体"/>
                <a:ea typeface="华文楷体"/>
              </a:rPr>
              <a:t>(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华文楷体"/>
                <a:ea typeface="华文楷体"/>
              </a:rPr>
              <a:t> </a:t>
            </a:r>
            <a:r>
              <a:rPr b="1" lang="zh-CN" sz="3600" spc="-1" strike="noStrike">
                <a:solidFill>
                  <a:srgbClr val="3399ff"/>
                </a:solidFill>
                <a:latin typeface="华文楷体"/>
                <a:ea typeface="华文楷体"/>
              </a:rPr>
              <a:t>所有的直角都一样大</a:t>
            </a:r>
            <a:r>
              <a:rPr b="1" lang="en-US" sz="3600" spc="-1" strike="noStrike">
                <a:solidFill>
                  <a:srgbClr val="3399ff"/>
                </a:solidFill>
                <a:latin typeface="华文楷体"/>
                <a:ea typeface="华文楷体"/>
              </a:rPr>
              <a:t>(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050920" y="1341360"/>
            <a:ext cx="2016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议一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7451640" y="213372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451640" y="2924280"/>
            <a:ext cx="43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451640" y="378936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82080" cy="7086600"/>
          </a:xfrm>
          <a:prstGeom prst="rect">
            <a:avLst/>
          </a:prstGeom>
          <a:ln w="0">
            <a:noFill/>
          </a:ln>
        </p:spPr>
      </p:pic>
      <p:sp>
        <p:nvSpPr>
          <p:cNvPr id="702" name=""/>
          <p:cNvSpPr/>
          <p:nvPr/>
        </p:nvSpPr>
        <p:spPr>
          <a:xfrm>
            <a:off x="2484360" y="256536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华文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画一个自己喜欢的角，并且写上它的名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762640" y="1413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游戏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5" name="文本占位符 2" descr=""/>
          <p:cNvPicPr/>
          <p:nvPr/>
        </p:nvPicPr>
        <p:blipFill>
          <a:blip r:embed="rId1"/>
          <a:stretch/>
        </p:blipFill>
        <p:spPr>
          <a:xfrm>
            <a:off x="-25560" y="1440"/>
            <a:ext cx="9169560" cy="681228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3436920" y="1779480"/>
            <a:ext cx="86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设计要求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用直角、锐角和钝角以及所学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图形设计一幅美丽的图案。先构思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再动手画，比一比，谁画的图案最美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并给自己的画取一个好听的名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1981080" y="838080"/>
            <a:ext cx="3657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楷体_GB2312"/>
              </a:rPr>
              <a:t>小小设计师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3" dur="20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6" dur="2000"/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9" dur="2000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2" dur="2000"/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5" dur="2000"/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 txBox="1"/>
          <p:nvPr/>
        </p:nvSpPr>
        <p:spPr>
          <a:xfrm>
            <a:off x="2843280" y="1197000"/>
            <a:ext cx="3581280" cy="10191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5840">
                  <a:solidFill>
                    <a:srgbClr val="3333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画   角</a:t>
            </a:r>
            <a:endParaRPr b="1" lang="en-US" sz="8000" spc="1" strike="noStrike">
              <a:ln w="15840">
                <a:solidFill>
                  <a:srgbClr val="3333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250920" y="1387440"/>
            <a:ext cx="2592360" cy="2665440"/>
            <a:chOff x="250920" y="1387440"/>
            <a:chExt cx="2592360" cy="2665440"/>
          </a:xfrm>
        </p:grpSpPr>
        <p:sp>
          <p:nvSpPr>
            <p:cNvPr id="710" name=""/>
            <p:cNvSpPr/>
            <p:nvPr/>
          </p:nvSpPr>
          <p:spPr>
            <a:xfrm>
              <a:off x="1258920" y="1387440"/>
              <a:ext cx="647640" cy="647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619280" y="2252520"/>
              <a:ext cx="0" cy="79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969840" y="2252520"/>
              <a:ext cx="36036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970200" y="2611440"/>
              <a:ext cx="7272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762200" y="2252520"/>
              <a:ext cx="36036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2122560" y="2252520"/>
              <a:ext cx="64764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762200" y="3044880"/>
              <a:ext cx="57636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338560" y="3332160"/>
              <a:ext cx="50472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969840" y="3116160"/>
              <a:ext cx="36036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 flipV="1">
              <a:off x="250920" y="3331800"/>
              <a:ext cx="71928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" descr=""/>
          <p:cNvPicPr/>
          <p:nvPr/>
        </p:nvPicPr>
        <p:blipFill>
          <a:blip r:embed="rId2"/>
          <a:stretch/>
        </p:blipFill>
        <p:spPr>
          <a:xfrm>
            <a:off x="324000" y="3851280"/>
            <a:ext cx="1858680" cy="2127240"/>
          </a:xfrm>
          <a:prstGeom prst="rect">
            <a:avLst/>
          </a:prstGeom>
          <a:ln w="0">
            <a:noFill/>
          </a:ln>
        </p:spPr>
      </p:pic>
      <p:grpSp>
        <p:nvGrpSpPr>
          <p:cNvPr id="721" name=""/>
          <p:cNvGrpSpPr/>
          <p:nvPr/>
        </p:nvGrpSpPr>
        <p:grpSpPr>
          <a:xfrm>
            <a:off x="3132000" y="3684600"/>
            <a:ext cx="1511280" cy="2293920"/>
            <a:chOff x="3132000" y="3684600"/>
            <a:chExt cx="1511280" cy="2293920"/>
          </a:xfrm>
        </p:grpSpPr>
        <p:sp>
          <p:nvSpPr>
            <p:cNvPr id="722" name=""/>
            <p:cNvSpPr/>
            <p:nvPr/>
          </p:nvSpPr>
          <p:spPr>
            <a:xfrm flipV="1">
              <a:off x="3995640" y="4549680"/>
              <a:ext cx="647640" cy="43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3132000" y="3684600"/>
              <a:ext cx="1225440" cy="2293920"/>
              <a:chOff x="3132000" y="3684600"/>
              <a:chExt cx="1225440" cy="2293920"/>
            </a:xfrm>
          </p:grpSpPr>
          <p:sp>
            <p:nvSpPr>
              <p:cNvPr id="724" name=""/>
              <p:cNvSpPr/>
              <p:nvPr/>
            </p:nvSpPr>
            <p:spPr>
              <a:xfrm>
                <a:off x="3132000" y="3684600"/>
                <a:ext cx="647640" cy="647640"/>
              </a:xfrm>
              <a:prstGeom prst="ellipse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492360" y="4549680"/>
                <a:ext cx="0" cy="792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635280" y="4549680"/>
                <a:ext cx="360360" cy="432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635280" y="5342040"/>
                <a:ext cx="7221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357440" y="5342040"/>
                <a:ext cx="0" cy="6364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71280" y="-900000"/>
            <a:ext cx="9144000" cy="7758000"/>
            <a:chOff x="71280" y="-900000"/>
            <a:chExt cx="9144000" cy="7758000"/>
          </a:xfrm>
        </p:grpSpPr>
        <p:pic>
          <p:nvPicPr>
            <p:cNvPr id="730" name="" descr=""/>
            <p:cNvPicPr/>
            <p:nvPr/>
          </p:nvPicPr>
          <p:blipFill>
            <a:blip r:embed="rId3"/>
            <a:stretch/>
          </p:blipFill>
          <p:spPr>
            <a:xfrm>
              <a:off x="71280" y="-900000"/>
              <a:ext cx="9144000" cy="77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6108480" y="1717200"/>
              <a:ext cx="620640" cy="64728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453720" y="2581920"/>
              <a:ext cx="0" cy="791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5574240" y="3373920"/>
              <a:ext cx="809280" cy="365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574240" y="3739320"/>
              <a:ext cx="483480" cy="72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503760" y="3432960"/>
              <a:ext cx="450360" cy="617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6954120" y="3569400"/>
              <a:ext cx="688680" cy="458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6503760" y="1970640"/>
              <a:ext cx="847440" cy="610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5573880" y="2139120"/>
              <a:ext cx="879480" cy="442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WordArt 4"/>
          <p:cNvSpPr txBox="1"/>
          <p:nvPr/>
        </p:nvSpPr>
        <p:spPr>
          <a:xfrm>
            <a:off x="826920" y="333360"/>
            <a:ext cx="4608720" cy="129528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动一动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27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40" name="Text Box 5"/>
          <p:cNvSpPr/>
          <p:nvPr/>
        </p:nvSpPr>
        <p:spPr>
          <a:xfrm>
            <a:off x="1042920" y="1916280"/>
            <a:ext cx="705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华文中宋"/>
              </a:rPr>
              <a:t>      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华文中宋"/>
              </a:rPr>
              <a:t>伸出你的两臂，用姿势表示一个角吧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187280" y="312840"/>
            <a:ext cx="6934320" cy="477180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122560" y="5229360"/>
            <a:ext cx="244944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意大利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800680" y="5229360"/>
            <a:ext cx="1228680" cy="13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 rot="19638600">
            <a:off x="6443280" y="472392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7775280" cy="4174920"/>
          </a:xfrm>
          <a:prstGeom prst="rect">
            <a:avLst/>
          </a:prstGeom>
          <a:ln w="0">
            <a:noFill/>
          </a:ln>
        </p:spPr>
      </p:pic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484600" y="685440"/>
            <a:ext cx="297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韩国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6443640" y="507528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7848360" cy="4549680"/>
          </a:xfrm>
          <a:prstGeom prst="rect">
            <a:avLst/>
          </a:prstGeom>
          <a:ln w="0">
            <a:noFill/>
          </a:ln>
        </p:spPr>
      </p:pic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148000" y="907560"/>
            <a:ext cx="309564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德国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632720" cy="5403960"/>
          </a:xfrm>
          <a:prstGeom prst="rect">
            <a:avLst/>
          </a:prstGeom>
          <a:ln w="0">
            <a:noFill/>
          </a:ln>
        </p:spPr>
      </p:pic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203640" y="907560"/>
            <a:ext cx="283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马来西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179280" y="4773600"/>
            <a:ext cx="2109960" cy="20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343640" cy="3997440"/>
          </a:xfrm>
          <a:prstGeom prst="rect">
            <a:avLst/>
          </a:prstGeom>
          <a:ln w="0">
            <a:noFill/>
          </a:ln>
        </p:spPr>
      </p:pic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932000" y="836280"/>
            <a:ext cx="309564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俄罗斯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2"/>
          <a:stretch/>
        </p:blipFill>
        <p:spPr>
          <a:xfrm>
            <a:off x="6372360" y="4797360"/>
            <a:ext cx="2376360" cy="178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2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704000" cy="393372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476360" y="4724280"/>
            <a:ext cx="319104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</a:rPr>
              <a:t>国家电网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2"/>
          <a:stretch/>
        </p:blipFill>
        <p:spPr>
          <a:xfrm>
            <a:off x="5845320" y="4483080"/>
            <a:ext cx="1814400" cy="19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" descr=""/>
          <p:cNvPicPr/>
          <p:nvPr/>
        </p:nvPicPr>
        <p:blipFill>
          <a:blip r:embed="rId1"/>
          <a:stretch/>
        </p:blipFill>
        <p:spPr>
          <a:xfrm rot="17559000">
            <a:off x="4514040" y="54360"/>
            <a:ext cx="2374920" cy="178308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7848720" cy="44434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702400" y="4712760"/>
            <a:ext cx="283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加拿大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82080" cy="7086600"/>
          </a:xfrm>
          <a:prstGeom prst="rect">
            <a:avLst/>
          </a:prstGeom>
          <a:ln w="0">
            <a:noFill/>
          </a:ln>
        </p:spPr>
      </p:pic>
      <p:sp>
        <p:nvSpPr>
          <p:cNvPr id="760" name=""/>
          <p:cNvSpPr/>
          <p:nvPr/>
        </p:nvSpPr>
        <p:spPr>
          <a:xfrm>
            <a:off x="5940360" y="4869000"/>
            <a:ext cx="223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0066"/>
                </a:solidFill>
                <a:uFillTx/>
                <a:latin typeface="Arial"/>
                <a:hlinkClick r:id="rId3" action="ppaction://hlinksldjump"/>
              </a:rPr>
              <a:t>● </a:t>
            </a:r>
            <a:r>
              <a:rPr b="1" lang="zh-CN" sz="1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博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132000" y="4941720"/>
            <a:ext cx="16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0066"/>
                </a:solidFill>
                <a:uFillTx/>
                <a:latin typeface="Arial"/>
                <a:hlinkClick r:id="rId4" action="ppaction://hlinksldjump"/>
              </a:rPr>
              <a:t>●</a:t>
            </a:r>
            <a:r>
              <a:rPr b="1" lang="zh-CN" sz="18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画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940360" y="3645000"/>
            <a:ext cx="16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0066"/>
                </a:solidFill>
                <a:uFillTx/>
                <a:latin typeface="Arial"/>
                <a:hlinkClick r:id="rId5" action="ppaction://hlinksldjump"/>
              </a:rPr>
              <a:t>● </a:t>
            </a:r>
            <a:r>
              <a:rPr b="1" lang="zh-CN" sz="18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法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059280" y="3716280"/>
            <a:ext cx="151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0066"/>
                </a:solidFill>
                <a:uFillTx/>
                <a:latin typeface="Arial"/>
                <a:hlinkClick r:id="rId6" action="ppaction://hlinksldjump"/>
              </a:rPr>
              <a:t>●</a:t>
            </a:r>
            <a:r>
              <a:rPr b="1" lang="zh-CN" sz="18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医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943600" y="2438280"/>
            <a:ext cx="186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0066"/>
                </a:solidFill>
                <a:uFillTx/>
                <a:latin typeface="Arial"/>
                <a:hlinkClick r:id="rId7" action="ppaction://hlinksldjump"/>
              </a:rPr>
              <a:t>●</a:t>
            </a:r>
            <a:r>
              <a:rPr b="1" lang="zh-CN" sz="18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演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>
            <a:hlinkClick r:id="rId8" action="ppaction://hlinksldjump"/>
          </p:cNvPr>
          <p:cNvSpPr/>
          <p:nvPr/>
        </p:nvSpPr>
        <p:spPr>
          <a:xfrm>
            <a:off x="3124080" y="1219320"/>
            <a:ext cx="4343400" cy="642600"/>
          </a:xfrm>
          <a:prstGeom prst="rect">
            <a:avLst/>
          </a:prstGeom>
          <a:noFill/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你长大了相当什么</a:t>
            </a:r>
            <a:r>
              <a:rPr b="1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59280" y="249228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0066"/>
                </a:solidFill>
                <a:uFillTx/>
                <a:latin typeface="Arial"/>
                <a:hlinkClick r:id="rId9" action="ppaction://hlinksldjump"/>
              </a:rPr>
              <a:t>●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明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-2232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 rot="21120000">
            <a:off x="1116000" y="1844280"/>
            <a:ext cx="497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ff"/>
                </a:solidFill>
                <a:latin typeface="Arial"/>
                <a:ea typeface="隶书"/>
              </a:rPr>
              <a:t>锐角和钝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81080" y="46656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Arial"/>
              </a:rPr>
              <a:t>人教版二年级下册数学第三单元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170760" y="5176800"/>
            <a:ext cx="228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汪沟中心小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</a:t>
            </a:r>
            <a:r>
              <a:rPr b="1" lang="zh-CN" sz="1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刘中花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01</a:t>
            </a:r>
            <a:r>
              <a:rPr b="1" lang="en-US" sz="1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</a:t>
            </a:r>
            <a:r>
              <a:rPr b="1" lang="zh-CN" sz="1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年</a:t>
            </a:r>
            <a:r>
              <a:rPr b="1" lang="en-US" sz="1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月</a:t>
            </a:r>
            <a:r>
              <a:rPr b="1" lang="en-US" sz="1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8</a:t>
            </a:r>
            <a:r>
              <a:rPr b="1" lang="zh-CN" sz="1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36360" y="4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 flipV="1">
            <a:off x="2773440" y="1700280"/>
            <a:ext cx="3384360" cy="1195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773440" y="2895480"/>
            <a:ext cx="3095640" cy="1470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422880" y="3327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718440" y="1882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856520" y="2606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顶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771640" y="2824200"/>
            <a:ext cx="1461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044720" y="465300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Arial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  <a:ea typeface="楷体_GB2312"/>
              </a:rPr>
              <a:t>角的大小与（             ）无关，与（                        ）有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429080" y="465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两边的长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917800" y="5384880"/>
            <a:ext cx="34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两边张开的大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2754360" cy="17953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1933560" y="3279600"/>
            <a:ext cx="2971800" cy="19116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3726000" y="4869000"/>
            <a:ext cx="2666880" cy="20430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824040" y="476280"/>
            <a:ext cx="850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瀹嬩綋"/>
              </a:rPr>
              <a:t>你能说出它们分别有几个角组成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356000" y="1757520"/>
            <a:ext cx="337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20800"/>
                </a:solidFill>
                <a:latin typeface="Arial"/>
              </a:rPr>
              <a:t>有</a:t>
            </a:r>
            <a:r>
              <a:rPr b="0" lang="zh-CN" sz="4000" spc="-1" strike="noStrike">
                <a:solidFill>
                  <a:srgbClr val="3208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320800"/>
                </a:solidFill>
                <a:latin typeface="Arial"/>
              </a:rPr>
              <a:t>个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6720" y="3630600"/>
            <a:ext cx="337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20800"/>
                </a:solidFill>
                <a:latin typeface="Arial"/>
              </a:rPr>
              <a:t>有</a:t>
            </a:r>
            <a:r>
              <a:rPr b="0" lang="zh-CN" sz="4000" spc="-1" strike="noStrike">
                <a:solidFill>
                  <a:srgbClr val="3208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320800"/>
                </a:solidFill>
                <a:latin typeface="Arial"/>
              </a:rPr>
              <a:t>个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92880" y="5518080"/>
            <a:ext cx="337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20800"/>
                </a:solidFill>
                <a:latin typeface="Arial"/>
              </a:rPr>
              <a:t>有</a:t>
            </a:r>
            <a:r>
              <a:rPr b="0" lang="zh-CN" sz="4000" spc="-1" strike="noStrike">
                <a:solidFill>
                  <a:srgbClr val="3208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320800"/>
                </a:solidFill>
                <a:latin typeface="Arial"/>
              </a:rPr>
              <a:t>个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0" y="-54000"/>
            <a:ext cx="9217080" cy="6912000"/>
          </a:xfrm>
          <a:prstGeom prst="rect">
            <a:avLst/>
          </a:prstGeom>
          <a:ln w="0">
            <a:noFill/>
          </a:ln>
        </p:spPr>
      </p:pic>
      <p:grpSp>
        <p:nvGrpSpPr>
          <p:cNvPr id="349" name=""/>
          <p:cNvGrpSpPr/>
          <p:nvPr/>
        </p:nvGrpSpPr>
        <p:grpSpPr>
          <a:xfrm>
            <a:off x="3276360" y="2920320"/>
            <a:ext cx="2057400" cy="1567080"/>
            <a:chOff x="3276360" y="2920320"/>
            <a:chExt cx="2057400" cy="1567080"/>
          </a:xfrm>
        </p:grpSpPr>
        <p:sp>
          <p:nvSpPr>
            <p:cNvPr id="350" name=""/>
            <p:cNvSpPr/>
            <p:nvPr/>
          </p:nvSpPr>
          <p:spPr>
            <a:xfrm flipH="1" flipV="1">
              <a:off x="3276360" y="2920320"/>
              <a:ext cx="1494360" cy="28188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771080" y="3202560"/>
              <a:ext cx="562680" cy="128484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867000" y="2821680"/>
            <a:ext cx="1195920" cy="1306800"/>
            <a:chOff x="6867000" y="2821680"/>
            <a:chExt cx="1195920" cy="1306800"/>
          </a:xfrm>
        </p:grpSpPr>
        <p:sp>
          <p:nvSpPr>
            <p:cNvPr id="353" name=""/>
            <p:cNvSpPr/>
            <p:nvPr/>
          </p:nvSpPr>
          <p:spPr>
            <a:xfrm>
              <a:off x="6896160" y="3401640"/>
              <a:ext cx="1166760" cy="72684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867000" y="2821680"/>
              <a:ext cx="1131480" cy="60444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6948360" y="4437000"/>
            <a:ext cx="9493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851280" y="4292640"/>
            <a:ext cx="9493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919760" y="549360"/>
            <a:ext cx="1440" cy="129528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532320" y="1844640"/>
            <a:ext cx="138744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50840" y="638280"/>
            <a:ext cx="2647080" cy="1010520"/>
            <a:chOff x="150840" y="638280"/>
            <a:chExt cx="2647080" cy="1010520"/>
          </a:xfrm>
        </p:grpSpPr>
        <p:sp>
          <p:nvSpPr>
            <p:cNvPr id="360" name=""/>
            <p:cNvSpPr/>
            <p:nvPr/>
          </p:nvSpPr>
          <p:spPr>
            <a:xfrm flipV="1">
              <a:off x="1496160" y="638280"/>
              <a:ext cx="1301760" cy="101052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150840" y="694440"/>
              <a:ext cx="1354320" cy="93132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6456240" y="404640"/>
            <a:ext cx="1604880" cy="1440000"/>
            <a:chOff x="6456240" y="404640"/>
            <a:chExt cx="1604880" cy="1440000"/>
          </a:xfrm>
        </p:grpSpPr>
        <p:sp>
          <p:nvSpPr>
            <p:cNvPr id="363" name=""/>
            <p:cNvSpPr/>
            <p:nvPr/>
          </p:nvSpPr>
          <p:spPr>
            <a:xfrm flipV="1">
              <a:off x="6468840" y="404640"/>
              <a:ext cx="0" cy="144000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456240" y="404640"/>
              <a:ext cx="1604880" cy="28728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1117440" y="2205000"/>
            <a:ext cx="9464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708360" y="2133720"/>
            <a:ext cx="946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1258920" y="2781000"/>
            <a:ext cx="1458720" cy="1441080"/>
            <a:chOff x="1258920" y="2781000"/>
            <a:chExt cx="1458720" cy="1441080"/>
          </a:xfrm>
        </p:grpSpPr>
        <p:sp>
          <p:nvSpPr>
            <p:cNvPr id="368" name=""/>
            <p:cNvSpPr/>
            <p:nvPr/>
          </p:nvSpPr>
          <p:spPr>
            <a:xfrm flipH="1" flipV="1">
              <a:off x="1288800" y="2781000"/>
              <a:ext cx="42480" cy="144108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258920" y="2781360"/>
              <a:ext cx="145872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1258920" y="4437000"/>
            <a:ext cx="8762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659640" y="2060640"/>
            <a:ext cx="946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0" y="-54000"/>
            <a:ext cx="9217080" cy="6912000"/>
          </a:xfrm>
          <a:prstGeom prst="rect">
            <a:avLst/>
          </a:prstGeom>
          <a:ln w="0">
            <a:noFill/>
          </a:ln>
        </p:spPr>
      </p:pic>
      <p:grpSp>
        <p:nvGrpSpPr>
          <p:cNvPr id="373" name=""/>
          <p:cNvGrpSpPr/>
          <p:nvPr/>
        </p:nvGrpSpPr>
        <p:grpSpPr>
          <a:xfrm>
            <a:off x="3276360" y="2920320"/>
            <a:ext cx="2057400" cy="1567080"/>
            <a:chOff x="3276360" y="2920320"/>
            <a:chExt cx="2057400" cy="1567080"/>
          </a:xfrm>
        </p:grpSpPr>
        <p:sp>
          <p:nvSpPr>
            <p:cNvPr id="374" name=""/>
            <p:cNvSpPr/>
            <p:nvPr/>
          </p:nvSpPr>
          <p:spPr>
            <a:xfrm flipH="1" flipV="1">
              <a:off x="3276360" y="2920320"/>
              <a:ext cx="1494360" cy="28188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771080" y="3202560"/>
              <a:ext cx="562680" cy="128484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6867000" y="2821680"/>
            <a:ext cx="1195920" cy="1306800"/>
            <a:chOff x="6867000" y="2821680"/>
            <a:chExt cx="1195920" cy="1306800"/>
          </a:xfrm>
        </p:grpSpPr>
        <p:sp>
          <p:nvSpPr>
            <p:cNvPr id="377" name=""/>
            <p:cNvSpPr/>
            <p:nvPr/>
          </p:nvSpPr>
          <p:spPr>
            <a:xfrm>
              <a:off x="6896160" y="3401640"/>
              <a:ext cx="1166760" cy="72684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6867000" y="2821680"/>
              <a:ext cx="1131480" cy="60444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6948360" y="4437000"/>
            <a:ext cx="9493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51280" y="4292640"/>
            <a:ext cx="9493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919760" y="549360"/>
            <a:ext cx="1440" cy="129528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3532320" y="1844640"/>
            <a:ext cx="138744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50840" y="638280"/>
            <a:ext cx="2647080" cy="1010520"/>
            <a:chOff x="150840" y="638280"/>
            <a:chExt cx="2647080" cy="1010520"/>
          </a:xfrm>
        </p:grpSpPr>
        <p:sp>
          <p:nvSpPr>
            <p:cNvPr id="384" name=""/>
            <p:cNvSpPr/>
            <p:nvPr/>
          </p:nvSpPr>
          <p:spPr>
            <a:xfrm flipV="1">
              <a:off x="1496160" y="638280"/>
              <a:ext cx="1301760" cy="101052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 flipV="1">
              <a:off x="150840" y="694440"/>
              <a:ext cx="1354320" cy="93132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6456240" y="404640"/>
            <a:ext cx="1604880" cy="1440000"/>
            <a:chOff x="6456240" y="404640"/>
            <a:chExt cx="1604880" cy="1440000"/>
          </a:xfrm>
        </p:grpSpPr>
        <p:sp>
          <p:nvSpPr>
            <p:cNvPr id="387" name=""/>
            <p:cNvSpPr/>
            <p:nvPr/>
          </p:nvSpPr>
          <p:spPr>
            <a:xfrm flipV="1">
              <a:off x="6468840" y="404640"/>
              <a:ext cx="0" cy="144000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456240" y="404640"/>
              <a:ext cx="1604880" cy="28728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1117440" y="2205000"/>
            <a:ext cx="9464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708360" y="2133720"/>
            <a:ext cx="946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1258920" y="2781000"/>
            <a:ext cx="1458720" cy="1441080"/>
            <a:chOff x="1258920" y="2781000"/>
            <a:chExt cx="1458720" cy="1441080"/>
          </a:xfrm>
        </p:grpSpPr>
        <p:sp>
          <p:nvSpPr>
            <p:cNvPr id="392" name=""/>
            <p:cNvSpPr/>
            <p:nvPr/>
          </p:nvSpPr>
          <p:spPr>
            <a:xfrm flipH="1" flipV="1">
              <a:off x="1288800" y="2781000"/>
              <a:ext cx="42480" cy="144108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258920" y="2781360"/>
              <a:ext cx="145872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258920" y="4437000"/>
            <a:ext cx="8762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659640" y="2060640"/>
            <a:ext cx="946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708000" y="-492120"/>
            <a:ext cx="1212840" cy="2336760"/>
            <a:chOff x="3708000" y="-492120"/>
            <a:chExt cx="1212840" cy="2336760"/>
          </a:xfrm>
        </p:grpSpPr>
        <p:sp>
          <p:nvSpPr>
            <p:cNvPr id="397" name=""/>
            <p:cNvSpPr/>
            <p:nvPr/>
          </p:nvSpPr>
          <p:spPr>
            <a:xfrm flipH="1">
              <a:off x="3707640" y="-492120"/>
              <a:ext cx="1212840" cy="2336760"/>
            </a:xfrm>
            <a:prstGeom prst="rtTriangle">
              <a:avLst/>
            </a:prstGeom>
            <a:solidFill>
              <a:srgbClr val="8bd0ff">
                <a:alpha val="50000"/>
              </a:srgbClr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4258080" y="1166040"/>
              <a:ext cx="435600" cy="433080"/>
            </a:xfrm>
            <a:prstGeom prst="ellipse">
              <a:avLst/>
            </a:prstGeom>
            <a:solidFill>
              <a:srgbClr val="009900">
                <a:alpha val="50000"/>
              </a:srgbClr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1295640" y="2760840"/>
            <a:ext cx="1430280" cy="2417400"/>
            <a:chOff x="1295640" y="2760840"/>
            <a:chExt cx="1430280" cy="2417400"/>
          </a:xfrm>
        </p:grpSpPr>
        <p:sp>
          <p:nvSpPr>
            <p:cNvPr id="400" name=""/>
            <p:cNvSpPr/>
            <p:nvPr/>
          </p:nvSpPr>
          <p:spPr>
            <a:xfrm flipH="1" rot="10692000">
              <a:off x="1331640" y="2781360"/>
              <a:ext cx="1356840" cy="2376000"/>
            </a:xfrm>
            <a:prstGeom prst="rtTriangle">
              <a:avLst/>
            </a:prstGeom>
            <a:solidFill>
              <a:srgbClr val="8bd0ff">
                <a:alpha val="50000"/>
              </a:srgbClr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 rot="10692000">
              <a:off x="1563120" y="3036240"/>
              <a:ext cx="487440" cy="440640"/>
            </a:xfrm>
            <a:prstGeom prst="ellipse">
              <a:avLst/>
            </a:prstGeom>
            <a:solidFill>
              <a:srgbClr val="009900">
                <a:alpha val="50000"/>
              </a:srgbClr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47520" y="-54000"/>
            <a:ext cx="9217080" cy="6912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grpSp>
        <p:nvGrpSpPr>
          <p:cNvPr id="403" name=""/>
          <p:cNvGrpSpPr/>
          <p:nvPr/>
        </p:nvGrpSpPr>
        <p:grpSpPr>
          <a:xfrm>
            <a:off x="3276360" y="2920320"/>
            <a:ext cx="2057400" cy="1567080"/>
            <a:chOff x="3276360" y="2920320"/>
            <a:chExt cx="2057400" cy="1567080"/>
          </a:xfrm>
        </p:grpSpPr>
        <p:sp>
          <p:nvSpPr>
            <p:cNvPr id="404" name=""/>
            <p:cNvSpPr/>
            <p:nvPr/>
          </p:nvSpPr>
          <p:spPr>
            <a:xfrm flipH="1" flipV="1">
              <a:off x="3276360" y="2920320"/>
              <a:ext cx="1494360" cy="28188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771080" y="3202560"/>
              <a:ext cx="562680" cy="128484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867000" y="2821680"/>
            <a:ext cx="1195920" cy="1306800"/>
            <a:chOff x="6867000" y="2821680"/>
            <a:chExt cx="1195920" cy="1306800"/>
          </a:xfrm>
        </p:grpSpPr>
        <p:sp>
          <p:nvSpPr>
            <p:cNvPr id="407" name=""/>
            <p:cNvSpPr/>
            <p:nvPr/>
          </p:nvSpPr>
          <p:spPr>
            <a:xfrm>
              <a:off x="6896160" y="3401640"/>
              <a:ext cx="1166760" cy="72684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6867000" y="2821680"/>
              <a:ext cx="1131480" cy="60444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6948360" y="4437000"/>
            <a:ext cx="9493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51280" y="4292640"/>
            <a:ext cx="9493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19760" y="549360"/>
            <a:ext cx="1440" cy="129528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532320" y="1844640"/>
            <a:ext cx="138744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50840" y="638280"/>
            <a:ext cx="2647080" cy="1010520"/>
            <a:chOff x="150840" y="638280"/>
            <a:chExt cx="2647080" cy="1010520"/>
          </a:xfrm>
        </p:grpSpPr>
        <p:sp>
          <p:nvSpPr>
            <p:cNvPr id="414" name=""/>
            <p:cNvSpPr/>
            <p:nvPr/>
          </p:nvSpPr>
          <p:spPr>
            <a:xfrm flipV="1">
              <a:off x="1496160" y="638280"/>
              <a:ext cx="1301760" cy="101052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 flipV="1">
              <a:off x="150840" y="694440"/>
              <a:ext cx="1354320" cy="93132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6456240" y="404640"/>
            <a:ext cx="1604880" cy="1440000"/>
            <a:chOff x="6456240" y="404640"/>
            <a:chExt cx="1604880" cy="1440000"/>
          </a:xfrm>
        </p:grpSpPr>
        <p:sp>
          <p:nvSpPr>
            <p:cNvPr id="417" name=""/>
            <p:cNvSpPr/>
            <p:nvPr/>
          </p:nvSpPr>
          <p:spPr>
            <a:xfrm flipV="1">
              <a:off x="6468840" y="404640"/>
              <a:ext cx="0" cy="144000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56240" y="404640"/>
              <a:ext cx="1604880" cy="28728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1117440" y="2205000"/>
            <a:ext cx="9464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708360" y="2133720"/>
            <a:ext cx="946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117440" y="2781000"/>
            <a:ext cx="1601640" cy="1441080"/>
            <a:chOff x="1117440" y="2781000"/>
            <a:chExt cx="1601640" cy="1441080"/>
          </a:xfrm>
        </p:grpSpPr>
        <p:sp>
          <p:nvSpPr>
            <p:cNvPr id="422" name=""/>
            <p:cNvSpPr/>
            <p:nvPr/>
          </p:nvSpPr>
          <p:spPr>
            <a:xfrm flipH="1" flipV="1">
              <a:off x="1150560" y="2781000"/>
              <a:ext cx="46800" cy="144108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117440" y="2781360"/>
              <a:ext cx="160164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1258920" y="4437000"/>
            <a:ext cx="8762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659640" y="2060640"/>
            <a:ext cx="946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654440" y="1522440"/>
            <a:ext cx="0" cy="32220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656240" y="1522440"/>
            <a:ext cx="26496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476360" y="2781360"/>
            <a:ext cx="0" cy="32220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1117080" y="3068640"/>
            <a:ext cx="358920" cy="144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0:13:01Z</dcterms:created>
  <dc:creator>Administrator</dc:creator>
  <dc:description/>
  <cp:keywords/>
  <dc:language>en-US</dc:language>
  <cp:lastModifiedBy>微软用户</cp:lastModifiedBy>
  <cp:lastPrinted>1899-12-30T00:00:00Z</cp:lastPrinted>
  <dcterms:modified xsi:type="dcterms:W3CDTF">2013-03-05T13:34:03Z</dcterms:modified>
  <cp:revision>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163</vt:lpwstr>
  </property>
</Properties>
</file>