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32.gif" ContentType="image/gif"/>
  <Override PartName="/ppt/media/image5.gif" ContentType="image/gif"/>
  <Override PartName="/ppt/media/image30.gif" ContentType="image/gif"/>
  <Override PartName="/ppt/media/image8.png" ContentType="image/png"/>
  <Override PartName="/ppt/media/image28.gif" ContentType="image/gif"/>
  <Override PartName="/ppt/media/image10.gif" ContentType="image/gif"/>
  <Override PartName="/ppt/media/image31.gif" ContentType="image/gif"/>
  <Override PartName="/ppt/media/image6.gif" ContentType="image/gif"/>
  <Override PartName="/ppt/media/image36.gif" ContentType="image/gif"/>
  <Override PartName="/ppt/media/image9.gif" ContentType="image/gif"/>
  <Override PartName="/ppt/media/image12.png" ContentType="image/png"/>
  <Override PartName="/ppt/media/image18.gif" ContentType="image/gif"/>
  <Override PartName="/ppt/media/image13.jpeg" ContentType="image/jpeg"/>
  <Override PartName="/ppt/media/image11.png" ContentType="image/png"/>
  <Override PartName="/ppt/media/image33.gif" ContentType="image/gif"/>
  <Override PartName="/ppt/media/image34.gif" ContentType="image/gif"/>
  <Override PartName="/ppt/media/image4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14.gif" ContentType="image/gif"/>
  <Override PartName="/ppt/media/image15.jpeg" ContentType="image/jpeg"/>
  <Override PartName="/ppt/media/image16.gif" ContentType="image/gif"/>
  <Override PartName="/ppt/media/image19.gif" ContentType="image/gif"/>
  <Override PartName="/ppt/media/image21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F67-6A63-4ABE-909A-01C270FB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589-813A-4430-A39C-7042A23F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4A7-5187-4E2F-AF25-9F782AA7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201-458D-4CA2-8A86-E70E0B11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F45C-5FF4-4B7E-A7D0-2F3F8174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F472-AD75-47D4-90EE-C4E0D344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BAF-42E4-4608-8229-FAB6E60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FB9-7DAA-42A1-BDD5-D68A57A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CCD2-5E06-4FD4-8AF0-530EA1A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99E5-D070-4738-8F09-6A05D81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791-1A1F-4F84-98AC-E8F5967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F66-4998-45C8-9C0D-5E80001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C56-7128-45AE-A24D-F5F49AF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B2F-C2CF-4588-8B7E-3E6C5A7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0DE-1FB8-469C-B9FB-1878895D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0E1-6401-423E-AC06-C6E78CF4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6E4A-A4BD-4DDD-ACB4-0A74DCB5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9A46-38F8-4E24-AE1F-5E780C21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2E2D-3112-4B34-875B-0A23DAE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BCB4-3557-4A02-9F47-232C5BA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4A7E-B5C9-436E-B6AF-B7C9646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71AC-0D23-4061-B29C-0B4A39B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80D-3E09-4424-9ECE-AFC3987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7C95-3E49-44D6-8A39-D494D63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0008-15D5-4404-8640-87E5FBB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1B56-91A7-4403-9777-86A507B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6568-3864-45EF-8FA7-C92C96F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CBB8-CC97-4F0A-AE88-81645B8C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51A7-DB6C-48C5-A051-98A52036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D71C-8A4C-45BF-A29F-C1015D5D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9F90-D653-4BA2-9BCB-92D669CD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A3E5-D672-4E2A-8F4A-9B3D182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B4A2-5523-4C1C-8902-6988868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109-CE8F-4DEE-80C1-1A633F33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E200-0955-4837-949B-137E3F4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B075-2100-439C-899F-0900C88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2784-C736-435D-9664-D27D153F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D90E-9A3F-4A81-AD17-41EBE8E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CDFA-6A61-4E39-96B5-8A70950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4D3C-01FB-44A7-B6EC-5D79E53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B5E3-0D9E-4ADB-AA35-28E3ACA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3D81-1FE4-4972-AE29-F29EF8CA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EE82-73F6-4C90-9572-86C8C3FD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905E-F4F1-486B-A214-6F5A44B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3DB-B674-4516-B05C-7D54C02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0080-EC9C-4720-9EC9-5B21767A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58AA-76DA-4358-853B-8E8DCA9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C717-3B27-409B-87FA-C46FDE0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B5A5-6A2C-4EE0-B24F-0F62208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6566-F8E8-4B61-AB04-D7C89FB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E7BF-6AA7-4FBB-A02E-2BFDB40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CAB0-57BF-4830-B64E-2AB18C0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FD5C-65F0-48EA-8AC9-20805BF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DDF4-B7AA-4A38-9664-0238AA4A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8AA65-18C0-420F-BB15-8ADC24F3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302-3178-475E-A300-D105DDC5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D2A6-2A93-4FE1-A817-ECFA8A16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9EA0-D18C-4A72-988B-E49A1EAE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BD9CA-22A7-4B62-B7EE-1401BDF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6266-EFD7-4DFF-AC46-35CE8871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AA8B0-C35D-4A2E-9253-6CA29002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4FD9-DADA-4F6E-9705-CA4D9494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2584-0669-4FAD-8D99-8B5A0EC6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DCC2-EF9E-4F98-831E-673FC69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4D64-E904-46AF-AD1A-C7C18EC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C99B-3F5F-453A-8A52-8198F93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394-7406-479F-A998-E0519C4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1F78-B696-4B2A-AC42-1B7B895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5CEE-913C-4E39-8EA9-C9BF0DB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46BA-C430-4190-BDF7-3C8C3DE7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769-2B57-4DC2-979F-A659FC5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879-5811-4E25-BA4C-90679BF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49E-D2C5-4D12-9B37-38A51B48933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D960-CE67-4A01-A0DE-D6203D2CAFB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8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4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8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42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56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70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4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98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00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985B-7C7A-4C8F-856A-F10F503134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6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70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5A21-72C4-40BD-A05A-93555759A2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20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AF7-4526-436B-A12C-0C1C7B598D3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B08-3587-4CB4-90A2-FDE9B66D2F4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38280" cy="20876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8101080" y="4508640"/>
            <a:ext cx="620640" cy="165564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2700360" y="1989000"/>
            <a:ext cx="3556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勤俭节约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364000" y="3789360"/>
            <a:ext cx="28720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——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525600" cy="52524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8244000" y="2421000"/>
            <a:ext cx="660240" cy="21603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0" y="6053040"/>
            <a:ext cx="1622520" cy="8049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5"/>
          <a:stretch/>
        </p:blipFill>
        <p:spPr>
          <a:xfrm>
            <a:off x="4067280" y="558972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140360" y="9079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国家节水标志”由水滴、人手和地球变形而成。绿色的圆形代表地球，象征节约用水是保护地球生态的重要措施。标志留白部分像一只手托起一滴水，手是拼音字母 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JS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的变形，寓意节水，表示节水需要公众参与，鼓励人们从我做起，人人动手节约每一滴水；手又象一条蜿蜒的河流，象征滴水汇成江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203640" y="4762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看看节水标志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7"/>
          <a:stretch/>
        </p:blipFill>
        <p:spPr>
          <a:xfrm>
            <a:off x="2843280" y="5950080"/>
            <a:ext cx="525240" cy="52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8436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中国有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亿人口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假如每个人每星期节约一度电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大家想想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一年下来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能为国家节约多少度电呀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那可是一个天文数字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为国家节省了多少能源呀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这样的一件小事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难道在座的同学们做不到吗</a:t>
            </a:r>
            <a:r>
              <a:rPr b="1" lang="zh-CN" sz="24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5280" y="2205000"/>
            <a:ext cx="19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下面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问问大家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知不知道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度电能干些什么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请同学们说说你的看法</a:t>
            </a:r>
            <a:r>
              <a:rPr b="1" lang="zh-CN" sz="2800" spc="-1" strike="noStrike">
                <a:solidFill>
                  <a:srgbClr val="56568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20328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瓦灯泡连续亮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家用冰箱运行一天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普通电风扇运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视机连续播放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小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电动自行车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里；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斤的水烧开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用电热锅炒两个美味的菜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611280" y="5373720"/>
            <a:ext cx="649080" cy="4651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3"/>
          <a:stretch/>
        </p:blipFill>
        <p:spPr>
          <a:xfrm>
            <a:off x="7885080" y="2133720"/>
            <a:ext cx="7891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bc8ff"/>
            </a:gs>
            <a:gs pos="50000">
              <a:srgbClr val="ffffff"/>
            </a:gs>
            <a:gs pos="100000">
              <a:srgbClr val="5bc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95280" y="260280"/>
            <a:ext cx="619272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如一首歌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歌到情初泪自流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似一杯酒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就将醉时笑语稠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像一首诗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言有尽意而无穷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;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节约是一杯茶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茶香满口情悠悠</a:t>
            </a:r>
            <a:r>
              <a:rPr b="1" lang="zh-CN" sz="2400" spc="-1" strike="noStrike">
                <a:solidFill>
                  <a:srgbClr val="666699"/>
                </a:solidFill>
                <a:latin typeface="Arial"/>
                <a:ea typeface="幼圆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8564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 rot="20607000">
            <a:off x="179280" y="3213000"/>
            <a:ext cx="171468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809720" cy="66672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979640" y="2565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  <a:ea typeface="幼圆"/>
              </a:rPr>
              <a:t>平时上课的时候，光线充足的时候，可以把旁边的一排灯关掉；午休的时候，同学们都离开去吃午饭的话，应该把课室的灯关掉；平时同学们不应该浪费饮水的水．你们的爷爷奶奶也许对你们说过，他们小时侯是多么穷苦，吃不饱，穿不暖，上不起学，今天的我们能开空调，看电视，玩电脑，听ＭＰ３，ＭＰ４，这多么幸福！父母省吃俭用供我们读书大家又是否体谅到他们的辛酸呢？倘若同学们每天少花些零用钱，日积月累，那也是一笔不小的数目啊！何乐而不为呢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66920" y="191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那么我们在日常生活中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应该要怎么做呢</a:t>
            </a:r>
            <a:r>
              <a:rPr b="1" lang="zh-CN" sz="2400" spc="-1" strike="noStrike">
                <a:solidFill>
                  <a:srgbClr val="005c8a"/>
                </a:solidFill>
                <a:latin typeface="Arial"/>
                <a:ea typeface="幼圆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39640" y="184464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览前贤国与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由勤俭败由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商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是你一生中食之不完的美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爱默生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以修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俭以养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处不省钱袋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托•莫尔）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安思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戒奢以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污和浪费是极大的犯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毛泽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771640" y="189000"/>
            <a:ext cx="36673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13dff"/>
                  </a:solidFill>
                  <a:miter/>
                </a:ln>
                <a:solidFill>
                  <a:srgbClr val="edfad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勤俭节约的名言</a:t>
            </a:r>
            <a:endParaRPr b="1" lang="en-US" sz="4000" spc="1" strike="noStrike">
              <a:ln w="12600">
                <a:solidFill>
                  <a:srgbClr val="013dff"/>
                </a:solidFill>
                <a:miter/>
              </a:ln>
              <a:solidFill>
                <a:srgbClr val="edfad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8101080" y="692280"/>
            <a:ext cx="6048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468360" y="765000"/>
            <a:ext cx="691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幼圆"/>
              </a:rPr>
              <a:t>节俭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滴水，不算多，一滴一滴汇成河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粒米，不算多，一粒一粒积满箩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块石，不算多，一块一块修亭阁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一棵树，不算多，一棵一棵绿山坡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晴天防雨天，丰年防灾祸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细水长流不浪费，人人唱好节俭歌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2771640" y="98100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前言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755" name=""/>
          <p:cNvSpPr/>
          <p:nvPr/>
        </p:nvSpPr>
        <p:spPr>
          <a:xfrm>
            <a:off x="1332000" y="2781360"/>
            <a:ext cx="4606920" cy="1008720"/>
          </a:xfrm>
          <a:prstGeom prst="rect">
            <a:avLst/>
          </a:prstGeom>
          <a:noFill/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曾几何时，“谁知盘中餐，粒粒皆辛苦”的诗句常在耳边回响；曾几何时，“一粥一饭，当思来之不易；一丝一缕，恒念物力维艰”的古训仍在心头萦绕；曾几何时，伟大领袖毛泽东掷地有声的一句话：“浪费是极大的犯罪”，指引着几代人艰苦创业、自力更生。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美德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是一种创造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;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节约是中华民族的优良传统 。 今天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我们的主题班会就谈谈怎样做到勤俭节约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rot="21164400">
            <a:off x="4500360" y="98064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24000" y="6343560"/>
            <a:ext cx="8424720" cy="5144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95280" y="98100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艰苦奋斗、勤俭节约是我党我军的优良传统，老一辈无产阶级革命家率先为我们作出了榜样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在毛主席生前用过的一百多件日常生活用品中，有一件穿过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20 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多年、已补过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73</a:t>
            </a:r>
            <a:r>
              <a:rPr b="1" lang="zh-CN" sz="2800" spc="-1" strike="noStrike">
                <a:solidFill>
                  <a:srgbClr val="00cc66"/>
                </a:solidFill>
                <a:latin typeface="Arial"/>
              </a:rPr>
              <a:t>次的睡衣。身边的工作人员多次提出给他换一件新的，他都执意不肯，直到逝世前夕，他老人家还是穿着这件补钉缀补钉的睡衣。在国民经济困难时期，他老人家首先倡导不吃肉、不吃水果，常常是几个烤芋头就是一餐饭，与全国人民同甘共苦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7"/>
          <a:stretch/>
        </p:blipFill>
        <p:spPr>
          <a:xfrm>
            <a:off x="0" y="458136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8"/>
          <a:stretch/>
        </p:blipFill>
        <p:spPr>
          <a:xfrm>
            <a:off x="0" y="635328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9"/>
          <a:stretch/>
        </p:blipFill>
        <p:spPr>
          <a:xfrm>
            <a:off x="8783640" y="981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1"/>
          <a:stretch/>
        </p:blipFill>
        <p:spPr>
          <a:xfrm>
            <a:off x="8783640" y="3284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2"/>
          <a:stretch/>
        </p:blipFill>
        <p:spPr>
          <a:xfrm>
            <a:off x="8783640" y="213372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13"/>
          <a:stretch/>
        </p:blipFill>
        <p:spPr>
          <a:xfrm>
            <a:off x="8783640" y="429264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4"/>
          <a:stretch/>
        </p:blipFill>
        <p:spPr>
          <a:xfrm>
            <a:off x="8783640" y="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5"/>
          <a:stretch/>
        </p:blipFill>
        <p:spPr>
          <a:xfrm>
            <a:off x="8783640" y="544500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6"/>
          <a:stretch/>
        </p:blipFill>
        <p:spPr>
          <a:xfrm>
            <a:off x="8783640" y="635328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916360" y="404640"/>
            <a:ext cx="3311280" cy="520560"/>
          </a:xfrm>
          <a:prstGeom prst="rect">
            <a:avLst/>
          </a:prstGeom>
          <a:solidFill>
            <a:srgbClr val="f2dffd">
              <a:alpha val="29000"/>
            </a:srgbClr>
          </a:solidFill>
          <a:ln w="57240">
            <a:solidFill>
              <a:srgbClr val="ff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7ff"/>
                </a:solidFill>
                <a:latin typeface="Arial"/>
              </a:rPr>
              <a:t>勤俭节约的故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周总理身上，这样的例子也数不胜数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夏，周总理到辽宁省视察工作，刚一住下，他就从口袋里掏出一张纸，交给负责接待的同志，说：“上面写的东西都不能做。”原来，这张单子开着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多种禁吃的菜名，鸡鸭鱼肉之类都包括在内。正是这一桩桩、一件件小事，铸就了他们伟大的人格魅力，使之成为中华民族传统美德和我党我军光荣传统的化身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8101080" y="620640"/>
            <a:ext cx="615960" cy="2016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4680000" y="6093000"/>
            <a:ext cx="4464000" cy="1904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333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79280" y="189000"/>
            <a:ext cx="7956720" cy="10159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生在老一辈革命家身上的这些故事，虽然已过去几十年了，但今天读来仍感人至深，对我们每一个人仍具有很强的现实教育意义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的生活条件，与毛主席、周总理生活的那个时代不可同日而语。但是生活条件再变，物质再丰富，也不能丢掉艰苦奋斗、勤俭节约的本色。从国家经济建设的大局来说，需要快速的发展，更需要长期、持续的发展。但经济快速增长与我国许多资源短缺的矛盾非常突出，如果我们不注意节约，造成资源的盲目开发和浪费，经济的可持续发展必然难以支撑。这样的基本国情和严峻形势，决定了我们必须长期坚持勤俭节约，勤俭办一切事情。从我们个人来说，是否保持艰苦奋斗、勤俭节约的作风，不仅是个会不会过日子的问题，而且关系到能否保持政治本色的问题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 rot="393600">
            <a:off x="684360" y="5950080"/>
            <a:ext cx="12952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4360" y="476280"/>
            <a:ext cx="6697440" cy="459720"/>
          </a:xfrm>
          <a:prstGeom prst="rect">
            <a:avLst/>
          </a:prstGeom>
          <a:solidFill>
            <a:srgbClr val="9bdeff">
              <a:alpha val="29000"/>
            </a:srgbClr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，我们强调艰苦奋斗、勤俭节约，并不排斥量力而行的提高生活水平，过“清教徒” 、“苦行僧”式的生活，不是我们今天倡导勤俭之风的本意。新形势下倡导艰苦奋斗、勤俭节约，就是事业上要拼搏进取，工作上要吃苦耐劳，生活上要量入为出，自觉克服贪图安逸、追求享受的思想，保持共产党人的政治本色。这既是党的事业和部队建设的需要，也是我们立身做人的需要。谁在生活这一关上把不住，让奢靡之风吹昏了头脑，误入享乐主义的泥潭，谁就会葬送自己的政治前途。前车之鉴，不可不慎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 rot="1722600">
            <a:off x="250920" y="5949720"/>
            <a:ext cx="1295280" cy="477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7951680" y="1125360"/>
            <a:ext cx="6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826920" y="1413000"/>
            <a:ext cx="76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有这么一个民间故事：从前，在中原的伏牛山下，住着一个叫吴成的农民，他一生勤俭持家，日子过得无忧无虑，十分美满。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相传他临终前，曾把一块写有“勤俭”两字的横匾交给两个儿子，告诫他们说：“你们要想一辈子不受饥挨饿，就一定要照这两个宇去做。”后来，兄弟俩分家时，将匾一锯两半，老大分得了一个“勤”字，老二分得一个“俭”字。老大把“勤”字恭恭敬敬高悬家中，每天“日出而作，日落而息”，年年五谷丰登。然而他的妻子却过日子大手大脚，孩子们常常将白白的馍馍吃了两口就扔掉，久而久之，家里就没有一点余粮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4"/>
          <a:stretch/>
        </p:blipFill>
        <p:spPr>
          <a:xfrm>
            <a:off x="971640" y="404640"/>
            <a:ext cx="741240" cy="74160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 txBox="1"/>
          <p:nvPr/>
        </p:nvSpPr>
        <p:spPr>
          <a:xfrm rot="307200">
            <a:off x="3419640" y="259920"/>
            <a:ext cx="15714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95280" y="765000"/>
            <a:ext cx="8604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老二自从分得半块匾后，也把“俭”字当作“神谕”供放中堂，却把“勤”字忘到九霄云外。他疏于农事，又不肯精耕细作，每年所收获的粮食就不多。尽管一家几口节衣缩食、省吃俭用，毕竟也是难以持久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一年遇上大旱，老大、老二家中都早已是空空如也。 他俩情急之下扯下字匾，将“勤”“俭”二字踩碎在地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这时候，突然有纸条从窗外飞进屋内，兄弟俩连忙拾起—看，上面写道：“只勤不俭，好比端个没底的碗，总也盛不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!”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只俭不勤，坐吃山空，一定要受穷挨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兄弟俩恍然大悟，“勤”“俭”两字原来不能分家，相辅相成，缺一不可。吸取教训以后，他俩将 “勤俭持家”四个字贴在自家门上，提醒自己，告诫妻室儿女，身体力行，此后日子过得 一天比一天好。 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4308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539640" y="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 txBox="1"/>
          <p:nvPr/>
        </p:nvSpPr>
        <p:spPr>
          <a:xfrm rot="307200">
            <a:off x="3492360" y="0"/>
            <a:ext cx="15717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cc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cc66"/>
                    </a:gs>
                  </a:gsLst>
                  <a:lin ang="509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小故事</a:t>
            </a:r>
            <a:endParaRPr b="1" lang="en-US" sz="4000" spc="1" strike="noStrike">
              <a:ln w="9360">
                <a:solidFill>
                  <a:srgbClr val="00cc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09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56400" cy="6453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179280" y="907920"/>
            <a:ext cx="172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这是一幅十大浪费水的现象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!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试问一下自己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有没有像图中一样如此浪费水呢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幼圆"/>
              </a:rPr>
              <a:t>!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3:14:49Z</dcterms:created>
  <dc:creator>User</dc:creator>
  <dc:description/>
  <dc:language>en-US</dc:language>
  <cp:lastModifiedBy>User</cp:lastModifiedBy>
  <dcterms:modified xsi:type="dcterms:W3CDTF">2011-10-31T04:42:56Z</dcterms:modified>
  <cp:revision>27</cp:revision>
  <dc:subject/>
  <dc:title>幻灯片 1</dc:title>
</cp:coreProperties>
</file>