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D8D-98FD-4B73-9DA8-98C3BFC2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1C5-C0D5-447C-8A09-D3A0F1E6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81F-9BDE-4283-93CA-B36927A4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1519-5544-4D12-BFEF-11C8DE45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4E0-899E-41BC-862B-B368E06B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89D4-F377-4200-9D20-30AA299D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70E-4FA0-435E-807D-39C56D77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A43-82D8-4311-9C48-9ACFF9CB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C8E-8040-489E-B1AA-2916A987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CB2-AF45-472B-87E8-DE4D77E4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6F4-E364-45D2-9904-4F4DE756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B7D-32CB-466E-916F-2C5024FA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5AD7-743B-47B9-9B2F-13E1100012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aike.baidu.com/view/24126.htm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WordArt 2" descr=""/>
          <p:cNvPicPr/>
          <p:nvPr/>
        </p:nvPicPr>
        <p:blipFill>
          <a:blip r:embed="rId1"/>
          <a:stretch/>
        </p:blipFill>
        <p:spPr>
          <a:xfrm>
            <a:off x="3127320" y="3949560"/>
            <a:ext cx="3597480" cy="738360"/>
          </a:xfrm>
          <a:prstGeom prst="rect">
            <a:avLst/>
          </a:prstGeom>
          <a:ln w="0">
            <a:noFill/>
          </a:ln>
        </p:spPr>
      </p:pic>
      <p:sp>
        <p:nvSpPr>
          <p:cNvPr id="82" name="WordArt 2"/>
          <p:cNvSpPr txBox="1"/>
          <p:nvPr/>
        </p:nvSpPr>
        <p:spPr>
          <a:xfrm>
            <a:off x="1143000" y="1981080"/>
            <a:ext cx="7086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劳动最光荣</a:t>
            </a:r>
            <a:endParaRPr b="0" lang="en-US" sz="72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92280" y="4910040"/>
            <a:ext cx="7696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0" lang="zh-CN" sz="3600" spc="-1" strike="noStrike">
                <a:solidFill>
                  <a:srgbClr val="0070c0"/>
                </a:solidFill>
                <a:latin typeface="Arial"/>
              </a:rPr>
              <a:t>东坡下载站编辑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内容占位符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内容占位符 3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内容占位符 3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内容占位符 3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内容占位符 3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3055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内容占位符 3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229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内容占位符 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内容占位符 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内容占位符 3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内容占位符 3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五一劳动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亦称“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五一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在每年的五月一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是全世界无产队级、劳动人民的共同节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小学生也要热爱劳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内容占位符 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内容占位符 3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9246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内容占位符 3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谢谢老师和各位同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038480" y="13716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巴山蜀水多英雄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思德本是苦寒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革命事业无贵贱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伐薪烧炭一心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虽言安邦赖股肱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平凡岗位亦建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石峡峪里埋忠骨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领袖名篇传域中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20081124115324367_2"/>
          <p:cNvPicPr/>
          <p:nvPr/>
        </p:nvPicPr>
        <p:blipFill>
          <a:blip r:embed="rId1"/>
          <a:stretch/>
        </p:blipFill>
        <p:spPr>
          <a:xfrm>
            <a:off x="685800" y="609480"/>
            <a:ext cx="3657600" cy="5257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190760" y="274680"/>
            <a:ext cx="38862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劳模张思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Photo"/>
          <p:cNvPicPr/>
          <p:nvPr/>
        </p:nvPicPr>
        <p:blipFill>
          <a:blip r:embed="rId1"/>
          <a:stretch/>
        </p:blipFill>
        <p:spPr>
          <a:xfrm>
            <a:off x="609480" y="1146240"/>
            <a:ext cx="3581640" cy="4800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活中处处有劳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056393642_1141813220"/>
          <p:cNvPicPr/>
          <p:nvPr/>
        </p:nvPicPr>
        <p:blipFill>
          <a:blip r:embed="rId2"/>
          <a:stretch/>
        </p:blipFill>
        <p:spPr>
          <a:xfrm>
            <a:off x="4724280" y="1222200"/>
            <a:ext cx="381024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内容占位符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内容占位符 3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内容占位符 5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内容占位符 3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53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ky123.Org</cp:lastModifiedBy>
  <dcterms:modified xsi:type="dcterms:W3CDTF">2015-04-20T01:11:5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  <property fmtid="{D5CDD505-2E9C-101B-9397-08002B2CF9AE}" pid="3" name="Version">
    <vt:r8>1</vt:r8>
  </property>
</Properties>
</file>