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754-3566-405A-9D28-E9BE234A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A78-DFAE-470F-B62B-6F50AE1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AAAAD-7416-4F15-8852-741DA4CE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F112B-A357-4C67-95C6-DAF694C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D83D7-50EE-43E8-A8F8-3EB8773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CDB30-C645-47F7-B54D-5612685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1326-6174-4C69-8605-990F90E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4B78-71FD-4EBD-B888-F466F4F3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AD4E-E08A-42AF-A9EE-5DC640BF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B6F6-7DD0-4312-BDDE-3E89E99A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DDC44-18C6-4DAA-92C5-D64293A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624BA-4A5F-43BB-B38E-66710D62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531-BAFD-41DD-8DE3-36C545EE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3C3F6-C1A7-4436-93A5-096CCCA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3FC26-42F3-4936-AEA7-8E3D915D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77A4B-C0C3-477C-9F40-C36253C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FF4E5-025E-43C1-8A09-9A988AD9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536BE-DFC4-484B-88E0-BD9E7FE3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243A-4F07-4429-A780-D575C85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84596-37CB-42C1-9A8C-B4FBD4B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77630-D8A1-4E94-81E8-8F0B734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DF93F-9298-4557-BF26-4A6A8C01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0AD60-CCCC-4759-B526-09889D3B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E74-561E-4360-B9CB-6EB3C93B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746D-C4D7-4F67-A533-B62CC05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4BBA-B248-4FF8-86E3-BC399881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33B6C-9161-4A41-88BE-D973855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5AB1A-6B3F-46FF-987A-AF5D7F2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40200-CB5F-4471-976B-EB246C2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F489-995A-42C6-9945-C9C8F402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F6BD2-3F64-481D-A4BB-018FC613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4E627-95A1-4BF4-95F7-4F863EA3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57B1C-8E0F-4EC8-812F-5BB33A5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02921-82E7-44BD-BDBA-3948E6B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5B1-8E06-4D3F-ADEC-CBA5D0D6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8AC0-2439-4A28-A38E-43D9E9F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8C092-6EF3-4E3C-961D-C29D88FB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51A28-2C4B-4970-A68B-6104EC58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5FD37-070B-4CA0-8D0D-5544D115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FFDF1-98BA-4205-B276-FC52CDC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AED03-40AA-4589-AB2C-2E1A2C0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754C5-37F3-4D91-BC86-0FAE3F5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C96D-5E5C-4E87-8F45-03868BE1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434F8-F4E9-4144-9AA5-EDE7175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30453-9E56-4309-A6BB-60581590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075E-DFFE-4A2E-BC4E-8F667B6B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BD9E2-0061-40F3-994B-7F84761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EC0EF-A17C-45FB-A4C1-89CB25C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DA084-ECCB-490A-BDE9-E292B57D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C468-FE35-4833-813E-A478D86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8C084-F431-4975-BB82-6E767124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D178-2EC4-409D-BDFF-B8AC08B0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59E0-8D15-489A-9D21-5C09A1F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3020-65BC-43E3-9DDE-EB59DF00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41B-99E9-4018-938B-D6A273B6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8359-75AD-4691-8DB8-9F03A732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6D9-5139-45C8-A42E-9E0F104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B352-0A10-43BB-A197-29A8A0AB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4304-9317-48AD-A9DC-4C9B59D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6D0-0244-455A-BEFC-555917D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CA08-79D4-46BE-908B-19CF5C6C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DDB5-993E-4CF6-95E9-CDA9E36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925F-3754-42B2-B55F-13E1E34C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C15E-835A-4183-84CF-EE454DB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2335-0BD6-4AEB-9E1F-1016FFDB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0537-DD3F-40E0-9753-7DF37F91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877B-3695-4AA1-B75C-78F7DAA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995-03C5-46C9-874E-CA12990E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44AB-59E8-4DC3-9F83-04746B3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679E-372C-4FF1-8D41-21FFF84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2EB1-AA53-4AC8-B057-62CA7FA2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5B72-ED00-49D4-81F9-185351C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484B-59D2-4FF7-BF2A-DB92D5A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35AE-8284-4951-B523-B7AF4FF8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2D4A-AB8D-4A99-A13C-C0EE703E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F61B-E579-44CE-81FD-EEEF327B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FF6D-2788-4AE8-85D3-0CE206ED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259F-55A9-4919-BCFC-7F5BA9CA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603-775C-4C1F-8AF1-A925AF62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2204-A77F-43B1-9205-C0F09C79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505A-C009-4A7B-8BC2-16448683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4A4B-898B-4D0F-8CF8-1419A2BC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78E0-B5DB-4760-AB5F-0013493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5C71-0A83-48A5-9FCD-9A8A76D3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742F-0F27-4E71-9398-566918B4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4625-231A-49AE-9223-67609AF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34B1-9EF8-403C-B8AB-34DC23F3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C46F-2EF7-4294-84E6-E8A978C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5D61-42C4-4C92-BF8E-8F6CDBC2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B3A-27AC-49BC-8727-65F0662F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0A08-ADFC-48AB-B399-40E02638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BB3C-0C7C-42F7-A7A6-EB5E4B7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635D-6354-4DB9-9A38-CEE981B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45100-BEA0-41BB-BF19-5CEC9F9F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9442-38C8-45D8-9DAB-8CF0E947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B2B9-EB0C-474F-B363-8BDAADA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3747-A913-4C98-8D2A-99D2B5C4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8C10-AE62-404F-8793-42B408A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9E5F-F55D-4FA5-9AB4-4A8F3C3B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3073-EBEC-4A18-B95C-DEC80ECF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443-E1CA-4FF3-959D-EBE95CF2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98C8-6492-44FB-834F-1C7072B7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E456-6169-49B0-AA24-BFCDACB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E8B7-7468-49BF-B8C3-D45CAFDF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F1C1-C017-4D4B-A02B-5E0CDC85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BC479-7B94-4316-ADFF-B8BF417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6576-0FDF-414A-8463-FAD53EE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B8FA-1D64-4478-9D54-69831F9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17A4-5B7D-4567-AF7C-DA2E276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0B8C-789C-423D-B0F2-29CE7A7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4115-A843-4C96-8979-A76F0E4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FBB-2702-4CC6-A27A-DCF3A6E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EE8B0-4980-4F22-B069-90BDF7F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46BAA-3C3B-4F58-B52E-07E5C0C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614E-EAB9-45A4-8973-719CFC33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5720-C4C1-453F-8BDD-C0555760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7653-6B79-4B12-956D-ED4C5AF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C6AAB-71DE-44D2-9664-A3DBA27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2BAD-9811-46DE-9989-AFD3D48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7276-1C0A-46CC-892B-4BF19C0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85C1F-924E-45BC-81A9-FE0EA7D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AC24-FC5B-45EE-B46A-DDC23C16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3F3-7120-41D1-BDE4-7D31DDC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7242-0ECF-4FB9-8BCA-5B3BEB8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A61C4-DD4A-485F-8EAF-BB12877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06AE-5E0C-4D8B-867F-BFFBBA9D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59FD-2C2A-47AD-9117-D770040F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2637-B07E-4BC1-B9EC-B6B834EC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11E6-5C1B-4323-9876-26979146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088F-559E-4F26-80CF-16B98D7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FEB7-84EA-4B7E-9295-1004FACA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0BDA-0709-4511-B6FE-BF3053D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0392-A23F-4B31-B56C-F3D3084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3F8-709C-4273-8D3D-5F1FE6B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476C-9A39-4FE6-8E8C-5C3A7D1E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91601-3535-45D8-950C-B81A1B9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6F80-C81C-4181-BDBD-4DF231F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028AD-45D4-4AFF-9812-514092A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4713-CD0C-458E-A9B6-D083BBE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012A-D1F6-4ACF-B2A9-7B9E1DB4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AA3A-850C-4D85-80A8-F2E013AF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EBEEB-4B95-4036-89D3-5937AE01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C4F56-1069-4FA7-8850-7755E3E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3CE6B-F6B7-4E1A-AD11-346646A6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19B-7B93-464B-A81D-D378C3CA28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2764-3C7C-4DE5-80FE-6699D13B68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0E45-F581-4133-9767-62F955064D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897-FD6D-4325-B308-F33001E77B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3D6D-0D27-4602-8B63-6232E27DDF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67ED-2A62-46A3-B9F0-DBA49F657C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2BE-E0C4-4689-830F-BA22DE00D9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AB6-89EF-4C98-AA4F-C0028E6D8B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332C-B738-410C-A738-4E450E1E66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1BA0-94D1-4467-9695-679121BF99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F9E9-021B-41A3-AA93-2A2F7292DB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A21-9A74-43D1-8CCA-CCA1F2A9B8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7631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一切为了孩子</a:t>
            </a:r>
            <a:br>
              <a:rPr sz="6000"/>
            </a:b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做好孩子的护航使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5"/>
          <p:cNvSpPr txBox="1"/>
          <p:nvPr/>
        </p:nvSpPr>
        <p:spPr>
          <a:xfrm>
            <a:off x="1066680" y="1600200"/>
            <a:ext cx="67057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92d05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康简综艺"/>
              </a:rPr>
              <a:t>欢迎各位家长观临指导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92d050"/>
              </a:solidFill>
              <a:effectLst>
                <a:outerShdw dist="0" dir="0" blurRad="0" rotWithShape="0">
                  <a:srgbClr val="000000"/>
                </a:outerShdw>
              </a:effectLst>
              <a:latin typeface="华康简综艺"/>
              <a:ea typeface="华康简综艺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4572000" y="6095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高一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）班家长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2013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年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8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教育需要社会 家庭 学校共同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对学生的关爱是火热的友情，沉静的了解、相互信任、共同享受和彼此了解；是互相取长补短承认孩子们的弱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孩子们的进步也是</a:t>
            </a:r>
            <a:r>
              <a:rPr b="1" lang="zh-CN" sz="32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老师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家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生致家长的一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家，赐予我一座又一座路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父母永远不疲倦的向我期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古老而又永恒的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手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心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其实送与不送都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早已经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无论是刮风下雨，还是冰天雪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都以是你心头的牵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在岁月的风雨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会带着感恩和虔诚为您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谢谢您的支持，祝您工作顺利</a:t>
            </a:r>
            <a:br>
              <a:rPr sz="4800"/>
            </a:b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生活愉快，再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汉仪方隶简"/>
                <a:ea typeface="汉仪方隶简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校领导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2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期中考试成绩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对您的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针对您孩子的情况反馈您的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致家长的一封信及您对孩子的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班级情况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本班共有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69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学生，期中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38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位女生，入学成绩相差较大。学生来源以敦化市为主，也有周边县市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WordArt 5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82598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期中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理科参加考试人数：</a:t>
            </a:r>
            <a:r>
              <a:rPr b="0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14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各科平均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0" y="2743200"/>
          <a:ext cx="8839080" cy="1293840"/>
        </p:xfrm>
        <a:graphic>
          <a:graphicData uri="http://schemas.openxmlformats.org/drawingml/2006/table">
            <a:tbl>
              <a:tblPr/>
              <a:tblGrid>
                <a:gridCol w="1787400"/>
                <a:gridCol w="933480"/>
                <a:gridCol w="1011240"/>
                <a:gridCol w="916200"/>
                <a:gridCol w="1143000"/>
                <a:gridCol w="990360"/>
                <a:gridCol w="9907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文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行楷"/>
                        </a:rPr>
                        <a:t>班级平均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班级各科最高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学生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杨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曲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欧阳博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文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  <a:ea typeface="华文行楷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067680" cy="670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表现优秀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岩、魏子策、李慧、夏文静、邢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前十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伟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迟玉婷、李振华、王雪冰、孟凡博、张轩、李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进步较快的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艺霖、赵健、代安妮，祁若男、丁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吴柳虎、魏子策、张轩、姜博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邢宇、张轩、宋金明、夏文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本学期出勤良好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振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孟凡博、李慧、宋义双、郭连东、曲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8"/>
          <p:cNvSpPr/>
          <p:nvPr/>
        </p:nvSpPr>
        <p:spPr>
          <a:xfrm>
            <a:off x="6337440" y="3295800"/>
            <a:ext cx="20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tubiao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子宝典康熙年间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不败宝典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规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W020100929372548913723"/>
          <p:cNvPicPr/>
          <p:nvPr/>
        </p:nvPicPr>
        <p:blipFill>
          <a:blip r:embed="rId5"/>
          <a:stretch/>
        </p:blipFill>
        <p:spPr>
          <a:xfrm>
            <a:off x="5715000" y="1600200"/>
            <a:ext cx="3232080" cy="41148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5"/>
          <p:cNvSpPr/>
          <p:nvPr/>
        </p:nvSpPr>
        <p:spPr>
          <a:xfrm>
            <a:off x="1690920" y="609120"/>
            <a:ext cx="4945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总纲： 弟子规 圣人训 首孝悌 次谨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泛爱众 而亲仁 有余力 则学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066680" y="3241800"/>
            <a:ext cx="43434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首先，在日常生活中要做到孝敬父母，友爱兄弟姐妹，其次一切言行中，要谨慎，要讲信用；和大众交往时要平等仁和，要时常亲近有仁德的人，向他学习 。以上这些事是学习的根本，非做不可。如果做了还有余遐，更应努力的学习礼、乐、射、御、书、术等六艺，各种经典，以及其他有益的学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04920" y="595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通过细节改变习惯 再改变性格 从而改变命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学生存在的一些问题及给您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空挡时间安排不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0" y="1295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数同学没从根本上认识到学习的重要性，课堂不能集中注意力好好听课，在课堂还玩心十足，上课思路不能跟着老师走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听讲效率不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2666880"/>
            <a:ext cx="883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习上相当一部分同学存在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懒学情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学习不主动，有一些同学根本不会自主学习，学习根本没有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37339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校园携带手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上课发信息，上网，看小说，百害而无一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457200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良的行为习惯，主要表现在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穿着打扮不得体，不讲文明礼貌，缺少认识错误的心理承受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早恋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781640" y="15231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当前高中校园早恋问题日趋严重，并呈现五个鲜明特征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380880" y="2559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行为公开化。以前学生恋爱是小偷式地下活动，而今学生恋爱毫无顾忌。他们之间的称呼也令人吃惊，“老婆，过来一下”、“老公，我先去点菜”，类似的语言在校园常能听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713040" y="33519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动作神速化。入学一个月后，高一学生早恋状况，每个班都不同程度地存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3567240" y="403776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方式信息化。利用手机、现代通讯工具表达爱意，或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谈情说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03560" y="46476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恋爱联盟化。几对人集体行动，同时约会、同场所举止亲昵，形成恋爱同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380880" y="5684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后果疯狂化。处理早恋问题成了学校、班主任花精力最大、效果最不明显的工作。不少学校处理方法比较简单，往往是发现问题后严肃批评，通报处分，告诉家长，直至退学。这些传统方法收效甚微，甚至造成严重后果。所以，如何科学地正确地应对高中学生早恋是摆在学校、家庭面前的急待解决的问题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02T08:53:5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