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CE0-3A8C-47B6-BB31-D604599D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3A12-1B44-41C1-A190-A4891BF3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6370-192F-49B7-B132-A86CF888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2058-C54E-4511-A0D9-EA9A62DDF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5AD0-04A7-4638-9BD9-36FD8A5B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D44E-1C4F-4034-AE29-64452A85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48ED-2F00-4090-8E17-97119C01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E621-A18D-4B1A-A3FC-6620837A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653D-40C9-4C52-A897-7C0E4D97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5E71-5FFD-4A24-9F6B-F33A97C4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756D-4FC8-4094-AEDF-51E63661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4E5C-5C4E-4302-8106-EB1FEBF8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78ED-63BF-4921-8A0E-EF6F00A1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4480-5BCA-445F-945F-15870249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7BDC-2B7E-4915-A995-47E59142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3C1A-E981-46F8-94A9-7FCB1B39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265D-7083-47FD-AF39-D4B98448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88BE-3C07-4857-9EF7-A2D15924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DA9C-2686-466E-BC47-0DDFFD79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906-9396-4D94-B573-827DA70E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BD6D-E4BF-43DC-B2DA-6DEE93E9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9A9C-1819-489E-826D-C1354EE8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E13A-6563-470A-98E3-DAADA15D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BDC-53B8-4207-9067-FB515433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31240" y="5690880"/>
            <a:ext cx="2811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631240" y="364680"/>
            <a:ext cx="28116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2840" y="6269040"/>
            <a:ext cx="7221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c8c8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AEFA-0434-4F88-9444-8D6E4511A6DB}" type="slidenum">
              <a:rPr b="0" lang="en-US" sz="800" spc="-1" strike="noStrike">
                <a:solidFill>
                  <a:srgbClr val="8c8c8c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11631240" y="5690880"/>
            <a:ext cx="2811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11631240" y="364680"/>
            <a:ext cx="28116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312840" y="6269040"/>
            <a:ext cx="7221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c8c8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8C88-DED6-4961-A4E4-83E8E0FDEDDC}" type="slidenum">
              <a:rPr b="0" lang="en-US" sz="800" spc="-1" strike="noStrike">
                <a:solidFill>
                  <a:srgbClr val="8c8c8c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75564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ITLE LAYOUT</a:t>
            </a:r>
            <a:endParaRPr b="0" lang="en-US" sz="80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09480" y="3955680"/>
            <a:ext cx="6858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宋体"/>
              </a:rPr>
              <a:t>Subtitl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5960" y="38412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-36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55960" y="2239920"/>
            <a:ext cx="4799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ITLE AND CONTENT LAYOUT WITH LIS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ITLE AND CONTENT LAYOUT WITH CHAR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pic>
        <p:nvPicPr>
          <p:cNvPr id="202" name="Content Placeholder 5" descr="Clustered Column Chart"/>
          <p:cNvPicPr/>
          <p:nvPr/>
        </p:nvPicPr>
        <p:blipFill>
          <a:blip r:embed="rId2"/>
          <a:stretch/>
        </p:blipFill>
        <p:spPr>
          <a:xfrm>
            <a:off x="1930320" y="1936800"/>
            <a:ext cx="9474120" cy="458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WO CONTENT LAYOUT WITH TABLE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981080" y="1980720"/>
            <a:ext cx="4572000" cy="44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781680" y="1981080"/>
          <a:ext cx="4572000" cy="20890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95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76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4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WO CONTENT LAYOUT WITH SMARTAR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981080" y="1980720"/>
            <a:ext cx="4572000" cy="44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8" name="Content Placeholder 4" descr="Interconnected Block Process"/>
          <p:cNvPicPr/>
          <p:nvPr/>
        </p:nvPicPr>
        <p:blipFill>
          <a:blip r:embed="rId2"/>
          <a:stretch/>
        </p:blipFill>
        <p:spPr>
          <a:xfrm>
            <a:off x="6778800" y="1981080"/>
            <a:ext cx="4730400" cy="44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22240"/>
            <a:ext cx="8686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2835000"/>
            <a:ext cx="8686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59200" y="40968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6600" y="380520"/>
            <a:ext cx="54892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59200" y="223848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81080" y="1679040"/>
            <a:ext cx="4572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981080" y="2509920"/>
            <a:ext cx="45720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781680" y="1679040"/>
            <a:ext cx="4572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781680" y="2509920"/>
            <a:ext cx="45720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2:50:02Z</dcterms:created>
  <dc:creator/>
  <dc:description/>
  <dc:language>en-US</dc:language>
  <cp:lastModifiedBy/>
  <dcterms:modified xsi:type="dcterms:W3CDTF">2014-07-19T07:15:1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  <property fmtid="{D5CDD505-2E9C-101B-9397-08002B2CF9AE}" pid="3" name="_TemplateID">
    <vt:lpwstr>TC030310279991</vt:lpwstr>
  </property>
</Properties>
</file>