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40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34.jpeg" ContentType="image/jpeg"/>
  <Override PartName="/ppt/media/image13.png" ContentType="image/png"/>
  <Override PartName="/ppt/media/image9.jpeg" ContentType="image/jpeg"/>
  <Override PartName="/ppt/media/image31.png" ContentType="image/png"/>
  <Override PartName="/ppt/media/image33.png" ContentType="image/png"/>
  <Override PartName="/ppt/media/image38.jpeg" ContentType="image/jpeg"/>
  <Override PartName="/ppt/media/image7.jpeg" ContentType="image/jpeg"/>
  <Override PartName="/ppt/media/image5.gif" ContentType="image/gif"/>
  <Override PartName="/ppt/media/image35.png" ContentType="image/png"/>
  <Override PartName="/ppt/media/image4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754A-71BA-4BE7-9998-4768F48C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8EB4-7C58-4823-8B5A-910B8164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F7E-62C2-42A3-83F1-CFB68A6B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5D1F-0594-4F2D-B1F6-6F39775F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A17-C085-48D9-8DEF-0C851825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6271-6072-4CB3-8DB3-60C059C6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73A9-6006-448F-B4FD-442427B3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D4C-A099-4E3F-9753-FD92463C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131-C2BF-4259-B996-F7786E49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7DC8-BBDC-40D7-8FD9-ECAF3ECD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B937-16A2-4A4E-8615-82F202D8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E808-B3EC-4634-8480-FAD9ED4F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30E3-6BE9-4733-9392-2D1E698FA21A}" type="slidenum">
              <a: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0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5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5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33080" cy="7224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677440" y="6421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7632720" cy="5185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50920" y="0"/>
            <a:ext cx="5689440" cy="26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猴王出世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4"/>
          <p:cNvGrpSpPr/>
          <p:nvPr/>
        </p:nvGrpSpPr>
        <p:grpSpPr>
          <a:xfrm>
            <a:off x="0" y="0"/>
            <a:ext cx="9143280" cy="6884280"/>
            <a:chOff x="0" y="0"/>
            <a:chExt cx="9143280" cy="6884280"/>
          </a:xfrm>
        </p:grpSpPr>
        <p:pic>
          <p:nvPicPr>
            <p:cNvPr id="90" name="Picture 5" descr="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280" cy="68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1"/>
            <p:cNvPicPr/>
            <p:nvPr/>
          </p:nvPicPr>
          <p:blipFill>
            <a:blip r:embed="rId2"/>
            <a:srcRect l="2126" t="82165" r="82863" b="1772"/>
            <a:stretch/>
          </p:blipFill>
          <p:spPr>
            <a:xfrm>
              <a:off x="3366000" y="5700600"/>
              <a:ext cx="2117520" cy="89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WordArt 7"/>
            <p:cNvSpPr txBox="1"/>
            <p:nvPr/>
          </p:nvSpPr>
          <p:spPr>
            <a:xfrm>
              <a:off x="3366000" y="5356800"/>
              <a:ext cx="2444760" cy="109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buClr>
                  <a:srgbClr val="800080"/>
                </a:buClr>
                <a:buFont typeface="楷体_GB2312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仙石</a:t>
              </a:r>
              <a:endParaRPr b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20051018195601909"/>
          <p:cNvPicPr/>
          <p:nvPr/>
        </p:nvPicPr>
        <p:blipFill>
          <a:blip r:embed="rId1"/>
          <a:stretch/>
        </p:blipFill>
        <p:spPr>
          <a:xfrm>
            <a:off x="755640" y="542880"/>
            <a:ext cx="8783640" cy="63151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576360" y="2349360"/>
            <a:ext cx="83167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楷体_GB2312"/>
              </a:rPr>
              <a:t>     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石猴从哪里来？</a:t>
            </a: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     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石猴怎么成为猴王的？</a:t>
            </a: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95" name="12.MPG" descr=""/>
          <p:cNvPicPr/>
          <p:nvPr/>
        </p:nvPicPr>
        <p:blipFill>
          <a:blip r:embed="rId2"/>
          <a:stretch/>
        </p:blipFill>
        <p:spPr>
          <a:xfrm>
            <a:off x="250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564000" y="5589720"/>
            <a:ext cx="2376360" cy="579240"/>
          </a:xfrm>
          <a:prstGeom prst="rect">
            <a:avLst/>
          </a:prstGeom>
          <a:solidFill>
            <a:srgbClr val="6a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31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5"/>
          <p:cNvSpPr txBox="1"/>
          <p:nvPr/>
        </p:nvSpPr>
        <p:spPr>
          <a:xfrm rot="5400000">
            <a:off x="4715280" y="2780280"/>
            <a:ext cx="496872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石猴出世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62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-2692440"/>
            <a:ext cx="9144000" cy="9753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小学语文(记叙文）03"/>
          <p:cNvPicPr/>
          <p:nvPr/>
        </p:nvPicPr>
        <p:blipFill>
          <a:blip r:embed="rId2"/>
          <a:stretch/>
        </p:blipFill>
        <p:spPr>
          <a:xfrm>
            <a:off x="1116000" y="54936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4"/>
          <p:cNvSpPr/>
          <p:nvPr/>
        </p:nvSpPr>
        <p:spPr>
          <a:xfrm>
            <a:off x="1476360" y="1197000"/>
            <a:ext cx="2303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buClr>
                <a:srgbClr val="80008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品 析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02" name="Text Box 50"/>
          <p:cNvSpPr/>
          <p:nvPr/>
        </p:nvSpPr>
        <p:spPr>
          <a:xfrm>
            <a:off x="971640" y="1916280"/>
            <a:ext cx="770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   </a:t>
            </a:r>
            <a:r>
              <a:rPr b="1" lang="zh-CN" sz="2600" spc="-1" strike="noStrike">
                <a:solidFill>
                  <a:srgbClr val="800080"/>
                </a:solidFill>
                <a:latin typeface="Adobe 楷体 Std R"/>
                <a:ea typeface="Adobe 楷体 Std R"/>
              </a:rPr>
              <a:t>四面更无树木遮阴，左右倒有芝兰相衬。盖自开辟以来，每受天真地秀，日精月华，感之既久，遂有灵通之意。内育仙胞，一日迸裂，产一石卵，似圆球样大。因见风，化作一个石猴。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03" name="Text Box 58"/>
          <p:cNvSpPr/>
          <p:nvPr/>
        </p:nvSpPr>
        <p:spPr>
          <a:xfrm>
            <a:off x="971640" y="4005360"/>
            <a:ext cx="684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dobe 楷体 Std R"/>
                <a:ea typeface="Adobe 楷体 Std R"/>
              </a:rPr>
              <a:t>            </a:t>
            </a:r>
            <a:r>
              <a:rPr b="1" lang="zh-CN" sz="2600" spc="-1" strike="noStrike">
                <a:solidFill>
                  <a:srgbClr val="ff3300"/>
                </a:solidFill>
                <a:latin typeface="Adobe 楷体 Std R"/>
                <a:ea typeface="Adobe 楷体 Std R"/>
              </a:rPr>
              <a:t>这一段写出了石猴的出生环境及经过。好一个神奇的仙境宝地</a:t>
            </a:r>
            <a:r>
              <a:rPr b="1" lang="en-US" sz="2600" spc="-1" strike="noStrike">
                <a:solidFill>
                  <a:srgbClr val="ff3300"/>
                </a:solidFill>
                <a:latin typeface="Adobe 楷体 Std R"/>
                <a:ea typeface="Adobe 楷体 Std R"/>
              </a:rPr>
              <a:t>!</a:t>
            </a:r>
            <a:r>
              <a:rPr b="1" lang="zh-CN" sz="2600" spc="-1" strike="noStrike">
                <a:solidFill>
                  <a:srgbClr val="ff3300"/>
                </a:solidFill>
                <a:latin typeface="Adobe 楷体 Std R"/>
                <a:ea typeface="Adobe 楷体 Std R"/>
              </a:rPr>
              <a:t>石猴不比其他众猴，是一块饱受日月精华的顽石瞬间迸裂而生的。为后文写孙悟空的神通广大、降妖伏魔埋下了伏笔。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692360" y="0"/>
            <a:ext cx="5689440" cy="350028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6699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猴王出世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35020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出世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06" name=""/>
          <p:cNvSpPr/>
          <p:nvPr/>
        </p:nvSpPr>
        <p:spPr>
          <a:xfrm>
            <a:off x="2627280" y="342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一块仙石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07" name=""/>
          <p:cNvSpPr/>
          <p:nvPr/>
        </p:nvSpPr>
        <p:spPr>
          <a:xfrm>
            <a:off x="5148360" y="3429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迸裂产石猴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4869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成王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4221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探洞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414972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我进去！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11" name=""/>
          <p:cNvSpPr/>
          <p:nvPr/>
        </p:nvSpPr>
        <p:spPr>
          <a:xfrm>
            <a:off x="2627280" y="55180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称王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5373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随我进来！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13" name=""/>
          <p:cNvSpPr/>
          <p:nvPr/>
        </p:nvSpPr>
        <p:spPr>
          <a:xfrm>
            <a:off x="2340000" y="436572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0051018195601909"/>
          <p:cNvPicPr/>
          <p:nvPr/>
        </p:nvPicPr>
        <p:blipFill>
          <a:blip r:embed="rId1"/>
          <a:stretch/>
        </p:blipFill>
        <p:spPr>
          <a:xfrm>
            <a:off x="0" y="128520"/>
            <a:ext cx="9360000" cy="67294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826920" y="1341360"/>
            <a:ext cx="8317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楷体_GB2312"/>
              </a:rPr>
              <a:t>     </a:t>
            </a: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     </a:t>
            </a:r>
            <a:r>
              <a:rPr b="1" lang="zh-CN" sz="6600" spc="-1" strike="noStrike">
                <a:solidFill>
                  <a:srgbClr val="800080"/>
                </a:solidFill>
                <a:latin typeface="楷体_GB2312"/>
              </a:rPr>
              <a:t>石猴怎么成为猴王的？</a:t>
            </a:r>
            <a:endParaRPr b="1" lang="en-US" sz="6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16" name="矩形 4"/>
          <p:cNvSpPr/>
          <p:nvPr/>
        </p:nvSpPr>
        <p:spPr>
          <a:xfrm>
            <a:off x="3143160" y="135720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e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eff"/>
                </a:solidFill>
                <a:latin typeface="楷体_GB2312"/>
              </a:rPr>
              <a:t>我知道</a:t>
            </a:r>
            <a:endParaRPr b="1" lang="en-US" sz="40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1357200" y="2928960"/>
            <a:ext cx="10573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19" name="矩形 21"/>
          <p:cNvSpPr/>
          <p:nvPr/>
        </p:nvSpPr>
        <p:spPr>
          <a:xfrm>
            <a:off x="971640" y="1400040"/>
            <a:ext cx="7215120" cy="214308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Adobe 楷体 Std R"/>
                <a:ea typeface="Adobe 楷体 Std R"/>
              </a:rPr>
              <a:t>石猴能别猴之所不能，敢为群猴之先，能率领群猴是石猴能成为美猴王的原因。</a:t>
            </a: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dobe 楷体 Std 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65"/>
          <p:cNvGrpSpPr/>
          <p:nvPr/>
        </p:nvGrpSpPr>
        <p:grpSpPr>
          <a:xfrm>
            <a:off x="0" y="0"/>
            <a:ext cx="9179640" cy="6857280"/>
            <a:chOff x="0" y="0"/>
            <a:chExt cx="9179640" cy="6857280"/>
          </a:xfrm>
        </p:grpSpPr>
        <p:pic>
          <p:nvPicPr>
            <p:cNvPr id="121" name="Picture 66" descr="xy0006"/>
            <p:cNvPicPr/>
            <p:nvPr/>
          </p:nvPicPr>
          <p:blipFill>
            <a:blip r:embed="rId1"/>
            <a:srcRect l="32292" t="10834" r="0" b="15138"/>
            <a:stretch/>
          </p:blipFill>
          <p:spPr>
            <a:xfrm>
              <a:off x="0" y="3355920"/>
              <a:ext cx="3962520" cy="34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67" descr="xy0007"/>
            <p:cNvPicPr/>
            <p:nvPr/>
          </p:nvPicPr>
          <p:blipFill>
            <a:blip r:embed="rId2"/>
            <a:srcRect l="21387" t="10417" r="0" b="40009"/>
            <a:stretch/>
          </p:blipFill>
          <p:spPr>
            <a:xfrm>
              <a:off x="4385880" y="0"/>
              <a:ext cx="4793760" cy="26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8" descr="xy0006"/>
            <p:cNvPicPr/>
            <p:nvPr/>
          </p:nvPicPr>
          <p:blipFill>
            <a:blip r:embed="rId3"/>
            <a:srcRect l="0" t="0" r="0" b="15138"/>
            <a:stretch/>
          </p:blipFill>
          <p:spPr>
            <a:xfrm>
              <a:off x="3706560" y="2516040"/>
              <a:ext cx="5451840" cy="43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69" descr="xy0007"/>
            <p:cNvPicPr/>
            <p:nvPr/>
          </p:nvPicPr>
          <p:blipFill>
            <a:blip r:embed="rId4"/>
            <a:srcRect l="18307" t="10417" r="0" b="12396"/>
            <a:stretch/>
          </p:blipFill>
          <p:spPr>
            <a:xfrm>
              <a:off x="0" y="0"/>
              <a:ext cx="4797000" cy="35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70" descr="xy0007"/>
            <p:cNvPicPr/>
            <p:nvPr/>
          </p:nvPicPr>
          <p:blipFill>
            <a:blip r:embed="rId5"/>
            <a:srcRect l="30704" t="1181" r="60625" b="81493"/>
            <a:stretch/>
          </p:blipFill>
          <p:spPr>
            <a:xfrm>
              <a:off x="927360" y="199080"/>
              <a:ext cx="1177920" cy="12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71" descr="xy0007"/>
            <p:cNvPicPr/>
            <p:nvPr/>
          </p:nvPicPr>
          <p:blipFill>
            <a:blip r:embed="rId6"/>
            <a:srcRect l="30704" t="1181" r="60625" b="81493"/>
            <a:stretch/>
          </p:blipFill>
          <p:spPr>
            <a:xfrm>
              <a:off x="5558040" y="0"/>
              <a:ext cx="101160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72" descr="xy0006"/>
            <p:cNvPicPr/>
            <p:nvPr/>
          </p:nvPicPr>
          <p:blipFill>
            <a:blip r:embed="rId7"/>
            <a:srcRect l="53410" t="59963" r="31689" b="34674"/>
            <a:stretch/>
          </p:blipFill>
          <p:spPr>
            <a:xfrm>
              <a:off x="5896440" y="5129280"/>
              <a:ext cx="101160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73" descr="xy0006"/>
            <p:cNvPicPr/>
            <p:nvPr/>
          </p:nvPicPr>
          <p:blipFill>
            <a:blip r:embed="rId8"/>
            <a:srcRect l="53410" t="59963" r="31689" b="34674"/>
            <a:stretch/>
          </p:blipFill>
          <p:spPr>
            <a:xfrm>
              <a:off x="7243200" y="2481120"/>
              <a:ext cx="81288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74" descr="xy0006"/>
            <p:cNvPicPr/>
            <p:nvPr/>
          </p:nvPicPr>
          <p:blipFill>
            <a:blip r:embed="rId9"/>
            <a:srcRect l="53410" t="59963" r="31689" b="34674"/>
            <a:stretch/>
          </p:blipFill>
          <p:spPr>
            <a:xfrm>
              <a:off x="8001720" y="2481120"/>
              <a:ext cx="114804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75" descr="xy0006"/>
            <p:cNvPicPr/>
            <p:nvPr/>
          </p:nvPicPr>
          <p:blipFill>
            <a:blip r:embed="rId10"/>
            <a:srcRect l="53410" t="59963" r="31689" b="34674"/>
            <a:stretch/>
          </p:blipFill>
          <p:spPr>
            <a:xfrm>
              <a:off x="504000" y="5229360"/>
              <a:ext cx="843120" cy="2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 Box 17"/>
          <p:cNvSpPr/>
          <p:nvPr/>
        </p:nvSpPr>
        <p:spPr>
          <a:xfrm>
            <a:off x="0" y="404640"/>
            <a:ext cx="9144000" cy="1828800"/>
          </a:xfrm>
          <a:prstGeom prst="rect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</a:rPr>
              <a:t>　　</a:t>
            </a:r>
            <a:r>
              <a:rPr b="1" lang="zh-CN" sz="5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那猴在山中，却会行走跳跃，食草木，饮涧泉，采山花，觅树果；与狼虫为伴，虎豹为群，獐鹿为友，猕猿为亲；夜宿石崖之下，朝游峰洞之中。</a:t>
            </a:r>
            <a:endParaRPr b="1" lang="en-US" sz="5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32" name="Line 76"/>
          <p:cNvSpPr/>
          <p:nvPr/>
        </p:nvSpPr>
        <p:spPr>
          <a:xfrm>
            <a:off x="1547640" y="2924280"/>
            <a:ext cx="691380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33" name="Line 77"/>
          <p:cNvSpPr/>
          <p:nvPr/>
        </p:nvSpPr>
        <p:spPr>
          <a:xfrm>
            <a:off x="179280" y="3789360"/>
            <a:ext cx="367200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34" name="Line 78"/>
          <p:cNvSpPr/>
          <p:nvPr/>
        </p:nvSpPr>
        <p:spPr>
          <a:xfrm>
            <a:off x="4356000" y="3789360"/>
            <a:ext cx="4537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35" name="Line 79"/>
          <p:cNvSpPr/>
          <p:nvPr/>
        </p:nvSpPr>
        <p:spPr>
          <a:xfrm>
            <a:off x="250920" y="4581360"/>
            <a:ext cx="8785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36" name="Line 80"/>
          <p:cNvSpPr/>
          <p:nvPr/>
        </p:nvSpPr>
        <p:spPr>
          <a:xfrm>
            <a:off x="179280" y="5445000"/>
            <a:ext cx="1008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>
    <p:pull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20051018195643398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1619280" y="27082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楷体_GB2312"/>
                <a:ea typeface="黑体"/>
              </a:rPr>
              <a:t>      </a:t>
            </a: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258920" y="1197000"/>
            <a:ext cx="698508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楷体_GB2312"/>
              </a:rPr>
              <a:t>  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那石猴在山中，却会行走跳跃，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</a:rPr>
              <a:t>食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草木，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</a:rPr>
              <a:t>饮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涧泉，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</a:rPr>
              <a:t>采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山花，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</a:rPr>
              <a:t>觅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树果；与狼虫为伴，虎豹为群，獐鹿为友，猕猿为亲；夜宿石崖之下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，朝游峰洞之中。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140" name="命运.Wma" descr=""/>
          <p:cNvPicPr/>
          <p:nvPr/>
        </p:nvPicPr>
        <p:blipFill>
          <a:blip r:embed="rId2"/>
          <a:stretch/>
        </p:blipFill>
        <p:spPr>
          <a:xfrm>
            <a:off x="7740720" y="479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5" dur="indefinite" restart="never" nodeType="tmRoot">
          <p:childTnLst>
            <p:seq>
              <p:cTn id="256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243565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20051018195643398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1619280" y="27082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楷体_GB2312"/>
                <a:ea typeface="黑体"/>
              </a:rPr>
              <a:t>      </a:t>
            </a: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258920" y="1197000"/>
            <a:ext cx="698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  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那石猴在山中，却会行走跳跃，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</a:rPr>
              <a:t>食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草木，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</a:rPr>
              <a:t>饮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涧泉，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</a:rPr>
              <a:t>采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山花，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</a:rPr>
              <a:t>觅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树果；与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</a:rPr>
              <a:t>狼虫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为伴，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</a:rPr>
              <a:t>虎豹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为群，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</a:rPr>
              <a:t>獐鹿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为友，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</a:rPr>
              <a:t>猕猿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为亲；夜宿石崖之下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，朝游峰洞之中。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144" name="命运.Wma" descr=""/>
          <p:cNvPicPr/>
          <p:nvPr/>
        </p:nvPicPr>
        <p:blipFill>
          <a:blip r:embed="rId2"/>
          <a:stretch/>
        </p:blipFill>
        <p:spPr>
          <a:xfrm>
            <a:off x="7740720" y="479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61" dur="indefinite" restart="never" nodeType="tmRoot">
          <p:childTnLst>
            <p:seq>
              <p:cTn id="262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243565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1640" y="105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作者简介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7" name=""/>
          <p:cNvSpPr/>
          <p:nvPr/>
        </p:nvSpPr>
        <p:spPr>
          <a:xfrm>
            <a:off x="3059280" y="2133720"/>
            <a:ext cx="324144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吴承恩，明代小说家。字汝忠，号射阳山人，怀安山阳（江苏淮安）人。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327672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87280" y="69228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900000" y="1916280"/>
            <a:ext cx="7634520" cy="58896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楷体_GB2312"/>
              </a:rPr>
              <a:t>       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那猴在山中，却会行走跳跃，食草木，饮涧泉，采山花，觅树果；与狼虫为伴，虎豹为群，獐鹿为友，猕猿为亲；夜宿石崖之下，朝游峰洞之中。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900000" y="4365720"/>
            <a:ext cx="7704360" cy="157896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ff3300"/>
                </a:solidFill>
                <a:latin typeface="楷体_GB2312"/>
              </a:rPr>
              <a:t>这一段作者写了石猴日常生活的多个方面。语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楷体_GB2312"/>
              </a:rPr>
              <a:t>言精练，寥寥几笔就勾勒出一个在林间自由自在、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楷体_GB2312"/>
              </a:rPr>
              <a:t>快活逍遥、亲和友善而又顽皮可爱的小石猴。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1476360" y="1268280"/>
            <a:ext cx="2303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buClr>
                <a:srgbClr val="80008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品 析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6360" cy="6754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1008000" y="2422440"/>
            <a:ext cx="8172360" cy="1578960"/>
          </a:xfrm>
          <a:prstGeom prst="rect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他瞑目蹲身，将身一纵，径跳入瀑布泉中，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忽睁睛抬头观看，那里边却无水无波，明明朗朗的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一架桥梁。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116000" y="4294080"/>
            <a:ext cx="7561440" cy="157896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ff3300"/>
                </a:solidFill>
                <a:latin typeface="楷体_GB2312"/>
              </a:rPr>
              <a:t>这一句写石猴入洞的情景，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600" spc="-1" strike="noStrike">
                <a:solidFill>
                  <a:srgbClr val="ff3300"/>
                </a:solidFill>
                <a:latin typeface="楷体_GB2312"/>
              </a:rPr>
              <a:t>瞑、蹲、纵、跳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”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楷体_GB2312"/>
              </a:rPr>
              <a:t>等一系列的动作描写出了石猴的机智、灵巧、敏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楷体_GB2312"/>
              </a:rPr>
              <a:t>捷、勇敢的特点。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476360" y="1557360"/>
            <a:ext cx="2303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buClr>
                <a:srgbClr val="80008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品 析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2268360" y="-892080"/>
            <a:ext cx="13716000" cy="8572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00000" y="1125360"/>
            <a:ext cx="727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宋体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Garamond"/>
                <a:ea typeface="宋体"/>
              </a:rPr>
              <a:t>连呼了三声，忽见丛杂中跳出一个石猴，应声高叫道：“</a:t>
            </a:r>
            <a:r>
              <a:rPr b="1" lang="zh-CN" sz="4000" spc="-1" strike="noStrike">
                <a:solidFill>
                  <a:srgbClr val="ff0000"/>
                </a:solidFill>
                <a:latin typeface="Garamond"/>
                <a:ea typeface="宋体"/>
              </a:rPr>
              <a:t>我进去！我进去！”</a:t>
            </a:r>
            <a:r>
              <a:rPr b="1" lang="zh-CN" sz="4000" spc="-1" strike="noStrike">
                <a:solidFill>
                  <a:srgbClr val="ffffff"/>
                </a:solidFill>
                <a:latin typeface="Garamond"/>
                <a:ea typeface="宋体"/>
              </a:rPr>
              <a:t>他瞑目蹲身，将身一纵，径跳入瀑布泉中，忽睁睛抬头观看，那里边却无水无波，明明朗朗的一架桥梁。</a:t>
            </a:r>
            <a:endParaRPr b="1" lang="en-US" sz="40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-2268360" y="-892080"/>
            <a:ext cx="13716000" cy="8572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71640" y="907920"/>
            <a:ext cx="727236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Garamond"/>
                <a:ea typeface="宋体"/>
              </a:rPr>
              <a:t>石猴喜不自胜，忽抽身往外便走，复瞑目蹲身，跳出水外，打了两个呵呵道：“</a:t>
            </a:r>
            <a:r>
              <a:rPr b="1" lang="zh-CN" sz="4000" spc="-1" strike="noStrike">
                <a:solidFill>
                  <a:srgbClr val="ff0000"/>
                </a:solidFill>
                <a:latin typeface="Garamond"/>
                <a:ea typeface="宋体"/>
              </a:rPr>
              <a:t>大造化！大造化！</a:t>
            </a:r>
            <a:r>
              <a:rPr b="1" lang="zh-CN" sz="4000" spc="-1" strike="noStrike">
                <a:solidFill>
                  <a:srgbClr val="ffffff"/>
                </a:solidFill>
                <a:latin typeface="Garamond"/>
                <a:ea typeface="宋体"/>
              </a:rPr>
              <a:t>”众猴把它围住，问道：“里面怎么样？水有多深？”石猴道：“</a:t>
            </a:r>
            <a:r>
              <a:rPr b="1" lang="zh-CN" sz="4000" spc="-1" strike="noStrike">
                <a:solidFill>
                  <a:srgbClr val="ff0000"/>
                </a:solidFill>
                <a:latin typeface="Garamond"/>
                <a:ea typeface="宋体"/>
              </a:rPr>
              <a:t>没水！没水！</a:t>
            </a:r>
            <a:r>
              <a:rPr b="1" lang="zh-CN" sz="4000" spc="-1" strike="noStrike">
                <a:solidFill>
                  <a:srgbClr val="ffffff"/>
                </a:solidFill>
                <a:latin typeface="Garamond"/>
                <a:ea typeface="宋体"/>
              </a:rPr>
              <a:t>原来是一座铁板桥。桥那边是天造地设的家当。”</a:t>
            </a:r>
            <a:endParaRPr b="1" lang="en-US" sz="40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2268360" y="-892080"/>
            <a:ext cx="13716000" cy="8572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84360" y="2738520"/>
            <a:ext cx="813564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宋体"/>
              </a:rPr>
              <a:t>石猴端坐上面道：“列位呵，‘</a:t>
            </a:r>
            <a:r>
              <a:rPr b="1" lang="zh-CN" sz="3600" spc="-1" strike="noStrike">
                <a:solidFill>
                  <a:srgbClr val="ff0000"/>
                </a:solidFill>
                <a:latin typeface="Garamond"/>
                <a:ea typeface="宋体"/>
              </a:rPr>
              <a:t>人而无信，不知其可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宋体"/>
              </a:rPr>
              <a:t>’。你们才说有本事进得来，出得去，不伤身体者，就拜他为王。我如今进来又出去，出去又进来，寻了这一个洞天与列位安眠稳睡，各享成家之福，何不拜我为王？”</a:t>
            </a:r>
            <a:endParaRPr b="1" lang="en-US" sz="36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1052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宋体"/>
              </a:rPr>
              <a:t>石猴却又瞑目蹲身，往里一跳，叫道：“</a:t>
            </a:r>
            <a:r>
              <a:rPr b="1" lang="zh-CN" sz="3600" spc="-1" strike="noStrike">
                <a:solidFill>
                  <a:srgbClr val="ff0000"/>
                </a:solidFill>
                <a:latin typeface="Garamond"/>
                <a:ea typeface="宋体"/>
              </a:rPr>
              <a:t>都随我进来！进来！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宋体"/>
              </a:rPr>
              <a:t>”</a:t>
            </a:r>
            <a:endParaRPr b="1" lang="en-US" sz="36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16000" y="47628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684360" y="1844640"/>
            <a:ext cx="8172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800080"/>
                </a:solidFill>
                <a:latin typeface="Adobe 楷体 Std R"/>
                <a:ea typeface="Adobe 楷体 Std R"/>
              </a:rPr>
              <a:t>石猴端坐上面道：“列位呵，‘人而无信，不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Adobe 楷体 Std R"/>
                <a:ea typeface="Adobe 楷体 Std R"/>
              </a:rPr>
              <a:t>知其可。’你们才说有本事进得来，出得去，不伤身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Adobe 楷体 Std R"/>
                <a:ea typeface="Adobe 楷体 Std R"/>
              </a:rPr>
              <a:t>体者，就拜他为王。我如今进来又出去，出去又进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Adobe 楷体 Std R"/>
                <a:ea typeface="Adobe 楷体 Std R"/>
              </a:rPr>
              <a:t>来，寻了这一个洞天与列位安眠稳睡，各享成家之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Adobe 楷体 Std R"/>
                <a:ea typeface="Adobe 楷体 Std R"/>
              </a:rPr>
              <a:t>福，何不拜我为王</a:t>
            </a:r>
            <a:r>
              <a:rPr b="1" lang="en-US" sz="2600" spc="-1" strike="noStrike">
                <a:solidFill>
                  <a:srgbClr val="800080"/>
                </a:solidFill>
                <a:latin typeface="Adobe 楷体 Std R"/>
                <a:ea typeface="Adobe 楷体 Std R"/>
              </a:rPr>
              <a:t>?”</a:t>
            </a:r>
            <a:r>
              <a:rPr b="1" lang="zh-CN" sz="2600" spc="-1" strike="noStrike">
                <a:solidFill>
                  <a:srgbClr val="800080"/>
                </a:solidFill>
                <a:latin typeface="Adobe 楷体 Std R"/>
                <a:ea typeface="Adobe 楷体 Std R"/>
              </a:rPr>
              <a:t>众猴听说，即拱伏无违。一个个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Adobe 楷体 Std R"/>
                <a:ea typeface="Adobe 楷体 Std R"/>
              </a:rPr>
              <a:t>序齿排班，朝上礼拜，都称“千岁大王”。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258920" y="4581360"/>
            <a:ext cx="70581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</a:rPr>
              <a:t>从石猴的话可以看出他的聪明、机敏、爽朗、</a:t>
            </a:r>
            <a:endParaRPr b="1" lang="en-US" sz="2400" spc="-1" strike="noStrike">
              <a:solidFill>
                <a:srgbClr val="800080"/>
              </a:solidFill>
              <a:latin typeface="楷体_GB2312"/>
            </a:endParaRPr>
          </a:p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</a:rPr>
              <a:t>坦率；看出他做事有心计，是天生做首领、头目的</a:t>
            </a:r>
            <a:endParaRPr b="1" lang="en-US" sz="2400" spc="-1" strike="noStrike">
              <a:solidFill>
                <a:srgbClr val="800080"/>
              </a:solidFill>
              <a:latin typeface="楷体_GB2312"/>
            </a:endParaRPr>
          </a:p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</a:rPr>
              <a:t>材料。这石猴因穿越水帘洞的壮举赢得群猴的敬</a:t>
            </a:r>
            <a:endParaRPr b="1" lang="en-US" sz="2400" spc="-1" strike="noStrike">
              <a:solidFill>
                <a:srgbClr val="800080"/>
              </a:solidFill>
              <a:latin typeface="楷体_GB2312"/>
            </a:endParaRPr>
          </a:p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</a:rPr>
              <a:t>仰、崇拜，最终被拥戴为王。 </a:t>
            </a:r>
            <a:endParaRPr b="1" lang="en-US" sz="2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403280" y="1052640"/>
            <a:ext cx="2303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buClr>
                <a:srgbClr val="80008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品 析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小学语文(记叙文）06"/>
          <p:cNvPicPr/>
          <p:nvPr/>
        </p:nvPicPr>
        <p:blipFill>
          <a:blip r:embed="rId2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6" descr="a7"/>
          <p:cNvPicPr/>
          <p:nvPr/>
        </p:nvPicPr>
        <p:blipFill>
          <a:blip r:embed="rId3"/>
          <a:stretch/>
        </p:blipFill>
        <p:spPr>
          <a:xfrm>
            <a:off x="1116000" y="1557360"/>
            <a:ext cx="1224000" cy="10126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7"/>
          <p:cNvSpPr/>
          <p:nvPr/>
        </p:nvSpPr>
        <p:spPr>
          <a:xfrm>
            <a:off x="2721600" y="1914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走进名篇 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71" name="Text Box 69"/>
          <p:cNvSpPr/>
          <p:nvPr/>
        </p:nvSpPr>
        <p:spPr>
          <a:xfrm>
            <a:off x="1187280" y="3141720"/>
            <a:ext cx="7417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我还知道</a:t>
            </a:r>
            <a:r>
              <a:rPr b="1" lang="en-US" sz="2600" spc="-1" strike="noStrike">
                <a:solidFill>
                  <a:srgbClr val="800080"/>
                </a:solidFill>
                <a:latin typeface="楷体_GB2312"/>
              </a:rPr>
              <a:t>《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西游记</a:t>
            </a:r>
            <a:r>
              <a:rPr b="1" lang="en-US" sz="2600" spc="-1" strike="noStrike">
                <a:solidFill>
                  <a:srgbClr val="800080"/>
                </a:solidFill>
                <a:latin typeface="楷体_GB2312"/>
              </a:rPr>
              <a:t>》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里一些有意思的故事，如</a:t>
            </a:r>
            <a:r>
              <a:rPr b="1" lang="en-US" sz="2600" spc="-1" strike="noStrike">
                <a:solidFill>
                  <a:srgbClr val="800080"/>
                </a:solidFill>
                <a:latin typeface="宋体"/>
                <a:ea typeface="宋体"/>
              </a:rPr>
              <a:t>_______________________________________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宋体"/>
                <a:ea typeface="宋体"/>
              </a:rPr>
              <a:t>_________________________________________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宋体"/>
                <a:ea typeface="宋体"/>
              </a:rPr>
              <a:t>_____________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。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3006000" y="1914480"/>
            <a:ext cx="83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一显身手 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116000" y="3429000"/>
            <a:ext cx="7416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拱伏无（  ）   各抒己（  ）   兴国（  ）邦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平（  ）近人  （  ）里如一    酸甜（  ）口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盛气（  ）人   千（  ）一发   身（  ）其境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176" name="Picture 7" descr="01"/>
          <p:cNvPicPr/>
          <p:nvPr/>
        </p:nvPicPr>
        <p:blipFill>
          <a:blip r:embed="rId3"/>
          <a:stretch/>
        </p:blipFill>
        <p:spPr>
          <a:xfrm>
            <a:off x="1900080" y="1989000"/>
            <a:ext cx="36828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2"/>
          <p:cNvSpPr/>
          <p:nvPr/>
        </p:nvSpPr>
        <p:spPr>
          <a:xfrm>
            <a:off x="2843280" y="0"/>
            <a:ext cx="38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6633"/>
                </a:solidFill>
                <a:latin typeface="Times New Roman"/>
                <a:ea typeface="华文新魏"/>
              </a:rPr>
              <a:t>课外拓展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981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Adobe 楷体 Std R"/>
              </a:rPr>
              <a:t>开展语文活动，把自己从书中读到或电影和电视剧中看到的西游记故事，讲给大家听。课外积极地读西游记原著，准备在适当时候咱们举行一次讲西游记的故事比赛。</a:t>
            </a: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80" name="AutoShape 5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 spd="slow">
    <p:blinds dir="horz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小学语文(记叙文）06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8"/>
          <p:cNvGrpSpPr/>
          <p:nvPr/>
        </p:nvGrpSpPr>
        <p:grpSpPr>
          <a:xfrm>
            <a:off x="611280" y="1773360"/>
            <a:ext cx="1725480" cy="1998720"/>
            <a:chOff x="611280" y="1773360"/>
            <a:chExt cx="1725480" cy="1998720"/>
          </a:xfrm>
        </p:grpSpPr>
        <p:pic>
          <p:nvPicPr>
            <p:cNvPr id="183" name="Picture 7" descr="07"/>
            <p:cNvPicPr/>
            <p:nvPr/>
          </p:nvPicPr>
          <p:blipFill>
            <a:blip r:embed="rId2"/>
            <a:stretch/>
          </p:blipFill>
          <p:spPr>
            <a:xfrm>
              <a:off x="611280" y="1773360"/>
              <a:ext cx="1725480" cy="19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3"/>
            <p:cNvSpPr/>
            <p:nvPr/>
          </p:nvSpPr>
          <p:spPr>
            <a:xfrm>
              <a:off x="1308960" y="220536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0080"/>
                  </a:solidFill>
                  <a:latin typeface="楷体_GB2312"/>
                </a:rPr>
                <a:t>讲一讲</a:t>
              </a:r>
              <a:endParaRPr b="1" lang="en-US" sz="32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sp>
        <p:nvSpPr>
          <p:cNvPr id="185" name="Text Box 4"/>
          <p:cNvSpPr/>
          <p:nvPr/>
        </p:nvSpPr>
        <p:spPr>
          <a:xfrm>
            <a:off x="2554200" y="1916280"/>
            <a:ext cx="56898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3000" spc="-1" strike="noStrike">
                <a:solidFill>
                  <a:srgbClr val="800080"/>
                </a:solidFill>
                <a:latin typeface="楷体_GB2312"/>
              </a:rPr>
              <a:t>根据下面的图片和简单的文字，说说与它相关的故事。</a:t>
            </a:r>
            <a:endParaRPr b="1" lang="en-US" sz="3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186" name="Picture 9" descr="美猴王龙宫借宝"/>
          <p:cNvPicPr/>
          <p:nvPr/>
        </p:nvPicPr>
        <p:blipFill>
          <a:blip r:embed="rId3"/>
          <a:stretch/>
        </p:blipFill>
        <p:spPr>
          <a:xfrm>
            <a:off x="2268360" y="4005360"/>
            <a:ext cx="1657440" cy="1209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悟空巧讨金箍棒"/>
          <p:cNvPicPr/>
          <p:nvPr/>
        </p:nvPicPr>
        <p:blipFill>
          <a:blip r:embed="rId4"/>
          <a:stretch/>
        </p:blipFill>
        <p:spPr>
          <a:xfrm>
            <a:off x="5580000" y="4005360"/>
            <a:ext cx="1528920" cy="11397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1"/>
          <p:cNvSpPr/>
          <p:nvPr/>
        </p:nvSpPr>
        <p:spPr>
          <a:xfrm>
            <a:off x="2361600" y="5516640"/>
            <a:ext cx="176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美猴王龙宫借宝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5673240" y="5516640"/>
            <a:ext cx="176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悟空巧讨金箍棒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190" name="hwcs-gwlzhf.mp3" descr=""/>
          <p:cNvPicPr/>
          <p:nvPr/>
        </p:nvPicPr>
        <p:blipFill>
          <a:blip r:embed="rId5"/>
          <a:stretch/>
        </p:blipFill>
        <p:spPr>
          <a:xfrm>
            <a:off x="4932360" y="126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0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00000" y="1052640"/>
            <a:ext cx="7704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我知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西游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里的四个主要人物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楷体_GB2312"/>
              </a:rPr>
              <a:t>   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02888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181080" y="2924280"/>
            <a:ext cx="2049480" cy="218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979640" y="2924280"/>
            <a:ext cx="2232000" cy="220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427640" y="2924280"/>
            <a:ext cx="2449440" cy="2143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020000" y="2924280"/>
            <a:ext cx="230328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小学语文(记叙文）06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3"/>
          <p:cNvGrpSpPr/>
          <p:nvPr/>
        </p:nvGrpSpPr>
        <p:grpSpPr>
          <a:xfrm>
            <a:off x="611280" y="1773360"/>
            <a:ext cx="1725480" cy="1998720"/>
            <a:chOff x="611280" y="1773360"/>
            <a:chExt cx="1725480" cy="1998720"/>
          </a:xfrm>
        </p:grpSpPr>
        <p:pic>
          <p:nvPicPr>
            <p:cNvPr id="193" name="Picture 4" descr="07"/>
            <p:cNvPicPr/>
            <p:nvPr/>
          </p:nvPicPr>
          <p:blipFill>
            <a:blip r:embed="rId2"/>
            <a:stretch/>
          </p:blipFill>
          <p:spPr>
            <a:xfrm>
              <a:off x="611280" y="1773360"/>
              <a:ext cx="1725480" cy="19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5"/>
            <p:cNvSpPr/>
            <p:nvPr/>
          </p:nvSpPr>
          <p:spPr>
            <a:xfrm>
              <a:off x="1308960" y="220536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0080"/>
                  </a:solidFill>
                  <a:latin typeface="楷体_GB2312"/>
                </a:rPr>
                <a:t>讲一讲</a:t>
              </a:r>
              <a:endParaRPr b="1" lang="en-US" sz="32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sp>
        <p:nvSpPr>
          <p:cNvPr id="195" name="Text Box 6"/>
          <p:cNvSpPr/>
          <p:nvPr/>
        </p:nvSpPr>
        <p:spPr>
          <a:xfrm>
            <a:off x="2554200" y="1916280"/>
            <a:ext cx="56898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3000" spc="-1" strike="noStrike">
                <a:solidFill>
                  <a:srgbClr val="800080"/>
                </a:solidFill>
                <a:latin typeface="楷体_GB2312"/>
              </a:rPr>
              <a:t>根据下面的图片和简单的文字，说说与它相关的故事。</a:t>
            </a:r>
            <a:endParaRPr b="1" lang="en-US" sz="30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2660040" y="5373720"/>
            <a:ext cx="136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官封弼马温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5535360" y="5516640"/>
            <a:ext cx="156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悟空弃官回山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198" name="Picture 11" descr="官封弼马温"/>
          <p:cNvPicPr/>
          <p:nvPr/>
        </p:nvPicPr>
        <p:blipFill>
          <a:blip r:embed="rId3"/>
          <a:stretch/>
        </p:blipFill>
        <p:spPr>
          <a:xfrm>
            <a:off x="2556000" y="3933720"/>
            <a:ext cx="1590480" cy="1130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孙悟空弃官回山"/>
          <p:cNvPicPr/>
          <p:nvPr/>
        </p:nvPicPr>
        <p:blipFill>
          <a:blip r:embed="rId4"/>
          <a:stretch/>
        </p:blipFill>
        <p:spPr>
          <a:xfrm>
            <a:off x="5435640" y="4022640"/>
            <a:ext cx="1520640" cy="113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小学语文(记叙文）06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3"/>
          <p:cNvGrpSpPr/>
          <p:nvPr/>
        </p:nvGrpSpPr>
        <p:grpSpPr>
          <a:xfrm>
            <a:off x="611280" y="1773360"/>
            <a:ext cx="1725480" cy="1998720"/>
            <a:chOff x="611280" y="1773360"/>
            <a:chExt cx="1725480" cy="1998720"/>
          </a:xfrm>
        </p:grpSpPr>
        <p:pic>
          <p:nvPicPr>
            <p:cNvPr id="202" name="Picture 4" descr="07"/>
            <p:cNvPicPr/>
            <p:nvPr/>
          </p:nvPicPr>
          <p:blipFill>
            <a:blip r:embed="rId2"/>
            <a:stretch/>
          </p:blipFill>
          <p:spPr>
            <a:xfrm>
              <a:off x="611280" y="1773360"/>
              <a:ext cx="1725480" cy="19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5"/>
            <p:cNvSpPr/>
            <p:nvPr/>
          </p:nvSpPr>
          <p:spPr>
            <a:xfrm>
              <a:off x="1308960" y="220536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0080"/>
                  </a:solidFill>
                  <a:latin typeface="楷体_GB2312"/>
                </a:rPr>
                <a:t>讲一讲</a:t>
              </a:r>
              <a:endParaRPr b="1" lang="en-US" sz="32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sp>
        <p:nvSpPr>
          <p:cNvPr id="204" name="Text Box 6"/>
          <p:cNvSpPr/>
          <p:nvPr/>
        </p:nvSpPr>
        <p:spPr>
          <a:xfrm>
            <a:off x="2554200" y="1916280"/>
            <a:ext cx="56898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3000" spc="-1" strike="noStrike">
                <a:solidFill>
                  <a:srgbClr val="800080"/>
                </a:solidFill>
                <a:latin typeface="楷体_GB2312"/>
              </a:rPr>
              <a:t>根据下面的图片和简单的文字，说说与它相关的故事。</a:t>
            </a:r>
            <a:endParaRPr b="1" lang="en-US" sz="30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588400" y="5445000"/>
            <a:ext cx="136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大战红孩儿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6101640" y="5516640"/>
            <a:ext cx="709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太白金星一请孙悟空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207" name="Picture 11" descr="大战红孩儿"/>
          <p:cNvPicPr/>
          <p:nvPr/>
        </p:nvPicPr>
        <p:blipFill>
          <a:blip r:embed="rId3"/>
          <a:stretch/>
        </p:blipFill>
        <p:spPr>
          <a:xfrm>
            <a:off x="2411280" y="4076640"/>
            <a:ext cx="1441440" cy="1058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太白金星一请孙悟空"/>
          <p:cNvPicPr/>
          <p:nvPr/>
        </p:nvPicPr>
        <p:blipFill>
          <a:blip r:embed="rId4"/>
          <a:stretch/>
        </p:blipFill>
        <p:spPr>
          <a:xfrm>
            <a:off x="5580000" y="4021200"/>
            <a:ext cx="1584360" cy="117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20056312159279(2)"/>
          <p:cNvPicPr/>
          <p:nvPr/>
        </p:nvPicPr>
        <p:blipFill>
          <a:blip r:embed="rId1"/>
          <a:stretch/>
        </p:blipFill>
        <p:spPr>
          <a:xfrm>
            <a:off x="-612720" y="-179280"/>
            <a:ext cx="10153440" cy="729288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826920" y="2060640"/>
            <a:ext cx="750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dobe 楷体 Std R"/>
                <a:ea typeface="Adobe 楷体 Std R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本课是我国古典小说</a:t>
            </a:r>
            <a:r>
              <a:rPr b="1" lang="en-US" sz="32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西游记</a:t>
            </a:r>
            <a:r>
              <a:rPr b="1" lang="en-US" sz="32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中的一个片段，课文叙述了石猴成为猴王的一段经历。读课文，看看石猴是哪来的，又是怎样成为猴王的。把不懂的地方画下来，跟同学、老师讨论。把你喜欢的语句多读几遍，也可以抄下来。如有兴趣还可以读读</a:t>
            </a:r>
            <a:r>
              <a:rPr b="1" lang="en-US" sz="32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西游记</a:t>
            </a:r>
            <a:r>
              <a:rPr b="1" lang="en-US" sz="32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。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7" name="横卷形 5"/>
          <p:cNvSpPr/>
          <p:nvPr/>
        </p:nvSpPr>
        <p:spPr>
          <a:xfrm>
            <a:off x="1143000" y="928800"/>
            <a:ext cx="2571840" cy="1033200"/>
          </a:xfrm>
          <a:prstGeom prst="horizontalScroll">
            <a:avLst>
              <a:gd name="adj" fmla="val 12500"/>
            </a:avLst>
          </a:prstGeom>
          <a:solidFill>
            <a:srgbClr val="fca2e4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Adobe 楷体 Std R"/>
              </a:rPr>
              <a:t>阅读提示</a:t>
            </a:r>
            <a:endParaRPr b="1" lang="en-US" sz="36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20051018195601909"/>
          <p:cNvPicPr/>
          <p:nvPr/>
        </p:nvPicPr>
        <p:blipFill>
          <a:blip r:embed="rId1"/>
          <a:stretch/>
        </p:blipFill>
        <p:spPr>
          <a:xfrm>
            <a:off x="360360" y="542880"/>
            <a:ext cx="8783640" cy="63151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0" y="2349360"/>
            <a:ext cx="831708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楷体_GB2312"/>
              </a:rPr>
              <a:t>      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石猴从哪里来？</a:t>
            </a: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      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石猴怎么成为猴王的？</a:t>
            </a: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828720" y="0"/>
            <a:ext cx="9612360" cy="720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268360" y="1916280"/>
            <a:ext cx="33832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认一认，读一读： </a:t>
            </a:r>
            <a:endParaRPr b="1" lang="en-US" sz="30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357200" y="3429000"/>
            <a:ext cx="1149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</a:rPr>
              <a:t>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道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</a:rPr>
              <a:t> </a:t>
            </a:r>
            <a:endParaRPr b="1" lang="en-US" sz="36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64" name="Picture 5" descr="03"/>
          <p:cNvPicPr/>
          <p:nvPr/>
        </p:nvPicPr>
        <p:blipFill>
          <a:blip r:embed="rId3"/>
          <a:stretch/>
        </p:blipFill>
        <p:spPr>
          <a:xfrm>
            <a:off x="1692360" y="2060640"/>
            <a:ext cx="480960" cy="720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1332000" y="2924280"/>
            <a:ext cx="10573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uì</a:t>
            </a:r>
            <a:r>
              <a:rPr b="1" lang="en-US" sz="2600" spc="-1" strike="noStrike">
                <a:solidFill>
                  <a:srgbClr val="80008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429000" y="3500280"/>
            <a:ext cx="1069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</a:rPr>
              <a:t>獐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348000" y="3068640"/>
            <a:ext cx="11415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zhāng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929120" y="3500280"/>
            <a:ext cx="1357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</a:rPr>
              <a:t>猕猴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</a:rPr>
              <a:t> </a:t>
            </a:r>
            <a:endParaRPr b="1" lang="en-US" sz="3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5003640" y="2997360"/>
            <a:ext cx="648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í</a:t>
            </a:r>
            <a:r>
              <a:rPr b="1" lang="en-US" sz="2800" spc="-1" strike="noStrike">
                <a:solidFill>
                  <a:srgbClr val="80008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6516720" y="3429000"/>
            <a:ext cx="1143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</a:rPr>
              <a:t>人猿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</a:rPr>
              <a:t> </a:t>
            </a:r>
            <a:endParaRPr b="1" lang="en-US" sz="3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6877080" y="2924280"/>
            <a:ext cx="10778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yuán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1643040" y="4786200"/>
            <a:ext cx="1285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</a:rPr>
              <a:t>顽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皮</a:t>
            </a:r>
            <a:r>
              <a:rPr b="1" lang="zh-CN" sz="4000" spc="-1" strike="noStrike">
                <a:solidFill>
                  <a:srgbClr val="800080"/>
                </a:solidFill>
                <a:latin typeface="楷体_GB2312"/>
              </a:rPr>
              <a:t> </a:t>
            </a:r>
            <a:endParaRPr b="1" lang="en-US" sz="40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1643040" y="4429080"/>
            <a:ext cx="10080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wán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3348000" y="4869000"/>
            <a:ext cx="1143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石窍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</a:rPr>
              <a:t> </a:t>
            </a:r>
            <a:endParaRPr b="1" lang="en-US" sz="3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3708360" y="4437000"/>
            <a:ext cx="9349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qiào</a:t>
            </a:r>
            <a:r>
              <a:rPr b="1" lang="en-US" sz="2600" spc="-1" strike="noStrike">
                <a:solidFill>
                  <a:srgbClr val="80008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5148360" y="4724280"/>
            <a:ext cx="8636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</a:rPr>
              <a:t>镌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 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5148360" y="4508640"/>
            <a:ext cx="9349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juān</a:t>
            </a:r>
            <a:r>
              <a:rPr b="1" lang="en-US" sz="2600" spc="-1" strike="noStrike">
                <a:solidFill>
                  <a:srgbClr val="80008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6500880" y="4857840"/>
            <a:ext cx="2000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抓耳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</a:rPr>
              <a:t>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腮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 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7308720" y="4437000"/>
            <a:ext cx="935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áo</a:t>
            </a:r>
            <a:r>
              <a:rPr b="1" lang="en-US" sz="3200" spc="-1" strike="noStrike">
                <a:solidFill>
                  <a:srgbClr val="80008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0051018195643398"/>
          <p:cNvPicPr/>
          <p:nvPr/>
        </p:nvPicPr>
        <p:blipFill>
          <a:blip r:embed="rId1"/>
          <a:stretch/>
        </p:blipFill>
        <p:spPr>
          <a:xfrm>
            <a:off x="-396720" y="-444600"/>
            <a:ext cx="10082160" cy="7302600"/>
          </a:xfrm>
          <a:prstGeom prst="rect">
            <a:avLst/>
          </a:prstGeom>
          <a:ln w="0">
            <a:noFill/>
          </a:ln>
        </p:spPr>
      </p:pic>
      <p:pic>
        <p:nvPicPr>
          <p:cNvPr id="81" name="命运.Wma" descr=""/>
          <p:cNvPicPr/>
          <p:nvPr/>
        </p:nvPicPr>
        <p:blipFill>
          <a:blip r:embed="rId2"/>
          <a:stretch/>
        </p:blipFill>
        <p:spPr>
          <a:xfrm>
            <a:off x="7740720" y="4797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2" name="矩形 5"/>
          <p:cNvSpPr/>
          <p:nvPr/>
        </p:nvSpPr>
        <p:spPr>
          <a:xfrm>
            <a:off x="1547640" y="1341360"/>
            <a:ext cx="7056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dobe 楷体 Std 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dobe 楷体 Std R"/>
                <a:ea typeface="Adobe 楷体 Std R"/>
              </a:rPr>
              <a:t>我会读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灵通</a:t>
            </a:r>
            <a:r>
              <a:rPr b="1" lang="en-US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迸裂</a:t>
            </a:r>
            <a:r>
              <a:rPr b="1" lang="en-US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避暑</a:t>
            </a:r>
            <a:r>
              <a:rPr b="1" lang="en-US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楷书</a:t>
            </a:r>
            <a:r>
              <a:rPr b="1" lang="en-US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造化</a:t>
            </a:r>
            <a:r>
              <a:rPr b="1" lang="en-US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当家</a:t>
            </a:r>
            <a:r>
              <a:rPr b="1" lang="en-US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顽劣    </a:t>
            </a:r>
            <a:endParaRPr b="1" lang="en-US" sz="40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天造地设</a:t>
            </a:r>
            <a:r>
              <a:rPr b="1" lang="en-US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伸头缩颈</a:t>
            </a:r>
            <a:r>
              <a:rPr b="1" lang="en-US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  </a:t>
            </a:r>
            <a:endParaRPr b="1" lang="en-US" sz="40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抓耳挠腮   明明朗朗</a:t>
            </a: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 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 spd="slow">
    <p:wedge/>
  </p:transition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243565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0051018195643398"/>
          <p:cNvPicPr/>
          <p:nvPr/>
        </p:nvPicPr>
        <p:blipFill>
          <a:blip r:embed="rId1"/>
          <a:stretch/>
        </p:blipFill>
        <p:spPr>
          <a:xfrm>
            <a:off x="-181080" y="-131760"/>
            <a:ext cx="10009440" cy="72500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619280" y="27082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楷体_GB2312"/>
                <a:ea typeface="黑体"/>
              </a:rPr>
              <a:t>      </a:t>
            </a: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547640" y="1197000"/>
            <a:ext cx="727416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Adobe 楷体 Std 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瞑目蹲身      伸头缩颈  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dobe 楷体 Std 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抓耳挠腮      喜不自胜  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dobe 楷体 Std 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日精月华      力倦神疲 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dobe 楷体 Std 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滚瓜涌溅      拖男挈女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86" name="命运.Wma" descr=""/>
          <p:cNvPicPr/>
          <p:nvPr/>
        </p:nvPicPr>
        <p:blipFill>
          <a:blip r:embed="rId2"/>
          <a:stretch/>
        </p:blipFill>
        <p:spPr>
          <a:xfrm>
            <a:off x="7740720" y="479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24356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0051018195601909"/>
          <p:cNvPicPr/>
          <p:nvPr/>
        </p:nvPicPr>
        <p:blipFill>
          <a:blip r:embed="rId1"/>
          <a:stretch/>
        </p:blipFill>
        <p:spPr>
          <a:xfrm>
            <a:off x="360360" y="333360"/>
            <a:ext cx="8783640" cy="6315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0" y="2205000"/>
            <a:ext cx="831708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楷体_GB2312"/>
              </a:rPr>
              <a:t>     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石猴从哪里来？</a:t>
            </a: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     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石猴怎么成为猴王的？</a:t>
            </a: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02:02:13Z</dcterms:created>
  <dc:creator>sabrina</dc:creator>
  <dc:description/>
  <dc:language>en-US</dc:language>
  <cp:lastModifiedBy>Jiang</cp:lastModifiedBy>
  <dcterms:modified xsi:type="dcterms:W3CDTF">2013-04-22T15:20:53Z</dcterms:modified>
  <cp:revision>937</cp:revision>
  <dc:subject/>
  <dc:title>PowerPoint 演示文稿</dc:title>
</cp:coreProperties>
</file>