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9A22-3959-4E1B-9A72-50F3F4644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CCFD-4EE7-4AF6-B6BB-10B228FE8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C539-9791-4986-8729-E9AEC9C0E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9A34-BAE9-424A-B1AD-43AC34D6D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996C-A6E2-4005-AB88-0E2F84D93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7FE3-A2A6-4E8F-97D5-8A310C397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E3E6-FB70-418A-AF40-0AB139F75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AE24-E596-45EB-A1DC-89405100F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7EB9-C5B4-4684-A091-5902F78E6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8D6A-80B5-4517-9DF3-B1CE30B73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837F-794D-4216-814D-89923E035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93A8-0402-4175-8A96-49730D43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2879E-8ADE-4316-AEA9-C2E7B8BCB151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21E71-AF23-4DFB-9EEB-A396839DD689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C:\Documents and Settings\鱼不愚\桌面\1111.png"/>
          <p:cNvPicPr/>
          <p:nvPr/>
        </p:nvPicPr>
        <p:blipFill>
          <a:blip r:embed="rId2"/>
          <a:srcRect l="13994" t="24914" r="15829" b="2134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矩形 6"/>
          <p:cNvSpPr/>
          <p:nvPr/>
        </p:nvSpPr>
        <p:spPr>
          <a:xfrm>
            <a:off x="2555640" y="5300640"/>
            <a:ext cx="4346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c00000"/>
                </a:solidFill>
                <a:latin typeface="方正吕建德字体"/>
                <a:ea typeface="方正吕建德字体"/>
              </a:rPr>
              <a:t>欢度</a:t>
            </a:r>
            <a:r>
              <a:rPr b="0" lang="en-US" sz="6600" spc="-1" strike="noStrike">
                <a:solidFill>
                  <a:srgbClr val="c00000"/>
                </a:solidFill>
                <a:latin typeface="方正吕建德字体"/>
                <a:ea typeface="方正吕建德字体"/>
              </a:rPr>
              <a:t>2015</a:t>
            </a:r>
            <a:r>
              <a:rPr b="0" lang="zh-CN" sz="6600" spc="-1" strike="noStrike">
                <a:solidFill>
                  <a:srgbClr val="c00000"/>
                </a:solidFill>
                <a:latin typeface="方正吕建德字体"/>
                <a:ea typeface="方正吕建德字体"/>
              </a:rPr>
              <a:t>五一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五角星 9"/>
          <p:cNvSpPr/>
          <p:nvPr/>
        </p:nvSpPr>
        <p:spPr>
          <a:xfrm>
            <a:off x="4178160" y="3286080"/>
            <a:ext cx="571680" cy="571680"/>
          </a:xfrm>
          <a:custGeom>
            <a:avLst/>
            <a:gdLst/>
            <a:ahLst/>
            <a:rect l="l" t="t" r="r" b="b"/>
            <a:pathLst>
              <a:path w="571500" h="571500">
                <a:moveTo>
                  <a:pt x="1" y="218293"/>
                </a:moveTo>
                <a:lnTo>
                  <a:pt x="218295" y="218295"/>
                </a:lnTo>
                <a:lnTo>
                  <a:pt x="285750" y="0"/>
                </a:lnTo>
                <a:lnTo>
                  <a:pt x="353205" y="218295"/>
                </a:lnTo>
                <a:lnTo>
                  <a:pt x="571499" y="218293"/>
                </a:lnTo>
                <a:lnTo>
                  <a:pt x="394895" y="353205"/>
                </a:lnTo>
                <a:lnTo>
                  <a:pt x="462353" y="571499"/>
                </a:lnTo>
                <a:lnTo>
                  <a:pt x="285750" y="436584"/>
                </a:lnTo>
                <a:lnTo>
                  <a:pt x="109147" y="571499"/>
                </a:lnTo>
                <a:lnTo>
                  <a:pt x="176605" y="353205"/>
                </a:lnTo>
                <a:lnTo>
                  <a:pt x="1" y="218293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五角星 10"/>
          <p:cNvSpPr/>
          <p:nvPr/>
        </p:nvSpPr>
        <p:spPr>
          <a:xfrm>
            <a:off x="4178160" y="3286080"/>
            <a:ext cx="571680" cy="571680"/>
          </a:xfrm>
          <a:custGeom>
            <a:avLst/>
            <a:gdLst/>
            <a:ahLst/>
            <a:rect l="l" t="t" r="r" b="b"/>
            <a:pathLst>
              <a:path w="571500" h="571500">
                <a:moveTo>
                  <a:pt x="1" y="218293"/>
                </a:moveTo>
                <a:lnTo>
                  <a:pt x="218295" y="218295"/>
                </a:lnTo>
                <a:lnTo>
                  <a:pt x="285750" y="0"/>
                </a:lnTo>
                <a:lnTo>
                  <a:pt x="353205" y="218295"/>
                </a:lnTo>
                <a:lnTo>
                  <a:pt x="571499" y="218293"/>
                </a:lnTo>
                <a:lnTo>
                  <a:pt x="394895" y="353205"/>
                </a:lnTo>
                <a:lnTo>
                  <a:pt x="462353" y="571499"/>
                </a:lnTo>
                <a:lnTo>
                  <a:pt x="285750" y="436584"/>
                </a:lnTo>
                <a:lnTo>
                  <a:pt x="109147" y="571499"/>
                </a:lnTo>
                <a:lnTo>
                  <a:pt x="176605" y="353205"/>
                </a:lnTo>
                <a:lnTo>
                  <a:pt x="1" y="218293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五角星 11"/>
          <p:cNvSpPr/>
          <p:nvPr/>
        </p:nvSpPr>
        <p:spPr>
          <a:xfrm>
            <a:off x="4178160" y="3286080"/>
            <a:ext cx="571680" cy="571680"/>
          </a:xfrm>
          <a:custGeom>
            <a:avLst/>
            <a:gdLst/>
            <a:ahLst/>
            <a:rect l="l" t="t" r="r" b="b"/>
            <a:pathLst>
              <a:path w="571500" h="571500">
                <a:moveTo>
                  <a:pt x="1" y="218293"/>
                </a:moveTo>
                <a:lnTo>
                  <a:pt x="218295" y="218295"/>
                </a:lnTo>
                <a:lnTo>
                  <a:pt x="285750" y="0"/>
                </a:lnTo>
                <a:lnTo>
                  <a:pt x="353205" y="218295"/>
                </a:lnTo>
                <a:lnTo>
                  <a:pt x="571499" y="218293"/>
                </a:lnTo>
                <a:lnTo>
                  <a:pt x="394895" y="353205"/>
                </a:lnTo>
                <a:lnTo>
                  <a:pt x="462353" y="571499"/>
                </a:lnTo>
                <a:lnTo>
                  <a:pt x="285750" y="436584"/>
                </a:lnTo>
                <a:lnTo>
                  <a:pt x="109147" y="571499"/>
                </a:lnTo>
                <a:lnTo>
                  <a:pt x="176605" y="353205"/>
                </a:lnTo>
                <a:lnTo>
                  <a:pt x="1" y="218293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五角星 12"/>
          <p:cNvSpPr/>
          <p:nvPr/>
        </p:nvSpPr>
        <p:spPr>
          <a:xfrm>
            <a:off x="4178160" y="3286080"/>
            <a:ext cx="571680" cy="571680"/>
          </a:xfrm>
          <a:custGeom>
            <a:avLst/>
            <a:gdLst/>
            <a:ahLst/>
            <a:rect l="l" t="t" r="r" b="b"/>
            <a:pathLst>
              <a:path w="571500" h="571500">
                <a:moveTo>
                  <a:pt x="1" y="218293"/>
                </a:moveTo>
                <a:lnTo>
                  <a:pt x="218295" y="218295"/>
                </a:lnTo>
                <a:lnTo>
                  <a:pt x="285750" y="0"/>
                </a:lnTo>
                <a:lnTo>
                  <a:pt x="353205" y="218295"/>
                </a:lnTo>
                <a:lnTo>
                  <a:pt x="571499" y="218293"/>
                </a:lnTo>
                <a:lnTo>
                  <a:pt x="394895" y="353205"/>
                </a:lnTo>
                <a:lnTo>
                  <a:pt x="462353" y="571499"/>
                </a:lnTo>
                <a:lnTo>
                  <a:pt x="285750" y="436584"/>
                </a:lnTo>
                <a:lnTo>
                  <a:pt x="109147" y="571499"/>
                </a:lnTo>
                <a:lnTo>
                  <a:pt x="176605" y="353205"/>
                </a:lnTo>
                <a:lnTo>
                  <a:pt x="1" y="218293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五角星 13"/>
          <p:cNvSpPr/>
          <p:nvPr/>
        </p:nvSpPr>
        <p:spPr>
          <a:xfrm>
            <a:off x="4178160" y="3286080"/>
            <a:ext cx="571680" cy="571680"/>
          </a:xfrm>
          <a:custGeom>
            <a:avLst/>
            <a:gdLst/>
            <a:ahLst/>
            <a:rect l="l" t="t" r="r" b="b"/>
            <a:pathLst>
              <a:path w="571500" h="571500">
                <a:moveTo>
                  <a:pt x="1" y="218293"/>
                </a:moveTo>
                <a:lnTo>
                  <a:pt x="218295" y="218295"/>
                </a:lnTo>
                <a:lnTo>
                  <a:pt x="285750" y="0"/>
                </a:lnTo>
                <a:lnTo>
                  <a:pt x="353205" y="218295"/>
                </a:lnTo>
                <a:lnTo>
                  <a:pt x="571499" y="218293"/>
                </a:lnTo>
                <a:lnTo>
                  <a:pt x="394895" y="353205"/>
                </a:lnTo>
                <a:lnTo>
                  <a:pt x="462353" y="571499"/>
                </a:lnTo>
                <a:lnTo>
                  <a:pt x="285750" y="436584"/>
                </a:lnTo>
                <a:lnTo>
                  <a:pt x="109147" y="571499"/>
                </a:lnTo>
                <a:lnTo>
                  <a:pt x="176605" y="353205"/>
                </a:lnTo>
                <a:lnTo>
                  <a:pt x="1" y="218293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五角星 14"/>
          <p:cNvSpPr/>
          <p:nvPr/>
        </p:nvSpPr>
        <p:spPr>
          <a:xfrm>
            <a:off x="4178160" y="3286080"/>
            <a:ext cx="571680" cy="571680"/>
          </a:xfrm>
          <a:custGeom>
            <a:avLst/>
            <a:gdLst/>
            <a:ahLst/>
            <a:rect l="l" t="t" r="r" b="b"/>
            <a:pathLst>
              <a:path w="571500" h="571500">
                <a:moveTo>
                  <a:pt x="1" y="218293"/>
                </a:moveTo>
                <a:lnTo>
                  <a:pt x="218295" y="218295"/>
                </a:lnTo>
                <a:lnTo>
                  <a:pt x="285750" y="0"/>
                </a:lnTo>
                <a:lnTo>
                  <a:pt x="353205" y="218295"/>
                </a:lnTo>
                <a:lnTo>
                  <a:pt x="571499" y="218293"/>
                </a:lnTo>
                <a:lnTo>
                  <a:pt x="394895" y="353205"/>
                </a:lnTo>
                <a:lnTo>
                  <a:pt x="462353" y="571499"/>
                </a:lnTo>
                <a:lnTo>
                  <a:pt x="285750" y="436584"/>
                </a:lnTo>
                <a:lnTo>
                  <a:pt x="109147" y="571499"/>
                </a:lnTo>
                <a:lnTo>
                  <a:pt x="176605" y="353205"/>
                </a:lnTo>
                <a:lnTo>
                  <a:pt x="1" y="218293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五角星 15"/>
          <p:cNvSpPr/>
          <p:nvPr/>
        </p:nvSpPr>
        <p:spPr>
          <a:xfrm>
            <a:off x="4178160" y="3286080"/>
            <a:ext cx="571680" cy="571680"/>
          </a:xfrm>
          <a:custGeom>
            <a:avLst/>
            <a:gdLst/>
            <a:ahLst/>
            <a:rect l="l" t="t" r="r" b="b"/>
            <a:pathLst>
              <a:path w="571500" h="571500">
                <a:moveTo>
                  <a:pt x="1" y="218293"/>
                </a:moveTo>
                <a:lnTo>
                  <a:pt x="218295" y="218295"/>
                </a:lnTo>
                <a:lnTo>
                  <a:pt x="285750" y="0"/>
                </a:lnTo>
                <a:lnTo>
                  <a:pt x="353205" y="218295"/>
                </a:lnTo>
                <a:lnTo>
                  <a:pt x="571499" y="218293"/>
                </a:lnTo>
                <a:lnTo>
                  <a:pt x="394895" y="353205"/>
                </a:lnTo>
                <a:lnTo>
                  <a:pt x="462353" y="571499"/>
                </a:lnTo>
                <a:lnTo>
                  <a:pt x="285750" y="436584"/>
                </a:lnTo>
                <a:lnTo>
                  <a:pt x="109147" y="571499"/>
                </a:lnTo>
                <a:lnTo>
                  <a:pt x="176605" y="353205"/>
                </a:lnTo>
                <a:lnTo>
                  <a:pt x="1" y="218293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五角星 16"/>
          <p:cNvSpPr/>
          <p:nvPr/>
        </p:nvSpPr>
        <p:spPr>
          <a:xfrm>
            <a:off x="4178160" y="3286080"/>
            <a:ext cx="571680" cy="571680"/>
          </a:xfrm>
          <a:custGeom>
            <a:avLst/>
            <a:gdLst/>
            <a:ahLst/>
            <a:rect l="l" t="t" r="r" b="b"/>
            <a:pathLst>
              <a:path w="571500" h="571500">
                <a:moveTo>
                  <a:pt x="1" y="218293"/>
                </a:moveTo>
                <a:lnTo>
                  <a:pt x="218295" y="218295"/>
                </a:lnTo>
                <a:lnTo>
                  <a:pt x="285750" y="0"/>
                </a:lnTo>
                <a:lnTo>
                  <a:pt x="353205" y="218295"/>
                </a:lnTo>
                <a:lnTo>
                  <a:pt x="571499" y="218293"/>
                </a:lnTo>
                <a:lnTo>
                  <a:pt x="394895" y="353205"/>
                </a:lnTo>
                <a:lnTo>
                  <a:pt x="462353" y="571499"/>
                </a:lnTo>
                <a:lnTo>
                  <a:pt x="285750" y="436584"/>
                </a:lnTo>
                <a:lnTo>
                  <a:pt x="109147" y="571499"/>
                </a:lnTo>
                <a:lnTo>
                  <a:pt x="176605" y="353205"/>
                </a:lnTo>
                <a:lnTo>
                  <a:pt x="1" y="218293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五角星 17"/>
          <p:cNvSpPr/>
          <p:nvPr/>
        </p:nvSpPr>
        <p:spPr>
          <a:xfrm>
            <a:off x="4178160" y="3286080"/>
            <a:ext cx="571680" cy="571680"/>
          </a:xfrm>
          <a:custGeom>
            <a:avLst/>
            <a:gdLst/>
            <a:ahLst/>
            <a:rect l="l" t="t" r="r" b="b"/>
            <a:pathLst>
              <a:path w="571500" h="571500">
                <a:moveTo>
                  <a:pt x="1" y="218293"/>
                </a:moveTo>
                <a:lnTo>
                  <a:pt x="218295" y="218295"/>
                </a:lnTo>
                <a:lnTo>
                  <a:pt x="285750" y="0"/>
                </a:lnTo>
                <a:lnTo>
                  <a:pt x="353205" y="218295"/>
                </a:lnTo>
                <a:lnTo>
                  <a:pt x="571499" y="218293"/>
                </a:lnTo>
                <a:lnTo>
                  <a:pt x="394895" y="353205"/>
                </a:lnTo>
                <a:lnTo>
                  <a:pt x="462353" y="571499"/>
                </a:lnTo>
                <a:lnTo>
                  <a:pt x="285750" y="436584"/>
                </a:lnTo>
                <a:lnTo>
                  <a:pt x="109147" y="571499"/>
                </a:lnTo>
                <a:lnTo>
                  <a:pt x="176605" y="353205"/>
                </a:lnTo>
                <a:lnTo>
                  <a:pt x="1" y="218293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五角星 18"/>
          <p:cNvSpPr/>
          <p:nvPr/>
        </p:nvSpPr>
        <p:spPr>
          <a:xfrm>
            <a:off x="4178160" y="3286080"/>
            <a:ext cx="571680" cy="571680"/>
          </a:xfrm>
          <a:custGeom>
            <a:avLst/>
            <a:gdLst/>
            <a:ahLst/>
            <a:rect l="l" t="t" r="r" b="b"/>
            <a:pathLst>
              <a:path w="571500" h="571500">
                <a:moveTo>
                  <a:pt x="1" y="218293"/>
                </a:moveTo>
                <a:lnTo>
                  <a:pt x="218295" y="218295"/>
                </a:lnTo>
                <a:lnTo>
                  <a:pt x="285750" y="0"/>
                </a:lnTo>
                <a:lnTo>
                  <a:pt x="353205" y="218295"/>
                </a:lnTo>
                <a:lnTo>
                  <a:pt x="571499" y="218293"/>
                </a:lnTo>
                <a:lnTo>
                  <a:pt x="394895" y="353205"/>
                </a:lnTo>
                <a:lnTo>
                  <a:pt x="462353" y="571499"/>
                </a:lnTo>
                <a:lnTo>
                  <a:pt x="285750" y="436584"/>
                </a:lnTo>
                <a:lnTo>
                  <a:pt x="109147" y="571499"/>
                </a:lnTo>
                <a:lnTo>
                  <a:pt x="176605" y="353205"/>
                </a:lnTo>
                <a:lnTo>
                  <a:pt x="1" y="218293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五角星 19"/>
          <p:cNvSpPr/>
          <p:nvPr/>
        </p:nvSpPr>
        <p:spPr>
          <a:xfrm>
            <a:off x="4178160" y="3286080"/>
            <a:ext cx="571680" cy="571680"/>
          </a:xfrm>
          <a:custGeom>
            <a:avLst/>
            <a:gdLst/>
            <a:ahLst/>
            <a:rect l="l" t="t" r="r" b="b"/>
            <a:pathLst>
              <a:path w="571500" h="571500">
                <a:moveTo>
                  <a:pt x="1" y="218293"/>
                </a:moveTo>
                <a:lnTo>
                  <a:pt x="218295" y="218295"/>
                </a:lnTo>
                <a:lnTo>
                  <a:pt x="285750" y="0"/>
                </a:lnTo>
                <a:lnTo>
                  <a:pt x="353205" y="218295"/>
                </a:lnTo>
                <a:lnTo>
                  <a:pt x="571499" y="218293"/>
                </a:lnTo>
                <a:lnTo>
                  <a:pt x="394895" y="353205"/>
                </a:lnTo>
                <a:lnTo>
                  <a:pt x="462353" y="571499"/>
                </a:lnTo>
                <a:lnTo>
                  <a:pt x="285750" y="436584"/>
                </a:lnTo>
                <a:lnTo>
                  <a:pt x="109147" y="571499"/>
                </a:lnTo>
                <a:lnTo>
                  <a:pt x="176605" y="353205"/>
                </a:lnTo>
                <a:lnTo>
                  <a:pt x="1" y="218293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五角星 20"/>
          <p:cNvSpPr/>
          <p:nvPr/>
        </p:nvSpPr>
        <p:spPr>
          <a:xfrm>
            <a:off x="4178160" y="3286080"/>
            <a:ext cx="571680" cy="571680"/>
          </a:xfrm>
          <a:custGeom>
            <a:avLst/>
            <a:gdLst/>
            <a:ahLst/>
            <a:rect l="l" t="t" r="r" b="b"/>
            <a:pathLst>
              <a:path w="571500" h="571500">
                <a:moveTo>
                  <a:pt x="1" y="218293"/>
                </a:moveTo>
                <a:lnTo>
                  <a:pt x="218295" y="218295"/>
                </a:lnTo>
                <a:lnTo>
                  <a:pt x="285750" y="0"/>
                </a:lnTo>
                <a:lnTo>
                  <a:pt x="353205" y="218295"/>
                </a:lnTo>
                <a:lnTo>
                  <a:pt x="571499" y="218293"/>
                </a:lnTo>
                <a:lnTo>
                  <a:pt x="394895" y="353205"/>
                </a:lnTo>
                <a:lnTo>
                  <a:pt x="462353" y="571499"/>
                </a:lnTo>
                <a:lnTo>
                  <a:pt x="285750" y="436584"/>
                </a:lnTo>
                <a:lnTo>
                  <a:pt x="109147" y="571499"/>
                </a:lnTo>
                <a:lnTo>
                  <a:pt x="176605" y="353205"/>
                </a:lnTo>
                <a:lnTo>
                  <a:pt x="1" y="218293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五角星 21"/>
          <p:cNvSpPr/>
          <p:nvPr/>
        </p:nvSpPr>
        <p:spPr>
          <a:xfrm>
            <a:off x="4178160" y="3286080"/>
            <a:ext cx="571680" cy="571680"/>
          </a:xfrm>
          <a:custGeom>
            <a:avLst/>
            <a:gdLst/>
            <a:ahLst/>
            <a:rect l="l" t="t" r="r" b="b"/>
            <a:pathLst>
              <a:path w="571500" h="571500">
                <a:moveTo>
                  <a:pt x="1" y="218293"/>
                </a:moveTo>
                <a:lnTo>
                  <a:pt x="218295" y="218295"/>
                </a:lnTo>
                <a:lnTo>
                  <a:pt x="285750" y="0"/>
                </a:lnTo>
                <a:lnTo>
                  <a:pt x="353205" y="218295"/>
                </a:lnTo>
                <a:lnTo>
                  <a:pt x="571499" y="218293"/>
                </a:lnTo>
                <a:lnTo>
                  <a:pt x="394895" y="353205"/>
                </a:lnTo>
                <a:lnTo>
                  <a:pt x="462353" y="571499"/>
                </a:lnTo>
                <a:lnTo>
                  <a:pt x="285750" y="436584"/>
                </a:lnTo>
                <a:lnTo>
                  <a:pt x="109147" y="571499"/>
                </a:lnTo>
                <a:lnTo>
                  <a:pt x="176605" y="353205"/>
                </a:lnTo>
                <a:lnTo>
                  <a:pt x="1" y="218293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五角星 22"/>
          <p:cNvSpPr/>
          <p:nvPr/>
        </p:nvSpPr>
        <p:spPr>
          <a:xfrm>
            <a:off x="4178160" y="3286080"/>
            <a:ext cx="571680" cy="571680"/>
          </a:xfrm>
          <a:custGeom>
            <a:avLst/>
            <a:gdLst/>
            <a:ahLst/>
            <a:rect l="l" t="t" r="r" b="b"/>
            <a:pathLst>
              <a:path w="571500" h="571500">
                <a:moveTo>
                  <a:pt x="1" y="218293"/>
                </a:moveTo>
                <a:lnTo>
                  <a:pt x="218295" y="218295"/>
                </a:lnTo>
                <a:lnTo>
                  <a:pt x="285750" y="0"/>
                </a:lnTo>
                <a:lnTo>
                  <a:pt x="353205" y="218295"/>
                </a:lnTo>
                <a:lnTo>
                  <a:pt x="571499" y="218293"/>
                </a:lnTo>
                <a:lnTo>
                  <a:pt x="394895" y="353205"/>
                </a:lnTo>
                <a:lnTo>
                  <a:pt x="462353" y="571499"/>
                </a:lnTo>
                <a:lnTo>
                  <a:pt x="285750" y="436584"/>
                </a:lnTo>
                <a:lnTo>
                  <a:pt x="109147" y="571499"/>
                </a:lnTo>
                <a:lnTo>
                  <a:pt x="176605" y="353205"/>
                </a:lnTo>
                <a:lnTo>
                  <a:pt x="1" y="218293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五角星 23"/>
          <p:cNvSpPr/>
          <p:nvPr/>
        </p:nvSpPr>
        <p:spPr>
          <a:xfrm>
            <a:off x="4178160" y="3286080"/>
            <a:ext cx="571680" cy="571680"/>
          </a:xfrm>
          <a:custGeom>
            <a:avLst/>
            <a:gdLst/>
            <a:ahLst/>
            <a:rect l="l" t="t" r="r" b="b"/>
            <a:pathLst>
              <a:path w="571500" h="571500">
                <a:moveTo>
                  <a:pt x="1" y="218293"/>
                </a:moveTo>
                <a:lnTo>
                  <a:pt x="218295" y="218295"/>
                </a:lnTo>
                <a:lnTo>
                  <a:pt x="285750" y="0"/>
                </a:lnTo>
                <a:lnTo>
                  <a:pt x="353205" y="218295"/>
                </a:lnTo>
                <a:lnTo>
                  <a:pt x="571499" y="218293"/>
                </a:lnTo>
                <a:lnTo>
                  <a:pt x="394895" y="353205"/>
                </a:lnTo>
                <a:lnTo>
                  <a:pt x="462353" y="571499"/>
                </a:lnTo>
                <a:lnTo>
                  <a:pt x="285750" y="436584"/>
                </a:lnTo>
                <a:lnTo>
                  <a:pt x="109147" y="571499"/>
                </a:lnTo>
                <a:lnTo>
                  <a:pt x="176605" y="353205"/>
                </a:lnTo>
                <a:lnTo>
                  <a:pt x="1" y="218293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五角星 24"/>
          <p:cNvSpPr/>
          <p:nvPr/>
        </p:nvSpPr>
        <p:spPr>
          <a:xfrm>
            <a:off x="4178160" y="3286080"/>
            <a:ext cx="571680" cy="571680"/>
          </a:xfrm>
          <a:custGeom>
            <a:avLst/>
            <a:gdLst/>
            <a:ahLst/>
            <a:rect l="l" t="t" r="r" b="b"/>
            <a:pathLst>
              <a:path w="571500" h="571500">
                <a:moveTo>
                  <a:pt x="1" y="218293"/>
                </a:moveTo>
                <a:lnTo>
                  <a:pt x="218295" y="218295"/>
                </a:lnTo>
                <a:lnTo>
                  <a:pt x="285750" y="0"/>
                </a:lnTo>
                <a:lnTo>
                  <a:pt x="353205" y="218295"/>
                </a:lnTo>
                <a:lnTo>
                  <a:pt x="571499" y="218293"/>
                </a:lnTo>
                <a:lnTo>
                  <a:pt x="394895" y="353205"/>
                </a:lnTo>
                <a:lnTo>
                  <a:pt x="462353" y="571499"/>
                </a:lnTo>
                <a:lnTo>
                  <a:pt x="285750" y="436584"/>
                </a:lnTo>
                <a:lnTo>
                  <a:pt x="109147" y="571499"/>
                </a:lnTo>
                <a:lnTo>
                  <a:pt x="176605" y="353205"/>
                </a:lnTo>
                <a:lnTo>
                  <a:pt x="1" y="218293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五角星 25"/>
          <p:cNvSpPr/>
          <p:nvPr/>
        </p:nvSpPr>
        <p:spPr>
          <a:xfrm>
            <a:off x="4178160" y="3286080"/>
            <a:ext cx="571680" cy="571680"/>
          </a:xfrm>
          <a:custGeom>
            <a:avLst/>
            <a:gdLst/>
            <a:ahLst/>
            <a:rect l="l" t="t" r="r" b="b"/>
            <a:pathLst>
              <a:path w="571500" h="571500">
                <a:moveTo>
                  <a:pt x="1" y="218293"/>
                </a:moveTo>
                <a:lnTo>
                  <a:pt x="218295" y="218295"/>
                </a:lnTo>
                <a:lnTo>
                  <a:pt x="285750" y="0"/>
                </a:lnTo>
                <a:lnTo>
                  <a:pt x="353205" y="218295"/>
                </a:lnTo>
                <a:lnTo>
                  <a:pt x="571499" y="218293"/>
                </a:lnTo>
                <a:lnTo>
                  <a:pt x="394895" y="353205"/>
                </a:lnTo>
                <a:lnTo>
                  <a:pt x="462353" y="571499"/>
                </a:lnTo>
                <a:lnTo>
                  <a:pt x="285750" y="436584"/>
                </a:lnTo>
                <a:lnTo>
                  <a:pt x="109147" y="571499"/>
                </a:lnTo>
                <a:lnTo>
                  <a:pt x="176605" y="353205"/>
                </a:lnTo>
                <a:lnTo>
                  <a:pt x="1" y="218293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五角星 30"/>
          <p:cNvSpPr/>
          <p:nvPr/>
        </p:nvSpPr>
        <p:spPr>
          <a:xfrm>
            <a:off x="4330800" y="3438360"/>
            <a:ext cx="571320" cy="571680"/>
          </a:xfrm>
          <a:custGeom>
            <a:avLst/>
            <a:gdLst/>
            <a:ahLst/>
            <a:rect l="l" t="t" r="r" b="b"/>
            <a:pathLst>
              <a:path w="571500" h="571500">
                <a:moveTo>
                  <a:pt x="1" y="218293"/>
                </a:moveTo>
                <a:lnTo>
                  <a:pt x="218295" y="218295"/>
                </a:lnTo>
                <a:lnTo>
                  <a:pt x="285750" y="0"/>
                </a:lnTo>
                <a:lnTo>
                  <a:pt x="353205" y="218295"/>
                </a:lnTo>
                <a:lnTo>
                  <a:pt x="571499" y="218293"/>
                </a:lnTo>
                <a:lnTo>
                  <a:pt x="394895" y="353205"/>
                </a:lnTo>
                <a:lnTo>
                  <a:pt x="462353" y="571499"/>
                </a:lnTo>
                <a:lnTo>
                  <a:pt x="285750" y="436584"/>
                </a:lnTo>
                <a:lnTo>
                  <a:pt x="109147" y="571499"/>
                </a:lnTo>
                <a:lnTo>
                  <a:pt x="176605" y="353205"/>
                </a:lnTo>
                <a:lnTo>
                  <a:pt x="1" y="218293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五角星 31"/>
          <p:cNvSpPr/>
          <p:nvPr/>
        </p:nvSpPr>
        <p:spPr>
          <a:xfrm>
            <a:off x="4330800" y="3438360"/>
            <a:ext cx="571320" cy="571680"/>
          </a:xfrm>
          <a:custGeom>
            <a:avLst/>
            <a:gdLst/>
            <a:ahLst/>
            <a:rect l="l" t="t" r="r" b="b"/>
            <a:pathLst>
              <a:path w="571500" h="571500">
                <a:moveTo>
                  <a:pt x="1" y="218293"/>
                </a:moveTo>
                <a:lnTo>
                  <a:pt x="218295" y="218295"/>
                </a:lnTo>
                <a:lnTo>
                  <a:pt x="285750" y="0"/>
                </a:lnTo>
                <a:lnTo>
                  <a:pt x="353205" y="218295"/>
                </a:lnTo>
                <a:lnTo>
                  <a:pt x="571499" y="218293"/>
                </a:lnTo>
                <a:lnTo>
                  <a:pt x="394895" y="353205"/>
                </a:lnTo>
                <a:lnTo>
                  <a:pt x="462353" y="571499"/>
                </a:lnTo>
                <a:lnTo>
                  <a:pt x="285750" y="436584"/>
                </a:lnTo>
                <a:lnTo>
                  <a:pt x="109147" y="571499"/>
                </a:lnTo>
                <a:lnTo>
                  <a:pt x="176605" y="353205"/>
                </a:lnTo>
                <a:lnTo>
                  <a:pt x="1" y="218293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五角星 32"/>
          <p:cNvSpPr/>
          <p:nvPr/>
        </p:nvSpPr>
        <p:spPr>
          <a:xfrm>
            <a:off x="4330800" y="3438360"/>
            <a:ext cx="571320" cy="571680"/>
          </a:xfrm>
          <a:custGeom>
            <a:avLst/>
            <a:gdLst/>
            <a:ahLst/>
            <a:rect l="l" t="t" r="r" b="b"/>
            <a:pathLst>
              <a:path w="571500" h="571500">
                <a:moveTo>
                  <a:pt x="1" y="218293"/>
                </a:moveTo>
                <a:lnTo>
                  <a:pt x="218295" y="218295"/>
                </a:lnTo>
                <a:lnTo>
                  <a:pt x="285750" y="0"/>
                </a:lnTo>
                <a:lnTo>
                  <a:pt x="353205" y="218295"/>
                </a:lnTo>
                <a:lnTo>
                  <a:pt x="571499" y="218293"/>
                </a:lnTo>
                <a:lnTo>
                  <a:pt x="394895" y="353205"/>
                </a:lnTo>
                <a:lnTo>
                  <a:pt x="462353" y="571499"/>
                </a:lnTo>
                <a:lnTo>
                  <a:pt x="285750" y="436584"/>
                </a:lnTo>
                <a:lnTo>
                  <a:pt x="109147" y="571499"/>
                </a:lnTo>
                <a:lnTo>
                  <a:pt x="176605" y="353205"/>
                </a:lnTo>
                <a:lnTo>
                  <a:pt x="1" y="218293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五角星 33"/>
          <p:cNvSpPr/>
          <p:nvPr/>
        </p:nvSpPr>
        <p:spPr>
          <a:xfrm>
            <a:off x="4330800" y="3438360"/>
            <a:ext cx="571320" cy="571680"/>
          </a:xfrm>
          <a:custGeom>
            <a:avLst/>
            <a:gdLst/>
            <a:ahLst/>
            <a:rect l="l" t="t" r="r" b="b"/>
            <a:pathLst>
              <a:path w="571500" h="571500">
                <a:moveTo>
                  <a:pt x="1" y="218293"/>
                </a:moveTo>
                <a:lnTo>
                  <a:pt x="218295" y="218295"/>
                </a:lnTo>
                <a:lnTo>
                  <a:pt x="285750" y="0"/>
                </a:lnTo>
                <a:lnTo>
                  <a:pt x="353205" y="218295"/>
                </a:lnTo>
                <a:lnTo>
                  <a:pt x="571499" y="218293"/>
                </a:lnTo>
                <a:lnTo>
                  <a:pt x="394895" y="353205"/>
                </a:lnTo>
                <a:lnTo>
                  <a:pt x="462353" y="571499"/>
                </a:lnTo>
                <a:lnTo>
                  <a:pt x="285750" y="436584"/>
                </a:lnTo>
                <a:lnTo>
                  <a:pt x="109147" y="571499"/>
                </a:lnTo>
                <a:lnTo>
                  <a:pt x="176605" y="353205"/>
                </a:lnTo>
                <a:lnTo>
                  <a:pt x="1" y="218293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五角星 34"/>
          <p:cNvSpPr/>
          <p:nvPr/>
        </p:nvSpPr>
        <p:spPr>
          <a:xfrm>
            <a:off x="4330800" y="3438360"/>
            <a:ext cx="571320" cy="571680"/>
          </a:xfrm>
          <a:custGeom>
            <a:avLst/>
            <a:gdLst/>
            <a:ahLst/>
            <a:rect l="l" t="t" r="r" b="b"/>
            <a:pathLst>
              <a:path w="571500" h="571500">
                <a:moveTo>
                  <a:pt x="1" y="218293"/>
                </a:moveTo>
                <a:lnTo>
                  <a:pt x="218295" y="218295"/>
                </a:lnTo>
                <a:lnTo>
                  <a:pt x="285750" y="0"/>
                </a:lnTo>
                <a:lnTo>
                  <a:pt x="353205" y="218295"/>
                </a:lnTo>
                <a:lnTo>
                  <a:pt x="571499" y="218293"/>
                </a:lnTo>
                <a:lnTo>
                  <a:pt x="394895" y="353205"/>
                </a:lnTo>
                <a:lnTo>
                  <a:pt x="462353" y="571499"/>
                </a:lnTo>
                <a:lnTo>
                  <a:pt x="285750" y="436584"/>
                </a:lnTo>
                <a:lnTo>
                  <a:pt x="109147" y="571499"/>
                </a:lnTo>
                <a:lnTo>
                  <a:pt x="176605" y="353205"/>
                </a:lnTo>
                <a:lnTo>
                  <a:pt x="1" y="218293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五角星 35"/>
          <p:cNvSpPr/>
          <p:nvPr/>
        </p:nvSpPr>
        <p:spPr>
          <a:xfrm>
            <a:off x="4330800" y="3438360"/>
            <a:ext cx="571320" cy="571680"/>
          </a:xfrm>
          <a:custGeom>
            <a:avLst/>
            <a:gdLst/>
            <a:ahLst/>
            <a:rect l="l" t="t" r="r" b="b"/>
            <a:pathLst>
              <a:path w="571500" h="571500">
                <a:moveTo>
                  <a:pt x="1" y="218293"/>
                </a:moveTo>
                <a:lnTo>
                  <a:pt x="218295" y="218295"/>
                </a:lnTo>
                <a:lnTo>
                  <a:pt x="285750" y="0"/>
                </a:lnTo>
                <a:lnTo>
                  <a:pt x="353205" y="218295"/>
                </a:lnTo>
                <a:lnTo>
                  <a:pt x="571499" y="218293"/>
                </a:lnTo>
                <a:lnTo>
                  <a:pt x="394895" y="353205"/>
                </a:lnTo>
                <a:lnTo>
                  <a:pt x="462353" y="571499"/>
                </a:lnTo>
                <a:lnTo>
                  <a:pt x="285750" y="436584"/>
                </a:lnTo>
                <a:lnTo>
                  <a:pt x="109147" y="571499"/>
                </a:lnTo>
                <a:lnTo>
                  <a:pt x="176605" y="353205"/>
                </a:lnTo>
                <a:lnTo>
                  <a:pt x="1" y="218293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五角星 36"/>
          <p:cNvSpPr/>
          <p:nvPr/>
        </p:nvSpPr>
        <p:spPr>
          <a:xfrm>
            <a:off x="4330800" y="3438360"/>
            <a:ext cx="571320" cy="571680"/>
          </a:xfrm>
          <a:custGeom>
            <a:avLst/>
            <a:gdLst/>
            <a:ahLst/>
            <a:rect l="l" t="t" r="r" b="b"/>
            <a:pathLst>
              <a:path w="571500" h="571500">
                <a:moveTo>
                  <a:pt x="1" y="218293"/>
                </a:moveTo>
                <a:lnTo>
                  <a:pt x="218295" y="218295"/>
                </a:lnTo>
                <a:lnTo>
                  <a:pt x="285750" y="0"/>
                </a:lnTo>
                <a:lnTo>
                  <a:pt x="353205" y="218295"/>
                </a:lnTo>
                <a:lnTo>
                  <a:pt x="571499" y="218293"/>
                </a:lnTo>
                <a:lnTo>
                  <a:pt x="394895" y="353205"/>
                </a:lnTo>
                <a:lnTo>
                  <a:pt x="462353" y="571499"/>
                </a:lnTo>
                <a:lnTo>
                  <a:pt x="285750" y="436584"/>
                </a:lnTo>
                <a:lnTo>
                  <a:pt x="109147" y="571499"/>
                </a:lnTo>
                <a:lnTo>
                  <a:pt x="176605" y="353205"/>
                </a:lnTo>
                <a:lnTo>
                  <a:pt x="1" y="218293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五角星 37"/>
          <p:cNvSpPr/>
          <p:nvPr/>
        </p:nvSpPr>
        <p:spPr>
          <a:xfrm>
            <a:off x="4330800" y="3438360"/>
            <a:ext cx="571320" cy="571680"/>
          </a:xfrm>
          <a:custGeom>
            <a:avLst/>
            <a:gdLst/>
            <a:ahLst/>
            <a:rect l="l" t="t" r="r" b="b"/>
            <a:pathLst>
              <a:path w="571500" h="571500">
                <a:moveTo>
                  <a:pt x="1" y="218293"/>
                </a:moveTo>
                <a:lnTo>
                  <a:pt x="218295" y="218295"/>
                </a:lnTo>
                <a:lnTo>
                  <a:pt x="285750" y="0"/>
                </a:lnTo>
                <a:lnTo>
                  <a:pt x="353205" y="218295"/>
                </a:lnTo>
                <a:lnTo>
                  <a:pt x="571499" y="218293"/>
                </a:lnTo>
                <a:lnTo>
                  <a:pt x="394895" y="353205"/>
                </a:lnTo>
                <a:lnTo>
                  <a:pt x="462353" y="571499"/>
                </a:lnTo>
                <a:lnTo>
                  <a:pt x="285750" y="436584"/>
                </a:lnTo>
                <a:lnTo>
                  <a:pt x="109147" y="571499"/>
                </a:lnTo>
                <a:lnTo>
                  <a:pt x="176605" y="353205"/>
                </a:lnTo>
                <a:lnTo>
                  <a:pt x="1" y="218293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五角星 38"/>
          <p:cNvSpPr/>
          <p:nvPr/>
        </p:nvSpPr>
        <p:spPr>
          <a:xfrm>
            <a:off x="4330800" y="3438360"/>
            <a:ext cx="571320" cy="571680"/>
          </a:xfrm>
          <a:custGeom>
            <a:avLst/>
            <a:gdLst/>
            <a:ahLst/>
            <a:rect l="l" t="t" r="r" b="b"/>
            <a:pathLst>
              <a:path w="571500" h="571500">
                <a:moveTo>
                  <a:pt x="1" y="218293"/>
                </a:moveTo>
                <a:lnTo>
                  <a:pt x="218295" y="218295"/>
                </a:lnTo>
                <a:lnTo>
                  <a:pt x="285750" y="0"/>
                </a:lnTo>
                <a:lnTo>
                  <a:pt x="353205" y="218295"/>
                </a:lnTo>
                <a:lnTo>
                  <a:pt x="571499" y="218293"/>
                </a:lnTo>
                <a:lnTo>
                  <a:pt x="394895" y="353205"/>
                </a:lnTo>
                <a:lnTo>
                  <a:pt x="462353" y="571499"/>
                </a:lnTo>
                <a:lnTo>
                  <a:pt x="285750" y="436584"/>
                </a:lnTo>
                <a:lnTo>
                  <a:pt x="109147" y="571499"/>
                </a:lnTo>
                <a:lnTo>
                  <a:pt x="176605" y="353205"/>
                </a:lnTo>
                <a:lnTo>
                  <a:pt x="1" y="218293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五角星 39"/>
          <p:cNvSpPr/>
          <p:nvPr/>
        </p:nvSpPr>
        <p:spPr>
          <a:xfrm>
            <a:off x="4330800" y="3438360"/>
            <a:ext cx="571320" cy="571680"/>
          </a:xfrm>
          <a:custGeom>
            <a:avLst/>
            <a:gdLst/>
            <a:ahLst/>
            <a:rect l="l" t="t" r="r" b="b"/>
            <a:pathLst>
              <a:path w="571500" h="571500">
                <a:moveTo>
                  <a:pt x="1" y="218293"/>
                </a:moveTo>
                <a:lnTo>
                  <a:pt x="218295" y="218295"/>
                </a:lnTo>
                <a:lnTo>
                  <a:pt x="285750" y="0"/>
                </a:lnTo>
                <a:lnTo>
                  <a:pt x="353205" y="218295"/>
                </a:lnTo>
                <a:lnTo>
                  <a:pt x="571499" y="218293"/>
                </a:lnTo>
                <a:lnTo>
                  <a:pt x="394895" y="353205"/>
                </a:lnTo>
                <a:lnTo>
                  <a:pt x="462353" y="571499"/>
                </a:lnTo>
                <a:lnTo>
                  <a:pt x="285750" y="436584"/>
                </a:lnTo>
                <a:lnTo>
                  <a:pt x="109147" y="571499"/>
                </a:lnTo>
                <a:lnTo>
                  <a:pt x="176605" y="353205"/>
                </a:lnTo>
                <a:lnTo>
                  <a:pt x="1" y="218293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五角星 40"/>
          <p:cNvSpPr/>
          <p:nvPr/>
        </p:nvSpPr>
        <p:spPr>
          <a:xfrm>
            <a:off x="4330800" y="3438360"/>
            <a:ext cx="571320" cy="571680"/>
          </a:xfrm>
          <a:custGeom>
            <a:avLst/>
            <a:gdLst/>
            <a:ahLst/>
            <a:rect l="l" t="t" r="r" b="b"/>
            <a:pathLst>
              <a:path w="571500" h="571500">
                <a:moveTo>
                  <a:pt x="1" y="218293"/>
                </a:moveTo>
                <a:lnTo>
                  <a:pt x="218295" y="218295"/>
                </a:lnTo>
                <a:lnTo>
                  <a:pt x="285750" y="0"/>
                </a:lnTo>
                <a:lnTo>
                  <a:pt x="353205" y="218295"/>
                </a:lnTo>
                <a:lnTo>
                  <a:pt x="571499" y="218293"/>
                </a:lnTo>
                <a:lnTo>
                  <a:pt x="394895" y="353205"/>
                </a:lnTo>
                <a:lnTo>
                  <a:pt x="462353" y="571499"/>
                </a:lnTo>
                <a:lnTo>
                  <a:pt x="285750" y="436584"/>
                </a:lnTo>
                <a:lnTo>
                  <a:pt x="109147" y="571499"/>
                </a:lnTo>
                <a:lnTo>
                  <a:pt x="176605" y="353205"/>
                </a:lnTo>
                <a:lnTo>
                  <a:pt x="1" y="218293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五角星 41"/>
          <p:cNvSpPr/>
          <p:nvPr/>
        </p:nvSpPr>
        <p:spPr>
          <a:xfrm>
            <a:off x="4330800" y="3438360"/>
            <a:ext cx="571320" cy="571680"/>
          </a:xfrm>
          <a:custGeom>
            <a:avLst/>
            <a:gdLst/>
            <a:ahLst/>
            <a:rect l="l" t="t" r="r" b="b"/>
            <a:pathLst>
              <a:path w="571500" h="571500">
                <a:moveTo>
                  <a:pt x="1" y="218293"/>
                </a:moveTo>
                <a:lnTo>
                  <a:pt x="218295" y="218295"/>
                </a:lnTo>
                <a:lnTo>
                  <a:pt x="285750" y="0"/>
                </a:lnTo>
                <a:lnTo>
                  <a:pt x="353205" y="218295"/>
                </a:lnTo>
                <a:lnTo>
                  <a:pt x="571499" y="218293"/>
                </a:lnTo>
                <a:lnTo>
                  <a:pt x="394895" y="353205"/>
                </a:lnTo>
                <a:lnTo>
                  <a:pt x="462353" y="571499"/>
                </a:lnTo>
                <a:lnTo>
                  <a:pt x="285750" y="436584"/>
                </a:lnTo>
                <a:lnTo>
                  <a:pt x="109147" y="571499"/>
                </a:lnTo>
                <a:lnTo>
                  <a:pt x="176605" y="353205"/>
                </a:lnTo>
                <a:lnTo>
                  <a:pt x="1" y="218293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五角星 42"/>
          <p:cNvSpPr/>
          <p:nvPr/>
        </p:nvSpPr>
        <p:spPr>
          <a:xfrm>
            <a:off x="4330800" y="3438360"/>
            <a:ext cx="571320" cy="571680"/>
          </a:xfrm>
          <a:custGeom>
            <a:avLst/>
            <a:gdLst/>
            <a:ahLst/>
            <a:rect l="l" t="t" r="r" b="b"/>
            <a:pathLst>
              <a:path w="571500" h="571500">
                <a:moveTo>
                  <a:pt x="1" y="218293"/>
                </a:moveTo>
                <a:lnTo>
                  <a:pt x="218295" y="218295"/>
                </a:lnTo>
                <a:lnTo>
                  <a:pt x="285750" y="0"/>
                </a:lnTo>
                <a:lnTo>
                  <a:pt x="353205" y="218295"/>
                </a:lnTo>
                <a:lnTo>
                  <a:pt x="571499" y="218293"/>
                </a:lnTo>
                <a:lnTo>
                  <a:pt x="394895" y="353205"/>
                </a:lnTo>
                <a:lnTo>
                  <a:pt x="462353" y="571499"/>
                </a:lnTo>
                <a:lnTo>
                  <a:pt x="285750" y="436584"/>
                </a:lnTo>
                <a:lnTo>
                  <a:pt x="109147" y="571499"/>
                </a:lnTo>
                <a:lnTo>
                  <a:pt x="176605" y="353205"/>
                </a:lnTo>
                <a:lnTo>
                  <a:pt x="1" y="218293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五角星 43"/>
          <p:cNvSpPr/>
          <p:nvPr/>
        </p:nvSpPr>
        <p:spPr>
          <a:xfrm>
            <a:off x="4330800" y="3438360"/>
            <a:ext cx="571320" cy="571680"/>
          </a:xfrm>
          <a:custGeom>
            <a:avLst/>
            <a:gdLst/>
            <a:ahLst/>
            <a:rect l="l" t="t" r="r" b="b"/>
            <a:pathLst>
              <a:path w="571500" h="571500">
                <a:moveTo>
                  <a:pt x="1" y="218293"/>
                </a:moveTo>
                <a:lnTo>
                  <a:pt x="218295" y="218295"/>
                </a:lnTo>
                <a:lnTo>
                  <a:pt x="285750" y="0"/>
                </a:lnTo>
                <a:lnTo>
                  <a:pt x="353205" y="218295"/>
                </a:lnTo>
                <a:lnTo>
                  <a:pt x="571499" y="218293"/>
                </a:lnTo>
                <a:lnTo>
                  <a:pt x="394895" y="353205"/>
                </a:lnTo>
                <a:lnTo>
                  <a:pt x="462353" y="571499"/>
                </a:lnTo>
                <a:lnTo>
                  <a:pt x="285750" y="436584"/>
                </a:lnTo>
                <a:lnTo>
                  <a:pt x="109147" y="571499"/>
                </a:lnTo>
                <a:lnTo>
                  <a:pt x="176605" y="353205"/>
                </a:lnTo>
                <a:lnTo>
                  <a:pt x="1" y="218293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五角星 44"/>
          <p:cNvSpPr/>
          <p:nvPr/>
        </p:nvSpPr>
        <p:spPr>
          <a:xfrm>
            <a:off x="4330800" y="3438360"/>
            <a:ext cx="571320" cy="571680"/>
          </a:xfrm>
          <a:custGeom>
            <a:avLst/>
            <a:gdLst/>
            <a:ahLst/>
            <a:rect l="l" t="t" r="r" b="b"/>
            <a:pathLst>
              <a:path w="571500" h="571500">
                <a:moveTo>
                  <a:pt x="1" y="218293"/>
                </a:moveTo>
                <a:lnTo>
                  <a:pt x="218295" y="218295"/>
                </a:lnTo>
                <a:lnTo>
                  <a:pt x="285750" y="0"/>
                </a:lnTo>
                <a:lnTo>
                  <a:pt x="353205" y="218295"/>
                </a:lnTo>
                <a:lnTo>
                  <a:pt x="571499" y="218293"/>
                </a:lnTo>
                <a:lnTo>
                  <a:pt x="394895" y="353205"/>
                </a:lnTo>
                <a:lnTo>
                  <a:pt x="462353" y="571499"/>
                </a:lnTo>
                <a:lnTo>
                  <a:pt x="285750" y="436584"/>
                </a:lnTo>
                <a:lnTo>
                  <a:pt x="109147" y="571499"/>
                </a:lnTo>
                <a:lnTo>
                  <a:pt x="176605" y="353205"/>
                </a:lnTo>
                <a:lnTo>
                  <a:pt x="1" y="218293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五角星 45"/>
          <p:cNvSpPr/>
          <p:nvPr/>
        </p:nvSpPr>
        <p:spPr>
          <a:xfrm>
            <a:off x="4330800" y="3438360"/>
            <a:ext cx="571320" cy="571680"/>
          </a:xfrm>
          <a:custGeom>
            <a:avLst/>
            <a:gdLst/>
            <a:ahLst/>
            <a:rect l="l" t="t" r="r" b="b"/>
            <a:pathLst>
              <a:path w="571500" h="571500">
                <a:moveTo>
                  <a:pt x="1" y="218293"/>
                </a:moveTo>
                <a:lnTo>
                  <a:pt x="218295" y="218295"/>
                </a:lnTo>
                <a:lnTo>
                  <a:pt x="285750" y="0"/>
                </a:lnTo>
                <a:lnTo>
                  <a:pt x="353205" y="218295"/>
                </a:lnTo>
                <a:lnTo>
                  <a:pt x="571499" y="218293"/>
                </a:lnTo>
                <a:lnTo>
                  <a:pt x="394895" y="353205"/>
                </a:lnTo>
                <a:lnTo>
                  <a:pt x="462353" y="571499"/>
                </a:lnTo>
                <a:lnTo>
                  <a:pt x="285750" y="436584"/>
                </a:lnTo>
                <a:lnTo>
                  <a:pt x="109147" y="571499"/>
                </a:lnTo>
                <a:lnTo>
                  <a:pt x="176605" y="353205"/>
                </a:lnTo>
                <a:lnTo>
                  <a:pt x="1" y="218293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五角星 46"/>
          <p:cNvSpPr/>
          <p:nvPr/>
        </p:nvSpPr>
        <p:spPr>
          <a:xfrm>
            <a:off x="4330800" y="3438360"/>
            <a:ext cx="571320" cy="571680"/>
          </a:xfrm>
          <a:custGeom>
            <a:avLst/>
            <a:gdLst/>
            <a:ahLst/>
            <a:rect l="l" t="t" r="r" b="b"/>
            <a:pathLst>
              <a:path w="571500" h="571500">
                <a:moveTo>
                  <a:pt x="1" y="218293"/>
                </a:moveTo>
                <a:lnTo>
                  <a:pt x="218295" y="218295"/>
                </a:lnTo>
                <a:lnTo>
                  <a:pt x="285750" y="0"/>
                </a:lnTo>
                <a:lnTo>
                  <a:pt x="353205" y="218295"/>
                </a:lnTo>
                <a:lnTo>
                  <a:pt x="571499" y="218293"/>
                </a:lnTo>
                <a:lnTo>
                  <a:pt x="394895" y="353205"/>
                </a:lnTo>
                <a:lnTo>
                  <a:pt x="462353" y="571499"/>
                </a:lnTo>
                <a:lnTo>
                  <a:pt x="285750" y="436584"/>
                </a:lnTo>
                <a:lnTo>
                  <a:pt x="109147" y="571499"/>
                </a:lnTo>
                <a:lnTo>
                  <a:pt x="176605" y="353205"/>
                </a:lnTo>
                <a:lnTo>
                  <a:pt x="1" y="218293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C:\Documents and Settings\鱼不愚\桌面\2007926194337696.png"/>
          <p:cNvPicPr/>
          <p:nvPr/>
        </p:nvPicPr>
        <p:blipFill>
          <a:blip r:embed="rId3"/>
          <a:srcRect l="8340" t="10964" r="6995" b="8638"/>
          <a:stretch/>
        </p:blipFill>
        <p:spPr>
          <a:xfrm>
            <a:off x="2071800" y="571680"/>
            <a:ext cx="5214960" cy="4714560"/>
          </a:xfrm>
          <a:prstGeom prst="rect">
            <a:avLst/>
          </a:prstGeom>
          <a:ln w="0">
            <a:noFill/>
          </a:ln>
        </p:spPr>
      </p:pic>
      <p:sp>
        <p:nvSpPr>
          <p:cNvPr id="79" name="矩形 5"/>
          <p:cNvSpPr/>
          <p:nvPr/>
        </p:nvSpPr>
        <p:spPr>
          <a:xfrm>
            <a:off x="4052520" y="287352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efe"/>
                </a:solidFill>
                <a:latin typeface="方正粗宋简体"/>
                <a:ea typeface="方正粗宋简体"/>
              </a:rPr>
              <a:t>5.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背景音乐.mp3" descr=""/>
          <p:cNvPicPr/>
          <p:nvPr/>
        </p:nvPicPr>
        <p:blipFill>
          <a:blip r:embed="rId4"/>
          <a:stretch/>
        </p:blipFill>
        <p:spPr>
          <a:xfrm>
            <a:off x="-588960" y="3276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advTm="8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130.0)">
                                      <p:cBhvr>
                                        <p:cTn id="6" dur="1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3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3.33333E-006 L -0.18506 -0.79791 E">
                                      <p:cBhvr>
                                        <p:cTn id="131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33" dur="1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63 0.00047 L -0.0434 -0.74537 E">
                                      <p:cBhvr>
                                        <p:cTn id="135" dur="5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37" dur="1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5.55112E-017 L 0.09705 -0.73542 E">
                                      <p:cBhvr>
                                        <p:cTn id="139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41" dur="1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5.55112E-017 L 0.00399 -0.7669 E">
                                      <p:cBhvr>
                                        <p:cTn id="143" dur="1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45" dur="1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3.33333E-006 L 0.24011 -0.7243 E">
                                      <p:cBhvr>
                                        <p:cTn id="147" dur="5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49" dur="1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3.33333E-006 L 0.44497 -0.62986 E">
                                      <p:cBhvr>
                                        <p:cTn id="151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53" dur="1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84988E-007 L 0.65747 -0.38753 E">
                                      <p:cBhvr>
                                        <p:cTn id="155" dur="1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57" dur="1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48148E-006 L 0.51927 0.23958 E">
                                      <p:cBhvr>
                                        <p:cTn id="159" dur="1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0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61" dur="1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48148E-006 L -0.49445 -0.65301 E">
                                      <p:cBhvr>
                                        <p:cTn id="163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65" dur="1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1.48148E-006 L 0.57396 0.01898 E">
                                      <p:cBhvr>
                                        <p:cTn id="167" dur="5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69" dur="1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84988E-007 L 0.68125 -0.51963 E">
                                      <p:cBhvr>
                                        <p:cTn id="171" dur="1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2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73" dur="1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3.33333E-006 L -0.31892 0.59861 E">
                                      <p:cBhvr>
                                        <p:cTn id="175" dur="5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6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77" dur="1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33333E-006 L 0.49531 0.56806 E">
                                      <p:cBhvr>
                                        <p:cTn id="179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0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81" dur="1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3.33333E-006 L 0.58959 0.43172 E">
                                      <p:cBhvr>
                                        <p:cTn id="183" dur="5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85" dur="1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84988E-007 L 0.34254 0.82771 E">
                                      <p:cBhvr>
                                        <p:cTn id="187" dur="1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8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89" dur="1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3.33333E-006 L -0.48819 0.54607 E">
                                      <p:cBhvr>
                                        <p:cTn id="191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2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93" dur="1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1.11022E-016 L 0.18108 0.65208 E">
                                      <p:cBhvr>
                                        <p:cTn id="195" dur="5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97" dur="1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4.44444E-006 L -0.63489 -0.04306 E">
                                      <p:cBhvr>
                                        <p:cTn id="199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0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01" dur="1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4.44444E-006 L -0.66632 -0.29514 E">
                                      <p:cBhvr>
                                        <p:cTn id="203" dur="1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05" dur="1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4.44444E-006 L 0.34167 0.63935 E">
                                      <p:cBhvr>
                                        <p:cTn id="207" dur="5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8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09" dur="1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4.44444E-006 L -0.38281 -0.72547 E">
                                      <p:cBhvr>
                                        <p:cTn id="211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2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13" dur="1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4.44444E-006 L -0.20955 0.60787 E">
                                      <p:cBhvr>
                                        <p:cTn id="215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6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17" dur="1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4.44444E-006 L 0.53854 -0.62061 E">
                                      <p:cBhvr>
                                        <p:cTn id="219" dur="1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0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21" dur="1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1.38568E-006 L 0.61719 -0.23141 E">
                                      <p:cBhvr>
                                        <p:cTn id="223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25" dur="1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1.38568E-006 L 0.6566 0.15612 E">
                                      <p:cBhvr>
                                        <p:cTn id="227" dur="5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29" dur="1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1.38568E-006 L -0.18594 0.81594 E">
                                      <p:cBhvr>
                                        <p:cTn id="231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33" dur="1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1.38568E-006 L -0.65851 -0.44111 E">
                                      <p:cBhvr>
                                        <p:cTn id="235" dur="5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6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37" dur="1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4.44444E-006 L -0.63489 -0.60996 E">
                                      <p:cBhvr>
                                        <p:cTn id="239" dur="1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0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41" dur="1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3.33333E-006 L -0.04826 0.57871 E">
                                      <p:cBhvr>
                                        <p:cTn id="243" dur="5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45" dur="1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1.38568E-006 L -0.78455 -0.22101 E">
                                      <p:cBhvr>
                                        <p:cTn id="247" dur="5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8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49" dur="1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1.38568E-006 L -0.71354 0.45589 E">
                                      <p:cBhvr>
                                        <p:cTn id="251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2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53" dur="1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9261E-007 L 0.63785 -0.09607 E">
                                      <p:cBhvr>
                                        <p:cTn id="255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6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57" dur="1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7037E-006 L 0.06476 0.62986 E">
                                      <p:cBhvr>
                                        <p:cTn id="259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0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61" dur="1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4.44444E-006 L -0.62691 0.18796 E">
                                      <p:cBhvr>
                                        <p:cTn id="263" dur="1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65" dur="1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6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2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3" descr="C:\Documents and Settings\鱼不愚\桌面\1111.png"/>
          <p:cNvPicPr/>
          <p:nvPr/>
        </p:nvPicPr>
        <p:blipFill>
          <a:blip r:embed="rId1"/>
          <a:srcRect l="13994" t="24914" r="15829" b="2134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圆角矩形 7"/>
          <p:cNvSpPr/>
          <p:nvPr/>
        </p:nvSpPr>
        <p:spPr>
          <a:xfrm>
            <a:off x="0" y="463680"/>
            <a:ext cx="9144000" cy="5930640"/>
          </a:xfrm>
          <a:prstGeom prst="roundRect">
            <a:avLst>
              <a:gd name="adj" fmla="val 0"/>
            </a:avLst>
          </a:prstGeom>
          <a:solidFill>
            <a:srgbClr val="ffffff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4"/>
          <p:cNvGrpSpPr/>
          <p:nvPr/>
        </p:nvGrpSpPr>
        <p:grpSpPr>
          <a:xfrm>
            <a:off x="166680" y="5500800"/>
            <a:ext cx="1461960" cy="1322280"/>
            <a:chOff x="166680" y="5500800"/>
            <a:chExt cx="1461960" cy="1322280"/>
          </a:xfrm>
        </p:grpSpPr>
        <p:pic>
          <p:nvPicPr>
            <p:cNvPr id="84" name="Picture 2" descr="C:\Documents and Settings\鱼不愚\桌面\2007926194337696.png"/>
            <p:cNvPicPr/>
            <p:nvPr/>
          </p:nvPicPr>
          <p:blipFill>
            <a:blip r:embed="rId2"/>
            <a:srcRect l="8348" t="10975" r="7002" b="8638"/>
            <a:stretch/>
          </p:blipFill>
          <p:spPr>
            <a:xfrm>
              <a:off x="166680" y="5500800"/>
              <a:ext cx="1461960" cy="13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矩形 9"/>
            <p:cNvSpPr/>
            <p:nvPr/>
          </p:nvSpPr>
          <p:spPr>
            <a:xfrm>
              <a:off x="630360" y="6097680"/>
              <a:ext cx="50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efe"/>
                  </a:solidFill>
                  <a:latin typeface="方正粗宋简体"/>
                  <a:ea typeface="方正粗宋简体"/>
                </a:rPr>
                <a:t>5.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矩形 1"/>
          <p:cNvSpPr/>
          <p:nvPr/>
        </p:nvSpPr>
        <p:spPr>
          <a:xfrm>
            <a:off x="811800" y="1052640"/>
            <a:ext cx="18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方正舒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方正舒体"/>
              </a:rPr>
              <a:t>节日简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方正舒体"/>
              </a:rPr>
              <a:t>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2"/>
          <p:cNvSpPr/>
          <p:nvPr/>
        </p:nvSpPr>
        <p:spPr>
          <a:xfrm>
            <a:off x="590400" y="2062080"/>
            <a:ext cx="478656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际劳动节又称“五一国际劳动节”、“国际示威游行日”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International Labor Day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或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May Day)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是世界上大多数国家的劳动节。定在每年的五月一日。它是全世界“劳动者”共同拥有的节日。　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3"/>
          <p:cNvSpPr/>
          <p:nvPr/>
        </p:nvSpPr>
        <p:spPr>
          <a:xfrm>
            <a:off x="3924360" y="3699000"/>
            <a:ext cx="5624280" cy="61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0" spc="-1" strike="noStrike">
                <a:solidFill>
                  <a:srgbClr val="ffc000"/>
                </a:solidFill>
                <a:latin typeface="汉仪大黑简"/>
                <a:ea typeface="汉仪大黑简"/>
              </a:rPr>
              <a:t>5.1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fade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28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C:\Documents and Settings\鱼不愚\桌面\1111.png"/>
          <p:cNvPicPr/>
          <p:nvPr/>
        </p:nvPicPr>
        <p:blipFill>
          <a:blip r:embed="rId1"/>
          <a:srcRect l="13994" t="24914" r="15829" b="2134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圆角矩形 7"/>
          <p:cNvSpPr/>
          <p:nvPr/>
        </p:nvSpPr>
        <p:spPr>
          <a:xfrm>
            <a:off x="0" y="463680"/>
            <a:ext cx="9144000" cy="5930640"/>
          </a:xfrm>
          <a:prstGeom prst="roundRect">
            <a:avLst>
              <a:gd name="adj" fmla="val 0"/>
            </a:avLst>
          </a:prstGeom>
          <a:solidFill>
            <a:srgbClr val="ffffff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4"/>
          <p:cNvGrpSpPr/>
          <p:nvPr/>
        </p:nvGrpSpPr>
        <p:grpSpPr>
          <a:xfrm>
            <a:off x="166680" y="5500800"/>
            <a:ext cx="1461960" cy="1322280"/>
            <a:chOff x="166680" y="5500800"/>
            <a:chExt cx="1461960" cy="1322280"/>
          </a:xfrm>
        </p:grpSpPr>
        <p:pic>
          <p:nvPicPr>
            <p:cNvPr id="92" name="Picture 2" descr="C:\Documents and Settings\鱼不愚\桌面\2007926194337696.png"/>
            <p:cNvPicPr/>
            <p:nvPr/>
          </p:nvPicPr>
          <p:blipFill>
            <a:blip r:embed="rId2"/>
            <a:srcRect l="8348" t="10975" r="7002" b="8638"/>
            <a:stretch/>
          </p:blipFill>
          <p:spPr>
            <a:xfrm>
              <a:off x="166680" y="5500800"/>
              <a:ext cx="1461960" cy="13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矩形 9"/>
            <p:cNvSpPr/>
            <p:nvPr/>
          </p:nvSpPr>
          <p:spPr>
            <a:xfrm>
              <a:off x="630360" y="6097680"/>
              <a:ext cx="50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efe"/>
                  </a:solidFill>
                  <a:latin typeface="方正粗宋简体"/>
                  <a:ea typeface="方正粗宋简体"/>
                </a:rPr>
                <a:t>5.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7"/>
          <p:cNvGrpSpPr/>
          <p:nvPr/>
        </p:nvGrpSpPr>
        <p:grpSpPr>
          <a:xfrm>
            <a:off x="809640" y="1943280"/>
            <a:ext cx="7554960" cy="1538280"/>
            <a:chOff x="809640" y="1943280"/>
            <a:chExt cx="7554960" cy="1538280"/>
          </a:xfrm>
        </p:grpSpPr>
        <p:pic>
          <p:nvPicPr>
            <p:cNvPr id="95" name="Picture 2" descr="芝加哥工人罢工"/>
            <p:cNvPicPr/>
            <p:nvPr/>
          </p:nvPicPr>
          <p:blipFill>
            <a:blip r:embed="rId3"/>
            <a:stretch/>
          </p:blipFill>
          <p:spPr>
            <a:xfrm>
              <a:off x="809640" y="1943280"/>
              <a:ext cx="2222280" cy="15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2" descr="http://images.sanhaostreet.com/News/2007/5/20070504082239210.jpg"/>
            <p:cNvPicPr/>
            <p:nvPr/>
          </p:nvPicPr>
          <p:blipFill>
            <a:blip r:embed="rId4"/>
            <a:stretch/>
          </p:blipFill>
          <p:spPr>
            <a:xfrm>
              <a:off x="3461040" y="1943280"/>
              <a:ext cx="2221200" cy="15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Picture 4" descr="http://a2.att.hudong.com/86/28/01300000330188123020282200874_140.jpg"/>
            <p:cNvPicPr/>
            <p:nvPr/>
          </p:nvPicPr>
          <p:blipFill>
            <a:blip r:embed="rId5"/>
            <a:stretch/>
          </p:blipFill>
          <p:spPr>
            <a:xfrm>
              <a:off x="6143400" y="1943280"/>
              <a:ext cx="2221200" cy="1538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" name="矩形 2"/>
          <p:cNvSpPr/>
          <p:nvPr/>
        </p:nvSpPr>
        <p:spPr>
          <a:xfrm>
            <a:off x="571680" y="3824280"/>
            <a:ext cx="8001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五一国际劳动节源于美国芝加哥城工人大罢工。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886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，芝加哥的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16816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名工人为争取实行八小时工作制而举行大罢工，经过艰苦的流血斗争，终于获得了胜利。为纪念这次伟大的工人运动，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889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第二国际宣布将每年的五月一日定为国际劳动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0"/>
          <p:cNvSpPr/>
          <p:nvPr/>
        </p:nvSpPr>
        <p:spPr>
          <a:xfrm>
            <a:off x="811800" y="1052640"/>
            <a:ext cx="18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方正舒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方正舒体"/>
              </a:rPr>
              <a:t>节日来源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方正舒体"/>
              </a:rPr>
              <a:t>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" descr="C:\Documents and Settings\鱼不愚\桌面\1111.png"/>
          <p:cNvPicPr/>
          <p:nvPr/>
        </p:nvPicPr>
        <p:blipFill>
          <a:blip r:embed="rId1"/>
          <a:srcRect l="13994" t="24914" r="15829" b="2134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圆角矩形 7"/>
          <p:cNvSpPr/>
          <p:nvPr/>
        </p:nvSpPr>
        <p:spPr>
          <a:xfrm>
            <a:off x="0" y="463680"/>
            <a:ext cx="9144000" cy="5930640"/>
          </a:xfrm>
          <a:prstGeom prst="roundRect">
            <a:avLst>
              <a:gd name="adj" fmla="val 0"/>
            </a:avLst>
          </a:prstGeom>
          <a:solidFill>
            <a:srgbClr val="ffffff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4"/>
          <p:cNvGrpSpPr/>
          <p:nvPr/>
        </p:nvGrpSpPr>
        <p:grpSpPr>
          <a:xfrm>
            <a:off x="166680" y="5500800"/>
            <a:ext cx="1461960" cy="1322280"/>
            <a:chOff x="166680" y="5500800"/>
            <a:chExt cx="1461960" cy="1322280"/>
          </a:xfrm>
        </p:grpSpPr>
        <p:pic>
          <p:nvPicPr>
            <p:cNvPr id="103" name="Picture 2" descr="C:\Documents and Settings\鱼不愚\桌面\2007926194337696.png"/>
            <p:cNvPicPr/>
            <p:nvPr/>
          </p:nvPicPr>
          <p:blipFill>
            <a:blip r:embed="rId2"/>
            <a:srcRect l="8348" t="10975" r="7002" b="8638"/>
            <a:stretch/>
          </p:blipFill>
          <p:spPr>
            <a:xfrm>
              <a:off x="166680" y="5500800"/>
              <a:ext cx="1461960" cy="13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矩形 9"/>
            <p:cNvSpPr/>
            <p:nvPr/>
          </p:nvSpPr>
          <p:spPr>
            <a:xfrm>
              <a:off x="630360" y="6097680"/>
              <a:ext cx="50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efe"/>
                  </a:solidFill>
                  <a:latin typeface="方正粗宋简体"/>
                  <a:ea typeface="方正粗宋简体"/>
                </a:rPr>
                <a:t>5.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矩形 10"/>
          <p:cNvSpPr/>
          <p:nvPr/>
        </p:nvSpPr>
        <p:spPr>
          <a:xfrm>
            <a:off x="811800" y="1052640"/>
            <a:ext cx="18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方正舒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方正舒体"/>
              </a:rPr>
              <a:t>中国节日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方正舒体"/>
              </a:rPr>
              <a:t>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http://v.cga.com.cn/Upload/News/200653141850692.jpg"/>
          <p:cNvPicPr/>
          <p:nvPr/>
        </p:nvPicPr>
        <p:blipFill>
          <a:blip r:embed="rId3"/>
          <a:stretch/>
        </p:blipFill>
        <p:spPr>
          <a:xfrm>
            <a:off x="804960" y="1986120"/>
            <a:ext cx="3047760" cy="2286000"/>
          </a:xfrm>
          <a:prstGeom prst="rect">
            <a:avLst/>
          </a:prstGeom>
          <a:ln w="0">
            <a:noFill/>
          </a:ln>
        </p:spPr>
      </p:pic>
      <p:grpSp>
        <p:nvGrpSpPr>
          <p:cNvPr id="107" name="Group 9"/>
          <p:cNvGrpSpPr/>
          <p:nvPr/>
        </p:nvGrpSpPr>
        <p:grpSpPr>
          <a:xfrm>
            <a:off x="666720" y="1870200"/>
            <a:ext cx="8143920" cy="3283560"/>
            <a:chOff x="666720" y="1870200"/>
            <a:chExt cx="8143920" cy="3283560"/>
          </a:xfrm>
        </p:grpSpPr>
        <p:sp>
          <p:nvSpPr>
            <p:cNvPr id="108" name="矩形 2"/>
            <p:cNvSpPr/>
            <p:nvPr/>
          </p:nvSpPr>
          <p:spPr>
            <a:xfrm>
              <a:off x="3967200" y="1870200"/>
              <a:ext cx="4714920" cy="88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中国人民庆祝劳动节的活动可追溯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918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年。是年，一些革命的知识分子在上海、苏州、杭州、汉口等地向群众散发介绍“五一”的传单。 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920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年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5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月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日，北京、上海、广州、九江、唐山等各工业城市的工人群众浩浩荡荡地走向街市、举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矩形 8"/>
            <p:cNvSpPr/>
            <p:nvPr/>
          </p:nvSpPr>
          <p:spPr>
            <a:xfrm>
              <a:off x="666720" y="4267080"/>
              <a:ext cx="8143920" cy="88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了声势浩大的游行、集会，这就是中国历史上的第一个五一劳动节。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解放后，中央人民政府政务院于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949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年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2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月将五月一日定为法定的劳动节，是日全国放假一天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11000">
    <p:fade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0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C:\Documents and Settings\鱼不愚\桌面\劳动啊.png"/>
          <p:cNvPicPr/>
          <p:nvPr/>
        </p:nvPicPr>
        <p:blipFill>
          <a:blip r:embed="rId1"/>
          <a:srcRect l="0" t="0" r="2427" b="0"/>
          <a:stretch/>
        </p:blipFill>
        <p:spPr>
          <a:xfrm>
            <a:off x="1863720" y="828720"/>
            <a:ext cx="7280280" cy="6029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C:\Documents and Settings\鱼不愚\桌面\劳动2副本.png"/>
          <p:cNvPicPr/>
          <p:nvPr/>
        </p:nvPicPr>
        <p:blipFill>
          <a:blip r:embed="rId2"/>
          <a:srcRect l="0" t="0" r="48290" b="0"/>
          <a:stretch/>
        </p:blipFill>
        <p:spPr>
          <a:xfrm>
            <a:off x="3714840" y="1109520"/>
            <a:ext cx="1143000" cy="9781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C:\Documents and Settings\鱼不愚\桌面\劳动2副本.png"/>
          <p:cNvPicPr/>
          <p:nvPr/>
        </p:nvPicPr>
        <p:blipFill>
          <a:blip r:embed="rId3"/>
          <a:srcRect l="51726" t="0" r="-23478" b="0"/>
          <a:stretch/>
        </p:blipFill>
        <p:spPr>
          <a:xfrm>
            <a:off x="7086600" y="2571840"/>
            <a:ext cx="1585800" cy="9777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C:\Documents and Settings\鱼不愚\桌面\1111.png"/>
          <p:cNvPicPr/>
          <p:nvPr/>
        </p:nvPicPr>
        <p:blipFill>
          <a:blip r:embed="rId4"/>
          <a:srcRect l="13994" t="24914" r="15829" b="2134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矩形 7"/>
          <p:cNvSpPr/>
          <p:nvPr/>
        </p:nvSpPr>
        <p:spPr>
          <a:xfrm>
            <a:off x="2538720" y="5357880"/>
            <a:ext cx="453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方正吕建德字体"/>
                <a:ea typeface="方正吕建德字体"/>
              </a:rPr>
              <a:t>东坡下载站祝大家劳动节快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7"/>
          <p:cNvGrpSpPr/>
          <p:nvPr/>
        </p:nvGrpSpPr>
        <p:grpSpPr>
          <a:xfrm>
            <a:off x="2071800" y="571680"/>
            <a:ext cx="5214960" cy="4714560"/>
            <a:chOff x="2071800" y="571680"/>
            <a:chExt cx="5214960" cy="4714560"/>
          </a:xfrm>
        </p:grpSpPr>
        <p:pic>
          <p:nvPicPr>
            <p:cNvPr id="116" name="Picture 2" descr="C:\Documents and Settings\鱼不愚\桌面\2007926194337696.png"/>
            <p:cNvPicPr/>
            <p:nvPr/>
          </p:nvPicPr>
          <p:blipFill>
            <a:blip r:embed="rId5"/>
            <a:srcRect l="8340" t="10964" r="6995" b="8638"/>
            <a:stretch/>
          </p:blipFill>
          <p:spPr>
            <a:xfrm>
              <a:off x="2071800" y="571680"/>
              <a:ext cx="5214960" cy="47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矩形 10"/>
            <p:cNvSpPr/>
            <p:nvPr/>
          </p:nvSpPr>
          <p:spPr>
            <a:xfrm>
              <a:off x="4052520" y="2873880"/>
              <a:ext cx="1186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efe"/>
                  </a:solidFill>
                  <a:latin typeface="方正粗宋简体"/>
                  <a:ea typeface="方正粗宋简体"/>
                </a:rPr>
                <a:t>5.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0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33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34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3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52" nodeType="afterEffect" fill="hold" presetClass="entr" presetID="23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2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日期占位符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2A194-DD6F-4BEE-BEE3-C9980459D26D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2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ky123.Org</cp:lastModifiedBy>
  <dcterms:modified xsi:type="dcterms:W3CDTF">2015-04-20T03:19:06Z</dcterms:modified>
  <cp:revision>6</cp:revision>
  <dc:subject/>
  <dc:title>PowerPoint 演示文稿</dc:title>
</cp:coreProperties>
</file>