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96800" y="1985760"/>
            <a:ext cx="50832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简单统计表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665360" y="833400"/>
            <a:ext cx="4535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分类与整理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2560" y="952560"/>
            <a:ext cx="78444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知识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动脑筋，做一做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63560" y="252576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把全班同学分成两组，可以怎样分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4760" y="2955960"/>
            <a:ext cx="55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在表中把分组的结果表示出来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74920" y="3716280"/>
          <a:ext cx="2952720" cy="936720"/>
        </p:xfrm>
        <a:graphic>
          <a:graphicData uri="http://schemas.openxmlformats.org/drawingml/2006/table">
            <a:tbl>
              <a:tblPr/>
              <a:tblGrid>
                <a:gridCol w="1080720"/>
                <a:gridCol w="935280"/>
                <a:gridCol w="9367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32"/>
          <p:cNvSpPr/>
          <p:nvPr/>
        </p:nvSpPr>
        <p:spPr>
          <a:xfrm>
            <a:off x="3357720" y="421956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4336920" y="3754440"/>
            <a:ext cx="9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5313240" y="375120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43320" y="4975200"/>
            <a:ext cx="48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观察统计表，你都知道了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43320" y="5407200"/>
            <a:ext cx="37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提出什么数学问题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43320" y="5840280"/>
            <a:ext cx="40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一想，还可以怎样分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分类整理下面的图形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知识，解决问题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7153200" cy="2760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23840" y="4857840"/>
            <a:ext cx="37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把这些图形分成两组，可以怎样分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5160" y="52894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把分组的结果表示出来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148360" y="5661000"/>
          <a:ext cx="3600360" cy="936720"/>
        </p:xfrm>
        <a:graphic>
          <a:graphicData uri="http://schemas.openxmlformats.org/drawingml/2006/table">
            <a:tbl>
              <a:tblPr/>
              <a:tblGrid>
                <a:gridCol w="1265040"/>
                <a:gridCol w="1182960"/>
                <a:gridCol w="11523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32"/>
          <p:cNvSpPr/>
          <p:nvPr/>
        </p:nvSpPr>
        <p:spPr>
          <a:xfrm>
            <a:off x="5316480" y="616428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6273720" y="5699160"/>
            <a:ext cx="14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面图形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7396200" y="569592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立体图形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6676920" y="61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7850160" y="616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24922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回顾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11280" y="164160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87280" y="50115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仔细观察，你看到了什么？可以怎样分类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44356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完成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形状分一分，在教材上涂一涂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2160" y="5877000"/>
            <a:ext cx="34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种图形各有几个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615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借助情境，按不同标准分类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2565360"/>
            <a:ext cx="8569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ShockwaveFlash1"/>
          <p:cNvGraphicFramePr/>
          <p:nvPr/>
        </p:nvGraphicFramePr>
        <p:xfrm>
          <a:off x="385920" y="284040"/>
          <a:ext cx="837072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284040"/>
                    <a:ext cx="8370720" cy="62802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80880" y="285840"/>
            <a:ext cx="836928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4975200"/>
            <a:ext cx="2958840" cy="1054080"/>
          </a:xfrm>
          <a:custGeom>
            <a:avLst/>
            <a:gdLst>
              <a:gd name="textAreaLeft" fmla="*/ 675360 w 2958840"/>
              <a:gd name="textAreaRight" fmla="*/ 2283480 w 2958840"/>
              <a:gd name="textAreaTop" fmla="*/ 240480 h 1054080"/>
              <a:gd name="textAreaBottom" fmla="*/ 81360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1880" y="4975200"/>
            <a:ext cx="2959200" cy="1054080"/>
          </a:xfrm>
          <a:custGeom>
            <a:avLst/>
            <a:gdLst>
              <a:gd name="textAreaLeft" fmla="*/ 675360 w 2959200"/>
              <a:gd name="textAreaRight" fmla="*/ 2283840 w 2959200"/>
              <a:gd name="textAreaTop" fmla="*/ 240480 h 1054080"/>
              <a:gd name="textAreaBottom" fmla="*/ 81360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分类计数，填写简单统计表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2162160"/>
            <a:ext cx="8569080" cy="2995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03280" y="53006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大人、孩子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62520" y="530064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性别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067600" y="6188040"/>
            <a:ext cx="812880" cy="37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62352"/>
                </a:srgbClr>
              </a:gs>
              <a:gs pos="50000">
                <a:srgbClr val="ffffff"/>
              </a:gs>
              <a:gs pos="100000">
                <a:srgbClr val="99ccff">
                  <a:alpha val="62352"/>
                </a:srgbClr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58240" y="62038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黑体"/>
              </a:rPr>
              <a:t>认表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6165720"/>
            <a:ext cx="72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你想按照哪种方法分组？数一数每组各有多少人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003640" y="5084640"/>
          <a:ext cx="2953080" cy="936720"/>
        </p:xfrm>
        <a:graphic>
          <a:graphicData uri="http://schemas.openxmlformats.org/drawingml/2006/table">
            <a:tbl>
              <a:tblPr/>
              <a:tblGrid>
                <a:gridCol w="1081080"/>
                <a:gridCol w="935280"/>
                <a:gridCol w="9367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32"/>
          <p:cNvSpPr/>
          <p:nvPr/>
        </p:nvSpPr>
        <p:spPr>
          <a:xfrm>
            <a:off x="5086440" y="558792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066000" y="5122800"/>
            <a:ext cx="9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人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7042320" y="5119560"/>
            <a:ext cx="8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孩子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6234120" y="5587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7172280" y="5587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分类计数，填写简单统计表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4975200"/>
            <a:ext cx="2958840" cy="1054080"/>
          </a:xfrm>
          <a:custGeom>
            <a:avLst/>
            <a:gdLst>
              <a:gd name="textAreaLeft" fmla="*/ 675360 w 2958840"/>
              <a:gd name="textAreaRight" fmla="*/ 2283480 w 2958840"/>
              <a:gd name="textAreaTop" fmla="*/ 240480 h 1054080"/>
              <a:gd name="textAreaBottom" fmla="*/ 81360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03280" y="53006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大人、孩子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6200640"/>
            <a:ext cx="56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介绍：我们可以把数的结果填写出来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67600" y="6188040"/>
            <a:ext cx="812880" cy="37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62352"/>
                </a:srgbClr>
              </a:gs>
              <a:gs pos="50000">
                <a:srgbClr val="ffffff"/>
              </a:gs>
              <a:gs pos="100000">
                <a:srgbClr val="99ccff">
                  <a:alpha val="62352"/>
                </a:srgbClr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58240" y="62038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黑体"/>
              </a:rPr>
              <a:t>返回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2162160"/>
            <a:ext cx="8569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分类计数，填写简单统计表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1880" y="4975200"/>
            <a:ext cx="2959200" cy="1054080"/>
          </a:xfrm>
          <a:custGeom>
            <a:avLst/>
            <a:gdLst>
              <a:gd name="textAreaLeft" fmla="*/ 675360 w 2959200"/>
              <a:gd name="textAreaRight" fmla="*/ 2283840 w 2959200"/>
              <a:gd name="textAreaTop" fmla="*/ 240480 h 1054080"/>
              <a:gd name="textAreaBottom" fmla="*/ 81360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62520" y="530064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性别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58920" y="5084640"/>
          <a:ext cx="2952720" cy="936720"/>
        </p:xfrm>
        <a:graphic>
          <a:graphicData uri="http://schemas.openxmlformats.org/drawingml/2006/table">
            <a:tbl>
              <a:tblPr/>
              <a:tblGrid>
                <a:gridCol w="1080720"/>
                <a:gridCol w="935280"/>
                <a:gridCol w="9367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32"/>
          <p:cNvSpPr/>
          <p:nvPr/>
        </p:nvSpPr>
        <p:spPr>
          <a:xfrm>
            <a:off x="1341360" y="558792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2320920" y="5122800"/>
            <a:ext cx="9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3297240" y="511956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2489040" y="55879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3427560" y="5587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67600" y="6188040"/>
            <a:ext cx="812880" cy="37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62352"/>
                </a:srgbClr>
              </a:gs>
              <a:gs pos="50000">
                <a:srgbClr val="ffffff"/>
              </a:gs>
              <a:gs pos="100000">
                <a:srgbClr val="99ccff">
                  <a:alpha val="62352"/>
                </a:srgbClr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58240" y="62038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黑体"/>
              </a:rPr>
              <a:t>返回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2162160"/>
            <a:ext cx="8569080" cy="2995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26920" y="6200640"/>
            <a:ext cx="56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介绍：我们可以把数的结果填写出来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认识简单统计表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04920" y="3824280"/>
            <a:ext cx="2959200" cy="1054080"/>
          </a:xfrm>
          <a:custGeom>
            <a:avLst/>
            <a:gdLst>
              <a:gd name="textAreaLeft" fmla="*/ 675360 w 2959200"/>
              <a:gd name="textAreaRight" fmla="*/ 2283840 w 2959200"/>
              <a:gd name="textAreaTop" fmla="*/ 240480 h 1054080"/>
              <a:gd name="textAreaBottom" fmla="*/ 81360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5560" y="41497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性别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2446200"/>
            <a:ext cx="2959200" cy="1054080"/>
          </a:xfrm>
          <a:custGeom>
            <a:avLst/>
            <a:gdLst>
              <a:gd name="textAreaLeft" fmla="*/ 675360 w 2959200"/>
              <a:gd name="textAreaRight" fmla="*/ 2283840 w 2959200"/>
              <a:gd name="textAreaTop" fmla="*/ 240480 h 1054080"/>
              <a:gd name="textAreaBottom" fmla="*/ 81360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27716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大人、孩子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42000" y="2482920"/>
          <a:ext cx="2952720" cy="936720"/>
        </p:xfrm>
        <a:graphic>
          <a:graphicData uri="http://schemas.openxmlformats.org/drawingml/2006/table">
            <a:tbl>
              <a:tblPr/>
              <a:tblGrid>
                <a:gridCol w="1080720"/>
                <a:gridCol w="935280"/>
                <a:gridCol w="9367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32"/>
          <p:cNvSpPr/>
          <p:nvPr/>
        </p:nvSpPr>
        <p:spPr>
          <a:xfrm>
            <a:off x="4924440" y="298620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5904000" y="2521080"/>
            <a:ext cx="9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人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6880320" y="251784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孩子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072120" y="29862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7010280" y="29862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859280" y="3895560"/>
          <a:ext cx="2952720" cy="936720"/>
        </p:xfrm>
        <a:graphic>
          <a:graphicData uri="http://schemas.openxmlformats.org/drawingml/2006/table">
            <a:tbl>
              <a:tblPr/>
              <a:tblGrid>
                <a:gridCol w="1080720"/>
                <a:gridCol w="935280"/>
                <a:gridCol w="9367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32"/>
          <p:cNvSpPr/>
          <p:nvPr/>
        </p:nvSpPr>
        <p:spPr>
          <a:xfrm>
            <a:off x="4941720" y="439884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5921280" y="3933720"/>
            <a:ext cx="9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6897600" y="393048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6089760" y="43988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Text Box 37"/>
          <p:cNvSpPr/>
          <p:nvPr/>
        </p:nvSpPr>
        <p:spPr>
          <a:xfrm>
            <a:off x="7027920" y="43988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介绍：刚才我们把分类的结果整理出来了，大家一起填写的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就是简单的统计表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5948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观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统计表，有什么相同点？有什么不同点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分类整理，巩固认识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348000" y="5305320"/>
            <a:ext cx="5796000" cy="884160"/>
            <a:chOff x="3348000" y="5305320"/>
            <a:chExt cx="5796000" cy="884160"/>
          </a:xfrm>
        </p:grpSpPr>
        <p:sp>
          <p:nvSpPr>
            <p:cNvPr id="152" name="Rectangle 3"/>
            <p:cNvSpPr/>
            <p:nvPr/>
          </p:nvSpPr>
          <p:spPr>
            <a:xfrm>
              <a:off x="3348000" y="5305320"/>
              <a:ext cx="57960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3360" y="5695920"/>
              <a:ext cx="109836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0920" y="2162160"/>
            <a:ext cx="8569080" cy="29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539640" y="5373720"/>
          <a:ext cx="2952720" cy="936720"/>
        </p:xfrm>
        <a:graphic>
          <a:graphicData uri="http://schemas.openxmlformats.org/drawingml/2006/table">
            <a:tbl>
              <a:tblPr/>
              <a:tblGrid>
                <a:gridCol w="1080720"/>
                <a:gridCol w="935280"/>
                <a:gridCol w="9367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32"/>
          <p:cNvSpPr/>
          <p:nvPr/>
        </p:nvSpPr>
        <p:spPr>
          <a:xfrm>
            <a:off x="622440" y="587700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1601640" y="5411880"/>
            <a:ext cx="9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2577960" y="540864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1770120" y="5877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2708280" y="5877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73280" y="5405400"/>
            <a:ext cx="56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还可以怎样分？按照想法填写统计表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2560" y="584028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观察统计表，你都知道了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/>
  <dc:language>en-US</dc:language>
  <cp:lastModifiedBy>zfl</cp:lastModifiedBy>
  <dcterms:modified xsi:type="dcterms:W3CDTF">2013-03-19T12:36:22Z</dcterms:modified>
  <cp:revision>522</cp:revision>
  <dc:subject/>
  <dc:title>数学 一年级下册 教学参考 多媒体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