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691-E73C-4DD4-BA70-CA968DFA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71E-5FC3-4C91-A17C-873F599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2E1-0C34-433F-A41D-6E165A73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F76-41A5-4D72-8951-A6D38133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D8D-7093-4B9E-A6CC-8C3B2D70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956-AC2A-44F6-ACA2-C2E16C4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416-BF93-4F12-819B-C994164D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3E2-1273-428C-BAA9-87EDF3A1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1C9-3D56-40B4-949C-A14E11CD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FA9-ACEF-4836-BD8E-9B48596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7DF-9C25-4271-987A-1EEBCBA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B5E-2E14-4CC3-B8B9-1E8FF39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C40-0E4B-4AB4-B355-BB8A4C047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197000"/>
            <a:ext cx="792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爱学习，爱劳动，爱祖国</a:t>
            </a:r>
            <a:endParaRPr b="0" lang="en-US" sz="6000" spc="-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3280" y="4653000"/>
            <a:ext cx="314352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东坡下载站编辑整理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我爱祖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44280"/>
            <a:ext cx="91807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6120" y="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我爱我的祖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71640" y="692280"/>
            <a:ext cx="7200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的国歌是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义勇军进行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作者是谁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田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曲作者是谁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聂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一年写成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19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一年被定为国歌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19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160" y="44280"/>
            <a:ext cx="9217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0" y="314136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江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河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0" y="2924280"/>
            <a:ext cx="9186840" cy="3906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000" y="44280"/>
            <a:ext cx="64911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长，黄河黄，长江长，黄河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巨龙飞东方，西有牛羊东有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南一北奔腾急，中华民族摇篮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谁先到太平洋，文明古国四海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7040" y="744480"/>
            <a:ext cx="20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长江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河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9440" y="766800"/>
            <a:ext cx="23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城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17360"/>
            <a:ext cx="6227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里长城万里长，穿崇山，过荒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长一万二千里，壮丽山河名远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海关至嘉峪关，五洲嘉宾夸奇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雄伟建筑古代创，长城内外建乐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5110200" cy="5329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海世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403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奥运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424800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57800" y="1484280"/>
            <a:ext cx="478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160" y="1484280"/>
            <a:ext cx="4103640" cy="532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神七飞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1800" y="1484280"/>
            <a:ext cx="496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76120" y="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我爱我的祖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95280" y="2492280"/>
            <a:ext cx="831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最重要的是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其次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不做对国家有害的事情，以后到了社会，也将是一个守法的好国民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08000" y="5084640"/>
            <a:ext cx="48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博览群书  豁然开朗  学而不厌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博学强记  不耻下问  孜孜不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循序渐进  融会贯通   各抒己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思广益  迎刃而解  手不释卷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博学多才  勤学好问  乐学勤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勤学苦练   闻鸡起舞  孜孜不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耻下问  悬梁刺骨  废寝忘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76720" y="189000"/>
            <a:ext cx="2057400" cy="10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爱学习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63640" y="2708280"/>
            <a:ext cx="493704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大家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是固本之举，学习是源头活水。庄子说，吾生也有涯，而知也无涯。学习是学生必须承担的责任和使命，在学习上要懂得“知不足”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学习、怎样做人、怎样做事，是一个永恒的主题，是我们活着的每个人不可回避的课题，也是有识之士们时常思考的人生命题。很多人一生都碌碌无为、一事无成，就其主观而言，一个根本的原因就是他们一辈子都没有弄明白人应该怎样去学习、去做人、去做事。一个人只有真正懂得怎样学习、怎样做人、怎样做事，才会支撑起人生的精神支柱，激发前进的动力，才能生活得更充实、更有意义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1159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cccc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学习的好处：</a:t>
            </a:r>
            <a:endParaRPr b="0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33cccc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33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爱学习的事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1.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达•芬奇画蛋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欧洲文艺复兴时期的著名画家达•芬奇，从小爱好绘画。父亲送他到当时意大利的名城佛罗伦萨，拜名画家佛罗基奥为师。老师要他从画蛋入手。他画了一个又一个，足足画了十多天。老师见他有些不耐烦了，便对他说：“不要以为画蛋容易，要知道，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1000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个蛋中从来没有两个是完全相同的；即使是同一个蛋，只要变换一下角度去看形状也就不同了，蛋的椭圆形轮廓就会有差异。所以，要在画纸上把它完美的表现出来，非得下番苦功不可。”从此，达•芬奇用心学习素描，经过长时期勤奋艰苦的艺术实践，终于创作出许多不朽的名画。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、孙康映雪夜读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晋人孙康，家贫而酷爱读书。夜晚，虽有时间却买不起灯油，只好默默地回忆，消化白天学过知识。有年冬天，他半夜醒来，感到屋内并非漆黑无光，还能隐约约看到一些东西，原来是皑皑白雪反映所致，这给了他启发：何不借雪光来看书呢？于是雪夜，特别是月光映照下的雪夜，就成了孙康苦读的好时光。由于勤奋好学，他终于成为一个有名的学者，并当上了御史大夫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451800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765000"/>
            <a:ext cx="605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Arial"/>
              </a:rPr>
              <a:t>爱劳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066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们平时参加过那些劳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需要那些工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2766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当时的心情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04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0872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彭德怀回到了故乡——湖南省湘潭县乌石寨。他看着童年时代就十分熟悉的家乡的山水草木，看着阔别多年的父老乡亲，感到格外亲切。回想在战争年代，乡亲们跟着共产党闹革命，抛头颅，洒热血，承受了极大的牺牲，终于盼来了全国的解放和革命的胜利。想到这里，彭总不由得感慨万千：“是呵，苦了多少年的乡亲们该过过好日子啦！” 彭德怀来到了响塘区南谷公社的陈蒲大队调查。午饭的时间到了，彭德怀没有到“公共食堂”去吃大锅饭，而是撇开随同人员，独自一人来到离食堂不远的贺老伯家里。刚跨进屋，迎面扑来阵阵烟雾，只见贺老伯正蹲在灶下烧火做饭。彭德怀关切地凑上去问：“老伯，为什么不到食堂去吃饭？” 老伯没好气地说：“有什么饭吃！只因彭德怀要来调查，大队才开食堂饭的，还要工分高的人才有得吃。我不去凑这个热闹，真是打肿脸充胖子！”彭德怀一听，话出有因，顺手将锅盖揭开，只见锅里蒸的是糠。彭德怀抓起糠就吃，那粗糙、苦涩的糠直刺喉头，确实难以咽下去，他的心痛了，眼窝里充满了泪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771640" y="260280"/>
            <a:ext cx="3429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楷体_GB2312"/>
              </a:rPr>
              <a:t>爱劳动的故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795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故居，彭德怀召开了社员大会，他说：“我是讨过饭的，是饿怕了的，可那是旧社会。如今，我们当家做了主人，我们应该抓紧时机开荒种粮，生产自救，把穷队变为富队，不应该再有人饿肚皮了。我这次回来是当社员的，队上要安排我出工，不安排的话，我就邀请婆婆姥姥上山砍柴去。”说干就干，从那以后彭德怀就与社员一起参加集体劳动，他特别提倡开田，在工余时间还动员侄儿一道去开田。侄儿望着两鬓斑白的伯伯劝道：“你老人家年纪一大把了，还开什么田啰？”彭德怀风趣地回答：“年老骨头枯，正好做功夫！别说我年老，做起事来，还可以跟你们小青年比一比呢！”说完就捋起衣袖，用他那曾指挥过千军万马的手，挥锄猛干起来，像个标准的老农。 在彭德怀的带动下，家乡一块块新田被开发出来，种上了绿油油的庄稼。 彭德怀欢欢喜喜地与乡亲们一道收棉花，种麦子，撒下了无数的汗珠。他说：“从今年起，我每年回来参加劳动一个月，别的重活干不了，帮生产队看牛，看湖鸭。如果不能回来，就投资一百元交队上。”就这样，彭德怀在家乡立了个不计劳动报酬的特殊社员的“户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体内容：星期天，小华在家里帮助妈妈擦玻璃，费了很大的劲，才把整个房间的玻璃都擦完了， 心里特别高兴，可是妈妈看见了，却责怪她说：“玻璃擦得不干净，不让你做的事，就别做，只要把学习搞好就行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讨论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小华和妈妈的做法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不对的地方应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体内容：奶奶正在打扫卫生，小刚放学回来了，就喊：“奶奶我渴了，快给我拿饮料。”奶奶赶紧说：“好好好，我马上给你拿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讨论：小刚的做法对吗？他错在哪里，他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1:17:13Z</dcterms:created>
  <dc:creator>好孩子就是我，我就是魏元龙</dc:creator>
  <dc:description/>
  <dc:language>en-US</dc:language>
  <cp:lastModifiedBy>Sky123.Org</cp:lastModifiedBy>
  <dcterms:modified xsi:type="dcterms:W3CDTF">2015-04-20T06:39:39Z</dcterms:modified>
  <cp:revision>3</cp:revision>
  <dc:subject/>
  <dc:title>幻灯片 1</dc:title>
</cp:coreProperties>
</file>