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3.png" ContentType="image/png"/>
  <Override PartName="/ppt/media/image9.gif" ContentType="image/gif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98AE-AC09-4702-B3DA-528A688CE8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10  119  120  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正确的有那些？在公交车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怎样避免发生火灾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发生火灾后应该怎么办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溺水者被救上岸后立即进行控水，控水时间不宜过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学会生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C3F-6508-421A-BDAC-13B9F7F0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70E-EFB9-435C-AF35-929560F3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87B-C985-4A3A-99B8-2213CF8C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8C5-6A54-47FB-B2E1-F22E8269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A4C-1D77-44DF-8B7D-9FE80582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8D2-6846-41D1-A06E-CE1D1BE1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EAD-2573-418B-82B7-A5DC5E2F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10E-2184-4DBB-88EC-FA620A05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515-9CD5-4898-92D1-8F36D11C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80D-7558-45B4-9C97-9EC0C0A1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3A9-3469-4869-9A30-0185947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BCB-7817-489D-81DE-9A2B0686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5A6A-509D-4AB5-B2D7-E604CD58D1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76360" y="1844640"/>
            <a:ext cx="51832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口语交际  习作四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1256400" y="3398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教版小学六年级下册第四单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97080" y="5840280"/>
            <a:ext cx="45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东坡下载：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www.uzzf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匪警电话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火警电话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590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医疗急救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473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交通事故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2360" y="722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6760" y="171288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19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6400" y="257508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26640" y="3413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6680" y="68904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陌生人敲门怎么办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回家时有陌生人尾随你怎么办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发现家里人猝发疾病、人事不省怎么办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朋友失足落水，自己又不会游泳怎么办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609480" y="9907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一节     突遇盗窃巧应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200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三节     打好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20”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险中能求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828800"/>
            <a:ext cx="8305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二节     屋内着了火    逃生办法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1676520"/>
            <a:ext cx="6858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门口人多的地方停留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背包放在身后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手提包拿在手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包抱在胸前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背包反背在胸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车前准备好零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要暴露放钱的地方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0"/>
            <a:ext cx="1523880" cy="313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72920" y="609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巧辨对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公交车防盗须知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36232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出外就餐时，将包放在靠背的地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逛街观看商品时，将包放在身后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在街上不小心被人撞了一下，要引起警觉及时查看钱物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遇有热闹，不能光顾看热闹而疏忽了照看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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公共场所防盗须知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37600" y="0"/>
            <a:ext cx="1706400" cy="2979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6960" y="1147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巧辨对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偷窃招数，见招拆招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38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下车挡门装问路：当公交车靠站，目标准备下车时，团伙成员之一便抢到目标身前，装作不熟悉站名的样子，双手伸开把车门挡住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不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×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站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说边探出头装作寻找公交站牌，其他团伙成员趁机对目标下手，得手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枪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拍车门前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顶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身子装作不耐烦的样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"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不下车别人还要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于是团伙成员一哄而下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1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拆招方法：手机和钱包等物品最好放在包里不要别在腰间，小偷们最喜欢在上公车的时候一拥而上趁机浑水摸鱼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少年小偷直接从背后拉你包： 他们通常是先物色好对象：走路注意力分散的人。然后少年小偷就假装若无其事地跟在某一对象后面，伺机下手，而大人同党则在离少年大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的地方看风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00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拆招方法： 小偷最常活动的地方往往是人多的地方，所以在这种场合，我们要更加小心谨慎。对女生而言，后背包遭窃率最高，包带过长的包也不安全，最好选择胳膊能夹住的包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贼人入室招数有几多？（列举事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86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家居防盗须知： （列举事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钥匙要随身携带，丢失钥匙要及时更换门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外出应将门窗锁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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76320" y="687240"/>
            <a:ext cx="7010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水管、煤气管道当云梯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攀爬防盗网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家里无人撬锁入屋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楼顶拴绳“荡秋千”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花言巧语骗你开门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尾随抢劫，引狼入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家中尽量不要存放大量现金及贵重物品。存折、贵重物品不要与户口簿、居民身份证放一起，防止盗贼利用你的证件提取存款或变卖贵重物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搬到新住处要更换新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收藏贵重物品应作简单记录，把收据或其他有价值的票据收放在安全地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来访者如果声称是维修、服务人员，应检查其有关证件或联络有关部门，以确定他们的身份。如果有危险或可疑情况，马上拨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报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-763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家中入盗贼处理方法： （抢答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如果回家时发现门锁被撬或家里没人门却开着，应该怎么办？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762120"/>
            <a:ext cx="784836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立即想到有小偷，不能贸然进屋，迅速拨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报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3240" y="2743200"/>
            <a:ext cx="889164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假装自己是个局外人，如找人认错了，把盗贼当作主人或主人的朋友，麻痹盗贼，然后迅速离开，到安全的地方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报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514840"/>
            <a:ext cx="830556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要对其行为表示理解和同情，把自己当作弱者，这也可以起到麻痹盗贼的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343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如果盗贼已知道你的主人身份，应该怎么办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7632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在家中如果与盗贼不期而遇时，应该怎么办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98440" y="765000"/>
            <a:ext cx="18262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校门前的踩踏事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124080"/>
            <a:ext cx="9144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99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下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。新疆克拉玛依友谊馆的舞台上，几块被烤燃的纱幕布条，忽然落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9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师生和干部面前。这里云集的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中学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小学精心挑选的优秀师生。刹那间，大幕起火，火势蔓延，灯光熄灭，烈焰毒烟突然绝情地扑向那些天真可爱的中学生，扑向那些辛勤的园丁们！这场震惊中外的克拉玛依大火灾，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8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小学生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老师干部遇难。然而，有位年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的小男孩和他的表妹去躲进厕所，得以“火里逃生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10760" y="-396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火里逃生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99072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你在家或其他公共场合（如宾馆、礼堂、商店、餐厅等）遇到突发性的火灾，你知道该怎么办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53341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59480" y="152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怎样避免发生火灾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952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要因好奇而玩火，妥善 保管易燃物品。在床下或黑暗处找东西，不要划火柴，只能用手电筒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不要在蚊帐内点燃蜡烛看书，睡前一定熄灭火烛，关掉电灯和煤气灶，切断不用的家电的电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613320"/>
            <a:ext cx="92203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旦发生火灾，立即打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9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火警电话，并讲名详细地址和电话、起火部位、燃烧物质名称，如果没有电话，就扯开嗓子高喊：“着火啦！”同时迅速逃离火场，求助邻居大人帮忙救火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2590920" cy="2490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95000" y="4572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发生火灾后应该怎么办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遇有浓烟用湿毛巾捂鼻，弯腰低头迅速撤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3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若所有逃生路线被大火封锁，且无法与外界电话联系时，要立即返回室内，用打手电筒、挥舞衣物、呼叫等方式向窗外发出求救信号等待救援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740120"/>
            <a:ext cx="9144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在楼内所有通道被烟火堵住时，可利用墙外水管逃生，也可用绳子或窗帘布、被单等物撕成条连接起来，一头牢固地系在物体上，然后顺着绳子缓缓而下向安全楼层逃生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295596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不要着急，并准确说出病人所在的详细地址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尽量提前接车，以便不耽搁时间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按压人中穴，涌泉穴，可急救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平时不可随意拨打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238880" y="0"/>
            <a:ext cx="1676520" cy="1492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533520" y="1584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三节     打好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20”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险中能求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一）怎样救助溺水者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在岸上伸出手、木棍或者树枝给溺水者或抛出绳索或救生圈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765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如果你受过救生训练或在溺水者失去知觉的情况下，才可向他游去。如果可能，要涉水前去，那比游泳安全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76320" y="342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从水中救出溺水者时，应使其头部低于身体，以防呛水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667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防止溺水者体温过低，应脱去潮湿的衣物，马上用上衣或毯子裹住身体，以防其受寒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57200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溺水者被救上岸后立即进行控水，控水时间不宜过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二）怎样救助触电者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要立即在电闸或电表处切断电流；如果难以做到，要立即拔掉插头或扯断电线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130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站在干燥的绝缘物体上（如木箱、木凳、橡胶或塑料垫子、电话簿、厚书或一叠报纸等），用扫帚、木椅或木凳把伤病者推离电源或把电源推离伤病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8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在不接触伤病者的原则下，用绳索缠住或套住伤病者的脚或手臂，将其拖离电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15228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三）怎样进行人工呼吸和胸外按压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要判断倒地的伤病者有无知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2590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使伤病者在平坦坚实的地面上保持仰卧，使其头部和心脏在同一水平上，平放其双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7632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跪在伤病者身体右侧，位于其头部和胸部的中间位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44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果没有脉搏或任何血液循环迹象，要立即实施心肺复苏术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P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进行急救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724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坚持以每分钟按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0-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的频率胸部按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，然后进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口对口人工呼吸，交替进行这一步骤，直至伤病者复苏、或者救援人员到达、或者你精疲力竭无法再继续为止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587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背上的小孩因暑假独自游泳而溺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习作要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16120" y="2204640"/>
            <a:ext cx="6053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可以写一写自己经历的或从其他渠道了解到的自我保护的事情，也可以写读了《鲁滨孙漂流记》的感想。写完以后，自己把习作中不合适的地方修改一下，也可以与同学交换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27280" y="549000"/>
            <a:ext cx="34005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审清题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560" y="3499920"/>
            <a:ext cx="6445080" cy="30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 、写一写自己经历的或从其他渠道了解到的自我保护的事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14130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191628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、写读《鲁滨孙漂流记》的感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读后感——“三段法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cc"/>
                </a:solidFill>
                <a:uFillTx/>
                <a:latin typeface="Times New Roman"/>
              </a:rPr>
              <a:t>第一部分、点明感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一部分交待清楚读了什么书，有什么感想。这一部分一般来说要简明扼要、开门见出，不要绕圈子。只要概括性说出感受就可以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cc"/>
                </a:solidFill>
                <a:uFillTx/>
                <a:latin typeface="Times New Roman"/>
              </a:rPr>
              <a:t>第二部分、感想的由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们读书看报看电影都有一个过程，而我们的感受也是在这个过程中一点一点形成的。这第二部分就是要说这个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写这一部分的时候要详细、具体地写清感想是从文章的哪一内容得来的。一般用边叙述边抒发感受的方法来写，要有层次有顺序地把“感想”写深刻，这样才能引起读者的共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里要特别注意，叙述原文的时候要抓住要点、抓住重点语句，抓住感人的情节，不可原文照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感悟要真实得体，这样才能感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cc"/>
                </a:solidFill>
                <a:uFillTx/>
                <a:latin typeface="Times New Roman"/>
              </a:rPr>
              <a:t>第三部分、结合生活谈感想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一部分就是要把感受和现实生活结合起来，把感受落到实处。把自己在现实生活中的所作所为同书中感动自己的人或事比较，找出差别，提出改进的方法或建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读后感——“四个字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括地引述原文观点或具体文字内容。（开头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所引内容为基本点展开，发表议论，谈谈感受。（中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所引原文的基础上联系个人生活实际或现实生活中的现象或问题。（中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提出看法，小结全文。（结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556000" y="1700280"/>
            <a:ext cx="4248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佳作欣赏</a:t>
            </a:r>
            <a:endParaRPr b="1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例文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06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感受挫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　                                                                  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——读《鲁滨逊漂流记》有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读完《鲁滨逊漂流记》已经有一段时间了。可至今还被书中那一个个扣人心弦的故事所打动。主人公鲁滨逊正是以他顽强的生命力和勇敢、正义的心才战胜了一个又一个困难和邪恶。从他的身上我感受到的太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他本是一个富家子弟，本可以过着享受的生活。但是为了自己的理想，他毅然放弃了这些被世俗看重的东西，踏上了航海之旅。意志坚强的他遇到灾难时勇于与大自然顽强斗争。在长达二十八年的艰难生活中，他充分利用自然条件与个人技术，开创了一个又一个奇迹，拥有了自己的一片天地，震撼人心。鲁滨逊的经历之所以具有传奇性是因为他在一个特定的环境，困境被放大了，对抗困境的时间被拉长了，而对抗的能力正是在困境下被激发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如果我是他，当航船在暴风中失事的时候，我不可能像他那样冷静沉着，然后乘风破浪，因为我没有咬牙的信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如果我是他，当我孤身一人要在荒岛上苦苦摸索求生的时候，我不可能像他那样面对突如其来的困难，然后化悲愤为力量，因为我没有那个能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我是他，当看到自己的同类被野人撕杀，身边的文明遭到破坏的时候，我不可能像他那样勇敢地站出来，然后与他们搏斗，因为我没那种胆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还记得那次开学初的班委竞选，一向喜欢挑战的我毛遂自荐，在老师和同学们的掌声中，我很荣幸地成为了本班班长。对于未来的计划，我充满了信心，并决心要管理好班级。但一次次的失败、挫折和失望，好多次也曾要放弃这个职务，我认为不是我做得不够好，而是与同学间的默契不够。虽然有时会觉得很不甘心。不过庆幸的是，终于还是“挺”过来了，心里还是很高兴，因为不必再受“折磨”，还警告自己以后再也不会毛遂自荐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可是读了《鲁滨逊漂流记》之后，我觉得有时我们过于把事物想得美好，而忽略不计生活中实际存在的困难；而面对困难我们又过于喜欢逃避，却忽略逆境所带来的益处。而鲁滨逊的遭遇却为我们刻画了一个勇于追求，勇于探索，不胃艰险，开辟新天地的创造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曾经有人说过，“作为一个人，首先应该学会的是如何生存。”当读完鲁滨逊的生命历程，我想我们应该做的还有很多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例文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人应该学习他这种不怕困难、乐观向上的精神，无论何时何地都坚强地活下去，哪怕只有一线希望也要争取，决不能放弃！我们要像鲁滨逊那样有志气、有毅力、爱劳动，凭自己的双手创造财富这个假期我读了《鲁滨逊漂流记》这本书，获益匪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六五九年九月三十日，一个人在一次航行中上遇到了可怕的风浪，翻了船，除他之外无一人生还。他流落到了孤岛上。凭着他惊人的毅力与勇气，二十八年后，他依靠自己的智慧逃出了孤岛，这个人就是倒霉而又幸运的鲁滨逊？克罗索。在荒芜人烟的孤岛生活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啊！多么惊人的一个数字！可见鲁滨逊是何等的勇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初到孤岛的他是绝望的，他说：“我整天悲痛着我这凄凉的环境，没有食物，没有房屋，没有衣服，没有武器，没有出路，没有被救的希望，眼前只有死，不是被野兽所吞，就是被野人所嚼……”但是，慢慢地，他独特的个性体现了出来，对生活充满希望，不再整天沉浸在自己设计的悲观中，开始一心一意的安排自己的生活，他建了小房子；做了桌子、小匣子；捕了小羊、小狗；种了小麦、稻子……就这样，他用自己的双手，创造了自己的小王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鲁滨逊还是坚毅的人。他曾经这样说道：“我的脾气是要决心做一件事情，不成功决不放手的”，“我要尽全力而为，只要我还能划水，我就不肯被淹死，只要我还能站立，我就不肯倒下……”他没有助手，工具不全，缺乏经验，所以做任何事情都要花很大的劳力，费好长的时间。连做一块木版都要四十二天。他作的许多事情都是白费力气，没有成功，但他从来不灰心失望，总是总结了失败的经验又重新开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辛勤的劳动换来了令人欣慰的回报，他最后变得有船用，有面包吃，有陶器用，有种植园，有牧场，有两处较“豪华”的住所……这些没有一件不是费了很多力气、克服了许多困难才得来得的。读完之后，我不禁反省自己：如果我流落到孤岛，能活几天？一天？两天？我又能干些什么？会劈柴？会打猎做饭？我连洗自己衣服还笨手笨脚的呢！再说了，没有一个人讲话，多孤单呀！我准会憋死的！可见鲁滨逊是多么乐观向上！我觉得人应该学习他这种不怕困难、乐观向上的精神，无论何时何地都坚强地活下去，哪怕只有一线希望也要争取，决不能放弃！我们要像鲁滨逊那样有志气、有毅力、爱劳动，凭自己的双手创造财富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写自我保护的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口语交际中，同学们讲述了有关自我保护的事情，我们可以从这些事中选择自己认为值得写的事写一写，写清楚这件事的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起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具体描述的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经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交代事情的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并注意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写出自己的感受和获得的启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47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19720" y="692280"/>
            <a:ext cx="1521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火灾中受伤的男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79640" y="1700280"/>
            <a:ext cx="56880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开头结尾欣赏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写自我保护的事的开头结尾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开头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荒岛上可以练就毅力，毅力可以磨练雄心，雄心可以开凿智慧，智慧就是希望的征帆！“生存”简单，但不可忽视，“学会”容易，但是做起来是毅力的往途，两个词组在一起，就是今天的正题——学会生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尾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社会中生存，要有奋斗不止的意志和豁达的乐观精神，如果遇到危险，向人求助，不是本身的错误，而是本能的智慧。只有有了智慧、坚强、毅力、信念，才能生存下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写自我保护的事的开头结尾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开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夏秋冬，人的四季。岁月蹉跎，人的足迹。人类从呱呱落地的那一刻起，就开始了生命季节里的徘徊，开始了新长征路上的生存。学会生存，就要有所追求。人的生命需要有水和空气的孕育滋养。但只有水和空气保持这唇上热气的呼出，这不是真正的生存，是“植物式”的生存。车尔尼雪夫斯基说过：“一个人的生命如果没有追求的鼓舞，是空虚而渺小的。”所以人不能做天上的风筝，盲目无目标地被线牵着走，要为追求而生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会生存，学会了把握自己。从此，不必再惧怕冬季的寒冷，而天天企盼着春天的到来，因为——冬天既然来了，春天还会远吗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写自我保护的事的开头结尾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开头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命，我们只有一次，可见生命尤其可贵。所以，我们更要珍视生命，要珍视生命就得学会生存，学会自我保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坚强起来吧，新一代的中国少年，学会生存，刻不容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开头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人生中，学会生存无疑是对自己的生活作出了保障。当你被困时，生存的本领让你摆脱困境。生存的本领就像一个好帮手，在你有困难的时候帮你渡过难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尾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生活中，在我们成长的道路上，不可能都是一帆风顺的，前面的路还很长，也许有荆棘，有坎坷，有悬崖，有险滩……我们要早作准备，勇敢面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6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写自我保护的事的开头结尾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开头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中，我们将遇到许多危险。危险无处不在，而我们却不知道他们何时降临。因此，我们必须具备自我保护的本领。这不由得让我想起了一件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这件事让我明白，钱乃身外之物。在危险降临时，保全自己的生命比什么都重要。遇到危险时，不能慌张，要绞尽脑汁想办法脱险，适当地运用自我保护的本领。只有这样，我们才能面对各种突如其来的危险，更好的生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  件事告诉我一个道理，不要吃陌生人的食物，当遇见坏人时，要保持冷静，正确运用自己的智慧与坏人周旋，以做到自我保护的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写自我保护的事的开头结尾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开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春夏秋冬，人的四季。岁月蹉跎，人的足迹。人类从呱呱落地的那一刻起，就开始了生命季节里的徘徊，开始了新长征路上的生存。学会生存，就要有所追求。人的生命需要有水和空气的孕育滋养。但只有水和空气保持这唇上热气的呼出，这不是真正的生存，是“植物式”的生存。车尔尼雪夫斯基说过：“一个人的生命如果没有追求的鼓舞，是空虚而渺小的。”所以人不能做天上的风筝，盲目无目标地被线牵着走，要为追求而生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会生存，学会了把握自己。从此，不必再惧怕冬季的寒冷，而天天企盼着春天的到来，因为——冬天既然来了，春天还会远吗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写自我保护的事的开头结尾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开头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春夏秋冬，人的四季，岁月蹉跎，人的足迹。人类从呱呱落地的那一刻起，就开始了生命季节里的徘徊，开始了新长征路上的生存。学会生存，就要有所追求。所以我们不能做天上的风筝，盲目无目标地被线牵着走，要为追求而生存学会生存，就要学会坚强。人的生存受环境制约，但我们要做环境的主人。生活也少不了坎坷，但我们不能迷失生活的道路。不要在生存中耗尽了自己，我们要战胜脆弱。学会生存，就要勇敢超越：水中的鱼儿不超越，怎能进化为较为进步的两栖动物呢？陆地脊椎动物不超越，也不能变成鸟类。上天永远不会偏爱那些双手合十、虔诚祈祷的人，而把机遇留给勇于超越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尾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会生存，现在中国许多父母只顾溺爱孩子们，却使孩子们养成“衣来伸手，饭来张口”的不良习惯，导致孩子们把劳动和生存技能抛之不顾。我曾经看到过这样一篇报道，读高三的学生居然还不会坐公共汽车！这太令人惊奇了；还有些大学生，就连微波炉也不会使用。我们这个社会不需要只有高学历，而连人类最基本的生存都不会的人。所以，我们要学会生存，我们要做环境的主人，我们要主宰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556000" y="1700280"/>
            <a:ext cx="4248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b2b2b2"/>
                </a:solidFill>
                <a:latin typeface="黑体"/>
              </a:rPr>
              <a:t>佳作欣赏</a:t>
            </a:r>
            <a:endParaRPr b="1" lang="en-US" sz="4800" spc="1" strike="noStrike">
              <a:ln w="9360">
                <a:solidFill>
                  <a:srgbClr val="cc0000"/>
                </a:solidFill>
                <a:miter/>
              </a:ln>
              <a:solidFill>
                <a:srgbClr val="b2b2b2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例文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春夏秋冬，人的四季。岁月蹉跎，人的足迹。人类从呱呱落地的那一刻起，就开始了生命季节里的徘徊，开始了新长征路上的生存。学会生存，就要有所追求。人的生命需要有水和空气的孕育滋养。但只有水和空气保持这唇上热气的呼出，这不是真正的生存，是“植物式”的生存。车尔尼雪夫斯基说过：“一个人的生命如果没有追求的鼓舞，是空虚而渺小的。”所以人不能做天上的风筝，盲目无目标地被线牵着走，要为追求而生存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　学会生存，就要学会坚强。人的生存受环境的制约，但我们要做环境的主人。生活也少不了坎坎坷坷，但我们不能迷失生活的道路。不要在生存中耗尽了自己，我们要战胜脆弱。学会生存，就要勇敢超越。水中的鱼儿不超越，怎能进化为较为进步的两栖动物呢？陆地脊椎动物不超越，也不能变成鸟类。佛家俗语“超度”也是要人类学会生存，发掘人类的超能力。上天永远不会偏爱那些双手合十、虔诚祈祷的人。而把机遇留给勇于超越的人。做好自己，做回自己。因为不能主宰自己的人，是世上最可怜的奴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　也许，到这里，你明白了生存的真谛，懂得了生存的意义。正决心全心全意的生存下去。但，那并不是生存的全部……太阳的生存，为人类提供火与热，照亮人的心田。指南针的生存，为人类指点方向，引航导航。花儿的生存，为化作春泥给果实的成长输送营养。它们的生存不是为了自己，而是为把千丝万缕的爱献给人间。于是，我懂得了，生存的目的不是生存，而是奉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　人生在世，生存的是否长久，获得的是多是少，并不重要，重要的是为人类为社会奉献过，真切动人地生存过。春夏秋冬，人的四季；岁月蹉跎，人的足迹……春季，有融融的绿意，人们追求着生存；夏季，有冰凉的清泉，人们超越着生存；秋季，收获累累的硕果，人们奉献着生存；冬季，冰封的世界里，人们坚强地生存。原来，生存的四季那样美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　学会生存，学会了把握自己。从此，不必再惧怕冬季的寒冷，而天天企盼着春天的到来，因为——冬天既然来了，春天还会远吗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例文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荒岛上可以练就毅力，毅力可以磨练雄心，雄心可以开凿智慧，智慧就是希望的征帆！“生存”简单，但不可忽视，“学会”容易，但是做起来是毅力的往途，两个词组在一起，就是今天的正题——学会生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烈日炎炎，蝉鸣不断。我与爸爸妈妈一起去华联，买完了东西，爸爸去付钱，稀里糊涂的跟着爸爸走了，可是爸爸一转弯就不见了，顿时间，恐惧、惊慌一齐向我袭来，那些拐骗小孩啦，被绑架啦的事情一下子都涌入我的脑海，面前熙熙攘攘的人流仿佛都充满了危险，这个熟悉的地方一下子变的陌生，我吓的毛骨悚然，都快哭了，如果当时给我戴上一顶帽子，都会被头发顶下来！我漫无目的地跑来跑去，我身边好像危机四伏，我浑身的血液都要沸腾了，情急之下，我急中生智，找到了一位服务员阿姨，告诉了阿姨我的“倒霉之旅”，阿姨用温暖的大手拉住我冰冷的小手，温柔的拂平我的头发，我的心好像一头受惊的小鹿，惊魂未定，阿姨要带我去广播室。我连连后退，但阿姨用手拉着我去了，一路上嗔怪我、嘱咐我、安慰我、教育我。到了广播室，阿姨问清了我的情况，对着广播喊，让爸爸妈妈来领我，爸爸妈妈正为我走丢急的像热锅上的蚂蚁，妈妈还差一点哭，听到这儿，他们发疯似的来找我，见到爸爸妈妈，我憋闷已久的心情一下子哭了出来，这种经历，对于一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岁的孩子来说，该是怎样的惊心动魄呀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　在社会中生存，要有奋斗不止的意志和豁达的乐观精神，如果遇到危险，向人求助，不是本身的错误，而是本能的智慧。只有有了智慧、坚强、毅力、信念，才能生存下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57340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生乘坐的校车事故后的残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例文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生命，我们只有一次，可见生命尤其可贵。所以，我们更要珍视生命，要珍视生命就得学会生存，学会自我保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以前，在电视上，杂志上看见什么绑架案，抢劫案，都觉得这是跟自己遥不可及的，可自从一年前看到的一则新闻，把我的整个想法都得到了否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新闻讲的是：一个八岁小女孩在放学回家的路上遭遇坏人拐骗，但她按老师所教的防护措施，以自己聪明的头脑成功的骗取了坏人的信任，从而逃出了坏人的魔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这件事，让我至今记忆犹新，一个仅仅８岁的小女孩都这么聪慧，能够这么机灵，小小８岁女孩都能有这么强的自我保护意识，何况是我们呢？可我从出生到现在，已经整整１４个年头，却连这８岁女孩的一点机智都没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想想我，生长在父母的疼爱中，都是饭来张口，衣来伸手的小皇帝，小公主。但是，我们这些在温室中的小羊，怎能想到在当今社会中，那些虎视眈眈的狼呢？我们应该学会自我生存，去勇于和那些凶悍的狼做斗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坚强起来吧，新一代的中国少年，学会生存，刻不容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例文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在人生中，学会生存无疑是对自己的生活作出了保障。当你被困时，生存的本领让你摆脱困境。生存的本领就像一个好帮手，在你有困难的时候帮你渡过难关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　在我们这个美好的国度里，在我们这个充满幸福与温馨的大家庭里，我们被爱包围着。但在不知不觉中，我们受到亲人的溺爱，成了“衣来伸手饭来张口”的大少爷和娇小姐。现在，我们可能会想：有家人的呵护，我还怕什么！怕这个，怕那个，那是杞人忧天。但是错了，家人不是神话里的上帝，不能为我们做尽所有的事。再说，家人总有一天会离开我们的。总有一天，我们要独立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　如果我们早一天学会生存的本领，就能为以后的生活作充分的准备。如果我们想要在社会上立足，就必须要学会生存。这个是我们早晚都要去学的，早晚都要去面对的。与其到头来无法生存，不如早一天学呢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　我们都知道，蒲公英是一种十分平常的植物，但这不平常的植物却有着一种不平常的精神。蒲公英妈妈在等待孩子们发育完全后把他们放飞，让他们独闯世界。因为蒲公英妈妈深知：自己不可能陪孩子们一辈子，它总有一天要离开孩子们。孩子们总有一天要独立的。她唯一能告诫孩子们的是：无论在怎样恶劣的环境下都要勇敢的、想办法生存下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　这就是我们有生命的物种所相通的地方吧！记得有一次，我在电视上看到一个小孩。他母亲去世了，家里还有一个患有精神病的爷爷，这时，父亲因出车祸也住进了医院。真是“屋漏偏逢连夜雨”啊！仅仅八岁的孩子，就要承担起家庭的重任！他用行动告诉所有的人，这是他的责任和义务。我被他的勇敢、坚强所感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在生活中，在我们成长的道路上，不可能都是一帆风顺的，前面的路还很长，也许有荆棘，有坎坷，有悬崖，有险滩……我们要早作准备，勇敢面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例文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春夏秋冬，人的四季，岁月蹉跎，人的足迹。人类从呱呱落地的那一刻起，就开始了生命季节里的徘徊，开始了新长征路上的生存。学会生存，就要有所追求。所以我们不能做天上的风筝，盲目无目标地被线牵着走，要为追求而生存学会生存，就要学会坚强。人的生存受环境制约，但我们要做环境的主人。生活也少不了坎坷，但我们不能迷失生活的道路。不要在生存中耗尽了自己，我们要战胜脆弱。学会生存，就要勇敢超越：水中的鱼儿不超越，怎能进化为较为进步的两栖动物呢？陆地脊椎动物不超越，也不能变成鸟类。上天永远不会偏爱那些双手合十、虔诚祈祷的人，而把机遇留给勇于超越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一天晚上，月亮不知何时爬上了树梢，我们伴着一丝寂静进入梦乡了，“着火了”！“着火了”！不知是谁大叫了一声，我睁开惺忪的睡眼向寝室外望去：浓烟四起，只有应急灯亮了起来，这是怎么回事？起火了吗？我连忙跳下床，手忙脚乱穿衣服，我们每人一块湿毛巾捂着鼻子和嘴巴，我一只手用毛巾捂着鼻子和嘴巴，另一只手扶着栏杆，弯着腰，我们慌乱的冲向寝室外面的走廊，拥挤不堪，走到了二楼，浓烟滚滚，我一时觉得烟雾越来越浓，眼睛也看不清四周的东西，喉咙也呛得难受起来，我忽然觉得会不会有危险？我又对自己说：“不用怕，一会儿就没事了……”果然，随着烟雾的越来越淡，我们一路小跑终于来到了操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89308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了操场，我们的心总算平静了下来，咦？大家怎么神态自若的？哦！原来是消防演习呀！真是虚惊一场。“同学们，我们假如面临火灾要记住以下几点，一、初起火最易扑灭，在消防车未到前，如能集中全力抢救，常能化险为夷，转危为安。二、要早报警，报警愈早，损失愈小。牢记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9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火警电话。三、要沉着冷静，严守秩序，才能在火场中安全撤退。倘若争先恐后，互相拥挤，阻塞通道，导致自相践踏，会造成不应有的惨剧。四、下楼通道被火封住，欲逃无路时，将被子单、台布撕成布条，结成绳索，牢系窗槛，再用衣角护住手心，顺绳滑下。五、逃离时，要用湿毛巾掩住口鼻。……”周主任在主席台上讲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其实火灾还有许多逃生术，如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尽可能蹲低身体，利用所剩余的氧气逃离火场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火灾时可沿墙壁走，有楼梯的绝不使用电梯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在主要逃生道上若有许多人拥挤，应另找别的逃生通道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　学会生存，现在中国许多父母只顾溺爱孩子们，却使孩子们养成“衣来伸手，饭来张口”的不良习惯，导致孩子们把劳动和生存技能抛之不顾。我曾经看到过这样一篇报道，读高三的学生居然还不会坐公共汽车！这太令人惊奇了；还有些大学生，就连微波炉也不会使用。我们这个社会不需要只有高学历，而连人类最基本的生存都不会的人。所以，我们要学会生存，我们要做环境的主人，我们要主宰自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8080" y="1371600"/>
            <a:ext cx="76201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明者防患于未然，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智者图患于将来。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36000" cy="68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740720" y="476280"/>
            <a:ext cx="458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92480" y="549360"/>
            <a:ext cx="9118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放军正在营救泥石流灾害中受伤的孩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74920" y="5867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父亲怀中的被拐卖儿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133720" y="990720"/>
            <a:ext cx="46479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学会自我生存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21337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般来说，青少年所面对的灾难主要是疾病和意外事故。疾病除了先天性疾病急性发作，就是各种传染病。而意外伤害或死亡的原因，主要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交通事故、中毒、火灾、溺水和校园暴力等，这几乎占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90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1:14:53Z</dcterms:created>
  <dc:creator>小学ppt课件免费下载站：www.kjzhan.com  交流群：216802435</dc:creator>
  <dc:description>小学ppt课件免费下载站：www.kjzhan.com  交流群：216802435</dc:description>
  <dc:language>en-US</dc:language>
  <cp:lastModifiedBy>admin</cp:lastModifiedBy>
  <dcterms:modified xsi:type="dcterms:W3CDTF">2015-02-02T07:11:38Z</dcterms:modified>
  <cp:revision>26</cp:revision>
  <dc:subject/>
  <dc:title>小学ppt课件免费下载站：www.kjzhan.com  交流群：216802435</dc:title>
</cp:coreProperties>
</file>