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11.png" ContentType="image/png"/>
  <Override PartName="/ppt/media/image8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569-545E-492C-A238-5AD88B2B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D7B-982B-4220-8AC7-8009FB08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641F7-81AA-4CB3-969A-F7D8A04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4983C-5206-418D-B885-B2F2DB4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4EFD7-2ACD-48F7-A216-F9DCE53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493CF-68C1-40D2-8DC0-4E38FA6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BD882-A2E7-4ADA-8FD0-D8F95F5B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0B84E-003F-4044-BDD4-268B5FA1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6138B-F12D-4C40-9101-117BC8A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8A2D8-C6B9-49CC-A050-B74277F3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1C576-A660-4FF7-9D73-A8389AB5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24F52-E158-463D-B204-B3D13831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F63-9F96-4488-952D-542814D0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728CC-C1ED-4D62-B3B2-EA1DB720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DCAB4-2F8E-49FB-8244-33EE1ABF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A988A-CA17-4AE8-90FC-80F8BCB3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CCA2-D948-4504-AE5B-B6C22737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91CB7-D85E-43C5-BBE8-72FAF571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0C6A9-D05C-4111-B216-CD8B0D6A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04C6D-4A45-491A-9838-B22FB72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5B888-0DCE-452B-B656-C49A5A97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AB5C5-0F10-4008-95DF-0D0F07E6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0A348-89F7-4C93-82D6-A9EDEFEA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904-CD86-4137-B9AA-76DB4E71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10E85-2741-4B77-BE26-6EF6A6C5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43FF8-8350-47AE-ADD4-AB6E8599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DB5E4-F09C-4CD7-AABD-26CD203A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E2F9C-869B-4F57-A64E-B07ADBFB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E3441-3E57-49A7-9A23-6AA372E6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31AD7-F2FA-4C16-9A9C-9388424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EBCD8-1856-4671-B874-AB12EC5A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C8299-3D8E-4977-BF81-1EE0A2C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D5782-4376-49C2-83DE-0D058751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429AD-210B-4722-879A-9C9054F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3B6B-DA67-4205-8E84-48B9B4FB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ECDC-B48C-4FC7-9984-D140801E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A6D9D-0D3F-4C49-B526-99736CCC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AFA89-D54D-460D-BA72-103C30D1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BE742-6813-49B4-8C99-BD56509F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80F7B-0527-45F3-9D1B-E8A4B2A8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7F8CA-15BB-4B30-8903-C35EFE6E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AD5F0-398E-4AC4-86C1-E1AADD41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A61D9-08D0-454E-B37D-F3A6D6E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F7197-CCE6-43AE-82FA-AB2A0BA8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FCAA3-7C87-4D3B-AFFA-FB94A1A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AE8-1E52-4DF0-8AB1-6A8A3CFC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FB3C7-433E-4963-BDE8-F3D7EF9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F2D02-AC99-4BF5-B46E-4333FA8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6CB81-94EB-4F8F-AD06-843878B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B1A44-A0AD-4242-98AA-0D2ABAE9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43903-2E84-4CCF-8981-3D12FF08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02CC-203A-4486-BB10-59E7FDED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1377-E0C0-4432-B6D0-6A826A4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B074-B76E-40CB-BB04-C46D53BE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FEEA-EB3D-4356-AF47-0957BB2C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7265-EFFB-42FA-9D74-73CE6E13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EDA-B8F6-4A1B-8B28-F10D85F5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198F-2167-4D1D-952A-054B643C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C1D8-E4DB-4547-82C6-9DA52EA7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AC64-CF3E-4E2B-932C-E6F864AE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F4AF-9D6B-466F-8C2E-9772D87E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2E3-972C-49AA-A56E-DB5DFAAA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85AB-F44A-44EB-85C7-FD7E6BE8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4FD1-F92F-4C56-9465-08F71E0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74053-5606-4FE8-AAD4-1BED89EF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056F-937C-4752-BC98-EEC90EF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47E2-7A9B-4303-A12B-09C385C3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A50-266C-4162-9C6D-956773C8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E8AC-ED9F-4BC6-80F1-B86C55D7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116D-5D95-492E-AFB2-D4DD763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8F56-4EC6-4009-8DD7-1ECEA4ED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4DB7-69DB-4B36-A9FF-DF666986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30DF-3244-4D17-B4CD-84FE361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6EB2-48E8-4FF6-A751-8DF741C6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98EF-BAF3-45B2-9885-0C7AB07E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5E85C-7163-4DA1-830B-FF6D5417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A7BB-C7A8-45E6-9B4F-80BD4FC1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E211-8796-4B50-B995-34D2D798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A1D-AD85-4B37-AD39-F9B6699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B55E-AA79-43D6-B124-927365C6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B532-B362-47B4-AA87-9893888A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9EC0-BE06-41A5-8074-73076C0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8737-390A-40DD-A28E-C2A998CC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2F7F-99C8-437F-9DA8-37090CC5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5AE5-DA74-4311-9F59-4328A7C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4B40-37A8-4522-9D43-74B67263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402B-4F58-4CFA-A8C4-68F3D3AB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FF48-F8FF-4B8F-B1B6-E3A2EAF1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E89D-EEBA-4301-962E-DE8DDE3C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C5D-EE52-45F5-B2EC-EA08557F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9691-6791-43CF-B60F-38DB589D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E6B5-EE15-4703-9B57-A45C14E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457A0-10B0-4AA9-86F7-460FBEE7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57559-2560-463D-A8B5-2B7F28F0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C2A2C-3933-4EF3-89C2-6623FB3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7499-2D86-41C4-8625-819C882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DB91-AF2D-442F-A364-1411D98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313F-A756-463D-8DD7-A92B2D2E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4DA5-8B7C-4AF7-8303-14B7381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7B82E-4455-401A-9EBE-923C9A7A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866-3FC5-4FDA-A139-45F19A1C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9521B-B0F4-4044-81A8-F1FABD90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6D4F1-DEB9-4C3B-B0E9-C990BECD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CB252-44E6-402E-B6FE-0C77B78E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3A75-FB24-47EF-8624-93342C8B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8C068-D6A9-4256-98C5-9348FA37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B9F5-5A10-4FAF-BA99-C7E78BD9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9D27E-450A-4F81-9F7B-7FB6E59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81F8-A359-4CA7-93E7-A769D30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329B3-C8CB-44DF-96F5-7340701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C641-EEE5-450F-B9A7-307ED281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0EC-C171-4774-9083-A904513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2288-6142-44AD-BC76-CD89CCF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A0C4-BC23-4C5C-93A6-84AF6A42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8460-5A02-49BA-B58B-FDF44E02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13FBF-919E-4950-91F2-267DF9BA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2CDC-F981-4092-9F37-F255B4A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78D0-BA9B-436F-AC14-9A55240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7ED0A-7504-44B9-BFBA-8B34134E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7E246-DD68-468F-B377-34D5200F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49770-839D-43C8-B809-F9B372BB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9A2D-62D3-4160-AC09-F95B376A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EC8-D83B-4EEE-B3FB-BC5FFB6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ECF7F-10C2-4BAA-9ED7-C1A62F2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CBF65-C9B6-4086-B267-BE7E6A6F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4EDF3-D267-4260-9EBA-123A30E6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7D693-3CA6-4BCA-A021-E8939186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423F3-2DF9-4501-906F-08F8CD2A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3640C-90D9-40C5-9EF7-079AC33D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0C9F3-D1BC-475D-99A0-2ECF1414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D411F-27EA-4D33-A645-F5846530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C29A-5A1A-4970-9064-2BE7B1B0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E6317-31D8-4BFB-8CDB-B6C7FC9B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E24-CD73-4BC4-8525-EC1233DE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0C3AB-D52A-441B-8C10-0EFF3D4C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24EBA-5251-4917-9505-685804F7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EAEE-289A-4E51-8BD8-A392138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45CCE-E8BB-45F5-8DA2-82D2E76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156AC-128A-47B9-A616-9AFEDA29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CA97B-0DD9-4C50-AA70-5FFF053E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D2E78-AE5B-4044-B549-26B5A81A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7B7B6-7C2F-47F8-8F90-F1590963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52DD5-053D-454C-AD17-6245F9A5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53F66-3F72-4DD8-BE01-4D6613CA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88A2-A225-4A16-95D4-7AD82B8C9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83C1-E8C8-401D-AD66-DE9AA0F112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547-FA51-4F00-8854-6A942BC686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CD23-159B-4116-B9E8-4DFF68E032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AC3-E3D2-422A-B48F-0D11DDEE59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3A61-A2C3-4080-8A3D-7532970E94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B789-94AE-43D0-B4D6-3CC0F8C694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E572-F4D3-48A9-869F-878036B263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BD9F-3EBF-466E-A388-A7D2494796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BE35-CB1C-40AC-94B1-CB64F05A68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5541-6914-4F0D-8254-70038455BA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8859-9EC7-4E48-8F86-89C4FAE4B7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RM_0457"/>
          <p:cNvPicPr/>
          <p:nvPr/>
        </p:nvPicPr>
        <p:blipFill>
          <a:blip r:embed="rId1"/>
          <a:stretch/>
        </p:blipFill>
        <p:spPr>
          <a:xfrm>
            <a:off x="1692360" y="1455840"/>
            <a:ext cx="5545080" cy="45054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"/>
          <p:cNvSpPr/>
          <p:nvPr/>
        </p:nvSpPr>
        <p:spPr>
          <a:xfrm>
            <a:off x="2809440" y="3333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*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手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009880" y="2392200"/>
            <a:ext cx="546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拇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3782880" y="181620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食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5105520" y="1816200"/>
            <a:ext cx="5461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5146200" y="2968560"/>
            <a:ext cx="91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无名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6087960" y="3760920"/>
            <a:ext cx="546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68360" y="1341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他因为身体最长，取物时，往往最先碰到物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539640" y="33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？这两根手指正是这朵兰花中最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539640" y="33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舞蹈演员的手指不是常作兰花状吗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？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这两根手指正是这朵兰花中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最</a:t>
            </a:r>
            <a:r>
              <a:rPr b="1" lang="zh-CN" sz="7200" spc="-1" strike="noStrike">
                <a:solidFill>
                  <a:srgbClr val="003399"/>
                </a:solidFill>
                <a:latin typeface="Times New Roman"/>
              </a:rPr>
              <a:t>优美的两瓣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6836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手指的全体，同人群体的全体一样，五根手指如果能团结一致，成为一个拳头，那就根根有用，根根有力量，不再有什么强弱、美丑之分了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mr734v23624l"/>
          <p:cNvPicPr/>
          <p:nvPr/>
        </p:nvPicPr>
        <p:blipFill>
          <a:blip r:embed="rId2"/>
          <a:stretch/>
        </p:blipFill>
        <p:spPr>
          <a:xfrm>
            <a:off x="5435640" y="4581360"/>
            <a:ext cx="27367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8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2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7"/>
          <p:cNvSpPr/>
          <p:nvPr/>
        </p:nvSpPr>
        <p:spPr>
          <a:xfrm>
            <a:off x="1692360" y="2637000"/>
            <a:ext cx="570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通过描写五根手指各自不同的特点，想告诉我们一个什么道理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1527120" y="3500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826920" y="1700280"/>
            <a:ext cx="71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团结就是力量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20100515165601207"/>
          <p:cNvPicPr/>
          <p:nvPr/>
        </p:nvPicPr>
        <p:blipFill>
          <a:blip r:embed="rId2"/>
          <a:stretch/>
        </p:blipFill>
        <p:spPr>
          <a:xfrm>
            <a:off x="1042920" y="3141720"/>
            <a:ext cx="4392720" cy="3382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mr734v23624l"/>
          <p:cNvPicPr/>
          <p:nvPr/>
        </p:nvPicPr>
        <p:blipFill>
          <a:blip r:embed="rId3"/>
          <a:stretch/>
        </p:blipFill>
        <p:spPr>
          <a:xfrm>
            <a:off x="5508720" y="3716280"/>
            <a:ext cx="27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68360" y="98100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6" descr="mr734v23624l"/>
          <p:cNvPicPr/>
          <p:nvPr/>
        </p:nvPicPr>
        <p:blipFill>
          <a:blip r:embed="rId2"/>
          <a:stretch/>
        </p:blipFill>
        <p:spPr>
          <a:xfrm>
            <a:off x="468360" y="33336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2843280" y="692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说说有关团结的名言警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539640" y="2133720"/>
            <a:ext cx="820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人心齐，泰山移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中国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一支独秀不是春，百花齐放春满园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雷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天时不如地利，地利不如人和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先秦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团结就是力量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谚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单丝不成线，独木不成林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俗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、五人团结一只虎，十人团结一条龙，百人团结像泰山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邓中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RX_004"/>
          <p:cNvPicPr/>
          <p:nvPr/>
        </p:nvPicPr>
        <p:blipFill>
          <a:blip r:embed="rId1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20100701_087a8ed2a4cb4c2bd6gfGF8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众人划桨开大船.mp3" descr=""/>
          <p:cNvPicPr/>
          <p:nvPr/>
        </p:nvPicPr>
        <p:blipFill>
          <a:blip r:embed="rId3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324000" y="692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99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众人划桨开大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12923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539640" y="333360"/>
            <a:ext cx="820908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张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朵鲜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的一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定为美挥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手合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一枚果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含辛茹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收藏天地精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39640" y="33336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歌谣一：食指拇指碰碰，做个小鸡叫叫，叽，叽，叽！食指中指并拢，做把剪刀玩玩，嚓，嚓，嚓！五个手指捏捏，做个榔头敲敲，咚，咚，咚！伸出拇指翘翘，夸你戴上红花，好，好，好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6"/>
          <p:cNvSpPr/>
          <p:nvPr/>
        </p:nvSpPr>
        <p:spPr>
          <a:xfrm>
            <a:off x="1692360" y="409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gifmb044"/>
          <p:cNvPicPr/>
          <p:nvPr/>
        </p:nvPicPr>
        <p:blipFill>
          <a:blip r:embed="rId1"/>
          <a:stretch/>
        </p:blipFill>
        <p:spPr>
          <a:xfrm>
            <a:off x="0" y="-24300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"/>
          <p:cNvSpPr/>
          <p:nvPr/>
        </p:nvSpPr>
        <p:spPr>
          <a:xfrm>
            <a:off x="684360" y="47628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认真读读课文，读时要做到两点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画出生字词，联系上下文，借助工具书和生活积累理解词语，读通课文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想想课文主要讲的是什么，找出能够概括文章主要内容的句子读一读。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539640" y="333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大拇哥，二拇弟，中山羊，四小弟，小妞妞，来看戏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539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歌谣二：一个手指显得太孤单，两个手指就能握笔杆，三个手指就能系纽扣，四个手指就能把碗端，五个手指如果都出来，团结的力量大无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RX_004"/>
          <p:cNvPicPr/>
          <p:nvPr/>
        </p:nvPicPr>
        <p:blipFill>
          <a:blip r:embed="rId2"/>
          <a:stretch/>
        </p:blipFill>
        <p:spPr>
          <a:xfrm>
            <a:off x="8101080" y="228600"/>
            <a:ext cx="1042920" cy="18288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8"/>
          <p:cNvSpPr/>
          <p:nvPr/>
        </p:nvSpPr>
        <p:spPr>
          <a:xfrm>
            <a:off x="539640" y="69228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想想说说身边有哪些事物让你有所感触，有所启发，学习本课的表达方法，把事物的特点和自己的感悟写下来，与同学交流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539640" y="40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9640" y="40464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搔痒 堂皇   渺小附庸    养尊处优窈窕  秽物  纽扣鼻涕   爱憎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8"/>
          <p:cNvSpPr/>
          <p:nvPr/>
        </p:nvSpPr>
        <p:spPr>
          <a:xfrm>
            <a:off x="324000" y="206064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只手上的五根手指，各有不同的姿态，各具不同的性格，各有所长，各有所短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403280" y="1052640"/>
          <a:ext cx="6553440" cy="3475080"/>
        </p:xfrm>
        <a:graphic>
          <a:graphicData uri="http://schemas.openxmlformats.org/drawingml/2006/table">
            <a:tbl>
              <a:tblPr/>
              <a:tblGrid>
                <a:gridCol w="1305000"/>
                <a:gridCol w="2687760"/>
                <a:gridCol w="256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手指名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优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缺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拇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食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名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4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68360" y="981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相帮扶助琴身；水要喷出来，叫他死力抵住；血要流出来，叫他拼命按住；重东西翻倒去，叫他用劲扳住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468360" y="981000"/>
            <a:ext cx="835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例如拉胡琴，总由其他四指按弦，却由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相帮扶助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琴身；水要喷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死力抵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血要流出来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拼命按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；重东西翻倒去，叫他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用劲扳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46836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拿笔的时候，全靠它推动笔杆；遇到危险的事，都要由他去试探或冒险；秽物、毒物、烈物，他接触得最多；刀伤、烫伤、轧伤、咬伤，他消受的机会最多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gifmb044"/>
          <p:cNvPicPr/>
          <p:nvPr/>
        </p:nvPicPr>
        <p:blipFill>
          <a:blip r:embed="rId1"/>
          <a:stretch/>
        </p:blipFill>
        <p:spPr>
          <a:xfrm>
            <a:off x="-228600" y="-304920"/>
            <a:ext cx="9829800" cy="76201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3"/>
          <p:cNvSpPr/>
          <p:nvPr/>
        </p:nvSpPr>
        <p:spPr>
          <a:xfrm>
            <a:off x="53964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468360" y="981000"/>
            <a:ext cx="8353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他永远不受外物冲撞，所以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曲线优美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，处处显示着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养尊处优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2-02T00:48:27Z</dcterms:modified>
  <cp:revision>51</cp:revision>
  <dc:subject>第一PPT模板网-WWW.1PPT.COM</dc:subject>
  <dc:title>第一PPT模板网-WWW.1PPT.COM</dc:title>
</cp:coreProperties>
</file>