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807E-3457-4A26-8FE8-6368610A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2735-B15A-4513-80E4-B4B5031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0C8C-D58E-46CC-833A-811D8B42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7BA5-AB05-47B7-873E-6A255978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071-E63A-4215-A8B5-D1D8193C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66C-25CB-44D1-9F53-4E35A752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EFD-9FD5-402F-81BF-6346E121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E43A-6505-4E38-8415-2698F95A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D266-078B-464D-ABC8-72864EFC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4EE-F23C-4F48-8EFF-D2B4007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6326-FECF-4E9B-9F2A-BCFE3CEA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8BE9-1B41-4C11-A9A7-5E278723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5406-0066-48F5-A653-9500A71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3367-6417-4B4A-89FC-2B2176C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0C99-A9A4-40BC-B7B4-6B772F8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FF32-8265-48A8-971E-2B23DE5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FE0-5822-4610-8C93-9FF3AEF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1C59-714C-46BE-9409-FF337F18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7773-ED1A-4EB0-A11A-E148954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5797-4AC8-4436-9317-AE5A4C6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C063-E6F8-40FD-9FBD-1003A21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E7A4-75F4-49DA-9C83-D7056214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493D-F8B1-47EA-9B6B-81AA71B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97E1-485A-4E89-BE77-C3985D2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2F63-BF51-4194-82AA-3DC329B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0CAF-8B81-4498-8673-FE90AB9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CAC2-AA2D-4240-B194-9600B98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99E8-F790-4EE1-ADC3-16FB19B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E871-0C36-45B5-AECA-45BBE86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AFA9-F5D8-4D4A-85D1-E55AEBE1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1985-DD15-4252-B797-36A97805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72F7-CD60-49AE-B518-45056E4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D603-E1C7-4D57-A77C-1A67363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7E95-B581-4D7F-8EED-DF0E808D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B4A88-7CCF-4852-AA26-B249650A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96A1-4EDF-4300-8777-B0297E8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F5CA7-AC08-431F-9BA6-7F5B163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6ADB-D6A2-43DB-87E6-F1BA0B1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1329-6985-4623-B04C-8A18C9D2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D62C-87D0-4D67-830F-D6DDA69D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D755-2A30-4C66-B3D2-5EBFFC98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F205-3572-461E-8519-468A1B62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9243-69F3-44FB-B2BB-39A15DED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ABBC-FF44-4C86-A9C1-2629F4A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672F-A439-4D85-8BD8-A0D148F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5968-9B40-4A0D-BC59-DA965A2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F386-8837-4C93-9A69-1443ABE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5323-8CC8-47B8-9BB7-EA35BD0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6DE1-E98F-4A79-BF59-17793C1D60E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BFCC-9BCC-4148-AF1C-7E29064C821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FDC5-1F7D-441E-93F0-B81691C9AEA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459F-F70B-4EA1-B6A3-DB38A2525D7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2731.htm" TargetMode="External"/><Relationship Id="rId2" Type="http://schemas.openxmlformats.org/officeDocument/2006/relationships/hyperlink" Target="http://baike.baidu.com/view/2747.htm" TargetMode="External"/><Relationship Id="rId3" Type="http://schemas.openxmlformats.org/officeDocument/2006/relationships/hyperlink" Target="http://baike.baidu.com/view/2729.htm" TargetMode="External"/><Relationship Id="rId4" Type="http://schemas.openxmlformats.org/officeDocument/2006/relationships/hyperlink" Target="http://baike.baidu.com/view/4668.htm" TargetMode="External"/><Relationship Id="rId5" Type="http://schemas.openxmlformats.org/officeDocument/2006/relationships/hyperlink" Target="http://baike.baidu.com/view/4371.htm" TargetMode="External"/><Relationship Id="rId6" Type="http://schemas.openxmlformats.org/officeDocument/2006/relationships/hyperlink" Target="http://baike.baidu.com/view/4909.htm" TargetMode="External"/><Relationship Id="rId7" Type="http://schemas.openxmlformats.org/officeDocument/2006/relationships/hyperlink" Target="http://baike.baidu.com/view/182671.htm" TargetMode="External"/><Relationship Id="rId8" Type="http://schemas.openxmlformats.org/officeDocument/2006/relationships/hyperlink" Target="http://baike.baidu.com/view/2731.htm" TargetMode="External"/><Relationship Id="rId9" Type="http://schemas.openxmlformats.org/officeDocument/2006/relationships/hyperlink" Target="http://baike.baidu.com/view/2729.htm" TargetMode="External"/><Relationship Id="rId10" Type="http://schemas.openxmlformats.org/officeDocument/2006/relationships/hyperlink" Target="http://baike.baidu.com/view/4467.htm" TargetMode="External"/><Relationship Id="rId11" Type="http://schemas.openxmlformats.org/officeDocument/2006/relationships/hyperlink" Target="http://baike.baidu.com/view/1446106.htm" TargetMode="External"/><Relationship Id="rId12" Type="http://schemas.openxmlformats.org/officeDocument/2006/relationships/hyperlink" Target="http://baike.baidu.com/view/77815.htm" TargetMode="External"/><Relationship Id="rId13" Type="http://schemas.openxmlformats.org/officeDocument/2006/relationships/hyperlink" Target="http://baike.baidu.com/view/270048.htm" TargetMode="External"/><Relationship Id="rId14" Type="http://schemas.openxmlformats.org/officeDocument/2006/relationships/hyperlink" Target="http://baike.baidu.com/view/459026.htm" TargetMode="External"/><Relationship Id="rId15" Type="http://schemas.openxmlformats.org/officeDocument/2006/relationships/hyperlink" Target="http://baike.baidu.com/view/42518.htm" TargetMode="External"/><Relationship Id="rId16" Type="http://schemas.openxmlformats.org/officeDocument/2006/relationships/hyperlink" Target="http://baike.baidu.com/view/161348.htm" TargetMode="External"/><Relationship Id="rId17" Type="http://schemas.openxmlformats.org/officeDocument/2006/relationships/hyperlink" Target="http://baike.baidu.com/view/15780.htm" TargetMode="External"/><Relationship Id="rId18" Type="http://schemas.openxmlformats.org/officeDocument/2006/relationships/hyperlink" Target="http://baike.baidu.com/view/17573.htm" TargetMode="External"/><Relationship Id="rId19" Type="http://schemas.openxmlformats.org/officeDocument/2006/relationships/hyperlink" Target="http://baike.baidu.com/view/2312991.htm" TargetMode="External"/><Relationship Id="rId20" Type="http://schemas.openxmlformats.org/officeDocument/2006/relationships/hyperlink" Target="http://baike.baidu.com/view/2809.htm" TargetMode="External"/><Relationship Id="rId2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419951.htm" TargetMode="External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800600" y="190476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二单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3880" y="32000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口语交际习作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1857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46240" y="5118120"/>
            <a:ext cx="477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东坡下载：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www.uzzf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火把节是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"/>
              </a:rPr>
              <a:t>彝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"/>
              </a:rPr>
              <a:t>白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3"/>
              </a:rPr>
              <a:t>纳西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4"/>
              </a:rPr>
              <a:t>拉祜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5"/>
              </a:rPr>
              <a:t>哈尼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6"/>
              </a:rPr>
              <a:t>普米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等民族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7"/>
              </a:rPr>
              <a:t>传统节日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8"/>
              </a:rPr>
              <a:t>彝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9"/>
              </a:rPr>
              <a:t>纳西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0"/>
              </a:rPr>
              <a:t>基诺族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在农历六月二十四举行，白族在六月二十五举行，拉祜族在六月二十举行，节期为二三天。 彝族认为过火把节是要长出的谷穗像火把一样粗壮。后人以此祭火驱家中田中鬼邪，以保人畜平安。节庆期间，各族男女青年点燃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1"/>
              </a:rPr>
              <a:t>松木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制成的火把，到村寨田间活动，边走边把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2"/>
              </a:rPr>
              <a:t>松香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撒向火把照天祈年，除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3"/>
              </a:rPr>
              <a:t>秽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求吉；或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4"/>
              </a:rPr>
              <a:t>唱歌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5"/>
              </a:rPr>
              <a:t>跳舞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6"/>
              </a:rPr>
              <a:t>赛马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斗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7"/>
              </a:rPr>
              <a:t>牛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8"/>
              </a:rPr>
              <a:t>摔跤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；或举行盛大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19"/>
              </a:rPr>
              <a:t>篝火晚会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，彻夜狂欢。现在，人们还利用集会欢聚之机，进行社交或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0"/>
              </a:rPr>
              <a:t>情人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相会，并在节日开展商贸活动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914560" y="189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1f08"/>
                </a:solidFill>
                <a:latin typeface="Times New Roman"/>
                <a:ea typeface="隶书"/>
              </a:rPr>
              <a:t>过“端午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87280" y="1079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历五月初五，是我国民间隆重的传统节日——端午节。因“端”是“开始”的意思，古代“午”与“五”通用，又以奇数为阳。所以端午又叫端阳、端五、重五、重午，民间俗称“五月节”。赛龙舟、吃粽子是端午节的主要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222120" y="3068640"/>
            <a:ext cx="4278600" cy="2978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1835280" y="6211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赛龙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4278240" cy="29797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36912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吃粽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5640" y="-114480"/>
            <a:ext cx="739152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元宵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560" y="868320"/>
            <a:ext cx="8675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每年农历的正月十五日，春节刚过，迎来的就是中国的传统节日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--</a:t>
            </a: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元宵节。正月是农历的元月，古人称夜为“宵”，所以称正月十五为元宵节。正月十五日是一年中第一个月圆之夜，也是一元复始，大地回春的夜晚，人们对此加以庆祝，也是庆贺新春的延续。元宵节又称为“上元节”。</a:t>
            </a:r>
            <a:br>
              <a:rPr sz="2400"/>
            </a:b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按中国民间的传统，在这天上皓月高悬的夜晚，人们要点起彩灯万盏，以示庆贺。出门赏月、燃灯放焰、喜猜灯谜、共吃元宵，合家团聚、同庆佳节，其乐融融。</a:t>
            </a:r>
            <a:br>
              <a:rPr sz="2400"/>
            </a:b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11280" y="4289400"/>
            <a:ext cx="3816360" cy="2568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773600" y="4267080"/>
            <a:ext cx="3686040" cy="25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608360" y="1773360"/>
            <a:ext cx="4464360" cy="33480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36440" y="1773360"/>
            <a:ext cx="4291200" cy="3311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中秋习俗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5084640"/>
            <a:ext cx="27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中秋月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45080" y="5057640"/>
            <a:ext cx="27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中秋赏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习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写节日习俗、有地方特色的服装饮食居民、可以写新颖别致的民间工艺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看到的、听到的、亲身感受到的民风民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抓住所写民俗特点，尽量写清楚民俗内容，把文章写具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选材要新，写出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风民俗包括哪些方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节日习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特色居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民间工艺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特色饮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25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巧构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日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  节日事件        结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交代清楚什么节日。节日事件：是活动过程，抓住有趣、有意义、给人教育。抓住细节让人物栩栩如生，活灵活现。结尾：总结，抒发感情，赞美幸福生活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色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 具体特点           结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开头：介绍美食名称及对他的感情，如引用诗句会更有诗情画意。具体特点：要重点来写，具体些它的滋味、外形、人们的赞美等。结尾：抒发感情，赞美美食，赞美家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19520" y="1600200"/>
            <a:ext cx="647640" cy="504720"/>
          </a:xfrm>
          <a:prstGeom prst="rightArrow">
            <a:avLst>
              <a:gd name="adj1" fmla="val 50000"/>
              <a:gd name="adj2" fmla="val 3207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1600200"/>
            <a:ext cx="649440" cy="576360"/>
          </a:xfrm>
          <a:prstGeom prst="rightArrow">
            <a:avLst>
              <a:gd name="adj1" fmla="val 50000"/>
              <a:gd name="adj2" fmla="val 281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66880" y="3733920"/>
            <a:ext cx="505080" cy="503280"/>
          </a:xfrm>
          <a:prstGeom prst="rightArrow">
            <a:avLst>
              <a:gd name="adj1" fmla="val 50000"/>
              <a:gd name="adj2" fmla="val 250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3600" y="373392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 rot="10800000">
            <a:off x="538920" y="0"/>
            <a:ext cx="71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按空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色居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开头         空间方位       结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点名写什么特色建筑物，要简洁利索、开门见山。空间方位：文章的重点，按空间顺序，抓住住事物的特点具体描写。结尾：巧妙总结，抒发感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间工艺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开头     工艺品特点 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开头：介绍工艺品名称，说在什么情况下得到这件工艺品。中间：用各种说明方法，介绍外形特点、结构特点、功能特点。结尾：总结、赞美工艺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62320" y="1523880"/>
            <a:ext cx="792000" cy="574920"/>
          </a:xfrm>
          <a:prstGeom prst="rightArrow">
            <a:avLst>
              <a:gd name="adj1" fmla="val 50000"/>
              <a:gd name="adj2" fmla="val 34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1447920"/>
            <a:ext cx="719280" cy="647640"/>
          </a:xfrm>
          <a:prstGeom prst="rightArrow">
            <a:avLst>
              <a:gd name="adj1" fmla="val 50000"/>
              <a:gd name="adj2" fmla="val 277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4267080"/>
            <a:ext cx="720720" cy="648000"/>
          </a:xfrm>
          <a:prstGeom prst="rightArrow">
            <a:avLst>
              <a:gd name="adj1" fmla="val 50000"/>
              <a:gd name="adj2" fmla="val 2780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257800" y="4343400"/>
            <a:ext cx="863640" cy="574560"/>
          </a:xfrm>
          <a:prstGeom prst="rightArrow">
            <a:avLst>
              <a:gd name="adj1" fmla="val 50000"/>
              <a:gd name="adj2" fmla="val 3757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5180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精彩的开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盼啊盼啊，好容易盼到了端午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爱家乡的山，我爱家乡的人，我更爱家乡的海鲜（跨海大桥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舟山的风景可爱，舟山的人可爱，舟山的普陀山、桃花岛更可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朋友，你见过软木雕吗？那可是我国传统工艺中的瑰宝。不信请你到我家瞧瞧，你准会啧啧称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爱我的家乡洛阳，更爱我家乡的工艺品—唐三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95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精彩的结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家乡的唐三彩为家乡争得了荣誉，使家乡名扬中外。我为家乡有这样的物品而自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啊！真是令人难忘，草原上的赛马节！现在虽然过去很久了，但我却时时想起来。。。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亲爱的朋友，你若是到舟山来，可不要忘记品尝一下海鲜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百多年来，钟楼一直受到人们的称赞，凡是来过钟楼的人都会从内心涌出一种由衷的赞美之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6520" y="182880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Arial"/>
              </a:rPr>
              <a:t>口语交际</a:t>
            </a:r>
            <a:r>
              <a:rPr b="1" i="1" lang="zh-CN" sz="46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i="1" lang="zh-CN" sz="6600" spc="-1" strike="noStrike">
                <a:solidFill>
                  <a:srgbClr val="ffffff"/>
                </a:solidFill>
                <a:latin typeface="Arial"/>
              </a:rPr>
              <a:t>习作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交流自己搜集到的民风民俗，交流时做到内容充实，表达流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借鉴本组描写民风民俗的写作方法，学习抓住特点介绍民俗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修改、完善自己的习作，创编班级习作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Arial Black"/>
              </a:rPr>
              <a:t>有</a:t>
            </a:r>
            <a:r>
              <a:rPr b="1" lang="zh-CN" sz="9600" spc="-1" strike="noStrike">
                <a:solidFill>
                  <a:srgbClr val="ffff00"/>
                </a:solidFill>
                <a:latin typeface="Arial Black"/>
              </a:rPr>
              <a:t>趣</a:t>
            </a:r>
            <a:r>
              <a:rPr b="1" lang="zh-CN" sz="8000" spc="-1" strike="noStrike">
                <a:solidFill>
                  <a:srgbClr val="ffcc00"/>
                </a:solidFill>
                <a:latin typeface="Arial Black"/>
              </a:rPr>
              <a:t>的民风民俗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800600" y="3524400"/>
            <a:ext cx="4343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2285280"/>
            <a:ext cx="78487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那达慕是中国蒙古族人民具有鲜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民族特色的传统活动，也是蒙古族人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喜爱的一种传统体育活动形式。“那达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是蒙古语的译音，不但译为“娱乐、游戏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还可以表示丰收的喜悦之情。每年农历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月初四（多在草绿花红、羊肥马壮的阳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七、八月）开始的那达慕，是草原上一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一度的传统盛会。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304920" y="3352680"/>
            <a:ext cx="4038480" cy="3267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传统的雪顿节以展佛为序幕，以演藏戏看藏戏、群众游园为主要内容，同时还有精彩的</a:t>
            </a:r>
            <a:r>
              <a:rPr b="0" lang="zh-CN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赛牦牛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和马术表演等。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009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年西藏拉萨雪顿节是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0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号开始，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26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号结束，同时期间将有拉萨国际马拉松比赛一起进行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节日活动的中心在拉萨西郊的罗布林卡。这里从前是西藏地方政教首领达赖喇嘛的夏日园林。节日来临，罗布林卡以及周围的树林里，一夜之间便会涌现一座色彩鲜艳的帐篷城市，还形成几条热闹繁华的节日市街，几乎整个拉萨城都搬进了这片绿色天地，所有的人都在歌声舞蹈中过着野外生活，深沉热烈的歌声伴着高原特有的乐器在树影里传播，这是拉萨人最有活力的日子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80880" y="35812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4038480" cy="3276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2905200" y="2324160"/>
            <a:ext cx="333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02:53:24Z</dcterms:modified>
  <cp:revision>13</cp:revision>
  <dc:subject/>
  <dc:title>第二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