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CC3-209B-48E5-9D08-2DC9658F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341-C969-4673-8A7A-9BF7DCA8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8D27A-C3BC-4D41-8AA4-E6D40841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2E9AC-8F2E-44D6-BD74-3DD9FABB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BF6B0-74E1-4AB4-9774-CE194F87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0AA58-6B21-43D2-A62B-CD10AFC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CAC40-F973-46F6-8D6D-D780814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84105-0577-43FE-B27F-4356AC31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F2115-F168-4719-ADEB-92413E31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66990-8218-43D0-B854-A7132E90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441A4-D05B-4F31-9ADD-29CD1F90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02743-131B-4C31-BD84-60A48325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3C6-FB4B-4196-9B87-22659649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6EC58-1912-4ABE-98CB-781098F7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51899-4028-4C66-82FC-E3F9CFD1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14D1C-2D6B-4822-9E5C-8128632F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CAC1C-EE7D-43B8-B2B9-CFB996B9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DB904-80B1-4828-9E4D-7CFEAC0A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9FCFD-A202-4E44-B259-5260BB4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39ABC-9D7C-4562-AABE-730E71D4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8E427-761D-4DDB-90BE-8934119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E3C3C-A949-4106-AE7A-1654E760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FAC4C-872E-408F-9656-DAC82072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3D0-793C-4ECB-AE93-BC9FE7D6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2360B-23D3-4AB6-8511-08649AC8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4774E-B458-4A51-889A-3D6D83DF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2F0AF-7AB7-408F-9584-C113D6AE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A4709-56E3-41F7-96AC-742570CA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4000E-35B6-448D-8AB6-AA5BC01F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7E836-4C00-48EA-8064-E8BA5541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EE344-B28F-4FB4-9274-26D01A77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2F386-EEE5-4DAB-BAE1-9ACCC8CF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4038B-E049-473C-AFA9-6AB3397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128C7-46DA-4BD8-ACB6-1036848F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2ED8-246C-4221-ACE9-ECC37403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5CF7A-C589-4730-9E45-E17131D0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7E640-8ECB-493D-A9E1-EFC49E3A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A9B5E-B533-45DA-A217-3F6B2482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3B25-8A03-4495-A917-780E4E12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85F3-EABB-4B0D-ABDC-EB163BDB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4BDD-ED54-4A46-9B57-77729750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9927-67B5-4B55-9446-85F61481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14E4-C43E-4BFE-A051-EEEE10F0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A743-5A14-4739-B184-1A0E666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AF2-41AB-4A41-93D0-63092502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60B0-39CF-4F7B-A5A5-FF341499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1E07-31C1-4154-A7FB-21E2527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CB68-105F-4E68-8D92-B74BF312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DB73-5E37-428C-8C8F-5E68AF27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1F5F-F7AE-4659-84F2-E9706093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30B1-7566-47B9-B462-928CCEBA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2533-0E02-466A-8806-D3824F32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6F59-A3B1-4528-835F-6DB21767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58E6-AB7A-42D3-ADDF-68692F5B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6665A-CC20-40F0-A54B-1E0E2BB0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967-5B23-4364-9837-3DAA9A08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C615-4F7B-4A24-9F52-91783FD7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B53A-5825-4255-A3B9-94CA444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B022-EFF3-402D-B37D-D2BA0686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ABD3F-AA98-466E-A20E-19FA8B02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C5A4A-9217-4664-A77B-ABFA5DBA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FDE69-5BA9-4C42-815D-58534E2F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5313-B964-41BB-818D-20772343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63D2-ED8B-41E5-BD5B-B101D5A4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EC90-4565-45D3-9905-3276C84C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9E329-6600-4EE4-9778-D2754764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735-44E8-42E7-BBC7-7F5A5A92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D7D53-BAAC-4F8F-AF36-C1084876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C700D-B971-4388-86F5-80EF8445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A5052-D53A-48F0-8D6B-4D0ECEA5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FDEC9-A414-4916-B19B-A0633836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4BFE-E454-44A2-8578-AF1B54DB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08278-4C1C-4C2B-9B88-07406F54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0CA06-1C72-4756-8FD7-6082E02D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CFAB7-2FCD-4505-93F2-2D16CA84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79ACC-8026-4F49-BB3B-D01AC95F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6FD2B-0AED-4016-B2C8-E599678F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7A0-A6CF-4143-B6B1-DC45276F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A57DB-0475-486B-BE56-C0D801BB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AEC58-EE25-4256-BFB6-2A90CCB4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0718C-1935-4D6D-BAE7-BDEDA85E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436BD-B116-421D-B887-84A38473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09CB4-C6FC-4C9B-A9DE-9B39D989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3F69A-D8A0-4D66-AAB5-15004292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E976E-4DE3-47D9-AE11-8C370E68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85B33-B93F-4FAE-9D77-8DF79C59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7B9E8-72BE-4220-8C7F-601BA101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4393F-F4D4-4C32-BF54-D46ECC43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1F8-FA9A-40CB-AADC-78BBC32C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9EBCF-13CC-4301-8125-70D5D4C3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20414-C5DA-47D1-963D-9BD2E38E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501C4-F333-4EFF-890D-11C1103C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234F9-7ED5-4B66-8F41-D238B145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4ECD6-DC51-4621-BF68-0963083B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49A1E-3C79-4693-8C96-EC0379FC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A0ED6-FBFA-42BF-A3C2-9FB574D2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5F662-4B57-4CE2-A1AA-75C0510F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BF78-4AB1-458D-BAA9-00262789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BFAEC-7D18-4EED-BFBA-CCC9DE5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E22-1596-4F17-BF83-236A7A81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BF228-6BA0-4BC7-ACFA-E2F3E176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B5FCA-ACF9-46EA-8905-FCD25E32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8A14E-CC5E-47F9-BAAD-E0890A36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7F9B9-A7DC-456D-A6F4-B7971666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C4084-BB96-4AE2-A601-892CA7EE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B8A6D-C439-45AD-9F86-54CFEDDC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03889-A486-42EB-8BBF-B6988AAA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6BA17-0148-4283-BDBE-22F4B45A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3E885-DBDD-4D45-9706-FB8DD9E4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81185-068A-429B-B45E-1AEBB71D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63D-970D-4B1B-A645-BAA86E17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E5BF7-440C-41DA-9F43-D730E457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39819-6036-4D06-A843-4D5DD3B2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DFA41-4C99-4B64-9E73-695AC839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0B167-C9CC-4925-8FFF-4A81F0DD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BCD80-95CC-4A9C-8150-71B7E908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BAFC1-3CA9-4B0A-94AE-DE0C4FEE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9F7A-BD46-42C2-9B7A-AF487C7F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51F8D-F5DE-44CB-B631-95325171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A2FE2-4396-4D9C-BBA0-FEF068EE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F9945-C068-47C9-BAD3-AB89E549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C92-11B4-4546-8C7A-5CFA496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13E18-AB81-491B-B8CA-5E28E2B0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E193E-2A57-4CDA-9B68-5169DBAD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4A2D5-0FEA-428B-BAC0-C68D2754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D9364-9008-4408-B2A6-E7380952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5A7C4-EB35-4806-9174-09B0A003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CC104-0C67-4A3E-9198-B5C5A42B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C8537-1E1F-4A0B-BA3F-6F1C7126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A9528-23A7-4EC6-83D6-A8F6B30C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5DA86-E1E0-4597-ACFE-F9041886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71C25-BA94-43D5-925C-1F31556F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AB30-ADBE-4F86-B286-4532FECAAC10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DCBA-99E5-4B4F-8D4E-AD5C8C61D7E9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4230-A170-43C7-ADDA-420981C3364D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702A-F12B-4BDD-B49C-90448D24518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2BAD-26FA-4FB4-9307-5F719F7281D6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ADAE-E638-4E6B-978F-810EE7B4C90A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B484-44CB-451D-9D0E-0AE341311DB1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520D-1795-4EF3-886F-EC4AF85F129A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2B01-62FD-43DC-A624-464A9D0A3A14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CBDD-096D-449C-8BBB-2BA675C1BE37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绿色圃中小学教育网</a:t>
            </a:r>
            <a:r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http://www.lspjy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51E9-E7C1-4790-B086-F2370E006FD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4"/>
          <p:cNvSpPr txBox="1"/>
          <p:nvPr/>
        </p:nvSpPr>
        <p:spPr>
          <a:xfrm>
            <a:off x="1476360" y="1989000"/>
            <a:ext cx="468000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口语交际  习作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7"/>
          <p:cNvSpPr/>
          <p:nvPr/>
        </p:nvSpPr>
        <p:spPr>
          <a:xfrm>
            <a:off x="250920" y="189000"/>
            <a:ext cx="86756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文欣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1" lang="zh-CN" sz="2400" spc="-1" strike="noStrike">
                <a:solidFill>
                  <a:srgbClr val="00d5d5"/>
                </a:solidFill>
                <a:latin typeface="Arial"/>
              </a:rPr>
              <a:t>难忘的第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我入学到现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经历过许多第一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第一次考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次获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次上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令我印象最深的是第一次煮饭。每当我想起这件事就合不拢嘴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哪是一个星期天，我爸爸、妈妈不在家，我想我从来没有帮妈妈做过家务活，这回可是一个好机会，就煮一锅饭吧，给爸妈露一手，让他们高兴高兴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干就干，我先掏了一锅米。听妈妈说过，煮饭之前要先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米，我就学着妈妈的样子洗起米来。但每洗一次米，就有一些“小淘气”顺着水“逃走”，因此，洗完米，米就少了三分之一。我把洗好的米倒进了电饭锅，插上电源，自个儿去网上冲浪了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正在我冲得起劲时，不知从哪儿传来了“劈里啪啦”的声音。我循声找去，发现是从厨房间里传来的，我立马想到了那锅饭，揭开锅盖一看，啊，天哪，这是我煮的饭吗？颜色又黑又黄，尝了一下，“呸”硬的像一些小石子。这可怎么办呢？我急得像热锅上的蚂蚁。不知如何是好。正当我发愁时，爸妈回来了。妈妈问我：“行健你在干什么呀？”我吞吞吐吐地说：“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”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咦，什么味道啊？”妈妈警觉地问，边问边和爸爸一起来到了厨房，一看，全明白了，“哈哈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笑了起来，把本来就爱笑得妈妈笑得眼泪都出来了，爸爸也被笑得弯下了腰。后来我才知道，是因为我煮饭之前忘了给锅里加水，才会烧成这样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我想：无能做什么事只有仔细观察，虚心学习才会成功。这不？“煮”下面还有四点水呢！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95280" y="404640"/>
            <a:ext cx="76327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0" lang="zh-CN" sz="2400" spc="-1" strike="noStrike">
                <a:solidFill>
                  <a:srgbClr val="00d5d5"/>
                </a:solidFill>
                <a:latin typeface="Arial"/>
              </a:rPr>
              <a:t>难忘的第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伴随着飞机的隆隆声，经过两个多小时的“飞翔”， 带着第一次旅行的喜悦，我疯了似的跑下飞机，来到了我心向往之的宁波奉化的溪口镇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但是，天公不做美，刚到自然景区，天就下起了淅沥哗啦的大雨，但这雨不能浇灭我快乐的心情，我们在雨中感受着这山雨带来的清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走了一段山路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们看到了气势磅礴的徐凫岩大瀑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站在瀑布脚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享受着瀑布溅起的水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大瀑布落差大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犹如银河般盈盈而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终于体会到了什么是“飞流直下三千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嶷是银河落九天。” 迈着轻捷的脚步，我们到了奇妙的“三隐潭”，它分为“上隐潭”，“中隐潭”，“下隐潭”，它们叠在一起，形成了阶梯状。先由一个小瀑布的水流到了上隐潭里，由上隐潭再流到中隐潭里，中隐潭再流到下隐潭里，水流连贯有续，源源不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 “真不知道外面的世界这么大，这真是一次令我难忘的旅行啊！”我不禁这样感叹到。这次旅行，让我感到不仅要“读万卷书，还要行万里路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4"/>
          <p:cNvSpPr/>
          <p:nvPr/>
        </p:nvSpPr>
        <p:spPr>
          <a:xfrm>
            <a:off x="324000" y="585720"/>
            <a:ext cx="849600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d5d5"/>
                </a:solidFill>
                <a:latin typeface="Arial"/>
              </a:rPr>
              <a:t>　　　　　　难忘的第一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去年放暑假的时候，我暂时住在外公家，马上就要中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了，我和表姐还有表弟正从外面回来，肚子正饿的“咕咕”叫的时候，却发现所有的人竟然都睡着了。我外公家的人都有睡午觉的习惯，除了表姐和表弟，而我又不忍心把他们都醒。 于是在这个时候我突然想出了一个好主意：自己做饭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可是，又有一道难题放在我的面前了：做点什么好呢？我左思右想，嗯，就做个最简单的蛋吵饭吧！ 这时候，表姐又出去拿书，把任务推给了我。我还要煮她的。 表弟，饿极了，在一旁催我快一点，我也没办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先，把所有的原料都准备好，就开工了！把火腿肠切成小丁，放在小盘子里；再把三个鸡蛋敲碎后，把蛋黄和蛋白放进一个小盘子里搅混；然后把青豆泡在小碗里：炒饭（幸好我老妈教过我几招，要不我今天就非吃“凉大米饭拌火腿肠”了）好了，言归正传。 这时候我已经把油放进锅里烧热了，发出“噼噼啪啪”的响声，我往锅里倒了小些油，把锅爆香，再把火腿肠和青豆放下去炒几分种，一阵香气往一旁的表弟飘去，再倒小些油下去，这一放可不得了，从锅中溅出的油星全部都落在了我的胳膊上，把剩饭倒下去之后，就炒起来炒了几分钟那些米饭已经热呼呼了，一粒粒都分开啦，这说明可以放鸡蛋啦，我把搅混了的鸡蛋倒进去炒，最后放了葱花进去。 心想这下可好了吧！于是就尝了一口。乖乖，不是吧，我还没加盐呢！于是又急忙把盐加了进去。 再把火关掉。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终于大功告成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虽然很苦很累还受了伤，不过我终于吃到了自己做的第一顿饭，虽然不是很好吃，不过，我相信有了这次的经历，下次一定会做得更好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52280" y="152280"/>
            <a:ext cx="899172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忘的第一次（片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走在小巷里，小巷里空无一人，白惨惨的月光从房顶上斜斜地照了过来，把我的影子拖得老长老长。“滴答滴答”的滴水声显得格外刺耳。不知怎么的，我的脚步越来越重，心怦怦地跳得厉害，“好像遇到坏人了”，“前面是不是有鬼呀”，一连串的想法使我汗毛立马竖了起来，不禁打了个寒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越想越怕，战战兢兢地走完了一半路，这时我似乎听到身后传来了一阵若有若无的脚步声，以前看过的恐怖片中青面獠牙的鬼怪在眼前浮现着。“妈呀！”我惊叫一声双手抱头飞也似的狂奔起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380880" y="304920"/>
            <a:ext cx="8763120" cy="36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漫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假文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一个寒冬的早晨，在一个小小的公共汽车车站里挤满了男女老少。靠在栏杆上的一块牌子上明确的标着“母子上车处”。而站在这里的不是抱着孩子的母亲，竞然是几位男士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真正的母子被挤到一旁。瘦弱的母亲围着头巾，衣着单薄，抱着一个刚出生不久的婴儿，冻的缩成一团，眼睁睁的望着那些“排错队”的男同胞们，眼里流露出愤恨而又无能为力的神情。我想：那些男同胞们真的没有看到牌子上的字吗？难道真的不认识“母子上车处”这五个醒目耀眼的字吗？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你瞧，第一个男士，个子较高，他身穿一件大皮袄，脚穿一双锃亮的皮鞋，显得特别阔气。他的眼睛看着地面，好像知道这是“母子上车处”而不敢朝上看似的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第二个是个高个子男士，他身穿一件毛领皮衣，头上戴着帽子，向前看着，微闭着眼睛，好像在思索着什么，又好像在闭目养神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第三个是一位满头银发的老大爷，个子很矮，穿着一件羽绒服，一幅眼镜搭拉在鼻子上，快要滑落下来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第四位是高个子男子，他身穿高领大皮衣，戴着大大的口罩，好像要把脸全部遮住似的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看他们穿的多么华丽呀，但是表面的华丽怎么遮掩的了丑恶的内心呢？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看那半闭着的眼睛，看那快滑落的眼镜像不识字吗？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他们主要是想早点上车找个好座位，对那立着的牌子不屑一顾，竟背着良心做出如等缺德的事。而旁边的母子却迎着寒风颤抖着，母亲心凉了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我真想问问那些尊贵的先生们，你们难道就没有妻子和孩子吗？你们站在你们不应该站的地方，就心不跳，脸不红吗？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在我们当今的社会里，像这样的队伍越来越壮大，像这样的人也越来越多，屡见不鲜。他们都是为了个人利益作出一些违背良知的事，早已忘了自己还是炎黄子孙。我真想高喊：“请你们不要这样，要将心比心，要遵守社会公德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"/>
          <p:cNvSpPr/>
          <p:nvPr/>
        </p:nvSpPr>
        <p:spPr>
          <a:xfrm>
            <a:off x="395280" y="2010960"/>
            <a:ext cx="8136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老师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生总会有许多第一次，翻开我们成长的书本，一页又一页，记载着我们童年的点点滴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次迈出蹒跚的步伐、第一次背着书包上学校、第一次独自一人出远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的第一次常带给我们不同的感受：有成功，有失败；有欢笑，有泪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无论怎样都是那样的令我们难以忘记。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5"/>
          <p:cNvSpPr/>
          <p:nvPr/>
        </p:nvSpPr>
        <p:spPr>
          <a:xfrm>
            <a:off x="395280" y="692280"/>
            <a:ext cx="8064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这些第一次给你有启发吗？你还有更难忘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一次动手做饭　　　　第一次竞选班干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一次走夜路　　　　　第一次表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一次得奖　　　　　　第一次做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一次坐火车　　　　　第一次旅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468360" y="260280"/>
            <a:ext cx="71280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请你选择印象最深刻的第一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、回忆事情的经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回想自己在这个过程中的真实感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、从中得到的启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着说一说。老师给大家提两点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要把事情的来龙去脉说清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说的过程中融入自己的感受，讲清楚你从中得到的启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8"/>
          <p:cNvSpPr/>
          <p:nvPr/>
        </p:nvSpPr>
        <p:spPr>
          <a:xfrm>
            <a:off x="826920" y="1125360"/>
            <a:ext cx="7129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评价时要强调的有以下几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事件叙述的完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借鉴了课文的表达感悟的方法，结合生活实际直接表达自己的感受。将道理蕴含在文章之中（前后呼应、借物喻人的写作方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 能从心理、动作、神态、语言等方面表现自己内心的感受，给人更真实的感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609480" y="380880"/>
            <a:ext cx="7620120" cy="87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习作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难忘的“第一次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609480" y="213372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Arial"/>
              </a:rPr>
              <a:t>难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4191120" y="213372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Arial"/>
              </a:rPr>
              <a:t>第一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7"/>
          <p:cNvSpPr/>
          <p:nvPr/>
        </p:nvSpPr>
        <p:spPr>
          <a:xfrm>
            <a:off x="642960" y="3429000"/>
            <a:ext cx="64292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作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根据自己的思路，按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顺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故事的经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你的故事经过中添上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细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出自己得到的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启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5"/>
          <p:cNvPicPr/>
          <p:nvPr/>
        </p:nvPicPr>
        <p:blipFill>
          <a:blip r:embed="rId2"/>
          <a:stretch/>
        </p:blipFill>
        <p:spPr>
          <a:xfrm>
            <a:off x="826920" y="1413000"/>
            <a:ext cx="3495960" cy="406692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3"/>
          <p:cNvSpPr/>
          <p:nvPr/>
        </p:nvSpPr>
        <p:spPr>
          <a:xfrm>
            <a:off x="4932360" y="765000"/>
            <a:ext cx="3600360" cy="642600"/>
          </a:xfrm>
          <a:prstGeom prst="rect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漫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一种具有强烈讽刺性或批评性的图画。画家从生活现象中取材，通过夸张、比喻、象征等手法，来讽刺、批评或表扬某些人和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WordArt 4"/>
          <p:cNvSpPr txBox="1"/>
          <p:nvPr/>
        </p:nvSpPr>
        <p:spPr>
          <a:xfrm>
            <a:off x="324000" y="333360"/>
            <a:ext cx="1295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习作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WordArt 2"/>
          <p:cNvSpPr txBox="1"/>
          <p:nvPr/>
        </p:nvSpPr>
        <p:spPr>
          <a:xfrm>
            <a:off x="539640" y="692280"/>
            <a:ext cx="1828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画意解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2771640" y="692280"/>
            <a:ext cx="5832720" cy="19234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第一：仔细观察图画，把握画面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观察时，必须把握以下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这是发生在什么地方的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从人物衣着看，这件事发生在什么季节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图画上有哪些人？他们之间有什么关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四位男子怎么会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母子上车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等候上车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假文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什么含义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250920" y="3500280"/>
            <a:ext cx="8642160" cy="1739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第二：展开合理想象，丰富画面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①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从图画上人物的衣着看，这天的天气怎样？除了这，你还会想到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②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四位男子怎么会在“母子上车处”等候上车的？他们当时心里可能会想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③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那位抱着孩子的中年妇女看到四位男子站在“母子上车处”，可能会对他们说些什么？四位男子又是如何回答她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④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周围的旅客看到四位男子站在“母子上车处”，可能会议论些什么？四位男子听到人们的议论会怎么想？怎么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⑤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四位男子最后是在“母子上车处”上车的吗？他们或许是被车站的民警叔叔劝走的，或许是听到人们的议论不好意思走的，或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4360" y="1989000"/>
            <a:ext cx="7777080" cy="193788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，要写出自己的真实看法和想法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漫画一般是用来讽刺、批评或者表扬某些人和事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假文盲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一幅讽刺漫画，针对四位男子站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母子上车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不文明行为，你有何感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不少旅客纷纷指责这种不良行为时，你有什么看法和想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0:05:45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admin</cp:lastModifiedBy>
  <dcterms:modified xsi:type="dcterms:W3CDTF">2015-02-02T00:59:46Z</dcterms:modified>
  <cp:revision>28</cp:revision>
  <dc:subject>绿色圃中小学教育网http://www.lspjy.com</dc:subject>
  <dc:title>绿色圃中小学教育网http://www.lspjy.com</dc:title>
</cp:coreProperties>
</file>