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420-5BC0-4672-A1F5-5588EB0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5D7-69EC-4475-BBC8-E7300419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0B9-11A5-4E71-A6E2-BDB62615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727-C6B3-4E92-A306-93850473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8F1-88F7-4A64-B380-DE19336F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BBD-38D0-452A-9D3A-638D0F9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8D3-843D-41FE-8B29-60F60C7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326-662E-4D8D-BFC4-6C87C914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1D1-7A61-460B-8629-B3A71F54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EB3-6758-4D29-A219-EF76940F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BDA-7414-4BF8-B5EC-DA914FB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B2A-F0C9-4EE8-8CA4-B3F22AA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948-3741-4CE3-8576-AD7C06E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FC5-DF50-4133-9D9E-BB7E58D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8F74-35F7-4DCB-B653-F58ABF1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18B5-21EF-4560-BC12-3AB9DAC5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371-0FE2-4F56-8A1A-53E0E36B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B8DD9-36C8-40C4-AD8D-BF91C675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D87FC-D1C4-4BAA-962D-57A7174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D641E-C280-4031-83B6-75A0D4B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F3D34-340C-4C36-B783-0B94AC5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6865F-3FCB-4947-B8DE-11C834D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579-AFC9-4160-841F-E4C249D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0212A-0E16-4BD2-8FFD-4A45CD4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E57AD-7349-4122-A31E-32EF0AD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280A8-3277-46FB-BA3D-507FA51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85476-BAC3-4A6F-BF64-FF142C6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65246-7131-4F73-BD29-B30CAD81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A4693-5647-4F68-9BB5-BF99ACB7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64D89-8335-4E18-A9C3-918EDF12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5AED-26C9-4B56-83D7-EEB64BDF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93FE-E306-41F3-A53E-C813F89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27F0-BCEB-4144-A8BE-A6A3358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322-D241-4117-8815-9AECAF9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36D6-8C14-4E43-9513-8316505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5B00-B17C-458B-A3CF-66F5CFCA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4240-51B7-4844-86E7-662E66A5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0272-BB97-4D84-9396-6869F11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8CF7-4BD8-4FDF-BEED-0DFC41B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B9E7-9EAD-477B-9172-A4E4AEE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E238-588C-438D-92A8-BB3735C3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A9BC-57DE-40B4-8F23-8C551E4F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9C6B-CE64-42E3-97F7-10D026BE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263-5E76-402B-B3E9-95AB97CD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88A-8080-4F2A-992F-4378AC6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BA1-6A74-4378-AAB7-D39967E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BB0-9A11-44F7-A8A5-A8682B2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976-BB07-4368-BBB9-2D7120A0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AC5-17F2-4448-BEF0-ABAD1BB0AFA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B7DE-464E-4E72-8AAD-809BE408C6F9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116-E0B9-4F8B-AABB-2747932259C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8518-CDC2-4F24-A314-CC1180F5A92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447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回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顾</a:t>
            </a:r>
            <a:br>
              <a:rPr sz="6600"/>
            </a:br>
            <a:r>
              <a:rPr b="1" i="1" lang="zh-CN" sz="4400" spc="-1" strike="noStrike">
                <a:solidFill>
                  <a:srgbClr val="fe1f08"/>
                </a:solidFill>
                <a:latin typeface="Arial Black"/>
              </a:rPr>
              <a:t>·</a:t>
            </a: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拓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展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二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2090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54864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总把新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桃换旧符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译文：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每年春节人们总要拿新春联换掉旧春联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四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"/>
          <p:cNvSpPr/>
          <p:nvPr/>
        </p:nvSpPr>
        <p:spPr>
          <a:xfrm>
            <a:off x="3574800" y="2590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桃换旧符：现指春联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4648320"/>
            <a:ext cx="8077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这既是写当时的民间风俗，也寓含着除旧布新的意思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这句与首句“爆竹声中一岁除”的意思呼应，形象地表现了万象更新的景象。</a:t>
            </a:r>
            <a:r>
              <a:rPr b="0" lang="zh-CN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92504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本诗既是写景诗，也是抒情诗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写了什么景？抒了什么情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景：放爆竹、春风吹、喝屠苏酒、曈曈日、换桃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情：这是一首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写景抒情诗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诗人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通过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描写人们过春节热闹欢乐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气氛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形象地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表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万象更新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景象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寄托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自己执政变法、除旧布新、强国富民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抱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和乐观自信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情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在这首诗中，景和情是紧密结合着的，作者远大的志向和忧国忧民的抱负并没有在诗中直接表露，而是蕴藏在对景物的描写中。这种抒情方式叫做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情景交融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4038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 Black"/>
              </a:rPr>
              <a:t>齐读本诗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请同学们想象过年的画面，带者辞旧迎新、欢度新年的喜庆氛，读出作者的乐观自信的情感。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天竺寺八月十五日夜桂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【唐】皮日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99840" y="251460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玉颗珊珊下月轮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殿前拾得露华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至今不会天中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应是嫦娥掷与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天竺寺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八月十五日夜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桂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14400" y="9144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解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3996000" y="3657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时间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29120" y="35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地点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7440" y="3657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描写的事物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了解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卒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以后。唐代文学家。字袭美，一字逸少。居鹿门山，自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鹿门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间气布衣、醉吟先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襄阳竟陵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今属湖北天门市）人。 公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6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（唐懿宗咸通八年）登进士第。登第次年东游，为苏州刺史从事，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陆龟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识，并与之唱和，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皮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并属皮陆派。其后又入京为太常博士，出为毗陵副使。黄巢军下江浙，皮为黄巢所的。黄巢入长安称帝，皮任翰林学士。皮日休的死，说法不一。或说他因故为巢所杀，或说黄巢兵败后为唐王朝所杀，或说后至浙江依钱□，或说流寓宿州以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玉颗珊珊下月轮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3885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零落的桂花瓣），如同一颗颗玉珠从月亮上面边撒落下来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一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殿前拾得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露华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新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走到大殿前捡起它们，发现花瓣上边还有星星点点刚凝结起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露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至今不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会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天中事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现在，我还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上到底发生了什么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三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应是嫦娥掷与人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些桂花和桂花上的雨露），应该是广寒宫里的嫦娥撒落下来送给我们的吧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四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 Black"/>
                <a:ea typeface="黑体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读懂诗歌，理解诗歌大意，并背诵诗歌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了解作者的相关资料，加强语文知识的积累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对诗歌进行简单的赏析，大致了解诗歌的基调与意境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赏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诗描写桂花，写出了一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夜赏月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诗并不如其它描写中秋诗作一般凄凉，凋零，或是惆怅、哀绵。联系诗作背景便可得知诗人前一年高中进士，此时正在东游之中，也正是诗人意气风发之时，全诗便理所当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松自在，毫无忧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诗咏物现实，空灵含蕴，以一件事表达了中秋佳节赏月之情，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小见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中的一大部分是诗人的联想，并不现实，却也不让人觉得有空虚之意。巧妙的联想反而为“寂静”的诗作平添了几分“俏皮”，也可谓是恰到好处。同时还运用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手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 Black"/>
                <a:ea typeface="黑体"/>
              </a:rPr>
              <a:t>元日</a:t>
            </a:r>
            <a:br>
              <a:rPr sz="8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【宋】王安石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爆竹声中一岁除，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春风送暖入屠苏。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千门万户曈曈日，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总把新桃换旧符。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这里的“元”是什么意思？</a:t>
            </a:r>
            <a:r>
              <a:rPr b="0" lang="zh-CN" sz="5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</a:rPr>
              <a:t>元日：指农历正月初一）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1617120" y="3962520"/>
            <a:ext cx="48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、“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元日”是什么意思？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5640" y="2895480"/>
            <a:ext cx="16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元：第一、起始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3808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解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Arial Black"/>
                <a:ea typeface="黑体"/>
              </a:rPr>
              <a:t>王安石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北宋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政治家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文学家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894120" cy="4800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1143000" y="3808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了解作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唐宋八大家之一，字介甫，号半山。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岁以前，随父游历祖国的大江南北，了解到民生疾苦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岁中进士，当过十多年的地方官。公元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1070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年被任命宰相。不顾大官僚地主的反对，推行新政，后受保守派的攻击，被迫辞职，新法随即废除，这就是历史上有名的“王安石变法”。《元日》这首诗就是他拜相推行新政时写的，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寄托着他执政变法、除旧布新、强国富民的抱负和乐观自信的情感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5105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爆竹声中一岁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除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译文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在阵阵“噼里啪啦”的爆竹声中，人们送走旧的一年，迎来新的一年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一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"/>
          <p:cNvSpPr/>
          <p:nvPr/>
        </p:nvSpPr>
        <p:spPr>
          <a:xfrm>
            <a:off x="6291360" y="1828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除：去掉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5486400"/>
            <a:ext cx="8991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读好这一行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让人感受到过年时那种热闹欢乐的气氛。</a:t>
            </a:r>
            <a:r>
              <a:rPr b="0" lang="zh-CN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029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春风送暖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入</a:t>
            </a:r>
            <a:r>
              <a:rPr b="1" lang="zh-CN" sz="4400" spc="-1" strike="noStrike" u="sng">
                <a:solidFill>
                  <a:srgbClr val="ffcc00"/>
                </a:solidFill>
                <a:uFillTx/>
                <a:latin typeface="Arial Black"/>
              </a:rPr>
              <a:t>屠苏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译文：春风把暖气吹入屠苏酒。翻译得更美一点：人们迎着和煦的春风，开怀畅饮屠苏酒。人们的心情是多么得高兴啊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"/>
          <p:cNvSpPr/>
          <p:nvPr/>
        </p:nvSpPr>
        <p:spPr>
          <a:xfrm>
            <a:off x="6291360" y="1600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入：吹入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2438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屠苏：每年除夕，家家用屠苏草泡酒，吊在井里，正月初一取出来，全家老小朝东喝屠苏酒，这样可以避瘟疫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19920"/>
            <a:ext cx="55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读出人们喜悦的心情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千门万户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曈曈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日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4419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译文： 旭日的光辉普照着千家万户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三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819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曈曈：太阳初升时光亮耀眼的样子。“曈”这个字和太阳有关，所以是“日”旁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 Black"/>
              </a:rPr>
              <a:t>读出：无限光明美好的前途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03:06:40Z</dcterms:modified>
  <cp:revision>12</cp:revision>
  <dc:subject/>
  <dc:title>第二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