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A60-E5BF-4F83-B812-5F118F05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49D-CEFA-4954-94A8-93A0B493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5F2-9341-4D2F-A06E-C963930E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33A-AC04-49AA-80EE-BA93F0AA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ADD-22F4-4547-BA8D-9056DC3D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3D1-5DD1-4844-856A-6C9AE0AA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F07-B74E-4C40-948A-2EA21E69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6BF-8F4B-44C8-A013-8C192285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357-6D31-48F5-9E5D-50B3E4DE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2D4-8723-4D1D-B8BB-ABE0AF9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3AC-F461-402D-A565-E353A9A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4C6-3DAA-4A21-8295-30262DB0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D2ED-3B32-4104-A889-88AEC2CD7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208" t="5890" r="9378" b="248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84360" cy="1312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24000" y="1413000"/>
            <a:ext cx="331308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顾拓展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3141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00ff"/>
                </a:solidFill>
                <a:uFillTx/>
                <a:latin typeface="Arial"/>
              </a:rPr>
              <a:t>交流平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149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66ff"/>
                </a:solidFill>
                <a:uFillTx/>
                <a:latin typeface="Arial"/>
              </a:rPr>
              <a:t>日积月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157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da8200"/>
                </a:solidFill>
                <a:uFillTx/>
                <a:latin typeface="Arial"/>
              </a:rPr>
              <a:t>成语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98100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邯郸学步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个成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讲的是战国时候，燕国的一个青年人到邯郸学当地人走路，结果学了几个月，不但没有学会邯郸的走法，还把自己原来的走法也忘了。原来是形容不要盲目学步，现在用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喻一味模仿别人，不仅学不到本事，反而把原来的本事也丢掉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404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邯郸学步”这个成语告诉我们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013360"/>
            <a:ext cx="144000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13920" y="429264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260280"/>
            <a:ext cx="835344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回忆学习本组课文后有哪些收获，联系生活实际，领悟文章蕴涵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把握主要内容的基础上，体会作者表达感悟的不同方法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3213000"/>
            <a:ext cx="8064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抓住具体的语言描写、重点词句进行深入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为什么这样写？其思路是什么？自己有什么看法？这样来形成自己的观点和见解。最后交流自己的体会和感受是怎样获得的，是如何加深的。还可以交流本组课文在表达作者感悟方面有什么特点，在习作中怎样运用恰当的方法表达自己的感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278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1280" y="274680"/>
          <a:ext cx="7846920" cy="6451560"/>
        </p:xfrm>
        <a:graphic>
          <a:graphicData uri="http://schemas.openxmlformats.org/drawingml/2006/table">
            <a:tbl>
              <a:tblPr/>
              <a:tblGrid>
                <a:gridCol w="3887640"/>
                <a:gridCol w="395928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表 达 方 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例    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用拟人、比喻、排比、设问的写法，化无形为有形，并且生动形象，富有感染力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借物喻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写一件事情、物件，从中产生感悟、受到启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898880" y="1962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匆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3429000"/>
            <a:ext cx="266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桃花心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27600" y="5157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言文两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4600" y="57531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顶碗少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422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手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51640" y="6165720"/>
            <a:ext cx="144000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47640" y="1341360"/>
            <a:ext cx="741708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51640" y="6165720"/>
            <a:ext cx="144000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47640" y="1341360"/>
            <a:ext cx="7417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2565360"/>
            <a:ext cx="5543280" cy="2303640"/>
          </a:xfrm>
          <a:prstGeom prst="cloudCallout">
            <a:avLst>
              <a:gd name="adj1" fmla="val -32759"/>
              <a:gd name="adj2" fmla="val -726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33336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28526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人不是生下来就懂得道理的，谁能没有疑惑？说明了人人都有自己不懂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6372360" y="5589720"/>
            <a:ext cx="143964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2133720"/>
            <a:ext cx="7417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0"/>
            <a:ext cx="6264000" cy="3068640"/>
          </a:xfrm>
          <a:prstGeom prst="cloudCallout">
            <a:avLst>
              <a:gd name="adj1" fmla="val -49240"/>
              <a:gd name="adj2" fmla="val 5082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333360"/>
            <a:ext cx="5257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擂一通鼓，勇气振作起来了；擂两通鼓，勇气就衰弱了；擂三通鼓，勇气就完结了。现用来比喻趁劲头大的时候一下子把事情做完。说明做事情应一气呵成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659640" y="6021360"/>
            <a:ext cx="143964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47640" y="1341360"/>
            <a:ext cx="7417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89000"/>
            <a:ext cx="5545080" cy="2735280"/>
          </a:xfrm>
          <a:prstGeom prst="cloudCallout">
            <a:avLst>
              <a:gd name="adj1" fmla="val -44162"/>
              <a:gd name="adj2" fmla="val 668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134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620640"/>
            <a:ext cx="46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再甘甜的瓜，瓜蒂都是苦的，天下的事物没有十全十美的。说明任何事物没有十全十美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6659640" y="6021360"/>
            <a:ext cx="143964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7640" y="1341360"/>
            <a:ext cx="7417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6659640" y="6021360"/>
            <a:ext cx="143964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981000"/>
            <a:ext cx="5832720" cy="2592360"/>
          </a:xfrm>
          <a:prstGeom prst="cloudCallout">
            <a:avLst>
              <a:gd name="adj1" fmla="val -44282"/>
              <a:gd name="adj2" fmla="val 650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1341360"/>
            <a:ext cx="4824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树必须培育它的根，教人以德行则必须教养他的思想。说明了浇树浇根，育人育心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47640" y="1341360"/>
            <a:ext cx="7417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6659640" y="6021360"/>
            <a:ext cx="143964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1700280"/>
            <a:ext cx="6265800" cy="2592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1916280"/>
            <a:ext cx="4969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了千支曲子后才能知晓音乐的美妙，观看了千支剑后才能识别兵器的好坏。说明了多实践才能出真知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7:52:51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admin</cp:lastModifiedBy>
  <dcterms:modified xsi:type="dcterms:W3CDTF">2015-02-02T01:30:55Z</dcterms:modified>
  <cp:revision>7</cp:revision>
  <dc:subject>绿色圃中小学教育网http://www.lspjy.com</dc:subject>
  <dc:title>绿色圃中小学教育网http://www.lspjy.com</dc:title>
</cp:coreProperties>
</file>