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888-762A-48B7-BB8C-258A90F3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9BE-1FA3-43BA-BD31-97D44917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31DD2-5428-4E3A-AC31-6DBAF3CE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6FBA2-F977-4592-8619-B090772F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FFDA5-83E0-4242-B0AC-9F6B1B91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C5FDE-1D17-447A-A5F6-926D589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D077A-5701-48B4-9D9B-3738CCCE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F8A3B-A1FF-4A42-8BC4-C60A789C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5E397-27B4-4885-A4F9-2EC0FC31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DA7BF-689A-428A-9A51-B3F5E9D2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0AF0D-B32A-4ED9-A4A1-855BFACC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46E9D-6502-4347-B4AB-9FF93AFA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81E-7DA3-4AF1-9348-90FD4AC8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7E171-C22A-44DC-866F-25752009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66DE7-A90A-41B9-BD75-7F1B0446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E7128-791A-4F26-A252-A7ADDD74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7FCA8-416C-4F0B-9225-962DEFFE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6F545-3EFF-4764-93EB-568B5BCB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1F994-BBF4-4D6D-99BC-6F74CE7E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495BC-1827-4F03-A41A-8019314D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7DD56-9E01-43FF-81C7-2E50D7C3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EB49E-84D0-4F08-A247-1676F1B9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EF9F6-B2B2-4594-BB3D-3436B04A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1D2-C254-4675-A592-57913777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541A4-0D3B-42FC-BA50-D409B576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8DF5B-4344-4BA6-BEF5-E437FA31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B81E9-D2E9-49DD-955D-A479AFAD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DBC8F-B445-446A-AA6E-84C4966D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E745F-505C-40BD-AF98-5F3D6654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CE246-E91E-4B7B-86CF-E17EB8BE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76FB4-8BFD-4CE6-875C-A5FB3BF1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F57E6-A737-405C-BE2C-67BAED9C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5D07C-6044-42F2-BFDC-662205F4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E10A9-1E0B-4494-A05D-0CCE1F44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462B-98F7-4BEE-A986-8B8F05A2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B52E7-A93C-4C21-BA10-BEB9F646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65595-B79F-4573-A850-03FF2F8B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4B59F-DBE7-4225-A7D6-62D07C3D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5410A-5DB6-4566-B6F6-C6AEC00A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0CFF8-9756-4174-9ADF-543A02EB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24E88-67FA-4F19-A0F8-3674BB2D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11884-9068-4B63-8A92-26A7BFE2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2E076-489C-40FD-BE96-4B7BFC4E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DFDB2-C932-4E9B-893C-C4C43177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6257C-97EF-4759-845C-C808822A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F922-EAB8-4DFE-B9DA-4D2961AD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21A4A-B483-452F-B39C-0DCC51B4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A925A-C45A-4102-B2F2-AB3AF64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E45D6-911E-4DD8-901A-C5B6E46A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8153E-3AD0-411C-B5F3-46C41C70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9E573-F9C1-4401-929B-581FD436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177FE-310B-4519-AD79-3712B151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60108-E81F-4920-BA61-109E1684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07C0B-B88E-4599-8F5E-7AE36708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DBCFFD-D79A-4BEF-823C-A661D818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076AE-22D7-4C6E-BD65-A3DF1E05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0166-39F2-4D61-B768-7D7FC894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A31DF-1542-4B4F-9D75-D9EEC205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961D6-F225-467B-A1F1-7BB84279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CED49-11C4-4D13-BE85-166C63BD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7CA7D-2D6B-4039-91B0-CD95464F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F5BFA-5BE3-4E7E-9041-330E1A2B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776F5-F9B2-4BB9-9C51-71428A9A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7E4BC-A028-464D-937B-1D1C2AB6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9991-9A2D-473A-B014-BA61D004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1C7C-78E3-436E-9E4F-F1E809F2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DC52-E6D5-4F4D-90D7-F939632E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2B32-578A-45C8-B09D-3111EC7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3AA-63CD-4F78-AC0C-1D4B447E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FD62-F428-41B4-A6EB-C183B79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2146-DB1C-4387-ABE1-A284D5F4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3B20-58E2-4E85-AE7C-1CEA30E9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2918-B0BC-4D41-9566-5D1635E8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4DE7-47D0-4ADE-86D7-D2D5E5F5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4213-6DA9-4102-A687-2E5CC396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818F-51B0-4B77-BB31-7F962EDC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E1A56-0AF1-4C89-9FE1-A83AEFAE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99A4-55CD-422D-BC38-64E4CD05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A1824-6ACA-4FC0-9619-AE265D4C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86B-AB37-4882-8F6F-9030C3B3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5EE9-79F8-47AC-BCBB-2C5CD739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6AAA-7C37-42A7-9768-42CC7194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D33B-FEBC-448C-8EFF-444A6430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4275-0645-4B0E-9C99-83A38CBE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A875-227A-4C1B-97C8-7BCE5D4A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AB71-4E8D-41F0-AC41-16940698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9A97A-C28E-43A0-A652-801DF6B8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E2AC-2866-4DED-96D3-6E52916E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6AB3E-65C7-427C-A950-8F50399E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69B53-5015-4A80-A5A0-DB83EDC9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A6E-EFAE-48ED-90E5-ABEF37D5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8A521-516D-4EE5-8254-4B05A5C1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327A-3BA7-4E63-947C-523229F3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28B6-25B9-4D6F-ADF2-6334785F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6D15-6489-4495-9A0C-2C0E4F97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8FD58-BBD6-46BC-BF7E-C1829C5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58578-C7E0-4A8E-9837-E7278A63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5145-9238-4707-A2B2-F8AA7BD9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15DE-C3D2-4911-882C-2F11149E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F4E0-BE9B-4300-9BFC-61C59B34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E000F-5AE0-40AB-BEFA-7FC4BA76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C50-C60A-4BED-B5FE-8054A202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6DF5E-4D0A-43A9-BAAD-22E7855D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0F3C1-7D54-47CB-869E-148397F5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34D82-2AAC-4525-82E2-AFE745ED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5D055-6463-4F52-9CBE-EB8FB41E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2D06B-F383-461B-B851-50C11476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EAFB7-AF5E-4EBF-9182-FD555D4D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F174A-0BB3-4788-B6D4-A1D258B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7B01F-3249-4612-AEED-419F3F40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45EE3-C9FB-4E84-A1C0-989B3F66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9CF7-56D4-4F71-9AB3-AA00F85B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0DE-800B-4D0B-B910-24DC2DA8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5F2D7-1FB1-414C-AA05-75F984A1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7EDD7-4925-4AF3-8BF0-48826DF1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4AE0F-6962-49DA-A3E3-FEEBDAD7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2C5ED-1141-4D51-BBBC-D5FEF412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34356-1069-479C-A6CB-C63E30B5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F210-5263-41D9-A857-EDEEB3C6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C7D47-30EA-481F-90F9-3247B4C6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12CB6-C567-43E4-9D6E-7704E29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83F71-D100-4045-B899-6A03036B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F0384-2C70-4120-82B6-0A13B3E1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8CD-600C-452A-81E9-8B8039E3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43E74-8214-4A3B-9694-203D352C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E3D1E-36AD-4E3C-8857-A438B2E2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6EF4E-3E05-499B-ACE6-8DB3C308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7823E-B5E6-402E-845D-8583D9A2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13A88-E6A9-4B34-910B-3C60CE06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BE15C-4391-43C7-B207-843D7422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94246-9BB3-4466-ACD6-131E364D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98C47-F25D-48D9-B2C2-DD2A7728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557B9-2C26-4739-92E3-A0519D70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CE3ED-3426-443D-9D69-2F4DD876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9A5-D525-4F3B-9221-5063B9DC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6E636-FE13-4DB6-816C-D831E3A4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23E9E-B01E-4719-BE29-F14FEFC6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1356B-13DF-4B3B-8CD1-7C946D42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DBF24-68C5-4BC7-9FC0-9D10995B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9A3CF-2661-482F-B1DA-F40C0835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03D0B-84FB-470B-8C44-CF9EAC7C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09B7D-23B1-480F-A591-7BD449FD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B258B-EE96-424A-B3C6-50482BFD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1EAF4-8DC4-426B-967A-96A19AEE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3050D-65B1-4DE6-8801-62B366DF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AAA-1766-4E47-A51F-865EFBF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47270-EC9F-431A-B337-63F0EC74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FE8C5-6060-4FB4-8D28-09974232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B82B2-D354-410F-9A05-F9A3EDCB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BB849-A1C0-4761-BB17-5013C10A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92F39-C075-4CDE-B8E5-687F5F69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F9FC6-A39B-4714-9E42-C3160363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E6FC7-330F-4CBC-BB86-7E4D2F50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14597-F31D-4AAA-9FD1-230EDF88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963B6-080E-49CB-90AD-9287B392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6C4E1-8EA1-4F19-85E1-1D96522C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695D-7D7F-4279-A89B-5A2C34D01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7128-2744-4D49-BBC2-FF75F00B6C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8776-F4A5-4683-BD7D-81A5DFC603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3A3A-614B-420E-B178-AFF8118023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A22C-2177-47DC-B69E-0C6C96A9EC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635B-650C-4FBF-8678-8BDDE34F02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3140-DE4A-447A-A6F8-DD835CE0A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EDD-6CD5-4434-9556-D8B644CCFE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92C2-A8FE-4CAB-A7FD-A66F7203F9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DA44-6FFD-44A1-A820-0DE3E81D34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9F67-4352-41AD-8E11-F60AE3BEA6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EDC5-4A85-443A-B5FC-5B5C97DFA9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D76C-72D3-46E4-A6CE-0C2C39F4C6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179280" y="155736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dc5900"/>
                </a:solidFill>
                <a:latin typeface="Arial"/>
                <a:ea typeface="隶书"/>
              </a:rPr>
              <a:t>各具特色的民居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矩形 5"/>
          <p:cNvSpPr/>
          <p:nvPr/>
        </p:nvSpPr>
        <p:spPr>
          <a:xfrm>
            <a:off x="2366280" y="5950080"/>
            <a:ext cx="34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坡下载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uzzf.co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879480" y="54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形围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6" name="Picture 5" descr="20080707_99712521e3dfb9bd4eb6gB9T5Id4PLVX"/>
          <p:cNvPicPr/>
          <p:nvPr/>
        </p:nvPicPr>
        <p:blipFill>
          <a:blip r:embed="rId1"/>
          <a:stretch/>
        </p:blipFill>
        <p:spPr>
          <a:xfrm>
            <a:off x="0" y="1236600"/>
            <a:ext cx="91440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4"/>
          <p:cNvSpPr/>
          <p:nvPr/>
        </p:nvSpPr>
        <p:spPr>
          <a:xfrm>
            <a:off x="1707480" y="620640"/>
            <a:ext cx="540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大多为三至六层楼，一百至二百多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房屋如橘瓣状排列，布局均匀，宏伟壮观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2044440" y="2924280"/>
            <a:ext cx="539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作者用列数字、打比方的方法，生动、形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地说明圆形围屋外观和整体布局特点。难怪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外国友人远远望见圆形围屋，禁不住发出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幼圆"/>
              </a:rPr>
              <a:t>——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天上掉下的飞碟，地下冒出的蘑菇”。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/>
          <p:cNvSpPr/>
          <p:nvPr/>
        </p:nvSpPr>
        <p:spPr>
          <a:xfrm>
            <a:off x="2038320" y="83664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土楼围成圆形的房屋均按八卦布局排列，卦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卦之间设有防火墙，整齐划一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983600" y="2708280"/>
            <a:ext cx="5392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幼圆"/>
                <a:ea typeface="幼圆"/>
              </a:rPr>
              <a:t>八卦是我国古代的一套富有象征意义的符号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幼圆"/>
                <a:ea typeface="幼圆"/>
              </a:rPr>
              <a:t>是我国传统文化的代表之一。客家民居的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幼圆"/>
                <a:ea typeface="幼圆"/>
              </a:rPr>
              <a:t>形围屋，按八卦布局排列，体现了客家人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幼圆"/>
                <a:ea typeface="幼圆"/>
              </a:rPr>
              <a:t>祖先崇尚圆形，期盼吉祥、幸福和安宁的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幼圆"/>
                <a:ea typeface="幼圆"/>
              </a:rPr>
              <a:t>族心理和文化传统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808200" y="127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2161800" y="83664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踏上傣家人居住的土地，你就走进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色的世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1751040" y="278136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傣家人居住地的的特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5014080" y="391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充满绿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200906121137187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20081222104307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4074480" y="1413000"/>
            <a:ext cx="10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竹楼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是傣族传统的建筑形式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090310172671f8c5c0f4db7b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1844280" y="765000"/>
            <a:ext cx="542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傣族人家至今依然保持着“多起竹楼，傍水而居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习惯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414160" y="2387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傍：靠近，临近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2207880" y="3471840"/>
            <a:ext cx="502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多起竹楼，傍水而居”可以理解成因为傍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而居，所以以住竹楼为主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u=96920205,4285833043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9216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4"/>
          <p:cNvSpPr/>
          <p:nvPr/>
        </p:nvSpPr>
        <p:spPr>
          <a:xfrm>
            <a:off x="1613880" y="549360"/>
            <a:ext cx="552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闽西南和粤东北的崇山峻岭中，点缀着数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计的圆形围屋或土楼，这就是被誉为“世界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奇葩”的客家民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960480" y="23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幼圆"/>
              </a:rPr>
              <a:t>葩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2072520" y="23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幼圆"/>
              </a:rPr>
              <a:t>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2012040" y="3141720"/>
            <a:ext cx="539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运用打比方的说明方法，概括地说明了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家圆形围屋在世界建筑史上的地位。与“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界民居”比较，是一朵特殊的、罕见的花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缀”一词用得很妙，说明客家居住地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人烟稀少的边远山区，为下文介绍营垒式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住宅埋下伏笔。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126040" y="242100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幼圆"/>
              </a:rPr>
              <a:t>奇葩：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  <a:ea typeface="幼圆"/>
              </a:rPr>
              <a:t>罕见的、特殊的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200903041556234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4"/>
          <p:cNvSpPr/>
          <p:nvPr/>
        </p:nvSpPr>
        <p:spPr>
          <a:xfrm>
            <a:off x="2046600" y="9079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傣家人会有这样的习惯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2130120" y="263700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因为傣家人居住区地处亚热带，气温高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雨水多，空气湿度大，竹楼有利于防酷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和湿气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1654200" y="692280"/>
            <a:ext cx="528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篱内种植着各种花木果树，可谓“树满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寨，花满园”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1913760" y="2781360"/>
            <a:ext cx="517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傣族竹楼原本就“藏在浓绿的竹林中”，傣家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还喜欢在竹楼周围，家家户户的竹篱内栽种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尾竹、槟榔、芒果、香蕉，使村寨更充满诗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画意，真正可以说是“树满寨，花满园”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20071030_145720_513"/>
          <p:cNvPicPr/>
          <p:nvPr/>
        </p:nvPicPr>
        <p:blipFill>
          <a:blip r:embed="rId1"/>
          <a:stretch/>
        </p:blipFill>
        <p:spPr>
          <a:xfrm>
            <a:off x="0" y="-1542960"/>
            <a:ext cx="9144000" cy="99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" descr="200812811215716_2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2008090514535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200922113214342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200902231333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4"/>
          <p:cNvSpPr/>
          <p:nvPr/>
        </p:nvSpPr>
        <p:spPr>
          <a:xfrm>
            <a:off x="2387880" y="11253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傣家竹楼的建筑有什么特点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4330080" y="321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结构比较简单，但十分宽敞，别致美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200909290409279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3101400" y="1125360"/>
            <a:ext cx="29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在土中掺石灰，用糯米饭、鸡蛋清作黏合剂、以竹片、木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作筋骨，夯筑起墙厚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米、高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米以上的土楼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1002600" y="476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客家民居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486440" y="1890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用材奇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4000320" y="2637000"/>
            <a:ext cx="10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它们大多为三至六层楼，一百至二百多间房如橘瓣状排列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布局均匀，宏伟壮观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342972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造型独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1863360" y="4437000"/>
            <a:ext cx="564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部分土楼有两三百年甚至五六百年的历史，经受无数次地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撼动、风雨侵蚀以及炮火攻击而安然无恙，显示了传统文化的魅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5374440" y="537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十分坚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3059280" y="40464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营垒式住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4"/>
          <p:cNvSpPr/>
          <p:nvPr/>
        </p:nvSpPr>
        <p:spPr>
          <a:xfrm>
            <a:off x="4147200" y="9079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傣族还有个风俗：一家盖房，全村帮忙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2245320" y="299736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从这句话中我们可以看出傣家人团结互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和睦相处的良好民风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1912680" y="47628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对客家民居和傣家竹楼的特点有了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的了解。那么这两篇短文在表达方法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什么相同或者不同的地方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4136760" y="2852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两篇短文都讲了民居的形成原因，但原因是不同的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1014120" y="2238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同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2604960" y="35002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两篇文章的开头也截然不同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1054080" y="40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同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5076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2158920" y="486900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两篇短文都运用了很多说明方法，比如，列数字，打比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4209480" y="5445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两篇短文也都通过民居，反映了中华传统文化的魅力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4"/>
          <p:cNvSpPr/>
          <p:nvPr/>
        </p:nvSpPr>
        <p:spPr>
          <a:xfrm>
            <a:off x="1595520" y="11970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民居欣赏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20076261131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4141440" y="33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土家族吊脚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5" descr="20090327105835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1051200" y="37152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蒙古族的蒙古包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6" descr="200812522944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590400" y="299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延安窑洞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4"/>
          <p:cNvSpPr/>
          <p:nvPr/>
        </p:nvSpPr>
        <p:spPr>
          <a:xfrm>
            <a:off x="662760" y="47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北京四合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5" name="Picture 5" descr="4011916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5" descr="200849145144530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6213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皖南民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2008491451565142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2317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4"/>
          <p:cNvSpPr/>
          <p:nvPr/>
        </p:nvSpPr>
        <p:spPr>
          <a:xfrm>
            <a:off x="58068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藏碉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5"/>
          <p:cNvSpPr/>
          <p:nvPr/>
        </p:nvSpPr>
        <p:spPr>
          <a:xfrm>
            <a:off x="154764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49" name="Picture 4" descr="0015f26306540bfd9ce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24e3232c714e4c1ea53ff3b619d70a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200699137357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20077238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room_153415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7" descr="200807071356254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0:48:18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2-02T02:18:21Z</dcterms:modified>
  <cp:revision>14</cp:revision>
  <dc:subject>第一PPT模板网-WWW.1PPT.COM</dc:subject>
  <dc:title>第一PPT模板网-WWW.1PPT.COM</dc:title>
</cp:coreProperties>
</file>