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8D94-1A23-43C3-8C13-348070364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9B15-AC74-4701-A0CA-53D45BC3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39B8AA-66EC-48D0-9297-6A83D8D2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D2BC4-AC1D-4649-95E3-D6C8D59A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1F238-2A45-433F-928D-C214CFF2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4C5B70-CFCF-4FE2-B4FC-CA886528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CAA2AC-A8F3-45DC-B483-AE49ED4D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C036E3-8FDB-4953-A6BC-F1FFD717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208E04-D219-4015-862E-5A2014F0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6795D5-FDDE-483A-A357-668CB777B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3EEA5F-53AC-4CDB-8C91-A002087BE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38F970-FA57-4E47-89B1-4F20A5DC6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A031-06AF-4A28-9E51-E0EE3D5F5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065445-770B-4AFB-B75C-86F097E1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953B98-0B37-464C-BE05-E090B2B7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2612BC-52B8-4861-A486-9149C87B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D7B77F-D84E-4101-B860-B8341CC1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D3353E-5967-4773-B7C6-816E3E02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ED76B6-5501-41D2-A841-E686C859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905234-4201-4576-A1EC-07305102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A7B90E-F097-4E50-A439-7E06A954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0CEC51-68A4-4F78-B93E-BF42049E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C1F207-D689-4226-8563-CB06CFE40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F674-7FF9-49E3-B1A0-91D472F28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9002CC-DC05-4EA7-8D4D-E640433BF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1892D1-6939-4036-97E2-185EF4CB2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F048A2-C358-4C2F-B5D3-8C495326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DC278A-4B52-411B-83A9-5A62D10D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0743B3-7593-4482-ACF5-611513F6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41B21-89C9-417E-A781-716757B4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A9479-620E-48BF-8B5B-84D9F56D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26D771-CE4C-4525-A4CE-5039E623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8C6170-7A84-47D2-8711-2E22D4CF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C963FB-3B49-4F7B-9842-1881A594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1EAAB-3374-46FE-A96C-341CB77A0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E178DB-1616-43B2-A410-0C5CB977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7754A-A1F1-43DF-A1AB-B47F95F63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5F8BC-B92D-4F95-B655-A6F36BE4F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DF7B5F-78A8-4250-A3C9-5D66BC521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BEC17E-E05A-4E67-9688-D4608533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018F98-A397-435F-89E4-9FA2DE7F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7EAE59-D013-4363-9811-777A5437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CEE078-58A2-4B73-A24E-CC3663D5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9D33B0-4B10-4465-B093-CB4B2A80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7AA1E4-75AA-4311-ABF8-E4B2F817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E1FF-50C2-4F41-82B9-29A6CB24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EB74DD-7251-4EFD-BC85-A5E3F353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737651-548F-483D-AFAE-87101086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F20477-2247-42BD-870B-B3E40DF0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0A9F77-ECC5-4497-AF26-7F71FBA16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451DF0-5341-45C2-9B21-EC3AB8C7F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94CB-45BB-4843-82C6-7DBE784C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7F85-A4DF-4417-8ECD-5936577E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636A7-0F07-4FA7-A027-AD5F7672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D7596-4C6D-40B0-A8B4-2FEFD431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B481-C3C8-414E-BB4B-17CFE862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533F-4A3A-4558-863C-619BA2B8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FABD6-2E79-4FE9-84D6-EFB8FC40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86BFB-86FD-4D0A-A31F-35524025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0C85E-C4C5-4E81-8F09-B2A4AE2D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1C71-A4B8-4FD7-8368-E4742F933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4E3D-6A99-44D4-BF19-114F1A1CF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1AC3E-AA94-4E1F-B279-383E01AFD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405BB-1D50-4B98-9AE4-11F8DB72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9CD25-79EE-4A15-8B51-879919CC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1C5D7-4DEA-4525-BB35-08143E36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74688-6923-49A4-BA5F-D1384C6B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E078-9BB0-4A02-88BE-3D40B63F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8E7E6-CC87-4526-B264-5964D75A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56D90-14DD-4B58-AD0A-9B22A99E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77249-5B60-45AC-9E9C-88ED0DD3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AE8B0-071E-4DEF-8FCD-C2E643E0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951A5-A9D2-4C32-B5D7-88C1C93C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86F5A-3220-46AB-AE4C-0A13584C4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62FBD-4ADD-4EDE-B340-6F8711F3C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16D76-DE8F-4C58-993F-C8D885F94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CCFC5-D45F-4184-B0D1-D1379490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09C7F-7455-4D75-814F-ECD6DE1B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6F7C-0F5A-49B2-A866-97443F72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AAC60-58B4-4A24-B52F-01ED4DFC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CB6DD-6A73-483E-AC94-67808A59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00FD6-6F38-4094-8BC8-3289E7C9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86CEE-10F6-45D3-84ED-EAFE1EE5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B2B25-08E2-4540-AC6D-54C8CDB6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B754D-2179-4338-8B09-4C41E654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FE121-0ED5-4C53-9847-312E7CF3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31395-385F-4044-934B-BEA5CEFFF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B6993-F957-43FE-A892-080EEA21E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AA282-B8A6-4EC7-925C-0A1198542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408E-F4E4-4750-99C8-EB8DC527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3A4AD-115B-4E99-B02C-5FF084A8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0A0F1-60D8-4BC5-AD21-4D8B59C5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738E8-F83A-4FC2-80B1-EEB04978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43FC3-C79D-4B68-83C3-E42B6936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2C1C7-CD23-4DE9-BF26-2BBF4AE6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923BD-3824-49FF-88AD-825D8082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83637-EF8B-4F15-BB2E-4011A3DC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8681F-24EA-4874-9F15-1BD5A823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5AA21-54A3-4C29-A3A3-16B758B7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0F205-2FC6-40D8-B39F-D74476322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875A-7252-40FC-9977-AA9279A5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132AE-3718-40BB-860D-6561E35C5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BF04D-4880-40A4-B7F7-67F41F101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D9413-8230-4F53-8B94-165C50A8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A781F-6C0B-42B2-BE27-8F51623F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E860F-61A1-4091-8F57-85FD2F05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FFA4E-8A2D-42E1-90FC-D4C49076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C78BC-453A-4C48-A987-1F8D0EB4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54D06-63E8-4575-8745-6F0B71E0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746D3-C201-4F43-B027-4935DCD3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A3EC4-27B7-4D66-A68E-DA1820F7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F8F2-0EE7-4166-8AED-37854C60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382E2-E056-4EA0-8492-6B24DC5B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649C3-5B5A-41CB-A3AE-2B1BB2044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BB98D-4F40-4B67-B082-E4821850D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BACCA-7926-45C3-8211-0189A4016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C9EA2-3342-4C4D-B02D-29F7FF2B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89925-460B-4A58-A3EB-2F718AED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6F5AF-B45B-4F42-A7F0-B61AFF24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6E4CB-2CC2-42D7-9096-94EA86F5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AB8D6-3087-44CF-ADDC-902E36F7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B8937-71CA-45D9-8FDC-62DDD3F4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5722-A684-4AC5-BFAC-3248D905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E3FC2-6793-4E40-8EAA-663546A1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273AF-0A44-4049-8BA1-CFA43EE8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07766-EF30-4427-90F5-5E8F8271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F27E0-AA72-4F27-91DF-B1E176F92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CD88E-5D8F-4ACE-8953-B3E40599B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450F2-039C-4C8B-82D3-0C52941DB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FDC56-C95E-46F6-A315-EBE8D545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C8E41-ECFE-443C-B9C1-682B245E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0B9C4-694C-4860-BB79-53764AA5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6F84F-3F66-433C-A745-DEED110C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65B1-295F-4952-8874-4CC9CBA1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0972D-9450-4FA7-93EE-D97D854E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4D674-60D9-4A30-BB0F-686438E5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B1B23-5D93-4FAC-ADB0-1E685F9A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F2D23-7DF9-46F9-B834-F70CDF32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0D5E5-4F81-4D95-B397-57501D74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9E685-8022-4311-B37F-1A6AB8633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37BE4-0072-499E-9DB2-E2DF7E3C8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A58B71-E772-4974-8550-4540C875B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12FA41-5280-449B-96D1-84EF4182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2BFBDC-BAAB-4B4F-BF98-F5104A60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E708-1E0E-48E3-87AF-F4FDFF673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2288-4D26-46AB-8AA1-1D4FA646405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854E-D547-4004-BF59-4E8E6B1EE53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D970-DABB-448B-B9DE-9DF36E2C730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495D-FE1D-4383-95DD-6324F782839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3717-7BDF-4ED9-BD5C-963AF831C01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3840-50B2-48BB-A121-5E3F6C2C80B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13E5-CEE1-4A5A-B064-502EE72947B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EBD2-6A3E-41B8-8778-3E364CA5592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B02F-EEC0-4E37-8362-EB333BA2483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0186-ED00-4FD7-B912-F995C84480C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46E0-3BE1-41A6-A3A2-30394A09F72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15.xml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laser.wav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6" descr="20080216112319s6"/>
          <p:cNvPicPr/>
          <p:nvPr/>
        </p:nvPicPr>
        <p:blipFill>
          <a:blip r:embed="rId2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9"/>
          <p:cNvSpPr/>
          <p:nvPr/>
        </p:nvSpPr>
        <p:spPr>
          <a:xfrm>
            <a:off x="4353840" y="260280"/>
            <a:ext cx="3685320" cy="60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ffff66"/>
                </a:solidFill>
                <a:latin typeface="Arial"/>
                <a:ea typeface="黑体"/>
              </a:rPr>
              <a:t>顶碗少年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矩形 7"/>
          <p:cNvSpPr/>
          <p:nvPr/>
        </p:nvSpPr>
        <p:spPr>
          <a:xfrm>
            <a:off x="369360" y="6300720"/>
            <a:ext cx="342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东坡下载：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uzzf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>
            <a:hlinkClick r:id="rId1" action="ppaction://hlinksldjump"/>
          </p:cNvPr>
          <p:cNvSpPr/>
          <p:nvPr/>
        </p:nvSpPr>
        <p:spPr>
          <a:xfrm>
            <a:off x="1132560" y="70956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</a:rPr>
              <a:t>幽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3">
            <a:hlinkClick r:id="rId2" action="ppaction://hlinksldjump"/>
          </p:cNvPr>
          <p:cNvSpPr/>
          <p:nvPr/>
        </p:nvSpPr>
        <p:spPr>
          <a:xfrm>
            <a:off x="684360" y="184464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</a:rPr>
              <a:t>惊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4">
            <a:hlinkClick r:id="rId3" action="ppaction://hlinksldjump"/>
          </p:cNvPr>
          <p:cNvSpPr/>
          <p:nvPr/>
        </p:nvSpPr>
        <p:spPr>
          <a:xfrm>
            <a:off x="3811680" y="533520"/>
            <a:ext cx="533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</a:rPr>
              <a:t>不知所措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5">
            <a:hlinkClick r:id="rId4" action="ppaction://hlinksldjump"/>
          </p:cNvPr>
          <p:cNvSpPr/>
          <p:nvPr/>
        </p:nvSpPr>
        <p:spPr>
          <a:xfrm>
            <a:off x="3884760" y="1844640"/>
            <a:ext cx="522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</a:rPr>
              <a:t>座无虚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6">
            <a:hlinkClick r:id="rId5" action="ppaction://hlinksldjump"/>
          </p:cNvPr>
          <p:cNvSpPr/>
          <p:nvPr/>
        </p:nvSpPr>
        <p:spPr>
          <a:xfrm>
            <a:off x="682560" y="342900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</a:rPr>
              <a:t>附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7">
            <a:hlinkClick r:id="rId6" action="ppaction://hlinksldjump"/>
          </p:cNvPr>
          <p:cNvSpPr/>
          <p:nvPr/>
        </p:nvSpPr>
        <p:spPr>
          <a:xfrm>
            <a:off x="3635280" y="3429000"/>
            <a:ext cx="53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</a:rPr>
              <a:t>不失风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8">
            <a:hlinkClick r:id="rId7" action="ppaction://hlinksldjump"/>
          </p:cNvPr>
          <p:cNvSpPr/>
          <p:nvPr/>
        </p:nvSpPr>
        <p:spPr>
          <a:xfrm>
            <a:off x="755640" y="458136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</a:rPr>
              <a:t>陶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9"/>
          <p:cNvSpPr/>
          <p:nvPr/>
        </p:nvSpPr>
        <p:spPr>
          <a:xfrm>
            <a:off x="3851280" y="458136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</a:rPr>
              <a:t>惊心动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2">
            <a:hlinkClick r:id="rId1"/>
          </p:cNvPr>
          <p:cNvSpPr/>
          <p:nvPr/>
        </p:nvSpPr>
        <p:spPr>
          <a:xfrm>
            <a:off x="470160" y="43560"/>
            <a:ext cx="1750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幽雅：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470160" y="980280"/>
            <a:ext cx="1750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惊羡 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4"/>
          <p:cNvSpPr/>
          <p:nvPr/>
        </p:nvSpPr>
        <p:spPr>
          <a:xfrm>
            <a:off x="2195640" y="-25560"/>
            <a:ext cx="32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yōu  y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5"/>
          <p:cNvSpPr/>
          <p:nvPr/>
        </p:nvSpPr>
        <p:spPr>
          <a:xfrm>
            <a:off x="6870600" y="46080"/>
            <a:ext cx="55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优美高雅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6"/>
          <p:cNvSpPr/>
          <p:nvPr/>
        </p:nvSpPr>
        <p:spPr>
          <a:xfrm>
            <a:off x="2050920" y="981000"/>
            <a:ext cx="388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jīnɡ  xià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7"/>
          <p:cNvSpPr/>
          <p:nvPr/>
        </p:nvSpPr>
        <p:spPr>
          <a:xfrm>
            <a:off x="5580000" y="982800"/>
            <a:ext cx="439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十分羡慕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8"/>
          <p:cNvSpPr/>
          <p:nvPr/>
        </p:nvSpPr>
        <p:spPr>
          <a:xfrm>
            <a:off x="81723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9"/>
          <p:cNvSpPr/>
          <p:nvPr/>
        </p:nvSpPr>
        <p:spPr>
          <a:xfrm>
            <a:off x="0" y="1844640"/>
            <a:ext cx="29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附和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0"/>
          <p:cNvSpPr/>
          <p:nvPr/>
        </p:nvSpPr>
        <p:spPr>
          <a:xfrm>
            <a:off x="2050920" y="1917720"/>
            <a:ext cx="29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fù h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1"/>
          <p:cNvSpPr/>
          <p:nvPr/>
        </p:nvSpPr>
        <p:spPr>
          <a:xfrm>
            <a:off x="4067280" y="1917720"/>
            <a:ext cx="50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形容言语、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2"/>
          <p:cNvSpPr/>
          <p:nvPr/>
        </p:nvSpPr>
        <p:spPr>
          <a:xfrm>
            <a:off x="1849320" y="3789360"/>
            <a:ext cx="566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在少年第二次表演失败时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3"/>
          <p:cNvSpPr/>
          <p:nvPr/>
        </p:nvSpPr>
        <p:spPr>
          <a:xfrm>
            <a:off x="2111040" y="2852640"/>
            <a:ext cx="55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作追随别人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4"/>
          <p:cNvSpPr/>
          <p:nvPr/>
        </p:nvSpPr>
        <p:spPr>
          <a:xfrm>
            <a:off x="5281560" y="285264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文中用来形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15"/>
          <p:cNvSpPr/>
          <p:nvPr/>
        </p:nvSpPr>
        <p:spPr>
          <a:xfrm>
            <a:off x="0" y="47242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一些观众跟着别人起哄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6"/>
          <p:cNvSpPr/>
          <p:nvPr/>
        </p:nvSpPr>
        <p:spPr>
          <a:xfrm>
            <a:off x="963360" y="5662440"/>
            <a:ext cx="55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表现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2"/>
          <p:cNvSpPr/>
          <p:nvPr/>
        </p:nvSpPr>
        <p:spPr>
          <a:xfrm>
            <a:off x="810720" y="980280"/>
            <a:ext cx="365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不 知  所  措：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42120" y="189000"/>
            <a:ext cx="444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ù zhī suǒ cu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6811560" y="105264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措：安置，处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5"/>
          <p:cNvSpPr/>
          <p:nvPr/>
        </p:nvSpPr>
        <p:spPr>
          <a:xfrm>
            <a:off x="-15840" y="1844640"/>
            <a:ext cx="9159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不知道怎么办才好。形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处境为难或心神慌乱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6"/>
          <p:cNvSpPr/>
          <p:nvPr/>
        </p:nvSpPr>
        <p:spPr>
          <a:xfrm>
            <a:off x="7667640" y="5805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7"/>
          <p:cNvSpPr/>
          <p:nvPr/>
        </p:nvSpPr>
        <p:spPr>
          <a:xfrm>
            <a:off x="0" y="4003560"/>
            <a:ext cx="53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不失风度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8"/>
          <p:cNvSpPr/>
          <p:nvPr/>
        </p:nvSpPr>
        <p:spPr>
          <a:xfrm>
            <a:off x="4032360" y="4003560"/>
            <a:ext cx="55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不丧失美好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9"/>
          <p:cNvSpPr/>
          <p:nvPr/>
        </p:nvSpPr>
        <p:spPr>
          <a:xfrm>
            <a:off x="0" y="5014800"/>
            <a:ext cx="579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举止姿态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2"/>
          <p:cNvSpPr/>
          <p:nvPr/>
        </p:nvSpPr>
        <p:spPr>
          <a:xfrm>
            <a:off x="295200" y="1956600"/>
            <a:ext cx="485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座 无 虚 席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3"/>
          <p:cNvSpPr/>
          <p:nvPr/>
        </p:nvSpPr>
        <p:spPr>
          <a:xfrm>
            <a:off x="347760" y="1212840"/>
            <a:ext cx="379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uò wú  xū   xí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4"/>
          <p:cNvSpPr/>
          <p:nvPr/>
        </p:nvSpPr>
        <p:spPr>
          <a:xfrm>
            <a:off x="5186520" y="191628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座位没有空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5"/>
          <p:cNvSpPr/>
          <p:nvPr/>
        </p:nvSpPr>
        <p:spPr>
          <a:xfrm>
            <a:off x="608040" y="29988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的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6"/>
          <p:cNvSpPr/>
          <p:nvPr/>
        </p:nvSpPr>
        <p:spPr>
          <a:xfrm>
            <a:off x="3151080" y="292572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形容观众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﹑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听众或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7"/>
          <p:cNvSpPr/>
          <p:nvPr/>
        </p:nvSpPr>
        <p:spPr>
          <a:xfrm>
            <a:off x="1236600" y="400680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席的人很多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8"/>
          <p:cNvSpPr/>
          <p:nvPr/>
        </p:nvSpPr>
        <p:spPr>
          <a:xfrm>
            <a:off x="8028000" y="6237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2"/>
          <p:cNvSpPr/>
          <p:nvPr/>
        </p:nvSpPr>
        <p:spPr>
          <a:xfrm>
            <a:off x="252360" y="650880"/>
            <a:ext cx="446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惊心动魄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3020760" y="1701720"/>
            <a:ext cx="55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很深，震动很大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4"/>
          <p:cNvSpPr/>
          <p:nvPr/>
        </p:nvSpPr>
        <p:spPr>
          <a:xfrm>
            <a:off x="6273720" y="625320"/>
            <a:ext cx="55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形容使人感受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5"/>
          <p:cNvSpPr/>
          <p:nvPr/>
        </p:nvSpPr>
        <p:spPr>
          <a:xfrm>
            <a:off x="1841760" y="2711520"/>
            <a:ext cx="520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顶碗少年的表演使作者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6"/>
          <p:cNvSpPr/>
          <p:nvPr/>
        </p:nvSpPr>
        <p:spPr>
          <a:xfrm>
            <a:off x="1947960" y="3719520"/>
            <a:ext cx="520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到很大震动，留下深刻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7"/>
          <p:cNvSpPr/>
          <p:nvPr/>
        </p:nvSpPr>
        <p:spPr>
          <a:xfrm>
            <a:off x="252360" y="4727520"/>
            <a:ext cx="19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受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8"/>
          <p:cNvSpPr/>
          <p:nvPr/>
        </p:nvSpPr>
        <p:spPr>
          <a:xfrm>
            <a:off x="6548400" y="170352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文中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9"/>
          <p:cNvSpPr/>
          <p:nvPr/>
        </p:nvSpPr>
        <p:spPr>
          <a:xfrm>
            <a:off x="838836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0" y="476280"/>
            <a:ext cx="478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Arial"/>
              </a:rPr>
              <a:t>陶醉：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"/>
          <p:cNvSpPr/>
          <p:nvPr/>
        </p:nvSpPr>
        <p:spPr>
          <a:xfrm>
            <a:off x="3348000" y="693720"/>
            <a:ext cx="579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形容很很意沉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-73080" y="1989000"/>
            <a:ext cx="997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在某种境界或思想活动中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-108000" y="3284640"/>
            <a:ext cx="957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文中形容观众沉浸在优美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-108000" y="4581360"/>
            <a:ext cx="81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杂技表演之中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7"/>
          <p:cNvSpPr/>
          <p:nvPr/>
        </p:nvSpPr>
        <p:spPr>
          <a:xfrm>
            <a:off x="8244000" y="6308640"/>
            <a:ext cx="288720" cy="2890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00" y="20227"/>
                </a:lnTo>
                <a:lnTo>
                  <a:pt x="20200" y="140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400" y="20227"/>
                </a:lnTo>
                <a:lnTo>
                  <a:pt x="20200" y="2022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7"/>
                </a:lnTo>
                <a:close/>
              </a:path>
              <a:path fill="darken" w="21600" h="21627">
                <a:moveTo>
                  <a:pt x="3794" y="10813"/>
                </a:moveTo>
                <a:lnTo>
                  <a:pt x="17806" y="3807"/>
                </a:lnTo>
                <a:lnTo>
                  <a:pt x="17806" y="1782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324000" y="765000"/>
            <a:ext cx="82087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yōu  yǎ    cí wǎn    jīng xiàn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qiàn  jiù          fēng  d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3"/>
          <p:cNvSpPr/>
          <p:nvPr/>
        </p:nvSpPr>
        <p:spPr>
          <a:xfrm>
            <a:off x="1572120" y="3356640"/>
            <a:ext cx="6186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yīng jùn      dǎo luàn      jiān  jiǎ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yáo hàn       tuí sàng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395280" y="119700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      ）  （            ）（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1258920" y="2708280"/>
            <a:ext cx="69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         ）              （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539640" y="393372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      ）    （              ）    （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7"/>
          <p:cNvSpPr/>
          <p:nvPr/>
        </p:nvSpPr>
        <p:spPr>
          <a:xfrm>
            <a:off x="3203640" y="551664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      ）      （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8"/>
          <p:cNvSpPr/>
          <p:nvPr/>
        </p:nvSpPr>
        <p:spPr>
          <a:xfrm>
            <a:off x="1332000" y="1220760"/>
            <a:ext cx="14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优   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9"/>
          <p:cNvSpPr/>
          <p:nvPr/>
        </p:nvSpPr>
        <p:spPr>
          <a:xfrm>
            <a:off x="3492360" y="119700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瓷  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0"/>
          <p:cNvSpPr/>
          <p:nvPr/>
        </p:nvSpPr>
        <p:spPr>
          <a:xfrm>
            <a:off x="5651640" y="1197000"/>
            <a:ext cx="180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惊     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1"/>
          <p:cNvSpPr/>
          <p:nvPr/>
        </p:nvSpPr>
        <p:spPr>
          <a:xfrm>
            <a:off x="1908000" y="270828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歉     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2"/>
          <p:cNvSpPr/>
          <p:nvPr/>
        </p:nvSpPr>
        <p:spPr>
          <a:xfrm>
            <a:off x="5724360" y="270828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风    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3"/>
          <p:cNvSpPr/>
          <p:nvPr/>
        </p:nvSpPr>
        <p:spPr>
          <a:xfrm>
            <a:off x="826920" y="393372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英    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4"/>
          <p:cNvSpPr/>
          <p:nvPr/>
        </p:nvSpPr>
        <p:spPr>
          <a:xfrm>
            <a:off x="3276720" y="393372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捣     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5"/>
          <p:cNvSpPr/>
          <p:nvPr/>
        </p:nvSpPr>
        <p:spPr>
          <a:xfrm>
            <a:off x="6659640" y="393372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肩    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6"/>
          <p:cNvSpPr/>
          <p:nvPr/>
        </p:nvSpPr>
        <p:spPr>
          <a:xfrm>
            <a:off x="3851280" y="551664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摇  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7"/>
          <p:cNvSpPr/>
          <p:nvPr/>
        </p:nvSpPr>
        <p:spPr>
          <a:xfrm>
            <a:off x="6588000" y="5516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颓    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20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 Box 2"/>
          <p:cNvSpPr/>
          <p:nvPr/>
        </p:nvSpPr>
        <p:spPr>
          <a:xfrm>
            <a:off x="684360" y="1557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迷   惘          渺   茫        拼  搏       惊  心  动   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3"/>
          <p:cNvSpPr/>
          <p:nvPr/>
        </p:nvSpPr>
        <p:spPr>
          <a:xfrm>
            <a:off x="468360" y="839880"/>
            <a:ext cx="91440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í wǎng  miǎo máng    pīn bó   jīng xīn dòng p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 )    (               ) (             ) (            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4"/>
          <p:cNvSpPr/>
          <p:nvPr/>
        </p:nvSpPr>
        <p:spPr>
          <a:xfrm>
            <a:off x="395280" y="2997360"/>
            <a:ext cx="8424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uò wú xū  xí       bù  zhī suǒ  cuò         qǐ 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         )      (                         )       (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5"/>
          <p:cNvSpPr/>
          <p:nvPr/>
        </p:nvSpPr>
        <p:spPr>
          <a:xfrm>
            <a:off x="539640" y="364500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座  无 虚 席         不  知   所   措            启 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2" descr="Z8ZDUEVC77_205_500_3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9" name="Rectangle 3"/>
          <p:cNvSpPr/>
          <p:nvPr/>
        </p:nvSpPr>
        <p:spPr>
          <a:xfrm>
            <a:off x="0" y="2911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文章描写了一场扣人心弦的杂技表演。演杂技的顶碗少年第一次表演失败了，但他不失风度地向观众鞠了一躬，一切重新开始；第二次，碗又掉下来了，少年又镇定下来，手捧着新碗，又深深向观众鞠了一躬；第三次，终于把碗稳住了，全场响起了暴风雨般的掌声。多少年后，作者每每想起，总会产生一阵微微的激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2987640" y="333360"/>
            <a:ext cx="29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33"/>
                </a:solidFill>
                <a:latin typeface="Arial"/>
              </a:rPr>
              <a:t>文章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WordArt 2"/>
          <p:cNvSpPr txBox="1"/>
          <p:nvPr/>
        </p:nvSpPr>
        <p:spPr>
          <a:xfrm>
            <a:off x="684360" y="404640"/>
            <a:ext cx="2808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关于作者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pic>
        <p:nvPicPr>
          <p:cNvPr id="602" name="Picture 3" descr="u=3058281357,3052948441&amp;fm=0&amp;gp=42"/>
          <p:cNvPicPr/>
          <p:nvPr/>
        </p:nvPicPr>
        <p:blipFill>
          <a:blip r:embed="rId1"/>
          <a:stretch/>
        </p:blipFill>
        <p:spPr>
          <a:xfrm>
            <a:off x="5003640" y="189000"/>
            <a:ext cx="3972240" cy="580536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4"/>
          <p:cNvSpPr/>
          <p:nvPr/>
        </p:nvSpPr>
        <p:spPr>
          <a:xfrm>
            <a:off x="539640" y="1844640"/>
            <a:ext cx="6913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赵丽宏散文家、诗人。上海市崇明县人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5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出生于上海市。著有散文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命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爱在人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玛雅之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、报告文学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新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六十余种著作。作品曾数十次在海内外获奖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晷之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获首届“冰心散文奖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的散文叙写清新明丽，重视创造诗的意境和情调，是一位有创造个性的散文作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矩形 6"/>
          <p:cNvSpPr/>
          <p:nvPr/>
        </p:nvSpPr>
        <p:spPr>
          <a:xfrm>
            <a:off x="826920" y="1628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5" descr="W020070704551743759070"/>
          <p:cNvPicPr/>
          <p:nvPr/>
        </p:nvPicPr>
        <p:blipFill>
          <a:blip r:embed="rId1"/>
          <a:stretch/>
        </p:blipFill>
        <p:spPr>
          <a:xfrm>
            <a:off x="0" y="0"/>
            <a:ext cx="5580000" cy="6858000"/>
          </a:xfrm>
          <a:prstGeom prst="rect">
            <a:avLst/>
          </a:prstGeom>
          <a:ln w="0">
            <a:noFill/>
          </a:ln>
        </p:spPr>
      </p:pic>
      <p:sp>
        <p:nvSpPr>
          <p:cNvPr id="497" name="Rectangle 8"/>
          <p:cNvSpPr/>
          <p:nvPr/>
        </p:nvSpPr>
        <p:spPr>
          <a:xfrm>
            <a:off x="6084720" y="2583000"/>
            <a:ext cx="237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仿宋_GB2312"/>
                <a:ea typeface="仿宋_GB2312"/>
              </a:rPr>
              <a:t>       </a:t>
            </a:r>
            <a:r>
              <a:rPr b="1" lang="zh-CN" sz="2000" spc="-1" strike="noStrike">
                <a:solidFill>
                  <a:srgbClr val="ffff66"/>
                </a:solidFill>
                <a:latin typeface="仿宋_GB2312"/>
                <a:ea typeface="仿宋_GB2312"/>
              </a:rPr>
              <a:t>有些偶然遇到的小事情，竟会难以忘怀，并且时时萦绕于心。因为，你也许能从中不断地得到启示，悟出一些人生的哲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zh-CN" sz="2000" spc="-1" strike="noStrike">
                <a:solidFill>
                  <a:srgbClr val="ffff66"/>
                </a:solidFill>
                <a:latin typeface="仿宋_GB2312"/>
                <a:ea typeface="仿宋_GB2312"/>
              </a:rPr>
              <a:t>    </a:t>
            </a:r>
            <a:r>
              <a:rPr b="1" lang="zh-CN" sz="2000" spc="-1" strike="noStrike">
                <a:solidFill>
                  <a:srgbClr val="ffff66"/>
                </a:solidFill>
                <a:latin typeface="仿宋_GB2312"/>
                <a:ea typeface="仿宋_GB2312"/>
              </a:rPr>
              <a:t>这是二十多年前的事情了。有一次，我在上海大世界的露天剧场里看杂技表演</a:t>
            </a:r>
            <a:r>
              <a:rPr b="1" lang="en-US" sz="2000" spc="-1" strike="noStrike">
                <a:solidFill>
                  <a:srgbClr val="ffff66"/>
                </a:solidFill>
                <a:latin typeface="仿宋_GB2312"/>
                <a:ea typeface="仿宋_GB2312"/>
              </a:rPr>
              <a:t>.</a:t>
            </a:r>
            <a:r>
              <a:rPr b="0" lang="en-US" sz="2000" spc="-1" strike="noStrike">
                <a:solidFill>
                  <a:srgbClr val="ffff66"/>
                </a:solidFill>
                <a:latin typeface="仿宋_GB2312"/>
                <a:ea typeface="仿宋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2"/>
          <p:cNvSpPr/>
          <p:nvPr/>
        </p:nvSpPr>
        <p:spPr>
          <a:xfrm>
            <a:off x="380880" y="990720"/>
            <a:ext cx="807732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读课文</a:t>
            </a: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, 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找一找那一句话是作者对这一次表演的总体评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3"/>
          <p:cNvSpPr/>
          <p:nvPr/>
        </p:nvSpPr>
        <p:spPr>
          <a:xfrm>
            <a:off x="4199040" y="3505320"/>
            <a:ext cx="120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333399"/>
                </a:solidFill>
                <a:uFillTx/>
                <a:latin typeface="隶书"/>
                <a:ea typeface="隶书"/>
              </a:rPr>
              <a:t>这真是场一惊心动魄的拼搏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隶书"/>
                <a:ea typeface="隶书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2"/>
          <p:cNvSpPr/>
          <p:nvPr/>
        </p:nvSpPr>
        <p:spPr>
          <a:xfrm>
            <a:off x="2720880" y="2209680"/>
            <a:ext cx="355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隶书"/>
                <a:ea typeface="隶书"/>
              </a:rPr>
              <a:t>这真是一场</a:t>
            </a:r>
            <a:r>
              <a:rPr b="0" lang="zh-CN" sz="4400" spc="-1" strike="noStrike" u="sng">
                <a:solidFill>
                  <a:srgbClr val="990000"/>
                </a:solidFill>
                <a:uFillTx/>
                <a:latin typeface="隶书"/>
                <a:ea typeface="隶书"/>
              </a:rPr>
              <a:t>惊心动魄</a:t>
            </a:r>
            <a:r>
              <a:rPr b="0" lang="zh-CN" sz="4400" spc="-1" strike="noStrike">
                <a:solidFill>
                  <a:srgbClr val="333399"/>
                </a:solidFill>
                <a:latin typeface="隶书"/>
                <a:ea typeface="隶书"/>
              </a:rPr>
              <a:t>的</a:t>
            </a:r>
            <a:r>
              <a:rPr b="0" lang="zh-CN" sz="4400" spc="-1" strike="noStrike" u="sng">
                <a:solidFill>
                  <a:srgbClr val="990000"/>
                </a:solidFill>
                <a:uFillTx/>
                <a:latin typeface="隶书"/>
                <a:ea typeface="隶书"/>
              </a:rPr>
              <a:t>拼搏</a:t>
            </a:r>
            <a:r>
              <a:rPr b="0" lang="en-US" sz="4400" spc="-1" strike="noStrike">
                <a:solidFill>
                  <a:srgbClr val="333399"/>
                </a:solidFill>
                <a:latin typeface="隶书"/>
                <a:ea typeface="隶书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3"/>
          <p:cNvSpPr/>
          <p:nvPr/>
        </p:nvSpPr>
        <p:spPr>
          <a:xfrm>
            <a:off x="685800" y="3733920"/>
            <a:ext cx="3124080" cy="1523880"/>
          </a:xfrm>
          <a:prstGeom prst="cloudCallout">
            <a:avLst>
              <a:gd name="adj1" fmla="val 73120"/>
              <a:gd name="adj2" fmla="val -98856"/>
            </a:avLst>
          </a:prstGeom>
          <a:solidFill>
            <a:srgbClr val="bbe0e3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形容使人感受很深，震动很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4"/>
          <p:cNvSpPr/>
          <p:nvPr/>
        </p:nvSpPr>
        <p:spPr>
          <a:xfrm>
            <a:off x="2590920" y="457200"/>
            <a:ext cx="2590560" cy="1447920"/>
          </a:xfrm>
          <a:prstGeom prst="cloudCallout">
            <a:avLst>
              <a:gd name="adj1" fmla="val 125430"/>
              <a:gd name="adj2" fmla="val 87828"/>
            </a:avLst>
          </a:prstGeom>
          <a:solidFill>
            <a:srgbClr val="bbe0e3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使出全部力量搏斗或争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2"/>
          <p:cNvSpPr/>
          <p:nvPr/>
        </p:nvSpPr>
        <p:spPr>
          <a:xfrm>
            <a:off x="2644560" y="1600200"/>
            <a:ext cx="355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隶书"/>
                <a:ea typeface="隶书"/>
              </a:rPr>
              <a:t>这真是一场</a:t>
            </a:r>
            <a:r>
              <a:rPr b="0" lang="zh-CN" sz="4400" spc="-1" strike="noStrike" u="sng">
                <a:solidFill>
                  <a:srgbClr val="990000"/>
                </a:solidFill>
                <a:uFillTx/>
                <a:latin typeface="隶书"/>
                <a:ea typeface="隶书"/>
              </a:rPr>
              <a:t>惊心动魄的拼搏</a:t>
            </a:r>
            <a:r>
              <a:rPr b="0" lang="en-US" sz="4400" spc="-1" strike="noStrike">
                <a:solidFill>
                  <a:srgbClr val="333399"/>
                </a:solidFill>
                <a:latin typeface="隶书"/>
                <a:ea typeface="隶书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3"/>
          <p:cNvSpPr/>
          <p:nvPr/>
        </p:nvSpPr>
        <p:spPr>
          <a:xfrm>
            <a:off x="838080" y="320040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隶书"/>
              </a:rPr>
              <a:t>在少年的三次表演中，找出能体现“惊心动魄的拼搏”的词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 Box 2"/>
          <p:cNvSpPr/>
          <p:nvPr/>
        </p:nvSpPr>
        <p:spPr>
          <a:xfrm>
            <a:off x="1423800" y="7632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  <a:ea typeface="隶书"/>
              </a:rPr>
              <a:t>第一次表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3"/>
          <p:cNvSpPr/>
          <p:nvPr/>
        </p:nvSpPr>
        <p:spPr>
          <a:xfrm>
            <a:off x="1757880" y="91440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Arial"/>
                <a:ea typeface="华文中宋"/>
              </a:rPr>
              <a:t>描写顶碗过程的词句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4"/>
          <p:cNvSpPr/>
          <p:nvPr/>
        </p:nvSpPr>
        <p:spPr>
          <a:xfrm>
            <a:off x="2043720" y="335268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Arial"/>
                <a:ea typeface="华文中宋"/>
              </a:rPr>
              <a:t>描写少年神态动作的词句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5"/>
          <p:cNvSpPr/>
          <p:nvPr/>
        </p:nvSpPr>
        <p:spPr>
          <a:xfrm>
            <a:off x="1529280" y="533412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Arial"/>
                <a:ea typeface="华文中宋"/>
              </a:rPr>
              <a:t>描写观众的词句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6"/>
          <p:cNvSpPr/>
          <p:nvPr/>
        </p:nvSpPr>
        <p:spPr>
          <a:xfrm>
            <a:off x="289080" y="1389240"/>
            <a:ext cx="8016840" cy="64260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00"/>
                </a:solidFill>
                <a:uFillTx/>
                <a:latin typeface="楷体_GB2312"/>
                <a:ea typeface="楷体_GB2312"/>
              </a:rPr>
              <a:t>站在别人晃动着的身体上，很难再保持平衡，他头顶上的碗，摇晃得厉害起来。在一个大幅度转身的刹那间，那一大摞碗突然从头上掉了下来！</a:t>
            </a:r>
            <a:r>
              <a:rPr b="1" lang="zh-CN" sz="2400" spc="-1" strike="noStrike" u="sng">
                <a:solidFill>
                  <a:srgbClr val="99cc00"/>
                </a:solidFill>
                <a:uFillTx/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7"/>
          <p:cNvSpPr/>
          <p:nvPr/>
        </p:nvSpPr>
        <p:spPr>
          <a:xfrm>
            <a:off x="304920" y="3841920"/>
            <a:ext cx="8001000" cy="64260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00"/>
                </a:solidFill>
                <a:uFillTx/>
                <a:latin typeface="Arial"/>
                <a:ea typeface="楷体_GB2312"/>
              </a:rPr>
              <a:t>台上却没有慌乱。顶碗少年歉疚地微笑着，不失风度地向观众鞠了一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8"/>
          <p:cNvSpPr/>
          <p:nvPr/>
        </p:nvSpPr>
        <p:spPr>
          <a:xfrm>
            <a:off x="3223080" y="6095880"/>
            <a:ext cx="330120" cy="45972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00"/>
                </a:solidFill>
                <a:uFillTx/>
                <a:latin typeface="Arial"/>
                <a:ea typeface="楷体_GB2312"/>
              </a:rPr>
              <a:t>这意想不到的失误使所有的观众都惊呆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10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2" dur="10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2"/>
          <p:cNvSpPr/>
          <p:nvPr/>
        </p:nvSpPr>
        <p:spPr>
          <a:xfrm>
            <a:off x="457200" y="20034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隶书"/>
              </a:rPr>
              <a:t>第一次表演的失败了。如果你是那会少年，你是怎样的心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 Box 2"/>
          <p:cNvSpPr/>
          <p:nvPr/>
        </p:nvSpPr>
        <p:spPr>
          <a:xfrm>
            <a:off x="865080" y="7632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  <a:ea typeface="隶书"/>
              </a:rPr>
              <a:t>第二次表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3"/>
          <p:cNvSpPr/>
          <p:nvPr/>
        </p:nvSpPr>
        <p:spPr>
          <a:xfrm>
            <a:off x="1757880" y="91440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Arial"/>
                <a:ea typeface="华文中宋"/>
              </a:rPr>
              <a:t>描写顶碗过程的词句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4"/>
          <p:cNvSpPr/>
          <p:nvPr/>
        </p:nvSpPr>
        <p:spPr>
          <a:xfrm>
            <a:off x="2062800" y="289548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Arial"/>
                <a:ea typeface="华文中宋"/>
              </a:rPr>
              <a:t>描写少年神态动作的词句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5"/>
          <p:cNvSpPr/>
          <p:nvPr/>
        </p:nvSpPr>
        <p:spPr>
          <a:xfrm>
            <a:off x="1510200" y="487692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Arial"/>
                <a:ea typeface="华文中宋"/>
              </a:rPr>
              <a:t>描写观众的词句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6"/>
          <p:cNvSpPr/>
          <p:nvPr/>
        </p:nvSpPr>
        <p:spPr>
          <a:xfrm>
            <a:off x="289080" y="1389240"/>
            <a:ext cx="8016840" cy="64260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00"/>
                </a:solidFill>
                <a:uFillTx/>
                <a:latin typeface="Arial"/>
                <a:ea typeface="楷体_GB2312"/>
              </a:rPr>
              <a:t>那一摞碗却仿佛故意捣乱，突然跳起摇摆舞来。少年急忙摆动脑袋保持平衡，可是来不及了。碗，又掉了下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7"/>
          <p:cNvSpPr/>
          <p:nvPr/>
        </p:nvSpPr>
        <p:spPr>
          <a:xfrm>
            <a:off x="304920" y="3429000"/>
            <a:ext cx="7924680" cy="64260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00"/>
                </a:solidFill>
                <a:uFillTx/>
                <a:latin typeface="Arial"/>
                <a:ea typeface="楷体_GB2312"/>
              </a:rPr>
              <a:t>台上，顶碗少年呆呆地站着，脸上全是汗珠，他有些不知所措了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8"/>
          <p:cNvSpPr/>
          <p:nvPr/>
        </p:nvSpPr>
        <p:spPr>
          <a:xfrm>
            <a:off x="380880" y="5410080"/>
            <a:ext cx="7925040" cy="82548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00"/>
                </a:solidFill>
                <a:uFillTx/>
                <a:latin typeface="Arial"/>
                <a:ea typeface="楷体_GB2312"/>
              </a:rPr>
              <a:t>观众们屏住气，目不转睛地盯着他头上的碗</a:t>
            </a: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  <a:ea typeface="楷体_GB2312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00"/>
                </a:solidFill>
                <a:uFillTx/>
                <a:latin typeface="Arial"/>
                <a:ea typeface="楷体_GB2312"/>
              </a:rPr>
              <a:t>观众中有人在大声地喊：“行了，不要再来了，演下一个节目吧！”好多人附和着喊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10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0" dur="10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2"/>
          <p:cNvSpPr/>
          <p:nvPr/>
        </p:nvSpPr>
        <p:spPr>
          <a:xfrm>
            <a:off x="457200" y="20034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隶书"/>
              </a:rPr>
              <a:t>第二次表演又失败了。有些观众失望了甚至轰少年下场。假如你是那位少年，你是怎样的心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 Box 2"/>
          <p:cNvSpPr/>
          <p:nvPr/>
        </p:nvSpPr>
        <p:spPr>
          <a:xfrm>
            <a:off x="865080" y="7632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  <a:ea typeface="隶书"/>
              </a:rPr>
              <a:t>第三次表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3"/>
          <p:cNvSpPr/>
          <p:nvPr/>
        </p:nvSpPr>
        <p:spPr>
          <a:xfrm>
            <a:off x="1757880" y="106668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Arial"/>
                <a:ea typeface="华文中宋"/>
              </a:rPr>
              <a:t>描写顶碗过程的词句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4"/>
          <p:cNvSpPr/>
          <p:nvPr/>
        </p:nvSpPr>
        <p:spPr>
          <a:xfrm>
            <a:off x="1452960" y="335268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Arial"/>
                <a:ea typeface="华文中宋"/>
              </a:rPr>
              <a:t>描写观众的词句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5"/>
          <p:cNvSpPr/>
          <p:nvPr/>
        </p:nvSpPr>
        <p:spPr>
          <a:xfrm>
            <a:off x="289080" y="1905120"/>
            <a:ext cx="8016840" cy="64260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00"/>
                </a:solidFill>
                <a:uFillTx/>
                <a:latin typeface="Arial"/>
                <a:ea typeface="楷体_GB2312"/>
              </a:rPr>
              <a:t>当那摞碗又剧烈地晃动起来时，少年轻轻抖了一下脑袋。终于把碗稳住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6"/>
          <p:cNvSpPr/>
          <p:nvPr/>
        </p:nvSpPr>
        <p:spPr>
          <a:xfrm>
            <a:off x="304920" y="4114800"/>
            <a:ext cx="7924680" cy="82548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00"/>
                </a:solidFill>
                <a:uFillTx/>
                <a:latin typeface="Arial"/>
                <a:ea typeface="楷体_GB2312"/>
              </a:rPr>
              <a:t>场子时静得没有一丝声息。有一些女观众，索性用手掌捂住了眼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00"/>
                </a:solidFill>
                <a:uFillTx/>
                <a:latin typeface="Arial"/>
                <a:ea typeface="楷体_GB2312"/>
              </a:rPr>
              <a:t>全场想起了暴风雨般的掌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10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 Box 2"/>
          <p:cNvSpPr/>
          <p:nvPr/>
        </p:nvSpPr>
        <p:spPr>
          <a:xfrm>
            <a:off x="304920" y="1371600"/>
            <a:ext cx="8458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  <a:ea typeface="隶书"/>
              </a:rPr>
              <a:t>       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隶书"/>
              </a:rPr>
              <a:t>顶碗少年最终获得了成功的原因是什么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3"/>
          <p:cNvSpPr/>
          <p:nvPr/>
        </p:nvSpPr>
        <p:spPr>
          <a:xfrm>
            <a:off x="380880" y="3276720"/>
            <a:ext cx="83822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0" lang="zh-CN" sz="4000" spc="-1" strike="noStrike">
                <a:solidFill>
                  <a:srgbClr val="003300"/>
                </a:solidFill>
                <a:latin typeface="Arial"/>
                <a:ea typeface="隶书"/>
              </a:rPr>
              <a:t>少年具有不怕失败的精神和老者的鼓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2" descr="图片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5" name="Oval 3"/>
          <p:cNvSpPr/>
          <p:nvPr/>
        </p:nvSpPr>
        <p:spPr>
          <a:xfrm>
            <a:off x="539640" y="260280"/>
            <a:ext cx="3200400" cy="17528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行楷"/>
              </a:rPr>
              <a:t>拓展延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4"/>
          <p:cNvSpPr/>
          <p:nvPr/>
        </p:nvSpPr>
        <p:spPr>
          <a:xfrm>
            <a:off x="395280" y="2349360"/>
            <a:ext cx="5398920" cy="14770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你的生活、学习中有没有遇到过困难、失败，你是怎样做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学习本文后有何启示 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6" descr="23e511f25650d249342accb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9" name="Rectangle 7"/>
          <p:cNvSpPr/>
          <p:nvPr/>
        </p:nvSpPr>
        <p:spPr>
          <a:xfrm>
            <a:off x="324000" y="797400"/>
            <a:ext cx="39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  <a:ea typeface="仿宋_GB2312"/>
              </a:rPr>
              <a:t>节目很精彩，场内座无虚席。坐在前几排的，全是来自异国的旅游者。优美的东方杂技，使他们入迷了。他们和中国观众一起，为每一个节目喝彩鼓掌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Z8ZDUEVC77_205_500_3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8" name="Text Box 3"/>
          <p:cNvSpPr/>
          <p:nvPr/>
        </p:nvSpPr>
        <p:spPr>
          <a:xfrm>
            <a:off x="539640" y="333360"/>
            <a:ext cx="52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总结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4"/>
          <p:cNvSpPr/>
          <p:nvPr/>
        </p:nvSpPr>
        <p:spPr>
          <a:xfrm>
            <a:off x="684360" y="1413000"/>
            <a:ext cx="7273800" cy="132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同学们，在我们的生活中，时时刻刻都会遇到失败的考验，但是，只有不怕失败敢于拼搏的人，才是胜利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山穷水尽的绝境里，如果我们再搏一下，也许就能看到柳暗花明；在冰天雪地的严寒中，再搏一下，可能会迎来温暖的春风；在无边无际的大海上，再搏一下，或许就会到达大海的彼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2"/>
          <p:cNvSpPr/>
          <p:nvPr/>
        </p:nvSpPr>
        <p:spPr>
          <a:xfrm>
            <a:off x="241200" y="1125360"/>
            <a:ext cx="8452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隶书"/>
              </a:rPr>
              <a:t>       </a:t>
            </a:r>
            <a:r>
              <a:rPr b="0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你在现实生活中有没有碰到过和顶碗少年相似的经历？你是如何应对的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2" descr="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2" name="WordArt 3"/>
          <p:cNvSpPr txBox="1"/>
          <p:nvPr/>
        </p:nvSpPr>
        <p:spPr>
          <a:xfrm>
            <a:off x="2556000" y="1773360"/>
            <a:ext cx="4465440" cy="28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观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6" descr="按此在新窗口浏览图片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501" name="Rectangle 7"/>
          <p:cNvSpPr/>
          <p:nvPr/>
        </p:nvSpPr>
        <p:spPr>
          <a:xfrm>
            <a:off x="5148360" y="2994480"/>
            <a:ext cx="352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  <a:ea typeface="仿宋_GB2312"/>
              </a:rPr>
              <a:t>　    一位英俊的少年出场了。在轻松优雅的乐曲声里，只见他头上顶着高高的一叠金边红花白瓷碗，柔软而自然地舒展着肢体，做出各种各样令人惊羡的动作，忽而卧倒，忽而跃起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仿宋_GB2312"/>
              </a:rPr>
              <a:t>……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  <a:ea typeface="仿宋_GB2312"/>
              </a:rPr>
              <a:t>碗，在他的头顶摇摇晃晃，却总是掉不下来。最后，是一组难度较大的动作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仿宋_GB2312"/>
              </a:rPr>
              <a:t>———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  <a:ea typeface="仿宋_GB2312"/>
              </a:rPr>
              <a:t>他骑在另一位演员身上，两个人一会儿站起，一会儿躺下，一会儿用各种姿态转动着身躯。站在别人晃动着的身体上，很难再保持平衡，他头顶上的碗，摇晃得厉害起来。在一个大幅度转身的刹那间，那一大摞碗突然从他头上掉了下来！这意想不到的失误，让所有的观众都惊呆了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6" descr="按此在新窗口浏览图片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7"/>
          <p:cNvSpPr/>
          <p:nvPr/>
        </p:nvSpPr>
        <p:spPr>
          <a:xfrm>
            <a:off x="4932360" y="2849760"/>
            <a:ext cx="403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仿宋_GB2312"/>
                <a:ea typeface="仿宋_GB2312"/>
              </a:rPr>
              <a:t>    </a:t>
            </a:r>
            <a:r>
              <a:rPr b="1" lang="zh-CN" sz="2000" spc="-1" strike="noStrike">
                <a:solidFill>
                  <a:srgbClr val="ffff66"/>
                </a:solidFill>
                <a:latin typeface="仿宋_GB2312"/>
                <a:ea typeface="仿宋_GB2312"/>
              </a:rPr>
              <a:t>台上并没有慌乱。顶碗的少年歉疚地微笑着，不失风度地向观众鞠了一躬。一位姑娘走出来，扫起了地上的碎瓷片，又捧出一大摞碗，还是金边红花白瓷碗，整整十只，一只不少。于是，音乐又响起来，碗又高高地顶在了少年头上。少年沉着地重复着刚才的动作，依然是那么轻松优美，紧张不安的观众终于又陶醉在他的表演之中。到最后关头了，又是两个人叠在一起，又是一个接一个艰难的转身，碗，又在他头顶厉害地摇晃起来。观众们屏住气，目不转睛地盯着他头上的碗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仿宋_GB2312"/>
              </a:rPr>
              <a:t>……</a:t>
            </a:r>
            <a:r>
              <a:rPr b="1" lang="zh-CN" sz="2000" spc="-1" strike="noStrike">
                <a:solidFill>
                  <a:srgbClr val="ffff66"/>
                </a:solidFill>
                <a:latin typeface="仿宋_GB2312"/>
                <a:ea typeface="仿宋_GB2312"/>
              </a:rPr>
              <a:t>眼看身体已经转过来了，几个性急的外国观众忍不住拍响了巴掌。那一摞碗却仿佛故意捣蛋，突然跳起摇摆舞来。少年急忙晃动脑袋保持平衡，可是来不及了。碗，又掉了下来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8" descr="按此在新窗口浏览图片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10"/>
          <p:cNvSpPr/>
          <p:nvPr/>
        </p:nvSpPr>
        <p:spPr>
          <a:xfrm>
            <a:off x="5148360" y="2986560"/>
            <a:ext cx="36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仿宋_GB2312"/>
              </a:rPr>
              <a:t>       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  <a:ea typeface="仿宋_GB2312"/>
              </a:rPr>
              <a:t>场子里一片喧哗。台上，顶碗少年呆呆地站着，脸上全是汗珠，他有些不知所措了。还是那一位姑娘，走出来扫去了地上的碎瓷片。观众中有人在大声地喊：“行了，不要再来了，演下一个节目吧！”好多人附和着喊起来。一位矮小结实的白发老人从后台走到灯光下，他的手里，依然是一叠金边红花白瓷碗！他走到少年面前，脸上微笑着，并无责怪的神色。他把手中的碗交给少年，然后抚摩着少年的肩，轻轻摇了摇，嘴里低声说了一句什么。少年镇静下来，手捧着新碗，又深深地向观众们鞠了一躬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6" descr="按此在新窗口浏览图片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7"/>
          <p:cNvSpPr/>
          <p:nvPr/>
        </p:nvSpPr>
        <p:spPr>
          <a:xfrm>
            <a:off x="5508720" y="2143440"/>
            <a:ext cx="273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仿宋_GB2312"/>
              </a:rPr>
              <a:t>       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  <a:ea typeface="仿宋_GB2312"/>
              </a:rPr>
              <a:t>音乐第三次奏响了！场子里静得没有一丝声息。一些女观众，索性捂住了眼睛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仿宋_GB2312"/>
              </a:rPr>
              <a:t>……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zh-CN" sz="2000" spc="-1" strike="noStrike">
                <a:solidFill>
                  <a:srgbClr val="ffff66"/>
                </a:solidFill>
                <a:latin typeface="Arial"/>
                <a:ea typeface="仿宋_GB2312"/>
              </a:rPr>
              <a:t>　　这真是一场惊心动魄的拼搏！当那叠碗又剧烈地晃动起来时，少年轻轻抖了一下脑袋，终于把碗稳住了。全场响起了暴风雨般的响声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5" descr="按此在新窗口浏览图片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6"/>
          <p:cNvSpPr/>
          <p:nvPr/>
        </p:nvSpPr>
        <p:spPr>
          <a:xfrm>
            <a:off x="5292720" y="3182040"/>
            <a:ext cx="31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仿宋_GB2312"/>
                <a:ea typeface="仿宋_GB2312"/>
              </a:rPr>
              <a:t>    </a:t>
            </a:r>
            <a:r>
              <a:rPr b="1" lang="zh-CN" sz="2000" spc="-1" strike="noStrike">
                <a:solidFill>
                  <a:srgbClr val="ffff66"/>
                </a:solidFill>
                <a:latin typeface="仿宋_GB2312"/>
                <a:ea typeface="仿宋_GB2312"/>
              </a:rPr>
              <a:t>在以后的岁月里，不知怎的，我常常会想起这位顶碗少年，想起他那一次的演出；而且每每想起，总会有一阵微微的激动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WordArt 2"/>
          <p:cNvSpPr txBox="1"/>
          <p:nvPr/>
        </p:nvSpPr>
        <p:spPr>
          <a:xfrm>
            <a:off x="395280" y="0"/>
            <a:ext cx="295128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检查预习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250920" y="1413000"/>
            <a:ext cx="864072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肩   胛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摇  撼                颓  丧               歉   疚                惊   羡               迷   惘                    萦  绕                 鞠   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4"/>
          <p:cNvSpPr/>
          <p:nvPr/>
        </p:nvSpPr>
        <p:spPr>
          <a:xfrm>
            <a:off x="3240000" y="40464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、词语积累（注音并释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1619280" y="1484280"/>
            <a:ext cx="129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jiān ji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6"/>
          <p:cNvSpPr/>
          <p:nvPr/>
        </p:nvSpPr>
        <p:spPr>
          <a:xfrm>
            <a:off x="4500720" y="1413000"/>
            <a:ext cx="15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yáo h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7"/>
          <p:cNvSpPr/>
          <p:nvPr/>
        </p:nvSpPr>
        <p:spPr>
          <a:xfrm>
            <a:off x="7451640" y="1484280"/>
            <a:ext cx="144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tuí sà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8"/>
          <p:cNvSpPr/>
          <p:nvPr/>
        </p:nvSpPr>
        <p:spPr>
          <a:xfrm>
            <a:off x="1619280" y="2060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qiàn ji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9"/>
          <p:cNvSpPr/>
          <p:nvPr/>
        </p:nvSpPr>
        <p:spPr>
          <a:xfrm>
            <a:off x="4461480" y="1987560"/>
            <a:ext cx="150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jīng xi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0"/>
          <p:cNvSpPr/>
          <p:nvPr/>
        </p:nvSpPr>
        <p:spPr>
          <a:xfrm>
            <a:off x="7451640" y="1989000"/>
            <a:ext cx="169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mí   wǎ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1"/>
          <p:cNvSpPr/>
          <p:nvPr/>
        </p:nvSpPr>
        <p:spPr>
          <a:xfrm>
            <a:off x="1619280" y="2492280"/>
            <a:ext cx="187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yíng  rà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2"/>
          <p:cNvSpPr/>
          <p:nvPr/>
        </p:nvSpPr>
        <p:spPr>
          <a:xfrm>
            <a:off x="4572000" y="2492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Jū  gō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3"/>
          <p:cNvSpPr/>
          <p:nvPr/>
        </p:nvSpPr>
        <p:spPr>
          <a:xfrm>
            <a:off x="0" y="3068640"/>
            <a:ext cx="3745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惊心动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座无虚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知所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4"/>
          <p:cNvSpPr/>
          <p:nvPr/>
        </p:nvSpPr>
        <p:spPr>
          <a:xfrm>
            <a:off x="1763640" y="4724280"/>
            <a:ext cx="698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不知怎么办才好。形容惊慌或受窘的样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5"/>
          <p:cNvSpPr/>
          <p:nvPr/>
        </p:nvSpPr>
        <p:spPr>
          <a:xfrm>
            <a:off x="1763640" y="314172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形容使人感受很深，震动很大。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6"/>
          <p:cNvSpPr/>
          <p:nvPr/>
        </p:nvSpPr>
        <p:spPr>
          <a:xfrm>
            <a:off x="1835280" y="3933720"/>
            <a:ext cx="576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座位没有空着的。形容出席的人很多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7"/>
          <p:cNvSpPr/>
          <p:nvPr/>
        </p:nvSpPr>
        <p:spPr>
          <a:xfrm>
            <a:off x="3492360" y="5589720"/>
            <a:ext cx="51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、用简洁的语言概括故事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14:24:23Z</dcterms:created>
  <dc:creator>第一PPT模板网-WWW.1PPT.COM</dc:creator>
  <dc:description>第一PPT模板网-WWW.1PPT.COM
</dc:description>
  <cp:keywords>第一PPT模板网-WWW.1PPT.COM</cp:keywords>
  <dc:language>en-US</dc:language>
  <cp:lastModifiedBy>admin</cp:lastModifiedBy>
  <dcterms:modified xsi:type="dcterms:W3CDTF">2015-01-29T09:50:34Z</dcterms:modified>
  <cp:revision>23</cp:revision>
  <dc:subject>第一PPT模板网-WWW.1PPT.COM</dc:subject>
  <dc:title>第一PPT模板网-WWW.1PPT.COM</dc:title>
</cp:coreProperties>
</file>