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415-016B-4FDC-BA5F-31797935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C9A-A6EB-4D70-BC66-3A1E8BB8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2A682-7BAB-4A62-9759-929F6DDB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50478-AA43-4BE9-B8DD-14FC943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02ACE-4852-4AB0-8505-388BAFF4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1FC59-4F5B-4727-9AB2-7EF0E345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3804A-06F8-4238-B330-F2C4F833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285A2-9AC8-4A40-B61C-F9587018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25D3A-0CC6-4499-B52A-1738B446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FFD84-E9FD-47D4-A7D6-5AC4F55C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9D0CC-394C-4561-BDCE-40A8C186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4D2C9-AE60-43A1-8D25-F46B051B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8B4-1A58-470C-92E5-527688DD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9698F-E05A-42F2-8A30-3B1136AD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A6CC8-EA77-467E-9D69-7192AF5C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FB157-3DAC-4086-BB94-EF664CB8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CBFDA-2EEE-4359-A823-56337A8D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ECFEF-A40B-4DC1-9973-29221B50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19EE9-3CFE-4FE9-9C52-3AC93D1D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11F1A-FBBC-4180-AA82-A83AB760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E3B14-A7F2-46F3-8FB9-38781AB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28898-7716-43AD-9B0F-BD446D2F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F6B7C-4E86-41CC-93C2-206E5DC4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31F-7796-4CF6-A6C6-94EF8FB1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6E8B1-0224-42BE-A655-9A308B3E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B8380-A533-48AB-8623-21238293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6A14E-549D-42B8-A1A9-E082CEE1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38E41-884B-4041-8BC2-BE409F9D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562D6-E994-4B80-B235-4D674E86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CEE99-DB89-4F04-8239-FF144543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F07B2-4CD3-47C4-B19C-D9778E4E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9B2F-7E34-4D19-BBC6-F0C52DF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73DA-BF8F-4562-8159-CC22E5A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02E74-5690-47A8-99C3-B94CE396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F3C4-6E50-435D-B974-CD774E77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EF6E2-8DCB-4C06-877A-FE87225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29E3F-D6B7-4D7B-903C-AB8A7222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73855-7F2E-4925-AABC-CF2B77FA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89E6D-084E-43CB-9189-D15BF458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7AEAE-1F4B-4405-8050-44F77836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BA384-3993-4BF8-AF41-31C16E1F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66761-08FB-461A-8EAA-64E403F8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9513C-10FE-4F5C-AFC9-3407BE56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5CA27-E91E-4EDE-B652-F5806ADF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24549-2700-48FE-9B7F-6E72A528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5529-AA93-431B-A71A-2A20BBD2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4303D-5E31-4CBC-A684-6BB826D1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8A68E-F005-4F12-8928-365EDC78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24338-42B6-4C43-97B4-10552760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DDE07-157A-4FD5-B9EA-43A74233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7FFD1-63DD-44CE-A128-D60228C5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3775-5550-4877-8CFC-609CD32C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FF6C-7BA4-4360-B618-9A0B6E18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A994-C1AE-4D9E-AF4F-DDC7D0A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0996-F920-40DD-A438-0B7476ED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A683-1969-47E8-BDBB-F8B587E9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2D1-6F74-4547-9BB6-A80E6FF9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7FA1-DF58-4C5D-8648-EB82F8D3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CBFB-1B65-4618-B44F-E1BCCC82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D09E-3830-4DED-B427-521A8B8C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0A96-4711-4A55-A490-3B53AE18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DA7C-3AE8-4665-A76A-7930C3C7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225A-B88C-4998-B51E-ABF5D1BC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4C22-FD8A-41E3-9CA7-B4787256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60B1-8869-4354-A04A-7F8FBDA5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FE31-EF25-4F99-99D3-4A6FB0A0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4289D-DAD7-4DDE-B533-8691D44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19D-C41A-44A8-A473-56DB5021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446E4-38F5-40D8-9856-6D3BA37D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4730-7272-494F-94FB-D19CC470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3DF4-E9BE-4D75-B51F-1FBB81A4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9523-40FC-490F-A883-830D3BB6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252B2-863A-4426-AF37-ADFB9990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77D35-18D8-4C63-B9BC-A8849A73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84BF-85CE-4081-B72D-094FF3E6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9BB95-676F-4B71-A1A3-2D0582F7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D252-F1FD-4AE8-A382-28262CDE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059D-E2B2-4166-930D-AF952A17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083-C74D-43EF-83EE-DF3CE5A8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34DFD-BB45-42AA-B599-1A66A2F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E37F4-463F-4716-B2D5-D760E0FC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C5590-1810-4867-A4C4-FB3216FE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F1963-0AA6-41CC-B95C-86744021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DB56-3EB6-4F66-8668-E204939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76DB2-3C88-43E3-9E7F-94FCEAAD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F783-8220-47E4-80F5-86320761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C5A9-3F31-467E-B13E-F2EDE404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2C47-101B-4439-BC8C-4253436A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05232-6D1C-4C71-B5CD-B7622A1F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24E-DAAA-477B-812D-7C2B4C04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AC610-2450-4CF9-8E06-441299A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67057-96E8-40ED-BA0F-8F2D5BD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848D1-BCA5-4130-8609-440A6C30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35FF7-2502-417D-B59F-5722C5B0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9C94-3805-447A-A77F-E5B766A3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6E8BE-5760-4690-8605-D1A4EB6B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514CC-4EFE-4BF0-BC6B-456B07CD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C201-1914-414F-8AF7-6393AF1F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89618-F2B8-4FE0-8A63-62442BA2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A6D6A-1834-45A1-8F15-60EBF9E7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2DA-4555-49A2-BA2C-444B8AA6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9A3DD-8BD7-4E2E-B16F-1F0F15BA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8B6D-3AF0-458E-95D3-1AAB67F4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CC76D-5FBA-44D7-8113-C3FC7919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1799-9294-4104-8302-B037479E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027AF-247A-4F0A-8C4A-630AF84E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0BB18-D265-4FEB-B218-E83D89A1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92AD5-E104-4FDD-9B6C-E0050D3B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1860F-CD66-4A44-9619-00E42712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3ADD6-9DBB-4BED-8E34-38C08529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BA1F0-0310-4824-8AD7-FDB75D5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47B-788B-46D1-A18B-3B4D331C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9E582-2E6F-4B84-9FE4-35332705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C144-18D0-4DA0-BE3A-C784C9E2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21DFD-9F75-4F23-AEB0-18EA2A40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4CEDB-1947-40D1-809A-ADD4BFF2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56CC6-5046-4EB2-98CC-31B4DC49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45FD6-9913-4186-985C-747A1191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CB187-1837-4AE8-BB02-87271DF4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EB53A-861E-4CEB-BB55-EA6A6BAC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91797-19A8-4B58-ACF6-EF78F308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FC8FC-F47F-4BE9-8BA9-DD48284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323-9916-482E-AEAB-8EA7A2C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A9D14-4E48-462D-8BCC-2B877728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46088-8A64-4774-B867-BF2B4A94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9679D-BED3-47B2-89B6-E17EF61D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CFDA-EC9C-4CDC-B2EE-83FCE277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2101-397F-4D44-8EF3-B823D328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DE663-8BC2-419C-B2D5-36CC3C0E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C4F27-8E79-4E22-953E-47E4C50D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25928-38A4-455E-A7AD-08F310C8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94860-4CB6-4784-89E7-7AC5596D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99EBC-E441-4E3A-AC65-410380C1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2F0-6874-49B7-A255-73A306B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4858F-89DB-4CEC-87BA-BFDB99B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6A1A1-18E3-49D2-B283-2B9721F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F625C-A3F0-4A87-BF30-536227F2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153E1-066D-4621-A099-1A9A9869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2B2CA-124C-478B-8F25-C7C225B7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1083E-AE21-432F-BA90-468D065D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BB12E-77AB-44F1-809A-CD957EA1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84FE6-025A-43DA-96FE-3D812637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6ED1E-50CC-400C-8260-0D99ABE5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91EE0-AB4D-452B-9D72-23B617EC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96F2-4AFC-4B78-B6E9-1B4FBC660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1FBD-40E7-493E-A8E2-D90B1EA06C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E785-1835-44D6-9B27-5A1A89B06C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EC5C-6783-4EA1-A774-81ED29E24F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124-1C81-4B34-B9CB-3617122368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7F94-9482-4399-9BC1-DACBADA9EA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88D8-8E6D-43AB-A35B-EE73A84466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F97-ABAF-4CF7-8709-DFF57FE635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1564-571A-455E-BFB8-C30E69E954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1A15-17DE-4789-83B0-6A17807BDB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DD7B-80D6-4A04-B344-3447F2453B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D49B-46D5-4CF7-84B9-63CD3E7CE9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ext Box 2" descr=""/>
          <p:cNvPicPr/>
          <p:nvPr/>
        </p:nvPicPr>
        <p:blipFill>
          <a:blip r:embed="rId2"/>
          <a:stretch/>
        </p:blipFill>
        <p:spPr>
          <a:xfrm>
            <a:off x="743040" y="1427040"/>
            <a:ext cx="7048440" cy="4699080"/>
          </a:xfrm>
          <a:prstGeom prst="rect">
            <a:avLst/>
          </a:prstGeom>
          <a:ln w="0">
            <a:noFill/>
          </a:ln>
        </p:spPr>
      </p:pic>
      <p:sp>
        <p:nvSpPr>
          <p:cNvPr id="493" name="矩形 6"/>
          <p:cNvSpPr/>
          <p:nvPr/>
        </p:nvSpPr>
        <p:spPr>
          <a:xfrm>
            <a:off x="2295000" y="6021360"/>
            <a:ext cx="34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uzz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371600" y="457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齐读第四段，找出能表现作者   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由感悟而发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心境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523880" y="1905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赤裸裸来到这世界，转眼间也将赤裸裸的回去罢？但不能平的，为什么偏要白白走这一遭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600200" y="19810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作者在最后一段再次强调要珍惜时间，并与首段遥相呼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523880" y="685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齐读、共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523880" y="60948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1676520" y="213372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从语言、写法、 修辞等角度谈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295280" y="4572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采用第一人称的好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1447920" y="20574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显得亲切、自然、真实，便于直接抒发感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zzq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211640" y="1197000"/>
            <a:ext cx="2705040" cy="374328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7956720" y="620640"/>
            <a:ext cx="100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6200280" y="2492280"/>
            <a:ext cx="18262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朱自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179280" y="0"/>
            <a:ext cx="3961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朱自清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8—19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字佩弦，江苏扬州人，原籍浙江绍兴。现代著名散文家、诗人、学者、民主战士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他贫病交加，但坚决不向反动派屈服。该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在北平逝世。对此，毛泽东给予高度评价：“朱自清一身重病，宁可饿死，不领美国的‘救济粮’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现了我们民族的英雄气概。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他一生勤奋，共有诗歌、散文、评论、学术研究著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，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万字。 他的散文代表作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荷塘月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背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去了，有再来的时候；杨柳枯了，有再青的时候；桃花谢了，有再开的时候。但是，聪明的，你告诉我，我们的日子为什么一去不复返呢？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有人偷了他们罢：那是谁？又藏在何处呢？是他们自己逃走了罢：现在又到了哪里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方正彩云简体"/>
              </a:rPr>
              <a:t>          </a:t>
            </a:r>
            <a:r>
              <a:rPr b="1" i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不知道他们给了我多少日子；但我的手确乎是渐渐空虚了。在默默里算着，八千多日子已经从我手中溜去；像针尖上一滴水滴在大海里，我的日子滴在时间的流里，没有声音，也没有影子。我不禁头涔涔而泪潸潸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逃去如飞的日子里，在千门万户的世界里的我能做些什么呢？只有徘徊罢了，只有匆匆罢了；在八千多日的匆匆里，除徘徊外，又剩些什么呢？过去的日子如轻烟，被微风吹散了，如薄雾，被初阳蒸融了；我留着些什么痕迹呢？我何曾留着像游丝样的痕迹呢？我赤裸裸来到这世界，转眼间也将赤裸裸的回去罢？但不能平的，为什么偏要白白走这一遭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聪明的，告诉我，我们的日子为什么一去不复返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                                                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仿宋_GB2312"/>
              </a:rPr>
              <a:t>１９２２年３月２８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026" descr="031031SE1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027"/>
          <p:cNvSpPr/>
          <p:nvPr/>
        </p:nvSpPr>
        <p:spPr>
          <a:xfrm>
            <a:off x="324000" y="76500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快速浏览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“匆匆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本文旨在叙述时间的流逝，请同学们用“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（什么样的）时间”句式来概括时间的特点。（用文中词或短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26" descr="031031SE177"/>
          <p:cNvPicPr/>
          <p:nvPr/>
        </p:nvPicPr>
        <p:blipFill>
          <a:blip r:embed="rId1">
            <a:lum contrast="-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027"/>
          <p:cNvSpPr/>
          <p:nvPr/>
        </p:nvSpPr>
        <p:spPr>
          <a:xfrm>
            <a:off x="468360" y="0"/>
            <a:ext cx="86756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新魏"/>
              </a:rPr>
              <a:t>品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划出你喜欢的句子，说出自己为什么喜欢这些句子？请你设计如何读才能把这些句子读好。（ 除了想象作者当时的心情，还要加进我们自己的感受。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1295280" y="4572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采用第一人称的好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1447920" y="20574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显得亲切、自然、真实，便于直接抒发感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0266"/>
          <p:cNvPicPr/>
          <p:nvPr/>
        </p:nvPicPr>
        <p:blipFill>
          <a:blip r:embed="rId1"/>
          <a:stretch/>
        </p:blipFill>
        <p:spPr>
          <a:xfrm>
            <a:off x="4630680" y="0"/>
            <a:ext cx="4513320" cy="3357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jd-houshiwu"/>
          <p:cNvPicPr/>
          <p:nvPr/>
        </p:nvPicPr>
        <p:blipFill>
          <a:blip r:embed="rId2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图片1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5"/>
          <p:cNvSpPr/>
          <p:nvPr/>
        </p:nvSpPr>
        <p:spPr>
          <a:xfrm>
            <a:off x="3564000" y="836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3924360" y="620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5435640" y="2852640"/>
            <a:ext cx="151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422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有何感触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0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324000" y="115920"/>
            <a:ext cx="856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Arial"/>
                <a:ea typeface="华文新魏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请仿照作者，用生活中的小事来写写日子也从我们身边悄悄溜走，同桌合作完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thumb_2004492486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250920" y="981000"/>
            <a:ext cx="88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年少的你从文章中悟出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说说与本文内容有关的的格言、警句、诗文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026"/>
          <p:cNvSpPr/>
          <p:nvPr/>
        </p:nvSpPr>
        <p:spPr>
          <a:xfrm>
            <a:off x="609480" y="990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篇课文是朱自清的一篇散文。文章一开始就提出“我们的日子为什么一去不复返呢？”这个问题，作者没有直接作出回答，而是通过具体描述日子来去的匆匆，告诉我们时光容易流逝，要珍惜美好的时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1027"/>
          <p:cNvSpPr txBox="1"/>
          <p:nvPr/>
        </p:nvSpPr>
        <p:spPr>
          <a:xfrm>
            <a:off x="1905120" y="5257800"/>
            <a:ext cx="2666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隶书"/>
              </a:rPr>
              <a:t>课文朗读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564" name="《匆匆》课文朗读.MP3" descr=""/>
          <p:cNvPicPr/>
          <p:nvPr/>
        </p:nvPicPr>
        <p:blipFill>
          <a:blip r:embed="rId3"/>
          <a:stretch/>
        </p:blipFill>
        <p:spPr>
          <a:xfrm>
            <a:off x="5334120" y="5257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chu2277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036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5" descr="031031SE1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24000" y="76500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快速浏览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“匆匆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本文旨在叙述时间的流逝，请同学们用“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（什么样的）时间”句式来概括时间的特点。（用文中词或短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031031SE177"/>
          <p:cNvPicPr/>
          <p:nvPr/>
        </p:nvPicPr>
        <p:blipFill>
          <a:blip r:embed="rId1">
            <a:lum contrast="-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468360" y="0"/>
            <a:ext cx="86756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新魏"/>
              </a:rPr>
              <a:t>品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划出你喜欢的句子，说出自己为什么喜欢这些句子？请你设计如何读才能把这些句子读好。（ 除了想象作者当时的心情，还要加进我们自己的感受。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4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八千多日子已经从我手中溜去；像针尖上一滴水滴在大海里，我的日子滴在时间的流里，没有声音，也没有影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句话形象生动地写出了诗人因没有成就，虚度年华而惶恐的心态。朗读时应读出日子溜去的悄无声息，舒缓低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只有徘徊罢了，只有匆匆罢了；在八千多日的匆匆里，除徘徊外，又剩些什么呢？过去的日子如轻烟，被微风吹散了，如薄雾，被初阳蒸融了；我留着些什么痕迹呢？我何曾留着像游丝样的痕迹呢？我赤裸裸来到这世界，转眼间也将赤裸裸的回去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个句子应读出作者的思考、无奈、彷徨的心态，应平缓凝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但不能平的，为什么偏要白白走这一遭啊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句话应读出作者追求事业的情怀和信心，要读得沉稳坚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4"/>
          <p:cNvSpPr/>
          <p:nvPr/>
        </p:nvSpPr>
        <p:spPr>
          <a:xfrm>
            <a:off x="0" y="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洗手的时候，日子从水盆里过去；吃饭的时候，日子从饭碗里过去；默默时，便从凝然的双眼前过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句话运用了排比的修辞方法，既增强了文章的气势，又形象地写出了时间的匆匆流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黑时，我躺在床上，他便伶伶俐俐地从我脚边飞去了。等我和太阳说再见，这又算溜走了一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句话运用了拟人的修辞方法，把时间的匆匆流逝写得有形有声，可见可闻非常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读①②两个句子时应读出日子的匆匆和永不停息，紧促低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0266"/>
          <p:cNvPicPr/>
          <p:nvPr/>
        </p:nvPicPr>
        <p:blipFill>
          <a:blip r:embed="rId1"/>
          <a:stretch/>
        </p:blipFill>
        <p:spPr>
          <a:xfrm>
            <a:off x="4630680" y="0"/>
            <a:ext cx="4513320" cy="3357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jd-houshiwu"/>
          <p:cNvPicPr/>
          <p:nvPr/>
        </p:nvPicPr>
        <p:blipFill>
          <a:blip r:embed="rId2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图片1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3564000" y="836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3924360" y="620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5435640" y="2852640"/>
            <a:ext cx="151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0"/>
          <p:cNvSpPr/>
          <p:nvPr/>
        </p:nvSpPr>
        <p:spPr>
          <a:xfrm>
            <a:off x="2700360" y="422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有何感触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0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"/>
          <p:cNvSpPr/>
          <p:nvPr/>
        </p:nvSpPr>
        <p:spPr>
          <a:xfrm>
            <a:off x="179280" y="0"/>
            <a:ext cx="8569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Arial"/>
                <a:ea typeface="华文新魏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请仿照作者，用生活中的小事来写写日子也从我们身边悄悄溜走，同桌合作完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11"/>
          <p:cNvSpPr/>
          <p:nvPr/>
        </p:nvSpPr>
        <p:spPr>
          <a:xfrm>
            <a:off x="270036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2057400" y="1600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4"/>
          <p:cNvSpPr/>
          <p:nvPr/>
        </p:nvSpPr>
        <p:spPr>
          <a:xfrm>
            <a:off x="8594640" y="914400"/>
            <a:ext cx="549360" cy="1752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8213760" y="838080"/>
            <a:ext cx="54936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7299360" y="914400"/>
            <a:ext cx="549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7680240" y="762120"/>
            <a:ext cx="549360" cy="1904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082680" y="380880"/>
            <a:ext cx="6061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Times New Roman"/>
                <a:ea typeface="隶书"/>
              </a:rPr>
              <a:t>长歌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少壮不努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老大徒伤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thumb_2004492486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250920" y="981000"/>
            <a:ext cx="88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年少的你从文章中悟出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说说与本文内容有关的的格言、警句、诗文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1371600" y="6858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600200" y="19810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饭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029200" y="19810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伶  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1600200" y="359568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徘   徊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029200" y="3505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赤裸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1600200" y="50752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涔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5029200" y="50752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泪潸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2209680" y="1523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w3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1600200" y="3048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p2i hu2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876920" y="1506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l0ng l@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638680" y="30481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lu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2209680" y="45720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c6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5486400" y="45720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sh1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609480" y="231624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在这篇文章中想要告诉我们的主要意思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章每一段讲的是什么内容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读懂了哪些内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有哪些读不懂的问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2666880" y="10666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阅读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609480" y="1752480"/>
            <a:ext cx="8305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光阴易逝，岂容我待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生有一道难题，那就是如何使一寸光阴等于一寸生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间是没有声音的锉刀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间是一笔贷款，即使是守信用的借贷者也还不起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生最大的幸福，莫过于连一分钟都无法休息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除了时间，什么也不属于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3048120" y="685800"/>
            <a:ext cx="30477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时间格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28600" y="304920"/>
            <a:ext cx="8686800" cy="76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朱自清是中国著名的诗人和杰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散文家。他的著作十分有 特色，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响很大。朱自清是在 “五四”浪潮的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下，走上生活道路，开始文学生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，直至逝世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朱自清有著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言，包括诗歌、散文、文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批评、学术研究等。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出版的散文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朱自清成为当时负有盛名的散文作家。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桨声灯影里的秦淮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塘月色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其代表佳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朱自清1"/>
          <p:cNvPicPr/>
          <p:nvPr/>
        </p:nvPicPr>
        <p:blipFill>
          <a:blip r:embed="rId1"/>
          <a:stretch/>
        </p:blipFill>
        <p:spPr>
          <a:xfrm>
            <a:off x="304920" y="380880"/>
            <a:ext cx="23684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江主席题字"/>
          <p:cNvPicPr/>
          <p:nvPr/>
        </p:nvPicPr>
        <p:blipFill>
          <a:blip r:embed="rId1"/>
          <a:stretch/>
        </p:blipFill>
        <p:spPr>
          <a:xfrm>
            <a:off x="1676520" y="152280"/>
            <a:ext cx="5790960" cy="16304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朱自清故居"/>
          <p:cNvPicPr/>
          <p:nvPr/>
        </p:nvPicPr>
        <p:blipFill>
          <a:blip r:embed="rId2"/>
          <a:stretch/>
        </p:blipFill>
        <p:spPr>
          <a:xfrm>
            <a:off x="2666880" y="1965240"/>
            <a:ext cx="382284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朱自清手迹"/>
          <p:cNvPicPr/>
          <p:nvPr/>
        </p:nvPicPr>
        <p:blipFill>
          <a:blip r:embed="rId1"/>
          <a:srcRect l="3548" t="0" r="2473" b="0"/>
          <a:stretch/>
        </p:blipFill>
        <p:spPr>
          <a:xfrm>
            <a:off x="4935600" y="228600"/>
            <a:ext cx="3879720" cy="5867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散文集《背影》"/>
          <p:cNvPicPr/>
          <p:nvPr/>
        </p:nvPicPr>
        <p:blipFill>
          <a:blip r:embed="rId2"/>
          <a:stretch/>
        </p:blipFill>
        <p:spPr>
          <a:xfrm>
            <a:off x="304920" y="228600"/>
            <a:ext cx="4144680" cy="58672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4"/>
          <p:cNvSpPr/>
          <p:nvPr/>
        </p:nvSpPr>
        <p:spPr>
          <a:xfrm>
            <a:off x="914400" y="6248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散文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背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5791320" y="620244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朱自清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26" descr="“自清亭”"/>
          <p:cNvPicPr/>
          <p:nvPr/>
        </p:nvPicPr>
        <p:blipFill>
          <a:blip r:embed="rId1"/>
          <a:stretch/>
        </p:blipFill>
        <p:spPr>
          <a:xfrm>
            <a:off x="533520" y="379440"/>
            <a:ext cx="8153280" cy="552924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27"/>
          <p:cNvSpPr/>
          <p:nvPr/>
        </p:nvSpPr>
        <p:spPr>
          <a:xfrm>
            <a:off x="3657600" y="6095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自清”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朱自清雕像远景"/>
          <p:cNvPicPr/>
          <p:nvPr/>
        </p:nvPicPr>
        <p:blipFill>
          <a:blip r:embed="rId1"/>
          <a:stretch/>
        </p:blipFill>
        <p:spPr>
          <a:xfrm>
            <a:off x="457200" y="379440"/>
            <a:ext cx="8229600" cy="548964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"/>
          <p:cNvSpPr/>
          <p:nvPr/>
        </p:nvSpPr>
        <p:spPr>
          <a:xfrm>
            <a:off x="3048120" y="6019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朱自清雕像远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朱自清书斋一角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377208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3"/>
          <p:cNvSpPr/>
          <p:nvPr/>
        </p:nvSpPr>
        <p:spPr>
          <a:xfrm>
            <a:off x="3048120" y="5181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朱自清书斋一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img183035_3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3962520" y="30492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朱自清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(1898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11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22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  <a:ea typeface="隶书"/>
              </a:rPr>
              <a:t>—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1948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8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12)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原名自华，号秋实，后改名自清，字佩弦，现代著名的散文家、诗人、学者。原籍浙江绍兴，生于江苏东海，作品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浆声灯影里的秦淮河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》 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、 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背影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、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荷塘月色</a:t>
            </a:r>
            <a:r>
              <a:rPr b="1" lang="en-US" sz="3600" spc="-1" strike="noStrike">
                <a:solidFill>
                  <a:srgbClr val="3333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333300"/>
                </a:solidFill>
                <a:latin typeface="隶书"/>
                <a:ea typeface="隶书"/>
              </a:rPr>
              <a:t>都是烩炙人口的名篇。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9300" spc="-1" strike="noStrike">
                <a:solidFill>
                  <a:srgbClr val="ff0000"/>
                </a:solidFill>
                <a:latin typeface="Arial"/>
                <a:ea typeface="隶书"/>
              </a:rPr>
              <a:t>泪</a:t>
            </a:r>
            <a:r>
              <a:rPr b="0" lang="zh-CN" sz="9300" spc="-1" strike="noStrike">
                <a:solidFill>
                  <a:srgbClr val="ff0000"/>
                </a:solidFill>
                <a:latin typeface="Arial"/>
              </a:rPr>
              <a:t>潸</a:t>
            </a:r>
            <a:r>
              <a:rPr b="0" lang="zh-CN" sz="24000" spc="-1" strike="noStrike">
                <a:solidFill>
                  <a:srgbClr val="ff0000"/>
                </a:solidFill>
                <a:latin typeface="Arial"/>
              </a:rPr>
              <a:t>潸</a:t>
            </a:r>
            <a:r>
              <a:rPr b="0" lang="en-US" sz="9700" spc="-1" strike="noStrike">
                <a:solidFill>
                  <a:srgbClr val="000066"/>
                </a:solidFill>
                <a:latin typeface="Arial"/>
              </a:rPr>
              <a:t>shan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3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5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5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533520" y="533520"/>
            <a:ext cx="80769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隶书"/>
                <a:ea typeface="隶书"/>
              </a:rPr>
              <a:t>  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初步感知课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听朗读，要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   </a:t>
            </a:r>
            <a:r>
              <a:rPr b="0" lang="en-US" sz="4800" spc="-1" strike="noStrike">
                <a:solidFill>
                  <a:srgbClr val="333300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、注意生字新词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   </a:t>
            </a:r>
            <a:r>
              <a:rPr b="0" lang="en-US" sz="4800" spc="-1" strike="noStrike">
                <a:solidFill>
                  <a:srgbClr val="333300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、划出自己最喜欢的或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认为含义深刻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447920" y="533520"/>
            <a:ext cx="693396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Times New Roman"/>
                <a:ea typeface="隶书"/>
              </a:rPr>
              <a:t>生字新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Times New Roman"/>
                <a:ea typeface="隶书"/>
              </a:rPr>
              <a:t>涔涔             潸潸               赤裸裸         徘徊             遮挽             蒸融                            伶伶俐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048120" y="1828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én  c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6629400" y="182880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shān sh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3581280" y="266688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luǒ l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6477120" y="26668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pái  hu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28954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zhē  w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6553080" y="3505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zhēng  r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4267080" y="4343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líng líng  lì 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295280" y="457200"/>
            <a:ext cx="7315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自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找出描写时间来去匆匆的相应段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609480"/>
            <a:ext cx="129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修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219320" y="228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752480" y="3049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段：</a:t>
            </a:r>
            <a:r>
              <a:rPr b="1" lang="zh-CN" sz="3600" spc="-1" strike="noStrike">
                <a:solidFill>
                  <a:srgbClr val="1233da"/>
                </a:solidFill>
                <a:latin typeface="Times New Roman"/>
              </a:rPr>
              <a:t>写时间一去不复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第三段：</a:t>
            </a:r>
            <a:r>
              <a:rPr b="1" lang="zh-CN" sz="3600" spc="-1" strike="noStrike">
                <a:solidFill>
                  <a:srgbClr val="1233da"/>
                </a:solidFill>
                <a:latin typeface="Times New Roman"/>
              </a:rPr>
              <a:t>具体写时间匆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914400" y="990720"/>
            <a:ext cx="144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2362320" y="152388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段：①排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5562720" y="685800"/>
            <a:ext cx="35812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既优美又浅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990720" y="0"/>
            <a:ext cx="48765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通过写三种春天的景物，不仅意向优美，而且有潜在的含义：我们的青春一去不复返，实在值得珍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4495680" y="1523880"/>
            <a:ext cx="464832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表现“我”对时间一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Times New Roman"/>
                <a:ea typeface="隶书"/>
              </a:rPr>
              <a:t>不复返的惶急的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362320" y="3733920"/>
            <a:ext cx="3733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段：①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1828800" y="762120"/>
            <a:ext cx="4952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把时间的流逝写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有形有声，可见可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2"/>
          <p:cNvSpPr/>
          <p:nvPr/>
        </p:nvSpPr>
        <p:spPr>
          <a:xfrm>
            <a:off x="3809880" y="4572000"/>
            <a:ext cx="533412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33da"/>
                </a:solidFill>
                <a:latin typeface="Times New Roman"/>
              </a:rPr>
              <a:t>写出时间无时不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33da"/>
                </a:solidFill>
                <a:latin typeface="Times New Roman"/>
              </a:rPr>
              <a:t>匆匆流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7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29528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意识到了时间匆匆吗？他的表现又如何？找出文中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905120" y="19810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438280" y="213372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不禁头涔涔而泪潸潸了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掩着面叹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658080" y="1981080"/>
            <a:ext cx="139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为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371600" y="4191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  <a:ea typeface="隶书"/>
              </a:rPr>
              <a:t>时间流逝而一事无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09:58:11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9T09:30:39Z</dcterms:modified>
  <cp:revision>69</cp:revision>
  <dc:subject>第一PPT模板网-WWW.1PPT.COM</dc:subject>
  <dc:title>第一PPT模板网-WWW.1PPT.COM</dc:title>
</cp:coreProperties>
</file>