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5BC-0585-4C17-B975-63A3DC91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216-2F8A-4006-86A6-259D7C5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28B1C-A20B-4C14-BF3E-9511627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050A-1A9A-4EA3-B909-C3196001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ED156-A582-4864-B7A5-2C3B682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A3B7-0195-4730-96C1-E8D2C87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2E77-31A1-4BCA-9D35-1DA7176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A2586-9D3A-422D-B7D9-BBD9CDF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1F53-68F5-4529-AC38-2CEC4D2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1C63-03FF-4F13-B947-087DC947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B340C-5A31-4AD8-A7A2-39DE9663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ACFAA-425F-47DF-A1B9-228BD2B6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5EB-6DF6-49E1-97BC-58E7A9B5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65C85-CD29-4786-9C4E-D62A06E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3D33-851C-4D7D-9CED-1B3C8731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A9E5D-3F21-44C3-AB29-7DDD2FAE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A5C5E-E71D-44BF-9BCF-1535ABE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9AC7B-AE3E-498D-A783-C79E9E3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E724C-1935-4F5F-BA11-E362C9B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CC3F-5DD7-40B9-B316-86497A9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3A11B-1BC7-4BD2-A77D-2C10438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71D8F-442F-4DFC-B596-A7654BA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AF5BB-6BF2-4B81-A0A6-B31B5877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D0D-4CB5-4498-AE3A-6A38A791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F4CE9-5650-4FCA-9FE6-95CC6599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E7325-FBEC-4DDE-A729-3EDBFBD9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362E-7881-46F9-8466-E6040E4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70CE9-0AB9-4B56-AD42-755AAE87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D666D-32F1-477C-85F5-D28B77B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B9497-6346-43D1-9DA4-971B71F6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E445D-288E-4DDD-9FE9-29EBECD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F204-203D-41DF-8D15-C83076B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6B812-9917-403F-9B79-DE8D3BC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63FCC-0B8B-4730-9A94-910FC40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A590-8D90-4DCA-A2BD-E626C362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B45A-3094-44E7-B329-EC88FA5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FCE3-3684-440C-9A78-B41F9064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480F-AE38-4359-842A-0CF026BD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F2F53-E62A-4941-8450-2F078E8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A37CA-799E-4E7F-9E3B-9FE5941F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54133-9A5C-4B17-A542-F5A67781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B4071-D665-489D-9792-E07E4A2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ABE92-A351-4962-AEB9-D544F71A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53426-FADE-402D-8EB9-6E23B00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23A45-DDC2-4B81-A51E-24DFA8E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03B-4B09-4641-A3DE-FCC777C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E62B8-8B6B-48D3-9C72-DA219A1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5A997-5BB4-4D42-BF04-EF38A06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AFE4A-E0E1-4686-AF65-2911AD7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01DE-F270-4E50-94C5-CEA5980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8BA23-3974-45F8-B39D-37A39ADA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37A2-2638-478D-9DC8-FA84BDB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B2B6F-D233-4455-B2A0-B754A26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BFF79-E948-4B9C-BAEC-CA802B0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49CE7-F2E2-403B-B714-BC3E5B78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B9D5F-2CDE-429A-A1BA-0A3637E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4C52-391A-49EA-8E37-8B7CED3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BB629-2A42-475B-A4A4-D3250F5C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9580E-4A6A-4FBB-B977-CBAB6AB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2AAF6-71CE-416A-8E6D-DA41A26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2CD1D-832B-4F8F-903A-67634C8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483A1-0C2A-4E1C-BC44-B21D22E0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FEF31-1B8B-4516-9AF9-9DD88CAE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5633B-1240-4E87-92E0-7147B0E3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6060-9F3A-47D8-B777-6A8DBEF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0EA-89D7-402E-8D1E-B07E31B7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BC6-FBD7-4B70-87D8-4E4159C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C9E3-4C8F-42F3-A8F8-31586DC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A1E-D48C-468F-B679-64766D78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B08-CCF9-459B-9E8C-CEDFD5A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5BB4-C063-4A3A-A9F5-7AA7B60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8A8C-2890-44F4-ADF3-27FE5BD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DF8D-7C47-4AB0-B300-769665A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9A7E-E130-47CA-A5F5-5031474A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7F42-69E2-463E-9CD2-68FFEF2D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91F6-8C6F-4EA8-B6A8-96BA5FAE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94C1-5E05-4202-B985-05978285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6B43-E2B1-4B1D-A333-C4C590C0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26D6-4382-45D6-A8A6-34986912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E92-F384-466F-B389-F2707BE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366A-2230-4670-BFE1-353A308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6D90-7413-4DB1-8097-193B2ED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4017-C608-4F10-8CAC-9C7C71B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8F5F-49DA-4DE5-A4BA-DC926A4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160F-7B91-4E80-A367-B4080914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C115-AB4C-4EBD-95C2-CFB1B289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7BF8-1D2C-485F-BDBC-0C492595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3C65-9D67-45A4-AB74-926F4219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6137-3597-48D3-9B3C-1E73C31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E76B-6A6A-466C-BB10-DF8B61A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4B9-1EC3-4272-8805-8703D947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91CD-40D3-4950-B77A-69949F1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B00A-AEDA-49D6-962A-F42F147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10B8-C898-4900-8488-B5DC4985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0AA4-7FCF-4C36-BDFD-73A21C1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064D-888A-4EF7-8F1D-4264BC8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4786-1106-4200-8298-D9B8529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C734-841A-464F-A256-884F8BC4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9B71-11AA-42AE-B0AC-CA0AC38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4480-E24B-4C49-9E7E-7F15251A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20E9-D4E8-4BD2-8F98-A9E60B9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731-DE8F-4933-BA42-6CA8F7B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176B-EC3F-40E0-A1EA-450A69CD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6839-79C4-4927-AC61-1D86ADD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97A9-8C04-4406-949A-4E0D8F1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F587C-30CE-43AD-A6CE-DCAD03C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4282-06BA-469B-A24A-41A30AB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C21C-D3D1-4385-8F9C-53226D0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2ACB-BA97-4335-BE15-5AA0BEA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F0F4-97D4-4A03-8782-01BA3411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9420-E510-4F4B-8F31-E3FF478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E589-5358-48EA-BF29-01E2EA3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A4E-F70E-4F09-90F0-5C4D2010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0CD6-FC89-41C1-A256-572E74DE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987D-AACE-43BD-B4DE-A663F86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EE49-B263-40FB-A4A8-76B293A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02D9-D2D1-44EE-952B-26FB75E8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27BC-396B-429F-8D3D-E67A0E8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2A33-8365-4B44-A033-B5C9C70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0BF6-E520-468F-BFD7-9D0B392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25F3-6CAB-41D5-A122-68FC9C1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3D17-68C0-4848-9937-2B67269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7272-977C-4B58-AD96-4D60BDA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3A1-9630-4D50-9245-8F2201E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5106-1AC6-4B6C-95AC-532A84E8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2AB6-5128-4008-AD5F-457AEC26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0626C-0DFE-4091-97A9-8078A3BA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2F39-5DCE-4EF3-8570-EB50160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899F-E71B-44A6-BC02-BB3E8E6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D09E-8309-4614-933D-A9E8C78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8F1C-073C-4940-BEB2-6D984D9D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F9B66-C0E0-4DE5-9E50-33E2409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79A9-886E-4281-9341-59EF6D0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DE0A-21A4-42AF-A889-B80347A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C3E-12A9-494D-8D92-EC1E7EE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6FC6-A782-4D7C-8D9F-DC237C8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70C90-B8E5-43DA-B017-1C32D62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E9C4-599B-48A1-937F-2157685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56A9-1A38-4D3B-820D-79C91A00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D55F-6F62-4634-896B-95B28F14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440C9-B3B6-4B72-A9BF-246C1BD7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332D-F536-4EE6-98CE-8F6FD77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EF8C5-68EA-4BCD-951F-03F4427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AAF1-F81C-4F44-8807-EA20BFA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F7FF-1B11-45BD-8E96-861679F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F1D-DC1E-4FF7-9EFA-1F73F00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FCB86-59D0-4544-8902-B5A39CA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C53CD-5728-4703-8BEB-01909B0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A732-6F35-4924-A799-792AAFD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811B-E36C-4FCC-BBA0-757CF6A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C516-D7D5-4369-99C8-AF24415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1E44-736F-412F-9055-C2726AFC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5701-95C2-45A0-8A1D-6549524A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94B34-D492-4B49-AFD2-B9B08F7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01378-DAEA-408E-A6C4-490798F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39AA-75B6-4186-8EBA-E694DE9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072D-0D06-4BDA-96E5-7552B91C9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558-BCBE-411D-A8C1-5F19FFB3FB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1434-B5AA-4D23-9B04-2B9A30E63B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D383-E76F-48EE-BEFC-912884347E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909-96B7-4FEE-B5B9-28EDC2A5E7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C58-4931-4E21-AFBD-4E79D9F177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FA3-5DAA-4BCF-971D-F73A493D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20A0-8EFC-42BA-8911-A1E0018747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AC6-9113-4B1F-82FA-7FEA441FFB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A2C-3E4F-41A8-9EE7-201EAF4BC1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5FF-27E1-489C-BB1D-627FE733C8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84E2-C0C1-4F70-9C84-3182171C39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59D-9259-4551-8BB1-25814B2075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2590920" y="1523880"/>
            <a:ext cx="4592520" cy="2279880"/>
            <a:chOff x="2590920" y="1523880"/>
            <a:chExt cx="4592520" cy="2279880"/>
          </a:xfrm>
        </p:grpSpPr>
        <p:sp>
          <p:nvSpPr>
            <p:cNvPr id="534" name="矩形 3"/>
            <p:cNvSpPr/>
            <p:nvPr/>
          </p:nvSpPr>
          <p:spPr>
            <a:xfrm>
              <a:off x="3276720" y="2668320"/>
              <a:ext cx="7851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3" descr="I:\免费\鲁果原创\素材天下网 sucaitianxia.com-yuanxiaojie4副本.png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4592520" cy="22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得PPT论坛鲁果1986</dc:creator>
  <dc:description>http://bbs.ruideppt.com/forum.php</dc:description>
  <dc:language>en-US</dc:language>
  <cp:lastModifiedBy>admin</cp:lastModifiedBy>
  <dcterms:modified xsi:type="dcterms:W3CDTF">2015-03-02T06:57:31Z</dcterms:modified>
  <cp:revision>13</cp:revision>
  <dc:subject/>
  <dc:title>元宵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